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909B35-5A9B-48CA-B5DA-AF164C55115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9136-9E77-40A6-A128-7B632B50F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4745-ACEE-46B0-ACDC-717103DA0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18F4-1AF7-4F80-B245-D73C88198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B117-3EFB-4E52-B7AE-9B6603406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4AEB5-1768-41DD-9B3A-1E0190406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9E48-0056-447B-91B8-0C0B91AFB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54BF-73FE-48C8-AA53-0D21D0F0A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3F62-FB3E-49AC-B823-847E707BA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3CCE-0C51-4A42-AB4B-C14ADFDA9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495E-6A66-45C9-8B3B-B6A8D90AA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B231-0512-41D5-9849-5A47C4572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DB7F-420D-494A-B927-C7025BF2D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7697-C7A5-4D93-A418-20BFE386E40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imum Requirements for the Issuance of Boatmast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‘s Certificate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(Resolution No. 31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5638320"/>
            <a:ext cx="7251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9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5-17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june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771720" cy="236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2664-2D3D-46BE-BB93-27DE7F47F0C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8FCC-A291-476A-9801-EE62C9726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NECE Resolution 31 – Recommendations on Minimum Requirements for the Issuance of Boatmaster’s Certificates in Inland Navigation with a view to their Reciprocal Recognition for International Traffi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CNR - Regulation on the Licenses for the Navigation on the Rhi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ava Commission Decision 32/07 - Rules on Minimum Requirements for the Issuance of Boatmaster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‘s Licenses on the Sav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River Basin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C - Council Directive 96/50/EC of 23 July 1996 on the harmonization of the conditions for obtaining national boatmasters' certificates for the carriage of goods and passengers by inland waterway in the Community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00ED-FC3B-4FAE-9A3D-33C2305860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983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ximum possible 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iprocal recognition of all boatmasters’ certificates o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velopment of the mechanism for regular upgrading of the accepted regula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moval of the administrative obstacles for the development of the inland navig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0F086-6E58-42C3-9AED-00B8C73E4B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pplication only for motorized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more definitions add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ion to carry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s of the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A – valid for all vessels except for big convoys and passenger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B – valid for vessels between 20m and 35m leng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C – valid for all vessels and convoys (no exam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5E20-A277-4574-ACEB-1C8020D026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371240"/>
            <a:ext cx="86263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1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terways of the maritime character treated as the special sectors; no maritime navigation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avigation on maritime parts will be obligator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clear criteria for maritime sector (mixed traffic,     dimensions of the waterway......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2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maritime navigation obligatory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roader knowledge for the boatmasters; simple administration and contro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boatmasters will never navigate on the maritime parts of the waterwa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0343-AF1A-4BA8-89BD-352CB49F23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3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Introduction of the subtypes for maritime part (A and A-mar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ndidates have choice for which part of exam they want to appl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ssibility to acquire the license for maritime parts without navigation on such par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337A-16FE-424B-B33A-802F2B39D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4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2. – Minimum requirements for the issuance of the boatmaste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ory navigation as qualified member of the crew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troduction of the list of obligatory knowled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re specific regulation for the examination committe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regulation on physical fitness (50 years and mo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3. – Minimum requirements for the issuance of the rada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chapter for the radar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4. – Mutual Recogn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ognition without special agre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C277-5B1B-4F61-8A8F-A59A0093D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nsensus on the framework for the future wor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CEVNI Expert Group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Joint Working group (River Commissions, UNECE, EC, Countries)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Other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operation with the EC in the framework of the drafting new Directi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ments on the content (main topics: Types of the Licenses, Recognition)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E9E7-BA55-4E23-9B7C-42DF976F10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6-13T12:35:32Z</dcterms:modified>
  <cp:revision>701</cp:revision>
  <dc:subject/>
  <dc:title>Paper and Tutorial Presentation Template and Information</dc:title>
</cp:coreProperties>
</file>