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E613CD-EBE0-477F-9A30-A7421220BDB5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791B-1A4D-415C-95C8-BCFCD1840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2424-AAE4-45CB-8368-F6D2B5B58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E32E-16E5-419A-996D-B33857551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321E-8297-48D7-818F-BB4968C9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8585-42D8-4D5F-9BCC-73043EF6F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82A5-B017-4CC3-9C50-FA93E5C50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2F85-939F-4496-B87F-1C09E5A27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0AC3-8D4A-43E6-B21C-8F6D8D75B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A5F8-4D13-43A6-92D4-796BF0C69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E6EF-F0F6-49F8-87B0-52B14972B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96D6-D995-4C10-92CB-9E9F7F846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E1AB-03DB-4677-B7B6-1B72CB828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9DE4-593C-4C9B-89C5-01C42991804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imum Requirements for the Issuance of Boatmast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‘s Certificate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(Resolution No. 31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5638320"/>
            <a:ext cx="7251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9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5-17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june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771720" cy="236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BFCD-5BFC-4238-8530-C734DF982E3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551E-4F86-4F96-9BE4-90D32E798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NECE Resolution 31 – Recommendations on Minimum Requirements for the Issuance of Boatmaster’s Certificates in Inland Navigation with a view to their Reciprocal Recognition for International Traffi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CNR - Regulation on the Licenses for the Navigation on the Rhi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ava Commission Decision 32/07 - Rules on Minimum Requirements for the Issuance of Boatmaster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‘s Licenses on the Sav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River Basin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C - Council Directive 96/50/EC of 23 July 1996 on the harmonization of the conditions for obtaining national boatmasters' certificates for the carriage of goods and passengers by inland waterway in the Community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ADDF-AD33-4D8B-BE3F-B3F69B291A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983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ximum possible 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iprocal recognition of all boatmasters’ certificates o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velopment of the mechanism for regular upgrading of the accepted regula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moval of the administrative obstacles for the development of the inland navig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247B-98F7-48D4-8EFB-D0C6B92905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pplication only for motorized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more definitions add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ion to carry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s of the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A – valid for all vessels except for big convoys and passenger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B – valid for vessels between 20m and 35m leng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C – valid for all vessels and convoys (no exam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4867-5E55-492A-9E9E-BF254A226F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371240"/>
            <a:ext cx="86263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1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terways of the maritime character treated as the special sectors; no maritime navigation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avigation on maritime parts will be obligator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clear criteria for maritime sector (mixed traffic,     dimensions of the waterway......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2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maritime navigation obligatory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roader knowledge for the boatmasters; simple administration and contro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boatmasters will never navigate on the maritime parts of the waterwa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13DB-422D-41EA-8E17-8A10668F9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3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Introduction of the subtypes for maritime part (A and A-mar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ndidates have choice for which part of exam they want to appl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ssibility to acquire the license for maritime parts without navigation on such par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3894-217B-459C-97AE-162197EFA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4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2. – Minimum requirements for the issuance of the boatmaste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ory navigation as qualified member of the crew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troduction of the list of obligatory knowled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re specific regulation for the examination committe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regulation on physical fitness (50 years and mo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3. – Minimum requirements for the issuance of the rada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chapter for the radar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4. – Mutual Recogn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ognition without special agre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4CF5-0468-4312-ACAE-CC12AD6E7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nsensus on the framework for the future wor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CEVNI Expert Group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Joint Working group (River Commissions, UNECE, EC, Countries)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Other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operation with the EC in the framework of the drafting new Directi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ments on the content (main topics: Types of the Licenses, Recognition)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BC62-451C-4F95-ABD4-4BF66F9116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6-13T12:35:32Z</dcterms:modified>
  <cp:revision>701</cp:revision>
  <dc:subject/>
  <dc:title>Paper and Tutorial Presentation Template and Information</dc:title>
</cp:coreProperties>
</file>