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587160" y="1018800"/>
            <a:ext cx="5738760" cy="43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35200" y="5571720"/>
            <a:ext cx="5240160" cy="38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3"/>
          </p:nvPr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98640" y="9694800"/>
            <a:ext cx="29624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40560" y="9694800"/>
            <a:ext cx="1060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18E2FA2-39A2-4C29-8BAA-DD11946AD0D7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5" name="GWP%20Med-%20new%20logo" descr=""/>
          <p:cNvPicPr/>
          <p:nvPr/>
        </p:nvPicPr>
        <p:blipFill>
          <a:blip r:embed="rId2"/>
          <a:stretch/>
        </p:blipFill>
        <p:spPr>
          <a:xfrm>
            <a:off x="5391000" y="249120"/>
            <a:ext cx="1290960" cy="41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2560" y="4738680"/>
            <a:ext cx="5469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41870-90DB-444F-9CBE-2B8E05990B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56D62-2D87-448E-B38B-87396373EF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04423-45D0-4B76-BEBB-8E14EC3443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24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496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152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24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496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3C042-BFC8-4118-9716-A63CD8B8E7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63600" y="600120"/>
            <a:ext cx="698328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E45E3-A1D3-4866-9916-03721283ED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8824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0496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7152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8824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0496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01AEF-5393-46A4-800A-FDEC685668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141C9-64C0-484A-8EBF-60BB6292A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CF686-7343-4FB8-ABAA-7AC9EA488E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600" y="600120"/>
            <a:ext cx="698328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A48B4-7815-4E86-98E9-98BE5F634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46561-7982-405C-8007-4A500D78F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651ED-090E-44CF-8D00-5702DC648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46442-2721-4203-A210-20B4A05E1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99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72600" y="6567120"/>
            <a:ext cx="72853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346600" y="6543360"/>
            <a:ext cx="67788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1880-D41E-4635-849C-8A086D46D8F1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948280" y="88920"/>
            <a:ext cx="3081600" cy="75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360" y="2757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280" y="77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720" y="1097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20" y="1762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080" y="24282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720" y="31978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720" y="3844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080" y="43948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0773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Minimum Requirements for the Issuance of Boatmaster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  <a:ea typeface="Tahoma"/>
              </a:rPr>
              <a:t>‘s Certificates</a:t>
            </a: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 (Resolution No. 31) – Amendments' proposal</a:t>
            </a: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90360" y="5638320"/>
            <a:ext cx="725148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SC.3/WP.3 39th Session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Geneva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15-17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june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201</a:t>
            </a: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148360" y="165240"/>
            <a:ext cx="3767040" cy="927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2819520" y="3505320"/>
            <a:ext cx="3771720" cy="23619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11280" y="2852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3300"/>
                </a:solidFill>
                <a:latin typeface="Tahoma"/>
                <a:ea typeface="Arial"/>
              </a:rPr>
              <a:t>Thank you for your attention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Arial"/>
              </a:rPr>
              <a:t>!!!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0920" y="3645000"/>
            <a:ext cx="4535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3300"/>
                </a:solidFill>
                <a:latin typeface="Garamond"/>
                <a:ea typeface="Arial"/>
              </a:rPr>
              <a:t> </a:t>
            </a:r>
            <a:r>
              <a:rPr b="1" lang="hr-HR" sz="2800" spc="-1" strike="noStrike">
                <a:solidFill>
                  <a:srgbClr val="ff3300"/>
                </a:solidFill>
                <a:latin typeface="Tahoma"/>
                <a:ea typeface="Arial"/>
              </a:rPr>
              <a:t>Željko Milković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3300"/>
                </a:solidFill>
                <a:latin typeface="Tahoma"/>
                <a:ea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4797360"/>
            <a:ext cx="381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9th Session, Geneva, 15-17 June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DD7C2-E389-4D90-BC10-E5615C0DE918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xisting international regulation in Europ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Goals of the revis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Main chang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Proposal for further action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9th Session, Geneva, 15-17 June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E01BB-C1E3-45BA-969D-1EB4914483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Tahoma"/>
              </a:rPr>
              <a:t>Existing international regulations in Europe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UNECE Resolution 31 – Recommendations on Minimum Requirements for the Issuance of Boatmaster’s Certificates in Inland Navigation with a view to their Reciprocal Recognition for International Traffic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CCNR - Regulation on the Licenses for the Navigation on the Rhine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ava Commission Decision 32/07 - Rules on Minimum Requirements for the Issuance of Boatmaster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  <a:ea typeface="Tahoma"/>
              </a:rPr>
              <a:t>‘s Licenses on the Sava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 River Basin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EC - Council Directive 96/50/EC of 23 July 1996 on the harmonization of the conditions for obtaining national boatmasters' certificates for the carriage of goods and passengers by inland waterway in the Community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9th Session, Geneva, 15-17 June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EB1B9-E815-46CA-A37D-26F97B946AC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914400"/>
            <a:ext cx="69836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Goals of the revision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3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aximum possible unification of the existing regulations for all main European waterway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Reciprocal recognition of all boatmasters’ certificates on European waterway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Development of the mechanism for regular upgrading of the accepted regulation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-457200">
              <a:lnSpc>
                <a:spcPct val="13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Removal of the administrative obstacles for the development of the inland naviga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9th Session, Geneva, 15-17 June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AF595-9559-4324-BDD1-0799098B677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47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Main changes 1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26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-433440">
              <a:lnSpc>
                <a:spcPct val="9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hapter 1. – General Provision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541800" indent="-43344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Application only for motorized vessel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1800" indent="-43344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ome more definitions added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1800" indent="-43344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Obligation to carry certificat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1800" indent="-43344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ypes of the certificat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1800" indent="-433440">
              <a:lnSpc>
                <a:spcPct val="9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hapter 1. – General Provisions; Types of Certificat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541800" indent="-433440">
              <a:lnSpc>
                <a:spcPct val="9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ype A – valid for all vessels except for big convoys and passenger vessel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1800" indent="-433440">
              <a:lnSpc>
                <a:spcPct val="9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ype B – valid for vessels between 20m and 35m length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1800" indent="-433440">
              <a:lnSpc>
                <a:spcPct val="9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ype C – valid for all vessels and convoys (no exam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1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9th Session, Geneva, 15-17 June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02277-C875-4A98-9CA7-3A039A0400D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Main changes 2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17680" y="1371240"/>
            <a:ext cx="862632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hapter 1. – General Provisions; Types of Certificat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Variant 1-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waterways of the maritime character treated as the special sectors; no maritime navigation in the exam programm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+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avigation on maritime parts will be obligatory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o clear criteria for maritime sector (mixed traffic,     dimensions of the waterway.......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Variant 2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- maritime navigation obligatory in the exam programm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+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broader knowledge for the boatmasters; simple administration and contro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ome boatmasters will never navigate on the maritime parts of the waterway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9th Session, Geneva, 15-17 June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72A81-1C49-4386-87EE-F085AA18AF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Main changes 3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hapter 1. – General Provisions; Types of Certificates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Variant 3-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Introduction of the subtypes for maritime part (A and A-mar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+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andidates have choice for which part of exam they want to apply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possibility to acquire the license for maritime parts without navigation on such part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9th Session, Geneva, 15-17 June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A1E72-BE82-4460-9C75-0A68080900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Main changes 4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hapter 2. – Minimum requirements for the issuance of the boatmaster certificat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Obligatory navigation as qualified member of the crew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Introduction of the list of obligatory knowledg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More specific regulation for the examination committe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ew regulation on physical fitness (50 years and more)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hapter 3. – Minimum requirements for the issuance of the radar certificat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New chapter for the radar certificat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Chapter 4. – Mutual Recognition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Recognition without special agreement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9th Session, Geneva, 15-17 June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83F27-1E82-40C2-9638-C979C1EBB3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47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Tahoma"/>
              </a:rPr>
              <a:t>Proposal for further actions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26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Consensus on the framework for the future work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- CEVNI Expert Group 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- Joint Working group (River Commissions, UNECE, EC, Countries)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- Other??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Cooperation with the EC in the framework of the drafting new Directiv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Comments on the content (main topics: Types of the Licenses, Recognition) – before the next Session of the WP.3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9th Session, Geneva, 15-17 June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325B1-6CB8-416A-BB82-F3B510803E7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9:10:49Z</dcterms:created>
  <dc:creator>Tom Fitzpatrick</dc:creator>
  <dc:description/>
  <dc:language>en-US</dc:language>
  <cp:lastModifiedBy>Željko</cp:lastModifiedBy>
  <cp:lastPrinted>2002-01-29T09:36:43Z</cp:lastPrinted>
  <dcterms:modified xsi:type="dcterms:W3CDTF">2011-06-13T12:35:32Z</dcterms:modified>
  <cp:revision>701</cp:revision>
  <dc:subject/>
  <dc:title>Paper and Tutorial Presentation Template and Information</dc:title>
</cp:coreProperties>
</file>