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6.jpeg" ContentType="image/jpeg"/>
  <Override PartName="/ppt/media/image23.png" ContentType="image/png"/>
  <Override PartName="/ppt/media/image5.png" ContentType="image/png"/>
  <Override PartName="/ppt/media/image13.png" ContentType="image/png"/>
  <Override PartName="/ppt/media/image6.png" ContentType="image/png"/>
  <Override PartName="/ppt/media/image10.wmf" ContentType="image/x-wmf"/>
  <Override PartName="/ppt/media/image25.jpeg" ContentType="image/jpeg"/>
  <Override PartName="/ppt/media/image3.png" ContentType="image/png"/>
  <Override PartName="/ppt/media/image11.wmf" ContentType="image/x-wmf"/>
  <Override PartName="/ppt/media/image7.png" ContentType="image/png"/>
  <Override PartName="/ppt/media/image9.jpeg" ContentType="image/jpeg"/>
  <Override PartName="/ppt/media/image30.wmf" ContentType="image/x-wmf"/>
  <Override PartName="/ppt/media/image8.png" ContentType="image/png"/>
  <Override PartName="/ppt/media/image33.gif" ContentType="image/gif"/>
  <Override PartName="/ppt/media/image12.jpeg" ContentType="image/jpeg"/>
  <Override PartName="/ppt/media/image4.png" ContentType="image/png"/>
  <Override PartName="/ppt/media/image2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jpeg" ContentType="image/jpeg"/>
  <Override PartName="/ppt/media/image31.png" ContentType="image/png"/>
  <Override PartName="/ppt/media/image1.png" ContentType="image/png"/>
  <Override PartName="/ppt/media/image29.wmf" ContentType="image/x-wmf"/>
  <Override PartName="/ppt/media/image21.wmf" ContentType="image/x-wmf"/>
  <Override PartName="/ppt/media/image18.png" ContentType="image/png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4716-454D-4BC6-ABB4-352E63918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B5DB-84EE-4FA9-8824-F7DE8A64A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F91A-27BE-4208-8C36-ABE1DAC35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9889-9C69-47D6-99B5-4FAD6468B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A5CD-6F28-451A-9F45-C6B985D98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0F44-CF88-433A-A81F-0EBA318EA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7D05-E342-4465-9BAD-98D022A9B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B81F-F52F-4EC2-BCB3-E051B57D0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3625-1EAA-4018-AA72-B2565C590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C526-4AA9-4E4C-8506-1DC67A475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0C38-7636-4747-A638-AC169B61B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8331-6BE2-4BD8-99F6-661F6D284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681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8341920" y="6444720"/>
            <a:ext cx="801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0024-472F-46FE-BAB4-639D25BCA6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3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47th GRSP Sess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tus report of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formal Group on C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5480" y="90360"/>
            <a:ext cx="3851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No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SP-47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47th session, 17-21 May 201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genda  item 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phiqu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00000" y="558972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84440" y="2781000"/>
            <a:ext cx="0" cy="3311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564000" y="2750760"/>
            <a:ext cx="0" cy="331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Weight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phique 2" descr=""/>
          <p:cNvPicPr/>
          <p:nvPr/>
        </p:nvPicPr>
        <p:blipFill>
          <a:blip r:embed="rId1"/>
          <a:srcRect l="0" t="0" r="0" b="-9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5003640" y="2133720"/>
            <a:ext cx="0" cy="3959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4508640"/>
            <a:ext cx="69850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321160" y="2117520"/>
            <a:ext cx="0" cy="3958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58680" y="4395960"/>
            <a:ext cx="69850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houlde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readth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aphique 3" descr=""/>
          <p:cNvPicPr/>
          <p:nvPr/>
        </p:nvPicPr>
        <p:blipFill>
          <a:blip r:embed="rId1"/>
          <a:srcRect l="0" t="0" r="0" b="-19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03640" y="2276640"/>
            <a:ext cx="14472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eating height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phiqu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59280" y="2276640"/>
            <a:ext cx="28908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360" rIns="647280" tIns="-612000" bIns="-899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phique 5" descr="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00" y="51393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houlder height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2781360"/>
            <a:ext cx="0" cy="93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6011640" y="4221000"/>
            <a:ext cx="21564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Graphique 6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895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570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p breadth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48000" y="2349360"/>
            <a:ext cx="144360" cy="9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-25560"/>
            <a:ext cx="7885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measurement device inside a C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01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22800" y="1600200"/>
            <a:ext cx="402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tion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851440" y="2133720"/>
            <a:ext cx="2835360" cy="396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698480" y="2060640"/>
            <a:ext cx="1882800" cy="4033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92200" y="785880"/>
            <a:ext cx="743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98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ased on the range of size declared by the CRS  manufactur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ations of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weight of acceptab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= 33 kg – CRS weight. </a:t>
            </a:r>
            <a:r>
              <a:rPr b="0" i="1" lang="en-US" sz="3200" spc="-1" strike="noStrike">
                <a:solidFill>
                  <a:srgbClr val="33cc33"/>
                </a:solidFill>
                <a:latin typeface="Arial"/>
              </a:rPr>
              <a:t>(info to consu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stature of acceptab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declared by EM and controlled by TAA.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(info to consumer)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age of acceptab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5 months for FF. 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(Mandatory mar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mples of information to the u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F CRS is suitable for a child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older than [15th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 mass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ot exceeding [22]k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stature compris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tween 75 and 125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F CRS is suitable for a child with a mass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ot exceeding [18]k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stature compris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tween 40 cms and 95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4869000"/>
            <a:ext cx="187164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5240" y="5229360"/>
            <a:ext cx="187164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920" y="5589720"/>
            <a:ext cx="187164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se of the Q dumm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402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 dynamic behaviour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ont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a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ter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648320" y="1947960"/>
            <a:ext cx="40384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ms of reference of the informal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formal group shall consider the development of a new regulation for “Restraining devices for child occupants of power-driven vehicles” for consideration by GR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asis of the discussion will be informal documents N°. GRSP-42-2 and GRSP-42-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ep by step approach shall be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1: Develop definitions, performance criteria and test methods for ISOFIX Integral “Universal” C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its work, the informal group will take into consideration amongst others the technical expertise of EEVC WG18, EEVC WG12, ISO TC22/SC12, and NPACS as well as the results of the discussions held in the informal group and at GR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necessary, the informal group shall develop complementary test methods and propose alternative judgement cri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arget completion date for the informal group shall be the forty-sixth session of GRSP (December 2009) for this first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ontal Impact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ECE R44 for input pu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riteria and requirements for dummies 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ECE R44 for head displacement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788000" y="692280"/>
          <a:ext cx="3786120" cy="23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692280"/>
                    <a:ext cx="378612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4859280" y="3608280"/>
            <a:ext cx="3960720" cy="29401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611280" y="5589720"/>
            <a:ext cx="4248000" cy="799920"/>
            <a:chOff x="611280" y="5589720"/>
            <a:chExt cx="4248000" cy="799920"/>
          </a:xfrm>
        </p:grpSpPr>
        <p:sp>
          <p:nvSpPr>
            <p:cNvPr id="194" name=""/>
            <p:cNvSpPr/>
            <p:nvPr/>
          </p:nvSpPr>
          <p:spPr>
            <a:xfrm flipV="1">
              <a:off x="3203640" y="5589720"/>
              <a:ext cx="165564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280" y="6021360"/>
              <a:ext cx="26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For monitoring purp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Rear Impact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ECE R44 for input pu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riteria and requirements for dummies 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ECE R44 for head displacement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859280" y="3608280"/>
            <a:ext cx="3960720" cy="2940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859280" y="981000"/>
            <a:ext cx="3776760" cy="23526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611280" y="5589720"/>
            <a:ext cx="4248000" cy="799920"/>
            <a:chOff x="611280" y="5589720"/>
            <a:chExt cx="4248000" cy="799920"/>
          </a:xfrm>
        </p:grpSpPr>
        <p:sp>
          <p:nvSpPr>
            <p:cNvPr id="202" name=""/>
            <p:cNvSpPr/>
            <p:nvPr/>
          </p:nvSpPr>
          <p:spPr>
            <a:xfrm flipV="1">
              <a:off x="3203640" y="5589720"/>
              <a:ext cx="165564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280" y="6021360"/>
              <a:ext cx="26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For monitoring purp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est Ben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68280"/>
            <a:ext cx="4186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 bench according NPACS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rest cushion NPACS proposal with a 50 mm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t cushion NPACS proposal but without ga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° rotation of the test bench for lateral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nhaltsplatzhalter 6" descr="SI Test bench.jpg"/>
          <p:cNvPicPr/>
          <p:nvPr/>
        </p:nvPicPr>
        <p:blipFill>
          <a:blip r:embed="rId5"/>
          <a:stretch/>
        </p:blipFill>
        <p:spPr>
          <a:xfrm>
            <a:off x="5072040" y="10717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207" name="Grafik 8" descr="RÖMER_NPACS with Panel mod.jpg"/>
          <p:cNvPicPr/>
          <p:nvPr/>
        </p:nvPicPr>
        <p:blipFill>
          <a:blip r:embed="rId6"/>
          <a:stretch/>
        </p:blipFill>
        <p:spPr>
          <a:xfrm>
            <a:off x="5000760" y="3929040"/>
            <a:ext cx="3857400" cy="2725920"/>
          </a:xfrm>
          <a:prstGeom prst="rect">
            <a:avLst/>
          </a:prstGeom>
          <a:ln w="0">
            <a:noFill/>
          </a:ln>
        </p:spPr>
      </p:pic>
      <p:cxnSp>
        <p:nvCxnSpPr>
          <p:cNvPr id="208" name="Gerade Verbindung mit Pfeil 12"/>
          <p:cNvCxnSpPr/>
          <p:nvPr/>
        </p:nvCxnSpPr>
        <p:spPr>
          <a:xfrm flipV="1">
            <a:off x="4211280" y="2996640"/>
            <a:ext cx="2637720" cy="937080"/>
          </a:xfrm>
          <a:prstGeom prst="straightConnector1">
            <a:avLst/>
          </a:prstGeom>
          <a:ln w="316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09" name=""/>
          <p:cNvSpPr/>
          <p:nvPr/>
        </p:nvSpPr>
        <p:spPr>
          <a:xfrm>
            <a:off x="3564000" y="1844640"/>
            <a:ext cx="3313080" cy="3603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hteck 2"/>
          <p:cNvSpPr/>
          <p:nvPr/>
        </p:nvSpPr>
        <p:spPr>
          <a:xfrm>
            <a:off x="357120" y="114300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187200"/>
                <a:tab algn="l" pos="1530360"/>
                <a:tab algn="l" pos="5291280"/>
                <a:tab algn="l" pos="663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187200"/>
                <a:tab algn="l" pos="1530360"/>
                <a:tab algn="l" pos="5291280"/>
                <a:tab algn="l" pos="663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187200"/>
                <a:tab algn="l" pos="1530360"/>
                <a:tab algn="l" pos="5291280"/>
                <a:tab algn="l" pos="663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187200"/>
                <a:tab algn="l" pos="1530360"/>
                <a:tab algn="l" pos="5291280"/>
                <a:tab algn="l" pos="663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187200"/>
                <a:tab algn="l" pos="1530360"/>
                <a:tab algn="l" pos="5291280"/>
                <a:tab algn="l" pos="663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est Ri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nhaltsplatzhalter 6" descr="SI Test rig.jpg"/>
          <p:cNvPicPr/>
          <p:nvPr/>
        </p:nvPicPr>
        <p:blipFill>
          <a:blip r:embed="rId1"/>
          <a:stretch/>
        </p:blipFill>
        <p:spPr>
          <a:xfrm>
            <a:off x="1619280" y="1428840"/>
            <a:ext cx="5726160" cy="4294080"/>
          </a:xfrm>
          <a:prstGeom prst="rect">
            <a:avLst/>
          </a:prstGeom>
          <a:ln w="0">
            <a:noFill/>
          </a:ln>
        </p:spPr>
      </p:pic>
      <p:sp>
        <p:nvSpPr>
          <p:cNvPr id="213" name="Textfeld 7"/>
          <p:cNvSpPr/>
          <p:nvPr/>
        </p:nvSpPr>
        <p:spPr>
          <a:xfrm>
            <a:off x="5214960" y="10000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Gerade Verbindung mit Pfeil 11"/>
          <p:cNvCxnSpPr>
            <a:stCxn id="213" idx="1"/>
          </p:cNvCxnSpPr>
          <p:nvPr/>
        </p:nvCxnSpPr>
        <p:spPr>
          <a:xfrm flipH="1">
            <a:off x="4357080" y="1183320"/>
            <a:ext cx="857880" cy="1531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15" name="Textfeld 12"/>
          <p:cNvSpPr/>
          <p:nvPr/>
        </p:nvSpPr>
        <p:spPr>
          <a:xfrm>
            <a:off x="285840" y="3357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Gerade Verbindung mit Pfeil 14"/>
          <p:cNvCxnSpPr>
            <a:stCxn id="215" idx="3"/>
          </p:cNvCxnSpPr>
          <p:nvPr/>
        </p:nvCxnSpPr>
        <p:spPr>
          <a:xfrm flipV="1">
            <a:off x="1428480" y="2642760"/>
            <a:ext cx="1215000" cy="8848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17" name="Textfeld 22"/>
          <p:cNvSpPr/>
          <p:nvPr/>
        </p:nvSpPr>
        <p:spPr>
          <a:xfrm>
            <a:off x="7643880" y="16430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Gerade Verbindung mit Pfeil 24"/>
          <p:cNvCxnSpPr>
            <a:stCxn id="217" idx="1"/>
          </p:cNvCxnSpPr>
          <p:nvPr/>
        </p:nvCxnSpPr>
        <p:spPr>
          <a:xfrm flipH="1">
            <a:off x="6428880" y="1827360"/>
            <a:ext cx="1215360" cy="53064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19" name="Textfeld 26"/>
          <p:cNvSpPr/>
          <p:nvPr/>
        </p:nvSpPr>
        <p:spPr>
          <a:xfrm>
            <a:off x="7643880" y="2571840"/>
            <a:ext cx="117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rest Cush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Gerade Verbindung mit Pfeil 28"/>
          <p:cNvCxnSpPr>
            <a:stCxn id="219" idx="1"/>
          </p:cNvCxnSpPr>
          <p:nvPr/>
        </p:nvCxnSpPr>
        <p:spPr>
          <a:xfrm flipH="1">
            <a:off x="5928480" y="2862360"/>
            <a:ext cx="1715400" cy="56592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21" name="Textfeld 29"/>
          <p:cNvSpPr/>
          <p:nvPr/>
        </p:nvSpPr>
        <p:spPr>
          <a:xfrm>
            <a:off x="7715160" y="4000680"/>
            <a:ext cx="100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t Cush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Gerade Verbindung mit Pfeil 31"/>
          <p:cNvCxnSpPr>
            <a:stCxn id="221" idx="1"/>
          </p:cNvCxnSpPr>
          <p:nvPr/>
        </p:nvCxnSpPr>
        <p:spPr>
          <a:xfrm flipH="1">
            <a:off x="5214240" y="4289760"/>
            <a:ext cx="2500920" cy="35136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23" name="Textfeld 33"/>
          <p:cNvSpPr/>
          <p:nvPr/>
        </p:nvSpPr>
        <p:spPr>
          <a:xfrm>
            <a:off x="2643120" y="592920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ing Isofix Anchorage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Gerade Verbindung mit Pfeil 35"/>
          <p:cNvCxnSpPr>
            <a:stCxn id="223" idx="0"/>
          </p:cNvCxnSpPr>
          <p:nvPr/>
        </p:nvCxnSpPr>
        <p:spPr>
          <a:xfrm flipV="1">
            <a:off x="3608280" y="3999960"/>
            <a:ext cx="1394640" cy="192924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25" name="Textfeld 38"/>
          <p:cNvSpPr/>
          <p:nvPr/>
        </p:nvSpPr>
        <p:spPr>
          <a:xfrm>
            <a:off x="71280" y="1285920"/>
            <a:ext cx="15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 device for the do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Gerade Verbindung mit Pfeil 40"/>
          <p:cNvCxnSpPr/>
          <p:nvPr/>
        </p:nvCxnSpPr>
        <p:spPr>
          <a:xfrm>
            <a:off x="1547280" y="1628640"/>
            <a:ext cx="1644120" cy="31032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Door Panel Defin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457200" y="663480"/>
            <a:ext cx="8381880" cy="58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tive velocity corridor to be confirmed by evalu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or Panel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6"/>
          <p:cNvGraphicFramePr/>
          <p:nvPr/>
        </p:nvGraphicFramePr>
        <p:xfrm>
          <a:off x="250920" y="1197000"/>
          <a:ext cx="3835440" cy="2638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38354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3995280" y="3500280"/>
            <a:ext cx="5103000" cy="3061800"/>
            <a:chOff x="3995280" y="3500280"/>
            <a:chExt cx="5103000" cy="3061800"/>
          </a:xfrm>
        </p:grpSpPr>
        <p:sp>
          <p:nvSpPr>
            <p:cNvPr id="232" name="Freeform 2"/>
            <p:cNvSpPr/>
            <p:nvPr/>
          </p:nvSpPr>
          <p:spPr>
            <a:xfrm>
              <a:off x="4266360" y="3500280"/>
              <a:ext cx="3739320" cy="2054520"/>
            </a:xfrm>
            <a:custGeom>
              <a:avLst/>
              <a:gdLst>
                <a:gd name="textAreaLeft" fmla="*/ 0 w 3739320"/>
                <a:gd name="textAreaRight" fmla="*/ 3739680 w 3739320"/>
                <a:gd name="textAreaTop" fmla="*/ 0 h 2054520"/>
                <a:gd name="textAreaBottom" fmla="*/ 2054880 h 2054520"/>
              </a:gdLst>
              <a:ahLst/>
              <a:rect l="textAreaLeft" t="textAreaTop" r="textAreaRight" b="textAreaBottom"/>
              <a:pathLst>
                <a:path w="3264" h="1920">
                  <a:moveTo>
                    <a:pt x="0" y="0"/>
                  </a:moveTo>
                  <a:lnTo>
                    <a:pt x="0" y="1392"/>
                  </a:lnTo>
                  <a:lnTo>
                    <a:pt x="1968" y="1920"/>
                  </a:lnTo>
                  <a:lnTo>
                    <a:pt x="2400" y="1824"/>
                  </a:lnTo>
                  <a:lnTo>
                    <a:pt x="3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"/>
            <p:cNvSpPr/>
            <p:nvPr/>
          </p:nvSpPr>
          <p:spPr>
            <a:xfrm>
              <a:off x="4754160" y="5195160"/>
              <a:ext cx="2221920" cy="1181160"/>
            </a:xfrm>
            <a:custGeom>
              <a:avLst/>
              <a:gdLst>
                <a:gd name="textAreaLeft" fmla="*/ 0 w 2221920"/>
                <a:gd name="textAreaRight" fmla="*/ 2222280 w 22219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1920" h="1008">
                  <a:moveTo>
                    <a:pt x="0" y="0"/>
                  </a:moveTo>
                  <a:lnTo>
                    <a:pt x="0" y="480"/>
                  </a:lnTo>
                  <a:lnTo>
                    <a:pt x="1920" y="1008"/>
                  </a:lnTo>
                  <a:lnTo>
                    <a:pt x="192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6976080" y="3654360"/>
              <a:ext cx="1300680" cy="2157480"/>
            </a:xfrm>
            <a:custGeom>
              <a:avLst/>
              <a:gdLst>
                <a:gd name="textAreaLeft" fmla="*/ 0 w 1300680"/>
                <a:gd name="textAreaRight" fmla="*/ 1301040 w 1300680"/>
                <a:gd name="textAreaTop" fmla="*/ 0 h 2157480"/>
                <a:gd name="textAreaBottom" fmla="*/ 2157840 h 2157480"/>
              </a:gdLst>
              <a:ahLst/>
              <a:rect l="textAreaLeft" t="textAreaTop" r="textAreaRight" b="textAreaBottom"/>
              <a:pathLst>
                <a:path w="1152" h="2016">
                  <a:moveTo>
                    <a:pt x="912" y="0"/>
                  </a:moveTo>
                  <a:lnTo>
                    <a:pt x="0" y="1920"/>
                  </a:lnTo>
                  <a:lnTo>
                    <a:pt x="288" y="2016"/>
                  </a:lnTo>
                  <a:lnTo>
                    <a:pt x="1150" y="104"/>
                  </a:lnTo>
                  <a:lnTo>
                    <a:pt x="1152" y="96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4266360" y="4938480"/>
              <a:ext cx="0" cy="15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6976080" y="637668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7"/>
            <p:cNvSpPr/>
            <p:nvPr/>
          </p:nvSpPr>
          <p:spPr>
            <a:xfrm>
              <a:off x="4266360" y="6428160"/>
              <a:ext cx="27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8493840" y="3500280"/>
              <a:ext cx="0" cy="22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9"/>
            <p:cNvSpPr/>
            <p:nvPr/>
          </p:nvSpPr>
          <p:spPr>
            <a:xfrm>
              <a:off x="7030440" y="5760360"/>
              <a:ext cx="16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7951680" y="3500280"/>
              <a:ext cx="75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H="1" flipV="1">
              <a:off x="3995280" y="4989240"/>
              <a:ext cx="75852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H="1">
              <a:off x="4320720" y="5092560"/>
              <a:ext cx="10800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 rot="17441400">
              <a:off x="4073760" y="514620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0 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4"/>
            <p:cNvSpPr/>
            <p:nvPr/>
          </p:nvSpPr>
          <p:spPr>
            <a:xfrm>
              <a:off x="5234040" y="619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8538120" y="4552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7"/>
            <p:cNvSpPr/>
            <p:nvPr/>
          </p:nvSpPr>
          <p:spPr>
            <a:xfrm>
              <a:off x="6488280" y="5400720"/>
              <a:ext cx="812880" cy="41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8"/>
            <p:cNvSpPr/>
            <p:nvPr/>
          </p:nvSpPr>
          <p:spPr>
            <a:xfrm>
              <a:off x="6625440" y="5401800"/>
              <a:ext cx="86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bd i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as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Test Para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Inhaltsplatzhalter 8" descr="SI v_s_t.WMF"/>
          <p:cNvPicPr/>
          <p:nvPr/>
        </p:nvPicPr>
        <p:blipFill>
          <a:blip r:embed="rId1"/>
          <a:stretch/>
        </p:blipFill>
        <p:spPr>
          <a:xfrm>
            <a:off x="4786200" y="1000080"/>
            <a:ext cx="3888000" cy="2722680"/>
          </a:xfrm>
          <a:prstGeom prst="rect">
            <a:avLst/>
          </a:prstGeom>
          <a:ln w="0">
            <a:noFill/>
          </a:ln>
        </p:spPr>
      </p:pic>
      <p:pic>
        <p:nvPicPr>
          <p:cNvPr id="250" name="Grafik 7" descr="SI Sled a_t.WMF"/>
          <p:cNvPicPr/>
          <p:nvPr/>
        </p:nvPicPr>
        <p:blipFill>
          <a:blip r:embed="rId2"/>
          <a:stretch/>
        </p:blipFill>
        <p:spPr>
          <a:xfrm>
            <a:off x="4786200" y="3857760"/>
            <a:ext cx="3878280" cy="27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285840" y="2428920"/>
          <a:ext cx="4214880" cy="3203640"/>
        </p:xfrm>
        <a:graphic>
          <a:graphicData uri="http://schemas.openxmlformats.org/drawingml/2006/table">
            <a:tbl>
              <a:tblPr/>
              <a:tblGrid>
                <a:gridCol w="1785960"/>
                <a:gridCol w="1357200"/>
                <a:gridCol w="1071720"/>
              </a:tblGrid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O/PD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623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usion velo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10 m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usion dep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-3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ed decel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14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usion surface 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Forward Facing with TT - Dummy Q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71640" y="890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0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139320"/>
            <a:ext cx="74516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ome open issues to be validated (1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or /support le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leg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pport fo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pport leg contact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pport leg contact volu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ehicle contact are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ehicle contact volu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E R14 &amp; R16 mod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essment of “</a:t>
            </a:r>
            <a:r>
              <a:rPr b="1" i="1" lang="en-US" sz="3200" spc="-1" strike="noStrike">
                <a:solidFill>
                  <a:srgbClr val="000000"/>
                </a:solidFill>
                <a:latin typeface="Arrobatherapy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Size ready ”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92000" y="139320"/>
            <a:ext cx="74516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ome open issues to be validated (2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 limit [18, 15 or 12 mont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ing into consideration ISO fixtures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de impact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mmy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lse corr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 (3ms)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92000" y="139320"/>
            <a:ext cx="74516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ome open issues to be validated (3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metrical characteristic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ing height upper limit / Standing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er breadth upper limit / Standing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 breadth upper limit / Standing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er height upper and lower limits / Standing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tool and toler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tatus of the work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8 meetings from January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ll April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draft regulation covering phase 1 presented as formal doc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ECE/TRANS/WP.29/GRSP/2010/26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ed by informal doc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SP-47-06 - Draft amendment to ECE/TRANS/WP.29/GRSP/2010/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proposes to GRSP to endorse the draft and to start implementation of Phase 1 and ask for extended mandate to continue with Phas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FIX universal non-Integral C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(19th) 30 June (Madrid 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 and Future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356000" y="4149720"/>
            <a:ext cx="3594240" cy="2219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116000" y="4075200"/>
            <a:ext cx="1722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rinciples of this new reg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regulation. The ECE R44 remains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 step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ope of this new regulation cover only “ISOFIX – Universal – Integral” CRS in firs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philosophy of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ification based on standing height, maximum permissible weight (Child + CRS) and age limit for forward facing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measurement device for CRS siz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the Q dummies for frontal, rear and lateral dynamic impact on a new test 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support leg as well as top tether as universal anti rotation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dependent reg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E R44 remains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step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l CRS + ISO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integral CRS + ISO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 safety belt dependent C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al provisions for “soft landing” between ECE R44 and the different phases of this new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95280" y="3805200"/>
            <a:ext cx="83534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128160"/>
            <a:ext cx="74516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cope of this regulation for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the firs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FIX “universal” integral C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lower anchorages + 1 anti rotation de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 T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use of the adult safety belt for the restraint of the child s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F2X ISO fixture for FF &amp; &lt;R2 ISO fixture for RF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op tether or support leg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(*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 is restraint only by the CRS restraint system (har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use of the adult safety belt for the restraint of the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*)(**) others could fall into “Integral ‘specific vehicle’ ISOFIX”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-2556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New philosophy of 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rou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05600" y="1268280"/>
            <a:ext cx="2440080" cy="5113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635280" y="4076640"/>
            <a:ext cx="190980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203640" y="1773360"/>
            <a:ext cx="19810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2822760" cy="2878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92160" y="1816200"/>
            <a:ext cx="22478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lassification on standing he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0000" y="4437000"/>
            <a:ext cx="219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36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ical dimensio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8000" y="465300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84320" y="4713120"/>
            <a:ext cx="16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ize child restrai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835280" y="4941720"/>
          <a:ext cx="5398920" cy="579600"/>
        </p:xfrm>
        <a:graphic>
          <a:graphicData uri="http://schemas.openxmlformats.org/drawingml/2006/table">
            <a:tbl>
              <a:tblPr/>
              <a:tblGrid>
                <a:gridCol w="900000"/>
                <a:gridCol w="898560"/>
                <a:gridCol w="1036440"/>
                <a:gridCol w="889200"/>
                <a:gridCol w="774720"/>
                <a:gridCol w="90000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ting height 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ulder breadth 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p bread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ulder h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ry 50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4" name=""/>
          <p:cNvGrpSpPr/>
          <p:nvPr/>
        </p:nvGrpSpPr>
        <p:grpSpPr>
          <a:xfrm>
            <a:off x="681120" y="1197000"/>
            <a:ext cx="6527880" cy="2743920"/>
            <a:chOff x="681120" y="1197000"/>
            <a:chExt cx="6527880" cy="274392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900000" y="1197000"/>
              <a:ext cx="4457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1120" y="35733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anding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71680" y="360360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ating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9360" y="36338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oulder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6800" y="210672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oulder Bread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91080" y="2622600"/>
              <a:ext cx="171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ip Bread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27280" y="851040"/>
            <a:ext cx="4032360" cy="280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6684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Source : IFTH – Projet 3D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5:32:41Z</dcterms:created>
  <dc:creator>castaing</dc:creator>
  <dc:description/>
  <dc:language>en-US</dc:language>
  <cp:lastModifiedBy>Gianotti</cp:lastModifiedBy>
  <dcterms:modified xsi:type="dcterms:W3CDTF">2010-05-19T13:08:45Z</dcterms:modified>
  <cp:revision>24</cp:revision>
  <dc:subject/>
  <dc:title>Diapositive 1</dc:title>
</cp:coreProperties>
</file>