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wmf" ContentType="image/x-wmf"/>
  <Override PartName="/ppt/media/image27.jpeg" ContentType="image/jpeg"/>
  <Override PartName="/ppt/media/image26.jpeg" ContentType="image/jpeg"/>
  <Override PartName="/ppt/media/image23.png" ContentType="image/png"/>
  <Override PartName="/ppt/media/image5.png" ContentType="image/png"/>
  <Override PartName="/ppt/media/image13.png" ContentType="image/png"/>
  <Override PartName="/ppt/media/image6.png" ContentType="image/png"/>
  <Override PartName="/ppt/media/image10.wmf" ContentType="image/x-wmf"/>
  <Override PartName="/ppt/media/image25.jpeg" ContentType="image/jpeg"/>
  <Override PartName="/ppt/media/image3.png" ContentType="image/png"/>
  <Override PartName="/ppt/media/image11.wmf" ContentType="image/x-wmf"/>
  <Override PartName="/ppt/media/image7.png" ContentType="image/png"/>
  <Override PartName="/ppt/media/image9.jpeg" ContentType="image/jpeg"/>
  <Override PartName="/ppt/media/image30.wmf" ContentType="image/x-wmf"/>
  <Override PartName="/ppt/media/image8.png" ContentType="image/png"/>
  <Override PartName="/ppt/media/image33.gif" ContentType="image/gif"/>
  <Override PartName="/ppt/media/image12.jpeg" ContentType="image/jpeg"/>
  <Override PartName="/ppt/media/image4.png" ContentType="image/png"/>
  <Override PartName="/ppt/media/image2.jpeg" ContentType="image/jpe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9.jpeg" ContentType="image/jpeg"/>
  <Override PartName="/ppt/media/image31.png" ContentType="image/png"/>
  <Override PartName="/ppt/media/image1.png" ContentType="image/png"/>
  <Override PartName="/ppt/media/image29.wmf" ContentType="image/x-wmf"/>
  <Override PartName="/ppt/media/image21.wmf" ContentType="image/x-wmf"/>
  <Override PartName="/ppt/media/image18.png" ContentType="image/png"/>
  <Override PartName="/ppt/media/image20.jpeg" ContentType="image/jpe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8773F-B0BD-4A24-AEA9-52A0E81EF2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C86E9-6870-4EFF-9FEE-BC4D4F70C8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AD3E0-C59B-4AE1-B310-B0CC3A24FF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A6D3A-F509-4482-BB8B-549A0350B1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692000" y="0"/>
            <a:ext cx="74516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D9EE5-9096-4DBE-8910-AFA2B7BD97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6F729-6BEC-4CDA-ABA3-1C0E675F5F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F15D5-8318-4746-A8DB-985F87740D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88D95-2445-4FCC-8708-2B3DF921A4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692000" y="0"/>
            <a:ext cx="74516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420CA-FE27-4E46-8F99-04A04DE321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4ED9B-F3EF-4030-A87A-E14C5DE63E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EF5DE-9779-400A-AF9B-D844545785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B86AE-AA85-47ED-8C1E-53ACB1DACC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19280" y="62064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ftr" idx="1"/>
          </p:nvPr>
        </p:nvSpPr>
        <p:spPr>
          <a:xfrm>
            <a:off x="2050560" y="6453000"/>
            <a:ext cx="468180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sldNum" idx="2"/>
          </p:nvPr>
        </p:nvSpPr>
        <p:spPr>
          <a:xfrm>
            <a:off x="8341920" y="6444720"/>
            <a:ext cx="801720" cy="4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573E1-02EB-4A40-9A41-2E0339F1C79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3"/>
          <a:stretch/>
        </p:blipFill>
        <p:spPr>
          <a:xfrm>
            <a:off x="433440" y="450720"/>
            <a:ext cx="1042920" cy="241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987280" y="1844280"/>
            <a:ext cx="597708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3"/>
          </p:nvPr>
        </p:nvSpPr>
        <p:spPr>
          <a:xfrm>
            <a:off x="826920" y="6381360"/>
            <a:ext cx="3384720" cy="1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187280" y="77760"/>
            <a:ext cx="3903840" cy="9032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2.wmf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2.jpeg"/><Relationship Id="rId4" Type="http://schemas.openxmlformats.org/officeDocument/2006/relationships/image" Target="../media/image33.gi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87280" y="1844280"/>
            <a:ext cx="597708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47th GRSP Session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tatus report of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Informal Group on C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87640" y="4268880"/>
            <a:ext cx="5975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ierre CASTA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ir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35480" y="90360"/>
            <a:ext cx="38512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Times New Roman"/>
              </a:rPr>
              <a:t>Informal Document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 No.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GRSP-47-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(47th session, 17-21 May 2010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genda  item 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 / Stat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Graphique 1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900000" y="5589720"/>
            <a:ext cx="7201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584440" y="2781000"/>
            <a:ext cx="0" cy="331164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3564000" y="2750760"/>
            <a:ext cx="0" cy="33116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Weight / Stat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Graphique 2" descr=""/>
          <p:cNvPicPr/>
          <p:nvPr/>
        </p:nvPicPr>
        <p:blipFill>
          <a:blip r:embed="rId1"/>
          <a:srcRect l="0" t="0" r="0" b="-9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 flipV="1">
            <a:off x="5003640" y="2133720"/>
            <a:ext cx="0" cy="395928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71640" y="4508640"/>
            <a:ext cx="6985080" cy="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5321160" y="2117520"/>
            <a:ext cx="0" cy="395892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58680" y="4395960"/>
            <a:ext cx="6985080" cy="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Shoulder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readth / Stat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Graphique 3" descr=""/>
          <p:cNvPicPr/>
          <p:nvPr/>
        </p:nvPicPr>
        <p:blipFill>
          <a:blip r:embed="rId1"/>
          <a:srcRect l="0" t="0" r="0" b="-19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5003640" y="2276640"/>
            <a:ext cx="144720" cy="100800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Seating height / Stat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Graphique 4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859280" y="2276640"/>
            <a:ext cx="289080" cy="100800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12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360" rIns="647280" tIns="-612000" bIns="-8992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Graphique 5" descr=""/>
          <p:cNvPicPr/>
          <p:nvPr/>
        </p:nvPicPr>
        <p:blipFill>
          <a:blip r:embed="rId1"/>
          <a:stretch/>
        </p:blipFill>
        <p:spPr>
          <a:xfrm>
            <a:off x="0" y="1238400"/>
            <a:ext cx="9144000" cy="56196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800" y="513936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Shoulder height / Stat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148360" y="2781360"/>
            <a:ext cx="0" cy="93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6011640" y="4221000"/>
            <a:ext cx="215640" cy="93672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Graphique 6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4895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0" y="570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ip breadth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/ Stat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148000" y="2349360"/>
            <a:ext cx="144360" cy="93528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58560" y="-25560"/>
            <a:ext cx="7885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The measurement device inside a C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401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r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122800" y="1600200"/>
            <a:ext cx="4021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ction                                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5851440" y="2133720"/>
            <a:ext cx="2835360" cy="39607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1698480" y="2060640"/>
            <a:ext cx="1882800" cy="40338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92200" y="785880"/>
            <a:ext cx="743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95280" y="9810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ased on the range of size declared by the CRS  manufacturer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imitations of u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ximum weight of acceptable 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= 33 kg – CRS weight. </a:t>
            </a:r>
            <a:r>
              <a:rPr b="0" i="1" lang="en-US" sz="3200" spc="-1" strike="noStrike">
                <a:solidFill>
                  <a:srgbClr val="33cc33"/>
                </a:solidFill>
                <a:latin typeface="Arial"/>
              </a:rPr>
              <a:t>(info to consum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ximum stature of acceptable 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= declared by EM and controlled by TAA. </a:t>
            </a:r>
            <a:r>
              <a:rPr b="0" i="1" lang="en-US" sz="3200" spc="-1" strike="noStrike">
                <a:solidFill>
                  <a:srgbClr val="009999"/>
                </a:solidFill>
                <a:latin typeface="Arial"/>
              </a:rPr>
              <a:t>(info to consumer)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um age of acceptable 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15 months for FF. </a:t>
            </a:r>
            <a:r>
              <a:rPr b="0" i="1" lang="en-US" sz="3200" spc="-1" strike="noStrike">
                <a:solidFill>
                  <a:srgbClr val="ff0066"/>
                </a:solidFill>
                <a:latin typeface="Arial"/>
              </a:rPr>
              <a:t>(Mandatory mark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xamples of information to the us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FF CRS is suitable for a child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older than [15th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a mass </a:t>
            </a: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not exceeding [22]k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a stature comprised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between 75 and 125 c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RF CRS is suitable for a child with a mass </a:t>
            </a: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not exceeding [18]k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a stature comprised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between 40 cms and 95 c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 li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ight li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ze lim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484360" y="4869000"/>
            <a:ext cx="187164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05240" y="5229360"/>
            <a:ext cx="1871640" cy="0"/>
          </a:xfrm>
          <a:prstGeom prst="line">
            <a:avLst/>
          </a:prstGeom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509920" y="5589720"/>
            <a:ext cx="187164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Use of the Q dumm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4020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or dynamic behaviour i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rontal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ear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teral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4648320" y="1947960"/>
            <a:ext cx="4038480" cy="34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erms of reference of the informal grou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informal group shall consider the development of a new regulation for “Restraining devices for child occupants of power-driven vehicles” for consideration by GRS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basis of the discussion will be informal documents N°. GRSP-42-2 and GRSP-42-2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step by step approach shall be impleme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hase1: Develop definitions, performance criteria and test methods for ISOFIX Integral “Universal” C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its work, the informal group will take into consideration amongst others the technical expertise of EEVC WG18, EEVC WG12, ISO TC22/SC12, and NPACS as well as the results of the discussions held in the informal group and at GRS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necessary, the informal group shall develop complementary test methods and propose alternative judgement crite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target completion date for the informal group shall be the forty-sixth session of GRSP (December 2009) for this first ph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rontal Impact configur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384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as ECE R44 for input pul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criteria and requirements for dummies read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as ECE R44 for head displacement requi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4788000" y="692280"/>
          <a:ext cx="3786120" cy="2352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88000" y="692280"/>
                    <a:ext cx="3786120" cy="23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6"/>
          <a:stretch/>
        </p:blipFill>
        <p:spPr>
          <a:xfrm>
            <a:off x="4859280" y="3608280"/>
            <a:ext cx="3960720" cy="2940120"/>
          </a:xfrm>
          <a:prstGeom prst="rect">
            <a:avLst/>
          </a:prstGeom>
          <a:ln w="0">
            <a:noFill/>
          </a:ln>
        </p:spPr>
      </p:pic>
      <p:grpSp>
        <p:nvGrpSpPr>
          <p:cNvPr id="193" name=""/>
          <p:cNvGrpSpPr/>
          <p:nvPr/>
        </p:nvGrpSpPr>
        <p:grpSpPr>
          <a:xfrm>
            <a:off x="611280" y="5589720"/>
            <a:ext cx="4248000" cy="799920"/>
            <a:chOff x="611280" y="5589720"/>
            <a:chExt cx="4248000" cy="799920"/>
          </a:xfrm>
        </p:grpSpPr>
        <p:sp>
          <p:nvSpPr>
            <p:cNvPr id="194" name=""/>
            <p:cNvSpPr/>
            <p:nvPr/>
          </p:nvSpPr>
          <p:spPr>
            <a:xfrm flipV="1">
              <a:off x="3203640" y="5589720"/>
              <a:ext cx="1655640" cy="576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11280" y="6021360"/>
              <a:ext cx="266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For monitoring purpo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Rear Impact configur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384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as ECE R44 for input pul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criteria and requirements for dummies read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as ECE R44 for head displacement requi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4859280" y="3608280"/>
            <a:ext cx="3960720" cy="29401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5"/>
          <a:stretch/>
        </p:blipFill>
        <p:spPr>
          <a:xfrm>
            <a:off x="4859280" y="981000"/>
            <a:ext cx="3776760" cy="2352600"/>
          </a:xfrm>
          <a:prstGeom prst="rect">
            <a:avLst/>
          </a:prstGeom>
          <a:ln w="0">
            <a:noFill/>
          </a:ln>
        </p:spPr>
      </p:pic>
      <p:grpSp>
        <p:nvGrpSpPr>
          <p:cNvPr id="201" name=""/>
          <p:cNvGrpSpPr/>
          <p:nvPr/>
        </p:nvGrpSpPr>
        <p:grpSpPr>
          <a:xfrm>
            <a:off x="611280" y="5589720"/>
            <a:ext cx="4248000" cy="799920"/>
            <a:chOff x="611280" y="5589720"/>
            <a:chExt cx="4248000" cy="799920"/>
          </a:xfrm>
        </p:grpSpPr>
        <p:sp>
          <p:nvSpPr>
            <p:cNvPr id="202" name=""/>
            <p:cNvSpPr/>
            <p:nvPr/>
          </p:nvSpPr>
          <p:spPr>
            <a:xfrm flipV="1">
              <a:off x="3203640" y="5589720"/>
              <a:ext cx="1655640" cy="576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11280" y="6021360"/>
              <a:ext cx="266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For monitoring purpo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Test Benc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268280"/>
            <a:ext cx="41860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st bench according NPACS propo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ckrest cushion NPACS proposal with a 50 mm c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at cushion NPACS proposal but without ga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0° rotation of the test bench for lateral imp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Inhaltsplatzhalter 6" descr="SI Test bench.jpg"/>
          <p:cNvPicPr/>
          <p:nvPr/>
        </p:nvPicPr>
        <p:blipFill>
          <a:blip r:embed="rId5"/>
          <a:stretch/>
        </p:blipFill>
        <p:spPr>
          <a:xfrm>
            <a:off x="5072040" y="1071720"/>
            <a:ext cx="3714840" cy="2786040"/>
          </a:xfrm>
          <a:prstGeom prst="rect">
            <a:avLst/>
          </a:prstGeom>
          <a:ln w="0">
            <a:noFill/>
          </a:ln>
        </p:spPr>
      </p:pic>
      <p:pic>
        <p:nvPicPr>
          <p:cNvPr id="207" name="Grafik 8" descr="RÖMER_NPACS with Panel mod.jpg"/>
          <p:cNvPicPr/>
          <p:nvPr/>
        </p:nvPicPr>
        <p:blipFill>
          <a:blip r:embed="rId6"/>
          <a:stretch/>
        </p:blipFill>
        <p:spPr>
          <a:xfrm>
            <a:off x="5000760" y="3929040"/>
            <a:ext cx="3857400" cy="2725920"/>
          </a:xfrm>
          <a:prstGeom prst="rect">
            <a:avLst/>
          </a:prstGeom>
          <a:ln w="0">
            <a:noFill/>
          </a:ln>
        </p:spPr>
      </p:pic>
      <p:cxnSp>
        <p:nvCxnSpPr>
          <p:cNvPr id="208" name="Gerade Verbindung mit Pfeil 12"/>
          <p:cNvCxnSpPr/>
          <p:nvPr/>
        </p:nvCxnSpPr>
        <p:spPr>
          <a:xfrm flipV="1">
            <a:off x="4211280" y="2996640"/>
            <a:ext cx="2637720" cy="937080"/>
          </a:xfrm>
          <a:prstGeom prst="straightConnector1">
            <a:avLst/>
          </a:prstGeom>
          <a:ln w="3168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209" name=""/>
          <p:cNvSpPr/>
          <p:nvPr/>
        </p:nvSpPr>
        <p:spPr>
          <a:xfrm>
            <a:off x="3564000" y="1844640"/>
            <a:ext cx="3313080" cy="36036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hteck 2"/>
          <p:cNvSpPr/>
          <p:nvPr/>
        </p:nvSpPr>
        <p:spPr>
          <a:xfrm>
            <a:off x="357120" y="1143000"/>
            <a:ext cx="8072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cc3300"/>
              </a:buClr>
              <a:buFont typeface="Wingdings" charset="2"/>
              <a:buChar char=""/>
              <a:tabLst>
                <a:tab algn="l" pos="187200"/>
                <a:tab algn="l" pos="1530360"/>
                <a:tab algn="l" pos="5291280"/>
                <a:tab algn="l" pos="66340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3300"/>
              </a:buClr>
              <a:buFont typeface="Wingdings" charset="2"/>
              <a:buChar char=""/>
              <a:tabLst>
                <a:tab algn="l" pos="187200"/>
                <a:tab algn="l" pos="1530360"/>
                <a:tab algn="l" pos="5291280"/>
                <a:tab algn="l" pos="66340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3300"/>
              </a:buClr>
              <a:buFont typeface="Wingdings" charset="2"/>
              <a:buChar char=""/>
              <a:tabLst>
                <a:tab algn="l" pos="187200"/>
                <a:tab algn="l" pos="1530360"/>
                <a:tab algn="l" pos="5291280"/>
                <a:tab algn="l" pos="66340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3300"/>
              </a:buClr>
              <a:buFont typeface="Wingdings" charset="2"/>
              <a:buChar char=""/>
              <a:tabLst>
                <a:tab algn="l" pos="187200"/>
                <a:tab algn="l" pos="1530360"/>
                <a:tab algn="l" pos="5291280"/>
                <a:tab algn="l" pos="66340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3300"/>
              </a:buClr>
              <a:buFont typeface="Wingdings" charset="2"/>
              <a:buChar char=""/>
              <a:tabLst>
                <a:tab algn="l" pos="187200"/>
                <a:tab algn="l" pos="1530360"/>
                <a:tab algn="l" pos="5291280"/>
                <a:tab algn="l" pos="66340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Test Ri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Inhaltsplatzhalter 6" descr="SI Test rig.jpg"/>
          <p:cNvPicPr/>
          <p:nvPr/>
        </p:nvPicPr>
        <p:blipFill>
          <a:blip r:embed="rId1"/>
          <a:stretch/>
        </p:blipFill>
        <p:spPr>
          <a:xfrm>
            <a:off x="1619280" y="1428840"/>
            <a:ext cx="5726160" cy="4294080"/>
          </a:xfrm>
          <a:prstGeom prst="rect">
            <a:avLst/>
          </a:prstGeom>
          <a:ln w="0">
            <a:noFill/>
          </a:ln>
        </p:spPr>
      </p:pic>
      <p:sp>
        <p:nvSpPr>
          <p:cNvPr id="213" name="Textfeld 7"/>
          <p:cNvSpPr/>
          <p:nvPr/>
        </p:nvSpPr>
        <p:spPr>
          <a:xfrm>
            <a:off x="5214960" y="100008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4" name="Gerade Verbindung mit Pfeil 11"/>
          <p:cNvCxnSpPr>
            <a:stCxn id="213" idx="1"/>
          </p:cNvCxnSpPr>
          <p:nvPr/>
        </p:nvCxnSpPr>
        <p:spPr>
          <a:xfrm flipH="1">
            <a:off x="4357080" y="1183320"/>
            <a:ext cx="857880" cy="1531080"/>
          </a:xfrm>
          <a:prstGeom prst="straightConnector1">
            <a:avLst/>
          </a:prstGeom>
          <a:ln w="3168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215" name="Textfeld 12"/>
          <p:cNvSpPr/>
          <p:nvPr/>
        </p:nvSpPr>
        <p:spPr>
          <a:xfrm>
            <a:off x="285840" y="33577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 Tub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Gerade Verbindung mit Pfeil 14"/>
          <p:cNvCxnSpPr>
            <a:stCxn id="215" idx="3"/>
          </p:cNvCxnSpPr>
          <p:nvPr/>
        </p:nvCxnSpPr>
        <p:spPr>
          <a:xfrm flipV="1">
            <a:off x="1428480" y="2642760"/>
            <a:ext cx="1215000" cy="884880"/>
          </a:xfrm>
          <a:prstGeom prst="straightConnector1">
            <a:avLst/>
          </a:prstGeom>
          <a:ln w="3168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217" name="Textfeld 22"/>
          <p:cNvSpPr/>
          <p:nvPr/>
        </p:nvSpPr>
        <p:spPr>
          <a:xfrm>
            <a:off x="7643880" y="164304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8" name="Gerade Verbindung mit Pfeil 24"/>
          <p:cNvCxnSpPr>
            <a:stCxn id="217" idx="1"/>
          </p:cNvCxnSpPr>
          <p:nvPr/>
        </p:nvCxnSpPr>
        <p:spPr>
          <a:xfrm flipH="1">
            <a:off x="6428880" y="1827360"/>
            <a:ext cx="1215360" cy="530640"/>
          </a:xfrm>
          <a:prstGeom prst="straightConnector1">
            <a:avLst/>
          </a:prstGeom>
          <a:ln w="3168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219" name="Textfeld 26"/>
          <p:cNvSpPr/>
          <p:nvPr/>
        </p:nvSpPr>
        <p:spPr>
          <a:xfrm>
            <a:off x="7643880" y="2571840"/>
            <a:ext cx="1176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ckrest Cush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0" name="Gerade Verbindung mit Pfeil 28"/>
          <p:cNvCxnSpPr>
            <a:stCxn id="219" idx="1"/>
          </p:cNvCxnSpPr>
          <p:nvPr/>
        </p:nvCxnSpPr>
        <p:spPr>
          <a:xfrm flipH="1">
            <a:off x="5928480" y="2862360"/>
            <a:ext cx="1715400" cy="565920"/>
          </a:xfrm>
          <a:prstGeom prst="straightConnector1">
            <a:avLst/>
          </a:prstGeom>
          <a:ln w="3168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221" name="Textfeld 29"/>
          <p:cNvSpPr/>
          <p:nvPr/>
        </p:nvSpPr>
        <p:spPr>
          <a:xfrm>
            <a:off x="7715160" y="4000680"/>
            <a:ext cx="100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at Cush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2" name="Gerade Verbindung mit Pfeil 31"/>
          <p:cNvCxnSpPr>
            <a:stCxn id="221" idx="1"/>
          </p:cNvCxnSpPr>
          <p:nvPr/>
        </p:nvCxnSpPr>
        <p:spPr>
          <a:xfrm flipH="1">
            <a:off x="5214240" y="4289760"/>
            <a:ext cx="2500920" cy="351360"/>
          </a:xfrm>
          <a:prstGeom prst="straightConnector1">
            <a:avLst/>
          </a:prstGeom>
          <a:ln w="3168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223" name="Textfeld 33"/>
          <p:cNvSpPr/>
          <p:nvPr/>
        </p:nvSpPr>
        <p:spPr>
          <a:xfrm>
            <a:off x="2643120" y="5929200"/>
            <a:ext cx="1928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ing Isofix Anchorage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4" name="Gerade Verbindung mit Pfeil 35"/>
          <p:cNvCxnSpPr>
            <a:stCxn id="223" idx="0"/>
          </p:cNvCxnSpPr>
          <p:nvPr/>
        </p:nvCxnSpPr>
        <p:spPr>
          <a:xfrm flipV="1">
            <a:off x="3608280" y="3999960"/>
            <a:ext cx="1394640" cy="1929240"/>
          </a:xfrm>
          <a:prstGeom prst="straightConnector1">
            <a:avLst/>
          </a:prstGeom>
          <a:ln w="3168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225" name="Textfeld 38"/>
          <p:cNvSpPr/>
          <p:nvPr/>
        </p:nvSpPr>
        <p:spPr>
          <a:xfrm>
            <a:off x="71280" y="1285920"/>
            <a:ext cx="154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pport device for the doo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6" name="Gerade Verbindung mit Pfeil 40"/>
          <p:cNvCxnSpPr/>
          <p:nvPr/>
        </p:nvCxnSpPr>
        <p:spPr>
          <a:xfrm>
            <a:off x="1547280" y="1628640"/>
            <a:ext cx="1644120" cy="310320"/>
          </a:xfrm>
          <a:prstGeom prst="straightConnector1">
            <a:avLst/>
          </a:prstGeom>
          <a:ln w="31680">
            <a:solidFill>
              <a:srgbClr val="00b05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Door Panel Defin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457200" y="663480"/>
            <a:ext cx="8381880" cy="58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lative velocity corridor to be confirmed by evaluation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or Panel Dimen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Object 6"/>
          <p:cNvGraphicFramePr/>
          <p:nvPr/>
        </p:nvGraphicFramePr>
        <p:xfrm>
          <a:off x="250920" y="1197000"/>
          <a:ext cx="3835440" cy="2638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30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197000"/>
                    <a:ext cx="3835440" cy="26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1" name=""/>
          <p:cNvGrpSpPr/>
          <p:nvPr/>
        </p:nvGrpSpPr>
        <p:grpSpPr>
          <a:xfrm>
            <a:off x="3995280" y="3500280"/>
            <a:ext cx="5103000" cy="3061800"/>
            <a:chOff x="3995280" y="3500280"/>
            <a:chExt cx="5103000" cy="3061800"/>
          </a:xfrm>
        </p:grpSpPr>
        <p:sp>
          <p:nvSpPr>
            <p:cNvPr id="232" name="Freeform 2"/>
            <p:cNvSpPr/>
            <p:nvPr/>
          </p:nvSpPr>
          <p:spPr>
            <a:xfrm>
              <a:off x="4266360" y="3500280"/>
              <a:ext cx="3739320" cy="2054520"/>
            </a:xfrm>
            <a:custGeom>
              <a:avLst/>
              <a:gdLst>
                <a:gd name="textAreaLeft" fmla="*/ 0 w 3739320"/>
                <a:gd name="textAreaRight" fmla="*/ 3739680 w 3739320"/>
                <a:gd name="textAreaTop" fmla="*/ 0 h 2054520"/>
                <a:gd name="textAreaBottom" fmla="*/ 2054880 h 2054520"/>
              </a:gdLst>
              <a:ahLst/>
              <a:rect l="textAreaLeft" t="textAreaTop" r="textAreaRight" b="textAreaBottom"/>
              <a:pathLst>
                <a:path w="3264" h="1920">
                  <a:moveTo>
                    <a:pt x="0" y="0"/>
                  </a:moveTo>
                  <a:lnTo>
                    <a:pt x="0" y="1392"/>
                  </a:lnTo>
                  <a:lnTo>
                    <a:pt x="1968" y="1920"/>
                  </a:lnTo>
                  <a:lnTo>
                    <a:pt x="2400" y="1824"/>
                  </a:lnTo>
                  <a:lnTo>
                    <a:pt x="326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3"/>
            <p:cNvSpPr/>
            <p:nvPr/>
          </p:nvSpPr>
          <p:spPr>
            <a:xfrm>
              <a:off x="4754160" y="5195160"/>
              <a:ext cx="2221920" cy="1181160"/>
            </a:xfrm>
            <a:custGeom>
              <a:avLst/>
              <a:gdLst>
                <a:gd name="textAreaLeft" fmla="*/ 0 w 2221920"/>
                <a:gd name="textAreaRight" fmla="*/ 2222280 w 2221920"/>
                <a:gd name="textAreaTop" fmla="*/ 0 h 1181160"/>
                <a:gd name="textAreaBottom" fmla="*/ 1181520 h 1181160"/>
              </a:gdLst>
              <a:ahLst/>
              <a:rect l="textAreaLeft" t="textAreaTop" r="textAreaRight" b="textAreaBottom"/>
              <a:pathLst>
                <a:path w="1920" h="1008">
                  <a:moveTo>
                    <a:pt x="0" y="0"/>
                  </a:moveTo>
                  <a:lnTo>
                    <a:pt x="0" y="480"/>
                  </a:lnTo>
                  <a:lnTo>
                    <a:pt x="1920" y="1008"/>
                  </a:lnTo>
                  <a:lnTo>
                    <a:pt x="1920" y="4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4"/>
            <p:cNvSpPr/>
            <p:nvPr/>
          </p:nvSpPr>
          <p:spPr>
            <a:xfrm>
              <a:off x="6976080" y="3654360"/>
              <a:ext cx="1300680" cy="2157480"/>
            </a:xfrm>
            <a:custGeom>
              <a:avLst/>
              <a:gdLst>
                <a:gd name="textAreaLeft" fmla="*/ 0 w 1300680"/>
                <a:gd name="textAreaRight" fmla="*/ 1301040 w 1300680"/>
                <a:gd name="textAreaTop" fmla="*/ 0 h 2157480"/>
                <a:gd name="textAreaBottom" fmla="*/ 2157840 h 2157480"/>
              </a:gdLst>
              <a:ahLst/>
              <a:rect l="textAreaLeft" t="textAreaTop" r="textAreaRight" b="textAreaBottom"/>
              <a:pathLst>
                <a:path w="1152" h="2016">
                  <a:moveTo>
                    <a:pt x="912" y="0"/>
                  </a:moveTo>
                  <a:lnTo>
                    <a:pt x="0" y="1920"/>
                  </a:lnTo>
                  <a:lnTo>
                    <a:pt x="288" y="2016"/>
                  </a:lnTo>
                  <a:lnTo>
                    <a:pt x="1150" y="104"/>
                  </a:lnTo>
                  <a:lnTo>
                    <a:pt x="1152" y="96"/>
                  </a:lnTo>
                  <a:lnTo>
                    <a:pt x="912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5"/>
            <p:cNvSpPr/>
            <p:nvPr/>
          </p:nvSpPr>
          <p:spPr>
            <a:xfrm>
              <a:off x="4266360" y="4938480"/>
              <a:ext cx="0" cy="159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6"/>
            <p:cNvSpPr/>
            <p:nvPr/>
          </p:nvSpPr>
          <p:spPr>
            <a:xfrm>
              <a:off x="6976080" y="6376680"/>
              <a:ext cx="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7"/>
            <p:cNvSpPr/>
            <p:nvPr/>
          </p:nvSpPr>
          <p:spPr>
            <a:xfrm>
              <a:off x="4266360" y="6428160"/>
              <a:ext cx="270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8"/>
            <p:cNvSpPr/>
            <p:nvPr/>
          </p:nvSpPr>
          <p:spPr>
            <a:xfrm>
              <a:off x="8493840" y="3500280"/>
              <a:ext cx="0" cy="226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9"/>
            <p:cNvSpPr/>
            <p:nvPr/>
          </p:nvSpPr>
          <p:spPr>
            <a:xfrm>
              <a:off x="7030440" y="5760360"/>
              <a:ext cx="162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10"/>
            <p:cNvSpPr/>
            <p:nvPr/>
          </p:nvSpPr>
          <p:spPr>
            <a:xfrm>
              <a:off x="7951680" y="3500280"/>
              <a:ext cx="758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11"/>
            <p:cNvSpPr/>
            <p:nvPr/>
          </p:nvSpPr>
          <p:spPr>
            <a:xfrm flipH="1" flipV="1">
              <a:off x="3995280" y="4989240"/>
              <a:ext cx="758520" cy="20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12"/>
            <p:cNvSpPr/>
            <p:nvPr/>
          </p:nvSpPr>
          <p:spPr>
            <a:xfrm flipH="1">
              <a:off x="4320720" y="5092560"/>
              <a:ext cx="108000" cy="3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13"/>
            <p:cNvSpPr/>
            <p:nvPr/>
          </p:nvSpPr>
          <p:spPr>
            <a:xfrm rot="17441400">
              <a:off x="4073760" y="5146200"/>
              <a:ext cx="92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20 ma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14"/>
            <p:cNvSpPr/>
            <p:nvPr/>
          </p:nvSpPr>
          <p:spPr>
            <a:xfrm>
              <a:off x="5234040" y="61938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15"/>
            <p:cNvSpPr/>
            <p:nvPr/>
          </p:nvSpPr>
          <p:spPr>
            <a:xfrm>
              <a:off x="8538120" y="4552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17"/>
            <p:cNvSpPr/>
            <p:nvPr/>
          </p:nvSpPr>
          <p:spPr>
            <a:xfrm>
              <a:off x="6488280" y="5400720"/>
              <a:ext cx="812880" cy="4107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18"/>
            <p:cNvSpPr/>
            <p:nvPr/>
          </p:nvSpPr>
          <p:spPr>
            <a:xfrm>
              <a:off x="6625440" y="5401800"/>
              <a:ext cx="869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Tbd i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Phase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Test Paramet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Inhaltsplatzhalter 8" descr="SI v_s_t.WMF"/>
          <p:cNvPicPr/>
          <p:nvPr/>
        </p:nvPicPr>
        <p:blipFill>
          <a:blip r:embed="rId1"/>
          <a:stretch/>
        </p:blipFill>
        <p:spPr>
          <a:xfrm>
            <a:off x="4786200" y="1000080"/>
            <a:ext cx="3888000" cy="2722680"/>
          </a:xfrm>
          <a:prstGeom prst="rect">
            <a:avLst/>
          </a:prstGeom>
          <a:ln w="0">
            <a:noFill/>
          </a:ln>
        </p:spPr>
      </p:pic>
      <p:pic>
        <p:nvPicPr>
          <p:cNvPr id="250" name="Grafik 7" descr="SI Sled a_t.WMF"/>
          <p:cNvPicPr/>
          <p:nvPr/>
        </p:nvPicPr>
        <p:blipFill>
          <a:blip r:embed="rId2"/>
          <a:stretch/>
        </p:blipFill>
        <p:spPr>
          <a:xfrm>
            <a:off x="4786200" y="3857760"/>
            <a:ext cx="3878280" cy="2714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1" name=""/>
          <p:cNvGraphicFramePr/>
          <p:nvPr/>
        </p:nvGraphicFramePr>
        <p:xfrm>
          <a:off x="285840" y="2428920"/>
          <a:ext cx="4214880" cy="3203640"/>
        </p:xfrm>
        <a:graphic>
          <a:graphicData uri="http://schemas.openxmlformats.org/drawingml/2006/table">
            <a:tbl>
              <a:tblPr/>
              <a:tblGrid>
                <a:gridCol w="1785960"/>
                <a:gridCol w="1357200"/>
                <a:gridCol w="1071720"/>
              </a:tblGrid>
              <a:tr h="60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SO/PDP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623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rusion veloc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-10 m/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rusion dep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-300 m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led decele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-14 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rusion surface heigh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 m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Forward Facing with TT - Dummy Q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971640" y="890640"/>
            <a:ext cx="734544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101" fill="hold"/>
                                        <p:tgtEl>
                                          <p:spTgt spid="2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253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253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2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92000" y="139320"/>
            <a:ext cx="7451640" cy="2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ome open issues to be validated (1)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loor /support leg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pport leg defini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Support foo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Support leg contact surfac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Support leg contact volum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Vehicle contact area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Vehicle contact volum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CE R14 &amp; R16 mod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ssessment of “</a:t>
            </a:r>
            <a:r>
              <a:rPr b="1" i="1" lang="en-US" sz="3200" spc="-1" strike="noStrike">
                <a:solidFill>
                  <a:srgbClr val="000000"/>
                </a:solidFill>
                <a:latin typeface="Arrobatherapy"/>
              </a:rPr>
              <a:t>i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-Size ready ” vehi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692000" y="139320"/>
            <a:ext cx="7451640" cy="2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ome open issues to be validated (2)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ge limit [18, 15 or 12 month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king into consideration ISO fixtures dim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de impact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ummy positi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ulse corri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ai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 (3ms) lev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92000" y="139320"/>
            <a:ext cx="7451640" cy="2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ome open issues to be validated (3)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ometrical characteristic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ting height upper limit / Standing h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er breadth upper limit / Standing h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p breadth upper limit / Standing h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er height upper and lower limits / Standing h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ment tool and toler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tatus of the work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8 meetings from January 2008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ill April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 draft regulation covering phase 1 presented as formal docu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ECE/TRANS/WP.29/GRSP/2010/26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nded by informal docu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RSP-47-06 - Draft amendment to ECE/TRANS/WP.29/GRSP/2010/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roup proposes to GRSP to endorse the draft and to start implementation of Phase 1 and ask for extended mandate to continue with Phase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SOFIX universal non-Integral CR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meeting (19th) 30 June (Madrid 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nclusion and Future wor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4356000" y="4149720"/>
            <a:ext cx="3594240" cy="221940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1116000" y="4075200"/>
            <a:ext cx="17226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Principles of this new regul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69192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dependent regulation. The ECE R44 remains val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ulti steps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cope of this new regulation cover only “ISOFIX – Universal – Integral” CRS in first st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w philosophy of class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assification based on standing height, maximum permissible weight (Child + CRS) and age limit for forward facing u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of measurement device for CRS size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of the Q dummies for frontal, rear and lateral dynamic impact on a new test be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support leg as well as top tether as universal anti rotation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ndependent regul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E R44 remains val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 steps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l CRS + ISOF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 integral CRS + ISOF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ult safety belt dependent C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tional provisions for “soft landing” between ECE R44 and the different phases of this new reg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395280" y="3805200"/>
            <a:ext cx="835344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92000" y="128160"/>
            <a:ext cx="7451640" cy="2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cope of this regulation for </a:t>
            </a: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the first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e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SOFIX “universal” integral C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OF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lower anchorages + 1 anti rotation devi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p Te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pport l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use of the adult safety belt for the restraint of the child se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F2X ISO fixture for FF &amp; &lt;R2 ISO fixture for RF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(*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h top tether or support leg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(**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g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ild is restraint only by the CRS restraint system (harn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use of the adult safety belt for the restraint of the chi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*)(**) others could fall into “Integral ‘specific vehicle’ ISOFIX” categ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92000" y="-2556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New philosophy of classific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384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group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105600" y="1268280"/>
            <a:ext cx="2440080" cy="51134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3635280" y="4076640"/>
            <a:ext cx="1909800" cy="23526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3203640" y="1773360"/>
            <a:ext cx="1981080" cy="22334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179280" y="3789360"/>
            <a:ext cx="2822760" cy="28782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92160" y="1816200"/>
            <a:ext cx="2247840" cy="21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Classification on standing heigh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2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464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260000" y="4437000"/>
            <a:ext cx="2197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36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ical dimensions of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908000" y="4653000"/>
            <a:ext cx="162000" cy="1522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984320" y="4713120"/>
            <a:ext cx="1690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ize child restraint syst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835280" y="4941720"/>
          <a:ext cx="5398920" cy="579600"/>
        </p:xfrm>
        <a:graphic>
          <a:graphicData uri="http://schemas.openxmlformats.org/drawingml/2006/table">
            <a:tbl>
              <a:tblPr/>
              <a:tblGrid>
                <a:gridCol w="900000"/>
                <a:gridCol w="898560"/>
                <a:gridCol w="1036440"/>
                <a:gridCol w="889200"/>
                <a:gridCol w="774720"/>
                <a:gridCol w="90000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tur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tting height m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houlder breadth m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p bread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houlder heigh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very 50m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%i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%i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%i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%i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%i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34" name=""/>
          <p:cNvGrpSpPr/>
          <p:nvPr/>
        </p:nvGrpSpPr>
        <p:grpSpPr>
          <a:xfrm>
            <a:off x="681120" y="1197000"/>
            <a:ext cx="6527880" cy="2743920"/>
            <a:chOff x="681120" y="1197000"/>
            <a:chExt cx="6527880" cy="2743920"/>
          </a:xfrm>
        </p:grpSpPr>
        <p:pic>
          <p:nvPicPr>
            <p:cNvPr id="135" name="" descr=""/>
            <p:cNvPicPr/>
            <p:nvPr/>
          </p:nvPicPr>
          <p:blipFill>
            <a:blip r:embed="rId2"/>
            <a:stretch/>
          </p:blipFill>
          <p:spPr>
            <a:xfrm>
              <a:off x="900000" y="1197000"/>
              <a:ext cx="445788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681120" y="3573360"/>
              <a:ext cx="135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Standing Heigh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371680" y="3603600"/>
              <a:ext cx="136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Seating Heigh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059360" y="3633840"/>
              <a:ext cx="136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Shoulder Heigh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46800" y="2106720"/>
              <a:ext cx="171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Shoulder Breadt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91080" y="2622600"/>
              <a:ext cx="171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Hip Breadt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627280" y="851040"/>
            <a:ext cx="4032360" cy="28080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1266840" y="388620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Arial"/>
                <a:ea typeface="宋体"/>
              </a:rPr>
              <a:t>Source : IFTH – Projet 3D Chi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1T15:32:41Z</dcterms:created>
  <dc:creator>castaing</dc:creator>
  <dc:description/>
  <dc:language>en-US</dc:language>
  <cp:lastModifiedBy>Gianotti</cp:lastModifiedBy>
  <dcterms:modified xsi:type="dcterms:W3CDTF">2010-05-19T13:08:45Z</dcterms:modified>
  <cp:revision>24</cp:revision>
  <dc:subject/>
  <dc:title>Diapositive 1</dc:title>
</cp:coreProperties>
</file>