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E1018-8E03-4CC8-A05C-04D31F43FEB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of test severity in Offset tes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and motivate test metric (implicit definition of test severity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 level of test severity by a suitable reference collision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Full Width test in frontal impa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es real-world injury sources (includes also 1.1.1.3 &amp; 1.1.1.4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aint System assessment (THORAX / COV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ntal structure architecture assessment (includes 1.1.1.6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and motivate test metric (implicit definition of test severity)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 level of test severity by a suitable reference collision (FIMC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female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reasons for higher risk for females (stature, scenario, seating position, biomechanics e.g.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ility of appropriate dummies (EEVC WG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older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reasons for higher risk for older occupants (biomechanics, scenario e.g.) (THOR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ility of appropriate dummies (EEVC WG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rear occupan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jury patterns for belted rear seat passengers comparing them to injury patterns for belted front seat passengers (THORAX, EEVC WG12, EC-Study APROS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Interaction Area (FIMCAR)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58B7-45A4-4D38-B5CB-E439C21A9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2C06-CC26-4121-B584-D31E3FEF8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507C-75AA-4926-BFEC-E61C52772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0796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28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987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500796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028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4617-404A-42D3-B997-6D7ED3175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87280" y="1844280"/>
            <a:ext cx="5977080" cy="10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D343-2A05-4325-B9AC-A6EB64387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96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28640" y="426888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87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96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28640" y="5184720"/>
            <a:ext cx="1923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7386-D925-4778-BCBD-269F5A58E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B3E4-9DCE-4DD2-AAA1-8861F7A97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5C05-601E-4159-8E02-B65F21E7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987280" y="1844280"/>
            <a:ext cx="5977080" cy="10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7BD4-FC65-4D38-BA2E-3B05417EF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C7AC-497E-40D9-9500-CF8AF7E85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49440" y="518472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2BEB-1556-4A87-8C48-E6F2D49C0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876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49440" y="4268880"/>
            <a:ext cx="2915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87640" y="5184720"/>
            <a:ext cx="5975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3D54-C6DD-441B-A4FD-772196FF1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681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341920" y="6444720"/>
            <a:ext cx="801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34E7-AB5E-49C8-AD3B-FA83BB2C6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3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 Group on F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8720" y="0"/>
            <a:ext cx="3635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No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SP-47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47th session, 17-21 May 201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genda  item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7th GRSP Sess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us report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l Group on F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127080"/>
            <a:ext cx="7451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date &amp; ToR- GRSP IWG R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nch propos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mend Regulation N°94 (Frontal impact) by changing the type of deformable barrier element and revising testing procedure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P.29 gave its consent to set up a new informal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SP adopted the terms of reference of IWG R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ing of the current R94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 justification shall be provided and assessed by the informal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a cost benefit study shall b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ing on self-protection but not to go against future compatibilit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 complementary test methods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 completion date May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 M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08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ctober 2008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ember 2008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rch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y 2009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ptember 2009 – OIC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ember 2009 – UNECE –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ch 201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RGISCH GLAD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ril 2010 – CCFA –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126720"/>
            <a:ext cx="745164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osal at the 46th session of GR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353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wo next meetings of FI Group to draf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of the Informal Group on Frontal Impact aligned with the schedule of activities going on, to look at, and answer open i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27</a:t>
            </a:r>
            <a:r>
              <a:rPr b="1" lang="en-CA" sz="24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djust FI Group ToRs and planning for presentation at the May session of GR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07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10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4358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identified and will continue to integrate, a certain number of points into R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-5076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mportant issues to be considered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of test severity in Offse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Full Width test in 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female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older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ction of rear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metric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0280" y="46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923920"/>
            <a:ext cx="84358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next year work in parallel with EU Projects THORAX and FIMCAR and collaboration with other countries involved in R94 will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-Projects-FP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12076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3708360" y="486108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59280" y="486108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24360" y="4869000"/>
            <a:ext cx="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72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7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6640" y="573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8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2880" y="5724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49th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58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 after two new meetings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has difficulties at this stage for a clear planning with regard to delivering a draft for a new R94 yet, but will come back to GRSP in May 2011 with a clear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18:53Z</dcterms:created>
  <dc:creator>castaing</dc:creator>
  <dc:description/>
  <dc:language>en-US</dc:language>
  <cp:lastModifiedBy>Gianotti</cp:lastModifiedBy>
  <dcterms:modified xsi:type="dcterms:W3CDTF">2010-05-17T09:21:18Z</dcterms:modified>
  <cp:revision>32</cp:revision>
  <dc:subject/>
  <dc:title>Establishing a  New European Regulation for Child Restraint Systems</dc:title>
</cp:coreProperties>
</file>