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0C260-C103-4A4B-9022-039B1549286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of test severity in Offset tes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and motivate test metric (implicit definition of test severity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 level of test severity by a suitable reference collision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Full Width test in frontal 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es real-world injury sources (includes also 1.1.1.3 &amp; 1.1.1.4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aint System assessment (THORAX / CO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ntal structure architecture assessment (includes 1.1.1.6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and motivate test metric (implicit definition of test severity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 level of test severity by a suitable reference collision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female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reasons for higher risk for females (stature, scenario, seating position, biomechanics e.g.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ility of appropriate dummies (EEVC WG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older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reasons for higher risk for older occupants (biomechanics, scenario e.g.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ility of appropriate dummies (EEVC WG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rear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jury patterns for belted rear seat passengers comparing them to injury patterns for belted front seat passengers (THORAX, EEVC WG12, EC-Study APROS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Interaction Area (FIMCAR)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84BF-ABB7-4A56-B29A-D6DCB856A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9C06-DD32-4916-B756-4C8B606DF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62D5-9549-4449-B54A-E052C3244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796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28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87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500796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28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8901-9AFF-4264-915D-0B0555EDC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87280" y="1844280"/>
            <a:ext cx="5977080" cy="10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004C-8DED-4E79-9BF6-99DB0EC64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96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28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87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96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28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EE7D-AE82-4B83-9266-71CFC46C2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8BBF-C9C4-43CA-9443-A3F581AF1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B302-3DE6-4AB5-BCB4-7BB0794B6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987280" y="1844280"/>
            <a:ext cx="5977080" cy="10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E918-D4B1-4234-B1D5-E5835835E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92B4-2F9D-4D36-AD6B-1FB8A55D2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0BBE-0EDD-4CE0-8073-490A6C787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EF88-EEC0-4009-8D77-39EE36360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681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341920" y="6444720"/>
            <a:ext cx="801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E26-9F6A-4787-A6DE-C73365B27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3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 Group on F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0"/>
            <a:ext cx="3635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No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SP-47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47th session, 17-21 May 201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genda  item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 Group on F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127080"/>
            <a:ext cx="7451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date &amp; ToR- GRSP IWG R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nch propos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mend Regulation N°94 (Frontal impact) by changing the type of deformable barrier element and revising testing procedure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P.29 gave its consent to set up a new informal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SP adopted the terms of reference of IWG R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ing of the current R94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 justification shall be provided and assessed by the informal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a cost benefit study shall b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ing on self-protection but not to go against future compatibilit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 complementary test methods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 completion date May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 M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08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ctober 2008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ember 2008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ch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09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ptember 2009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ember 2009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ch 201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RGISCH GLAD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ril 2010 – CCF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126720"/>
            <a:ext cx="74516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osal at the 46th session of GR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353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wo next meetings of FI Group to draf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of the Informal Group on Frontal Impact aligned with the schedule of activities going on, to look at, and answer open i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27</a:t>
            </a:r>
            <a:r>
              <a:rPr b="1" lang="en-CA" sz="24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djust FI Group ToRs and planning for presentation at the May session of GR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07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10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358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identified and will continue to integrate, a certain number of points into R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-5076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mportant issues to be considered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of test severity in Offse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Full Width test in 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female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older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rear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0280" y="46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923920"/>
            <a:ext cx="84358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next year work in parallel with EU Projects THORAX and FIMCAR and collaboration with other countries involved in R94 will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-Projects-FP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12076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3708360" y="486108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59280" y="486108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24360" y="486900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72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7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6640" y="573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8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2880" y="572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9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58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difficulties at this stage for a clear planning with regard to delivering a draft for a new R94 yet, but will come back to GRSP in May 2011 with a clear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18:53Z</dcterms:created>
  <dc:creator>castaing</dc:creator>
  <dc:description/>
  <dc:language>en-US</dc:language>
  <cp:lastModifiedBy>Gianotti</cp:lastModifiedBy>
  <dcterms:modified xsi:type="dcterms:W3CDTF">2010-05-17T09:21:18Z</dcterms:modified>
  <cp:revision>32</cp:revision>
  <dc:subject/>
  <dc:title>Establishing a  New European Regulation for Child Restraint Systems</dc:title>
</cp:coreProperties>
</file>