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668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2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E69B-C781-487A-9E77-D56F1C502FE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4AC-EEB1-42E4-8532-C297D5C917D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D36F-67C4-4A6D-A54F-2D88F3367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84CA-9984-43ED-883B-C1C0F723C9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B41E8-6F23-4ACD-A3C8-093C51924F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5C99-2D84-4241-9994-8362E1CE32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B8196-F5DD-448C-AAEE-FA5E8F3F6E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AECE-3C93-4F7D-A410-9B7F37EC481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28D26-2553-4FC4-AA92-98039B1F10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EF9E-A73D-427F-8E4B-A40D58F4C9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9246-1E44-40C3-8CBC-F88BE6E4F7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42325-45D3-4D27-92E6-61294FF777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B2377-B307-479B-862A-F11E7CB793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3AFF4-9626-47B8-B5BE-C1B1FB03A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E614-2E78-4338-BDBE-4E2A464079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851DE-91EE-48BF-BF01-0FDB5016F19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970C7-0535-47C5-A320-328583926A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D4609-D8F7-4948-8414-CE85FF8733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1A4CB-0283-4E75-A8CB-52AAD1F8D1A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9B516-F0A0-451F-A5AD-9FD82F9EC54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541FE-E3FA-4DBF-953A-2013F234E3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42D12-1AE5-44B0-AE6F-966CDC37ED5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7D4DD-E8A6-48F8-9596-CF8F09976A8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85AB1-DED0-48CD-BD5F-71A4779B170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D3C74-9CF1-4C80-9B2E-F5FE8CFAE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A871-E275-462D-B828-C36110140C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29404-257F-43CE-81FF-D5B245E4E2F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96561C-5728-4F66-A2F8-E651092B69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5711AF-212A-4BA0-928B-A02970E6FC5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0013B4-1FDB-4C47-B498-80E3DD9811A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8CD5F5-7150-43D3-8EAA-66DFAB890BE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786C2D-0EDF-44FC-B9AC-1B4AEA5EC27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130F76-74FA-4E9A-AC78-C92F69E533F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1DDC5A-603C-4918-BB83-472953822FF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79B971-7739-4538-8EE1-2CD163F9DD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693C77-773A-4269-9E6C-B47576FA9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1C8F8-EDC5-4393-8864-42A5154BF8C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379588-C911-492D-B79A-F327B20515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B393C7-C2CF-4B97-8916-C85B8B76D6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B47AB-B34B-4A4A-8515-E46628FEC09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44743-BC4E-48EA-9ECC-C28AC78F2BF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243D8-D636-4316-A8CC-8C595B9C5D4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649F8-E457-4740-B60C-C1CBDAB2FDF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0B043-C51E-462D-8E1C-4FD0BE21497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E6563-E767-432A-8986-6724F1D9F0A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A811-A2C8-4F8F-A982-966CCCA429E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44E31-1239-425A-A378-52DA6AA22A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A5102-ACC3-4067-B5F2-1C14FAB29D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DB9D3-1B92-4F32-8111-65F2FE6370F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351F1-8394-4ED2-91A7-A3916B65B2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9ECF-E500-46E2-9DDD-83683D61F7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C8987-A9C8-429D-8176-9C1A134F49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A5902-9AE9-4D4B-B2B1-9CEB3919DD8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33B39-A226-49C0-A2EB-6B9D3B78F74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83578-C8E0-4610-9C16-E86545498F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21799-30AE-4C54-86EF-15B563794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915FB-8A1B-4D74-B492-117108E84E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7ADA7-F328-4F18-91D6-9A6D5C523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E960-20D8-48A7-B7EA-AE316C9B0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F3071-6BBA-4FFA-B6CC-8D4F7B5D83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B1049-EECA-4DC1-AFF0-F1B61642CA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7B8B0-BE59-407D-904C-379672CCC1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F8A24-CC3A-4AEC-8915-529286FD46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BF063-FDF5-4643-8CD2-659162069D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782F-06D8-4374-8642-C0C9C0A418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60F3-042B-4551-812B-CAE70E5DE2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390B-AEB1-4F93-A858-198AC89105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E3F4-6BC5-4478-A671-460C893F9A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CFC0-BFC0-48A0-A8AC-27F18282C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EDBF-B480-4454-A662-0FDA6A271C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1D35-F018-4BD1-BCDF-0D6D9685D1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5403-4BEB-41CD-97A3-21E4C5EBD0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8D9E-C3A6-4046-B317-0336D1B243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95CB-50C7-437A-B4F6-0E1FE141DE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89A5-54D1-4EE2-B6A3-C1EE40145E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A71F-D904-4A70-A007-CE4F810EB1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BA48-49D8-4DE2-ADF7-96EB6C6EF8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DAF7D-BEF5-4387-87D4-61F0C844A4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74B86-3608-4E11-8842-A48881B9E5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866C5-E415-4355-9257-9BB54E43B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335A-0128-4FA9-9A24-80D79641E0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9E5D2-050B-4AB4-96C0-91A207CE64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91321-6D2E-4643-855B-245576D1AF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491D1-B444-4310-B19E-F807F5CC6D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6C474-0034-4F95-90A7-1749806A7C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52B1F-7F83-4C88-BF50-FA2541B50A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09F35-6682-448F-990E-6D8137E685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44E5B-8124-4480-8E3F-E109803E24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F6DCB-6DA8-4A9A-BC8B-7FC661FC4A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81D2F-ED40-4728-9050-72F3C91223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38A247-4C38-4B5C-86F8-A38B8E31A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588E-2031-47DF-A437-1D6BC22D86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EFB9A-782E-443F-AFC4-CBF8B22117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941A5-0571-4A4E-A4EE-65CCC11755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7CE09-4BDB-4234-A282-92E230B210C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37D3B-B86D-4984-ADD4-4544FE50C9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A2B3A3-0318-4F99-A859-FEE0B6F194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7FC26-2D57-481A-A51C-0867E97CDB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9FD07-3235-4AC6-BD48-63780320C3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DF94F-6C2B-4339-BE27-069E2C06BD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4B73F-A806-411A-B324-D861D85873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9E551-D671-49FC-8E09-4B6C3AFA0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921B-06C7-4E59-8925-983E6EC7DB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270A7-CB3C-40EF-9CDB-D40F0CAF80B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6AA9-BDD1-4B98-B841-B838A5E544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BF57-A057-4963-842E-113F2659B9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0780-4D5C-42E6-B125-6AC20205F2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E230-F7A8-4DC6-B10A-9D530F14BA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30D0C-C80A-42A0-A6BA-6A0F0A52DB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5F0AB-69D8-4605-A692-5B7DA055815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D78C-820E-4237-948E-7D30995D6E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BFDE-139B-42F2-B66A-9C1995502B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F03AC-80C7-409F-ACE7-3D945F3D6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63A6-8EAB-44F8-8801-860803288A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3A44-E94F-45C9-8BD8-1D23842F84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06516-6B20-4AF4-99B4-3E0AB7E763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EB6B-4D4F-4142-9112-EE0FB8DC95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B21D5-E41A-4113-A43A-9E0AE0EF6D8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90DEB-240A-4D79-99EE-26A1140709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E147F-A71A-401B-88B4-8B3A932D808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A72D1-0301-48A0-B98B-07FBE331B6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3111B-5C16-4504-B33B-5E01EB2B18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8E45E-03FD-4F8A-8F4C-DF29AA2445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F5F39-FF29-4A78-9330-704C4BD02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A32C-87D7-4880-AAFE-C4F9F400AAE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154EE-DED1-4ADB-AB08-4FB3578A50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9472E-8E58-4D32-904C-006382B3BD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AECA8-D307-4755-9357-D43E410067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4F905-777F-4313-A34A-EF79BD7B2CB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7BBF2-66FE-4CB6-A903-94A635E2D1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29C6B4-B2BF-454A-B936-3E1C08FDF5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BBFE6-5FF0-4C58-9A28-A8F8090EBC9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313B79-9C59-4679-B53B-EBC0E090751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A3A51A-6865-4704-8201-B6CAC841E1D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BE5EC-0979-4B8D-95E6-90383E90A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1BDF-69C2-4A4B-B3D1-CC2A2CD1CA0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DA06B1-BF4C-487B-9371-74D8A5BD497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0FEBAD-23C8-4131-9253-CAD2990A19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CDE0B1-7DF3-4762-89C5-B52DB79900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00B49A-9881-4D47-A1E2-4CC605F478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DF48EB-8161-4D01-885D-7A9A01F965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590B2C-0BB7-414E-ACE3-CF8EA9E001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63609D-A8CC-4525-A856-EB21DC6836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472C-A1AB-4082-A798-212549BA8CE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8298-5F58-41E7-AE9D-D30F4A372B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12E2A-8B7B-45D4-BC35-B88F0EF9B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773-1703-489C-B738-7C913FA0351B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86E2-0E98-4A88-9071-D8E1CA111AAE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1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A604-C0EB-4404-8999-2E3874E0CD28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292C-8632-40FE-B687-A90A28412F01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BDF3-FF22-493C-84FE-79C22F55CE70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6BF-BED2-4147-8620-EDDC86917F7F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CB30-B88B-4178-A466-42110ED66C84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334D-76B8-45ED-A564-1C05F1206E64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CE13-ADC9-4926-8D52-0267B6E8BE00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48DC-31AF-4D0A-A294-2467077B9DC5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BABB-171F-4C31-A1A5-6099EAA5CCE9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5275-5F1B-4006-AA0E-78863FC69D02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BA58-34F2-4DE5-85C4-D88831796621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Object 8"/>
          <p:cNvGraphicFramePr/>
          <p:nvPr/>
        </p:nvGraphicFramePr>
        <p:xfrm>
          <a:off x="6877080" y="228600"/>
          <a:ext cx="2114640" cy="202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228600"/>
                    <a:ext cx="21146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35720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D-04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TRTO comments on Inf. Document GRB-51-25 from Nor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Worl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0965-2AFE-4C02-B877-7F14410862C7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3"/>
          <p:cNvGraphicFramePr/>
          <p:nvPr/>
        </p:nvGraphicFramePr>
        <p:xfrm>
          <a:off x="642960" y="1643040"/>
          <a:ext cx="78087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643040"/>
                    <a:ext cx="78087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Worl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st results of Test World are questionable at the temperature -8,5°C. Indeed the tests results are significantly different from the results at -8.1°C and from all the other values and cannot be expl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removing this column, tests results in average are in line with the tests results of ADAC and show that Nordic tyres are performing the best , then the winter tyres followed by All Seasons ty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8505-75FB-4FBE-8299-624D5CD6E2F9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Worl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8BDA-73B3-4769-B2EB-4B03A307C8EE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2"/>
          <p:cNvGraphicFramePr/>
          <p:nvPr/>
        </p:nvGraphicFramePr>
        <p:xfrm>
          <a:off x="714240" y="1571760"/>
          <a:ext cx="7750440" cy="46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571760"/>
                    <a:ext cx="775044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RTO te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World testing results are based on one tyre size (205/55R16). The same size measured during the TI round robin test confirm the value of the ContiVickingContact compared to Test World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9586-FD67-4B50-877E-5F7318B61E8E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RTO te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D0D-7A13-4261-9CDE-0029C4790EBB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2"/>
          <p:cNvGraphicFramePr/>
          <p:nvPr/>
        </p:nvGraphicFramePr>
        <p:xfrm>
          <a:off x="642960" y="1500120"/>
          <a:ext cx="8001000" cy="440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500120"/>
                    <a:ext cx="800100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uppieren 13"/>
          <p:cNvGrpSpPr/>
          <p:nvPr/>
        </p:nvGrpSpPr>
        <p:grpSpPr>
          <a:xfrm>
            <a:off x="941400" y="1003320"/>
            <a:ext cx="6288120" cy="2627280"/>
            <a:chOff x="941400" y="1003320"/>
            <a:chExt cx="6288120" cy="2627280"/>
          </a:xfrm>
        </p:grpSpPr>
        <p:sp>
          <p:nvSpPr>
            <p:cNvPr id="567" name="Rechteck 10"/>
            <p:cNvSpPr/>
            <p:nvPr/>
          </p:nvSpPr>
          <p:spPr>
            <a:xfrm>
              <a:off x="941400" y="1003320"/>
              <a:ext cx="6288120" cy="1305000"/>
            </a:xfrm>
            <a:prstGeom prst="rect">
              <a:avLst/>
            </a:prstGeom>
            <a:solidFill>
              <a:srgbClr val="99ff3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hteck 11"/>
            <p:cNvSpPr/>
            <p:nvPr/>
          </p:nvSpPr>
          <p:spPr>
            <a:xfrm>
              <a:off x="941400" y="2308320"/>
              <a:ext cx="6288120" cy="65556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hteck 12"/>
            <p:cNvSpPr/>
            <p:nvPr/>
          </p:nvSpPr>
          <p:spPr>
            <a:xfrm>
              <a:off x="941400" y="2963880"/>
              <a:ext cx="6288120" cy="66672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Diagramm 2" descr=""/>
          <p:cNvPicPr/>
          <p:nvPr/>
        </p:nvPicPr>
        <p:blipFill>
          <a:blip r:embed="rId1"/>
          <a:stretch/>
        </p:blipFill>
        <p:spPr>
          <a:xfrm>
            <a:off x="96840" y="835200"/>
            <a:ext cx="8566200" cy="5187600"/>
          </a:xfrm>
          <a:prstGeom prst="rect">
            <a:avLst/>
          </a:prstGeom>
          <a:ln w="0">
            <a:noFill/>
          </a:ln>
        </p:spPr>
      </p:pic>
      <p:sp>
        <p:nvSpPr>
          <p:cNvPr id="571" name="Textfeld 3"/>
          <p:cNvSpPr/>
          <p:nvPr/>
        </p:nvSpPr>
        <p:spPr>
          <a:xfrm>
            <a:off x="213840" y="54000"/>
            <a:ext cx="640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shold  ABS Braking on S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Results  - ADAC Winter Tire Test 2009 in 205/55 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Geschweifte Klammer rechts 4"/>
          <p:cNvSpPr/>
          <p:nvPr/>
        </p:nvSpPr>
        <p:spPr>
          <a:xfrm>
            <a:off x="8066160" y="1623960"/>
            <a:ext cx="276120" cy="1747800"/>
          </a:xfrm>
          <a:custGeom>
            <a:avLst/>
            <a:gdLst>
              <a:gd name="textAreaLeft" fmla="*/ 0 w 276120"/>
              <a:gd name="textAreaRight" fmla="*/ 99720 w 276120"/>
              <a:gd name="textAreaTop" fmla="*/ 7200 h 1747800"/>
              <a:gd name="textAreaBottom" fmla="*/ 1740600 h 17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"/>
                  <a:pt x="10800" y="285"/>
                </a:cubicBezTo>
                <a:lnTo>
                  <a:pt x="10800" y="10515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3"/>
                  <a:pt x="10800" y="11085"/>
                </a:cubicBezTo>
                <a:lnTo>
                  <a:pt x="10800" y="21315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feld 5"/>
          <p:cNvSpPr/>
          <p:nvPr/>
        </p:nvSpPr>
        <p:spPr>
          <a:xfrm>
            <a:off x="8337600" y="234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12%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Geschweifte Klammer rechts 6"/>
          <p:cNvSpPr/>
          <p:nvPr/>
        </p:nvSpPr>
        <p:spPr>
          <a:xfrm>
            <a:off x="7209000" y="1641600"/>
            <a:ext cx="385560" cy="828720"/>
          </a:xfrm>
          <a:custGeom>
            <a:avLst/>
            <a:gdLst>
              <a:gd name="textAreaLeft" fmla="*/ 0 w 385560"/>
              <a:gd name="textAreaRight" fmla="*/ 139320 w 385560"/>
              <a:gd name="textAreaTop" fmla="*/ 10080 h 828720"/>
              <a:gd name="textAreaBottom" fmla="*/ 81864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1"/>
                  <a:pt x="10800" y="842"/>
                </a:cubicBezTo>
                <a:lnTo>
                  <a:pt x="10800" y="10267"/>
                </a:lnTo>
                <a:cubicBezTo>
                  <a:pt x="10800" y="10688"/>
                  <a:pt x="16200" y="11109"/>
                  <a:pt x="21600" y="11109"/>
                </a:cubicBezTo>
                <a:cubicBezTo>
                  <a:pt x="16200" y="11109"/>
                  <a:pt x="10800" y="11530"/>
                  <a:pt x="10800" y="11951"/>
                </a:cubicBezTo>
                <a:lnTo>
                  <a:pt x="10800" y="20758"/>
                </a:lnTo>
                <a:cubicBezTo>
                  <a:pt x="10800" y="21179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7"/>
          <p:cNvSpPr/>
          <p:nvPr/>
        </p:nvSpPr>
        <p:spPr>
          <a:xfrm>
            <a:off x="7569360" y="19098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6%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Gerade Verbindung 9"/>
          <p:cNvSpPr/>
          <p:nvPr/>
        </p:nvSpPr>
        <p:spPr>
          <a:xfrm flipH="1" flipV="1">
            <a:off x="7029360" y="33717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Gerade Verbindung 10"/>
          <p:cNvSpPr/>
          <p:nvPr/>
        </p:nvSpPr>
        <p:spPr>
          <a:xfrm flipH="1" flipV="1">
            <a:off x="7132680" y="16282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feld 11"/>
          <p:cNvSpPr/>
          <p:nvPr/>
        </p:nvSpPr>
        <p:spPr>
          <a:xfrm>
            <a:off x="7338240" y="5738760"/>
            <a:ext cx="1463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= recalculate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hteck 14"/>
          <p:cNvSpPr/>
          <p:nvPr/>
        </p:nvSpPr>
        <p:spPr>
          <a:xfrm>
            <a:off x="946080" y="2367000"/>
            <a:ext cx="6280200" cy="142920"/>
          </a:xfrm>
          <a:prstGeom prst="rect">
            <a:avLst/>
          </a:prstGeom>
          <a:solidFill>
            <a:srgbClr val="bbe0e3">
              <a:alpha val="4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Threshold area for Snowflake (~ 107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15"/>
          <p:cNvSpPr/>
          <p:nvPr/>
        </p:nvSpPr>
        <p:spPr>
          <a:xfrm rot="16200000">
            <a:off x="-1045800" y="311004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ow braking ABS [ADAC grad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7129440" y="228600"/>
            <a:ext cx="1785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STD-03-09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71680" y="200016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ests performed by Test World, ADAC and ETRTO shows that the threshold of 107 is challenging and good enough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mmer tyres from winter tyres which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ne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quired in ord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class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tyre in the category of use “snow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AE8D-9BF1-4B46-8278-41FAD8EFAC36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8:50:10Z</dcterms:created>
  <dc:creator>F079484</dc:creator>
  <dc:description/>
  <dc:language>en-US</dc:language>
  <cp:lastModifiedBy>Knowles</cp:lastModifiedBy>
  <cp:lastPrinted>2005-10-19T12:55:28Z</cp:lastPrinted>
  <dcterms:modified xsi:type="dcterms:W3CDTF">2010-06-04T12:37:21Z</dcterms:modified>
  <cp:revision>152</cp:revision>
  <dc:subject/>
  <dc:title>EU-25 CO2 emission reduction.  Potential of action through tyre-related solutions. 2008 - 20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6963263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GRRF/GRB tyre group </vt:lpwstr>
  </property>
  <property fmtid="{D5CDD505-2E9C-101B-9397-08002B2CF9AE}" pid="6" name="_NewReviewCycle">
    <vt:lpwstr/>
  </property>
</Properties>
</file>