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668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26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265F-0D7C-48F3-87D1-0D87FB6E65F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B38-602A-4FEE-AB36-1D559A2052C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8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333F-2ACE-4962-999E-6A21CCDED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2148-C6DC-4E99-A181-5686E88221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A1B38-9FB9-495A-8690-12D97B3E1A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568F6-2289-4AF3-A89B-2946BA3670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D28DF-9960-4FA5-A251-A97EC6E796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5423-65BF-4CC6-B08F-B1CC3C396D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5A342-8713-486F-93AE-E054A548BD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185D9-EBBC-4302-95BF-AE5BB93DDDD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CB844-AF46-4E6D-912B-AF69EAD86C1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3E84-472B-4D0B-91D1-4A63EE3B83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4F67-BB43-49A2-893A-78F9544007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58D8D-3A8A-4112-80B9-2D3509CB5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6895-CD70-415A-81CB-6BB0771FAB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2D43C-E619-4BB1-8DD9-272B8DB2B0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BBC4B-6EC9-47F1-AEF4-D88A2702E27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1DEE1-8009-4331-90D0-5FD82ABD4C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506C2-56CC-4BF2-9FBB-F7CBA076B0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54F55-DC77-4CCC-80C1-28EBC8F307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04BF8-B4C9-4A45-870B-0E56615F01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C9B38-0D95-41F4-A82B-88DE77DC8D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2E1FD-8BC7-46E3-8FF1-15B930EC2A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9862B-399C-4F72-BED5-FB26E2513E5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37485-66FE-4EB4-852D-E2246F10B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B27D-4798-428F-B231-A9EFF6C5D4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3664F-2A23-4BDD-A75C-6467EFE33C9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928E3-A0A3-4746-9FDD-5EF9A347C1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1A498-D808-45A7-BC2E-A8ABC76256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B2BDC7-57B5-4FC2-9225-545F02B1DE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02A898-83E5-44E9-8A33-0E667A22767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A5646-76F9-43C2-8E11-0DAA99A1149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4516CE-8A9C-491B-A4B7-5C7A5337A24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B47C25-5500-4CAE-8F3E-DF1E5E70EF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922E7-842A-437B-A6B5-688DAAC429C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C5B23B-D4A0-4ABF-BA81-3360322F6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07BFA-1F13-46E4-A38E-FC36AFA2108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BED15-49A2-4FA8-83CC-E2AA7374ADE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6736B8-449D-4A03-A95C-69D2EA62BD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0B07E-4FCC-4C85-B137-D5A52069B27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6B166-0901-4815-B5E7-273CB43C06C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B0DAB-6071-44B8-BDE2-E48AE5A005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F17CB-48D0-4321-9BE0-42688C47478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43F9-9352-46DB-A31F-913B1179EF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B234D-006F-4BC4-AF89-912777AA494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B3F8B-6F07-400E-8F1C-024ED33DFE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8A84-C486-43EA-AE7A-7A2EF07D31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01A13-C58B-4B42-A9EA-10F79C8F627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B503D-556E-4F8D-8158-4AFFF125EC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0C5B-D18B-4A75-A2C5-EF7899A54A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81014-B370-4727-A02C-047F2342D5D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F261C-1476-4FA5-AAAD-2E2E9BB8F1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77D5E-5D91-445E-B1D6-929D2439CA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8F758-8ECA-4B3B-A770-4628309FB7A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20244-7603-4D24-A869-8AC2F857A8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5DC97-EB6D-4FEB-8F34-3DCE55B652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D6A12-4B02-4D78-92EF-75DD7E7D5E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BBB8C-5C0F-4EE0-AFB4-C6CB45C79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56C1-10EA-43E6-8FE9-2935A1A96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F0D7-0AA7-4C64-9F7F-62E06E3153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02604-605D-4905-AD00-944A901DFA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33492-A63D-4E4E-A5F8-6CA4D2D5B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B145D-43D1-4C7E-9601-337DF0F946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7114-64FC-4968-8F88-6D560DF03F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F8D-7455-4341-8401-12376059AC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EACB-B2F1-477F-BB3F-21AC624AEE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4767-7F0A-4503-AC3A-FF178BF667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65BD-D1CD-4246-B71A-8979AF4193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DAE-7B3D-4BC4-9623-BF7C6F8E4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20E8-9D79-42AC-8B3A-76C3DED47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BBA-0339-4B69-B890-C3C27C1DFA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03A2-50F3-4A8C-8FC7-21CE4D82A9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02A-B77B-4BB0-9EB7-5BFAC16B94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5161-337E-438F-AE26-E64A87F59D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293-CB5A-46E6-AADF-49A45B71B9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14F-F513-4085-870F-3FE2E67B86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EA57-5159-40AC-8C7C-C992E2E7DF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CC35D-7E3B-438D-B4C5-556F76B900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46FA5-1B72-446E-A1FB-7859573680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137D9-3639-4F52-8AE0-B139526C2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438E-19F5-44C2-80C7-D4C2F2610D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AF2EE-6997-4812-9A5F-850F2C82BB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62AD6-6EAF-4533-AF8D-4DA7B08367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09B39-F046-40AD-9844-7F34A6ED1D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C6101-7496-43EC-8242-EEED4F1ED8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02538-2180-4F2E-A54A-2AE0F54319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3B1C3-4C43-4DAC-9504-AD15FA78A1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A1829-DC9E-4B92-B146-F75D345999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93085-A185-4438-928B-63CC9EBCAC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C9D95-E938-478C-957F-34EB7AB245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DCFBA-44F3-418E-8902-602C712B8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1F9E-B5A3-40CA-BABD-A02A622FB4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90AC8-74D6-4152-843F-21426DC82D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06D82-606D-44DE-B1A9-7FF5379CA0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7E3C1-FB81-4CD7-9F05-4B1EF905B2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D2485-2CAA-423D-8E96-4BF0B3A7CC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CA39A-AB13-427E-A948-1F293528E7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40DB1-5454-4FE0-90A5-CEB55F555C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42E09-9E68-4A17-8EE8-0D542397D5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BCC91-1A7A-4ED5-831C-D9F320445B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35BFF-2ABB-4389-BC6A-8122A7B2F2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0D3E8-BE02-4DA8-B2D7-229ABD3B4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4A94-B450-436F-8A0E-0C355BEAAF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829E8-4A96-40B1-842E-F1B4C05741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5A0B-91A1-4BA7-938A-094B3DA704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CA0A-1658-49F1-8D29-BDE2520F92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1CCA-498C-4DB1-B642-86CFD81F4D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BD445-7840-43B1-969D-A2E7C7DDB9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1FDF-19A1-43B7-A4B6-0895677543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8342-4569-4420-87D0-159BA5630C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8980-B58D-4B35-9A43-3BEA84AC65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2850-2F2E-47FD-B635-DCFBA85452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4F21-6A7A-4B6A-BFD5-B38953EBC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10CE-1F46-4B25-B6AF-D5F4582B50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8C2A7-7898-423E-95DA-D5BF5FBF68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1FD3-5A98-4B81-AFDB-AE0BDBDEE0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4A0E-321B-4E27-8E1A-3BA9521156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79ECD-3F98-4939-843B-84E6EE3F6B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2C435-00FA-4595-A198-5EE3D4D3C9D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7B021-807E-4AF1-9824-522C5359EB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513B2-5F05-4BE7-AFCE-C53FB7C834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FFB88-5DA4-4FF1-88C7-CE0DF8A4BA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CE0BD-5CDD-4744-B6AC-2FF6205FE8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44A77-FF08-4491-B785-59D1BE853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58BB-1E9F-429B-80C8-674D78C66C6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8A72A-F979-4E61-9CB0-88061940F4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03C77-A108-4BD7-859C-18EA24898D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D3206-ACA5-4175-B776-9EB3FEDDA2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CC844-7D82-4AFE-99B0-95C347E87C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5CC5C-0D78-4071-8684-74BC28DCB2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212F3-B8C9-49D6-B100-98B9B479981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A969D3-EC2C-4F21-A531-DA8020D63A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C32ED2-A17F-4E52-80E3-2D766959AF3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C3064C-F7B6-4D1B-ADFF-CBC64A3E9CF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CBB7D-291B-41B1-B743-9064C0ADB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D732-29B7-433B-BFB1-E1679F9A06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BF937B-D79F-4694-B13C-810D973B13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55A359-42EA-46E7-9309-3AC62D41DAB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EA802-2F3C-4E69-AC2A-1564F83870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B198A-1863-4063-A788-6C36F9AD6C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0AFEB-729E-4731-B2E1-882DB4302E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C1969-CCDC-4371-91D8-39D4CE8033D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18DCC-AEB8-4127-91A3-6836A6BE687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E45C-77B4-40CD-975F-E60ED1F7BA9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F68E-A045-40AB-9F20-64CDFC8BD3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00E96-74EE-4AC2-BB7B-132AA2A8A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F2D1-39E4-4801-817C-414E8FF53F16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6D1-CCD1-4865-8C2B-B2CA90B7B583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69E3-C8DA-4A88-8BCA-D7A0DF31D9CC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EC0A-D97B-4F2B-AF39-CF6BFCE39D8F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73E4-572B-433C-B1EA-1AB30DE51B1C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0E31-85AA-4A6A-A22E-AA328C95200A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89A8-FAA2-4130-8471-CD597AF96256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93A0-F884-4240-9031-922D69687139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E92-F1B0-4DB6-BAF5-513B2F7E2A2B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BF1F-80B9-4B8B-8879-13F6A778A496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033C-3666-4808-A144-7882A362866D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78483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C507-5137-4382-BC6D-8EFCCD75982F}" type="slidenum"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85EB-8FBB-4A55-941C-BE1395ABB9C6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Object 8"/>
          <p:cNvGraphicFramePr/>
          <p:nvPr/>
        </p:nvGraphicFramePr>
        <p:xfrm>
          <a:off x="6877080" y="228600"/>
          <a:ext cx="2114640" cy="202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228600"/>
                    <a:ext cx="21146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35720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D-04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RTO comments on Inf. Document GRB-51-25 from No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Worl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A19F-0F4A-45FE-BA50-AD6B85F4168C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642960" y="1643040"/>
          <a:ext cx="78087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643040"/>
                    <a:ext cx="78087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Worl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st results of Test World are questionable at the temperature -8,5°C. Indeed the tests results are significantly different from the results at -8.1°C and from all the other values and cannot be expl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removing this column, tests results in average are in line with the tests results of ADAC and show that Nordic tyres are performing the best , then the winter tyres followed by All Seasons ty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1680-DBC0-4672-AF5B-7D9D74C09DE9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Worl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7ABE-60C1-4817-BA78-B2EEDE17B9AD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2"/>
          <p:cNvGraphicFramePr/>
          <p:nvPr/>
        </p:nvGraphicFramePr>
        <p:xfrm>
          <a:off x="714240" y="1571760"/>
          <a:ext cx="7750440" cy="46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571760"/>
                    <a:ext cx="775044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RTO 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World testing results are based on one tyre size (205/55R16). The same size measured during the TI round robin test confirm the value of the ContiVickingContact compared to Test World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F5C-9648-4EE5-AD8A-C8BD280287A8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RTO 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78AD-E65A-488F-BA06-61283DE1690B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642960" y="1500120"/>
          <a:ext cx="8001000" cy="440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500120"/>
                    <a:ext cx="800100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uppieren 13"/>
          <p:cNvGrpSpPr/>
          <p:nvPr/>
        </p:nvGrpSpPr>
        <p:grpSpPr>
          <a:xfrm>
            <a:off x="941400" y="1003320"/>
            <a:ext cx="6288120" cy="2627280"/>
            <a:chOff x="941400" y="1003320"/>
            <a:chExt cx="6288120" cy="2627280"/>
          </a:xfrm>
        </p:grpSpPr>
        <p:sp>
          <p:nvSpPr>
            <p:cNvPr id="567" name="Rechteck 10"/>
            <p:cNvSpPr/>
            <p:nvPr/>
          </p:nvSpPr>
          <p:spPr>
            <a:xfrm>
              <a:off x="941400" y="1003320"/>
              <a:ext cx="6288120" cy="1305000"/>
            </a:xfrm>
            <a:prstGeom prst="rect">
              <a:avLst/>
            </a:prstGeom>
            <a:solidFill>
              <a:srgbClr val="99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hteck 11"/>
            <p:cNvSpPr/>
            <p:nvPr/>
          </p:nvSpPr>
          <p:spPr>
            <a:xfrm>
              <a:off x="941400" y="2308320"/>
              <a:ext cx="6288120" cy="65556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hteck 12"/>
            <p:cNvSpPr/>
            <p:nvPr/>
          </p:nvSpPr>
          <p:spPr>
            <a:xfrm>
              <a:off x="941400" y="2963880"/>
              <a:ext cx="6288120" cy="66672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Diagramm 2" descr=""/>
          <p:cNvPicPr/>
          <p:nvPr/>
        </p:nvPicPr>
        <p:blipFill>
          <a:blip r:embed="rId1"/>
          <a:stretch/>
        </p:blipFill>
        <p:spPr>
          <a:xfrm>
            <a:off x="96840" y="835200"/>
            <a:ext cx="8566200" cy="5187600"/>
          </a:xfrm>
          <a:prstGeom prst="rect">
            <a:avLst/>
          </a:prstGeom>
          <a:ln w="0">
            <a:noFill/>
          </a:ln>
        </p:spPr>
      </p:pic>
      <p:sp>
        <p:nvSpPr>
          <p:cNvPr id="571" name="Textfeld 3"/>
          <p:cNvSpPr/>
          <p:nvPr/>
        </p:nvSpPr>
        <p:spPr>
          <a:xfrm>
            <a:off x="213840" y="54000"/>
            <a:ext cx="640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  ABS Braking on S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Results  - ADAC Winter Tire Test 2009 in 205/55 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Geschweifte Klammer rechts 4"/>
          <p:cNvSpPr/>
          <p:nvPr/>
        </p:nvSpPr>
        <p:spPr>
          <a:xfrm>
            <a:off x="8066160" y="1623960"/>
            <a:ext cx="276120" cy="1747800"/>
          </a:xfrm>
          <a:custGeom>
            <a:avLst/>
            <a:gdLst>
              <a:gd name="textAreaLeft" fmla="*/ 0 w 276120"/>
              <a:gd name="textAreaRight" fmla="*/ 99720 w 276120"/>
              <a:gd name="textAreaTop" fmla="*/ 7200 h 1747800"/>
              <a:gd name="textAreaBottom" fmla="*/ 174060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"/>
                  <a:pt x="10800" y="285"/>
                </a:cubicBezTo>
                <a:lnTo>
                  <a:pt x="10800" y="10515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3"/>
                  <a:pt x="10800" y="11085"/>
                </a:cubicBezTo>
                <a:lnTo>
                  <a:pt x="10800" y="21315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feld 5"/>
          <p:cNvSpPr/>
          <p:nvPr/>
        </p:nvSpPr>
        <p:spPr>
          <a:xfrm>
            <a:off x="8337600" y="234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12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Geschweifte Klammer rechts 6"/>
          <p:cNvSpPr/>
          <p:nvPr/>
        </p:nvSpPr>
        <p:spPr>
          <a:xfrm>
            <a:off x="7209000" y="1641600"/>
            <a:ext cx="385560" cy="828720"/>
          </a:xfrm>
          <a:custGeom>
            <a:avLst/>
            <a:gdLst>
              <a:gd name="textAreaLeft" fmla="*/ 0 w 385560"/>
              <a:gd name="textAreaRight" fmla="*/ 139320 w 385560"/>
              <a:gd name="textAreaTop" fmla="*/ 10080 h 828720"/>
              <a:gd name="textAreaBottom" fmla="*/ 8186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1"/>
                  <a:pt x="10800" y="842"/>
                </a:cubicBezTo>
                <a:lnTo>
                  <a:pt x="10800" y="10267"/>
                </a:lnTo>
                <a:cubicBezTo>
                  <a:pt x="10800" y="10688"/>
                  <a:pt x="16200" y="11109"/>
                  <a:pt x="21600" y="11109"/>
                </a:cubicBezTo>
                <a:cubicBezTo>
                  <a:pt x="16200" y="11109"/>
                  <a:pt x="10800" y="11530"/>
                  <a:pt x="10800" y="11951"/>
                </a:cubicBezTo>
                <a:lnTo>
                  <a:pt x="10800" y="20758"/>
                </a:lnTo>
                <a:cubicBezTo>
                  <a:pt x="10800" y="21179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7"/>
          <p:cNvSpPr/>
          <p:nvPr/>
        </p:nvSpPr>
        <p:spPr>
          <a:xfrm>
            <a:off x="7569360" y="19098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6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Gerade Verbindung 9"/>
          <p:cNvSpPr/>
          <p:nvPr/>
        </p:nvSpPr>
        <p:spPr>
          <a:xfrm flipH="1" flipV="1">
            <a:off x="7029360" y="33717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Gerade Verbindung 10"/>
          <p:cNvSpPr/>
          <p:nvPr/>
        </p:nvSpPr>
        <p:spPr>
          <a:xfrm flipH="1" flipV="1">
            <a:off x="7132680" y="16282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feld 11"/>
          <p:cNvSpPr/>
          <p:nvPr/>
        </p:nvSpPr>
        <p:spPr>
          <a:xfrm>
            <a:off x="7338240" y="5738760"/>
            <a:ext cx="146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= recalculate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hteck 14"/>
          <p:cNvSpPr/>
          <p:nvPr/>
        </p:nvSpPr>
        <p:spPr>
          <a:xfrm>
            <a:off x="946080" y="2367000"/>
            <a:ext cx="6280200" cy="142920"/>
          </a:xfrm>
          <a:prstGeom prst="rect">
            <a:avLst/>
          </a:prstGeom>
          <a:solidFill>
            <a:srgbClr val="bbe0e3">
              <a:alpha val="4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Threshold area for Snowflake (~ 107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15"/>
          <p:cNvSpPr/>
          <p:nvPr/>
        </p:nvSpPr>
        <p:spPr>
          <a:xfrm rot="16200000">
            <a:off x="-1045800" y="311004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ow braking ABS [ADAC grad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7129440" y="228600"/>
            <a:ext cx="1785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STD-03-09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71680" y="200016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ests performed by Test World, ADAC and ETRTO shows that the threshold of 107 is challenging and good enough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mmer tyres from winter tyres which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ne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ed in ord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classif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tyre in the category of use “snow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Espace réservé du pied de page 3"/>
          <p:cNvSpPr/>
          <p:nvPr/>
        </p:nvSpPr>
        <p:spPr>
          <a:xfrm>
            <a:off x="16765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 h e   E u r o p e a n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y r e   a n d   R i m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T e c h n i c a l   O r g a n i s a t i o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space réservé du numéro de diapositive 4"/>
          <p:cNvSpPr/>
          <p:nvPr/>
        </p:nvSpPr>
        <p:spPr>
          <a:xfrm>
            <a:off x="784872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6D2E-071A-4AE7-B85D-E80F19245C65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8:50:10Z</dcterms:created>
  <dc:creator>F079484</dc:creator>
  <dc:description/>
  <dc:language>en-US</dc:language>
  <cp:lastModifiedBy>Knowles</cp:lastModifiedBy>
  <cp:lastPrinted>2005-10-19T12:55:28Z</cp:lastPrinted>
  <dcterms:modified xsi:type="dcterms:W3CDTF">2010-06-04T12:37:21Z</dcterms:modified>
  <cp:revision>152</cp:revision>
  <dc:subject/>
  <dc:title>EU-25 CO2 emission reduction.  Potential of action through tyre-related solutions. 2008 - 20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6963263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GRRF/GRB tyre group </vt:lpwstr>
  </property>
  <property fmtid="{D5CDD505-2E9C-101B-9397-08002B2CF9AE}" pid="6" name="_NewReviewCycle">
    <vt:lpwstr/>
  </property>
</Properties>
</file>