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7200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7005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1920" y="3785760"/>
            <a:ext cx="7005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840" y="167652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1920" y="378576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51840" y="378576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2255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0360" y="1676520"/>
            <a:ext cx="2255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160" y="1676520"/>
            <a:ext cx="2255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1920" y="3785760"/>
            <a:ext cx="2255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0360" y="3785760"/>
            <a:ext cx="2255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160" y="3785760"/>
            <a:ext cx="2255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1920" y="1676520"/>
            <a:ext cx="7005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7005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3418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51840" y="1676520"/>
            <a:ext cx="3418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39960" y="250920"/>
            <a:ext cx="702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1840" y="1676520"/>
            <a:ext cx="3418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1920" y="378576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3418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1840" y="167652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1840" y="378576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1840" y="1676520"/>
            <a:ext cx="34185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1920" y="3785760"/>
            <a:ext cx="7005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1920" y="1676520"/>
            <a:ext cx="7005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3440" y="292068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n-NO" sz="2800" spc="-1" strike="noStrike">
                <a:solidFill>
                  <a:srgbClr val="000000"/>
                </a:solidFill>
                <a:latin typeface="Verdana"/>
              </a:rPr>
              <a:t>STD-04-09</a:t>
            </a:r>
            <a:br>
              <a:rPr sz="2800"/>
            </a:br>
            <a:br>
              <a:rPr sz="2800"/>
            </a:br>
            <a:r>
              <a:rPr b="0" lang="nn-NO" sz="2800" spc="-1" strike="noStrike">
                <a:solidFill>
                  <a:srgbClr val="000000"/>
                </a:solidFill>
                <a:latin typeface="Verdana"/>
              </a:rPr>
              <a:t>Snow braking and ice braking tests</a:t>
            </a:r>
            <a:br>
              <a:rPr sz="2800"/>
            </a:br>
            <a:br>
              <a:rPr sz="2800"/>
            </a:br>
            <a:r>
              <a:rPr b="0" lang="nn-NO" sz="2000" spc="-1" strike="noStrike">
                <a:solidFill>
                  <a:srgbClr val="000000"/>
                </a:solidFill>
                <a:latin typeface="Verdana"/>
              </a:rPr>
              <a:t>Test World Ltd, Fin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More about the snow tests:</a:t>
            </a:r>
            <a:br>
              <a:rPr sz="2800"/>
            </a:b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why peaks when the temperature is the sa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8200" y="1206360"/>
            <a:ext cx="718344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now braking two different days</a:t>
            </a: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at -8.5/-7.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°C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 and at -8.2/-8.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°C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2054160"/>
          <a:ext cx="5649840" cy="348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4160"/>
                    <a:ext cx="564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99000" y="2098800"/>
            <a:ext cx="454500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now braking – variation SR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20800" y="1386000"/>
            <a:ext cx="7927920" cy="50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tyres and temperatur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the SRTT 14 varies m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800" y="1405080"/>
            <a:ext cx="797904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tyres and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08120" y="1523880"/>
            <a:ext cx="7885080" cy="455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97280" y="2540160"/>
            <a:ext cx="901800" cy="1079280"/>
          </a:xfrm>
          <a:prstGeom prst="ellipse">
            <a:avLst/>
          </a:prstGeom>
          <a:noFill/>
          <a:ln w="381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7005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aking performance on wet asphalt and on ice are contradictory qua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behaviour of the reference tyres varies more than desir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is vital to do the snow braking tests more than once. Probably at least 3 times, each in different day and temperature. The average would give a good view of the tyre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en tested only once, it is possible to get almost any result for a certain tyre.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get a correct general impression of a tyre one needs information about braking performance on both snow, ice and we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7005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st the performance of 8 winter tyres, consisting of tyres designed for both Nordic and milder winters, and to compare them with the SRTT 14’ and the ASTM 16’ ty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d the performance levels of different tyre 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d the performance limits of premium and low quality ty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eck the performance on ice, snow and wet aspha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st the effect of test conditions, having tests made in a range of different temper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ave information about the reproducibility, by repeating the tests also in same temper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5320" y="250920"/>
            <a:ext cx="7715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Verdana"/>
              </a:rPr>
              <a:t>Snow braking at different temperatures, </a:t>
            </a:r>
            <a:r>
              <a:rPr b="0" lang="nn-NO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nn-NO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6000" y="900000"/>
            <a:ext cx="8750160" cy="59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03440" y="1828800"/>
            <a:ext cx="1320840" cy="30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0 km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78280" y="17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89520" y="1625760"/>
            <a:ext cx="13842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0 km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270080"/>
            <a:ext cx="546120" cy="459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0 km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9840" y="1333440"/>
            <a:ext cx="520920" cy="459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km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52560" y="393840"/>
            <a:ext cx="83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Ice braking at different temperatures, </a:t>
            </a:r>
            <a:r>
              <a:rPr b="0" lang="nn-NO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2760" y="1041480"/>
            <a:ext cx="89312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32520" y="1523880"/>
            <a:ext cx="546120" cy="459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0 km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511280"/>
            <a:ext cx="520560" cy="459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km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8240" y="2400480"/>
            <a:ext cx="1320840" cy="30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0 km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62440" y="2006640"/>
            <a:ext cx="13842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0 km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Braking on wet surf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6920" y="973080"/>
          <a:ext cx="8947080" cy="512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973080"/>
                    <a:ext cx="894708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390840" y="1689120"/>
            <a:ext cx="2006640" cy="330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uropean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75320" y="1981080"/>
            <a:ext cx="1981080" cy="330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Nordic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Verdana"/>
              </a:rPr>
              <a:t>Results: snow and ice br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1920" y="1676520"/>
            <a:ext cx="7005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ain challenge is that in some tests and conditions, some tyres behave very differently, but only so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emperatures have an effect for the above, but not always. The conditions have different effect to different tyres. Some tyres perform better in low temperatures, some in high temper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ain conclusion is that it is vital to do the tests more than once. Probably at least 3 times, each in different day and temperature. The average would give a good view of the tyre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en tested only once, it is possible to get almost any result for a certain tyre.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Average results – snow br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360" y="1320840"/>
            <a:ext cx="8405640" cy="5079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09960" y="1955880"/>
            <a:ext cx="1663560" cy="330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European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49840" y="1981080"/>
            <a:ext cx="1676520" cy="330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Nordic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Average results – ice br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9240" y="1273320"/>
            <a:ext cx="8924760" cy="5584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74840" y="1955880"/>
            <a:ext cx="1663920" cy="330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European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498680"/>
            <a:ext cx="1676520" cy="33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Nordic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9960" y="250920"/>
            <a:ext cx="702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Average results - braking on wet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3120" y="1270080"/>
            <a:ext cx="8840880" cy="534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83160" y="1549440"/>
            <a:ext cx="2006280" cy="330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uropean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54680" y="1968480"/>
            <a:ext cx="1803600" cy="33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Nordic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3:00:14Z</dcterms:created>
  <dc:creator>ingmil</dc:creator>
  <dc:description>Mal basert på "opplorg.ppt" fra Vdr</dc:description>
  <cp:keywords/>
  <dc:language>en-US</dc:language>
  <cp:lastModifiedBy>Knowles</cp:lastModifiedBy>
  <cp:lastPrinted>2009-04-22T19:24:48Z</cp:lastPrinted>
  <dcterms:modified xsi:type="dcterms:W3CDTF">2010-05-25T06:51:24Z</dcterms:modified>
  <cp:revision>15</cp:revision>
  <dc:subject>Presentasjonsmal Statens vegvesen</dc:subject>
  <dc:title>Lysbil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16563584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GRB/GRRF tyre meeting </vt:lpwstr>
  </property>
  <property fmtid="{D5CDD505-2E9C-101B-9397-08002B2CF9AE}" pid="6" name="_NewReviewCycle">
    <vt:lpwstr/>
  </property>
</Properties>
</file>