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19913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D88-91BC-4CD1-82E0-E3DE7C07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921-ACC9-46CA-AB8E-5CB48F93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B50-151F-4DE5-8B59-9C5C4963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0EB-EC2E-4B44-B783-9420DF1B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5A3-55BF-493D-8F90-CD3369E2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EAE-9712-4265-A346-7FC6FD54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37F-523D-418B-B924-FFA89673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254-1099-4FF0-85F8-844216BF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A42-1027-4C22-9391-04240398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7A7-84A0-4805-918D-C2D9FF83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13E-27D4-40ED-9D76-F30ACB22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D63-BC5C-46EB-A45C-B9515041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06F3-83F8-4408-9293-031F300257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d/Japan_flag_-_variant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commons/6/6d/Japan_flag_-_variant.pn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peerproject.eu/fileadmin/templates/peer/img/Euro_Flag.pn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d/Japan_flag_-_variant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commons/6/6d/Japan_flag_-_variant.png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peerproject.eu/fileadmin/templates/peer/img/Euro_Flag.pn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5"/>
          <p:cNvSpPr/>
          <p:nvPr/>
        </p:nvSpPr>
        <p:spPr>
          <a:xfrm>
            <a:off x="2124000" y="1125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approaches for introducing AEB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124000" y="1916280"/>
          <a:ext cx="5896080" cy="2700000"/>
        </p:xfrm>
        <a:graphic>
          <a:graphicData uri="http://schemas.openxmlformats.org/drawingml/2006/table">
            <a:tbl>
              <a:tblPr/>
              <a:tblGrid>
                <a:gridCol w="1965240"/>
                <a:gridCol w="1965600"/>
                <a:gridCol w="1965240"/>
              </a:tblGrid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3/N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ng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onar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ision mi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ision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oi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23"/>
          <p:cNvSpPr/>
          <p:nvPr/>
        </p:nvSpPr>
        <p:spPr>
          <a:xfrm>
            <a:off x="6300720" y="4428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ormal document No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RF-68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68th GRRF, 21-23 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enda item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5"/>
          <p:cNvSpPr/>
          <p:nvPr/>
        </p:nvSpPr>
        <p:spPr>
          <a:xfrm>
            <a:off x="2340000" y="112536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approaches for introducing AEB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11280" y="2060640"/>
          <a:ext cx="5896080" cy="2700360"/>
        </p:xfrm>
        <a:graphic>
          <a:graphicData uri="http://schemas.openxmlformats.org/drawingml/2006/table">
            <a:tbl>
              <a:tblPr/>
              <a:tblGrid>
                <a:gridCol w="1965600"/>
                <a:gridCol w="1965240"/>
                <a:gridCol w="1965240"/>
              </a:tblGrid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3/N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ng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onar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ision mi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ision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oi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Picture 23" descr="File:Japan flag - variant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3068640"/>
            <a:ext cx="1081080" cy="75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Picture 24" descr="File:Japan flag - variant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068640"/>
            <a:ext cx="1081080" cy="75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25" descr="Vollbild anzeige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3933720"/>
            <a:ext cx="108576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5"/>
          <p:cNvSpPr/>
          <p:nvPr/>
        </p:nvSpPr>
        <p:spPr>
          <a:xfrm>
            <a:off x="1835280" y="112536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approaches for introducing A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908000" y="2060640"/>
          <a:ext cx="5896080" cy="2700360"/>
        </p:xfrm>
        <a:graphic>
          <a:graphicData uri="http://schemas.openxmlformats.org/drawingml/2006/table">
            <a:tbl>
              <a:tblPr/>
              <a:tblGrid>
                <a:gridCol w="1965600"/>
                <a:gridCol w="1965240"/>
                <a:gridCol w="1965240"/>
              </a:tblGrid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3/N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ng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onar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ision mi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ision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oi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23" descr="File:Japan flag - variant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068640"/>
            <a:ext cx="1081080" cy="75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24" descr="File:Japan flag - variant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3068640"/>
            <a:ext cx="1081080" cy="75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Picture 25" descr="Vollbild anzeige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3933720"/>
            <a:ext cx="108576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Rectangle 26"/>
          <p:cNvSpPr/>
          <p:nvPr/>
        </p:nvSpPr>
        <p:spPr>
          <a:xfrm>
            <a:off x="179280" y="2997360"/>
            <a:ext cx="7632720" cy="90000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endment to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tio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79280" y="3860640"/>
            <a:ext cx="5688000" cy="90036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New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3635280" y="1557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6012000" y="5373720"/>
            <a:ext cx="1800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/N2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 flipH="1" flipV="1">
            <a:off x="5724000" y="3573000"/>
            <a:ext cx="863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588000" y="3573000"/>
            <a:ext cx="863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34"/>
          <p:cNvCxnSpPr/>
          <p:nvPr/>
        </p:nvCxnSpPr>
        <p:spPr>
          <a:xfrm flipH="1" rot="16200000">
            <a:off x="3835440" y="3806640"/>
            <a:ext cx="900720" cy="2160"/>
          </a:xfrm>
          <a:prstGeom prst="curvedConnector5">
            <a:avLst>
              <a:gd name="adj1" fmla="val -25389"/>
              <a:gd name="adj2" fmla="val -8440000"/>
              <a:gd name="adj3" fmla="val -253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5"/>
          <p:cNvSpPr/>
          <p:nvPr/>
        </p:nvSpPr>
        <p:spPr>
          <a:xfrm>
            <a:off x="1835280" y="112536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approaches for introducing A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08000" y="3068640"/>
          <a:ext cx="5896080" cy="2700360"/>
        </p:xfrm>
        <a:graphic>
          <a:graphicData uri="http://schemas.openxmlformats.org/drawingml/2006/table">
            <a:tbl>
              <a:tblPr/>
              <a:tblGrid>
                <a:gridCol w="1965600"/>
                <a:gridCol w="1965240"/>
                <a:gridCol w="1965240"/>
              </a:tblGrid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3/N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ng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onar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ision mi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ision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oi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23" descr="File:Japan flag - variant.png"/>
          <p:cNvPicPr/>
          <p:nvPr/>
        </p:nvPicPr>
        <p:blipFill>
          <a:blip r:embed="rId1"/>
          <a:stretch/>
        </p:blipFill>
        <p:spPr>
          <a:xfrm>
            <a:off x="4284720" y="4076640"/>
            <a:ext cx="1081080" cy="7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24" descr="File:Japan flag - variant.png"/>
          <p:cNvPicPr/>
          <p:nvPr/>
        </p:nvPicPr>
        <p:blipFill>
          <a:blip r:embed="rId2"/>
          <a:stretch/>
        </p:blipFill>
        <p:spPr>
          <a:xfrm>
            <a:off x="6156360" y="4076640"/>
            <a:ext cx="1081080" cy="7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25" descr="Vollbild anzeigen"/>
          <p:cNvPicPr/>
          <p:nvPr/>
        </p:nvPicPr>
        <p:blipFill>
          <a:blip r:embed="rId3"/>
          <a:stretch/>
        </p:blipFill>
        <p:spPr>
          <a:xfrm>
            <a:off x="4284720" y="4941720"/>
            <a:ext cx="108576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Text Box 28"/>
          <p:cNvSpPr/>
          <p:nvPr/>
        </p:nvSpPr>
        <p:spPr>
          <a:xfrm>
            <a:off x="3635280" y="1557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1"/>
          <p:cNvSpPr/>
          <p:nvPr/>
        </p:nvSpPr>
        <p:spPr>
          <a:xfrm>
            <a:off x="3851280" y="2205000"/>
            <a:ext cx="1944720" cy="3529080"/>
          </a:xfrm>
          <a:prstGeom prst="rect">
            <a:avLst/>
          </a:prstGeom>
          <a:solidFill>
            <a:srgbClr val="bbe0e3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2"/>
          <p:cNvSpPr/>
          <p:nvPr/>
        </p:nvSpPr>
        <p:spPr>
          <a:xfrm>
            <a:off x="5867280" y="2205000"/>
            <a:ext cx="1944720" cy="2664000"/>
          </a:xfrm>
          <a:prstGeom prst="rect">
            <a:avLst/>
          </a:prstGeom>
          <a:solidFill>
            <a:srgbClr val="bbe0e3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755640" y="1800360"/>
            <a:ext cx="1800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/N2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4"/>
          <p:cNvSpPr/>
          <p:nvPr/>
        </p:nvSpPr>
        <p:spPr>
          <a:xfrm>
            <a:off x="2050920" y="2708280"/>
            <a:ext cx="20178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2050920" y="2708280"/>
            <a:ext cx="39610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37"/>
          <p:cNvCxnSpPr/>
          <p:nvPr/>
        </p:nvCxnSpPr>
        <p:spPr>
          <a:xfrm flipH="1" rot="16200000">
            <a:off x="4914720" y="4885920"/>
            <a:ext cx="900720" cy="2520"/>
          </a:xfrm>
          <a:prstGeom prst="curvedConnector5">
            <a:avLst>
              <a:gd name="adj1" fmla="val -25389"/>
              <a:gd name="adj2" fmla="val 8800000"/>
              <a:gd name="adj3" fmla="val -253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4:51:47Z</dcterms:created>
  <dc:creator>Claire Rees</dc:creator>
  <dc:description/>
  <dc:language>en-US</dc:language>
  <cp:lastModifiedBy>Gangonells</cp:lastModifiedBy>
  <dcterms:modified xsi:type="dcterms:W3CDTF">2010-09-28T07:55:32Z</dcterms:modified>
  <cp:revision>25</cp:revision>
  <dc:subject/>
  <dc:title>Slide 1</dc:title>
</cp:coreProperties>
</file>