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118-5A38-4CD2-A5EE-F2597CE9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7C0-AE11-497B-9825-4D261C91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FEE-88B3-439E-8AF9-A5171CA0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53A-C8A8-4D73-90AF-D5FAB46D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3E3-BFD3-44FD-8BDA-21361F3D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731-60C6-4B23-A8C3-E83C614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86A-4201-4DA6-A98F-D923A6F1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04E-824B-4F14-9D68-BE38BF30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C0F-4CA5-4A35-9577-9DBBAAE9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3C2-F57A-4868-BCDA-23B1012D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17A-E484-4B4F-8876-7B17140A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254-6DA0-44CD-8771-EBE55298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4FEB-F78B-4590-9E4F-063232DCD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vdc.org/recent_papers/Energy_Consumption_2009-09-23.pdf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49360"/>
            <a:ext cx="554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ing documen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document No. GRRF-68-09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322280"/>
            <a:ext cx="856908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w applications involving the brake system are constantly approach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the close perspective: Fully Automatic Coupling Systems, F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a bit more distant perspective: “Totally Integrated Vehicle Combination Control Systems”, (TIVC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GRRF has previously got information about FA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VCCS involves control of propulsion, braking, handling, … for the entire vehicle combin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 Project description summary “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ed control of Propulsion,Braking and steering of Long Modular Vehicle Combination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”, Reg. no. 2009-004340 with the Swedish Energy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is will include regenerative braking and propulsion in the trailers. For regenerative braking in general for commercial vehicles se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vdc.org/recent_papers/Energy_Consumption_2009-09-23.pdf</a:t>
            </a:r>
            <a:r>
              <a:rPr b="0" lang="sv-S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se emerging application have in common that they are incompatible with the ISO7638 connec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4428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Sw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00720" y="4428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document No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RF-68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8th GRRF, 21-23 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da item 3(e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8244000" y="4365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549360"/>
            <a:ext cx="554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ing documen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document No. GRRF-68-09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322280"/>
            <a:ext cx="871200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pos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ECE Regulation 13 more robust and resilient to take on these emergent challen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the definition section add definitions of the braking related signals handled through ISO7638 to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to remedy the lack of nomenclature causing ISO7638 “litter” all parts of the R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 a consequence nearly all references to ISO7638 are replaced with signal re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paragraphs are added to describe how the braking related signals shall be handled saf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ditional couplings stay with ISO763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S get strict requirements both for physical requirements and handling to prevent electrical coupling errors. Eventually standards like the in progress ISO13044-x will a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 TIVCCS come along a special paragraph will be added to rule how the braking/propulsion related signals are handl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me new signals relevant may need to be def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remainder of the regulation text will stay unchang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428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Sw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49360"/>
            <a:ext cx="554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ing documen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document No. GRRF-68-09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322280"/>
            <a:ext cx="871200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Justific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technology applications will call for a more versatile handling of braking related sig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urrent way to use ISO7638 as an implicit definition of nomenclature for braking related signals has worked f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ep these benefits by the introduction of explicit definition of nomencla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this way we avoid exemption texts for new applications at all places where the implicit definition would have been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new applications come along as it will, only limited changes to the R13 text will be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explicit definition of nomenclature may occasionally need to b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specific paragraph addressing the new application requirements would be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ll focus on the risks and merits of the particular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isting applications remain un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is the right time to act on this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ges will inevitably be needed sooner rather then la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w the complexity is “small” which reduces risk with doing the chan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28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Sw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59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549360"/>
            <a:ext cx="554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ing documen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document No. GRRF-68-09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421000"/>
            <a:ext cx="87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ank you for your attention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4428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Sw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549360"/>
            <a:ext cx="554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ing documen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document No. GRRF-68-09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42100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 U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428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Sw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549360"/>
            <a:ext cx="554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ing documen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document No. GRRF-68-09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428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Sw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1413000"/>
          <a:ext cx="3782880" cy="48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413000"/>
                    <a:ext cx="378288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7093080" y="357336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10800"/>
                </a:moveTo>
                <a:lnTo>
                  <a:pt x="20483" y="3794"/>
                </a:lnTo>
                <a:lnTo>
                  <a:pt x="204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49360"/>
            <a:ext cx="554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ing documen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document No. GRRF-68-09 </a:t>
            </a: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428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by the experts from Sw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42920" y="263700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7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340000" y="2565360"/>
          <a:ext cx="914400" cy="71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5653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564000" y="2492280"/>
          <a:ext cx="914400" cy="71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24922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>
            <a:hlinkClick r:id="rId7" action="ppaction://hlinksldjump"/>
          </p:cNvPr>
          <p:cNvSpPr/>
          <p:nvPr/>
        </p:nvSpPr>
        <p:spPr>
          <a:xfrm>
            <a:off x="5076720" y="263700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7493"/>
                </a:moveTo>
                <a:lnTo>
                  <a:pt x="15479" y="7493"/>
                </a:lnTo>
                <a:lnTo>
                  <a:pt x="15479" y="12828"/>
                </a:lnTo>
                <a:cubicBezTo>
                  <a:pt x="15479" y="13751"/>
                  <a:pt x="16280" y="14482"/>
                  <a:pt x="17315" y="14482"/>
                </a:cubicBezTo>
                <a:lnTo>
                  <a:pt x="18978" y="14482"/>
                </a:lnTo>
                <a:cubicBezTo>
                  <a:pt x="20013" y="14482"/>
                  <a:pt x="20814" y="13751"/>
                  <a:pt x="20814" y="12828"/>
                </a:cubicBezTo>
                <a:lnTo>
                  <a:pt x="20814" y="7493"/>
                </a:lnTo>
                <a:lnTo>
                  <a:pt x="18978" y="7493"/>
                </a:lnTo>
                <a:lnTo>
                  <a:pt x="22485" y="3985"/>
                </a:lnTo>
                <a:lnTo>
                  <a:pt x="26158" y="7493"/>
                </a:lnTo>
                <a:lnTo>
                  <a:pt x="24322" y="7493"/>
                </a:lnTo>
                <a:lnTo>
                  <a:pt x="24322" y="12828"/>
                </a:lnTo>
                <a:cubicBezTo>
                  <a:pt x="24322" y="15596"/>
                  <a:pt x="21745" y="18155"/>
                  <a:pt x="18978" y="18155"/>
                </a:cubicBezTo>
                <a:lnTo>
                  <a:pt x="17315" y="18155"/>
                </a:lnTo>
                <a:cubicBezTo>
                  <a:pt x="14548" y="18155"/>
                  <a:pt x="11971" y="15596"/>
                  <a:pt x="1197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5:36:26Z</dcterms:created>
  <dc:creator>Jennison</dc:creator>
  <dc:description/>
  <dc:language>en-US</dc:language>
  <cp:lastModifiedBy>Gangonells</cp:lastModifiedBy>
  <dcterms:modified xsi:type="dcterms:W3CDTF">2010-09-23T07:08:48Z</dcterms:modified>
  <cp:revision>20</cp:revision>
  <dc:subject/>
  <dc:title>Slide 1</dc:title>
</cp:coreProperties>
</file>