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0F2-8A68-45F5-BA58-386C97F3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0D4-D5F4-4B60-B8C5-16BA67E7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3DE-2A51-4348-938F-BE1138F2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655-43AB-49F6-9C09-1A708F6B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2E4-6E24-4307-B644-CBEA5D74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0AC-D091-4CED-B1AD-118B989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926-BF15-487D-AF7E-BA9C716B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67D-5A2E-4801-B506-D33D4AC4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DF5-B3F6-4E51-9027-723517DF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1D3-541D-417B-87DE-A6BDDA9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4CA-A8D7-48F7-8812-0C5FB106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BA0-30CC-4114-BD2E-F33D74A8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EEF-4E6F-4AAC-AD0E-B2E93EAAA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1280" y="1987560"/>
            <a:ext cx="1185840" cy="577440"/>
            <a:chOff x="611280" y="1987560"/>
            <a:chExt cx="1185840" cy="577440"/>
          </a:xfrm>
        </p:grpSpPr>
        <p:grpSp>
          <p:nvGrpSpPr>
            <p:cNvPr id="42" name=""/>
            <p:cNvGrpSpPr/>
            <p:nvPr/>
          </p:nvGrpSpPr>
          <p:grpSpPr>
            <a:xfrm>
              <a:off x="611280" y="1987560"/>
              <a:ext cx="1172880" cy="366480"/>
              <a:chOff x="611280" y="1987560"/>
              <a:chExt cx="1172880" cy="366480"/>
            </a:xfrm>
          </p:grpSpPr>
          <p:sp>
            <p:nvSpPr>
              <p:cNvPr id="43" name=""/>
              <p:cNvSpPr/>
              <p:nvPr/>
            </p:nvSpPr>
            <p:spPr>
              <a:xfrm>
                <a:off x="612720" y="1987560"/>
                <a:ext cx="117144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987560"/>
                <a:ext cx="1171440" cy="36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612720" y="1987560"/>
                <a:ext cx="1171440" cy="366480"/>
              </a:xfrm>
              <a:prstGeom prst="rect">
                <a:avLst/>
              </a:prstGeom>
              <a:noFill/>
              <a:ln cap="rnd"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1506600" y="2376360"/>
              <a:ext cx="208080" cy="1886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58960" y="2368440"/>
              <a:ext cx="1800" cy="18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11280" y="2333520"/>
              <a:ext cx="1185840" cy="26640"/>
              <a:chOff x="611280" y="2333520"/>
              <a:chExt cx="1185840" cy="26640"/>
            </a:xfrm>
          </p:grpSpPr>
          <p:sp>
            <p:nvSpPr>
              <p:cNvPr id="49" name=""/>
              <p:cNvSpPr/>
              <p:nvPr/>
            </p:nvSpPr>
            <p:spPr>
              <a:xfrm>
                <a:off x="611280" y="2333520"/>
                <a:ext cx="118584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11280" y="2333520"/>
                <a:ext cx="1185840" cy="2664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1284480" y="2376360"/>
              <a:ext cx="208080" cy="1886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60560" y="2374560"/>
              <a:ext cx="206640" cy="1872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24280" y="2408040"/>
              <a:ext cx="51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     2     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17760" y="1901880"/>
            <a:ext cx="1224000" cy="971280"/>
            <a:chOff x="2417760" y="1901880"/>
            <a:chExt cx="1224000" cy="971280"/>
          </a:xfrm>
        </p:grpSpPr>
        <p:sp>
          <p:nvSpPr>
            <p:cNvPr id="55" name=""/>
            <p:cNvSpPr/>
            <p:nvPr/>
          </p:nvSpPr>
          <p:spPr>
            <a:xfrm>
              <a:off x="2506680" y="2682720"/>
              <a:ext cx="1072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 2 shall not be a lifting ax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83280" y="2781360"/>
              <a:ext cx="1107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y axle may be a steering ax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2417760" y="1901880"/>
              <a:ext cx="1224000" cy="717120"/>
              <a:chOff x="2417760" y="1901880"/>
              <a:chExt cx="1224000" cy="717120"/>
            </a:xfrm>
          </p:grpSpPr>
          <p:sp>
            <p:nvSpPr>
              <p:cNvPr id="58" name=""/>
              <p:cNvSpPr/>
              <p:nvPr/>
            </p:nvSpPr>
            <p:spPr>
              <a:xfrm>
                <a:off x="2417760" y="1918080"/>
                <a:ext cx="1224000" cy="674280"/>
              </a:xfrm>
              <a:custGeom>
                <a:avLst/>
                <a:gdLst/>
                <a:ahLst/>
                <a:rect l="l" t="t" r="r" b="b"/>
                <a:pathLst>
                  <a:path w="948" h="499">
                    <a:moveTo>
                      <a:pt x="944" y="6"/>
                    </a:moveTo>
                    <a:lnTo>
                      <a:pt x="920" y="6"/>
                    </a:lnTo>
                    <a:lnTo>
                      <a:pt x="920" y="0"/>
                    </a:lnTo>
                    <a:lnTo>
                      <a:pt x="944" y="0"/>
                    </a:lnTo>
                    <a:lnTo>
                      <a:pt x="944" y="6"/>
                    </a:lnTo>
                    <a:close/>
                    <a:moveTo>
                      <a:pt x="901" y="6"/>
                    </a:moveTo>
                    <a:lnTo>
                      <a:pt x="877" y="6"/>
                    </a:lnTo>
                    <a:lnTo>
                      <a:pt x="877" y="0"/>
                    </a:lnTo>
                    <a:lnTo>
                      <a:pt x="901" y="0"/>
                    </a:lnTo>
                    <a:lnTo>
                      <a:pt x="901" y="6"/>
                    </a:lnTo>
                    <a:close/>
                    <a:moveTo>
                      <a:pt x="858" y="6"/>
                    </a:moveTo>
                    <a:lnTo>
                      <a:pt x="834" y="6"/>
                    </a:lnTo>
                    <a:lnTo>
                      <a:pt x="834" y="0"/>
                    </a:lnTo>
                    <a:lnTo>
                      <a:pt x="858" y="0"/>
                    </a:lnTo>
                    <a:lnTo>
                      <a:pt x="858" y="6"/>
                    </a:lnTo>
                    <a:close/>
                    <a:moveTo>
                      <a:pt x="815" y="6"/>
                    </a:moveTo>
                    <a:lnTo>
                      <a:pt x="791" y="6"/>
                    </a:lnTo>
                    <a:lnTo>
                      <a:pt x="791" y="0"/>
                    </a:lnTo>
                    <a:lnTo>
                      <a:pt x="815" y="0"/>
                    </a:lnTo>
                    <a:lnTo>
                      <a:pt x="815" y="6"/>
                    </a:lnTo>
                    <a:close/>
                    <a:moveTo>
                      <a:pt x="772" y="6"/>
                    </a:moveTo>
                    <a:lnTo>
                      <a:pt x="747" y="6"/>
                    </a:lnTo>
                    <a:lnTo>
                      <a:pt x="747" y="0"/>
                    </a:lnTo>
                    <a:lnTo>
                      <a:pt x="772" y="0"/>
                    </a:lnTo>
                    <a:lnTo>
                      <a:pt x="772" y="6"/>
                    </a:lnTo>
                    <a:close/>
                    <a:moveTo>
                      <a:pt x="729" y="6"/>
                    </a:moveTo>
                    <a:lnTo>
                      <a:pt x="704" y="6"/>
                    </a:lnTo>
                    <a:lnTo>
                      <a:pt x="704" y="0"/>
                    </a:lnTo>
                    <a:lnTo>
                      <a:pt x="729" y="0"/>
                    </a:lnTo>
                    <a:lnTo>
                      <a:pt x="729" y="6"/>
                    </a:lnTo>
                    <a:close/>
                    <a:moveTo>
                      <a:pt x="686" y="6"/>
                    </a:moveTo>
                    <a:lnTo>
                      <a:pt x="661" y="6"/>
                    </a:lnTo>
                    <a:lnTo>
                      <a:pt x="661" y="0"/>
                    </a:lnTo>
                    <a:lnTo>
                      <a:pt x="686" y="0"/>
                    </a:lnTo>
                    <a:lnTo>
                      <a:pt x="686" y="6"/>
                    </a:lnTo>
                    <a:close/>
                    <a:moveTo>
                      <a:pt x="643" y="6"/>
                    </a:moveTo>
                    <a:lnTo>
                      <a:pt x="618" y="6"/>
                    </a:lnTo>
                    <a:lnTo>
                      <a:pt x="618" y="0"/>
                    </a:lnTo>
                    <a:lnTo>
                      <a:pt x="643" y="0"/>
                    </a:lnTo>
                    <a:lnTo>
                      <a:pt x="643" y="6"/>
                    </a:lnTo>
                    <a:close/>
                    <a:moveTo>
                      <a:pt x="600" y="6"/>
                    </a:moveTo>
                    <a:lnTo>
                      <a:pt x="575" y="6"/>
                    </a:lnTo>
                    <a:lnTo>
                      <a:pt x="575" y="0"/>
                    </a:lnTo>
                    <a:lnTo>
                      <a:pt x="600" y="0"/>
                    </a:lnTo>
                    <a:lnTo>
                      <a:pt x="600" y="6"/>
                    </a:lnTo>
                    <a:close/>
                    <a:moveTo>
                      <a:pt x="557" y="6"/>
                    </a:moveTo>
                    <a:lnTo>
                      <a:pt x="532" y="6"/>
                    </a:lnTo>
                    <a:lnTo>
                      <a:pt x="532" y="0"/>
                    </a:lnTo>
                    <a:lnTo>
                      <a:pt x="557" y="0"/>
                    </a:lnTo>
                    <a:lnTo>
                      <a:pt x="557" y="6"/>
                    </a:lnTo>
                    <a:close/>
                    <a:moveTo>
                      <a:pt x="513" y="6"/>
                    </a:moveTo>
                    <a:lnTo>
                      <a:pt x="489" y="6"/>
                    </a:lnTo>
                    <a:lnTo>
                      <a:pt x="489" y="0"/>
                    </a:lnTo>
                    <a:lnTo>
                      <a:pt x="513" y="0"/>
                    </a:lnTo>
                    <a:lnTo>
                      <a:pt x="513" y="6"/>
                    </a:lnTo>
                    <a:close/>
                    <a:moveTo>
                      <a:pt x="470" y="6"/>
                    </a:moveTo>
                    <a:lnTo>
                      <a:pt x="446" y="6"/>
                    </a:lnTo>
                    <a:lnTo>
                      <a:pt x="446" y="0"/>
                    </a:lnTo>
                    <a:lnTo>
                      <a:pt x="470" y="0"/>
                    </a:lnTo>
                    <a:lnTo>
                      <a:pt x="470" y="6"/>
                    </a:lnTo>
                    <a:close/>
                    <a:moveTo>
                      <a:pt x="427" y="6"/>
                    </a:moveTo>
                    <a:lnTo>
                      <a:pt x="403" y="6"/>
                    </a:lnTo>
                    <a:lnTo>
                      <a:pt x="403" y="0"/>
                    </a:lnTo>
                    <a:lnTo>
                      <a:pt x="427" y="0"/>
                    </a:lnTo>
                    <a:lnTo>
                      <a:pt x="427" y="6"/>
                    </a:lnTo>
                    <a:close/>
                    <a:moveTo>
                      <a:pt x="384" y="6"/>
                    </a:moveTo>
                    <a:lnTo>
                      <a:pt x="360" y="6"/>
                    </a:lnTo>
                    <a:lnTo>
                      <a:pt x="360" y="0"/>
                    </a:lnTo>
                    <a:lnTo>
                      <a:pt x="384" y="0"/>
                    </a:lnTo>
                    <a:lnTo>
                      <a:pt x="384" y="6"/>
                    </a:lnTo>
                    <a:close/>
                    <a:moveTo>
                      <a:pt x="341" y="6"/>
                    </a:moveTo>
                    <a:lnTo>
                      <a:pt x="316" y="6"/>
                    </a:lnTo>
                    <a:lnTo>
                      <a:pt x="316" y="0"/>
                    </a:lnTo>
                    <a:lnTo>
                      <a:pt x="341" y="0"/>
                    </a:lnTo>
                    <a:lnTo>
                      <a:pt x="341" y="6"/>
                    </a:lnTo>
                    <a:close/>
                    <a:moveTo>
                      <a:pt x="298" y="6"/>
                    </a:moveTo>
                    <a:lnTo>
                      <a:pt x="273" y="6"/>
                    </a:lnTo>
                    <a:lnTo>
                      <a:pt x="273" y="0"/>
                    </a:lnTo>
                    <a:lnTo>
                      <a:pt x="298" y="0"/>
                    </a:lnTo>
                    <a:lnTo>
                      <a:pt x="298" y="6"/>
                    </a:lnTo>
                    <a:close/>
                    <a:moveTo>
                      <a:pt x="255" y="6"/>
                    </a:moveTo>
                    <a:lnTo>
                      <a:pt x="230" y="6"/>
                    </a:lnTo>
                    <a:lnTo>
                      <a:pt x="230" y="0"/>
                    </a:lnTo>
                    <a:lnTo>
                      <a:pt x="255" y="0"/>
                    </a:lnTo>
                    <a:lnTo>
                      <a:pt x="255" y="6"/>
                    </a:lnTo>
                    <a:close/>
                    <a:moveTo>
                      <a:pt x="212" y="6"/>
                    </a:moveTo>
                    <a:lnTo>
                      <a:pt x="187" y="6"/>
                    </a:lnTo>
                    <a:lnTo>
                      <a:pt x="187" y="0"/>
                    </a:lnTo>
                    <a:lnTo>
                      <a:pt x="212" y="0"/>
                    </a:lnTo>
                    <a:lnTo>
                      <a:pt x="212" y="6"/>
                    </a:lnTo>
                    <a:close/>
                    <a:moveTo>
                      <a:pt x="169" y="6"/>
                    </a:moveTo>
                    <a:lnTo>
                      <a:pt x="144" y="6"/>
                    </a:lnTo>
                    <a:lnTo>
                      <a:pt x="144" y="0"/>
                    </a:lnTo>
                    <a:lnTo>
                      <a:pt x="169" y="0"/>
                    </a:lnTo>
                    <a:lnTo>
                      <a:pt x="169" y="6"/>
                    </a:lnTo>
                    <a:close/>
                    <a:moveTo>
                      <a:pt x="126" y="6"/>
                    </a:moveTo>
                    <a:lnTo>
                      <a:pt x="101" y="6"/>
                    </a:lnTo>
                    <a:lnTo>
                      <a:pt x="101" y="0"/>
                    </a:lnTo>
                    <a:lnTo>
                      <a:pt x="126" y="0"/>
                    </a:lnTo>
                    <a:lnTo>
                      <a:pt x="126" y="6"/>
                    </a:lnTo>
                    <a:close/>
                    <a:moveTo>
                      <a:pt x="83" y="6"/>
                    </a:moveTo>
                    <a:lnTo>
                      <a:pt x="58" y="6"/>
                    </a:lnTo>
                    <a:lnTo>
                      <a:pt x="58" y="0"/>
                    </a:lnTo>
                    <a:lnTo>
                      <a:pt x="83" y="0"/>
                    </a:lnTo>
                    <a:lnTo>
                      <a:pt x="83" y="6"/>
                    </a:lnTo>
                    <a:close/>
                    <a:moveTo>
                      <a:pt x="39" y="6"/>
                    </a:moveTo>
                    <a:lnTo>
                      <a:pt x="15" y="6"/>
                    </a:lnTo>
                    <a:lnTo>
                      <a:pt x="15" y="0"/>
                    </a:lnTo>
                    <a:lnTo>
                      <a:pt x="39" y="0"/>
                    </a:lnTo>
                    <a:lnTo>
                      <a:pt x="39" y="6"/>
                    </a:lnTo>
                    <a:close/>
                    <a:moveTo>
                      <a:pt x="6" y="9"/>
                    </a:moveTo>
                    <a:lnTo>
                      <a:pt x="6" y="34"/>
                    </a:lnTo>
                    <a:lnTo>
                      <a:pt x="0" y="34"/>
                    </a:lnTo>
                    <a:lnTo>
                      <a:pt x="0" y="9"/>
                    </a:lnTo>
                    <a:lnTo>
                      <a:pt x="6" y="9"/>
                    </a:lnTo>
                    <a:close/>
                    <a:moveTo>
                      <a:pt x="6" y="52"/>
                    </a:moveTo>
                    <a:lnTo>
                      <a:pt x="6" y="77"/>
                    </a:lnTo>
                    <a:lnTo>
                      <a:pt x="0" y="77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  <a:moveTo>
                      <a:pt x="6" y="95"/>
                    </a:moveTo>
                    <a:lnTo>
                      <a:pt x="6" y="120"/>
                    </a:lnTo>
                    <a:lnTo>
                      <a:pt x="0" y="120"/>
                    </a:lnTo>
                    <a:lnTo>
                      <a:pt x="0" y="95"/>
                    </a:lnTo>
                    <a:lnTo>
                      <a:pt x="6" y="95"/>
                    </a:lnTo>
                    <a:close/>
                    <a:moveTo>
                      <a:pt x="6" y="138"/>
                    </a:moveTo>
                    <a:lnTo>
                      <a:pt x="6" y="163"/>
                    </a:lnTo>
                    <a:lnTo>
                      <a:pt x="0" y="163"/>
                    </a:lnTo>
                    <a:lnTo>
                      <a:pt x="0" y="138"/>
                    </a:lnTo>
                    <a:lnTo>
                      <a:pt x="6" y="138"/>
                    </a:lnTo>
                    <a:close/>
                    <a:moveTo>
                      <a:pt x="6" y="182"/>
                    </a:moveTo>
                    <a:lnTo>
                      <a:pt x="6" y="206"/>
                    </a:lnTo>
                    <a:lnTo>
                      <a:pt x="0" y="206"/>
                    </a:lnTo>
                    <a:lnTo>
                      <a:pt x="0" y="182"/>
                    </a:lnTo>
                    <a:lnTo>
                      <a:pt x="6" y="182"/>
                    </a:lnTo>
                    <a:close/>
                    <a:moveTo>
                      <a:pt x="6" y="225"/>
                    </a:moveTo>
                    <a:lnTo>
                      <a:pt x="6" y="249"/>
                    </a:lnTo>
                    <a:lnTo>
                      <a:pt x="0" y="249"/>
                    </a:lnTo>
                    <a:lnTo>
                      <a:pt x="0" y="225"/>
                    </a:lnTo>
                    <a:lnTo>
                      <a:pt x="6" y="225"/>
                    </a:lnTo>
                    <a:close/>
                    <a:moveTo>
                      <a:pt x="6" y="268"/>
                    </a:moveTo>
                    <a:lnTo>
                      <a:pt x="6" y="292"/>
                    </a:lnTo>
                    <a:lnTo>
                      <a:pt x="0" y="292"/>
                    </a:lnTo>
                    <a:lnTo>
                      <a:pt x="0" y="268"/>
                    </a:lnTo>
                    <a:lnTo>
                      <a:pt x="6" y="268"/>
                    </a:lnTo>
                    <a:close/>
                    <a:moveTo>
                      <a:pt x="6" y="311"/>
                    </a:moveTo>
                    <a:lnTo>
                      <a:pt x="6" y="336"/>
                    </a:lnTo>
                    <a:lnTo>
                      <a:pt x="0" y="336"/>
                    </a:lnTo>
                    <a:lnTo>
                      <a:pt x="0" y="311"/>
                    </a:lnTo>
                    <a:lnTo>
                      <a:pt x="6" y="311"/>
                    </a:lnTo>
                    <a:close/>
                    <a:moveTo>
                      <a:pt x="6" y="354"/>
                    </a:moveTo>
                    <a:lnTo>
                      <a:pt x="6" y="379"/>
                    </a:lnTo>
                    <a:lnTo>
                      <a:pt x="0" y="379"/>
                    </a:lnTo>
                    <a:lnTo>
                      <a:pt x="0" y="354"/>
                    </a:lnTo>
                    <a:lnTo>
                      <a:pt x="6" y="354"/>
                    </a:lnTo>
                    <a:close/>
                    <a:moveTo>
                      <a:pt x="6" y="397"/>
                    </a:moveTo>
                    <a:lnTo>
                      <a:pt x="6" y="422"/>
                    </a:lnTo>
                    <a:lnTo>
                      <a:pt x="0" y="422"/>
                    </a:lnTo>
                    <a:lnTo>
                      <a:pt x="0" y="397"/>
                    </a:lnTo>
                    <a:lnTo>
                      <a:pt x="6" y="397"/>
                    </a:lnTo>
                    <a:close/>
                    <a:moveTo>
                      <a:pt x="6" y="440"/>
                    </a:moveTo>
                    <a:lnTo>
                      <a:pt x="6" y="465"/>
                    </a:lnTo>
                    <a:lnTo>
                      <a:pt x="0" y="465"/>
                    </a:lnTo>
                    <a:lnTo>
                      <a:pt x="0" y="440"/>
                    </a:lnTo>
                    <a:lnTo>
                      <a:pt x="6" y="440"/>
                    </a:lnTo>
                    <a:close/>
                    <a:moveTo>
                      <a:pt x="6" y="483"/>
                    </a:moveTo>
                    <a:lnTo>
                      <a:pt x="6" y="496"/>
                    </a:lnTo>
                    <a:lnTo>
                      <a:pt x="2" y="493"/>
                    </a:lnTo>
                    <a:lnTo>
                      <a:pt x="15" y="493"/>
                    </a:lnTo>
                    <a:lnTo>
                      <a:pt x="15" y="499"/>
                    </a:lnTo>
                    <a:lnTo>
                      <a:pt x="0" y="499"/>
                    </a:lnTo>
                    <a:lnTo>
                      <a:pt x="0" y="483"/>
                    </a:lnTo>
                    <a:lnTo>
                      <a:pt x="6" y="483"/>
                    </a:lnTo>
                    <a:close/>
                    <a:moveTo>
                      <a:pt x="33" y="493"/>
                    </a:moveTo>
                    <a:lnTo>
                      <a:pt x="58" y="493"/>
                    </a:lnTo>
                    <a:lnTo>
                      <a:pt x="58" y="499"/>
                    </a:lnTo>
                    <a:lnTo>
                      <a:pt x="33" y="499"/>
                    </a:lnTo>
                    <a:lnTo>
                      <a:pt x="33" y="493"/>
                    </a:lnTo>
                    <a:close/>
                    <a:moveTo>
                      <a:pt x="76" y="493"/>
                    </a:moveTo>
                    <a:lnTo>
                      <a:pt x="101" y="493"/>
                    </a:lnTo>
                    <a:lnTo>
                      <a:pt x="101" y="499"/>
                    </a:lnTo>
                    <a:lnTo>
                      <a:pt x="76" y="499"/>
                    </a:lnTo>
                    <a:lnTo>
                      <a:pt x="76" y="493"/>
                    </a:lnTo>
                    <a:close/>
                    <a:moveTo>
                      <a:pt x="119" y="493"/>
                    </a:moveTo>
                    <a:lnTo>
                      <a:pt x="144" y="493"/>
                    </a:lnTo>
                    <a:lnTo>
                      <a:pt x="144" y="499"/>
                    </a:lnTo>
                    <a:lnTo>
                      <a:pt x="119" y="499"/>
                    </a:lnTo>
                    <a:lnTo>
                      <a:pt x="119" y="493"/>
                    </a:lnTo>
                    <a:close/>
                    <a:moveTo>
                      <a:pt x="163" y="493"/>
                    </a:moveTo>
                    <a:lnTo>
                      <a:pt x="187" y="493"/>
                    </a:lnTo>
                    <a:lnTo>
                      <a:pt x="187" y="499"/>
                    </a:lnTo>
                    <a:lnTo>
                      <a:pt x="163" y="499"/>
                    </a:lnTo>
                    <a:lnTo>
                      <a:pt x="163" y="493"/>
                    </a:lnTo>
                    <a:close/>
                    <a:moveTo>
                      <a:pt x="206" y="493"/>
                    </a:moveTo>
                    <a:lnTo>
                      <a:pt x="230" y="493"/>
                    </a:lnTo>
                    <a:lnTo>
                      <a:pt x="230" y="499"/>
                    </a:lnTo>
                    <a:lnTo>
                      <a:pt x="206" y="499"/>
                    </a:lnTo>
                    <a:lnTo>
                      <a:pt x="206" y="493"/>
                    </a:lnTo>
                    <a:close/>
                    <a:moveTo>
                      <a:pt x="249" y="493"/>
                    </a:moveTo>
                    <a:lnTo>
                      <a:pt x="273" y="493"/>
                    </a:lnTo>
                    <a:lnTo>
                      <a:pt x="273" y="499"/>
                    </a:lnTo>
                    <a:lnTo>
                      <a:pt x="249" y="499"/>
                    </a:lnTo>
                    <a:lnTo>
                      <a:pt x="249" y="493"/>
                    </a:lnTo>
                    <a:close/>
                    <a:moveTo>
                      <a:pt x="292" y="493"/>
                    </a:moveTo>
                    <a:lnTo>
                      <a:pt x="316" y="493"/>
                    </a:lnTo>
                    <a:lnTo>
                      <a:pt x="316" y="499"/>
                    </a:lnTo>
                    <a:lnTo>
                      <a:pt x="292" y="499"/>
                    </a:lnTo>
                    <a:lnTo>
                      <a:pt x="292" y="493"/>
                    </a:lnTo>
                    <a:close/>
                    <a:moveTo>
                      <a:pt x="335" y="493"/>
                    </a:moveTo>
                    <a:lnTo>
                      <a:pt x="360" y="493"/>
                    </a:lnTo>
                    <a:lnTo>
                      <a:pt x="360" y="499"/>
                    </a:lnTo>
                    <a:lnTo>
                      <a:pt x="335" y="499"/>
                    </a:lnTo>
                    <a:lnTo>
                      <a:pt x="335" y="493"/>
                    </a:lnTo>
                    <a:close/>
                    <a:moveTo>
                      <a:pt x="378" y="493"/>
                    </a:moveTo>
                    <a:lnTo>
                      <a:pt x="403" y="493"/>
                    </a:lnTo>
                    <a:lnTo>
                      <a:pt x="403" y="499"/>
                    </a:lnTo>
                    <a:lnTo>
                      <a:pt x="378" y="499"/>
                    </a:lnTo>
                    <a:lnTo>
                      <a:pt x="378" y="493"/>
                    </a:lnTo>
                    <a:close/>
                    <a:moveTo>
                      <a:pt x="421" y="493"/>
                    </a:moveTo>
                    <a:lnTo>
                      <a:pt x="446" y="493"/>
                    </a:lnTo>
                    <a:lnTo>
                      <a:pt x="446" y="499"/>
                    </a:lnTo>
                    <a:lnTo>
                      <a:pt x="421" y="499"/>
                    </a:lnTo>
                    <a:lnTo>
                      <a:pt x="421" y="493"/>
                    </a:lnTo>
                    <a:close/>
                    <a:moveTo>
                      <a:pt x="464" y="493"/>
                    </a:moveTo>
                    <a:lnTo>
                      <a:pt x="489" y="493"/>
                    </a:lnTo>
                    <a:lnTo>
                      <a:pt x="489" y="499"/>
                    </a:lnTo>
                    <a:lnTo>
                      <a:pt x="464" y="499"/>
                    </a:lnTo>
                    <a:lnTo>
                      <a:pt x="464" y="493"/>
                    </a:lnTo>
                    <a:close/>
                    <a:moveTo>
                      <a:pt x="507" y="493"/>
                    </a:moveTo>
                    <a:lnTo>
                      <a:pt x="532" y="493"/>
                    </a:lnTo>
                    <a:lnTo>
                      <a:pt x="532" y="499"/>
                    </a:lnTo>
                    <a:lnTo>
                      <a:pt x="507" y="499"/>
                    </a:lnTo>
                    <a:lnTo>
                      <a:pt x="507" y="493"/>
                    </a:lnTo>
                    <a:close/>
                    <a:moveTo>
                      <a:pt x="550" y="493"/>
                    </a:moveTo>
                    <a:lnTo>
                      <a:pt x="575" y="493"/>
                    </a:lnTo>
                    <a:lnTo>
                      <a:pt x="575" y="499"/>
                    </a:lnTo>
                    <a:lnTo>
                      <a:pt x="550" y="499"/>
                    </a:lnTo>
                    <a:lnTo>
                      <a:pt x="550" y="493"/>
                    </a:lnTo>
                    <a:close/>
                    <a:moveTo>
                      <a:pt x="594" y="493"/>
                    </a:moveTo>
                    <a:lnTo>
                      <a:pt x="618" y="493"/>
                    </a:lnTo>
                    <a:lnTo>
                      <a:pt x="618" y="499"/>
                    </a:lnTo>
                    <a:lnTo>
                      <a:pt x="594" y="499"/>
                    </a:lnTo>
                    <a:lnTo>
                      <a:pt x="594" y="493"/>
                    </a:lnTo>
                    <a:close/>
                    <a:moveTo>
                      <a:pt x="637" y="493"/>
                    </a:moveTo>
                    <a:lnTo>
                      <a:pt x="661" y="493"/>
                    </a:lnTo>
                    <a:lnTo>
                      <a:pt x="661" y="499"/>
                    </a:lnTo>
                    <a:lnTo>
                      <a:pt x="637" y="499"/>
                    </a:lnTo>
                    <a:lnTo>
                      <a:pt x="637" y="493"/>
                    </a:lnTo>
                    <a:close/>
                    <a:moveTo>
                      <a:pt x="680" y="493"/>
                    </a:moveTo>
                    <a:lnTo>
                      <a:pt x="704" y="493"/>
                    </a:lnTo>
                    <a:lnTo>
                      <a:pt x="704" y="499"/>
                    </a:lnTo>
                    <a:lnTo>
                      <a:pt x="680" y="499"/>
                    </a:lnTo>
                    <a:lnTo>
                      <a:pt x="680" y="493"/>
                    </a:lnTo>
                    <a:close/>
                    <a:moveTo>
                      <a:pt x="723" y="493"/>
                    </a:moveTo>
                    <a:lnTo>
                      <a:pt x="747" y="493"/>
                    </a:lnTo>
                    <a:lnTo>
                      <a:pt x="747" y="499"/>
                    </a:lnTo>
                    <a:lnTo>
                      <a:pt x="723" y="499"/>
                    </a:lnTo>
                    <a:lnTo>
                      <a:pt x="723" y="493"/>
                    </a:lnTo>
                    <a:close/>
                    <a:moveTo>
                      <a:pt x="766" y="493"/>
                    </a:moveTo>
                    <a:lnTo>
                      <a:pt x="791" y="493"/>
                    </a:lnTo>
                    <a:lnTo>
                      <a:pt x="791" y="499"/>
                    </a:lnTo>
                    <a:lnTo>
                      <a:pt x="766" y="499"/>
                    </a:lnTo>
                    <a:lnTo>
                      <a:pt x="766" y="493"/>
                    </a:lnTo>
                    <a:close/>
                    <a:moveTo>
                      <a:pt x="809" y="493"/>
                    </a:moveTo>
                    <a:lnTo>
                      <a:pt x="834" y="493"/>
                    </a:lnTo>
                    <a:lnTo>
                      <a:pt x="834" y="499"/>
                    </a:lnTo>
                    <a:lnTo>
                      <a:pt x="809" y="499"/>
                    </a:lnTo>
                    <a:lnTo>
                      <a:pt x="809" y="493"/>
                    </a:lnTo>
                    <a:close/>
                    <a:moveTo>
                      <a:pt x="852" y="493"/>
                    </a:moveTo>
                    <a:lnTo>
                      <a:pt x="877" y="493"/>
                    </a:lnTo>
                    <a:lnTo>
                      <a:pt x="877" y="499"/>
                    </a:lnTo>
                    <a:lnTo>
                      <a:pt x="852" y="499"/>
                    </a:lnTo>
                    <a:lnTo>
                      <a:pt x="852" y="493"/>
                    </a:lnTo>
                    <a:close/>
                    <a:moveTo>
                      <a:pt x="895" y="493"/>
                    </a:moveTo>
                    <a:lnTo>
                      <a:pt x="920" y="493"/>
                    </a:lnTo>
                    <a:lnTo>
                      <a:pt x="920" y="499"/>
                    </a:lnTo>
                    <a:lnTo>
                      <a:pt x="895" y="499"/>
                    </a:lnTo>
                    <a:lnTo>
                      <a:pt x="895" y="493"/>
                    </a:lnTo>
                    <a:close/>
                    <a:moveTo>
                      <a:pt x="938" y="493"/>
                    </a:moveTo>
                    <a:lnTo>
                      <a:pt x="944" y="493"/>
                    </a:lnTo>
                    <a:lnTo>
                      <a:pt x="942" y="496"/>
                    </a:lnTo>
                    <a:lnTo>
                      <a:pt x="942" y="477"/>
                    </a:lnTo>
                    <a:lnTo>
                      <a:pt x="948" y="477"/>
                    </a:lnTo>
                    <a:lnTo>
                      <a:pt x="948" y="499"/>
                    </a:lnTo>
                    <a:lnTo>
                      <a:pt x="938" y="499"/>
                    </a:lnTo>
                    <a:lnTo>
                      <a:pt x="938" y="493"/>
                    </a:lnTo>
                    <a:close/>
                    <a:moveTo>
                      <a:pt x="942" y="459"/>
                    </a:moveTo>
                    <a:lnTo>
                      <a:pt x="942" y="434"/>
                    </a:lnTo>
                    <a:lnTo>
                      <a:pt x="948" y="434"/>
                    </a:lnTo>
                    <a:lnTo>
                      <a:pt x="948" y="459"/>
                    </a:lnTo>
                    <a:lnTo>
                      <a:pt x="942" y="459"/>
                    </a:lnTo>
                    <a:close/>
                    <a:moveTo>
                      <a:pt x="942" y="416"/>
                    </a:moveTo>
                    <a:lnTo>
                      <a:pt x="942" y="391"/>
                    </a:lnTo>
                    <a:lnTo>
                      <a:pt x="948" y="391"/>
                    </a:lnTo>
                    <a:lnTo>
                      <a:pt x="948" y="416"/>
                    </a:lnTo>
                    <a:lnTo>
                      <a:pt x="942" y="416"/>
                    </a:lnTo>
                    <a:close/>
                    <a:moveTo>
                      <a:pt x="942" y="373"/>
                    </a:moveTo>
                    <a:lnTo>
                      <a:pt x="942" y="348"/>
                    </a:lnTo>
                    <a:lnTo>
                      <a:pt x="948" y="348"/>
                    </a:lnTo>
                    <a:lnTo>
                      <a:pt x="948" y="373"/>
                    </a:lnTo>
                    <a:lnTo>
                      <a:pt x="942" y="373"/>
                    </a:lnTo>
                    <a:close/>
                    <a:moveTo>
                      <a:pt x="942" y="329"/>
                    </a:moveTo>
                    <a:lnTo>
                      <a:pt x="942" y="305"/>
                    </a:lnTo>
                    <a:lnTo>
                      <a:pt x="948" y="305"/>
                    </a:lnTo>
                    <a:lnTo>
                      <a:pt x="948" y="329"/>
                    </a:lnTo>
                    <a:lnTo>
                      <a:pt x="942" y="329"/>
                    </a:lnTo>
                    <a:close/>
                    <a:moveTo>
                      <a:pt x="942" y="286"/>
                    </a:moveTo>
                    <a:lnTo>
                      <a:pt x="942" y="262"/>
                    </a:lnTo>
                    <a:lnTo>
                      <a:pt x="948" y="262"/>
                    </a:lnTo>
                    <a:lnTo>
                      <a:pt x="948" y="286"/>
                    </a:lnTo>
                    <a:lnTo>
                      <a:pt x="942" y="286"/>
                    </a:lnTo>
                    <a:close/>
                    <a:moveTo>
                      <a:pt x="942" y="243"/>
                    </a:moveTo>
                    <a:lnTo>
                      <a:pt x="942" y="219"/>
                    </a:lnTo>
                    <a:lnTo>
                      <a:pt x="948" y="219"/>
                    </a:lnTo>
                    <a:lnTo>
                      <a:pt x="948" y="243"/>
                    </a:lnTo>
                    <a:lnTo>
                      <a:pt x="942" y="243"/>
                    </a:lnTo>
                    <a:close/>
                    <a:moveTo>
                      <a:pt x="942" y="200"/>
                    </a:moveTo>
                    <a:lnTo>
                      <a:pt x="942" y="175"/>
                    </a:lnTo>
                    <a:lnTo>
                      <a:pt x="948" y="175"/>
                    </a:lnTo>
                    <a:lnTo>
                      <a:pt x="948" y="200"/>
                    </a:lnTo>
                    <a:lnTo>
                      <a:pt x="942" y="200"/>
                    </a:lnTo>
                    <a:close/>
                    <a:moveTo>
                      <a:pt x="942" y="157"/>
                    </a:moveTo>
                    <a:lnTo>
                      <a:pt x="942" y="132"/>
                    </a:lnTo>
                    <a:lnTo>
                      <a:pt x="948" y="132"/>
                    </a:lnTo>
                    <a:lnTo>
                      <a:pt x="948" y="157"/>
                    </a:lnTo>
                    <a:lnTo>
                      <a:pt x="942" y="157"/>
                    </a:lnTo>
                    <a:close/>
                    <a:moveTo>
                      <a:pt x="942" y="114"/>
                    </a:moveTo>
                    <a:lnTo>
                      <a:pt x="942" y="89"/>
                    </a:lnTo>
                    <a:lnTo>
                      <a:pt x="948" y="89"/>
                    </a:lnTo>
                    <a:lnTo>
                      <a:pt x="948" y="114"/>
                    </a:lnTo>
                    <a:lnTo>
                      <a:pt x="942" y="114"/>
                    </a:lnTo>
                    <a:close/>
                    <a:moveTo>
                      <a:pt x="942" y="71"/>
                    </a:moveTo>
                    <a:lnTo>
                      <a:pt x="942" y="46"/>
                    </a:lnTo>
                    <a:lnTo>
                      <a:pt x="948" y="46"/>
                    </a:lnTo>
                    <a:lnTo>
                      <a:pt x="948" y="71"/>
                    </a:lnTo>
                    <a:lnTo>
                      <a:pt x="942" y="71"/>
                    </a:lnTo>
                    <a:close/>
                    <a:moveTo>
                      <a:pt x="942" y="28"/>
                    </a:moveTo>
                    <a:lnTo>
                      <a:pt x="942" y="3"/>
                    </a:lnTo>
                    <a:lnTo>
                      <a:pt x="948" y="3"/>
                    </a:lnTo>
                    <a:lnTo>
                      <a:pt x="948" y="28"/>
                    </a:lnTo>
                    <a:lnTo>
                      <a:pt x="94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2521080" y="2215080"/>
                <a:ext cx="112320" cy="102600"/>
                <a:chOff x="2521080" y="2215080"/>
                <a:chExt cx="112320" cy="102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523600" y="2215080"/>
                  <a:ext cx="106920" cy="10260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521080" y="2267640"/>
                  <a:ext cx="112320" cy="144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2577600" y="2217240"/>
                  <a:ext cx="1440" cy="997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131640" y="2586600"/>
                <a:ext cx="47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41440" y="2586600"/>
                <a:ext cx="486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3188160" y="1932840"/>
                <a:ext cx="486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3078360" y="1932840"/>
                <a:ext cx="46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3066840" y="1904400"/>
                <a:ext cx="215640" cy="94320"/>
                <a:chOff x="3066840" y="1904400"/>
                <a:chExt cx="215640" cy="943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066840" y="1904400"/>
                  <a:ext cx="215640" cy="9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066840" y="1904400"/>
                  <a:ext cx="215640" cy="943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3066840" y="2520720"/>
                <a:ext cx="215640" cy="95760"/>
                <a:chOff x="3066840" y="2520720"/>
                <a:chExt cx="215640" cy="9576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066840" y="2520720"/>
                  <a:ext cx="215640" cy="9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66840" y="2520720"/>
                  <a:ext cx="215640" cy="957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174120" y="2027160"/>
                <a:ext cx="100080" cy="37800"/>
                <a:chOff x="3174120" y="2027160"/>
                <a:chExt cx="100080" cy="378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215160" y="2027160"/>
                  <a:ext cx="59040" cy="37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3174120" y="2040480"/>
                  <a:ext cx="37080" cy="7920"/>
                  <a:chOff x="3174120" y="2040480"/>
                  <a:chExt cx="37080" cy="792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3174120" y="2040480"/>
                    <a:ext cx="3708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3174120" y="2040480"/>
                    <a:ext cx="3708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"/>
              <p:cNvGrpSpPr/>
              <p:nvPr/>
            </p:nvGrpSpPr>
            <p:grpSpPr>
              <a:xfrm>
                <a:off x="3174120" y="2451600"/>
                <a:ext cx="100080" cy="37800"/>
                <a:chOff x="3174120" y="2451600"/>
                <a:chExt cx="100080" cy="378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215160" y="2451600"/>
                  <a:ext cx="59040" cy="37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3174120" y="2464920"/>
                  <a:ext cx="37080" cy="10440"/>
                  <a:chOff x="3174120" y="2464920"/>
                  <a:chExt cx="37080" cy="104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3174120" y="2464920"/>
                    <a:ext cx="37080" cy="1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174120" y="2464920"/>
                    <a:ext cx="37080" cy="104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" name=""/>
              <p:cNvGrpSpPr/>
              <p:nvPr/>
            </p:nvGrpSpPr>
            <p:grpSpPr>
              <a:xfrm>
                <a:off x="3099240" y="2018160"/>
                <a:ext cx="2520" cy="26640"/>
                <a:chOff x="3099240" y="2018160"/>
                <a:chExt cx="2520" cy="266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99240" y="2018160"/>
                  <a:ext cx="2520" cy="26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099240" y="2018160"/>
                  <a:ext cx="2520" cy="266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100680" y="2474640"/>
                <a:ext cx="2520" cy="26640"/>
                <a:chOff x="3100680" y="2474640"/>
                <a:chExt cx="2520" cy="266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100680" y="2474640"/>
                  <a:ext cx="2520" cy="26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100680" y="2474640"/>
                  <a:ext cx="2520" cy="266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315960" y="2521800"/>
                <a:ext cx="214200" cy="97200"/>
                <a:chOff x="3315960" y="2521800"/>
                <a:chExt cx="214200" cy="972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315960" y="2521800"/>
                  <a:ext cx="214200" cy="9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315960" y="2521800"/>
                  <a:ext cx="214200" cy="972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315960" y="1903320"/>
                <a:ext cx="214200" cy="94320"/>
                <a:chOff x="3315960" y="1903320"/>
                <a:chExt cx="214200" cy="94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315960" y="1903320"/>
                  <a:ext cx="214200" cy="9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315960" y="1903320"/>
                  <a:ext cx="214200" cy="943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3423240" y="2026080"/>
                <a:ext cx="100080" cy="37800"/>
                <a:chOff x="3423240" y="2026080"/>
                <a:chExt cx="100080" cy="378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464280" y="2026080"/>
                  <a:ext cx="59040" cy="37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3423240" y="2039400"/>
                  <a:ext cx="37080" cy="8280"/>
                  <a:chOff x="3423240" y="2039400"/>
                  <a:chExt cx="37080" cy="82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423240" y="2039400"/>
                    <a:ext cx="3708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423240" y="2039400"/>
                    <a:ext cx="37080" cy="82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3419280" y="2454480"/>
                <a:ext cx="100080" cy="37440"/>
                <a:chOff x="3419280" y="2454480"/>
                <a:chExt cx="100080" cy="374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460320" y="2454480"/>
                  <a:ext cx="59040" cy="374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3419280" y="2468880"/>
                  <a:ext cx="37080" cy="7920"/>
                  <a:chOff x="3419280" y="2468880"/>
                  <a:chExt cx="37080" cy="792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3419280" y="2468880"/>
                    <a:ext cx="3708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3419280" y="2468880"/>
                    <a:ext cx="3708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2820600" y="2521800"/>
                <a:ext cx="214200" cy="96120"/>
                <a:chOff x="2820600" y="2521800"/>
                <a:chExt cx="214200" cy="9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820600" y="2521800"/>
                  <a:ext cx="214200" cy="9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820600" y="2521800"/>
                  <a:ext cx="214200" cy="961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820600" y="1901880"/>
                <a:ext cx="214200" cy="94320"/>
                <a:chOff x="2820600" y="1901880"/>
                <a:chExt cx="214200" cy="94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820600" y="1901880"/>
                  <a:ext cx="214200" cy="9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820600" y="1901880"/>
                  <a:ext cx="214200" cy="943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927520" y="2025000"/>
                <a:ext cx="100440" cy="37440"/>
                <a:chOff x="2927520" y="2025000"/>
                <a:chExt cx="100440" cy="374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967480" y="2025000"/>
                  <a:ext cx="60480" cy="374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927520" y="2038320"/>
                  <a:ext cx="36000" cy="7920"/>
                  <a:chOff x="2927520" y="2038320"/>
                  <a:chExt cx="36000" cy="79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927520" y="2038320"/>
                    <a:ext cx="360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927520" y="2038320"/>
                    <a:ext cx="3600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2923920" y="2453040"/>
                <a:ext cx="98640" cy="37440"/>
                <a:chOff x="2923920" y="2453040"/>
                <a:chExt cx="98640" cy="374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963520" y="2453040"/>
                  <a:ext cx="59040" cy="374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2923920" y="2467800"/>
                  <a:ext cx="36000" cy="7560"/>
                  <a:chOff x="2923920" y="2467800"/>
                  <a:chExt cx="36000" cy="75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2923920" y="2467800"/>
                    <a:ext cx="3600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923920" y="2467800"/>
                    <a:ext cx="36000" cy="75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1" name=""/>
              <p:cNvSpPr/>
              <p:nvPr/>
            </p:nvSpPr>
            <p:spPr>
              <a:xfrm>
                <a:off x="3134160" y="2261160"/>
                <a:ext cx="95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147480" y="22777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147480" y="217908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127680" y="2169000"/>
                <a:ext cx="103320" cy="18504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95280" y="2045160"/>
                <a:ext cx="108360" cy="119880"/>
              </a:xfrm>
              <a:custGeom>
                <a:avLst/>
                <a:gdLst/>
                <a:ahLst/>
                <a:rect l="l" t="t" r="r" b="b"/>
                <a:pathLst>
                  <a:path w="342" h="358">
                    <a:moveTo>
                      <a:pt x="317" y="346"/>
                    </a:moveTo>
                    <a:lnTo>
                      <a:pt x="317" y="346"/>
                    </a:lnTo>
                    <a:cubicBezTo>
                      <a:pt x="317" y="339"/>
                      <a:pt x="323" y="333"/>
                      <a:pt x="329" y="333"/>
                    </a:cubicBezTo>
                    <a:cubicBezTo>
                      <a:pt x="336" y="333"/>
                      <a:pt x="342" y="339"/>
                      <a:pt x="342" y="346"/>
                    </a:cubicBezTo>
                    <a:lnTo>
                      <a:pt x="342" y="346"/>
                    </a:lnTo>
                    <a:cubicBezTo>
                      <a:pt x="342" y="353"/>
                      <a:pt x="336" y="358"/>
                      <a:pt x="329" y="358"/>
                    </a:cubicBezTo>
                    <a:cubicBezTo>
                      <a:pt x="323" y="358"/>
                      <a:pt x="317" y="353"/>
                      <a:pt x="317" y="346"/>
                    </a:cubicBezTo>
                    <a:close/>
                    <a:moveTo>
                      <a:pt x="317" y="296"/>
                    </a:moveTo>
                    <a:lnTo>
                      <a:pt x="317" y="296"/>
                    </a:lnTo>
                    <a:cubicBezTo>
                      <a:pt x="317" y="289"/>
                      <a:pt x="323" y="283"/>
                      <a:pt x="329" y="283"/>
                    </a:cubicBezTo>
                    <a:cubicBezTo>
                      <a:pt x="336" y="283"/>
                      <a:pt x="342" y="289"/>
                      <a:pt x="342" y="296"/>
                    </a:cubicBezTo>
                    <a:lnTo>
                      <a:pt x="342" y="296"/>
                    </a:lnTo>
                    <a:cubicBezTo>
                      <a:pt x="342" y="303"/>
                      <a:pt x="336" y="308"/>
                      <a:pt x="329" y="308"/>
                    </a:cubicBezTo>
                    <a:cubicBezTo>
                      <a:pt x="323" y="308"/>
                      <a:pt x="317" y="303"/>
                      <a:pt x="317" y="296"/>
                    </a:cubicBezTo>
                    <a:close/>
                    <a:moveTo>
                      <a:pt x="317" y="246"/>
                    </a:moveTo>
                    <a:lnTo>
                      <a:pt x="317" y="246"/>
                    </a:lnTo>
                    <a:cubicBezTo>
                      <a:pt x="317" y="239"/>
                      <a:pt x="323" y="233"/>
                      <a:pt x="329" y="233"/>
                    </a:cubicBezTo>
                    <a:cubicBezTo>
                      <a:pt x="336" y="233"/>
                      <a:pt x="342" y="239"/>
                      <a:pt x="342" y="246"/>
                    </a:cubicBezTo>
                    <a:lnTo>
                      <a:pt x="342" y="246"/>
                    </a:lnTo>
                    <a:cubicBezTo>
                      <a:pt x="342" y="253"/>
                      <a:pt x="336" y="258"/>
                      <a:pt x="329" y="258"/>
                    </a:cubicBezTo>
                    <a:cubicBezTo>
                      <a:pt x="323" y="258"/>
                      <a:pt x="317" y="253"/>
                      <a:pt x="317" y="246"/>
                    </a:cubicBezTo>
                    <a:close/>
                    <a:moveTo>
                      <a:pt x="321" y="217"/>
                    </a:moveTo>
                    <a:lnTo>
                      <a:pt x="321" y="217"/>
                    </a:lnTo>
                    <a:cubicBezTo>
                      <a:pt x="314" y="217"/>
                      <a:pt x="309" y="211"/>
                      <a:pt x="309" y="204"/>
                    </a:cubicBezTo>
                    <a:cubicBezTo>
                      <a:pt x="309" y="197"/>
                      <a:pt x="314" y="192"/>
                      <a:pt x="321" y="192"/>
                    </a:cubicBezTo>
                    <a:lnTo>
                      <a:pt x="321" y="192"/>
                    </a:lnTo>
                    <a:cubicBezTo>
                      <a:pt x="328" y="192"/>
                      <a:pt x="334" y="197"/>
                      <a:pt x="334" y="204"/>
                    </a:cubicBezTo>
                    <a:cubicBezTo>
                      <a:pt x="334" y="211"/>
                      <a:pt x="328" y="217"/>
                      <a:pt x="321" y="217"/>
                    </a:cubicBezTo>
                    <a:close/>
                    <a:moveTo>
                      <a:pt x="271" y="217"/>
                    </a:moveTo>
                    <a:lnTo>
                      <a:pt x="271" y="217"/>
                    </a:lnTo>
                    <a:cubicBezTo>
                      <a:pt x="264" y="217"/>
                      <a:pt x="259" y="211"/>
                      <a:pt x="259" y="204"/>
                    </a:cubicBezTo>
                    <a:cubicBezTo>
                      <a:pt x="259" y="197"/>
                      <a:pt x="264" y="192"/>
                      <a:pt x="271" y="192"/>
                    </a:cubicBezTo>
                    <a:lnTo>
                      <a:pt x="271" y="192"/>
                    </a:lnTo>
                    <a:cubicBezTo>
                      <a:pt x="278" y="192"/>
                      <a:pt x="284" y="197"/>
                      <a:pt x="284" y="204"/>
                    </a:cubicBezTo>
                    <a:cubicBezTo>
                      <a:pt x="284" y="211"/>
                      <a:pt x="278" y="217"/>
                      <a:pt x="271" y="217"/>
                    </a:cubicBezTo>
                    <a:close/>
                    <a:moveTo>
                      <a:pt x="221" y="217"/>
                    </a:moveTo>
                    <a:lnTo>
                      <a:pt x="221" y="217"/>
                    </a:lnTo>
                    <a:cubicBezTo>
                      <a:pt x="214" y="217"/>
                      <a:pt x="208" y="211"/>
                      <a:pt x="208" y="204"/>
                    </a:cubicBezTo>
                    <a:cubicBezTo>
                      <a:pt x="208" y="197"/>
                      <a:pt x="214" y="192"/>
                      <a:pt x="221" y="192"/>
                    </a:cubicBezTo>
                    <a:lnTo>
                      <a:pt x="221" y="192"/>
                    </a:lnTo>
                    <a:cubicBezTo>
                      <a:pt x="228" y="192"/>
                      <a:pt x="234" y="197"/>
                      <a:pt x="234" y="204"/>
                    </a:cubicBezTo>
                    <a:cubicBezTo>
                      <a:pt x="234" y="211"/>
                      <a:pt x="228" y="217"/>
                      <a:pt x="221" y="217"/>
                    </a:cubicBezTo>
                    <a:close/>
                    <a:moveTo>
                      <a:pt x="171" y="217"/>
                    </a:moveTo>
                    <a:lnTo>
                      <a:pt x="171" y="217"/>
                    </a:lnTo>
                    <a:cubicBezTo>
                      <a:pt x="164" y="217"/>
                      <a:pt x="158" y="211"/>
                      <a:pt x="158" y="204"/>
                    </a:cubicBezTo>
                    <a:cubicBezTo>
                      <a:pt x="158" y="197"/>
                      <a:pt x="164" y="192"/>
                      <a:pt x="171" y="192"/>
                    </a:cubicBezTo>
                    <a:lnTo>
                      <a:pt x="171" y="192"/>
                    </a:lnTo>
                    <a:cubicBezTo>
                      <a:pt x="178" y="192"/>
                      <a:pt x="183" y="197"/>
                      <a:pt x="183" y="204"/>
                    </a:cubicBezTo>
                    <a:cubicBezTo>
                      <a:pt x="183" y="211"/>
                      <a:pt x="178" y="217"/>
                      <a:pt x="171" y="217"/>
                    </a:cubicBezTo>
                    <a:close/>
                    <a:moveTo>
                      <a:pt x="121" y="217"/>
                    </a:moveTo>
                    <a:lnTo>
                      <a:pt x="121" y="217"/>
                    </a:lnTo>
                    <a:cubicBezTo>
                      <a:pt x="114" y="217"/>
                      <a:pt x="108" y="211"/>
                      <a:pt x="108" y="204"/>
                    </a:cubicBezTo>
                    <a:cubicBezTo>
                      <a:pt x="108" y="197"/>
                      <a:pt x="114" y="192"/>
                      <a:pt x="121" y="192"/>
                    </a:cubicBezTo>
                    <a:lnTo>
                      <a:pt x="121" y="192"/>
                    </a:lnTo>
                    <a:cubicBezTo>
                      <a:pt x="128" y="192"/>
                      <a:pt x="133" y="197"/>
                      <a:pt x="133" y="204"/>
                    </a:cubicBezTo>
                    <a:cubicBezTo>
                      <a:pt x="133" y="211"/>
                      <a:pt x="128" y="217"/>
                      <a:pt x="121" y="217"/>
                    </a:cubicBezTo>
                    <a:close/>
                    <a:moveTo>
                      <a:pt x="71" y="217"/>
                    </a:moveTo>
                    <a:lnTo>
                      <a:pt x="71" y="217"/>
                    </a:lnTo>
                    <a:cubicBezTo>
                      <a:pt x="64" y="217"/>
                      <a:pt x="58" y="211"/>
                      <a:pt x="58" y="204"/>
                    </a:cubicBezTo>
                    <a:cubicBezTo>
                      <a:pt x="58" y="197"/>
                      <a:pt x="64" y="192"/>
                      <a:pt x="71" y="192"/>
                    </a:cubicBezTo>
                    <a:lnTo>
                      <a:pt x="71" y="192"/>
                    </a:lnTo>
                    <a:cubicBezTo>
                      <a:pt x="78" y="192"/>
                      <a:pt x="83" y="197"/>
                      <a:pt x="83" y="204"/>
                    </a:cubicBezTo>
                    <a:cubicBezTo>
                      <a:pt x="83" y="211"/>
                      <a:pt x="78" y="217"/>
                      <a:pt x="71" y="217"/>
                    </a:cubicBezTo>
                    <a:close/>
                    <a:moveTo>
                      <a:pt x="21" y="217"/>
                    </a:moveTo>
                    <a:lnTo>
                      <a:pt x="21" y="217"/>
                    </a:lnTo>
                    <a:cubicBezTo>
                      <a:pt x="14" y="217"/>
                      <a:pt x="8" y="211"/>
                      <a:pt x="8" y="204"/>
                    </a:cubicBezTo>
                    <a:cubicBezTo>
                      <a:pt x="8" y="197"/>
                      <a:pt x="14" y="192"/>
                      <a:pt x="21" y="192"/>
                    </a:cubicBezTo>
                    <a:lnTo>
                      <a:pt x="21" y="192"/>
                    </a:lnTo>
                    <a:cubicBezTo>
                      <a:pt x="28" y="192"/>
                      <a:pt x="33" y="197"/>
                      <a:pt x="33" y="204"/>
                    </a:cubicBezTo>
                    <a:cubicBezTo>
                      <a:pt x="33" y="211"/>
                      <a:pt x="28" y="217"/>
                      <a:pt x="21" y="217"/>
                    </a:cubicBezTo>
                    <a:close/>
                    <a:moveTo>
                      <a:pt x="0" y="162"/>
                    </a:moveTo>
                    <a:lnTo>
                      <a:pt x="0" y="162"/>
                    </a:lnTo>
                    <a:cubicBezTo>
                      <a:pt x="0" y="155"/>
                      <a:pt x="6" y="150"/>
                      <a:pt x="13" y="150"/>
                    </a:cubicBezTo>
                    <a:cubicBezTo>
                      <a:pt x="20" y="150"/>
                      <a:pt x="25" y="155"/>
                      <a:pt x="25" y="162"/>
                    </a:cubicBezTo>
                    <a:lnTo>
                      <a:pt x="25" y="162"/>
                    </a:lnTo>
                    <a:cubicBezTo>
                      <a:pt x="25" y="169"/>
                      <a:pt x="20" y="175"/>
                      <a:pt x="13" y="175"/>
                    </a:cubicBezTo>
                    <a:cubicBezTo>
                      <a:pt x="6" y="175"/>
                      <a:pt x="0" y="169"/>
                      <a:pt x="0" y="162"/>
                    </a:cubicBezTo>
                    <a:close/>
                    <a:moveTo>
                      <a:pt x="0" y="112"/>
                    </a:moveTo>
                    <a:lnTo>
                      <a:pt x="0" y="112"/>
                    </a:lnTo>
                    <a:cubicBezTo>
                      <a:pt x="0" y="105"/>
                      <a:pt x="6" y="100"/>
                      <a:pt x="13" y="100"/>
                    </a:cubicBezTo>
                    <a:cubicBezTo>
                      <a:pt x="20" y="100"/>
                      <a:pt x="25" y="105"/>
                      <a:pt x="25" y="112"/>
                    </a:cubicBezTo>
                    <a:lnTo>
                      <a:pt x="25" y="112"/>
                    </a:lnTo>
                    <a:cubicBezTo>
                      <a:pt x="25" y="119"/>
                      <a:pt x="20" y="125"/>
                      <a:pt x="13" y="125"/>
                    </a:cubicBezTo>
                    <a:cubicBezTo>
                      <a:pt x="6" y="125"/>
                      <a:pt x="0" y="119"/>
                      <a:pt x="0" y="112"/>
                    </a:cubicBezTo>
                    <a:close/>
                    <a:moveTo>
                      <a:pt x="0" y="62"/>
                    </a:moveTo>
                    <a:lnTo>
                      <a:pt x="0" y="62"/>
                    </a:lnTo>
                    <a:cubicBezTo>
                      <a:pt x="0" y="55"/>
                      <a:pt x="6" y="50"/>
                      <a:pt x="13" y="50"/>
                    </a:cubicBezTo>
                    <a:cubicBezTo>
                      <a:pt x="20" y="50"/>
                      <a:pt x="25" y="55"/>
                      <a:pt x="25" y="62"/>
                    </a:cubicBezTo>
                    <a:lnTo>
                      <a:pt x="25" y="62"/>
                    </a:lnTo>
                    <a:cubicBezTo>
                      <a:pt x="25" y="69"/>
                      <a:pt x="20" y="75"/>
                      <a:pt x="13" y="75"/>
                    </a:cubicBezTo>
                    <a:cubicBezTo>
                      <a:pt x="6" y="75"/>
                      <a:pt x="0" y="69"/>
                      <a:pt x="0" y="62"/>
                    </a:cubicBezTo>
                    <a:close/>
                    <a:moveTo>
                      <a:pt x="0" y="12"/>
                    </a:moveTo>
                    <a:lnTo>
                      <a:pt x="0" y="12"/>
                    </a:lnTo>
                    <a:cubicBezTo>
                      <a:pt x="0" y="5"/>
                      <a:pt x="6" y="0"/>
                      <a:pt x="13" y="0"/>
                    </a:cubicBezTo>
                    <a:cubicBezTo>
                      <a:pt x="20" y="0"/>
                      <a:pt x="25" y="5"/>
                      <a:pt x="25" y="12"/>
                    </a:cubicBezTo>
                    <a:lnTo>
                      <a:pt x="25" y="12"/>
                    </a:lnTo>
                    <a:cubicBezTo>
                      <a:pt x="25" y="19"/>
                      <a:pt x="20" y="25"/>
                      <a:pt x="13" y="25"/>
                    </a:cubicBezTo>
                    <a:cubicBezTo>
                      <a:pt x="6" y="25"/>
                      <a:pt x="0" y="19"/>
                      <a:pt x="0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99240" y="2349000"/>
                <a:ext cx="103320" cy="108000"/>
              </a:xfrm>
              <a:custGeom>
                <a:avLst/>
                <a:gdLst/>
                <a:ahLst/>
                <a:rect l="l" t="t" r="r" b="b"/>
                <a:pathLst>
                  <a:path w="325" h="326">
                    <a:moveTo>
                      <a:pt x="325" y="13"/>
                    </a:moveTo>
                    <a:lnTo>
                      <a:pt x="325" y="13"/>
                    </a:lnTo>
                    <a:cubicBezTo>
                      <a:pt x="325" y="20"/>
                      <a:pt x="319" y="25"/>
                      <a:pt x="312" y="25"/>
                    </a:cubicBezTo>
                    <a:cubicBezTo>
                      <a:pt x="305" y="25"/>
                      <a:pt x="300" y="20"/>
                      <a:pt x="300" y="13"/>
                    </a:cubicBezTo>
                    <a:lnTo>
                      <a:pt x="300" y="13"/>
                    </a:lnTo>
                    <a:cubicBezTo>
                      <a:pt x="300" y="6"/>
                      <a:pt x="305" y="0"/>
                      <a:pt x="312" y="0"/>
                    </a:cubicBezTo>
                    <a:cubicBezTo>
                      <a:pt x="319" y="0"/>
                      <a:pt x="325" y="6"/>
                      <a:pt x="325" y="13"/>
                    </a:cubicBezTo>
                    <a:close/>
                    <a:moveTo>
                      <a:pt x="325" y="63"/>
                    </a:moveTo>
                    <a:lnTo>
                      <a:pt x="325" y="63"/>
                    </a:lnTo>
                    <a:cubicBezTo>
                      <a:pt x="325" y="70"/>
                      <a:pt x="319" y="76"/>
                      <a:pt x="312" y="76"/>
                    </a:cubicBezTo>
                    <a:cubicBezTo>
                      <a:pt x="305" y="76"/>
                      <a:pt x="300" y="70"/>
                      <a:pt x="300" y="63"/>
                    </a:cubicBezTo>
                    <a:lnTo>
                      <a:pt x="300" y="63"/>
                    </a:lnTo>
                    <a:cubicBezTo>
                      <a:pt x="300" y="56"/>
                      <a:pt x="305" y="50"/>
                      <a:pt x="312" y="50"/>
                    </a:cubicBezTo>
                    <a:cubicBezTo>
                      <a:pt x="319" y="50"/>
                      <a:pt x="325" y="56"/>
                      <a:pt x="325" y="63"/>
                    </a:cubicBezTo>
                    <a:close/>
                    <a:moveTo>
                      <a:pt x="325" y="113"/>
                    </a:moveTo>
                    <a:lnTo>
                      <a:pt x="325" y="113"/>
                    </a:lnTo>
                    <a:cubicBezTo>
                      <a:pt x="325" y="120"/>
                      <a:pt x="319" y="126"/>
                      <a:pt x="312" y="126"/>
                    </a:cubicBezTo>
                    <a:cubicBezTo>
                      <a:pt x="305" y="126"/>
                      <a:pt x="300" y="120"/>
                      <a:pt x="300" y="113"/>
                    </a:cubicBezTo>
                    <a:lnTo>
                      <a:pt x="300" y="113"/>
                    </a:lnTo>
                    <a:cubicBezTo>
                      <a:pt x="300" y="106"/>
                      <a:pt x="305" y="101"/>
                      <a:pt x="312" y="101"/>
                    </a:cubicBezTo>
                    <a:cubicBezTo>
                      <a:pt x="319" y="101"/>
                      <a:pt x="325" y="106"/>
                      <a:pt x="325" y="113"/>
                    </a:cubicBezTo>
                    <a:close/>
                    <a:moveTo>
                      <a:pt x="304" y="167"/>
                    </a:moveTo>
                    <a:lnTo>
                      <a:pt x="304" y="167"/>
                    </a:lnTo>
                    <a:cubicBezTo>
                      <a:pt x="297" y="167"/>
                      <a:pt x="291" y="162"/>
                      <a:pt x="291" y="155"/>
                    </a:cubicBezTo>
                    <a:cubicBezTo>
                      <a:pt x="291" y="148"/>
                      <a:pt x="297" y="142"/>
                      <a:pt x="304" y="142"/>
                    </a:cubicBezTo>
                    <a:lnTo>
                      <a:pt x="304" y="142"/>
                    </a:lnTo>
                    <a:cubicBezTo>
                      <a:pt x="311" y="142"/>
                      <a:pt x="316" y="148"/>
                      <a:pt x="316" y="155"/>
                    </a:cubicBezTo>
                    <a:cubicBezTo>
                      <a:pt x="316" y="162"/>
                      <a:pt x="311" y="167"/>
                      <a:pt x="304" y="167"/>
                    </a:cubicBezTo>
                    <a:close/>
                    <a:moveTo>
                      <a:pt x="254" y="167"/>
                    </a:moveTo>
                    <a:lnTo>
                      <a:pt x="254" y="167"/>
                    </a:lnTo>
                    <a:cubicBezTo>
                      <a:pt x="247" y="167"/>
                      <a:pt x="241" y="162"/>
                      <a:pt x="241" y="155"/>
                    </a:cubicBezTo>
                    <a:cubicBezTo>
                      <a:pt x="241" y="148"/>
                      <a:pt x="247" y="142"/>
                      <a:pt x="254" y="142"/>
                    </a:cubicBezTo>
                    <a:lnTo>
                      <a:pt x="254" y="142"/>
                    </a:lnTo>
                    <a:cubicBezTo>
                      <a:pt x="261" y="142"/>
                      <a:pt x="266" y="148"/>
                      <a:pt x="266" y="155"/>
                    </a:cubicBezTo>
                    <a:cubicBezTo>
                      <a:pt x="266" y="162"/>
                      <a:pt x="261" y="167"/>
                      <a:pt x="254" y="167"/>
                    </a:cubicBezTo>
                    <a:close/>
                    <a:moveTo>
                      <a:pt x="204" y="167"/>
                    </a:moveTo>
                    <a:lnTo>
                      <a:pt x="204" y="167"/>
                    </a:lnTo>
                    <a:cubicBezTo>
                      <a:pt x="197" y="167"/>
                      <a:pt x="191" y="162"/>
                      <a:pt x="191" y="155"/>
                    </a:cubicBezTo>
                    <a:cubicBezTo>
                      <a:pt x="191" y="148"/>
                      <a:pt x="197" y="142"/>
                      <a:pt x="204" y="142"/>
                    </a:cubicBezTo>
                    <a:lnTo>
                      <a:pt x="204" y="142"/>
                    </a:lnTo>
                    <a:cubicBezTo>
                      <a:pt x="211" y="142"/>
                      <a:pt x="216" y="148"/>
                      <a:pt x="216" y="155"/>
                    </a:cubicBezTo>
                    <a:cubicBezTo>
                      <a:pt x="216" y="162"/>
                      <a:pt x="211" y="167"/>
                      <a:pt x="204" y="167"/>
                    </a:cubicBezTo>
                    <a:close/>
                    <a:moveTo>
                      <a:pt x="154" y="167"/>
                    </a:moveTo>
                    <a:lnTo>
                      <a:pt x="154" y="167"/>
                    </a:lnTo>
                    <a:cubicBezTo>
                      <a:pt x="147" y="167"/>
                      <a:pt x="141" y="162"/>
                      <a:pt x="141" y="155"/>
                    </a:cubicBezTo>
                    <a:cubicBezTo>
                      <a:pt x="141" y="148"/>
                      <a:pt x="147" y="142"/>
                      <a:pt x="154" y="142"/>
                    </a:cubicBezTo>
                    <a:lnTo>
                      <a:pt x="154" y="142"/>
                    </a:lnTo>
                    <a:cubicBezTo>
                      <a:pt x="161" y="142"/>
                      <a:pt x="166" y="148"/>
                      <a:pt x="166" y="155"/>
                    </a:cubicBezTo>
                    <a:cubicBezTo>
                      <a:pt x="166" y="162"/>
                      <a:pt x="161" y="167"/>
                      <a:pt x="154" y="167"/>
                    </a:cubicBezTo>
                    <a:close/>
                    <a:moveTo>
                      <a:pt x="104" y="167"/>
                    </a:moveTo>
                    <a:lnTo>
                      <a:pt x="104" y="167"/>
                    </a:lnTo>
                    <a:cubicBezTo>
                      <a:pt x="97" y="167"/>
                      <a:pt x="91" y="162"/>
                      <a:pt x="91" y="155"/>
                    </a:cubicBezTo>
                    <a:cubicBezTo>
                      <a:pt x="91" y="148"/>
                      <a:pt x="97" y="142"/>
                      <a:pt x="104" y="142"/>
                    </a:cubicBezTo>
                    <a:lnTo>
                      <a:pt x="104" y="142"/>
                    </a:lnTo>
                    <a:cubicBezTo>
                      <a:pt x="111" y="142"/>
                      <a:pt x="116" y="148"/>
                      <a:pt x="116" y="155"/>
                    </a:cubicBezTo>
                    <a:cubicBezTo>
                      <a:pt x="116" y="162"/>
                      <a:pt x="111" y="167"/>
                      <a:pt x="104" y="167"/>
                    </a:cubicBezTo>
                    <a:close/>
                    <a:moveTo>
                      <a:pt x="54" y="167"/>
                    </a:moveTo>
                    <a:lnTo>
                      <a:pt x="54" y="167"/>
                    </a:lnTo>
                    <a:cubicBezTo>
                      <a:pt x="47" y="167"/>
                      <a:pt x="41" y="162"/>
                      <a:pt x="41" y="155"/>
                    </a:cubicBezTo>
                    <a:cubicBezTo>
                      <a:pt x="41" y="148"/>
                      <a:pt x="47" y="142"/>
                      <a:pt x="54" y="142"/>
                    </a:cubicBezTo>
                    <a:lnTo>
                      <a:pt x="54" y="142"/>
                    </a:lnTo>
                    <a:cubicBezTo>
                      <a:pt x="61" y="142"/>
                      <a:pt x="66" y="148"/>
                      <a:pt x="66" y="155"/>
                    </a:cubicBezTo>
                    <a:cubicBezTo>
                      <a:pt x="66" y="162"/>
                      <a:pt x="61" y="167"/>
                      <a:pt x="54" y="167"/>
                    </a:cubicBezTo>
                    <a:close/>
                    <a:moveTo>
                      <a:pt x="25" y="163"/>
                    </a:moveTo>
                    <a:lnTo>
                      <a:pt x="25" y="163"/>
                    </a:lnTo>
                    <a:cubicBezTo>
                      <a:pt x="25" y="170"/>
                      <a:pt x="19" y="176"/>
                      <a:pt x="12" y="176"/>
                    </a:cubicBezTo>
                    <a:cubicBezTo>
                      <a:pt x="5" y="176"/>
                      <a:pt x="0" y="170"/>
                      <a:pt x="0" y="163"/>
                    </a:cubicBezTo>
                    <a:lnTo>
                      <a:pt x="0" y="163"/>
                    </a:lnTo>
                    <a:cubicBezTo>
                      <a:pt x="0" y="156"/>
                      <a:pt x="5" y="151"/>
                      <a:pt x="12" y="151"/>
                    </a:cubicBezTo>
                    <a:cubicBezTo>
                      <a:pt x="19" y="151"/>
                      <a:pt x="25" y="156"/>
                      <a:pt x="25" y="163"/>
                    </a:cubicBezTo>
                    <a:close/>
                    <a:moveTo>
                      <a:pt x="25" y="213"/>
                    </a:moveTo>
                    <a:lnTo>
                      <a:pt x="25" y="213"/>
                    </a:lnTo>
                    <a:cubicBezTo>
                      <a:pt x="25" y="220"/>
                      <a:pt x="19" y="226"/>
                      <a:pt x="12" y="226"/>
                    </a:cubicBezTo>
                    <a:cubicBezTo>
                      <a:pt x="5" y="226"/>
                      <a:pt x="0" y="220"/>
                      <a:pt x="0" y="213"/>
                    </a:cubicBezTo>
                    <a:lnTo>
                      <a:pt x="0" y="213"/>
                    </a:lnTo>
                    <a:cubicBezTo>
                      <a:pt x="0" y="206"/>
                      <a:pt x="5" y="201"/>
                      <a:pt x="12" y="201"/>
                    </a:cubicBezTo>
                    <a:cubicBezTo>
                      <a:pt x="19" y="201"/>
                      <a:pt x="25" y="206"/>
                      <a:pt x="25" y="213"/>
                    </a:cubicBezTo>
                    <a:close/>
                    <a:moveTo>
                      <a:pt x="25" y="263"/>
                    </a:moveTo>
                    <a:lnTo>
                      <a:pt x="25" y="263"/>
                    </a:lnTo>
                    <a:cubicBezTo>
                      <a:pt x="25" y="270"/>
                      <a:pt x="19" y="276"/>
                      <a:pt x="12" y="276"/>
                    </a:cubicBezTo>
                    <a:cubicBezTo>
                      <a:pt x="5" y="276"/>
                      <a:pt x="0" y="270"/>
                      <a:pt x="0" y="263"/>
                    </a:cubicBezTo>
                    <a:lnTo>
                      <a:pt x="0" y="263"/>
                    </a:lnTo>
                    <a:cubicBezTo>
                      <a:pt x="0" y="256"/>
                      <a:pt x="5" y="251"/>
                      <a:pt x="12" y="251"/>
                    </a:cubicBezTo>
                    <a:cubicBezTo>
                      <a:pt x="19" y="251"/>
                      <a:pt x="25" y="256"/>
                      <a:pt x="25" y="263"/>
                    </a:cubicBezTo>
                    <a:close/>
                    <a:moveTo>
                      <a:pt x="25" y="313"/>
                    </a:moveTo>
                    <a:lnTo>
                      <a:pt x="25" y="313"/>
                    </a:lnTo>
                    <a:cubicBezTo>
                      <a:pt x="25" y="320"/>
                      <a:pt x="19" y="326"/>
                      <a:pt x="12" y="326"/>
                    </a:cubicBezTo>
                    <a:cubicBezTo>
                      <a:pt x="5" y="326"/>
                      <a:pt x="0" y="320"/>
                      <a:pt x="0" y="313"/>
                    </a:cubicBezTo>
                    <a:lnTo>
                      <a:pt x="0" y="313"/>
                    </a:lnTo>
                    <a:cubicBezTo>
                      <a:pt x="0" y="306"/>
                      <a:pt x="5" y="301"/>
                      <a:pt x="12" y="301"/>
                    </a:cubicBezTo>
                    <a:cubicBezTo>
                      <a:pt x="19" y="301"/>
                      <a:pt x="25" y="306"/>
                      <a:pt x="25" y="3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18040" y="2064240"/>
                <a:ext cx="289080" cy="96840"/>
              </a:xfrm>
              <a:custGeom>
                <a:avLst/>
                <a:gdLst/>
                <a:ahLst/>
                <a:rect l="l" t="t" r="r" b="b"/>
                <a:pathLst>
                  <a:path w="224" h="72">
                    <a:moveTo>
                      <a:pt x="0" y="72"/>
                    </a:moveTo>
                    <a:lnTo>
                      <a:pt x="0" y="37"/>
                    </a:lnTo>
                    <a:lnTo>
                      <a:pt x="224" y="37"/>
                    </a:lnTo>
                    <a:lnTo>
                      <a:pt x="224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16960" y="2352960"/>
                <a:ext cx="286560" cy="94320"/>
              </a:xfrm>
              <a:custGeom>
                <a:avLst/>
                <a:gdLst/>
                <a:ahLst/>
                <a:rect l="l" t="t" r="r" b="b"/>
                <a:pathLst>
                  <a:path w="222" h="70">
                    <a:moveTo>
                      <a:pt x="222" y="70"/>
                    </a:moveTo>
                    <a:lnTo>
                      <a:pt x="222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255480" y="2066400"/>
                <a:ext cx="0" cy="44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55480" y="2401560"/>
                <a:ext cx="0" cy="47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06360" y="2064240"/>
                <a:ext cx="132840" cy="99720"/>
              </a:xfrm>
              <a:custGeom>
                <a:avLst/>
                <a:gdLst/>
                <a:ahLst/>
                <a:rect l="l" t="t" r="r" b="b"/>
                <a:pathLst>
                  <a:path w="103" h="74">
                    <a:moveTo>
                      <a:pt x="103" y="74"/>
                    </a:moveTo>
                    <a:lnTo>
                      <a:pt x="103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07440" y="2352960"/>
                <a:ext cx="133200" cy="100080"/>
              </a:xfrm>
              <a:custGeom>
                <a:avLst/>
                <a:gdLst/>
                <a:ahLst/>
                <a:rect l="l" t="t" r="r" b="b"/>
                <a:pathLst>
                  <a:path w="103" h="74">
                    <a:moveTo>
                      <a:pt x="103" y="0"/>
                    </a:moveTo>
                    <a:lnTo>
                      <a:pt x="103" y="17"/>
                    </a:lnTo>
                    <a:lnTo>
                      <a:pt x="0" y="17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4900680" y="1989000"/>
            <a:ext cx="1399680" cy="571680"/>
            <a:chOff x="4900680" y="1989000"/>
            <a:chExt cx="1399680" cy="571680"/>
          </a:xfrm>
        </p:grpSpPr>
        <p:grpSp>
          <p:nvGrpSpPr>
            <p:cNvPr id="134" name=""/>
            <p:cNvGrpSpPr/>
            <p:nvPr/>
          </p:nvGrpSpPr>
          <p:grpSpPr>
            <a:xfrm>
              <a:off x="5135400" y="1989000"/>
              <a:ext cx="1157040" cy="363600"/>
              <a:chOff x="5135400" y="1989000"/>
              <a:chExt cx="1157040" cy="363600"/>
            </a:xfrm>
          </p:grpSpPr>
          <p:sp>
            <p:nvSpPr>
              <p:cNvPr id="135" name=""/>
              <p:cNvSpPr/>
              <p:nvPr/>
            </p:nvSpPr>
            <p:spPr>
              <a:xfrm>
                <a:off x="5135400" y="1989000"/>
                <a:ext cx="1157040" cy="362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5400" y="1989000"/>
                <a:ext cx="1157040" cy="3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5135400" y="1989000"/>
                <a:ext cx="1157040" cy="362160"/>
              </a:xfrm>
              <a:prstGeom prst="rect">
                <a:avLst/>
              </a:prstGeom>
              <a:noFill/>
              <a:ln cap="rnd"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6035400" y="2373480"/>
              <a:ext cx="204480" cy="1854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900680" y="2357280"/>
              <a:ext cx="234720" cy="168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128920" y="2332080"/>
              <a:ext cx="1171440" cy="23760"/>
              <a:chOff x="5128920" y="2332080"/>
              <a:chExt cx="1171440" cy="23760"/>
            </a:xfrm>
          </p:grpSpPr>
          <p:sp>
            <p:nvSpPr>
              <p:cNvPr id="141" name=""/>
              <p:cNvSpPr/>
              <p:nvPr/>
            </p:nvSpPr>
            <p:spPr>
              <a:xfrm>
                <a:off x="5128920" y="2332080"/>
                <a:ext cx="117144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28920" y="2332080"/>
                <a:ext cx="1171440" cy="2376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178240" y="2373480"/>
              <a:ext cx="203040" cy="1854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0600" y="24033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79160" y="2403360"/>
              <a:ext cx="28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    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2760" y="2374920"/>
              <a:ext cx="204480" cy="18576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32080" y="3054240"/>
            <a:ext cx="1485720" cy="989640"/>
            <a:chOff x="2332080" y="3054240"/>
            <a:chExt cx="1485720" cy="989640"/>
          </a:xfrm>
        </p:grpSpPr>
        <p:sp>
          <p:nvSpPr>
            <p:cNvPr id="148" name=""/>
            <p:cNvSpPr/>
            <p:nvPr/>
          </p:nvSpPr>
          <p:spPr>
            <a:xfrm>
              <a:off x="2529360" y="3860640"/>
              <a:ext cx="1107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 2 shall not be a lifting axle.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y axle may be a steering ax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2332080" y="3054240"/>
              <a:ext cx="1485720" cy="709560"/>
              <a:chOff x="2332080" y="3054240"/>
              <a:chExt cx="1485720" cy="70956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3397320" y="3425760"/>
                <a:ext cx="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397320" y="3300480"/>
                <a:ext cx="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41640" y="3408480"/>
                <a:ext cx="103320" cy="9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33720" y="3319560"/>
                <a:ext cx="104760" cy="9828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32080" y="3073320"/>
                <a:ext cx="1485720" cy="663480"/>
              </a:xfrm>
              <a:custGeom>
                <a:avLst/>
                <a:gdLst/>
                <a:ahLst/>
                <a:rect l="l" t="t" r="r" b="b"/>
                <a:pathLst>
                  <a:path w="928" h="487">
                    <a:moveTo>
                      <a:pt x="925" y="6"/>
                    </a:moveTo>
                    <a:lnTo>
                      <a:pt x="901" y="6"/>
                    </a:lnTo>
                    <a:lnTo>
                      <a:pt x="901" y="0"/>
                    </a:lnTo>
                    <a:lnTo>
                      <a:pt x="925" y="0"/>
                    </a:lnTo>
                    <a:lnTo>
                      <a:pt x="925" y="6"/>
                    </a:lnTo>
                    <a:close/>
                    <a:moveTo>
                      <a:pt x="883" y="6"/>
                    </a:moveTo>
                    <a:lnTo>
                      <a:pt x="859" y="6"/>
                    </a:lnTo>
                    <a:lnTo>
                      <a:pt x="859" y="0"/>
                    </a:lnTo>
                    <a:lnTo>
                      <a:pt x="883" y="0"/>
                    </a:lnTo>
                    <a:lnTo>
                      <a:pt x="883" y="6"/>
                    </a:lnTo>
                    <a:close/>
                    <a:moveTo>
                      <a:pt x="841" y="6"/>
                    </a:moveTo>
                    <a:lnTo>
                      <a:pt x="817" y="6"/>
                    </a:lnTo>
                    <a:lnTo>
                      <a:pt x="817" y="0"/>
                    </a:lnTo>
                    <a:lnTo>
                      <a:pt x="841" y="0"/>
                    </a:lnTo>
                    <a:lnTo>
                      <a:pt x="841" y="6"/>
                    </a:lnTo>
                    <a:close/>
                    <a:moveTo>
                      <a:pt x="799" y="6"/>
                    </a:moveTo>
                    <a:lnTo>
                      <a:pt x="775" y="6"/>
                    </a:lnTo>
                    <a:lnTo>
                      <a:pt x="775" y="0"/>
                    </a:lnTo>
                    <a:lnTo>
                      <a:pt x="799" y="0"/>
                    </a:lnTo>
                    <a:lnTo>
                      <a:pt x="799" y="6"/>
                    </a:lnTo>
                    <a:close/>
                    <a:moveTo>
                      <a:pt x="756" y="6"/>
                    </a:moveTo>
                    <a:lnTo>
                      <a:pt x="732" y="6"/>
                    </a:lnTo>
                    <a:lnTo>
                      <a:pt x="732" y="0"/>
                    </a:lnTo>
                    <a:lnTo>
                      <a:pt x="756" y="0"/>
                    </a:lnTo>
                    <a:lnTo>
                      <a:pt x="756" y="6"/>
                    </a:lnTo>
                    <a:close/>
                    <a:moveTo>
                      <a:pt x="714" y="6"/>
                    </a:moveTo>
                    <a:lnTo>
                      <a:pt x="690" y="6"/>
                    </a:lnTo>
                    <a:lnTo>
                      <a:pt x="690" y="0"/>
                    </a:lnTo>
                    <a:lnTo>
                      <a:pt x="714" y="0"/>
                    </a:lnTo>
                    <a:lnTo>
                      <a:pt x="714" y="6"/>
                    </a:lnTo>
                    <a:close/>
                    <a:moveTo>
                      <a:pt x="672" y="6"/>
                    </a:moveTo>
                    <a:lnTo>
                      <a:pt x="648" y="6"/>
                    </a:lnTo>
                    <a:lnTo>
                      <a:pt x="648" y="0"/>
                    </a:lnTo>
                    <a:lnTo>
                      <a:pt x="672" y="0"/>
                    </a:lnTo>
                    <a:lnTo>
                      <a:pt x="672" y="6"/>
                    </a:lnTo>
                    <a:close/>
                    <a:moveTo>
                      <a:pt x="630" y="6"/>
                    </a:moveTo>
                    <a:lnTo>
                      <a:pt x="606" y="6"/>
                    </a:lnTo>
                    <a:lnTo>
                      <a:pt x="606" y="0"/>
                    </a:lnTo>
                    <a:lnTo>
                      <a:pt x="630" y="0"/>
                    </a:lnTo>
                    <a:lnTo>
                      <a:pt x="630" y="6"/>
                    </a:lnTo>
                    <a:close/>
                    <a:moveTo>
                      <a:pt x="588" y="6"/>
                    </a:moveTo>
                    <a:lnTo>
                      <a:pt x="564" y="6"/>
                    </a:lnTo>
                    <a:lnTo>
                      <a:pt x="564" y="0"/>
                    </a:lnTo>
                    <a:lnTo>
                      <a:pt x="588" y="0"/>
                    </a:lnTo>
                    <a:lnTo>
                      <a:pt x="588" y="6"/>
                    </a:lnTo>
                    <a:close/>
                    <a:moveTo>
                      <a:pt x="546" y="6"/>
                    </a:moveTo>
                    <a:lnTo>
                      <a:pt x="522" y="6"/>
                    </a:lnTo>
                    <a:lnTo>
                      <a:pt x="522" y="0"/>
                    </a:lnTo>
                    <a:lnTo>
                      <a:pt x="546" y="0"/>
                    </a:lnTo>
                    <a:lnTo>
                      <a:pt x="546" y="6"/>
                    </a:lnTo>
                    <a:close/>
                    <a:moveTo>
                      <a:pt x="503" y="6"/>
                    </a:moveTo>
                    <a:lnTo>
                      <a:pt x="479" y="6"/>
                    </a:lnTo>
                    <a:lnTo>
                      <a:pt x="479" y="0"/>
                    </a:lnTo>
                    <a:lnTo>
                      <a:pt x="503" y="0"/>
                    </a:lnTo>
                    <a:lnTo>
                      <a:pt x="503" y="6"/>
                    </a:lnTo>
                    <a:close/>
                    <a:moveTo>
                      <a:pt x="461" y="6"/>
                    </a:moveTo>
                    <a:lnTo>
                      <a:pt x="437" y="6"/>
                    </a:lnTo>
                    <a:lnTo>
                      <a:pt x="437" y="0"/>
                    </a:lnTo>
                    <a:lnTo>
                      <a:pt x="461" y="0"/>
                    </a:lnTo>
                    <a:lnTo>
                      <a:pt x="461" y="6"/>
                    </a:lnTo>
                    <a:close/>
                    <a:moveTo>
                      <a:pt x="419" y="6"/>
                    </a:moveTo>
                    <a:lnTo>
                      <a:pt x="395" y="6"/>
                    </a:lnTo>
                    <a:lnTo>
                      <a:pt x="395" y="0"/>
                    </a:lnTo>
                    <a:lnTo>
                      <a:pt x="419" y="0"/>
                    </a:lnTo>
                    <a:lnTo>
                      <a:pt x="419" y="6"/>
                    </a:lnTo>
                    <a:close/>
                    <a:moveTo>
                      <a:pt x="377" y="6"/>
                    </a:moveTo>
                    <a:lnTo>
                      <a:pt x="353" y="6"/>
                    </a:lnTo>
                    <a:lnTo>
                      <a:pt x="353" y="0"/>
                    </a:lnTo>
                    <a:lnTo>
                      <a:pt x="377" y="0"/>
                    </a:lnTo>
                    <a:lnTo>
                      <a:pt x="377" y="6"/>
                    </a:lnTo>
                    <a:close/>
                    <a:moveTo>
                      <a:pt x="335" y="6"/>
                    </a:moveTo>
                    <a:lnTo>
                      <a:pt x="311" y="6"/>
                    </a:lnTo>
                    <a:lnTo>
                      <a:pt x="311" y="0"/>
                    </a:lnTo>
                    <a:lnTo>
                      <a:pt x="335" y="0"/>
                    </a:lnTo>
                    <a:lnTo>
                      <a:pt x="335" y="6"/>
                    </a:lnTo>
                    <a:close/>
                    <a:moveTo>
                      <a:pt x="293" y="6"/>
                    </a:moveTo>
                    <a:lnTo>
                      <a:pt x="268" y="6"/>
                    </a:lnTo>
                    <a:lnTo>
                      <a:pt x="268" y="0"/>
                    </a:lnTo>
                    <a:lnTo>
                      <a:pt x="293" y="0"/>
                    </a:lnTo>
                    <a:lnTo>
                      <a:pt x="293" y="6"/>
                    </a:lnTo>
                    <a:close/>
                    <a:moveTo>
                      <a:pt x="250" y="6"/>
                    </a:moveTo>
                    <a:lnTo>
                      <a:pt x="226" y="6"/>
                    </a:lnTo>
                    <a:lnTo>
                      <a:pt x="226" y="0"/>
                    </a:lnTo>
                    <a:lnTo>
                      <a:pt x="250" y="0"/>
                    </a:lnTo>
                    <a:lnTo>
                      <a:pt x="250" y="6"/>
                    </a:lnTo>
                    <a:close/>
                    <a:moveTo>
                      <a:pt x="208" y="6"/>
                    </a:moveTo>
                    <a:lnTo>
                      <a:pt x="184" y="6"/>
                    </a:lnTo>
                    <a:lnTo>
                      <a:pt x="184" y="0"/>
                    </a:lnTo>
                    <a:lnTo>
                      <a:pt x="208" y="0"/>
                    </a:lnTo>
                    <a:lnTo>
                      <a:pt x="208" y="6"/>
                    </a:lnTo>
                    <a:close/>
                    <a:moveTo>
                      <a:pt x="166" y="6"/>
                    </a:moveTo>
                    <a:lnTo>
                      <a:pt x="142" y="6"/>
                    </a:lnTo>
                    <a:lnTo>
                      <a:pt x="142" y="0"/>
                    </a:lnTo>
                    <a:lnTo>
                      <a:pt x="166" y="0"/>
                    </a:lnTo>
                    <a:lnTo>
                      <a:pt x="166" y="6"/>
                    </a:lnTo>
                    <a:close/>
                    <a:moveTo>
                      <a:pt x="124" y="6"/>
                    </a:moveTo>
                    <a:lnTo>
                      <a:pt x="100" y="6"/>
                    </a:lnTo>
                    <a:lnTo>
                      <a:pt x="100" y="0"/>
                    </a:lnTo>
                    <a:lnTo>
                      <a:pt x="124" y="0"/>
                    </a:lnTo>
                    <a:lnTo>
                      <a:pt x="124" y="6"/>
                    </a:lnTo>
                    <a:close/>
                    <a:moveTo>
                      <a:pt x="82" y="6"/>
                    </a:moveTo>
                    <a:lnTo>
                      <a:pt x="58" y="6"/>
                    </a:lnTo>
                    <a:lnTo>
                      <a:pt x="58" y="0"/>
                    </a:lnTo>
                    <a:lnTo>
                      <a:pt x="82" y="0"/>
                    </a:lnTo>
                    <a:lnTo>
                      <a:pt x="82" y="6"/>
                    </a:lnTo>
                    <a:close/>
                    <a:moveTo>
                      <a:pt x="40" y="6"/>
                    </a:moveTo>
                    <a:lnTo>
                      <a:pt x="15" y="6"/>
                    </a:lnTo>
                    <a:lnTo>
                      <a:pt x="15" y="0"/>
                    </a:lnTo>
                    <a:lnTo>
                      <a:pt x="40" y="0"/>
                    </a:lnTo>
                    <a:lnTo>
                      <a:pt x="40" y="6"/>
                    </a:lnTo>
                    <a:close/>
                    <a:moveTo>
                      <a:pt x="6" y="9"/>
                    </a:moveTo>
                    <a:lnTo>
                      <a:pt x="6" y="33"/>
                    </a:lnTo>
                    <a:lnTo>
                      <a:pt x="0" y="33"/>
                    </a:lnTo>
                    <a:lnTo>
                      <a:pt x="0" y="9"/>
                    </a:lnTo>
                    <a:lnTo>
                      <a:pt x="6" y="9"/>
                    </a:lnTo>
                    <a:close/>
                    <a:moveTo>
                      <a:pt x="6" y="51"/>
                    </a:moveTo>
                    <a:lnTo>
                      <a:pt x="6" y="75"/>
                    </a:lnTo>
                    <a:lnTo>
                      <a:pt x="0" y="75"/>
                    </a:lnTo>
                    <a:lnTo>
                      <a:pt x="0" y="51"/>
                    </a:lnTo>
                    <a:lnTo>
                      <a:pt x="6" y="51"/>
                    </a:lnTo>
                    <a:close/>
                    <a:moveTo>
                      <a:pt x="6" y="93"/>
                    </a:moveTo>
                    <a:lnTo>
                      <a:pt x="6" y="117"/>
                    </a:lnTo>
                    <a:lnTo>
                      <a:pt x="0" y="117"/>
                    </a:lnTo>
                    <a:lnTo>
                      <a:pt x="0" y="93"/>
                    </a:lnTo>
                    <a:lnTo>
                      <a:pt x="6" y="93"/>
                    </a:lnTo>
                    <a:close/>
                    <a:moveTo>
                      <a:pt x="6" y="135"/>
                    </a:moveTo>
                    <a:lnTo>
                      <a:pt x="6" y="159"/>
                    </a:lnTo>
                    <a:lnTo>
                      <a:pt x="0" y="159"/>
                    </a:lnTo>
                    <a:lnTo>
                      <a:pt x="0" y="135"/>
                    </a:lnTo>
                    <a:lnTo>
                      <a:pt x="6" y="135"/>
                    </a:lnTo>
                    <a:close/>
                    <a:moveTo>
                      <a:pt x="6" y="177"/>
                    </a:moveTo>
                    <a:lnTo>
                      <a:pt x="6" y="201"/>
                    </a:lnTo>
                    <a:lnTo>
                      <a:pt x="0" y="201"/>
                    </a:lnTo>
                    <a:lnTo>
                      <a:pt x="0" y="177"/>
                    </a:lnTo>
                    <a:lnTo>
                      <a:pt x="6" y="177"/>
                    </a:lnTo>
                    <a:close/>
                    <a:moveTo>
                      <a:pt x="6" y="219"/>
                    </a:moveTo>
                    <a:lnTo>
                      <a:pt x="6" y="243"/>
                    </a:lnTo>
                    <a:lnTo>
                      <a:pt x="0" y="243"/>
                    </a:lnTo>
                    <a:lnTo>
                      <a:pt x="0" y="219"/>
                    </a:lnTo>
                    <a:lnTo>
                      <a:pt x="6" y="219"/>
                    </a:lnTo>
                    <a:close/>
                    <a:moveTo>
                      <a:pt x="6" y="261"/>
                    </a:moveTo>
                    <a:lnTo>
                      <a:pt x="6" y="285"/>
                    </a:lnTo>
                    <a:lnTo>
                      <a:pt x="0" y="285"/>
                    </a:lnTo>
                    <a:lnTo>
                      <a:pt x="0" y="261"/>
                    </a:lnTo>
                    <a:lnTo>
                      <a:pt x="6" y="261"/>
                    </a:lnTo>
                    <a:close/>
                    <a:moveTo>
                      <a:pt x="6" y="304"/>
                    </a:moveTo>
                    <a:lnTo>
                      <a:pt x="6" y="328"/>
                    </a:lnTo>
                    <a:lnTo>
                      <a:pt x="0" y="328"/>
                    </a:lnTo>
                    <a:lnTo>
                      <a:pt x="0" y="304"/>
                    </a:lnTo>
                    <a:lnTo>
                      <a:pt x="6" y="304"/>
                    </a:lnTo>
                    <a:close/>
                    <a:moveTo>
                      <a:pt x="6" y="346"/>
                    </a:moveTo>
                    <a:lnTo>
                      <a:pt x="6" y="370"/>
                    </a:lnTo>
                    <a:lnTo>
                      <a:pt x="0" y="370"/>
                    </a:lnTo>
                    <a:lnTo>
                      <a:pt x="0" y="346"/>
                    </a:lnTo>
                    <a:lnTo>
                      <a:pt x="6" y="346"/>
                    </a:lnTo>
                    <a:close/>
                    <a:moveTo>
                      <a:pt x="6" y="388"/>
                    </a:moveTo>
                    <a:lnTo>
                      <a:pt x="6" y="412"/>
                    </a:lnTo>
                    <a:lnTo>
                      <a:pt x="0" y="412"/>
                    </a:lnTo>
                    <a:lnTo>
                      <a:pt x="0" y="388"/>
                    </a:lnTo>
                    <a:lnTo>
                      <a:pt x="6" y="388"/>
                    </a:lnTo>
                    <a:close/>
                    <a:moveTo>
                      <a:pt x="6" y="430"/>
                    </a:moveTo>
                    <a:lnTo>
                      <a:pt x="6" y="454"/>
                    </a:lnTo>
                    <a:lnTo>
                      <a:pt x="0" y="454"/>
                    </a:lnTo>
                    <a:lnTo>
                      <a:pt x="0" y="430"/>
                    </a:lnTo>
                    <a:lnTo>
                      <a:pt x="6" y="430"/>
                    </a:lnTo>
                    <a:close/>
                    <a:moveTo>
                      <a:pt x="6" y="472"/>
                    </a:moveTo>
                    <a:lnTo>
                      <a:pt x="6" y="484"/>
                    </a:lnTo>
                    <a:lnTo>
                      <a:pt x="3" y="481"/>
                    </a:lnTo>
                    <a:lnTo>
                      <a:pt x="15" y="481"/>
                    </a:lnTo>
                    <a:lnTo>
                      <a:pt x="15" y="487"/>
                    </a:lnTo>
                    <a:lnTo>
                      <a:pt x="0" y="487"/>
                    </a:lnTo>
                    <a:lnTo>
                      <a:pt x="0" y="472"/>
                    </a:lnTo>
                    <a:lnTo>
                      <a:pt x="6" y="472"/>
                    </a:lnTo>
                    <a:close/>
                    <a:moveTo>
                      <a:pt x="33" y="481"/>
                    </a:moveTo>
                    <a:lnTo>
                      <a:pt x="58" y="481"/>
                    </a:lnTo>
                    <a:lnTo>
                      <a:pt x="58" y="487"/>
                    </a:lnTo>
                    <a:lnTo>
                      <a:pt x="33" y="487"/>
                    </a:lnTo>
                    <a:lnTo>
                      <a:pt x="33" y="481"/>
                    </a:lnTo>
                    <a:close/>
                    <a:moveTo>
                      <a:pt x="76" y="481"/>
                    </a:moveTo>
                    <a:lnTo>
                      <a:pt x="100" y="481"/>
                    </a:lnTo>
                    <a:lnTo>
                      <a:pt x="100" y="487"/>
                    </a:lnTo>
                    <a:lnTo>
                      <a:pt x="76" y="487"/>
                    </a:lnTo>
                    <a:lnTo>
                      <a:pt x="76" y="481"/>
                    </a:lnTo>
                    <a:close/>
                    <a:moveTo>
                      <a:pt x="118" y="481"/>
                    </a:moveTo>
                    <a:lnTo>
                      <a:pt x="142" y="481"/>
                    </a:lnTo>
                    <a:lnTo>
                      <a:pt x="142" y="487"/>
                    </a:lnTo>
                    <a:lnTo>
                      <a:pt x="118" y="487"/>
                    </a:lnTo>
                    <a:lnTo>
                      <a:pt x="118" y="481"/>
                    </a:lnTo>
                    <a:close/>
                    <a:moveTo>
                      <a:pt x="160" y="481"/>
                    </a:moveTo>
                    <a:lnTo>
                      <a:pt x="184" y="481"/>
                    </a:lnTo>
                    <a:lnTo>
                      <a:pt x="184" y="487"/>
                    </a:lnTo>
                    <a:lnTo>
                      <a:pt x="160" y="487"/>
                    </a:lnTo>
                    <a:lnTo>
                      <a:pt x="160" y="481"/>
                    </a:lnTo>
                    <a:close/>
                    <a:moveTo>
                      <a:pt x="202" y="481"/>
                    </a:moveTo>
                    <a:lnTo>
                      <a:pt x="226" y="481"/>
                    </a:lnTo>
                    <a:lnTo>
                      <a:pt x="226" y="487"/>
                    </a:lnTo>
                    <a:lnTo>
                      <a:pt x="202" y="487"/>
                    </a:lnTo>
                    <a:lnTo>
                      <a:pt x="202" y="481"/>
                    </a:lnTo>
                    <a:close/>
                    <a:moveTo>
                      <a:pt x="244" y="481"/>
                    </a:moveTo>
                    <a:lnTo>
                      <a:pt x="268" y="481"/>
                    </a:lnTo>
                    <a:lnTo>
                      <a:pt x="268" y="487"/>
                    </a:lnTo>
                    <a:lnTo>
                      <a:pt x="244" y="487"/>
                    </a:lnTo>
                    <a:lnTo>
                      <a:pt x="244" y="481"/>
                    </a:lnTo>
                    <a:close/>
                    <a:moveTo>
                      <a:pt x="287" y="481"/>
                    </a:moveTo>
                    <a:lnTo>
                      <a:pt x="311" y="481"/>
                    </a:lnTo>
                    <a:lnTo>
                      <a:pt x="311" y="487"/>
                    </a:lnTo>
                    <a:lnTo>
                      <a:pt x="287" y="487"/>
                    </a:lnTo>
                    <a:lnTo>
                      <a:pt x="287" y="481"/>
                    </a:lnTo>
                    <a:close/>
                    <a:moveTo>
                      <a:pt x="329" y="481"/>
                    </a:moveTo>
                    <a:lnTo>
                      <a:pt x="353" y="481"/>
                    </a:lnTo>
                    <a:lnTo>
                      <a:pt x="353" y="487"/>
                    </a:lnTo>
                    <a:lnTo>
                      <a:pt x="329" y="487"/>
                    </a:lnTo>
                    <a:lnTo>
                      <a:pt x="329" y="481"/>
                    </a:lnTo>
                    <a:close/>
                    <a:moveTo>
                      <a:pt x="371" y="481"/>
                    </a:moveTo>
                    <a:lnTo>
                      <a:pt x="395" y="481"/>
                    </a:lnTo>
                    <a:lnTo>
                      <a:pt x="395" y="487"/>
                    </a:lnTo>
                    <a:lnTo>
                      <a:pt x="371" y="487"/>
                    </a:lnTo>
                    <a:lnTo>
                      <a:pt x="371" y="481"/>
                    </a:lnTo>
                    <a:close/>
                    <a:moveTo>
                      <a:pt x="413" y="481"/>
                    </a:moveTo>
                    <a:lnTo>
                      <a:pt x="437" y="481"/>
                    </a:lnTo>
                    <a:lnTo>
                      <a:pt x="437" y="487"/>
                    </a:lnTo>
                    <a:lnTo>
                      <a:pt x="413" y="487"/>
                    </a:lnTo>
                    <a:lnTo>
                      <a:pt x="413" y="481"/>
                    </a:lnTo>
                    <a:close/>
                    <a:moveTo>
                      <a:pt x="455" y="481"/>
                    </a:moveTo>
                    <a:lnTo>
                      <a:pt x="479" y="481"/>
                    </a:lnTo>
                    <a:lnTo>
                      <a:pt x="479" y="487"/>
                    </a:lnTo>
                    <a:lnTo>
                      <a:pt x="455" y="487"/>
                    </a:lnTo>
                    <a:lnTo>
                      <a:pt x="455" y="481"/>
                    </a:lnTo>
                    <a:close/>
                    <a:moveTo>
                      <a:pt x="497" y="481"/>
                    </a:moveTo>
                    <a:lnTo>
                      <a:pt x="522" y="481"/>
                    </a:lnTo>
                    <a:lnTo>
                      <a:pt x="522" y="487"/>
                    </a:lnTo>
                    <a:lnTo>
                      <a:pt x="497" y="487"/>
                    </a:lnTo>
                    <a:lnTo>
                      <a:pt x="497" y="481"/>
                    </a:lnTo>
                    <a:close/>
                    <a:moveTo>
                      <a:pt x="540" y="481"/>
                    </a:moveTo>
                    <a:lnTo>
                      <a:pt x="564" y="481"/>
                    </a:lnTo>
                    <a:lnTo>
                      <a:pt x="564" y="487"/>
                    </a:lnTo>
                    <a:lnTo>
                      <a:pt x="540" y="487"/>
                    </a:lnTo>
                    <a:lnTo>
                      <a:pt x="540" y="481"/>
                    </a:lnTo>
                    <a:close/>
                    <a:moveTo>
                      <a:pt x="582" y="481"/>
                    </a:moveTo>
                    <a:lnTo>
                      <a:pt x="606" y="481"/>
                    </a:lnTo>
                    <a:lnTo>
                      <a:pt x="606" y="487"/>
                    </a:lnTo>
                    <a:lnTo>
                      <a:pt x="582" y="487"/>
                    </a:lnTo>
                    <a:lnTo>
                      <a:pt x="582" y="481"/>
                    </a:lnTo>
                    <a:close/>
                    <a:moveTo>
                      <a:pt x="624" y="481"/>
                    </a:moveTo>
                    <a:lnTo>
                      <a:pt x="648" y="481"/>
                    </a:lnTo>
                    <a:lnTo>
                      <a:pt x="648" y="487"/>
                    </a:lnTo>
                    <a:lnTo>
                      <a:pt x="624" y="487"/>
                    </a:lnTo>
                    <a:lnTo>
                      <a:pt x="624" y="481"/>
                    </a:lnTo>
                    <a:close/>
                    <a:moveTo>
                      <a:pt x="666" y="481"/>
                    </a:moveTo>
                    <a:lnTo>
                      <a:pt x="690" y="481"/>
                    </a:lnTo>
                    <a:lnTo>
                      <a:pt x="690" y="487"/>
                    </a:lnTo>
                    <a:lnTo>
                      <a:pt x="666" y="487"/>
                    </a:lnTo>
                    <a:lnTo>
                      <a:pt x="666" y="481"/>
                    </a:lnTo>
                    <a:close/>
                    <a:moveTo>
                      <a:pt x="708" y="481"/>
                    </a:moveTo>
                    <a:lnTo>
                      <a:pt x="732" y="481"/>
                    </a:lnTo>
                    <a:lnTo>
                      <a:pt x="732" y="487"/>
                    </a:lnTo>
                    <a:lnTo>
                      <a:pt x="708" y="487"/>
                    </a:lnTo>
                    <a:lnTo>
                      <a:pt x="708" y="481"/>
                    </a:lnTo>
                    <a:close/>
                    <a:moveTo>
                      <a:pt x="750" y="481"/>
                    </a:moveTo>
                    <a:lnTo>
                      <a:pt x="775" y="481"/>
                    </a:lnTo>
                    <a:lnTo>
                      <a:pt x="775" y="487"/>
                    </a:lnTo>
                    <a:lnTo>
                      <a:pt x="750" y="487"/>
                    </a:lnTo>
                    <a:lnTo>
                      <a:pt x="750" y="481"/>
                    </a:lnTo>
                    <a:close/>
                    <a:moveTo>
                      <a:pt x="793" y="481"/>
                    </a:moveTo>
                    <a:lnTo>
                      <a:pt x="817" y="481"/>
                    </a:lnTo>
                    <a:lnTo>
                      <a:pt x="817" y="487"/>
                    </a:lnTo>
                    <a:lnTo>
                      <a:pt x="793" y="487"/>
                    </a:lnTo>
                    <a:lnTo>
                      <a:pt x="793" y="481"/>
                    </a:lnTo>
                    <a:close/>
                    <a:moveTo>
                      <a:pt x="835" y="481"/>
                    </a:moveTo>
                    <a:lnTo>
                      <a:pt x="859" y="481"/>
                    </a:lnTo>
                    <a:lnTo>
                      <a:pt x="859" y="487"/>
                    </a:lnTo>
                    <a:lnTo>
                      <a:pt x="835" y="487"/>
                    </a:lnTo>
                    <a:lnTo>
                      <a:pt x="835" y="481"/>
                    </a:lnTo>
                    <a:close/>
                    <a:moveTo>
                      <a:pt x="877" y="481"/>
                    </a:moveTo>
                    <a:lnTo>
                      <a:pt x="901" y="481"/>
                    </a:lnTo>
                    <a:lnTo>
                      <a:pt x="901" y="487"/>
                    </a:lnTo>
                    <a:lnTo>
                      <a:pt x="877" y="487"/>
                    </a:lnTo>
                    <a:lnTo>
                      <a:pt x="877" y="481"/>
                    </a:lnTo>
                    <a:close/>
                    <a:moveTo>
                      <a:pt x="919" y="481"/>
                    </a:moveTo>
                    <a:lnTo>
                      <a:pt x="925" y="481"/>
                    </a:lnTo>
                    <a:lnTo>
                      <a:pt x="922" y="484"/>
                    </a:lnTo>
                    <a:lnTo>
                      <a:pt x="922" y="466"/>
                    </a:lnTo>
                    <a:lnTo>
                      <a:pt x="928" y="466"/>
                    </a:lnTo>
                    <a:lnTo>
                      <a:pt x="928" y="487"/>
                    </a:lnTo>
                    <a:lnTo>
                      <a:pt x="919" y="487"/>
                    </a:lnTo>
                    <a:lnTo>
                      <a:pt x="919" y="481"/>
                    </a:lnTo>
                    <a:close/>
                    <a:moveTo>
                      <a:pt x="922" y="448"/>
                    </a:moveTo>
                    <a:lnTo>
                      <a:pt x="922" y="424"/>
                    </a:lnTo>
                    <a:lnTo>
                      <a:pt x="928" y="424"/>
                    </a:lnTo>
                    <a:lnTo>
                      <a:pt x="928" y="448"/>
                    </a:lnTo>
                    <a:lnTo>
                      <a:pt x="922" y="448"/>
                    </a:lnTo>
                    <a:close/>
                    <a:moveTo>
                      <a:pt x="922" y="406"/>
                    </a:moveTo>
                    <a:lnTo>
                      <a:pt x="922" y="382"/>
                    </a:lnTo>
                    <a:lnTo>
                      <a:pt x="928" y="382"/>
                    </a:lnTo>
                    <a:lnTo>
                      <a:pt x="928" y="406"/>
                    </a:lnTo>
                    <a:lnTo>
                      <a:pt x="922" y="406"/>
                    </a:lnTo>
                    <a:close/>
                    <a:moveTo>
                      <a:pt x="922" y="364"/>
                    </a:moveTo>
                    <a:lnTo>
                      <a:pt x="922" y="340"/>
                    </a:lnTo>
                    <a:lnTo>
                      <a:pt x="928" y="340"/>
                    </a:lnTo>
                    <a:lnTo>
                      <a:pt x="928" y="364"/>
                    </a:lnTo>
                    <a:lnTo>
                      <a:pt x="922" y="364"/>
                    </a:lnTo>
                    <a:close/>
                    <a:moveTo>
                      <a:pt x="922" y="322"/>
                    </a:moveTo>
                    <a:lnTo>
                      <a:pt x="922" y="298"/>
                    </a:lnTo>
                    <a:lnTo>
                      <a:pt x="928" y="298"/>
                    </a:lnTo>
                    <a:lnTo>
                      <a:pt x="928" y="322"/>
                    </a:lnTo>
                    <a:lnTo>
                      <a:pt x="922" y="322"/>
                    </a:lnTo>
                    <a:close/>
                    <a:moveTo>
                      <a:pt x="922" y="279"/>
                    </a:moveTo>
                    <a:lnTo>
                      <a:pt x="922" y="255"/>
                    </a:lnTo>
                    <a:lnTo>
                      <a:pt x="928" y="255"/>
                    </a:lnTo>
                    <a:lnTo>
                      <a:pt x="928" y="279"/>
                    </a:lnTo>
                    <a:lnTo>
                      <a:pt x="922" y="279"/>
                    </a:lnTo>
                    <a:close/>
                    <a:moveTo>
                      <a:pt x="922" y="237"/>
                    </a:moveTo>
                    <a:lnTo>
                      <a:pt x="922" y="213"/>
                    </a:lnTo>
                    <a:lnTo>
                      <a:pt x="928" y="213"/>
                    </a:lnTo>
                    <a:lnTo>
                      <a:pt x="928" y="237"/>
                    </a:lnTo>
                    <a:lnTo>
                      <a:pt x="922" y="237"/>
                    </a:lnTo>
                    <a:close/>
                    <a:moveTo>
                      <a:pt x="922" y="195"/>
                    </a:moveTo>
                    <a:lnTo>
                      <a:pt x="922" y="171"/>
                    </a:lnTo>
                    <a:lnTo>
                      <a:pt x="928" y="171"/>
                    </a:lnTo>
                    <a:lnTo>
                      <a:pt x="928" y="195"/>
                    </a:lnTo>
                    <a:lnTo>
                      <a:pt x="922" y="195"/>
                    </a:lnTo>
                    <a:close/>
                    <a:moveTo>
                      <a:pt x="922" y="153"/>
                    </a:moveTo>
                    <a:lnTo>
                      <a:pt x="922" y="129"/>
                    </a:lnTo>
                    <a:lnTo>
                      <a:pt x="928" y="129"/>
                    </a:lnTo>
                    <a:lnTo>
                      <a:pt x="928" y="153"/>
                    </a:lnTo>
                    <a:lnTo>
                      <a:pt x="922" y="153"/>
                    </a:lnTo>
                    <a:close/>
                    <a:moveTo>
                      <a:pt x="922" y="111"/>
                    </a:moveTo>
                    <a:lnTo>
                      <a:pt x="922" y="87"/>
                    </a:lnTo>
                    <a:lnTo>
                      <a:pt x="928" y="87"/>
                    </a:lnTo>
                    <a:lnTo>
                      <a:pt x="928" y="111"/>
                    </a:lnTo>
                    <a:lnTo>
                      <a:pt x="922" y="111"/>
                    </a:lnTo>
                    <a:close/>
                    <a:moveTo>
                      <a:pt x="922" y="69"/>
                    </a:moveTo>
                    <a:lnTo>
                      <a:pt x="922" y="45"/>
                    </a:lnTo>
                    <a:lnTo>
                      <a:pt x="928" y="45"/>
                    </a:lnTo>
                    <a:lnTo>
                      <a:pt x="928" y="69"/>
                    </a:lnTo>
                    <a:lnTo>
                      <a:pt x="922" y="69"/>
                    </a:lnTo>
                    <a:close/>
                    <a:moveTo>
                      <a:pt x="922" y="27"/>
                    </a:moveTo>
                    <a:lnTo>
                      <a:pt x="922" y="3"/>
                    </a:lnTo>
                    <a:lnTo>
                      <a:pt x="928" y="3"/>
                    </a:lnTo>
                    <a:lnTo>
                      <a:pt x="928" y="27"/>
                    </a:lnTo>
                    <a:lnTo>
                      <a:pt x="92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2436840" y="3362040"/>
                <a:ext cx="112680" cy="104760"/>
                <a:chOff x="2436840" y="3362040"/>
                <a:chExt cx="112680" cy="104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439360" y="3364560"/>
                  <a:ext cx="107280" cy="10224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36840" y="3416760"/>
                  <a:ext cx="112680" cy="108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2493720" y="3362040"/>
                  <a:ext cx="1080" cy="1047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3049560" y="3732120"/>
                <a:ext cx="493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60800" y="3732120"/>
                <a:ext cx="48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106440" y="3087720"/>
                <a:ext cx="49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995200" y="3087720"/>
                <a:ext cx="49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2986200" y="3059280"/>
                <a:ext cx="215640" cy="95040"/>
                <a:chOff x="2986200" y="3059280"/>
                <a:chExt cx="215640" cy="950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986200" y="3059280"/>
                  <a:ext cx="215640" cy="95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986200" y="3059280"/>
                  <a:ext cx="215640" cy="950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86200" y="3666960"/>
                <a:ext cx="215640" cy="95400"/>
                <a:chOff x="2986200" y="3666960"/>
                <a:chExt cx="215640" cy="954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986200" y="3666960"/>
                  <a:ext cx="215640" cy="9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86200" y="3666960"/>
                  <a:ext cx="215640" cy="954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135240" y="3181320"/>
                <a:ext cx="58680" cy="36720"/>
                <a:chOff x="3135240" y="3181320"/>
                <a:chExt cx="58680" cy="36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135240" y="3181320"/>
                  <a:ext cx="58680" cy="3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135240" y="3181320"/>
                  <a:ext cx="58680" cy="367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094200" y="3193920"/>
                <a:ext cx="36360" cy="9720"/>
                <a:chOff x="3094200" y="3193920"/>
                <a:chExt cx="36360" cy="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094200" y="3193920"/>
                  <a:ext cx="36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94200" y="3193920"/>
                  <a:ext cx="36360" cy="97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135240" y="3600360"/>
                <a:ext cx="58680" cy="36720"/>
                <a:chOff x="3135240" y="3600360"/>
                <a:chExt cx="58680" cy="36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135240" y="3600360"/>
                  <a:ext cx="58680" cy="3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135240" y="3600360"/>
                  <a:ext cx="58680" cy="367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094200" y="3613320"/>
                <a:ext cx="36360" cy="9360"/>
                <a:chOff x="3094200" y="3613320"/>
                <a:chExt cx="36360" cy="93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094200" y="3613320"/>
                  <a:ext cx="36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094200" y="3613320"/>
                  <a:ext cx="36360" cy="93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006720" y="3174840"/>
                <a:ext cx="3240" cy="27000"/>
                <a:chOff x="3006720" y="3174840"/>
                <a:chExt cx="3240" cy="270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006720" y="3174840"/>
                  <a:ext cx="324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06720" y="3174840"/>
                  <a:ext cx="3240" cy="270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029040" y="3403440"/>
                <a:ext cx="1094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3002040" y="3621240"/>
                <a:ext cx="3240" cy="27000"/>
                <a:chOff x="3002040" y="3621240"/>
                <a:chExt cx="3240" cy="27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002040" y="3621240"/>
                  <a:ext cx="324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2040" y="3621240"/>
                  <a:ext cx="3240" cy="270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3235320" y="3668760"/>
                <a:ext cx="216000" cy="95040"/>
                <a:chOff x="3235320" y="3668760"/>
                <a:chExt cx="216000" cy="950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235320" y="3668760"/>
                  <a:ext cx="216000" cy="95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235320" y="3668760"/>
                  <a:ext cx="216000" cy="950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235320" y="3059280"/>
                <a:ext cx="216000" cy="93600"/>
                <a:chOff x="3235320" y="3059280"/>
                <a:chExt cx="216000" cy="936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235320" y="3059280"/>
                  <a:ext cx="216000" cy="9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235320" y="3059280"/>
                  <a:ext cx="216000" cy="936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343320" y="3179880"/>
                <a:ext cx="101520" cy="36360"/>
                <a:chOff x="3343320" y="3179880"/>
                <a:chExt cx="101520" cy="3636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3385440" y="3179880"/>
                  <a:ext cx="59400" cy="36360"/>
                  <a:chOff x="3385440" y="3179880"/>
                  <a:chExt cx="59400" cy="363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385440" y="3179880"/>
                    <a:ext cx="59400" cy="36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385440" y="3179880"/>
                    <a:ext cx="59400" cy="36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343320" y="3193200"/>
                  <a:ext cx="38160" cy="7920"/>
                  <a:chOff x="3343320" y="3193200"/>
                  <a:chExt cx="38160" cy="79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343320" y="3193200"/>
                    <a:ext cx="381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343320" y="3193200"/>
                    <a:ext cx="3816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3338640" y="3602160"/>
                <a:ext cx="102960" cy="36360"/>
                <a:chOff x="3338640" y="3602160"/>
                <a:chExt cx="102960" cy="363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3381480" y="3602160"/>
                  <a:ext cx="60120" cy="36360"/>
                  <a:chOff x="3381480" y="3602160"/>
                  <a:chExt cx="60120" cy="363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3381480" y="3602160"/>
                    <a:ext cx="60120" cy="36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381480" y="3602160"/>
                    <a:ext cx="60120" cy="36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3338640" y="3615480"/>
                  <a:ext cx="38880" cy="7920"/>
                  <a:chOff x="3338640" y="3615480"/>
                  <a:chExt cx="38880" cy="79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338640" y="3615480"/>
                    <a:ext cx="38880" cy="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338640" y="3615480"/>
                    <a:ext cx="3888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3267000" y="3170160"/>
                <a:ext cx="1800" cy="27000"/>
                <a:chOff x="3267000" y="3170160"/>
                <a:chExt cx="1800" cy="27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267000" y="3170160"/>
                  <a:ext cx="180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7000" y="3170160"/>
                  <a:ext cx="1800" cy="270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257640" y="3619440"/>
                <a:ext cx="1440" cy="28800"/>
                <a:chOff x="3257640" y="3619440"/>
                <a:chExt cx="1440" cy="288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257640" y="3619440"/>
                  <a:ext cx="144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57640" y="3619440"/>
                  <a:ext cx="1440" cy="28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28920" y="3352680"/>
                <a:ext cx="104760" cy="98640"/>
                <a:chOff x="3328920" y="3352680"/>
                <a:chExt cx="104760" cy="986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328920" y="3352680"/>
                  <a:ext cx="104760" cy="9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28920" y="3352680"/>
                  <a:ext cx="104760" cy="986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3125880" y="3220920"/>
                <a:ext cx="42840" cy="88920"/>
              </a:xfrm>
              <a:custGeom>
                <a:avLst/>
                <a:gdLst/>
                <a:ahLst/>
                <a:rect l="l" t="t" r="r" b="b"/>
                <a:pathLst>
                  <a:path w="32" h="66">
                    <a:moveTo>
                      <a:pt x="0" y="66"/>
                    </a:moveTo>
                    <a:lnTo>
                      <a:pt x="0" y="28"/>
                    </a:lnTo>
                    <a:lnTo>
                      <a:pt x="32" y="28"/>
                    </a:lnTo>
                    <a:lnTo>
                      <a:pt x="32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127320" y="3503520"/>
                <a:ext cx="39600" cy="9072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0" y="0"/>
                    </a:moveTo>
                    <a:lnTo>
                      <a:pt x="0" y="38"/>
                    </a:lnTo>
                    <a:lnTo>
                      <a:pt x="30" y="38"/>
                    </a:lnTo>
                    <a:lnTo>
                      <a:pt x="30" y="66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376440" y="3216240"/>
                <a:ext cx="34920" cy="128520"/>
              </a:xfrm>
              <a:custGeom>
                <a:avLst/>
                <a:gdLst/>
                <a:ahLst/>
                <a:rect l="l" t="t" r="r" b="b"/>
                <a:pathLst>
                  <a:path w="27" h="94">
                    <a:moveTo>
                      <a:pt x="0" y="94"/>
                    </a:moveTo>
                    <a:lnTo>
                      <a:pt x="0" y="40"/>
                    </a:lnTo>
                    <a:lnTo>
                      <a:pt x="27" y="40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78240" y="3456000"/>
                <a:ext cx="34920" cy="142920"/>
              </a:xfrm>
              <a:custGeom>
                <a:avLst/>
                <a:gdLst/>
                <a:ahLst/>
                <a:rect l="l" t="t" r="r" b="b"/>
                <a:pathLst>
                  <a:path w="27" h="105">
                    <a:moveTo>
                      <a:pt x="0" y="0"/>
                    </a:moveTo>
                    <a:lnTo>
                      <a:pt x="0" y="60"/>
                    </a:lnTo>
                    <a:lnTo>
                      <a:pt x="27" y="60"/>
                    </a:lnTo>
                    <a:lnTo>
                      <a:pt x="27" y="105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3035160" y="3319560"/>
                <a:ext cx="103320" cy="183960"/>
                <a:chOff x="3035160" y="3319560"/>
                <a:chExt cx="103320" cy="183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35160" y="3319560"/>
                  <a:ext cx="103320" cy="183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35160" y="3319560"/>
                  <a:ext cx="103320" cy="1839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735280" y="3668760"/>
                <a:ext cx="214200" cy="95040"/>
                <a:chOff x="2735280" y="3668760"/>
                <a:chExt cx="214200" cy="950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735280" y="3668760"/>
                  <a:ext cx="214200" cy="95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735280" y="3668760"/>
                  <a:ext cx="214200" cy="950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846520" y="3600360"/>
                <a:ext cx="99360" cy="38160"/>
                <a:chOff x="2846520" y="3600360"/>
                <a:chExt cx="99360" cy="3816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2886840" y="3600360"/>
                  <a:ext cx="59040" cy="38160"/>
                  <a:chOff x="2886840" y="3600360"/>
                  <a:chExt cx="59040" cy="381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886840" y="3600360"/>
                    <a:ext cx="59040" cy="38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886840" y="3600360"/>
                    <a:ext cx="5904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2846520" y="3614400"/>
                  <a:ext cx="36360" cy="8640"/>
                  <a:chOff x="2846520" y="3614400"/>
                  <a:chExt cx="36360" cy="86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2846520" y="3614400"/>
                    <a:ext cx="36360" cy="8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846520" y="3614400"/>
                    <a:ext cx="36360" cy="86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2847960" y="3184560"/>
                <a:ext cx="99720" cy="36360"/>
                <a:chOff x="2847960" y="3184560"/>
                <a:chExt cx="99720" cy="3636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2888640" y="3184560"/>
                  <a:ext cx="59040" cy="36360"/>
                  <a:chOff x="2888640" y="3184560"/>
                  <a:chExt cx="59040" cy="3636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2888640" y="3184560"/>
                    <a:ext cx="59040" cy="36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888640" y="3184560"/>
                    <a:ext cx="59040" cy="36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847960" y="3197880"/>
                  <a:ext cx="36720" cy="7920"/>
                  <a:chOff x="2847960" y="3197880"/>
                  <a:chExt cx="36720" cy="7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2847960" y="3197880"/>
                    <a:ext cx="36720" cy="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47960" y="3197880"/>
                    <a:ext cx="3672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1" name=""/>
              <p:cNvGrpSpPr/>
              <p:nvPr/>
            </p:nvGrpSpPr>
            <p:grpSpPr>
              <a:xfrm>
                <a:off x="2733840" y="3059280"/>
                <a:ext cx="214200" cy="96840"/>
                <a:chOff x="2733840" y="3059280"/>
                <a:chExt cx="214200" cy="968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733840" y="3059280"/>
                  <a:ext cx="214200" cy="9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733840" y="3059280"/>
                  <a:ext cx="214200" cy="968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2911320" y="3219480"/>
                <a:ext cx="136800" cy="95400"/>
              </a:xfrm>
              <a:custGeom>
                <a:avLst/>
                <a:gdLst/>
                <a:ahLst/>
                <a:rect l="l" t="t" r="r" b="b"/>
                <a:pathLst>
                  <a:path w="103" h="70">
                    <a:moveTo>
                      <a:pt x="0" y="0"/>
                    </a:moveTo>
                    <a:lnTo>
                      <a:pt x="0" y="38"/>
                    </a:lnTo>
                    <a:lnTo>
                      <a:pt x="103" y="38"/>
                    </a:lnTo>
                    <a:lnTo>
                      <a:pt x="103" y="7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911320" y="3503520"/>
                <a:ext cx="130320" cy="90720"/>
              </a:xfrm>
              <a:custGeom>
                <a:avLst/>
                <a:gdLst/>
                <a:ahLst/>
                <a:rect l="l" t="t" r="r" b="b"/>
                <a:pathLst>
                  <a:path w="98" h="66">
                    <a:moveTo>
                      <a:pt x="0" y="66"/>
                    </a:moveTo>
                    <a:lnTo>
                      <a:pt x="0" y="32"/>
                    </a:lnTo>
                    <a:lnTo>
                      <a:pt x="98" y="32"/>
                    </a:lnTo>
                    <a:lnTo>
                      <a:pt x="98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33720" y="3409920"/>
                <a:ext cx="1080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200000">
                <a:off x="2997720" y="3383280"/>
                <a:ext cx="1515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2  2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3351240" y="336888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02040" y="3213000"/>
                <a:ext cx="110880" cy="100080"/>
              </a:xfrm>
              <a:custGeom>
                <a:avLst/>
                <a:gdLst/>
                <a:ahLst/>
                <a:rect l="l" t="t" r="r" b="b"/>
                <a:pathLst>
                  <a:path w="683" h="618">
                    <a:moveTo>
                      <a:pt x="633" y="593"/>
                    </a:moveTo>
                    <a:lnTo>
                      <a:pt x="633" y="593"/>
                    </a:lnTo>
                    <a:cubicBezTo>
                      <a:pt x="633" y="579"/>
                      <a:pt x="644" y="568"/>
                      <a:pt x="658" y="568"/>
                    </a:cubicBezTo>
                    <a:cubicBezTo>
                      <a:pt x="672" y="568"/>
                      <a:pt x="683" y="579"/>
                      <a:pt x="683" y="593"/>
                    </a:cubicBezTo>
                    <a:lnTo>
                      <a:pt x="683" y="593"/>
                    </a:lnTo>
                    <a:cubicBezTo>
                      <a:pt x="683" y="607"/>
                      <a:pt x="672" y="618"/>
                      <a:pt x="658" y="618"/>
                    </a:cubicBezTo>
                    <a:cubicBezTo>
                      <a:pt x="644" y="618"/>
                      <a:pt x="633" y="607"/>
                      <a:pt x="633" y="593"/>
                    </a:cubicBezTo>
                    <a:close/>
                    <a:moveTo>
                      <a:pt x="633" y="493"/>
                    </a:moveTo>
                    <a:lnTo>
                      <a:pt x="633" y="493"/>
                    </a:lnTo>
                    <a:cubicBezTo>
                      <a:pt x="633" y="479"/>
                      <a:pt x="644" y="468"/>
                      <a:pt x="658" y="468"/>
                    </a:cubicBezTo>
                    <a:cubicBezTo>
                      <a:pt x="672" y="468"/>
                      <a:pt x="683" y="479"/>
                      <a:pt x="683" y="493"/>
                    </a:cubicBezTo>
                    <a:lnTo>
                      <a:pt x="683" y="493"/>
                    </a:lnTo>
                    <a:cubicBezTo>
                      <a:pt x="683" y="507"/>
                      <a:pt x="672" y="518"/>
                      <a:pt x="658" y="518"/>
                    </a:cubicBezTo>
                    <a:cubicBezTo>
                      <a:pt x="644" y="518"/>
                      <a:pt x="633" y="507"/>
                      <a:pt x="633" y="493"/>
                    </a:cubicBezTo>
                    <a:close/>
                    <a:moveTo>
                      <a:pt x="633" y="393"/>
                    </a:moveTo>
                    <a:lnTo>
                      <a:pt x="633" y="393"/>
                    </a:lnTo>
                    <a:cubicBezTo>
                      <a:pt x="633" y="379"/>
                      <a:pt x="644" y="368"/>
                      <a:pt x="658" y="368"/>
                    </a:cubicBezTo>
                    <a:cubicBezTo>
                      <a:pt x="672" y="368"/>
                      <a:pt x="683" y="379"/>
                      <a:pt x="683" y="393"/>
                    </a:cubicBezTo>
                    <a:lnTo>
                      <a:pt x="683" y="393"/>
                    </a:lnTo>
                    <a:cubicBezTo>
                      <a:pt x="683" y="407"/>
                      <a:pt x="672" y="418"/>
                      <a:pt x="658" y="418"/>
                    </a:cubicBezTo>
                    <a:cubicBezTo>
                      <a:pt x="644" y="418"/>
                      <a:pt x="633" y="407"/>
                      <a:pt x="633" y="393"/>
                    </a:cubicBezTo>
                    <a:close/>
                    <a:moveTo>
                      <a:pt x="633" y="293"/>
                    </a:moveTo>
                    <a:lnTo>
                      <a:pt x="633" y="293"/>
                    </a:lnTo>
                    <a:cubicBezTo>
                      <a:pt x="633" y="279"/>
                      <a:pt x="644" y="268"/>
                      <a:pt x="658" y="268"/>
                    </a:cubicBezTo>
                    <a:cubicBezTo>
                      <a:pt x="672" y="268"/>
                      <a:pt x="683" y="279"/>
                      <a:pt x="683" y="293"/>
                    </a:cubicBezTo>
                    <a:lnTo>
                      <a:pt x="683" y="293"/>
                    </a:lnTo>
                    <a:cubicBezTo>
                      <a:pt x="683" y="306"/>
                      <a:pt x="672" y="318"/>
                      <a:pt x="658" y="318"/>
                    </a:cubicBezTo>
                    <a:cubicBezTo>
                      <a:pt x="644" y="318"/>
                      <a:pt x="633" y="306"/>
                      <a:pt x="633" y="293"/>
                    </a:cubicBezTo>
                    <a:close/>
                    <a:moveTo>
                      <a:pt x="633" y="193"/>
                    </a:moveTo>
                    <a:lnTo>
                      <a:pt x="633" y="193"/>
                    </a:lnTo>
                    <a:cubicBezTo>
                      <a:pt x="633" y="179"/>
                      <a:pt x="644" y="168"/>
                      <a:pt x="658" y="168"/>
                    </a:cubicBezTo>
                    <a:cubicBezTo>
                      <a:pt x="672" y="168"/>
                      <a:pt x="683" y="179"/>
                      <a:pt x="683" y="193"/>
                    </a:cubicBezTo>
                    <a:lnTo>
                      <a:pt x="683" y="193"/>
                    </a:lnTo>
                    <a:cubicBezTo>
                      <a:pt x="683" y="206"/>
                      <a:pt x="672" y="218"/>
                      <a:pt x="658" y="218"/>
                    </a:cubicBezTo>
                    <a:cubicBezTo>
                      <a:pt x="644" y="218"/>
                      <a:pt x="633" y="206"/>
                      <a:pt x="633" y="193"/>
                    </a:cubicBezTo>
                    <a:close/>
                    <a:moveTo>
                      <a:pt x="608" y="168"/>
                    </a:moveTo>
                    <a:lnTo>
                      <a:pt x="608" y="168"/>
                    </a:lnTo>
                    <a:cubicBezTo>
                      <a:pt x="594" y="168"/>
                      <a:pt x="583" y="157"/>
                      <a:pt x="583" y="143"/>
                    </a:cubicBezTo>
                    <a:cubicBezTo>
                      <a:pt x="583" y="129"/>
                      <a:pt x="594" y="118"/>
                      <a:pt x="608" y="118"/>
                    </a:cubicBezTo>
                    <a:lnTo>
                      <a:pt x="608" y="118"/>
                    </a:lnTo>
                    <a:cubicBezTo>
                      <a:pt x="622" y="118"/>
                      <a:pt x="633" y="129"/>
                      <a:pt x="633" y="143"/>
                    </a:cubicBezTo>
                    <a:cubicBezTo>
                      <a:pt x="633" y="157"/>
                      <a:pt x="622" y="168"/>
                      <a:pt x="608" y="168"/>
                    </a:cubicBezTo>
                    <a:close/>
                    <a:moveTo>
                      <a:pt x="508" y="168"/>
                    </a:moveTo>
                    <a:lnTo>
                      <a:pt x="508" y="168"/>
                    </a:lnTo>
                    <a:cubicBezTo>
                      <a:pt x="494" y="168"/>
                      <a:pt x="483" y="157"/>
                      <a:pt x="483" y="143"/>
                    </a:cubicBezTo>
                    <a:cubicBezTo>
                      <a:pt x="483" y="129"/>
                      <a:pt x="494" y="118"/>
                      <a:pt x="508" y="118"/>
                    </a:cubicBezTo>
                    <a:lnTo>
                      <a:pt x="508" y="118"/>
                    </a:lnTo>
                    <a:cubicBezTo>
                      <a:pt x="522" y="118"/>
                      <a:pt x="533" y="129"/>
                      <a:pt x="533" y="143"/>
                    </a:cubicBezTo>
                    <a:cubicBezTo>
                      <a:pt x="533" y="157"/>
                      <a:pt x="522" y="168"/>
                      <a:pt x="508" y="168"/>
                    </a:cubicBezTo>
                    <a:close/>
                    <a:moveTo>
                      <a:pt x="408" y="168"/>
                    </a:moveTo>
                    <a:lnTo>
                      <a:pt x="408" y="168"/>
                    </a:lnTo>
                    <a:cubicBezTo>
                      <a:pt x="394" y="168"/>
                      <a:pt x="383" y="157"/>
                      <a:pt x="383" y="143"/>
                    </a:cubicBezTo>
                    <a:cubicBezTo>
                      <a:pt x="383" y="129"/>
                      <a:pt x="394" y="118"/>
                      <a:pt x="408" y="118"/>
                    </a:cubicBezTo>
                    <a:lnTo>
                      <a:pt x="408" y="118"/>
                    </a:lnTo>
                    <a:cubicBezTo>
                      <a:pt x="422" y="118"/>
                      <a:pt x="433" y="129"/>
                      <a:pt x="433" y="143"/>
                    </a:cubicBezTo>
                    <a:cubicBezTo>
                      <a:pt x="433" y="157"/>
                      <a:pt x="422" y="168"/>
                      <a:pt x="408" y="168"/>
                    </a:cubicBezTo>
                    <a:close/>
                    <a:moveTo>
                      <a:pt x="308" y="168"/>
                    </a:moveTo>
                    <a:lnTo>
                      <a:pt x="308" y="168"/>
                    </a:lnTo>
                    <a:cubicBezTo>
                      <a:pt x="294" y="168"/>
                      <a:pt x="283" y="157"/>
                      <a:pt x="283" y="143"/>
                    </a:cubicBezTo>
                    <a:cubicBezTo>
                      <a:pt x="283" y="129"/>
                      <a:pt x="294" y="118"/>
                      <a:pt x="308" y="118"/>
                    </a:cubicBezTo>
                    <a:lnTo>
                      <a:pt x="308" y="118"/>
                    </a:lnTo>
                    <a:cubicBezTo>
                      <a:pt x="322" y="118"/>
                      <a:pt x="333" y="129"/>
                      <a:pt x="333" y="143"/>
                    </a:cubicBezTo>
                    <a:cubicBezTo>
                      <a:pt x="333" y="157"/>
                      <a:pt x="322" y="168"/>
                      <a:pt x="308" y="168"/>
                    </a:cubicBezTo>
                    <a:close/>
                    <a:moveTo>
                      <a:pt x="208" y="168"/>
                    </a:moveTo>
                    <a:lnTo>
                      <a:pt x="208" y="168"/>
                    </a:lnTo>
                    <a:cubicBezTo>
                      <a:pt x="194" y="168"/>
                      <a:pt x="183" y="157"/>
                      <a:pt x="183" y="143"/>
                    </a:cubicBezTo>
                    <a:cubicBezTo>
                      <a:pt x="183" y="129"/>
                      <a:pt x="194" y="118"/>
                      <a:pt x="208" y="118"/>
                    </a:cubicBezTo>
                    <a:lnTo>
                      <a:pt x="208" y="118"/>
                    </a:lnTo>
                    <a:cubicBezTo>
                      <a:pt x="221" y="118"/>
                      <a:pt x="233" y="129"/>
                      <a:pt x="233" y="143"/>
                    </a:cubicBezTo>
                    <a:cubicBezTo>
                      <a:pt x="233" y="157"/>
                      <a:pt x="221" y="168"/>
                      <a:pt x="208" y="168"/>
                    </a:cubicBezTo>
                    <a:close/>
                    <a:moveTo>
                      <a:pt x="108" y="168"/>
                    </a:moveTo>
                    <a:lnTo>
                      <a:pt x="108" y="168"/>
                    </a:lnTo>
                    <a:cubicBezTo>
                      <a:pt x="94" y="168"/>
                      <a:pt x="83" y="157"/>
                      <a:pt x="83" y="143"/>
                    </a:cubicBezTo>
                    <a:cubicBezTo>
                      <a:pt x="83" y="129"/>
                      <a:pt x="94" y="118"/>
                      <a:pt x="108" y="118"/>
                    </a:cubicBezTo>
                    <a:lnTo>
                      <a:pt x="108" y="118"/>
                    </a:lnTo>
                    <a:cubicBezTo>
                      <a:pt x="121" y="118"/>
                      <a:pt x="133" y="129"/>
                      <a:pt x="133" y="143"/>
                    </a:cubicBezTo>
                    <a:cubicBezTo>
                      <a:pt x="133" y="157"/>
                      <a:pt x="121" y="168"/>
                      <a:pt x="108" y="168"/>
                    </a:cubicBezTo>
                    <a:close/>
                    <a:moveTo>
                      <a:pt x="0" y="126"/>
                    </a:moveTo>
                    <a:lnTo>
                      <a:pt x="0" y="126"/>
                    </a:lnTo>
                    <a:cubicBezTo>
                      <a:pt x="0" y="112"/>
                      <a:pt x="11" y="101"/>
                      <a:pt x="25" y="101"/>
                    </a:cubicBezTo>
                    <a:cubicBezTo>
                      <a:pt x="39" y="101"/>
                      <a:pt x="50" y="112"/>
                      <a:pt x="50" y="126"/>
                    </a:cubicBezTo>
                    <a:lnTo>
                      <a:pt x="50" y="126"/>
                    </a:lnTo>
                    <a:cubicBezTo>
                      <a:pt x="50" y="139"/>
                      <a:pt x="39" y="151"/>
                      <a:pt x="25" y="151"/>
                    </a:cubicBezTo>
                    <a:cubicBezTo>
                      <a:pt x="11" y="151"/>
                      <a:pt x="0" y="139"/>
                      <a:pt x="0" y="126"/>
                    </a:cubicBezTo>
                    <a:close/>
                    <a:moveTo>
                      <a:pt x="0" y="26"/>
                    </a:moveTo>
                    <a:lnTo>
                      <a:pt x="0" y="25"/>
                    </a:lnTo>
                    <a:cubicBezTo>
                      <a:pt x="0" y="12"/>
                      <a:pt x="11" y="0"/>
                      <a:pt x="25" y="0"/>
                    </a:cubicBezTo>
                    <a:cubicBezTo>
                      <a:pt x="39" y="0"/>
                      <a:pt x="50" y="12"/>
                      <a:pt x="50" y="25"/>
                    </a:cubicBezTo>
                    <a:lnTo>
                      <a:pt x="50" y="26"/>
                    </a:lnTo>
                    <a:cubicBezTo>
                      <a:pt x="50" y="39"/>
                      <a:pt x="39" y="51"/>
                      <a:pt x="25" y="51"/>
                    </a:cubicBezTo>
                    <a:cubicBezTo>
                      <a:pt x="11" y="51"/>
                      <a:pt x="0" y="39"/>
                      <a:pt x="0" y="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63760" y="3201840"/>
                <a:ext cx="82800" cy="144720"/>
              </a:xfrm>
              <a:custGeom>
                <a:avLst/>
                <a:gdLst/>
                <a:ahLst/>
                <a:rect l="l" t="t" r="r" b="b"/>
                <a:pathLst>
                  <a:path w="517" h="884">
                    <a:moveTo>
                      <a:pt x="467" y="859"/>
                    </a:moveTo>
                    <a:lnTo>
                      <a:pt x="467" y="859"/>
                    </a:lnTo>
                    <a:cubicBezTo>
                      <a:pt x="467" y="845"/>
                      <a:pt x="478" y="834"/>
                      <a:pt x="492" y="834"/>
                    </a:cubicBezTo>
                    <a:cubicBezTo>
                      <a:pt x="506" y="834"/>
                      <a:pt x="517" y="845"/>
                      <a:pt x="517" y="859"/>
                    </a:cubicBezTo>
                    <a:lnTo>
                      <a:pt x="517" y="859"/>
                    </a:lnTo>
                    <a:cubicBezTo>
                      <a:pt x="517" y="873"/>
                      <a:pt x="506" y="884"/>
                      <a:pt x="492" y="884"/>
                    </a:cubicBezTo>
                    <a:cubicBezTo>
                      <a:pt x="478" y="884"/>
                      <a:pt x="467" y="873"/>
                      <a:pt x="467" y="859"/>
                    </a:cubicBezTo>
                    <a:close/>
                    <a:moveTo>
                      <a:pt x="467" y="759"/>
                    </a:moveTo>
                    <a:lnTo>
                      <a:pt x="467" y="759"/>
                    </a:lnTo>
                    <a:cubicBezTo>
                      <a:pt x="467" y="745"/>
                      <a:pt x="478" y="734"/>
                      <a:pt x="492" y="734"/>
                    </a:cubicBezTo>
                    <a:cubicBezTo>
                      <a:pt x="506" y="734"/>
                      <a:pt x="517" y="745"/>
                      <a:pt x="517" y="759"/>
                    </a:cubicBezTo>
                    <a:lnTo>
                      <a:pt x="517" y="759"/>
                    </a:lnTo>
                    <a:cubicBezTo>
                      <a:pt x="517" y="773"/>
                      <a:pt x="506" y="784"/>
                      <a:pt x="492" y="784"/>
                    </a:cubicBezTo>
                    <a:cubicBezTo>
                      <a:pt x="478" y="784"/>
                      <a:pt x="467" y="773"/>
                      <a:pt x="467" y="759"/>
                    </a:cubicBezTo>
                    <a:close/>
                    <a:moveTo>
                      <a:pt x="467" y="659"/>
                    </a:moveTo>
                    <a:lnTo>
                      <a:pt x="467" y="659"/>
                    </a:lnTo>
                    <a:cubicBezTo>
                      <a:pt x="467" y="645"/>
                      <a:pt x="478" y="634"/>
                      <a:pt x="492" y="634"/>
                    </a:cubicBezTo>
                    <a:cubicBezTo>
                      <a:pt x="506" y="634"/>
                      <a:pt x="517" y="645"/>
                      <a:pt x="517" y="659"/>
                    </a:cubicBezTo>
                    <a:lnTo>
                      <a:pt x="517" y="659"/>
                    </a:lnTo>
                    <a:cubicBezTo>
                      <a:pt x="517" y="673"/>
                      <a:pt x="506" y="684"/>
                      <a:pt x="492" y="684"/>
                    </a:cubicBezTo>
                    <a:cubicBezTo>
                      <a:pt x="478" y="684"/>
                      <a:pt x="467" y="673"/>
                      <a:pt x="467" y="659"/>
                    </a:cubicBezTo>
                    <a:close/>
                    <a:moveTo>
                      <a:pt x="418" y="658"/>
                    </a:moveTo>
                    <a:lnTo>
                      <a:pt x="418" y="658"/>
                    </a:lnTo>
                    <a:cubicBezTo>
                      <a:pt x="404" y="658"/>
                      <a:pt x="393" y="647"/>
                      <a:pt x="393" y="633"/>
                    </a:cubicBezTo>
                    <a:cubicBezTo>
                      <a:pt x="393" y="619"/>
                      <a:pt x="404" y="608"/>
                      <a:pt x="418" y="608"/>
                    </a:cubicBezTo>
                    <a:lnTo>
                      <a:pt x="418" y="608"/>
                    </a:lnTo>
                    <a:cubicBezTo>
                      <a:pt x="431" y="608"/>
                      <a:pt x="443" y="619"/>
                      <a:pt x="443" y="633"/>
                    </a:cubicBezTo>
                    <a:cubicBezTo>
                      <a:pt x="443" y="647"/>
                      <a:pt x="431" y="658"/>
                      <a:pt x="418" y="658"/>
                    </a:cubicBezTo>
                    <a:close/>
                    <a:moveTo>
                      <a:pt x="318" y="658"/>
                    </a:moveTo>
                    <a:lnTo>
                      <a:pt x="318" y="658"/>
                    </a:lnTo>
                    <a:cubicBezTo>
                      <a:pt x="304" y="658"/>
                      <a:pt x="293" y="647"/>
                      <a:pt x="293" y="633"/>
                    </a:cubicBezTo>
                    <a:cubicBezTo>
                      <a:pt x="293" y="619"/>
                      <a:pt x="304" y="608"/>
                      <a:pt x="318" y="608"/>
                    </a:cubicBezTo>
                    <a:lnTo>
                      <a:pt x="318" y="608"/>
                    </a:lnTo>
                    <a:cubicBezTo>
                      <a:pt x="331" y="608"/>
                      <a:pt x="343" y="619"/>
                      <a:pt x="343" y="633"/>
                    </a:cubicBezTo>
                    <a:cubicBezTo>
                      <a:pt x="343" y="647"/>
                      <a:pt x="331" y="658"/>
                      <a:pt x="318" y="658"/>
                    </a:cubicBezTo>
                    <a:close/>
                    <a:moveTo>
                      <a:pt x="218" y="658"/>
                    </a:moveTo>
                    <a:lnTo>
                      <a:pt x="217" y="658"/>
                    </a:lnTo>
                    <a:cubicBezTo>
                      <a:pt x="204" y="658"/>
                      <a:pt x="192" y="647"/>
                      <a:pt x="192" y="633"/>
                    </a:cubicBezTo>
                    <a:cubicBezTo>
                      <a:pt x="192" y="619"/>
                      <a:pt x="204" y="608"/>
                      <a:pt x="217" y="608"/>
                    </a:cubicBezTo>
                    <a:lnTo>
                      <a:pt x="218" y="608"/>
                    </a:lnTo>
                    <a:cubicBezTo>
                      <a:pt x="231" y="608"/>
                      <a:pt x="243" y="619"/>
                      <a:pt x="243" y="633"/>
                    </a:cubicBezTo>
                    <a:cubicBezTo>
                      <a:pt x="243" y="647"/>
                      <a:pt x="231" y="658"/>
                      <a:pt x="218" y="658"/>
                    </a:cubicBezTo>
                    <a:close/>
                    <a:moveTo>
                      <a:pt x="117" y="658"/>
                    </a:moveTo>
                    <a:lnTo>
                      <a:pt x="117" y="658"/>
                    </a:lnTo>
                    <a:cubicBezTo>
                      <a:pt x="104" y="658"/>
                      <a:pt x="92" y="647"/>
                      <a:pt x="92" y="633"/>
                    </a:cubicBezTo>
                    <a:cubicBezTo>
                      <a:pt x="92" y="619"/>
                      <a:pt x="104" y="608"/>
                      <a:pt x="117" y="608"/>
                    </a:cubicBezTo>
                    <a:lnTo>
                      <a:pt x="117" y="608"/>
                    </a:lnTo>
                    <a:cubicBezTo>
                      <a:pt x="131" y="608"/>
                      <a:pt x="142" y="619"/>
                      <a:pt x="142" y="633"/>
                    </a:cubicBezTo>
                    <a:cubicBezTo>
                      <a:pt x="142" y="647"/>
                      <a:pt x="131" y="658"/>
                      <a:pt x="117" y="658"/>
                    </a:cubicBezTo>
                    <a:close/>
                    <a:moveTo>
                      <a:pt x="0" y="625"/>
                    </a:moveTo>
                    <a:lnTo>
                      <a:pt x="0" y="625"/>
                    </a:lnTo>
                    <a:cubicBezTo>
                      <a:pt x="0" y="611"/>
                      <a:pt x="11" y="600"/>
                      <a:pt x="25" y="600"/>
                    </a:cubicBezTo>
                    <a:cubicBezTo>
                      <a:pt x="39" y="600"/>
                      <a:pt x="50" y="611"/>
                      <a:pt x="50" y="625"/>
                    </a:cubicBezTo>
                    <a:lnTo>
                      <a:pt x="50" y="625"/>
                    </a:lnTo>
                    <a:cubicBezTo>
                      <a:pt x="50" y="639"/>
                      <a:pt x="39" y="650"/>
                      <a:pt x="25" y="650"/>
                    </a:cubicBezTo>
                    <a:cubicBezTo>
                      <a:pt x="11" y="650"/>
                      <a:pt x="0" y="639"/>
                      <a:pt x="0" y="625"/>
                    </a:cubicBezTo>
                    <a:close/>
                    <a:moveTo>
                      <a:pt x="0" y="525"/>
                    </a:moveTo>
                    <a:lnTo>
                      <a:pt x="0" y="525"/>
                    </a:lnTo>
                    <a:cubicBezTo>
                      <a:pt x="0" y="511"/>
                      <a:pt x="11" y="500"/>
                      <a:pt x="25" y="500"/>
                    </a:cubicBezTo>
                    <a:cubicBezTo>
                      <a:pt x="39" y="500"/>
                      <a:pt x="50" y="511"/>
                      <a:pt x="50" y="525"/>
                    </a:cubicBezTo>
                    <a:lnTo>
                      <a:pt x="50" y="525"/>
                    </a:lnTo>
                    <a:cubicBezTo>
                      <a:pt x="50" y="539"/>
                      <a:pt x="39" y="550"/>
                      <a:pt x="25" y="550"/>
                    </a:cubicBezTo>
                    <a:cubicBezTo>
                      <a:pt x="11" y="550"/>
                      <a:pt x="0" y="539"/>
                      <a:pt x="0" y="525"/>
                    </a:cubicBezTo>
                    <a:close/>
                    <a:moveTo>
                      <a:pt x="0" y="425"/>
                    </a:moveTo>
                    <a:lnTo>
                      <a:pt x="0" y="425"/>
                    </a:lnTo>
                    <a:cubicBezTo>
                      <a:pt x="0" y="411"/>
                      <a:pt x="11" y="400"/>
                      <a:pt x="25" y="400"/>
                    </a:cubicBezTo>
                    <a:cubicBezTo>
                      <a:pt x="39" y="400"/>
                      <a:pt x="50" y="411"/>
                      <a:pt x="50" y="425"/>
                    </a:cubicBezTo>
                    <a:lnTo>
                      <a:pt x="50" y="425"/>
                    </a:lnTo>
                    <a:cubicBezTo>
                      <a:pt x="50" y="439"/>
                      <a:pt x="39" y="450"/>
                      <a:pt x="25" y="450"/>
                    </a:cubicBezTo>
                    <a:cubicBezTo>
                      <a:pt x="11" y="450"/>
                      <a:pt x="0" y="439"/>
                      <a:pt x="0" y="425"/>
                    </a:cubicBezTo>
                    <a:close/>
                    <a:moveTo>
                      <a:pt x="0" y="325"/>
                    </a:moveTo>
                    <a:lnTo>
                      <a:pt x="0" y="325"/>
                    </a:lnTo>
                    <a:cubicBezTo>
                      <a:pt x="0" y="311"/>
                      <a:pt x="11" y="300"/>
                      <a:pt x="25" y="300"/>
                    </a:cubicBezTo>
                    <a:cubicBezTo>
                      <a:pt x="39" y="300"/>
                      <a:pt x="50" y="311"/>
                      <a:pt x="50" y="325"/>
                    </a:cubicBezTo>
                    <a:lnTo>
                      <a:pt x="50" y="325"/>
                    </a:lnTo>
                    <a:cubicBezTo>
                      <a:pt x="50" y="339"/>
                      <a:pt x="39" y="350"/>
                      <a:pt x="25" y="350"/>
                    </a:cubicBezTo>
                    <a:cubicBezTo>
                      <a:pt x="11" y="350"/>
                      <a:pt x="0" y="339"/>
                      <a:pt x="0" y="325"/>
                    </a:cubicBezTo>
                    <a:close/>
                    <a:moveTo>
                      <a:pt x="0" y="225"/>
                    </a:moveTo>
                    <a:lnTo>
                      <a:pt x="0" y="225"/>
                    </a:lnTo>
                    <a:cubicBezTo>
                      <a:pt x="0" y="211"/>
                      <a:pt x="11" y="200"/>
                      <a:pt x="25" y="200"/>
                    </a:cubicBezTo>
                    <a:cubicBezTo>
                      <a:pt x="39" y="200"/>
                      <a:pt x="50" y="211"/>
                      <a:pt x="50" y="225"/>
                    </a:cubicBezTo>
                    <a:lnTo>
                      <a:pt x="50" y="225"/>
                    </a:lnTo>
                    <a:cubicBezTo>
                      <a:pt x="50" y="239"/>
                      <a:pt x="39" y="250"/>
                      <a:pt x="25" y="250"/>
                    </a:cubicBezTo>
                    <a:cubicBezTo>
                      <a:pt x="11" y="250"/>
                      <a:pt x="0" y="239"/>
                      <a:pt x="0" y="225"/>
                    </a:cubicBezTo>
                    <a:close/>
                    <a:moveTo>
                      <a:pt x="0" y="125"/>
                    </a:moveTo>
                    <a:lnTo>
                      <a:pt x="0" y="125"/>
                    </a:lnTo>
                    <a:cubicBezTo>
                      <a:pt x="0" y="111"/>
                      <a:pt x="11" y="100"/>
                      <a:pt x="25" y="100"/>
                    </a:cubicBezTo>
                    <a:cubicBezTo>
                      <a:pt x="39" y="100"/>
                      <a:pt x="50" y="111"/>
                      <a:pt x="50" y="125"/>
                    </a:cubicBezTo>
                    <a:lnTo>
                      <a:pt x="50" y="125"/>
                    </a:lnTo>
                    <a:cubicBezTo>
                      <a:pt x="50" y="139"/>
                      <a:pt x="39" y="150"/>
                      <a:pt x="25" y="150"/>
                    </a:cubicBezTo>
                    <a:cubicBezTo>
                      <a:pt x="11" y="150"/>
                      <a:pt x="0" y="139"/>
                      <a:pt x="0" y="125"/>
                    </a:cubicBezTo>
                    <a:close/>
                    <a:moveTo>
                      <a:pt x="0" y="25"/>
                    </a:moveTo>
                    <a:lnTo>
                      <a:pt x="0" y="25"/>
                    </a:lnTo>
                    <a:cubicBezTo>
                      <a:pt x="0" y="11"/>
                      <a:pt x="11" y="0"/>
                      <a:pt x="25" y="0"/>
                    </a:cubicBezTo>
                    <a:cubicBezTo>
                      <a:pt x="39" y="0"/>
                      <a:pt x="50" y="11"/>
                      <a:pt x="50" y="25"/>
                    </a:cubicBezTo>
                    <a:lnTo>
                      <a:pt x="50" y="25"/>
                    </a:lnTo>
                    <a:cubicBezTo>
                      <a:pt x="50" y="39"/>
                      <a:pt x="39" y="50"/>
                      <a:pt x="25" y="50"/>
                    </a:cubicBezTo>
                    <a:cubicBezTo>
                      <a:pt x="11" y="50"/>
                      <a:pt x="0" y="39"/>
                      <a:pt x="0" y="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00240" y="3494160"/>
                <a:ext cx="112680" cy="115920"/>
              </a:xfrm>
              <a:custGeom>
                <a:avLst/>
                <a:gdLst/>
                <a:ahLst/>
                <a:rect l="l" t="t" r="r" b="b"/>
                <a:pathLst>
                  <a:path w="700" h="700">
                    <a:moveTo>
                      <a:pt x="700" y="25"/>
                    </a:moveTo>
                    <a:lnTo>
                      <a:pt x="700" y="25"/>
                    </a:lnTo>
                    <a:cubicBezTo>
                      <a:pt x="700" y="39"/>
                      <a:pt x="689" y="50"/>
                      <a:pt x="675" y="50"/>
                    </a:cubicBezTo>
                    <a:cubicBezTo>
                      <a:pt x="661" y="50"/>
                      <a:pt x="650" y="39"/>
                      <a:pt x="650" y="25"/>
                    </a:cubicBezTo>
                    <a:lnTo>
                      <a:pt x="650" y="25"/>
                    </a:lnTo>
                    <a:cubicBezTo>
                      <a:pt x="650" y="11"/>
                      <a:pt x="661" y="0"/>
                      <a:pt x="675" y="0"/>
                    </a:cubicBezTo>
                    <a:cubicBezTo>
                      <a:pt x="689" y="0"/>
                      <a:pt x="700" y="11"/>
                      <a:pt x="700" y="25"/>
                    </a:cubicBezTo>
                    <a:close/>
                    <a:moveTo>
                      <a:pt x="700" y="125"/>
                    </a:moveTo>
                    <a:lnTo>
                      <a:pt x="700" y="125"/>
                    </a:lnTo>
                    <a:cubicBezTo>
                      <a:pt x="700" y="139"/>
                      <a:pt x="689" y="150"/>
                      <a:pt x="675" y="150"/>
                    </a:cubicBezTo>
                    <a:cubicBezTo>
                      <a:pt x="661" y="150"/>
                      <a:pt x="650" y="139"/>
                      <a:pt x="650" y="125"/>
                    </a:cubicBezTo>
                    <a:lnTo>
                      <a:pt x="650" y="125"/>
                    </a:lnTo>
                    <a:cubicBezTo>
                      <a:pt x="650" y="111"/>
                      <a:pt x="661" y="100"/>
                      <a:pt x="675" y="100"/>
                    </a:cubicBezTo>
                    <a:cubicBezTo>
                      <a:pt x="689" y="100"/>
                      <a:pt x="700" y="111"/>
                      <a:pt x="700" y="125"/>
                    </a:cubicBezTo>
                    <a:close/>
                    <a:moveTo>
                      <a:pt x="700" y="225"/>
                    </a:moveTo>
                    <a:lnTo>
                      <a:pt x="700" y="225"/>
                    </a:lnTo>
                    <a:cubicBezTo>
                      <a:pt x="700" y="239"/>
                      <a:pt x="689" y="250"/>
                      <a:pt x="675" y="250"/>
                    </a:cubicBezTo>
                    <a:cubicBezTo>
                      <a:pt x="661" y="250"/>
                      <a:pt x="650" y="239"/>
                      <a:pt x="650" y="225"/>
                    </a:cubicBezTo>
                    <a:lnTo>
                      <a:pt x="650" y="225"/>
                    </a:lnTo>
                    <a:cubicBezTo>
                      <a:pt x="650" y="211"/>
                      <a:pt x="661" y="200"/>
                      <a:pt x="675" y="200"/>
                    </a:cubicBezTo>
                    <a:cubicBezTo>
                      <a:pt x="689" y="200"/>
                      <a:pt x="700" y="211"/>
                      <a:pt x="700" y="225"/>
                    </a:cubicBezTo>
                    <a:close/>
                    <a:moveTo>
                      <a:pt x="700" y="325"/>
                    </a:moveTo>
                    <a:lnTo>
                      <a:pt x="700" y="325"/>
                    </a:lnTo>
                    <a:cubicBezTo>
                      <a:pt x="700" y="339"/>
                      <a:pt x="689" y="350"/>
                      <a:pt x="675" y="350"/>
                    </a:cubicBezTo>
                    <a:cubicBezTo>
                      <a:pt x="661" y="350"/>
                      <a:pt x="650" y="339"/>
                      <a:pt x="650" y="325"/>
                    </a:cubicBezTo>
                    <a:lnTo>
                      <a:pt x="650" y="325"/>
                    </a:lnTo>
                    <a:cubicBezTo>
                      <a:pt x="650" y="311"/>
                      <a:pt x="661" y="300"/>
                      <a:pt x="675" y="300"/>
                    </a:cubicBezTo>
                    <a:cubicBezTo>
                      <a:pt x="689" y="300"/>
                      <a:pt x="700" y="311"/>
                      <a:pt x="700" y="325"/>
                    </a:cubicBezTo>
                    <a:close/>
                    <a:moveTo>
                      <a:pt x="700" y="425"/>
                    </a:moveTo>
                    <a:lnTo>
                      <a:pt x="700" y="425"/>
                    </a:lnTo>
                    <a:cubicBezTo>
                      <a:pt x="700" y="439"/>
                      <a:pt x="689" y="450"/>
                      <a:pt x="675" y="450"/>
                    </a:cubicBezTo>
                    <a:cubicBezTo>
                      <a:pt x="661" y="450"/>
                      <a:pt x="650" y="439"/>
                      <a:pt x="650" y="425"/>
                    </a:cubicBezTo>
                    <a:lnTo>
                      <a:pt x="650" y="425"/>
                    </a:lnTo>
                    <a:cubicBezTo>
                      <a:pt x="650" y="411"/>
                      <a:pt x="661" y="400"/>
                      <a:pt x="675" y="400"/>
                    </a:cubicBezTo>
                    <a:cubicBezTo>
                      <a:pt x="689" y="400"/>
                      <a:pt x="700" y="411"/>
                      <a:pt x="700" y="425"/>
                    </a:cubicBezTo>
                    <a:close/>
                    <a:moveTo>
                      <a:pt x="700" y="525"/>
                    </a:moveTo>
                    <a:lnTo>
                      <a:pt x="700" y="525"/>
                    </a:lnTo>
                    <a:cubicBezTo>
                      <a:pt x="700" y="539"/>
                      <a:pt x="689" y="550"/>
                      <a:pt x="675" y="550"/>
                    </a:cubicBezTo>
                    <a:cubicBezTo>
                      <a:pt x="661" y="550"/>
                      <a:pt x="650" y="539"/>
                      <a:pt x="650" y="525"/>
                    </a:cubicBezTo>
                    <a:lnTo>
                      <a:pt x="650" y="525"/>
                    </a:lnTo>
                    <a:cubicBezTo>
                      <a:pt x="650" y="511"/>
                      <a:pt x="661" y="500"/>
                      <a:pt x="675" y="500"/>
                    </a:cubicBezTo>
                    <a:cubicBezTo>
                      <a:pt x="689" y="500"/>
                      <a:pt x="700" y="511"/>
                      <a:pt x="700" y="525"/>
                    </a:cubicBezTo>
                    <a:close/>
                    <a:moveTo>
                      <a:pt x="650" y="625"/>
                    </a:moveTo>
                    <a:lnTo>
                      <a:pt x="650" y="625"/>
                    </a:lnTo>
                    <a:cubicBezTo>
                      <a:pt x="637" y="625"/>
                      <a:pt x="625" y="614"/>
                      <a:pt x="625" y="600"/>
                    </a:cubicBezTo>
                    <a:cubicBezTo>
                      <a:pt x="625" y="587"/>
                      <a:pt x="637" y="575"/>
                      <a:pt x="650" y="575"/>
                    </a:cubicBezTo>
                    <a:lnTo>
                      <a:pt x="650" y="575"/>
                    </a:lnTo>
                    <a:cubicBezTo>
                      <a:pt x="664" y="575"/>
                      <a:pt x="675" y="587"/>
                      <a:pt x="675" y="600"/>
                    </a:cubicBezTo>
                    <a:cubicBezTo>
                      <a:pt x="675" y="614"/>
                      <a:pt x="664" y="625"/>
                      <a:pt x="650" y="625"/>
                    </a:cubicBezTo>
                    <a:close/>
                    <a:moveTo>
                      <a:pt x="550" y="625"/>
                    </a:moveTo>
                    <a:lnTo>
                      <a:pt x="550" y="625"/>
                    </a:lnTo>
                    <a:cubicBezTo>
                      <a:pt x="537" y="625"/>
                      <a:pt x="525" y="614"/>
                      <a:pt x="525" y="600"/>
                    </a:cubicBezTo>
                    <a:cubicBezTo>
                      <a:pt x="525" y="587"/>
                      <a:pt x="537" y="575"/>
                      <a:pt x="550" y="575"/>
                    </a:cubicBezTo>
                    <a:lnTo>
                      <a:pt x="550" y="575"/>
                    </a:lnTo>
                    <a:cubicBezTo>
                      <a:pt x="564" y="575"/>
                      <a:pt x="575" y="587"/>
                      <a:pt x="575" y="600"/>
                    </a:cubicBezTo>
                    <a:cubicBezTo>
                      <a:pt x="575" y="614"/>
                      <a:pt x="564" y="625"/>
                      <a:pt x="550" y="625"/>
                    </a:cubicBezTo>
                    <a:close/>
                    <a:moveTo>
                      <a:pt x="450" y="625"/>
                    </a:moveTo>
                    <a:lnTo>
                      <a:pt x="450" y="625"/>
                    </a:lnTo>
                    <a:cubicBezTo>
                      <a:pt x="436" y="625"/>
                      <a:pt x="425" y="614"/>
                      <a:pt x="425" y="600"/>
                    </a:cubicBezTo>
                    <a:cubicBezTo>
                      <a:pt x="425" y="587"/>
                      <a:pt x="436" y="575"/>
                      <a:pt x="450" y="575"/>
                    </a:cubicBezTo>
                    <a:lnTo>
                      <a:pt x="450" y="575"/>
                    </a:lnTo>
                    <a:cubicBezTo>
                      <a:pt x="464" y="575"/>
                      <a:pt x="475" y="587"/>
                      <a:pt x="475" y="600"/>
                    </a:cubicBezTo>
                    <a:cubicBezTo>
                      <a:pt x="475" y="614"/>
                      <a:pt x="464" y="625"/>
                      <a:pt x="450" y="625"/>
                    </a:cubicBezTo>
                    <a:close/>
                    <a:moveTo>
                      <a:pt x="350" y="625"/>
                    </a:moveTo>
                    <a:lnTo>
                      <a:pt x="350" y="625"/>
                    </a:lnTo>
                    <a:cubicBezTo>
                      <a:pt x="336" y="625"/>
                      <a:pt x="325" y="614"/>
                      <a:pt x="325" y="600"/>
                    </a:cubicBezTo>
                    <a:cubicBezTo>
                      <a:pt x="325" y="587"/>
                      <a:pt x="336" y="575"/>
                      <a:pt x="350" y="575"/>
                    </a:cubicBezTo>
                    <a:lnTo>
                      <a:pt x="350" y="575"/>
                    </a:lnTo>
                    <a:cubicBezTo>
                      <a:pt x="364" y="575"/>
                      <a:pt x="375" y="587"/>
                      <a:pt x="375" y="600"/>
                    </a:cubicBezTo>
                    <a:cubicBezTo>
                      <a:pt x="375" y="614"/>
                      <a:pt x="364" y="625"/>
                      <a:pt x="350" y="625"/>
                    </a:cubicBezTo>
                    <a:close/>
                    <a:moveTo>
                      <a:pt x="250" y="625"/>
                    </a:moveTo>
                    <a:lnTo>
                      <a:pt x="250" y="625"/>
                    </a:lnTo>
                    <a:cubicBezTo>
                      <a:pt x="236" y="625"/>
                      <a:pt x="225" y="614"/>
                      <a:pt x="225" y="600"/>
                    </a:cubicBezTo>
                    <a:cubicBezTo>
                      <a:pt x="225" y="587"/>
                      <a:pt x="236" y="575"/>
                      <a:pt x="250" y="575"/>
                    </a:cubicBezTo>
                    <a:lnTo>
                      <a:pt x="250" y="575"/>
                    </a:lnTo>
                    <a:cubicBezTo>
                      <a:pt x="264" y="575"/>
                      <a:pt x="275" y="587"/>
                      <a:pt x="275" y="600"/>
                    </a:cubicBezTo>
                    <a:cubicBezTo>
                      <a:pt x="275" y="614"/>
                      <a:pt x="264" y="625"/>
                      <a:pt x="250" y="625"/>
                    </a:cubicBezTo>
                    <a:close/>
                    <a:moveTo>
                      <a:pt x="150" y="625"/>
                    </a:moveTo>
                    <a:lnTo>
                      <a:pt x="150" y="625"/>
                    </a:lnTo>
                    <a:cubicBezTo>
                      <a:pt x="136" y="625"/>
                      <a:pt x="125" y="614"/>
                      <a:pt x="125" y="600"/>
                    </a:cubicBezTo>
                    <a:cubicBezTo>
                      <a:pt x="125" y="587"/>
                      <a:pt x="136" y="575"/>
                      <a:pt x="150" y="575"/>
                    </a:cubicBezTo>
                    <a:lnTo>
                      <a:pt x="150" y="575"/>
                    </a:lnTo>
                    <a:cubicBezTo>
                      <a:pt x="164" y="575"/>
                      <a:pt x="175" y="587"/>
                      <a:pt x="175" y="600"/>
                    </a:cubicBezTo>
                    <a:cubicBezTo>
                      <a:pt x="175" y="614"/>
                      <a:pt x="164" y="625"/>
                      <a:pt x="150" y="625"/>
                    </a:cubicBezTo>
                    <a:close/>
                    <a:moveTo>
                      <a:pt x="50" y="625"/>
                    </a:moveTo>
                    <a:lnTo>
                      <a:pt x="50" y="625"/>
                    </a:lnTo>
                    <a:cubicBezTo>
                      <a:pt x="36" y="625"/>
                      <a:pt x="25" y="614"/>
                      <a:pt x="25" y="600"/>
                    </a:cubicBezTo>
                    <a:cubicBezTo>
                      <a:pt x="25" y="587"/>
                      <a:pt x="36" y="575"/>
                      <a:pt x="50" y="575"/>
                    </a:cubicBezTo>
                    <a:lnTo>
                      <a:pt x="50" y="575"/>
                    </a:lnTo>
                    <a:cubicBezTo>
                      <a:pt x="64" y="575"/>
                      <a:pt x="75" y="587"/>
                      <a:pt x="75" y="600"/>
                    </a:cubicBezTo>
                    <a:cubicBezTo>
                      <a:pt x="75" y="614"/>
                      <a:pt x="64" y="625"/>
                      <a:pt x="50" y="625"/>
                    </a:cubicBezTo>
                    <a:close/>
                    <a:moveTo>
                      <a:pt x="50" y="675"/>
                    </a:moveTo>
                    <a:lnTo>
                      <a:pt x="50" y="676"/>
                    </a:lnTo>
                    <a:cubicBezTo>
                      <a:pt x="50" y="689"/>
                      <a:pt x="39" y="700"/>
                      <a:pt x="25" y="700"/>
                    </a:cubicBezTo>
                    <a:cubicBezTo>
                      <a:pt x="11" y="700"/>
                      <a:pt x="0" y="689"/>
                      <a:pt x="0" y="676"/>
                    </a:cubicBezTo>
                    <a:lnTo>
                      <a:pt x="0" y="675"/>
                    </a:lnTo>
                    <a:cubicBezTo>
                      <a:pt x="0" y="662"/>
                      <a:pt x="11" y="650"/>
                      <a:pt x="25" y="650"/>
                    </a:cubicBezTo>
                    <a:cubicBezTo>
                      <a:pt x="39" y="650"/>
                      <a:pt x="50" y="662"/>
                      <a:pt x="50" y="67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52960" y="3454560"/>
                <a:ext cx="90360" cy="152280"/>
              </a:xfrm>
              <a:custGeom>
                <a:avLst/>
                <a:gdLst/>
                <a:ahLst/>
                <a:rect l="l" t="t" r="r" b="b"/>
                <a:pathLst>
                  <a:path w="567" h="934">
                    <a:moveTo>
                      <a:pt x="567" y="25"/>
                    </a:moveTo>
                    <a:lnTo>
                      <a:pt x="567" y="25"/>
                    </a:lnTo>
                    <a:cubicBezTo>
                      <a:pt x="567" y="39"/>
                      <a:pt x="556" y="50"/>
                      <a:pt x="542" y="50"/>
                    </a:cubicBezTo>
                    <a:cubicBezTo>
                      <a:pt x="528" y="50"/>
                      <a:pt x="517" y="39"/>
                      <a:pt x="517" y="25"/>
                    </a:cubicBezTo>
                    <a:lnTo>
                      <a:pt x="517" y="25"/>
                    </a:lnTo>
                    <a:cubicBezTo>
                      <a:pt x="517" y="11"/>
                      <a:pt x="528" y="0"/>
                      <a:pt x="542" y="0"/>
                    </a:cubicBezTo>
                    <a:cubicBezTo>
                      <a:pt x="556" y="0"/>
                      <a:pt x="567" y="11"/>
                      <a:pt x="567" y="25"/>
                    </a:cubicBezTo>
                    <a:close/>
                    <a:moveTo>
                      <a:pt x="567" y="125"/>
                    </a:moveTo>
                    <a:lnTo>
                      <a:pt x="567" y="125"/>
                    </a:lnTo>
                    <a:cubicBezTo>
                      <a:pt x="567" y="139"/>
                      <a:pt x="556" y="150"/>
                      <a:pt x="542" y="150"/>
                    </a:cubicBezTo>
                    <a:cubicBezTo>
                      <a:pt x="528" y="150"/>
                      <a:pt x="517" y="139"/>
                      <a:pt x="517" y="125"/>
                    </a:cubicBezTo>
                    <a:lnTo>
                      <a:pt x="517" y="125"/>
                    </a:lnTo>
                    <a:cubicBezTo>
                      <a:pt x="517" y="111"/>
                      <a:pt x="528" y="100"/>
                      <a:pt x="542" y="100"/>
                    </a:cubicBezTo>
                    <a:cubicBezTo>
                      <a:pt x="556" y="100"/>
                      <a:pt x="567" y="111"/>
                      <a:pt x="567" y="125"/>
                    </a:cubicBezTo>
                    <a:close/>
                    <a:moveTo>
                      <a:pt x="567" y="225"/>
                    </a:moveTo>
                    <a:lnTo>
                      <a:pt x="567" y="225"/>
                    </a:lnTo>
                    <a:cubicBezTo>
                      <a:pt x="567" y="239"/>
                      <a:pt x="556" y="250"/>
                      <a:pt x="542" y="250"/>
                    </a:cubicBezTo>
                    <a:cubicBezTo>
                      <a:pt x="528" y="250"/>
                      <a:pt x="517" y="239"/>
                      <a:pt x="517" y="225"/>
                    </a:cubicBezTo>
                    <a:lnTo>
                      <a:pt x="517" y="225"/>
                    </a:lnTo>
                    <a:cubicBezTo>
                      <a:pt x="517" y="211"/>
                      <a:pt x="528" y="200"/>
                      <a:pt x="542" y="200"/>
                    </a:cubicBezTo>
                    <a:cubicBezTo>
                      <a:pt x="556" y="200"/>
                      <a:pt x="567" y="211"/>
                      <a:pt x="567" y="225"/>
                    </a:cubicBezTo>
                    <a:close/>
                    <a:moveTo>
                      <a:pt x="567" y="325"/>
                    </a:moveTo>
                    <a:lnTo>
                      <a:pt x="567" y="325"/>
                    </a:lnTo>
                    <a:cubicBezTo>
                      <a:pt x="567" y="339"/>
                      <a:pt x="556" y="350"/>
                      <a:pt x="542" y="350"/>
                    </a:cubicBezTo>
                    <a:cubicBezTo>
                      <a:pt x="528" y="350"/>
                      <a:pt x="517" y="339"/>
                      <a:pt x="517" y="325"/>
                    </a:cubicBezTo>
                    <a:lnTo>
                      <a:pt x="517" y="325"/>
                    </a:lnTo>
                    <a:cubicBezTo>
                      <a:pt x="517" y="311"/>
                      <a:pt x="528" y="300"/>
                      <a:pt x="542" y="300"/>
                    </a:cubicBezTo>
                    <a:cubicBezTo>
                      <a:pt x="556" y="300"/>
                      <a:pt x="567" y="311"/>
                      <a:pt x="567" y="325"/>
                    </a:cubicBezTo>
                    <a:close/>
                    <a:moveTo>
                      <a:pt x="567" y="425"/>
                    </a:moveTo>
                    <a:lnTo>
                      <a:pt x="567" y="425"/>
                    </a:lnTo>
                    <a:cubicBezTo>
                      <a:pt x="567" y="439"/>
                      <a:pt x="556" y="450"/>
                      <a:pt x="542" y="450"/>
                    </a:cubicBezTo>
                    <a:cubicBezTo>
                      <a:pt x="528" y="450"/>
                      <a:pt x="517" y="439"/>
                      <a:pt x="517" y="425"/>
                    </a:cubicBezTo>
                    <a:lnTo>
                      <a:pt x="517" y="425"/>
                    </a:lnTo>
                    <a:cubicBezTo>
                      <a:pt x="517" y="411"/>
                      <a:pt x="528" y="400"/>
                      <a:pt x="542" y="400"/>
                    </a:cubicBezTo>
                    <a:cubicBezTo>
                      <a:pt x="556" y="400"/>
                      <a:pt x="567" y="411"/>
                      <a:pt x="567" y="425"/>
                    </a:cubicBezTo>
                    <a:close/>
                    <a:moveTo>
                      <a:pt x="567" y="525"/>
                    </a:moveTo>
                    <a:lnTo>
                      <a:pt x="567" y="525"/>
                    </a:lnTo>
                    <a:cubicBezTo>
                      <a:pt x="567" y="539"/>
                      <a:pt x="556" y="550"/>
                      <a:pt x="542" y="550"/>
                    </a:cubicBezTo>
                    <a:cubicBezTo>
                      <a:pt x="528" y="550"/>
                      <a:pt x="517" y="539"/>
                      <a:pt x="517" y="525"/>
                    </a:cubicBezTo>
                    <a:lnTo>
                      <a:pt x="517" y="525"/>
                    </a:lnTo>
                    <a:cubicBezTo>
                      <a:pt x="517" y="511"/>
                      <a:pt x="528" y="500"/>
                      <a:pt x="542" y="500"/>
                    </a:cubicBezTo>
                    <a:cubicBezTo>
                      <a:pt x="556" y="500"/>
                      <a:pt x="567" y="511"/>
                      <a:pt x="567" y="525"/>
                    </a:cubicBezTo>
                    <a:close/>
                    <a:moveTo>
                      <a:pt x="480" y="588"/>
                    </a:moveTo>
                    <a:lnTo>
                      <a:pt x="480" y="588"/>
                    </a:lnTo>
                    <a:cubicBezTo>
                      <a:pt x="466" y="588"/>
                      <a:pt x="455" y="577"/>
                      <a:pt x="455" y="563"/>
                    </a:cubicBezTo>
                    <a:cubicBezTo>
                      <a:pt x="455" y="549"/>
                      <a:pt x="466" y="538"/>
                      <a:pt x="480" y="538"/>
                    </a:cubicBezTo>
                    <a:lnTo>
                      <a:pt x="480" y="538"/>
                    </a:lnTo>
                    <a:cubicBezTo>
                      <a:pt x="494" y="538"/>
                      <a:pt x="505" y="549"/>
                      <a:pt x="505" y="563"/>
                    </a:cubicBezTo>
                    <a:cubicBezTo>
                      <a:pt x="505" y="577"/>
                      <a:pt x="494" y="588"/>
                      <a:pt x="480" y="588"/>
                    </a:cubicBezTo>
                    <a:close/>
                    <a:moveTo>
                      <a:pt x="380" y="588"/>
                    </a:moveTo>
                    <a:lnTo>
                      <a:pt x="380" y="588"/>
                    </a:lnTo>
                    <a:cubicBezTo>
                      <a:pt x="366" y="588"/>
                      <a:pt x="355" y="577"/>
                      <a:pt x="355" y="563"/>
                    </a:cubicBezTo>
                    <a:cubicBezTo>
                      <a:pt x="355" y="549"/>
                      <a:pt x="366" y="538"/>
                      <a:pt x="380" y="538"/>
                    </a:cubicBezTo>
                    <a:lnTo>
                      <a:pt x="380" y="538"/>
                    </a:lnTo>
                    <a:cubicBezTo>
                      <a:pt x="394" y="538"/>
                      <a:pt x="405" y="549"/>
                      <a:pt x="405" y="563"/>
                    </a:cubicBezTo>
                    <a:cubicBezTo>
                      <a:pt x="405" y="577"/>
                      <a:pt x="394" y="588"/>
                      <a:pt x="380" y="588"/>
                    </a:cubicBezTo>
                    <a:close/>
                    <a:moveTo>
                      <a:pt x="280" y="588"/>
                    </a:moveTo>
                    <a:lnTo>
                      <a:pt x="280" y="588"/>
                    </a:lnTo>
                    <a:cubicBezTo>
                      <a:pt x="266" y="588"/>
                      <a:pt x="255" y="577"/>
                      <a:pt x="255" y="563"/>
                    </a:cubicBezTo>
                    <a:cubicBezTo>
                      <a:pt x="255" y="549"/>
                      <a:pt x="266" y="538"/>
                      <a:pt x="280" y="538"/>
                    </a:cubicBezTo>
                    <a:lnTo>
                      <a:pt x="280" y="538"/>
                    </a:lnTo>
                    <a:cubicBezTo>
                      <a:pt x="294" y="538"/>
                      <a:pt x="305" y="549"/>
                      <a:pt x="305" y="563"/>
                    </a:cubicBezTo>
                    <a:cubicBezTo>
                      <a:pt x="305" y="577"/>
                      <a:pt x="294" y="588"/>
                      <a:pt x="280" y="588"/>
                    </a:cubicBezTo>
                    <a:close/>
                    <a:moveTo>
                      <a:pt x="180" y="588"/>
                    </a:moveTo>
                    <a:lnTo>
                      <a:pt x="180" y="588"/>
                    </a:lnTo>
                    <a:cubicBezTo>
                      <a:pt x="166" y="588"/>
                      <a:pt x="155" y="577"/>
                      <a:pt x="155" y="563"/>
                    </a:cubicBezTo>
                    <a:cubicBezTo>
                      <a:pt x="155" y="549"/>
                      <a:pt x="166" y="538"/>
                      <a:pt x="180" y="538"/>
                    </a:cubicBezTo>
                    <a:lnTo>
                      <a:pt x="180" y="538"/>
                    </a:lnTo>
                    <a:cubicBezTo>
                      <a:pt x="194" y="538"/>
                      <a:pt x="205" y="549"/>
                      <a:pt x="205" y="563"/>
                    </a:cubicBezTo>
                    <a:cubicBezTo>
                      <a:pt x="205" y="577"/>
                      <a:pt x="194" y="588"/>
                      <a:pt x="180" y="588"/>
                    </a:cubicBezTo>
                    <a:close/>
                    <a:moveTo>
                      <a:pt x="80" y="588"/>
                    </a:moveTo>
                    <a:lnTo>
                      <a:pt x="80" y="588"/>
                    </a:lnTo>
                    <a:cubicBezTo>
                      <a:pt x="66" y="588"/>
                      <a:pt x="55" y="577"/>
                      <a:pt x="55" y="563"/>
                    </a:cubicBezTo>
                    <a:cubicBezTo>
                      <a:pt x="55" y="549"/>
                      <a:pt x="66" y="538"/>
                      <a:pt x="80" y="538"/>
                    </a:cubicBezTo>
                    <a:lnTo>
                      <a:pt x="80" y="538"/>
                    </a:lnTo>
                    <a:cubicBezTo>
                      <a:pt x="94" y="538"/>
                      <a:pt x="105" y="549"/>
                      <a:pt x="105" y="563"/>
                    </a:cubicBezTo>
                    <a:cubicBezTo>
                      <a:pt x="105" y="577"/>
                      <a:pt x="94" y="588"/>
                      <a:pt x="80" y="588"/>
                    </a:cubicBezTo>
                    <a:close/>
                    <a:moveTo>
                      <a:pt x="50" y="609"/>
                    </a:moveTo>
                    <a:lnTo>
                      <a:pt x="50" y="609"/>
                    </a:lnTo>
                    <a:cubicBezTo>
                      <a:pt x="50" y="623"/>
                      <a:pt x="39" y="634"/>
                      <a:pt x="25" y="634"/>
                    </a:cubicBezTo>
                    <a:cubicBezTo>
                      <a:pt x="12" y="634"/>
                      <a:pt x="0" y="623"/>
                      <a:pt x="0" y="609"/>
                    </a:cubicBezTo>
                    <a:lnTo>
                      <a:pt x="0" y="609"/>
                    </a:lnTo>
                    <a:cubicBezTo>
                      <a:pt x="0" y="595"/>
                      <a:pt x="12" y="584"/>
                      <a:pt x="25" y="584"/>
                    </a:cubicBezTo>
                    <a:cubicBezTo>
                      <a:pt x="39" y="584"/>
                      <a:pt x="50" y="595"/>
                      <a:pt x="50" y="609"/>
                    </a:cubicBezTo>
                    <a:close/>
                    <a:moveTo>
                      <a:pt x="50" y="709"/>
                    </a:moveTo>
                    <a:lnTo>
                      <a:pt x="50" y="709"/>
                    </a:lnTo>
                    <a:cubicBezTo>
                      <a:pt x="50" y="723"/>
                      <a:pt x="39" y="734"/>
                      <a:pt x="25" y="734"/>
                    </a:cubicBezTo>
                    <a:cubicBezTo>
                      <a:pt x="12" y="734"/>
                      <a:pt x="0" y="723"/>
                      <a:pt x="0" y="709"/>
                    </a:cubicBezTo>
                    <a:lnTo>
                      <a:pt x="0" y="709"/>
                    </a:lnTo>
                    <a:cubicBezTo>
                      <a:pt x="0" y="695"/>
                      <a:pt x="12" y="684"/>
                      <a:pt x="25" y="684"/>
                    </a:cubicBezTo>
                    <a:cubicBezTo>
                      <a:pt x="39" y="684"/>
                      <a:pt x="50" y="695"/>
                      <a:pt x="50" y="709"/>
                    </a:cubicBezTo>
                    <a:close/>
                    <a:moveTo>
                      <a:pt x="50" y="809"/>
                    </a:moveTo>
                    <a:lnTo>
                      <a:pt x="50" y="809"/>
                    </a:lnTo>
                    <a:cubicBezTo>
                      <a:pt x="50" y="823"/>
                      <a:pt x="39" y="834"/>
                      <a:pt x="25" y="834"/>
                    </a:cubicBezTo>
                    <a:cubicBezTo>
                      <a:pt x="12" y="834"/>
                      <a:pt x="0" y="823"/>
                      <a:pt x="0" y="809"/>
                    </a:cubicBezTo>
                    <a:lnTo>
                      <a:pt x="0" y="809"/>
                    </a:lnTo>
                    <a:cubicBezTo>
                      <a:pt x="0" y="795"/>
                      <a:pt x="12" y="784"/>
                      <a:pt x="25" y="784"/>
                    </a:cubicBezTo>
                    <a:cubicBezTo>
                      <a:pt x="39" y="784"/>
                      <a:pt x="50" y="795"/>
                      <a:pt x="50" y="809"/>
                    </a:cubicBezTo>
                    <a:close/>
                    <a:moveTo>
                      <a:pt x="50" y="909"/>
                    </a:moveTo>
                    <a:lnTo>
                      <a:pt x="50" y="909"/>
                    </a:lnTo>
                    <a:cubicBezTo>
                      <a:pt x="50" y="923"/>
                      <a:pt x="39" y="934"/>
                      <a:pt x="25" y="934"/>
                    </a:cubicBezTo>
                    <a:cubicBezTo>
                      <a:pt x="12" y="934"/>
                      <a:pt x="0" y="923"/>
                      <a:pt x="0" y="909"/>
                    </a:cubicBezTo>
                    <a:lnTo>
                      <a:pt x="0" y="909"/>
                    </a:lnTo>
                    <a:cubicBezTo>
                      <a:pt x="0" y="895"/>
                      <a:pt x="12" y="884"/>
                      <a:pt x="25" y="884"/>
                    </a:cubicBezTo>
                    <a:cubicBezTo>
                      <a:pt x="39" y="884"/>
                      <a:pt x="50" y="895"/>
                      <a:pt x="50" y="9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3481560" y="3054240"/>
                <a:ext cx="217440" cy="247320"/>
                <a:chOff x="3481560" y="3054240"/>
                <a:chExt cx="217440" cy="24732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3481560" y="3054240"/>
                  <a:ext cx="217440" cy="95400"/>
                  <a:chOff x="3481560" y="3054240"/>
                  <a:chExt cx="217440" cy="954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3481560" y="3054240"/>
                    <a:ext cx="217440" cy="95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481560" y="3054240"/>
                    <a:ext cx="217440" cy="954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87400" y="3176640"/>
                  <a:ext cx="101880" cy="36720"/>
                  <a:chOff x="3587400" y="3176640"/>
                  <a:chExt cx="101880" cy="367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28440" y="3176640"/>
                    <a:ext cx="60840" cy="36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3587400" y="3189960"/>
                    <a:ext cx="37080" cy="7920"/>
                    <a:chOff x="3587400" y="3189960"/>
                    <a:chExt cx="37080" cy="792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587400" y="3189960"/>
                      <a:ext cx="3708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3587400" y="3189960"/>
                      <a:ext cx="3708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2" name=""/>
                <p:cNvSpPr/>
                <p:nvPr/>
              </p:nvSpPr>
              <p:spPr>
                <a:xfrm>
                  <a:off x="3651120" y="3213360"/>
                  <a:ext cx="0" cy="882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481560" y="3487680"/>
                <a:ext cx="217440" cy="275760"/>
                <a:chOff x="3481560" y="3487680"/>
                <a:chExt cx="217440" cy="2757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661560" y="3487680"/>
                  <a:ext cx="0" cy="1224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3481560" y="3666960"/>
                  <a:ext cx="217440" cy="96480"/>
                  <a:chOff x="3481560" y="3666960"/>
                  <a:chExt cx="217440" cy="96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481560" y="3666960"/>
                    <a:ext cx="217440" cy="96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481560" y="3666960"/>
                    <a:ext cx="217440" cy="964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2800" y="3599280"/>
                  <a:ext cx="101520" cy="37800"/>
                  <a:chOff x="3592800" y="3599280"/>
                  <a:chExt cx="101520" cy="37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33480" y="3599280"/>
                    <a:ext cx="60840" cy="37800"/>
                  </a:xfrm>
                  <a:prstGeom prst="rect">
                    <a:avLst/>
                  </a:prstGeom>
                  <a:solidFill>
                    <a:srgbClr val="ffffff"/>
                  </a:solidFill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3592800" y="3614040"/>
                    <a:ext cx="36720" cy="9360"/>
                    <a:chOff x="3592800" y="3614040"/>
                    <a:chExt cx="36720" cy="936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3592800" y="3614040"/>
                      <a:ext cx="367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3592800" y="3614040"/>
                      <a:ext cx="36720" cy="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3" name=""/>
              <p:cNvSpPr/>
              <p:nvPr/>
            </p:nvSpPr>
            <p:spPr>
              <a:xfrm>
                <a:off x="3397320" y="3300480"/>
                <a:ext cx="2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97320" y="3486240"/>
                <a:ext cx="2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539640" y="3138480"/>
            <a:ext cx="1366920" cy="577800"/>
            <a:chOff x="539640" y="3138480"/>
            <a:chExt cx="1366920" cy="577800"/>
          </a:xfrm>
        </p:grpSpPr>
        <p:grpSp>
          <p:nvGrpSpPr>
            <p:cNvPr id="276" name=""/>
            <p:cNvGrpSpPr/>
            <p:nvPr/>
          </p:nvGrpSpPr>
          <p:grpSpPr>
            <a:xfrm>
              <a:off x="539640" y="3138480"/>
              <a:ext cx="1366560" cy="366480"/>
              <a:chOff x="539640" y="3138480"/>
              <a:chExt cx="1366560" cy="366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41080" y="3138480"/>
                <a:ext cx="136512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9640" y="3138480"/>
                <a:ext cx="1365120" cy="36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541080" y="3138480"/>
                <a:ext cx="1365120" cy="366480"/>
              </a:xfrm>
              <a:prstGeom prst="rect">
                <a:avLst/>
              </a:prstGeom>
              <a:noFill/>
              <a:ln cap="rnd"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434960" y="3527280"/>
              <a:ext cx="208080" cy="1890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7320" y="3519360"/>
              <a:ext cx="1800" cy="1825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2840" y="3527280"/>
              <a:ext cx="208080" cy="1890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88920" y="3525840"/>
              <a:ext cx="206280" cy="1872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51920" y="3558960"/>
              <a:ext cx="71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     2      3    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50960" y="3525840"/>
              <a:ext cx="208080" cy="1890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9640" y="3498840"/>
              <a:ext cx="13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212920" y="4292640"/>
            <a:ext cx="1703520" cy="970560"/>
            <a:chOff x="2212920" y="4292640"/>
            <a:chExt cx="1703520" cy="970560"/>
          </a:xfrm>
        </p:grpSpPr>
        <p:sp>
          <p:nvSpPr>
            <p:cNvPr id="288" name=""/>
            <p:cNvSpPr/>
            <p:nvPr/>
          </p:nvSpPr>
          <p:spPr>
            <a:xfrm flipH="1">
              <a:off x="2554200" y="5079960"/>
              <a:ext cx="1107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 2 shall not be a lifting axle.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y axle may be a steering ax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212920" y="4292640"/>
              <a:ext cx="1703520" cy="726840"/>
              <a:chOff x="2212920" y="4292640"/>
              <a:chExt cx="1703520" cy="726840"/>
            </a:xfrm>
          </p:grpSpPr>
          <p:sp>
            <p:nvSpPr>
              <p:cNvPr id="290" name=""/>
              <p:cNvSpPr/>
              <p:nvPr/>
            </p:nvSpPr>
            <p:spPr>
              <a:xfrm>
                <a:off x="2212920" y="4308480"/>
                <a:ext cx="1703520" cy="666720"/>
              </a:xfrm>
              <a:custGeom>
                <a:avLst/>
                <a:gdLst/>
                <a:ahLst/>
                <a:rect l="l" t="t" r="r" b="b"/>
                <a:pathLst>
                  <a:path w="948" h="499">
                    <a:moveTo>
                      <a:pt x="944" y="6"/>
                    </a:moveTo>
                    <a:lnTo>
                      <a:pt x="920" y="6"/>
                    </a:lnTo>
                    <a:lnTo>
                      <a:pt x="920" y="0"/>
                    </a:lnTo>
                    <a:lnTo>
                      <a:pt x="944" y="0"/>
                    </a:lnTo>
                    <a:lnTo>
                      <a:pt x="944" y="6"/>
                    </a:lnTo>
                    <a:close/>
                    <a:moveTo>
                      <a:pt x="901" y="6"/>
                    </a:moveTo>
                    <a:lnTo>
                      <a:pt x="877" y="6"/>
                    </a:lnTo>
                    <a:lnTo>
                      <a:pt x="877" y="0"/>
                    </a:lnTo>
                    <a:lnTo>
                      <a:pt x="901" y="0"/>
                    </a:lnTo>
                    <a:lnTo>
                      <a:pt x="901" y="6"/>
                    </a:lnTo>
                    <a:close/>
                    <a:moveTo>
                      <a:pt x="858" y="6"/>
                    </a:moveTo>
                    <a:lnTo>
                      <a:pt x="834" y="6"/>
                    </a:lnTo>
                    <a:lnTo>
                      <a:pt x="834" y="0"/>
                    </a:lnTo>
                    <a:lnTo>
                      <a:pt x="858" y="0"/>
                    </a:lnTo>
                    <a:lnTo>
                      <a:pt x="858" y="6"/>
                    </a:lnTo>
                    <a:close/>
                    <a:moveTo>
                      <a:pt x="815" y="6"/>
                    </a:moveTo>
                    <a:lnTo>
                      <a:pt x="791" y="6"/>
                    </a:lnTo>
                    <a:lnTo>
                      <a:pt x="791" y="0"/>
                    </a:lnTo>
                    <a:lnTo>
                      <a:pt x="815" y="0"/>
                    </a:lnTo>
                    <a:lnTo>
                      <a:pt x="815" y="6"/>
                    </a:lnTo>
                    <a:close/>
                    <a:moveTo>
                      <a:pt x="772" y="6"/>
                    </a:moveTo>
                    <a:lnTo>
                      <a:pt x="747" y="6"/>
                    </a:lnTo>
                    <a:lnTo>
                      <a:pt x="747" y="0"/>
                    </a:lnTo>
                    <a:lnTo>
                      <a:pt x="772" y="0"/>
                    </a:lnTo>
                    <a:lnTo>
                      <a:pt x="772" y="6"/>
                    </a:lnTo>
                    <a:close/>
                    <a:moveTo>
                      <a:pt x="729" y="6"/>
                    </a:moveTo>
                    <a:lnTo>
                      <a:pt x="704" y="6"/>
                    </a:lnTo>
                    <a:lnTo>
                      <a:pt x="704" y="0"/>
                    </a:lnTo>
                    <a:lnTo>
                      <a:pt x="729" y="0"/>
                    </a:lnTo>
                    <a:lnTo>
                      <a:pt x="729" y="6"/>
                    </a:lnTo>
                    <a:close/>
                    <a:moveTo>
                      <a:pt x="686" y="6"/>
                    </a:moveTo>
                    <a:lnTo>
                      <a:pt x="661" y="6"/>
                    </a:lnTo>
                    <a:lnTo>
                      <a:pt x="661" y="0"/>
                    </a:lnTo>
                    <a:lnTo>
                      <a:pt x="686" y="0"/>
                    </a:lnTo>
                    <a:lnTo>
                      <a:pt x="686" y="6"/>
                    </a:lnTo>
                    <a:close/>
                    <a:moveTo>
                      <a:pt x="643" y="6"/>
                    </a:moveTo>
                    <a:lnTo>
                      <a:pt x="618" y="6"/>
                    </a:lnTo>
                    <a:lnTo>
                      <a:pt x="618" y="0"/>
                    </a:lnTo>
                    <a:lnTo>
                      <a:pt x="643" y="0"/>
                    </a:lnTo>
                    <a:lnTo>
                      <a:pt x="643" y="6"/>
                    </a:lnTo>
                    <a:close/>
                    <a:moveTo>
                      <a:pt x="600" y="6"/>
                    </a:moveTo>
                    <a:lnTo>
                      <a:pt x="575" y="6"/>
                    </a:lnTo>
                    <a:lnTo>
                      <a:pt x="575" y="0"/>
                    </a:lnTo>
                    <a:lnTo>
                      <a:pt x="600" y="0"/>
                    </a:lnTo>
                    <a:lnTo>
                      <a:pt x="600" y="6"/>
                    </a:lnTo>
                    <a:close/>
                    <a:moveTo>
                      <a:pt x="557" y="6"/>
                    </a:moveTo>
                    <a:lnTo>
                      <a:pt x="532" y="6"/>
                    </a:lnTo>
                    <a:lnTo>
                      <a:pt x="532" y="0"/>
                    </a:lnTo>
                    <a:lnTo>
                      <a:pt x="557" y="0"/>
                    </a:lnTo>
                    <a:lnTo>
                      <a:pt x="557" y="6"/>
                    </a:lnTo>
                    <a:close/>
                    <a:moveTo>
                      <a:pt x="513" y="6"/>
                    </a:moveTo>
                    <a:lnTo>
                      <a:pt x="489" y="6"/>
                    </a:lnTo>
                    <a:lnTo>
                      <a:pt x="489" y="0"/>
                    </a:lnTo>
                    <a:lnTo>
                      <a:pt x="513" y="0"/>
                    </a:lnTo>
                    <a:lnTo>
                      <a:pt x="513" y="6"/>
                    </a:lnTo>
                    <a:close/>
                    <a:moveTo>
                      <a:pt x="470" y="6"/>
                    </a:moveTo>
                    <a:lnTo>
                      <a:pt x="446" y="6"/>
                    </a:lnTo>
                    <a:lnTo>
                      <a:pt x="446" y="0"/>
                    </a:lnTo>
                    <a:lnTo>
                      <a:pt x="470" y="0"/>
                    </a:lnTo>
                    <a:lnTo>
                      <a:pt x="470" y="6"/>
                    </a:lnTo>
                    <a:close/>
                    <a:moveTo>
                      <a:pt x="427" y="6"/>
                    </a:moveTo>
                    <a:lnTo>
                      <a:pt x="403" y="6"/>
                    </a:lnTo>
                    <a:lnTo>
                      <a:pt x="403" y="0"/>
                    </a:lnTo>
                    <a:lnTo>
                      <a:pt x="427" y="0"/>
                    </a:lnTo>
                    <a:lnTo>
                      <a:pt x="427" y="6"/>
                    </a:lnTo>
                    <a:close/>
                    <a:moveTo>
                      <a:pt x="384" y="6"/>
                    </a:moveTo>
                    <a:lnTo>
                      <a:pt x="360" y="6"/>
                    </a:lnTo>
                    <a:lnTo>
                      <a:pt x="360" y="0"/>
                    </a:lnTo>
                    <a:lnTo>
                      <a:pt x="384" y="0"/>
                    </a:lnTo>
                    <a:lnTo>
                      <a:pt x="384" y="6"/>
                    </a:lnTo>
                    <a:close/>
                    <a:moveTo>
                      <a:pt x="341" y="6"/>
                    </a:moveTo>
                    <a:lnTo>
                      <a:pt x="316" y="6"/>
                    </a:lnTo>
                    <a:lnTo>
                      <a:pt x="316" y="0"/>
                    </a:lnTo>
                    <a:lnTo>
                      <a:pt x="341" y="0"/>
                    </a:lnTo>
                    <a:lnTo>
                      <a:pt x="341" y="6"/>
                    </a:lnTo>
                    <a:close/>
                    <a:moveTo>
                      <a:pt x="298" y="6"/>
                    </a:moveTo>
                    <a:lnTo>
                      <a:pt x="273" y="6"/>
                    </a:lnTo>
                    <a:lnTo>
                      <a:pt x="273" y="0"/>
                    </a:lnTo>
                    <a:lnTo>
                      <a:pt x="298" y="0"/>
                    </a:lnTo>
                    <a:lnTo>
                      <a:pt x="298" y="6"/>
                    </a:lnTo>
                    <a:close/>
                    <a:moveTo>
                      <a:pt x="255" y="6"/>
                    </a:moveTo>
                    <a:lnTo>
                      <a:pt x="230" y="6"/>
                    </a:lnTo>
                    <a:lnTo>
                      <a:pt x="230" y="0"/>
                    </a:lnTo>
                    <a:lnTo>
                      <a:pt x="255" y="0"/>
                    </a:lnTo>
                    <a:lnTo>
                      <a:pt x="255" y="6"/>
                    </a:lnTo>
                    <a:close/>
                    <a:moveTo>
                      <a:pt x="212" y="6"/>
                    </a:moveTo>
                    <a:lnTo>
                      <a:pt x="187" y="6"/>
                    </a:lnTo>
                    <a:lnTo>
                      <a:pt x="187" y="0"/>
                    </a:lnTo>
                    <a:lnTo>
                      <a:pt x="212" y="0"/>
                    </a:lnTo>
                    <a:lnTo>
                      <a:pt x="212" y="6"/>
                    </a:lnTo>
                    <a:close/>
                    <a:moveTo>
                      <a:pt x="169" y="6"/>
                    </a:moveTo>
                    <a:lnTo>
                      <a:pt x="144" y="6"/>
                    </a:lnTo>
                    <a:lnTo>
                      <a:pt x="144" y="0"/>
                    </a:lnTo>
                    <a:lnTo>
                      <a:pt x="169" y="0"/>
                    </a:lnTo>
                    <a:lnTo>
                      <a:pt x="169" y="6"/>
                    </a:lnTo>
                    <a:close/>
                    <a:moveTo>
                      <a:pt x="126" y="6"/>
                    </a:moveTo>
                    <a:lnTo>
                      <a:pt x="101" y="6"/>
                    </a:lnTo>
                    <a:lnTo>
                      <a:pt x="101" y="0"/>
                    </a:lnTo>
                    <a:lnTo>
                      <a:pt x="126" y="0"/>
                    </a:lnTo>
                    <a:lnTo>
                      <a:pt x="126" y="6"/>
                    </a:lnTo>
                    <a:close/>
                    <a:moveTo>
                      <a:pt x="83" y="6"/>
                    </a:moveTo>
                    <a:lnTo>
                      <a:pt x="58" y="6"/>
                    </a:lnTo>
                    <a:lnTo>
                      <a:pt x="58" y="0"/>
                    </a:lnTo>
                    <a:lnTo>
                      <a:pt x="83" y="0"/>
                    </a:lnTo>
                    <a:lnTo>
                      <a:pt x="83" y="6"/>
                    </a:lnTo>
                    <a:close/>
                    <a:moveTo>
                      <a:pt x="39" y="6"/>
                    </a:moveTo>
                    <a:lnTo>
                      <a:pt x="15" y="6"/>
                    </a:lnTo>
                    <a:lnTo>
                      <a:pt x="15" y="0"/>
                    </a:lnTo>
                    <a:lnTo>
                      <a:pt x="39" y="0"/>
                    </a:lnTo>
                    <a:lnTo>
                      <a:pt x="39" y="6"/>
                    </a:lnTo>
                    <a:close/>
                    <a:moveTo>
                      <a:pt x="6" y="9"/>
                    </a:moveTo>
                    <a:lnTo>
                      <a:pt x="6" y="34"/>
                    </a:lnTo>
                    <a:lnTo>
                      <a:pt x="0" y="34"/>
                    </a:lnTo>
                    <a:lnTo>
                      <a:pt x="0" y="9"/>
                    </a:lnTo>
                    <a:lnTo>
                      <a:pt x="6" y="9"/>
                    </a:lnTo>
                    <a:close/>
                    <a:moveTo>
                      <a:pt x="6" y="52"/>
                    </a:moveTo>
                    <a:lnTo>
                      <a:pt x="6" y="77"/>
                    </a:lnTo>
                    <a:lnTo>
                      <a:pt x="0" y="77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  <a:moveTo>
                      <a:pt x="6" y="95"/>
                    </a:moveTo>
                    <a:lnTo>
                      <a:pt x="6" y="120"/>
                    </a:lnTo>
                    <a:lnTo>
                      <a:pt x="0" y="120"/>
                    </a:lnTo>
                    <a:lnTo>
                      <a:pt x="0" y="95"/>
                    </a:lnTo>
                    <a:lnTo>
                      <a:pt x="6" y="95"/>
                    </a:lnTo>
                    <a:close/>
                    <a:moveTo>
                      <a:pt x="6" y="138"/>
                    </a:moveTo>
                    <a:lnTo>
                      <a:pt x="6" y="163"/>
                    </a:lnTo>
                    <a:lnTo>
                      <a:pt x="0" y="163"/>
                    </a:lnTo>
                    <a:lnTo>
                      <a:pt x="0" y="138"/>
                    </a:lnTo>
                    <a:lnTo>
                      <a:pt x="6" y="138"/>
                    </a:lnTo>
                    <a:close/>
                    <a:moveTo>
                      <a:pt x="6" y="182"/>
                    </a:moveTo>
                    <a:lnTo>
                      <a:pt x="6" y="206"/>
                    </a:lnTo>
                    <a:lnTo>
                      <a:pt x="0" y="206"/>
                    </a:lnTo>
                    <a:lnTo>
                      <a:pt x="0" y="182"/>
                    </a:lnTo>
                    <a:lnTo>
                      <a:pt x="6" y="182"/>
                    </a:lnTo>
                    <a:close/>
                    <a:moveTo>
                      <a:pt x="6" y="225"/>
                    </a:moveTo>
                    <a:lnTo>
                      <a:pt x="6" y="249"/>
                    </a:lnTo>
                    <a:lnTo>
                      <a:pt x="0" y="249"/>
                    </a:lnTo>
                    <a:lnTo>
                      <a:pt x="0" y="225"/>
                    </a:lnTo>
                    <a:lnTo>
                      <a:pt x="6" y="225"/>
                    </a:lnTo>
                    <a:close/>
                    <a:moveTo>
                      <a:pt x="6" y="268"/>
                    </a:moveTo>
                    <a:lnTo>
                      <a:pt x="6" y="292"/>
                    </a:lnTo>
                    <a:lnTo>
                      <a:pt x="0" y="292"/>
                    </a:lnTo>
                    <a:lnTo>
                      <a:pt x="0" y="268"/>
                    </a:lnTo>
                    <a:lnTo>
                      <a:pt x="6" y="268"/>
                    </a:lnTo>
                    <a:close/>
                    <a:moveTo>
                      <a:pt x="6" y="311"/>
                    </a:moveTo>
                    <a:lnTo>
                      <a:pt x="6" y="336"/>
                    </a:lnTo>
                    <a:lnTo>
                      <a:pt x="0" y="336"/>
                    </a:lnTo>
                    <a:lnTo>
                      <a:pt x="0" y="311"/>
                    </a:lnTo>
                    <a:lnTo>
                      <a:pt x="6" y="311"/>
                    </a:lnTo>
                    <a:close/>
                    <a:moveTo>
                      <a:pt x="6" y="354"/>
                    </a:moveTo>
                    <a:lnTo>
                      <a:pt x="6" y="379"/>
                    </a:lnTo>
                    <a:lnTo>
                      <a:pt x="0" y="379"/>
                    </a:lnTo>
                    <a:lnTo>
                      <a:pt x="0" y="354"/>
                    </a:lnTo>
                    <a:lnTo>
                      <a:pt x="6" y="354"/>
                    </a:lnTo>
                    <a:close/>
                    <a:moveTo>
                      <a:pt x="6" y="397"/>
                    </a:moveTo>
                    <a:lnTo>
                      <a:pt x="6" y="422"/>
                    </a:lnTo>
                    <a:lnTo>
                      <a:pt x="0" y="422"/>
                    </a:lnTo>
                    <a:lnTo>
                      <a:pt x="0" y="397"/>
                    </a:lnTo>
                    <a:lnTo>
                      <a:pt x="6" y="397"/>
                    </a:lnTo>
                    <a:close/>
                    <a:moveTo>
                      <a:pt x="6" y="440"/>
                    </a:moveTo>
                    <a:lnTo>
                      <a:pt x="6" y="465"/>
                    </a:lnTo>
                    <a:lnTo>
                      <a:pt x="0" y="465"/>
                    </a:lnTo>
                    <a:lnTo>
                      <a:pt x="0" y="440"/>
                    </a:lnTo>
                    <a:lnTo>
                      <a:pt x="6" y="440"/>
                    </a:lnTo>
                    <a:close/>
                    <a:moveTo>
                      <a:pt x="6" y="483"/>
                    </a:moveTo>
                    <a:lnTo>
                      <a:pt x="6" y="496"/>
                    </a:lnTo>
                    <a:lnTo>
                      <a:pt x="2" y="493"/>
                    </a:lnTo>
                    <a:lnTo>
                      <a:pt x="15" y="493"/>
                    </a:lnTo>
                    <a:lnTo>
                      <a:pt x="15" y="499"/>
                    </a:lnTo>
                    <a:lnTo>
                      <a:pt x="0" y="499"/>
                    </a:lnTo>
                    <a:lnTo>
                      <a:pt x="0" y="483"/>
                    </a:lnTo>
                    <a:lnTo>
                      <a:pt x="6" y="483"/>
                    </a:lnTo>
                    <a:close/>
                    <a:moveTo>
                      <a:pt x="33" y="493"/>
                    </a:moveTo>
                    <a:lnTo>
                      <a:pt x="58" y="493"/>
                    </a:lnTo>
                    <a:lnTo>
                      <a:pt x="58" y="499"/>
                    </a:lnTo>
                    <a:lnTo>
                      <a:pt x="33" y="499"/>
                    </a:lnTo>
                    <a:lnTo>
                      <a:pt x="33" y="493"/>
                    </a:lnTo>
                    <a:close/>
                    <a:moveTo>
                      <a:pt x="76" y="493"/>
                    </a:moveTo>
                    <a:lnTo>
                      <a:pt x="101" y="493"/>
                    </a:lnTo>
                    <a:lnTo>
                      <a:pt x="101" y="499"/>
                    </a:lnTo>
                    <a:lnTo>
                      <a:pt x="76" y="499"/>
                    </a:lnTo>
                    <a:lnTo>
                      <a:pt x="76" y="493"/>
                    </a:lnTo>
                    <a:close/>
                    <a:moveTo>
                      <a:pt x="119" y="493"/>
                    </a:moveTo>
                    <a:lnTo>
                      <a:pt x="144" y="493"/>
                    </a:lnTo>
                    <a:lnTo>
                      <a:pt x="144" y="499"/>
                    </a:lnTo>
                    <a:lnTo>
                      <a:pt x="119" y="499"/>
                    </a:lnTo>
                    <a:lnTo>
                      <a:pt x="119" y="493"/>
                    </a:lnTo>
                    <a:close/>
                    <a:moveTo>
                      <a:pt x="163" y="493"/>
                    </a:moveTo>
                    <a:lnTo>
                      <a:pt x="187" y="493"/>
                    </a:lnTo>
                    <a:lnTo>
                      <a:pt x="187" y="499"/>
                    </a:lnTo>
                    <a:lnTo>
                      <a:pt x="163" y="499"/>
                    </a:lnTo>
                    <a:lnTo>
                      <a:pt x="163" y="493"/>
                    </a:lnTo>
                    <a:close/>
                    <a:moveTo>
                      <a:pt x="206" y="493"/>
                    </a:moveTo>
                    <a:lnTo>
                      <a:pt x="230" y="493"/>
                    </a:lnTo>
                    <a:lnTo>
                      <a:pt x="230" y="499"/>
                    </a:lnTo>
                    <a:lnTo>
                      <a:pt x="206" y="499"/>
                    </a:lnTo>
                    <a:lnTo>
                      <a:pt x="206" y="493"/>
                    </a:lnTo>
                    <a:close/>
                    <a:moveTo>
                      <a:pt x="249" y="493"/>
                    </a:moveTo>
                    <a:lnTo>
                      <a:pt x="273" y="493"/>
                    </a:lnTo>
                    <a:lnTo>
                      <a:pt x="273" y="499"/>
                    </a:lnTo>
                    <a:lnTo>
                      <a:pt x="249" y="499"/>
                    </a:lnTo>
                    <a:lnTo>
                      <a:pt x="249" y="493"/>
                    </a:lnTo>
                    <a:close/>
                    <a:moveTo>
                      <a:pt x="292" y="493"/>
                    </a:moveTo>
                    <a:lnTo>
                      <a:pt x="316" y="493"/>
                    </a:lnTo>
                    <a:lnTo>
                      <a:pt x="316" y="499"/>
                    </a:lnTo>
                    <a:lnTo>
                      <a:pt x="292" y="499"/>
                    </a:lnTo>
                    <a:lnTo>
                      <a:pt x="292" y="493"/>
                    </a:lnTo>
                    <a:close/>
                    <a:moveTo>
                      <a:pt x="335" y="493"/>
                    </a:moveTo>
                    <a:lnTo>
                      <a:pt x="360" y="493"/>
                    </a:lnTo>
                    <a:lnTo>
                      <a:pt x="360" y="499"/>
                    </a:lnTo>
                    <a:lnTo>
                      <a:pt x="335" y="499"/>
                    </a:lnTo>
                    <a:lnTo>
                      <a:pt x="335" y="493"/>
                    </a:lnTo>
                    <a:close/>
                    <a:moveTo>
                      <a:pt x="378" y="493"/>
                    </a:moveTo>
                    <a:lnTo>
                      <a:pt x="403" y="493"/>
                    </a:lnTo>
                    <a:lnTo>
                      <a:pt x="403" y="499"/>
                    </a:lnTo>
                    <a:lnTo>
                      <a:pt x="378" y="499"/>
                    </a:lnTo>
                    <a:lnTo>
                      <a:pt x="378" y="493"/>
                    </a:lnTo>
                    <a:close/>
                    <a:moveTo>
                      <a:pt x="421" y="493"/>
                    </a:moveTo>
                    <a:lnTo>
                      <a:pt x="446" y="493"/>
                    </a:lnTo>
                    <a:lnTo>
                      <a:pt x="446" y="499"/>
                    </a:lnTo>
                    <a:lnTo>
                      <a:pt x="421" y="499"/>
                    </a:lnTo>
                    <a:lnTo>
                      <a:pt x="421" y="493"/>
                    </a:lnTo>
                    <a:close/>
                    <a:moveTo>
                      <a:pt x="464" y="493"/>
                    </a:moveTo>
                    <a:lnTo>
                      <a:pt x="489" y="493"/>
                    </a:lnTo>
                    <a:lnTo>
                      <a:pt x="489" y="499"/>
                    </a:lnTo>
                    <a:lnTo>
                      <a:pt x="464" y="499"/>
                    </a:lnTo>
                    <a:lnTo>
                      <a:pt x="464" y="493"/>
                    </a:lnTo>
                    <a:close/>
                    <a:moveTo>
                      <a:pt x="507" y="493"/>
                    </a:moveTo>
                    <a:lnTo>
                      <a:pt x="532" y="493"/>
                    </a:lnTo>
                    <a:lnTo>
                      <a:pt x="532" y="499"/>
                    </a:lnTo>
                    <a:lnTo>
                      <a:pt x="507" y="499"/>
                    </a:lnTo>
                    <a:lnTo>
                      <a:pt x="507" y="493"/>
                    </a:lnTo>
                    <a:close/>
                    <a:moveTo>
                      <a:pt x="550" y="493"/>
                    </a:moveTo>
                    <a:lnTo>
                      <a:pt x="575" y="493"/>
                    </a:lnTo>
                    <a:lnTo>
                      <a:pt x="575" y="499"/>
                    </a:lnTo>
                    <a:lnTo>
                      <a:pt x="550" y="499"/>
                    </a:lnTo>
                    <a:lnTo>
                      <a:pt x="550" y="493"/>
                    </a:lnTo>
                    <a:close/>
                    <a:moveTo>
                      <a:pt x="594" y="493"/>
                    </a:moveTo>
                    <a:lnTo>
                      <a:pt x="618" y="493"/>
                    </a:lnTo>
                    <a:lnTo>
                      <a:pt x="618" y="499"/>
                    </a:lnTo>
                    <a:lnTo>
                      <a:pt x="594" y="499"/>
                    </a:lnTo>
                    <a:lnTo>
                      <a:pt x="594" y="493"/>
                    </a:lnTo>
                    <a:close/>
                    <a:moveTo>
                      <a:pt x="637" y="493"/>
                    </a:moveTo>
                    <a:lnTo>
                      <a:pt x="661" y="493"/>
                    </a:lnTo>
                    <a:lnTo>
                      <a:pt x="661" y="499"/>
                    </a:lnTo>
                    <a:lnTo>
                      <a:pt x="637" y="499"/>
                    </a:lnTo>
                    <a:lnTo>
                      <a:pt x="637" y="493"/>
                    </a:lnTo>
                    <a:close/>
                    <a:moveTo>
                      <a:pt x="680" y="493"/>
                    </a:moveTo>
                    <a:lnTo>
                      <a:pt x="704" y="493"/>
                    </a:lnTo>
                    <a:lnTo>
                      <a:pt x="704" y="499"/>
                    </a:lnTo>
                    <a:lnTo>
                      <a:pt x="680" y="499"/>
                    </a:lnTo>
                    <a:lnTo>
                      <a:pt x="680" y="493"/>
                    </a:lnTo>
                    <a:close/>
                    <a:moveTo>
                      <a:pt x="723" y="493"/>
                    </a:moveTo>
                    <a:lnTo>
                      <a:pt x="747" y="493"/>
                    </a:lnTo>
                    <a:lnTo>
                      <a:pt x="747" y="499"/>
                    </a:lnTo>
                    <a:lnTo>
                      <a:pt x="723" y="499"/>
                    </a:lnTo>
                    <a:lnTo>
                      <a:pt x="723" y="493"/>
                    </a:lnTo>
                    <a:close/>
                    <a:moveTo>
                      <a:pt x="766" y="493"/>
                    </a:moveTo>
                    <a:lnTo>
                      <a:pt x="791" y="493"/>
                    </a:lnTo>
                    <a:lnTo>
                      <a:pt x="791" y="499"/>
                    </a:lnTo>
                    <a:lnTo>
                      <a:pt x="766" y="499"/>
                    </a:lnTo>
                    <a:lnTo>
                      <a:pt x="766" y="493"/>
                    </a:lnTo>
                    <a:close/>
                    <a:moveTo>
                      <a:pt x="809" y="493"/>
                    </a:moveTo>
                    <a:lnTo>
                      <a:pt x="834" y="493"/>
                    </a:lnTo>
                    <a:lnTo>
                      <a:pt x="834" y="499"/>
                    </a:lnTo>
                    <a:lnTo>
                      <a:pt x="809" y="499"/>
                    </a:lnTo>
                    <a:lnTo>
                      <a:pt x="809" y="493"/>
                    </a:lnTo>
                    <a:close/>
                    <a:moveTo>
                      <a:pt x="852" y="493"/>
                    </a:moveTo>
                    <a:lnTo>
                      <a:pt x="877" y="493"/>
                    </a:lnTo>
                    <a:lnTo>
                      <a:pt x="877" y="499"/>
                    </a:lnTo>
                    <a:lnTo>
                      <a:pt x="852" y="499"/>
                    </a:lnTo>
                    <a:lnTo>
                      <a:pt x="852" y="493"/>
                    </a:lnTo>
                    <a:close/>
                    <a:moveTo>
                      <a:pt x="895" y="493"/>
                    </a:moveTo>
                    <a:lnTo>
                      <a:pt x="920" y="493"/>
                    </a:lnTo>
                    <a:lnTo>
                      <a:pt x="920" y="499"/>
                    </a:lnTo>
                    <a:lnTo>
                      <a:pt x="895" y="499"/>
                    </a:lnTo>
                    <a:lnTo>
                      <a:pt x="895" y="493"/>
                    </a:lnTo>
                    <a:close/>
                    <a:moveTo>
                      <a:pt x="938" y="493"/>
                    </a:moveTo>
                    <a:lnTo>
                      <a:pt x="944" y="493"/>
                    </a:lnTo>
                    <a:lnTo>
                      <a:pt x="942" y="496"/>
                    </a:lnTo>
                    <a:lnTo>
                      <a:pt x="942" y="477"/>
                    </a:lnTo>
                    <a:lnTo>
                      <a:pt x="948" y="477"/>
                    </a:lnTo>
                    <a:lnTo>
                      <a:pt x="948" y="499"/>
                    </a:lnTo>
                    <a:lnTo>
                      <a:pt x="938" y="499"/>
                    </a:lnTo>
                    <a:lnTo>
                      <a:pt x="938" y="493"/>
                    </a:lnTo>
                    <a:close/>
                    <a:moveTo>
                      <a:pt x="942" y="459"/>
                    </a:moveTo>
                    <a:lnTo>
                      <a:pt x="942" y="434"/>
                    </a:lnTo>
                    <a:lnTo>
                      <a:pt x="948" y="434"/>
                    </a:lnTo>
                    <a:lnTo>
                      <a:pt x="948" y="459"/>
                    </a:lnTo>
                    <a:lnTo>
                      <a:pt x="942" y="459"/>
                    </a:lnTo>
                    <a:close/>
                    <a:moveTo>
                      <a:pt x="942" y="416"/>
                    </a:moveTo>
                    <a:lnTo>
                      <a:pt x="942" y="391"/>
                    </a:lnTo>
                    <a:lnTo>
                      <a:pt x="948" y="391"/>
                    </a:lnTo>
                    <a:lnTo>
                      <a:pt x="948" y="416"/>
                    </a:lnTo>
                    <a:lnTo>
                      <a:pt x="942" y="416"/>
                    </a:lnTo>
                    <a:close/>
                    <a:moveTo>
                      <a:pt x="942" y="373"/>
                    </a:moveTo>
                    <a:lnTo>
                      <a:pt x="942" y="348"/>
                    </a:lnTo>
                    <a:lnTo>
                      <a:pt x="948" y="348"/>
                    </a:lnTo>
                    <a:lnTo>
                      <a:pt x="948" y="373"/>
                    </a:lnTo>
                    <a:lnTo>
                      <a:pt x="942" y="373"/>
                    </a:lnTo>
                    <a:close/>
                    <a:moveTo>
                      <a:pt x="942" y="329"/>
                    </a:moveTo>
                    <a:lnTo>
                      <a:pt x="942" y="305"/>
                    </a:lnTo>
                    <a:lnTo>
                      <a:pt x="948" y="305"/>
                    </a:lnTo>
                    <a:lnTo>
                      <a:pt x="948" y="329"/>
                    </a:lnTo>
                    <a:lnTo>
                      <a:pt x="942" y="329"/>
                    </a:lnTo>
                    <a:close/>
                    <a:moveTo>
                      <a:pt x="942" y="286"/>
                    </a:moveTo>
                    <a:lnTo>
                      <a:pt x="942" y="262"/>
                    </a:lnTo>
                    <a:lnTo>
                      <a:pt x="948" y="262"/>
                    </a:lnTo>
                    <a:lnTo>
                      <a:pt x="948" y="286"/>
                    </a:lnTo>
                    <a:lnTo>
                      <a:pt x="942" y="286"/>
                    </a:lnTo>
                    <a:close/>
                    <a:moveTo>
                      <a:pt x="942" y="243"/>
                    </a:moveTo>
                    <a:lnTo>
                      <a:pt x="942" y="219"/>
                    </a:lnTo>
                    <a:lnTo>
                      <a:pt x="948" y="219"/>
                    </a:lnTo>
                    <a:lnTo>
                      <a:pt x="948" y="243"/>
                    </a:lnTo>
                    <a:lnTo>
                      <a:pt x="942" y="243"/>
                    </a:lnTo>
                    <a:close/>
                    <a:moveTo>
                      <a:pt x="942" y="200"/>
                    </a:moveTo>
                    <a:lnTo>
                      <a:pt x="942" y="175"/>
                    </a:lnTo>
                    <a:lnTo>
                      <a:pt x="948" y="175"/>
                    </a:lnTo>
                    <a:lnTo>
                      <a:pt x="948" y="200"/>
                    </a:lnTo>
                    <a:lnTo>
                      <a:pt x="942" y="200"/>
                    </a:lnTo>
                    <a:close/>
                    <a:moveTo>
                      <a:pt x="942" y="157"/>
                    </a:moveTo>
                    <a:lnTo>
                      <a:pt x="942" y="132"/>
                    </a:lnTo>
                    <a:lnTo>
                      <a:pt x="948" y="132"/>
                    </a:lnTo>
                    <a:lnTo>
                      <a:pt x="948" y="157"/>
                    </a:lnTo>
                    <a:lnTo>
                      <a:pt x="942" y="157"/>
                    </a:lnTo>
                    <a:close/>
                    <a:moveTo>
                      <a:pt x="942" y="114"/>
                    </a:moveTo>
                    <a:lnTo>
                      <a:pt x="942" y="89"/>
                    </a:lnTo>
                    <a:lnTo>
                      <a:pt x="948" y="89"/>
                    </a:lnTo>
                    <a:lnTo>
                      <a:pt x="948" y="114"/>
                    </a:lnTo>
                    <a:lnTo>
                      <a:pt x="942" y="114"/>
                    </a:lnTo>
                    <a:close/>
                    <a:moveTo>
                      <a:pt x="942" y="71"/>
                    </a:moveTo>
                    <a:lnTo>
                      <a:pt x="942" y="46"/>
                    </a:lnTo>
                    <a:lnTo>
                      <a:pt x="948" y="46"/>
                    </a:lnTo>
                    <a:lnTo>
                      <a:pt x="948" y="71"/>
                    </a:lnTo>
                    <a:lnTo>
                      <a:pt x="942" y="71"/>
                    </a:lnTo>
                    <a:close/>
                    <a:moveTo>
                      <a:pt x="942" y="28"/>
                    </a:moveTo>
                    <a:lnTo>
                      <a:pt x="942" y="3"/>
                    </a:lnTo>
                    <a:lnTo>
                      <a:pt x="948" y="3"/>
                    </a:lnTo>
                    <a:lnTo>
                      <a:pt x="948" y="28"/>
                    </a:lnTo>
                    <a:lnTo>
                      <a:pt x="94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317680" y="4602240"/>
                <a:ext cx="112680" cy="101520"/>
                <a:chOff x="2317680" y="4602240"/>
                <a:chExt cx="112680" cy="1015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320200" y="4602240"/>
                  <a:ext cx="107280" cy="10152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317680" y="4654080"/>
                  <a:ext cx="112680" cy="144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2374560" y="4604760"/>
                  <a:ext cx="1440" cy="9864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624040" y="4292640"/>
                <a:ext cx="711000" cy="726840"/>
                <a:chOff x="2624040" y="4292640"/>
                <a:chExt cx="711000" cy="7268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935800" y="4986720"/>
                  <a:ext cx="47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045600" y="4986720"/>
                  <a:ext cx="4896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2992680" y="4323960"/>
                  <a:ext cx="4896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2882160" y="4323960"/>
                  <a:ext cx="4644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2871000" y="4295160"/>
                  <a:ext cx="216000" cy="95760"/>
                  <a:chOff x="2871000" y="4295160"/>
                  <a:chExt cx="216000" cy="957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2871000" y="4295160"/>
                    <a:ext cx="216000" cy="9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871000" y="4295160"/>
                    <a:ext cx="216000" cy="957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871000" y="4919760"/>
                  <a:ext cx="216000" cy="96840"/>
                  <a:chOff x="2871000" y="4919760"/>
                  <a:chExt cx="216000" cy="9684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2871000" y="4919760"/>
                    <a:ext cx="216000" cy="9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871000" y="4919760"/>
                    <a:ext cx="216000" cy="968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2978280" y="4419720"/>
                  <a:ext cx="100440" cy="38160"/>
                  <a:chOff x="2978280" y="4419720"/>
                  <a:chExt cx="100440" cy="381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3019320" y="4419720"/>
                    <a:ext cx="5940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2978280" y="4433040"/>
                    <a:ext cx="37440" cy="8280"/>
                    <a:chOff x="2978280" y="4433040"/>
                    <a:chExt cx="37440" cy="828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2978280" y="4433040"/>
                      <a:ext cx="37440" cy="82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2978280" y="4433040"/>
                      <a:ext cx="37440" cy="82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978280" y="4849920"/>
                  <a:ext cx="100440" cy="38160"/>
                  <a:chOff x="2978280" y="4849920"/>
                  <a:chExt cx="100440" cy="381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3019320" y="4849920"/>
                    <a:ext cx="5940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978280" y="4863240"/>
                    <a:ext cx="37440" cy="10800"/>
                    <a:chOff x="2978280" y="4863240"/>
                    <a:chExt cx="37440" cy="108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2978280" y="4863240"/>
                      <a:ext cx="37440" cy="10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2978280" y="4863240"/>
                      <a:ext cx="37440" cy="1080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2903040" y="4410000"/>
                  <a:ext cx="2520" cy="27360"/>
                  <a:chOff x="2903040" y="4410000"/>
                  <a:chExt cx="2520" cy="273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2903040" y="4410000"/>
                    <a:ext cx="2520" cy="27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903040" y="4410000"/>
                    <a:ext cx="2520" cy="27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2904480" y="4873320"/>
                  <a:ext cx="2520" cy="27000"/>
                  <a:chOff x="2904480" y="4873320"/>
                  <a:chExt cx="2520" cy="270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2904480" y="4873320"/>
                    <a:ext cx="252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904480" y="4873320"/>
                    <a:ext cx="2520" cy="27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3120480" y="4920840"/>
                  <a:ext cx="214560" cy="98640"/>
                  <a:chOff x="3120480" y="4920840"/>
                  <a:chExt cx="214560" cy="986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3120480" y="4920840"/>
                    <a:ext cx="214560" cy="98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120480" y="4920840"/>
                    <a:ext cx="214560" cy="986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3120480" y="4294080"/>
                  <a:ext cx="214560" cy="95400"/>
                  <a:chOff x="3120480" y="4294080"/>
                  <a:chExt cx="214560" cy="954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3120480" y="4294080"/>
                    <a:ext cx="214560" cy="95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120480" y="4294080"/>
                    <a:ext cx="214560" cy="954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3227760" y="4418640"/>
                  <a:ext cx="100440" cy="38160"/>
                  <a:chOff x="3227760" y="4418640"/>
                  <a:chExt cx="100440" cy="3816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3268800" y="4418640"/>
                    <a:ext cx="5940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3227760" y="4431960"/>
                    <a:ext cx="37440" cy="8280"/>
                    <a:chOff x="3227760" y="4431960"/>
                    <a:chExt cx="37440" cy="82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3227760" y="4431960"/>
                      <a:ext cx="37440" cy="82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3227760" y="4431960"/>
                      <a:ext cx="37440" cy="82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3224160" y="4852800"/>
                  <a:ext cx="100800" cy="38160"/>
                  <a:chOff x="3224160" y="4852800"/>
                  <a:chExt cx="100800" cy="3816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3265560" y="4852800"/>
                    <a:ext cx="5940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3224160" y="4867560"/>
                    <a:ext cx="37080" cy="8280"/>
                    <a:chOff x="3224160" y="4867560"/>
                    <a:chExt cx="37080" cy="828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3224160" y="4867560"/>
                      <a:ext cx="37080" cy="82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224160" y="4867560"/>
                      <a:ext cx="37080" cy="82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624040" y="4920840"/>
                  <a:ext cx="214560" cy="96840"/>
                  <a:chOff x="2624040" y="4920840"/>
                  <a:chExt cx="214560" cy="968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2624040" y="4920840"/>
                    <a:ext cx="214560" cy="9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624040" y="4920840"/>
                    <a:ext cx="214560" cy="968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624040" y="4292640"/>
                  <a:ext cx="214560" cy="95760"/>
                  <a:chOff x="2624040" y="4292640"/>
                  <a:chExt cx="214560" cy="957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2624040" y="4292640"/>
                    <a:ext cx="214560" cy="9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624040" y="4292640"/>
                    <a:ext cx="214560" cy="957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731320" y="4417200"/>
                  <a:ext cx="100440" cy="38160"/>
                  <a:chOff x="2731320" y="4417200"/>
                  <a:chExt cx="100440" cy="38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771280" y="4417200"/>
                    <a:ext cx="6048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731320" y="4430520"/>
                    <a:ext cx="36000" cy="7920"/>
                    <a:chOff x="2731320" y="4430520"/>
                    <a:chExt cx="36000" cy="79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2731320" y="4430520"/>
                      <a:ext cx="3600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2731320" y="4430520"/>
                      <a:ext cx="3600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727360" y="4851000"/>
                  <a:ext cx="99000" cy="38160"/>
                  <a:chOff x="2727360" y="4851000"/>
                  <a:chExt cx="99000" cy="381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767320" y="4851000"/>
                    <a:ext cx="5904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727360" y="4865760"/>
                    <a:ext cx="36000" cy="7920"/>
                    <a:chOff x="2727360" y="4865760"/>
                    <a:chExt cx="36000" cy="79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2727360" y="4865760"/>
                      <a:ext cx="3600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2727360" y="4865760"/>
                      <a:ext cx="3600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54" name=""/>
                <p:cNvSpPr/>
                <p:nvPr/>
              </p:nvSpPr>
              <p:spPr>
                <a:xfrm>
                  <a:off x="2937960" y="4656600"/>
                  <a:ext cx="9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16200000">
                  <a:off x="2952720" y="467100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16200000">
                  <a:off x="2952720" y="4570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1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931480" y="4563720"/>
                  <a:ext cx="103320" cy="1872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99440" y="4437720"/>
                  <a:ext cx="108720" cy="121680"/>
                </a:xfrm>
                <a:custGeom>
                  <a:avLst/>
                  <a:gdLst/>
                  <a:ahLst/>
                  <a:rect l="l" t="t" r="r" b="b"/>
                  <a:pathLst>
                    <a:path w="342" h="358">
                      <a:moveTo>
                        <a:pt x="317" y="346"/>
                      </a:moveTo>
                      <a:lnTo>
                        <a:pt x="317" y="346"/>
                      </a:lnTo>
                      <a:cubicBezTo>
                        <a:pt x="317" y="339"/>
                        <a:pt x="323" y="333"/>
                        <a:pt x="329" y="333"/>
                      </a:cubicBezTo>
                      <a:cubicBezTo>
                        <a:pt x="336" y="333"/>
                        <a:pt x="342" y="339"/>
                        <a:pt x="342" y="346"/>
                      </a:cubicBezTo>
                      <a:lnTo>
                        <a:pt x="342" y="346"/>
                      </a:lnTo>
                      <a:cubicBezTo>
                        <a:pt x="342" y="353"/>
                        <a:pt x="336" y="358"/>
                        <a:pt x="329" y="358"/>
                      </a:cubicBezTo>
                      <a:cubicBezTo>
                        <a:pt x="323" y="358"/>
                        <a:pt x="317" y="353"/>
                        <a:pt x="317" y="346"/>
                      </a:cubicBezTo>
                      <a:close/>
                      <a:moveTo>
                        <a:pt x="317" y="296"/>
                      </a:moveTo>
                      <a:lnTo>
                        <a:pt x="317" y="296"/>
                      </a:lnTo>
                      <a:cubicBezTo>
                        <a:pt x="317" y="289"/>
                        <a:pt x="323" y="283"/>
                        <a:pt x="329" y="283"/>
                      </a:cubicBezTo>
                      <a:cubicBezTo>
                        <a:pt x="336" y="283"/>
                        <a:pt x="342" y="289"/>
                        <a:pt x="342" y="296"/>
                      </a:cubicBezTo>
                      <a:lnTo>
                        <a:pt x="342" y="296"/>
                      </a:lnTo>
                      <a:cubicBezTo>
                        <a:pt x="342" y="303"/>
                        <a:pt x="336" y="308"/>
                        <a:pt x="329" y="308"/>
                      </a:cubicBezTo>
                      <a:cubicBezTo>
                        <a:pt x="323" y="308"/>
                        <a:pt x="317" y="303"/>
                        <a:pt x="317" y="296"/>
                      </a:cubicBezTo>
                      <a:close/>
                      <a:moveTo>
                        <a:pt x="317" y="246"/>
                      </a:moveTo>
                      <a:lnTo>
                        <a:pt x="317" y="246"/>
                      </a:lnTo>
                      <a:cubicBezTo>
                        <a:pt x="317" y="239"/>
                        <a:pt x="323" y="233"/>
                        <a:pt x="329" y="233"/>
                      </a:cubicBezTo>
                      <a:cubicBezTo>
                        <a:pt x="336" y="233"/>
                        <a:pt x="342" y="239"/>
                        <a:pt x="342" y="246"/>
                      </a:cubicBezTo>
                      <a:lnTo>
                        <a:pt x="342" y="246"/>
                      </a:lnTo>
                      <a:cubicBezTo>
                        <a:pt x="342" y="253"/>
                        <a:pt x="336" y="258"/>
                        <a:pt x="329" y="258"/>
                      </a:cubicBezTo>
                      <a:cubicBezTo>
                        <a:pt x="323" y="258"/>
                        <a:pt x="317" y="253"/>
                        <a:pt x="317" y="246"/>
                      </a:cubicBezTo>
                      <a:close/>
                      <a:moveTo>
                        <a:pt x="321" y="217"/>
                      </a:moveTo>
                      <a:lnTo>
                        <a:pt x="321" y="217"/>
                      </a:lnTo>
                      <a:cubicBezTo>
                        <a:pt x="314" y="217"/>
                        <a:pt x="309" y="211"/>
                        <a:pt x="309" y="204"/>
                      </a:cubicBezTo>
                      <a:cubicBezTo>
                        <a:pt x="309" y="197"/>
                        <a:pt x="314" y="192"/>
                        <a:pt x="321" y="192"/>
                      </a:cubicBezTo>
                      <a:lnTo>
                        <a:pt x="321" y="192"/>
                      </a:lnTo>
                      <a:cubicBezTo>
                        <a:pt x="328" y="192"/>
                        <a:pt x="334" y="197"/>
                        <a:pt x="334" y="204"/>
                      </a:cubicBezTo>
                      <a:cubicBezTo>
                        <a:pt x="334" y="211"/>
                        <a:pt x="328" y="217"/>
                        <a:pt x="321" y="217"/>
                      </a:cubicBezTo>
                      <a:close/>
                      <a:moveTo>
                        <a:pt x="271" y="217"/>
                      </a:moveTo>
                      <a:lnTo>
                        <a:pt x="271" y="217"/>
                      </a:lnTo>
                      <a:cubicBezTo>
                        <a:pt x="264" y="217"/>
                        <a:pt x="259" y="211"/>
                        <a:pt x="259" y="204"/>
                      </a:cubicBezTo>
                      <a:cubicBezTo>
                        <a:pt x="259" y="197"/>
                        <a:pt x="264" y="192"/>
                        <a:pt x="271" y="192"/>
                      </a:cubicBezTo>
                      <a:lnTo>
                        <a:pt x="271" y="192"/>
                      </a:lnTo>
                      <a:cubicBezTo>
                        <a:pt x="278" y="192"/>
                        <a:pt x="284" y="197"/>
                        <a:pt x="284" y="204"/>
                      </a:cubicBezTo>
                      <a:cubicBezTo>
                        <a:pt x="284" y="211"/>
                        <a:pt x="278" y="217"/>
                        <a:pt x="271" y="217"/>
                      </a:cubicBezTo>
                      <a:close/>
                      <a:moveTo>
                        <a:pt x="221" y="217"/>
                      </a:moveTo>
                      <a:lnTo>
                        <a:pt x="221" y="217"/>
                      </a:lnTo>
                      <a:cubicBezTo>
                        <a:pt x="214" y="217"/>
                        <a:pt x="208" y="211"/>
                        <a:pt x="208" y="204"/>
                      </a:cubicBezTo>
                      <a:cubicBezTo>
                        <a:pt x="208" y="197"/>
                        <a:pt x="214" y="192"/>
                        <a:pt x="221" y="192"/>
                      </a:cubicBezTo>
                      <a:lnTo>
                        <a:pt x="221" y="192"/>
                      </a:lnTo>
                      <a:cubicBezTo>
                        <a:pt x="228" y="192"/>
                        <a:pt x="234" y="197"/>
                        <a:pt x="234" y="204"/>
                      </a:cubicBezTo>
                      <a:cubicBezTo>
                        <a:pt x="234" y="211"/>
                        <a:pt x="228" y="217"/>
                        <a:pt x="221" y="217"/>
                      </a:cubicBezTo>
                      <a:close/>
                      <a:moveTo>
                        <a:pt x="171" y="217"/>
                      </a:moveTo>
                      <a:lnTo>
                        <a:pt x="171" y="217"/>
                      </a:lnTo>
                      <a:cubicBezTo>
                        <a:pt x="164" y="217"/>
                        <a:pt x="158" y="211"/>
                        <a:pt x="158" y="204"/>
                      </a:cubicBezTo>
                      <a:cubicBezTo>
                        <a:pt x="158" y="197"/>
                        <a:pt x="164" y="192"/>
                        <a:pt x="171" y="192"/>
                      </a:cubicBezTo>
                      <a:lnTo>
                        <a:pt x="171" y="192"/>
                      </a:lnTo>
                      <a:cubicBezTo>
                        <a:pt x="178" y="192"/>
                        <a:pt x="183" y="197"/>
                        <a:pt x="183" y="204"/>
                      </a:cubicBezTo>
                      <a:cubicBezTo>
                        <a:pt x="183" y="211"/>
                        <a:pt x="178" y="217"/>
                        <a:pt x="171" y="217"/>
                      </a:cubicBezTo>
                      <a:close/>
                      <a:moveTo>
                        <a:pt x="121" y="217"/>
                      </a:moveTo>
                      <a:lnTo>
                        <a:pt x="121" y="217"/>
                      </a:lnTo>
                      <a:cubicBezTo>
                        <a:pt x="114" y="217"/>
                        <a:pt x="108" y="211"/>
                        <a:pt x="108" y="204"/>
                      </a:cubicBezTo>
                      <a:cubicBezTo>
                        <a:pt x="108" y="197"/>
                        <a:pt x="114" y="192"/>
                        <a:pt x="121" y="192"/>
                      </a:cubicBezTo>
                      <a:lnTo>
                        <a:pt x="121" y="192"/>
                      </a:lnTo>
                      <a:cubicBezTo>
                        <a:pt x="128" y="192"/>
                        <a:pt x="133" y="197"/>
                        <a:pt x="133" y="204"/>
                      </a:cubicBezTo>
                      <a:cubicBezTo>
                        <a:pt x="133" y="211"/>
                        <a:pt x="128" y="217"/>
                        <a:pt x="121" y="217"/>
                      </a:cubicBezTo>
                      <a:close/>
                      <a:moveTo>
                        <a:pt x="71" y="217"/>
                      </a:moveTo>
                      <a:lnTo>
                        <a:pt x="71" y="217"/>
                      </a:lnTo>
                      <a:cubicBezTo>
                        <a:pt x="64" y="217"/>
                        <a:pt x="58" y="211"/>
                        <a:pt x="58" y="204"/>
                      </a:cubicBezTo>
                      <a:cubicBezTo>
                        <a:pt x="58" y="197"/>
                        <a:pt x="64" y="192"/>
                        <a:pt x="71" y="192"/>
                      </a:cubicBezTo>
                      <a:lnTo>
                        <a:pt x="71" y="192"/>
                      </a:lnTo>
                      <a:cubicBezTo>
                        <a:pt x="78" y="192"/>
                        <a:pt x="83" y="197"/>
                        <a:pt x="83" y="204"/>
                      </a:cubicBezTo>
                      <a:cubicBezTo>
                        <a:pt x="83" y="211"/>
                        <a:pt x="78" y="217"/>
                        <a:pt x="71" y="217"/>
                      </a:cubicBezTo>
                      <a:close/>
                      <a:moveTo>
                        <a:pt x="21" y="217"/>
                      </a:moveTo>
                      <a:lnTo>
                        <a:pt x="21" y="217"/>
                      </a:lnTo>
                      <a:cubicBezTo>
                        <a:pt x="14" y="217"/>
                        <a:pt x="8" y="211"/>
                        <a:pt x="8" y="204"/>
                      </a:cubicBezTo>
                      <a:cubicBezTo>
                        <a:pt x="8" y="197"/>
                        <a:pt x="14" y="192"/>
                        <a:pt x="21" y="192"/>
                      </a:cubicBezTo>
                      <a:lnTo>
                        <a:pt x="21" y="192"/>
                      </a:lnTo>
                      <a:cubicBezTo>
                        <a:pt x="28" y="192"/>
                        <a:pt x="33" y="197"/>
                        <a:pt x="33" y="204"/>
                      </a:cubicBezTo>
                      <a:cubicBezTo>
                        <a:pt x="33" y="211"/>
                        <a:pt x="28" y="217"/>
                        <a:pt x="21" y="217"/>
                      </a:cubicBezTo>
                      <a:close/>
                      <a:moveTo>
                        <a:pt x="0" y="162"/>
                      </a:moveTo>
                      <a:lnTo>
                        <a:pt x="0" y="162"/>
                      </a:lnTo>
                      <a:cubicBezTo>
                        <a:pt x="0" y="155"/>
                        <a:pt x="6" y="150"/>
                        <a:pt x="13" y="150"/>
                      </a:cubicBezTo>
                      <a:cubicBezTo>
                        <a:pt x="20" y="150"/>
                        <a:pt x="25" y="155"/>
                        <a:pt x="25" y="162"/>
                      </a:cubicBezTo>
                      <a:lnTo>
                        <a:pt x="25" y="162"/>
                      </a:lnTo>
                      <a:cubicBezTo>
                        <a:pt x="25" y="169"/>
                        <a:pt x="20" y="175"/>
                        <a:pt x="13" y="175"/>
                      </a:cubicBezTo>
                      <a:cubicBezTo>
                        <a:pt x="6" y="175"/>
                        <a:pt x="0" y="169"/>
                        <a:pt x="0" y="162"/>
                      </a:cubicBezTo>
                      <a:close/>
                      <a:moveTo>
                        <a:pt x="0" y="112"/>
                      </a:moveTo>
                      <a:lnTo>
                        <a:pt x="0" y="112"/>
                      </a:lnTo>
                      <a:cubicBezTo>
                        <a:pt x="0" y="105"/>
                        <a:pt x="6" y="100"/>
                        <a:pt x="13" y="100"/>
                      </a:cubicBezTo>
                      <a:cubicBezTo>
                        <a:pt x="20" y="100"/>
                        <a:pt x="25" y="105"/>
                        <a:pt x="25" y="112"/>
                      </a:cubicBezTo>
                      <a:lnTo>
                        <a:pt x="25" y="112"/>
                      </a:lnTo>
                      <a:cubicBezTo>
                        <a:pt x="25" y="119"/>
                        <a:pt x="20" y="125"/>
                        <a:pt x="13" y="125"/>
                      </a:cubicBezTo>
                      <a:cubicBezTo>
                        <a:pt x="6" y="125"/>
                        <a:pt x="0" y="119"/>
                        <a:pt x="0" y="112"/>
                      </a:cubicBezTo>
                      <a:close/>
                      <a:moveTo>
                        <a:pt x="0" y="62"/>
                      </a:moveTo>
                      <a:lnTo>
                        <a:pt x="0" y="62"/>
                      </a:lnTo>
                      <a:cubicBezTo>
                        <a:pt x="0" y="55"/>
                        <a:pt x="6" y="50"/>
                        <a:pt x="13" y="50"/>
                      </a:cubicBezTo>
                      <a:cubicBezTo>
                        <a:pt x="20" y="50"/>
                        <a:pt x="25" y="55"/>
                        <a:pt x="25" y="62"/>
                      </a:cubicBezTo>
                      <a:lnTo>
                        <a:pt x="25" y="62"/>
                      </a:lnTo>
                      <a:cubicBezTo>
                        <a:pt x="25" y="69"/>
                        <a:pt x="20" y="75"/>
                        <a:pt x="13" y="75"/>
                      </a:cubicBezTo>
                      <a:cubicBezTo>
                        <a:pt x="6" y="75"/>
                        <a:pt x="0" y="69"/>
                        <a:pt x="0" y="62"/>
                      </a:cubicBezTo>
                      <a:close/>
                      <a:moveTo>
                        <a:pt x="0" y="12"/>
                      </a:moveTo>
                      <a:lnTo>
                        <a:pt x="0" y="12"/>
                      </a:lnTo>
                      <a:cubicBezTo>
                        <a:pt x="0" y="5"/>
                        <a:pt x="6" y="0"/>
                        <a:pt x="13" y="0"/>
                      </a:cubicBezTo>
                      <a:cubicBezTo>
                        <a:pt x="20" y="0"/>
                        <a:pt x="25" y="5"/>
                        <a:pt x="25" y="12"/>
                      </a:cubicBezTo>
                      <a:lnTo>
                        <a:pt x="25" y="12"/>
                      </a:lnTo>
                      <a:cubicBezTo>
                        <a:pt x="25" y="19"/>
                        <a:pt x="20" y="25"/>
                        <a:pt x="13" y="25"/>
                      </a:cubicBezTo>
                      <a:cubicBezTo>
                        <a:pt x="6" y="25"/>
                        <a:pt x="0" y="19"/>
                        <a:pt x="0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903040" y="4745880"/>
                  <a:ext cx="103320" cy="109440"/>
                </a:xfrm>
                <a:custGeom>
                  <a:avLst/>
                  <a:gdLst/>
                  <a:ahLst/>
                  <a:rect l="l" t="t" r="r" b="b"/>
                  <a:pathLst>
                    <a:path w="325" h="326">
                      <a:moveTo>
                        <a:pt x="325" y="13"/>
                      </a:moveTo>
                      <a:lnTo>
                        <a:pt x="325" y="13"/>
                      </a:lnTo>
                      <a:cubicBezTo>
                        <a:pt x="325" y="20"/>
                        <a:pt x="319" y="25"/>
                        <a:pt x="312" y="25"/>
                      </a:cubicBezTo>
                      <a:cubicBezTo>
                        <a:pt x="305" y="25"/>
                        <a:pt x="300" y="20"/>
                        <a:pt x="300" y="13"/>
                      </a:cubicBezTo>
                      <a:lnTo>
                        <a:pt x="300" y="13"/>
                      </a:lnTo>
                      <a:cubicBezTo>
                        <a:pt x="300" y="6"/>
                        <a:pt x="305" y="0"/>
                        <a:pt x="312" y="0"/>
                      </a:cubicBezTo>
                      <a:cubicBezTo>
                        <a:pt x="319" y="0"/>
                        <a:pt x="325" y="6"/>
                        <a:pt x="325" y="13"/>
                      </a:cubicBezTo>
                      <a:close/>
                      <a:moveTo>
                        <a:pt x="325" y="63"/>
                      </a:moveTo>
                      <a:lnTo>
                        <a:pt x="325" y="63"/>
                      </a:lnTo>
                      <a:cubicBezTo>
                        <a:pt x="325" y="70"/>
                        <a:pt x="319" y="76"/>
                        <a:pt x="312" y="76"/>
                      </a:cubicBezTo>
                      <a:cubicBezTo>
                        <a:pt x="305" y="76"/>
                        <a:pt x="300" y="70"/>
                        <a:pt x="300" y="63"/>
                      </a:cubicBezTo>
                      <a:lnTo>
                        <a:pt x="300" y="63"/>
                      </a:lnTo>
                      <a:cubicBezTo>
                        <a:pt x="300" y="56"/>
                        <a:pt x="305" y="50"/>
                        <a:pt x="312" y="50"/>
                      </a:cubicBezTo>
                      <a:cubicBezTo>
                        <a:pt x="319" y="50"/>
                        <a:pt x="325" y="56"/>
                        <a:pt x="325" y="63"/>
                      </a:cubicBezTo>
                      <a:close/>
                      <a:moveTo>
                        <a:pt x="325" y="113"/>
                      </a:moveTo>
                      <a:lnTo>
                        <a:pt x="325" y="113"/>
                      </a:lnTo>
                      <a:cubicBezTo>
                        <a:pt x="325" y="120"/>
                        <a:pt x="319" y="126"/>
                        <a:pt x="312" y="126"/>
                      </a:cubicBezTo>
                      <a:cubicBezTo>
                        <a:pt x="305" y="126"/>
                        <a:pt x="300" y="120"/>
                        <a:pt x="300" y="113"/>
                      </a:cubicBezTo>
                      <a:lnTo>
                        <a:pt x="300" y="113"/>
                      </a:lnTo>
                      <a:cubicBezTo>
                        <a:pt x="300" y="106"/>
                        <a:pt x="305" y="101"/>
                        <a:pt x="312" y="101"/>
                      </a:cubicBezTo>
                      <a:cubicBezTo>
                        <a:pt x="319" y="101"/>
                        <a:pt x="325" y="106"/>
                        <a:pt x="325" y="113"/>
                      </a:cubicBezTo>
                      <a:close/>
                      <a:moveTo>
                        <a:pt x="304" y="167"/>
                      </a:moveTo>
                      <a:lnTo>
                        <a:pt x="304" y="167"/>
                      </a:lnTo>
                      <a:cubicBezTo>
                        <a:pt x="297" y="167"/>
                        <a:pt x="291" y="162"/>
                        <a:pt x="291" y="155"/>
                      </a:cubicBezTo>
                      <a:cubicBezTo>
                        <a:pt x="291" y="148"/>
                        <a:pt x="297" y="142"/>
                        <a:pt x="304" y="142"/>
                      </a:cubicBezTo>
                      <a:lnTo>
                        <a:pt x="304" y="142"/>
                      </a:lnTo>
                      <a:cubicBezTo>
                        <a:pt x="311" y="142"/>
                        <a:pt x="316" y="148"/>
                        <a:pt x="316" y="155"/>
                      </a:cubicBezTo>
                      <a:cubicBezTo>
                        <a:pt x="316" y="162"/>
                        <a:pt x="311" y="167"/>
                        <a:pt x="304" y="167"/>
                      </a:cubicBezTo>
                      <a:close/>
                      <a:moveTo>
                        <a:pt x="254" y="167"/>
                      </a:moveTo>
                      <a:lnTo>
                        <a:pt x="254" y="167"/>
                      </a:lnTo>
                      <a:cubicBezTo>
                        <a:pt x="247" y="167"/>
                        <a:pt x="241" y="162"/>
                        <a:pt x="241" y="155"/>
                      </a:cubicBezTo>
                      <a:cubicBezTo>
                        <a:pt x="241" y="148"/>
                        <a:pt x="247" y="142"/>
                        <a:pt x="254" y="142"/>
                      </a:cubicBezTo>
                      <a:lnTo>
                        <a:pt x="254" y="142"/>
                      </a:lnTo>
                      <a:cubicBezTo>
                        <a:pt x="261" y="142"/>
                        <a:pt x="266" y="148"/>
                        <a:pt x="266" y="155"/>
                      </a:cubicBezTo>
                      <a:cubicBezTo>
                        <a:pt x="266" y="162"/>
                        <a:pt x="261" y="167"/>
                        <a:pt x="254" y="167"/>
                      </a:cubicBezTo>
                      <a:close/>
                      <a:moveTo>
                        <a:pt x="204" y="167"/>
                      </a:moveTo>
                      <a:lnTo>
                        <a:pt x="204" y="167"/>
                      </a:lnTo>
                      <a:cubicBezTo>
                        <a:pt x="197" y="167"/>
                        <a:pt x="191" y="162"/>
                        <a:pt x="191" y="155"/>
                      </a:cubicBezTo>
                      <a:cubicBezTo>
                        <a:pt x="191" y="148"/>
                        <a:pt x="197" y="142"/>
                        <a:pt x="204" y="142"/>
                      </a:cubicBezTo>
                      <a:lnTo>
                        <a:pt x="204" y="142"/>
                      </a:lnTo>
                      <a:cubicBezTo>
                        <a:pt x="211" y="142"/>
                        <a:pt x="216" y="148"/>
                        <a:pt x="216" y="155"/>
                      </a:cubicBezTo>
                      <a:cubicBezTo>
                        <a:pt x="216" y="162"/>
                        <a:pt x="211" y="167"/>
                        <a:pt x="204" y="167"/>
                      </a:cubicBezTo>
                      <a:close/>
                      <a:moveTo>
                        <a:pt x="154" y="167"/>
                      </a:moveTo>
                      <a:lnTo>
                        <a:pt x="154" y="167"/>
                      </a:lnTo>
                      <a:cubicBezTo>
                        <a:pt x="147" y="167"/>
                        <a:pt x="141" y="162"/>
                        <a:pt x="141" y="155"/>
                      </a:cubicBezTo>
                      <a:cubicBezTo>
                        <a:pt x="141" y="148"/>
                        <a:pt x="147" y="142"/>
                        <a:pt x="154" y="142"/>
                      </a:cubicBezTo>
                      <a:lnTo>
                        <a:pt x="154" y="142"/>
                      </a:lnTo>
                      <a:cubicBezTo>
                        <a:pt x="161" y="142"/>
                        <a:pt x="166" y="148"/>
                        <a:pt x="166" y="155"/>
                      </a:cubicBezTo>
                      <a:cubicBezTo>
                        <a:pt x="166" y="162"/>
                        <a:pt x="161" y="167"/>
                        <a:pt x="154" y="167"/>
                      </a:cubicBezTo>
                      <a:close/>
                      <a:moveTo>
                        <a:pt x="104" y="167"/>
                      </a:moveTo>
                      <a:lnTo>
                        <a:pt x="104" y="167"/>
                      </a:lnTo>
                      <a:cubicBezTo>
                        <a:pt x="97" y="167"/>
                        <a:pt x="91" y="162"/>
                        <a:pt x="91" y="155"/>
                      </a:cubicBezTo>
                      <a:cubicBezTo>
                        <a:pt x="91" y="148"/>
                        <a:pt x="97" y="142"/>
                        <a:pt x="104" y="142"/>
                      </a:cubicBezTo>
                      <a:lnTo>
                        <a:pt x="104" y="142"/>
                      </a:lnTo>
                      <a:cubicBezTo>
                        <a:pt x="111" y="142"/>
                        <a:pt x="116" y="148"/>
                        <a:pt x="116" y="155"/>
                      </a:cubicBezTo>
                      <a:cubicBezTo>
                        <a:pt x="116" y="162"/>
                        <a:pt x="111" y="167"/>
                        <a:pt x="104" y="167"/>
                      </a:cubicBezTo>
                      <a:close/>
                      <a:moveTo>
                        <a:pt x="54" y="167"/>
                      </a:moveTo>
                      <a:lnTo>
                        <a:pt x="54" y="167"/>
                      </a:lnTo>
                      <a:cubicBezTo>
                        <a:pt x="47" y="167"/>
                        <a:pt x="41" y="162"/>
                        <a:pt x="41" y="155"/>
                      </a:cubicBezTo>
                      <a:cubicBezTo>
                        <a:pt x="41" y="148"/>
                        <a:pt x="47" y="142"/>
                        <a:pt x="54" y="142"/>
                      </a:cubicBezTo>
                      <a:lnTo>
                        <a:pt x="54" y="142"/>
                      </a:lnTo>
                      <a:cubicBezTo>
                        <a:pt x="61" y="142"/>
                        <a:pt x="66" y="148"/>
                        <a:pt x="66" y="155"/>
                      </a:cubicBezTo>
                      <a:cubicBezTo>
                        <a:pt x="66" y="162"/>
                        <a:pt x="61" y="167"/>
                        <a:pt x="54" y="167"/>
                      </a:cubicBezTo>
                      <a:close/>
                      <a:moveTo>
                        <a:pt x="25" y="163"/>
                      </a:moveTo>
                      <a:lnTo>
                        <a:pt x="25" y="163"/>
                      </a:lnTo>
                      <a:cubicBezTo>
                        <a:pt x="25" y="170"/>
                        <a:pt x="19" y="176"/>
                        <a:pt x="12" y="176"/>
                      </a:cubicBezTo>
                      <a:cubicBezTo>
                        <a:pt x="5" y="176"/>
                        <a:pt x="0" y="170"/>
                        <a:pt x="0" y="163"/>
                      </a:cubicBezTo>
                      <a:lnTo>
                        <a:pt x="0" y="163"/>
                      </a:lnTo>
                      <a:cubicBezTo>
                        <a:pt x="0" y="156"/>
                        <a:pt x="5" y="151"/>
                        <a:pt x="12" y="151"/>
                      </a:cubicBezTo>
                      <a:cubicBezTo>
                        <a:pt x="19" y="151"/>
                        <a:pt x="25" y="156"/>
                        <a:pt x="25" y="163"/>
                      </a:cubicBezTo>
                      <a:close/>
                      <a:moveTo>
                        <a:pt x="25" y="213"/>
                      </a:moveTo>
                      <a:lnTo>
                        <a:pt x="25" y="213"/>
                      </a:lnTo>
                      <a:cubicBezTo>
                        <a:pt x="25" y="220"/>
                        <a:pt x="19" y="226"/>
                        <a:pt x="12" y="226"/>
                      </a:cubicBezTo>
                      <a:cubicBezTo>
                        <a:pt x="5" y="226"/>
                        <a:pt x="0" y="220"/>
                        <a:pt x="0" y="213"/>
                      </a:cubicBezTo>
                      <a:lnTo>
                        <a:pt x="0" y="213"/>
                      </a:lnTo>
                      <a:cubicBezTo>
                        <a:pt x="0" y="206"/>
                        <a:pt x="5" y="201"/>
                        <a:pt x="12" y="201"/>
                      </a:cubicBezTo>
                      <a:cubicBezTo>
                        <a:pt x="19" y="201"/>
                        <a:pt x="25" y="206"/>
                        <a:pt x="25" y="213"/>
                      </a:cubicBezTo>
                      <a:close/>
                      <a:moveTo>
                        <a:pt x="25" y="263"/>
                      </a:moveTo>
                      <a:lnTo>
                        <a:pt x="25" y="263"/>
                      </a:lnTo>
                      <a:cubicBezTo>
                        <a:pt x="25" y="270"/>
                        <a:pt x="19" y="276"/>
                        <a:pt x="12" y="276"/>
                      </a:cubicBezTo>
                      <a:cubicBezTo>
                        <a:pt x="5" y="276"/>
                        <a:pt x="0" y="270"/>
                        <a:pt x="0" y="263"/>
                      </a:cubicBezTo>
                      <a:lnTo>
                        <a:pt x="0" y="263"/>
                      </a:lnTo>
                      <a:cubicBezTo>
                        <a:pt x="0" y="256"/>
                        <a:pt x="5" y="251"/>
                        <a:pt x="12" y="251"/>
                      </a:cubicBezTo>
                      <a:cubicBezTo>
                        <a:pt x="19" y="251"/>
                        <a:pt x="25" y="256"/>
                        <a:pt x="25" y="263"/>
                      </a:cubicBezTo>
                      <a:close/>
                      <a:moveTo>
                        <a:pt x="25" y="313"/>
                      </a:moveTo>
                      <a:lnTo>
                        <a:pt x="25" y="313"/>
                      </a:lnTo>
                      <a:cubicBezTo>
                        <a:pt x="25" y="320"/>
                        <a:pt x="19" y="326"/>
                        <a:pt x="12" y="326"/>
                      </a:cubicBezTo>
                      <a:cubicBezTo>
                        <a:pt x="5" y="326"/>
                        <a:pt x="0" y="320"/>
                        <a:pt x="0" y="313"/>
                      </a:cubicBezTo>
                      <a:lnTo>
                        <a:pt x="0" y="313"/>
                      </a:lnTo>
                      <a:cubicBezTo>
                        <a:pt x="0" y="306"/>
                        <a:pt x="5" y="301"/>
                        <a:pt x="12" y="301"/>
                      </a:cubicBezTo>
                      <a:cubicBezTo>
                        <a:pt x="19" y="301"/>
                        <a:pt x="25" y="306"/>
                        <a:pt x="25" y="31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022200" y="4456800"/>
                  <a:ext cx="289800" cy="98640"/>
                </a:xfrm>
                <a:custGeom>
                  <a:avLst/>
                  <a:gdLst/>
                  <a:ahLst/>
                  <a:rect l="l" t="t" r="r" b="b"/>
                  <a:pathLst>
                    <a:path w="224" h="72">
                      <a:moveTo>
                        <a:pt x="0" y="72"/>
                      </a:moveTo>
                      <a:lnTo>
                        <a:pt x="0" y="37"/>
                      </a:lnTo>
                      <a:lnTo>
                        <a:pt x="224" y="37"/>
                      </a:lnTo>
                      <a:lnTo>
                        <a:pt x="224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021120" y="4749840"/>
                  <a:ext cx="286920" cy="95760"/>
                </a:xfrm>
                <a:custGeom>
                  <a:avLst/>
                  <a:gdLst/>
                  <a:ahLst/>
                  <a:rect l="l" t="t" r="r" b="b"/>
                  <a:pathLst>
                    <a:path w="222" h="70">
                      <a:moveTo>
                        <a:pt x="222" y="70"/>
                      </a:moveTo>
                      <a:lnTo>
                        <a:pt x="222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3059640" y="4459320"/>
                  <a:ext cx="0" cy="450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59640" y="4799160"/>
                  <a:ext cx="0" cy="475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810160" y="4456800"/>
                  <a:ext cx="132840" cy="101520"/>
                </a:xfrm>
                <a:custGeom>
                  <a:avLst/>
                  <a:gdLst/>
                  <a:ahLst/>
                  <a:rect l="l" t="t" r="r" b="b"/>
                  <a:pathLst>
                    <a:path w="103" h="74">
                      <a:moveTo>
                        <a:pt x="103" y="74"/>
                      </a:moveTo>
                      <a:lnTo>
                        <a:pt x="103" y="57"/>
                      </a:lnTo>
                      <a:lnTo>
                        <a:pt x="0" y="5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811240" y="4749840"/>
                  <a:ext cx="132840" cy="101160"/>
                </a:xfrm>
                <a:custGeom>
                  <a:avLst/>
                  <a:gdLst/>
                  <a:ahLst/>
                  <a:rect l="l" t="t" r="r" b="b"/>
                  <a:pathLst>
                    <a:path w="103" h="74">
                      <a:moveTo>
                        <a:pt x="103" y="0"/>
                      </a:moveTo>
                      <a:lnTo>
                        <a:pt x="103" y="17"/>
                      </a:lnTo>
                      <a:lnTo>
                        <a:pt x="0" y="17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387600" y="4292640"/>
                <a:ext cx="469800" cy="726840"/>
                <a:chOff x="3387600" y="4292640"/>
                <a:chExt cx="469800" cy="7268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622680" y="4672080"/>
                  <a:ext cx="0" cy="6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622680" y="4545000"/>
                  <a:ext cx="0" cy="6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3398040" y="4292640"/>
                  <a:ext cx="212760" cy="97560"/>
                  <a:chOff x="3398040" y="4292640"/>
                  <a:chExt cx="212760" cy="9756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3398040" y="4292640"/>
                    <a:ext cx="212760" cy="9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398040" y="4292640"/>
                    <a:ext cx="212760" cy="975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3387600" y="4920480"/>
                  <a:ext cx="213120" cy="99000"/>
                  <a:chOff x="3387600" y="4920480"/>
                  <a:chExt cx="213120" cy="9900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3387600" y="4920480"/>
                    <a:ext cx="213120" cy="9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387600" y="4920480"/>
                    <a:ext cx="213120" cy="99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3502080" y="4417920"/>
                  <a:ext cx="99360" cy="37440"/>
                  <a:chOff x="3502080" y="4417920"/>
                  <a:chExt cx="99360" cy="3744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3542040" y="4417920"/>
                    <a:ext cx="59400" cy="374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3502080" y="4431600"/>
                    <a:ext cx="36360" cy="7920"/>
                    <a:chOff x="3502080" y="4431600"/>
                    <a:chExt cx="36360" cy="79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3502080" y="4431600"/>
                      <a:ext cx="3636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3502080" y="4431600"/>
                      <a:ext cx="3636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3496680" y="4850640"/>
                  <a:ext cx="99360" cy="39240"/>
                  <a:chOff x="3496680" y="4850640"/>
                  <a:chExt cx="99360" cy="3924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3536640" y="4850640"/>
                    <a:ext cx="59400" cy="392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3496680" y="4865760"/>
                    <a:ext cx="36000" cy="9720"/>
                    <a:chOff x="3496680" y="4865760"/>
                    <a:chExt cx="36000" cy="97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3496680" y="4865760"/>
                      <a:ext cx="36000" cy="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3496680" y="4865760"/>
                      <a:ext cx="36000" cy="97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26480" y="4411080"/>
                  <a:ext cx="2520" cy="27720"/>
                  <a:chOff x="3426480" y="4411080"/>
                  <a:chExt cx="2520" cy="277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3426480" y="4411080"/>
                    <a:ext cx="252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426480" y="4411080"/>
                    <a:ext cx="2520" cy="27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3430440" y="4874400"/>
                  <a:ext cx="2520" cy="27720"/>
                  <a:chOff x="3430440" y="4874400"/>
                  <a:chExt cx="2520" cy="277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3430440" y="4874400"/>
                    <a:ext cx="252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430440" y="4874400"/>
                    <a:ext cx="2520" cy="27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3578400" y="4455720"/>
                  <a:ext cx="0" cy="3906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426480" y="4659480"/>
                  <a:ext cx="137160" cy="220320"/>
                </a:xfrm>
                <a:custGeom>
                  <a:avLst/>
                  <a:gdLst/>
                  <a:ahLst/>
                  <a:rect l="l" t="t" r="r" b="b"/>
                  <a:pathLst>
                    <a:path w="501" h="1300">
                      <a:moveTo>
                        <a:pt x="0" y="1275"/>
                      </a:moveTo>
                      <a:lnTo>
                        <a:pt x="0" y="1275"/>
                      </a:lnTo>
                      <a:cubicBezTo>
                        <a:pt x="0" y="1261"/>
                        <a:pt x="12" y="1250"/>
                        <a:pt x="25" y="1250"/>
                      </a:cubicBezTo>
                      <a:cubicBezTo>
                        <a:pt x="39" y="1250"/>
                        <a:pt x="50" y="1261"/>
                        <a:pt x="50" y="1275"/>
                      </a:cubicBezTo>
                      <a:lnTo>
                        <a:pt x="50" y="1275"/>
                      </a:lnTo>
                      <a:cubicBezTo>
                        <a:pt x="50" y="1289"/>
                        <a:pt x="39" y="1300"/>
                        <a:pt x="25" y="1300"/>
                      </a:cubicBezTo>
                      <a:cubicBezTo>
                        <a:pt x="12" y="1300"/>
                        <a:pt x="0" y="1289"/>
                        <a:pt x="0" y="1275"/>
                      </a:cubicBezTo>
                      <a:close/>
                      <a:moveTo>
                        <a:pt x="0" y="1175"/>
                      </a:moveTo>
                      <a:lnTo>
                        <a:pt x="0" y="1175"/>
                      </a:lnTo>
                      <a:cubicBezTo>
                        <a:pt x="0" y="1161"/>
                        <a:pt x="12" y="1150"/>
                        <a:pt x="25" y="1150"/>
                      </a:cubicBezTo>
                      <a:cubicBezTo>
                        <a:pt x="39" y="1150"/>
                        <a:pt x="50" y="1161"/>
                        <a:pt x="50" y="1175"/>
                      </a:cubicBezTo>
                      <a:lnTo>
                        <a:pt x="50" y="1175"/>
                      </a:lnTo>
                      <a:cubicBezTo>
                        <a:pt x="50" y="1189"/>
                        <a:pt x="39" y="1200"/>
                        <a:pt x="25" y="1200"/>
                      </a:cubicBezTo>
                      <a:cubicBezTo>
                        <a:pt x="12" y="1200"/>
                        <a:pt x="0" y="1189"/>
                        <a:pt x="0" y="1175"/>
                      </a:cubicBezTo>
                      <a:close/>
                      <a:moveTo>
                        <a:pt x="0" y="1075"/>
                      </a:moveTo>
                      <a:lnTo>
                        <a:pt x="0" y="1075"/>
                      </a:lnTo>
                      <a:cubicBezTo>
                        <a:pt x="0" y="1061"/>
                        <a:pt x="12" y="1050"/>
                        <a:pt x="25" y="1050"/>
                      </a:cubicBezTo>
                      <a:cubicBezTo>
                        <a:pt x="39" y="1050"/>
                        <a:pt x="50" y="1061"/>
                        <a:pt x="50" y="1075"/>
                      </a:cubicBezTo>
                      <a:lnTo>
                        <a:pt x="50" y="1075"/>
                      </a:lnTo>
                      <a:cubicBezTo>
                        <a:pt x="50" y="1089"/>
                        <a:pt x="39" y="1100"/>
                        <a:pt x="25" y="1100"/>
                      </a:cubicBezTo>
                      <a:cubicBezTo>
                        <a:pt x="12" y="1100"/>
                        <a:pt x="0" y="1089"/>
                        <a:pt x="0" y="1075"/>
                      </a:cubicBezTo>
                      <a:close/>
                      <a:moveTo>
                        <a:pt x="0" y="975"/>
                      </a:moveTo>
                      <a:lnTo>
                        <a:pt x="0" y="975"/>
                      </a:lnTo>
                      <a:cubicBezTo>
                        <a:pt x="0" y="961"/>
                        <a:pt x="12" y="950"/>
                        <a:pt x="25" y="950"/>
                      </a:cubicBezTo>
                      <a:cubicBezTo>
                        <a:pt x="39" y="950"/>
                        <a:pt x="50" y="961"/>
                        <a:pt x="50" y="975"/>
                      </a:cubicBezTo>
                      <a:lnTo>
                        <a:pt x="50" y="975"/>
                      </a:lnTo>
                      <a:cubicBezTo>
                        <a:pt x="50" y="989"/>
                        <a:pt x="39" y="1000"/>
                        <a:pt x="25" y="1000"/>
                      </a:cubicBezTo>
                      <a:cubicBezTo>
                        <a:pt x="12" y="1000"/>
                        <a:pt x="0" y="989"/>
                        <a:pt x="0" y="975"/>
                      </a:cubicBezTo>
                      <a:close/>
                      <a:moveTo>
                        <a:pt x="0" y="875"/>
                      </a:moveTo>
                      <a:lnTo>
                        <a:pt x="0" y="875"/>
                      </a:lnTo>
                      <a:cubicBezTo>
                        <a:pt x="0" y="861"/>
                        <a:pt x="12" y="850"/>
                        <a:pt x="25" y="850"/>
                      </a:cubicBezTo>
                      <a:cubicBezTo>
                        <a:pt x="39" y="850"/>
                        <a:pt x="50" y="861"/>
                        <a:pt x="50" y="875"/>
                      </a:cubicBezTo>
                      <a:lnTo>
                        <a:pt x="50" y="875"/>
                      </a:lnTo>
                      <a:cubicBezTo>
                        <a:pt x="50" y="889"/>
                        <a:pt x="39" y="900"/>
                        <a:pt x="25" y="900"/>
                      </a:cubicBezTo>
                      <a:cubicBezTo>
                        <a:pt x="12" y="900"/>
                        <a:pt x="0" y="889"/>
                        <a:pt x="0" y="875"/>
                      </a:cubicBezTo>
                      <a:close/>
                      <a:moveTo>
                        <a:pt x="0" y="775"/>
                      </a:moveTo>
                      <a:lnTo>
                        <a:pt x="0" y="775"/>
                      </a:lnTo>
                      <a:cubicBezTo>
                        <a:pt x="0" y="761"/>
                        <a:pt x="12" y="750"/>
                        <a:pt x="25" y="750"/>
                      </a:cubicBezTo>
                      <a:cubicBezTo>
                        <a:pt x="39" y="750"/>
                        <a:pt x="50" y="761"/>
                        <a:pt x="50" y="775"/>
                      </a:cubicBezTo>
                      <a:lnTo>
                        <a:pt x="50" y="775"/>
                      </a:lnTo>
                      <a:cubicBezTo>
                        <a:pt x="50" y="789"/>
                        <a:pt x="39" y="800"/>
                        <a:pt x="25" y="800"/>
                      </a:cubicBezTo>
                      <a:cubicBezTo>
                        <a:pt x="12" y="800"/>
                        <a:pt x="0" y="789"/>
                        <a:pt x="0" y="775"/>
                      </a:cubicBezTo>
                      <a:close/>
                      <a:moveTo>
                        <a:pt x="0" y="675"/>
                      </a:moveTo>
                      <a:lnTo>
                        <a:pt x="0" y="675"/>
                      </a:lnTo>
                      <a:cubicBezTo>
                        <a:pt x="0" y="661"/>
                        <a:pt x="12" y="650"/>
                        <a:pt x="25" y="650"/>
                      </a:cubicBezTo>
                      <a:cubicBezTo>
                        <a:pt x="39" y="650"/>
                        <a:pt x="50" y="661"/>
                        <a:pt x="50" y="675"/>
                      </a:cubicBezTo>
                      <a:lnTo>
                        <a:pt x="50" y="675"/>
                      </a:lnTo>
                      <a:cubicBezTo>
                        <a:pt x="50" y="689"/>
                        <a:pt x="39" y="700"/>
                        <a:pt x="25" y="700"/>
                      </a:cubicBezTo>
                      <a:cubicBezTo>
                        <a:pt x="12" y="700"/>
                        <a:pt x="0" y="689"/>
                        <a:pt x="0" y="675"/>
                      </a:cubicBezTo>
                      <a:close/>
                      <a:moveTo>
                        <a:pt x="0" y="575"/>
                      </a:moveTo>
                      <a:lnTo>
                        <a:pt x="0" y="575"/>
                      </a:lnTo>
                      <a:cubicBezTo>
                        <a:pt x="0" y="561"/>
                        <a:pt x="12" y="550"/>
                        <a:pt x="25" y="550"/>
                      </a:cubicBezTo>
                      <a:cubicBezTo>
                        <a:pt x="39" y="550"/>
                        <a:pt x="50" y="561"/>
                        <a:pt x="50" y="575"/>
                      </a:cubicBezTo>
                      <a:lnTo>
                        <a:pt x="50" y="575"/>
                      </a:lnTo>
                      <a:cubicBezTo>
                        <a:pt x="50" y="589"/>
                        <a:pt x="39" y="600"/>
                        <a:pt x="25" y="600"/>
                      </a:cubicBezTo>
                      <a:cubicBezTo>
                        <a:pt x="12" y="600"/>
                        <a:pt x="0" y="589"/>
                        <a:pt x="0" y="575"/>
                      </a:cubicBezTo>
                      <a:close/>
                      <a:moveTo>
                        <a:pt x="0" y="475"/>
                      </a:moveTo>
                      <a:lnTo>
                        <a:pt x="0" y="475"/>
                      </a:lnTo>
                      <a:cubicBezTo>
                        <a:pt x="0" y="461"/>
                        <a:pt x="12" y="450"/>
                        <a:pt x="25" y="450"/>
                      </a:cubicBezTo>
                      <a:cubicBezTo>
                        <a:pt x="39" y="450"/>
                        <a:pt x="50" y="461"/>
                        <a:pt x="50" y="475"/>
                      </a:cubicBezTo>
                      <a:lnTo>
                        <a:pt x="50" y="475"/>
                      </a:lnTo>
                      <a:cubicBezTo>
                        <a:pt x="50" y="489"/>
                        <a:pt x="39" y="500"/>
                        <a:pt x="25" y="500"/>
                      </a:cubicBezTo>
                      <a:cubicBezTo>
                        <a:pt x="12" y="500"/>
                        <a:pt x="0" y="489"/>
                        <a:pt x="0" y="475"/>
                      </a:cubicBezTo>
                      <a:close/>
                      <a:moveTo>
                        <a:pt x="0" y="375"/>
                      </a:moveTo>
                      <a:lnTo>
                        <a:pt x="0" y="375"/>
                      </a:lnTo>
                      <a:cubicBezTo>
                        <a:pt x="0" y="361"/>
                        <a:pt x="12" y="350"/>
                        <a:pt x="25" y="350"/>
                      </a:cubicBezTo>
                      <a:cubicBezTo>
                        <a:pt x="39" y="350"/>
                        <a:pt x="50" y="361"/>
                        <a:pt x="50" y="375"/>
                      </a:cubicBezTo>
                      <a:lnTo>
                        <a:pt x="50" y="375"/>
                      </a:lnTo>
                      <a:cubicBezTo>
                        <a:pt x="50" y="388"/>
                        <a:pt x="39" y="400"/>
                        <a:pt x="25" y="400"/>
                      </a:cubicBezTo>
                      <a:cubicBezTo>
                        <a:pt x="12" y="400"/>
                        <a:pt x="0" y="388"/>
                        <a:pt x="0" y="375"/>
                      </a:cubicBezTo>
                      <a:close/>
                      <a:moveTo>
                        <a:pt x="0" y="275"/>
                      </a:moveTo>
                      <a:lnTo>
                        <a:pt x="0" y="275"/>
                      </a:lnTo>
                      <a:cubicBezTo>
                        <a:pt x="0" y="261"/>
                        <a:pt x="12" y="250"/>
                        <a:pt x="25" y="250"/>
                      </a:cubicBezTo>
                      <a:cubicBezTo>
                        <a:pt x="39" y="250"/>
                        <a:pt x="50" y="261"/>
                        <a:pt x="50" y="275"/>
                      </a:cubicBezTo>
                      <a:lnTo>
                        <a:pt x="50" y="275"/>
                      </a:lnTo>
                      <a:cubicBezTo>
                        <a:pt x="50" y="288"/>
                        <a:pt x="39" y="300"/>
                        <a:pt x="25" y="300"/>
                      </a:cubicBezTo>
                      <a:cubicBezTo>
                        <a:pt x="12" y="300"/>
                        <a:pt x="0" y="288"/>
                        <a:pt x="0" y="275"/>
                      </a:cubicBezTo>
                      <a:close/>
                      <a:moveTo>
                        <a:pt x="0" y="175"/>
                      </a:moveTo>
                      <a:lnTo>
                        <a:pt x="0" y="175"/>
                      </a:lnTo>
                      <a:cubicBezTo>
                        <a:pt x="0" y="161"/>
                        <a:pt x="12" y="150"/>
                        <a:pt x="25" y="150"/>
                      </a:cubicBezTo>
                      <a:cubicBezTo>
                        <a:pt x="39" y="150"/>
                        <a:pt x="50" y="161"/>
                        <a:pt x="50" y="175"/>
                      </a:cubicBezTo>
                      <a:lnTo>
                        <a:pt x="50" y="175"/>
                      </a:lnTo>
                      <a:cubicBezTo>
                        <a:pt x="50" y="188"/>
                        <a:pt x="39" y="200"/>
                        <a:pt x="25" y="200"/>
                      </a:cubicBezTo>
                      <a:cubicBezTo>
                        <a:pt x="12" y="200"/>
                        <a:pt x="0" y="188"/>
                        <a:pt x="0" y="175"/>
                      </a:cubicBezTo>
                      <a:close/>
                      <a:moveTo>
                        <a:pt x="0" y="75"/>
                      </a:moveTo>
                      <a:lnTo>
                        <a:pt x="0" y="74"/>
                      </a:lnTo>
                      <a:cubicBezTo>
                        <a:pt x="0" y="61"/>
                        <a:pt x="12" y="49"/>
                        <a:pt x="25" y="49"/>
                      </a:cubicBezTo>
                      <a:cubicBezTo>
                        <a:pt x="39" y="49"/>
                        <a:pt x="50" y="61"/>
                        <a:pt x="50" y="74"/>
                      </a:cubicBezTo>
                      <a:lnTo>
                        <a:pt x="50" y="75"/>
                      </a:lnTo>
                      <a:cubicBezTo>
                        <a:pt x="50" y="88"/>
                        <a:pt x="39" y="100"/>
                        <a:pt x="25" y="100"/>
                      </a:cubicBezTo>
                      <a:cubicBezTo>
                        <a:pt x="12" y="100"/>
                        <a:pt x="0" y="88"/>
                        <a:pt x="0" y="75"/>
                      </a:cubicBezTo>
                      <a:close/>
                      <a:moveTo>
                        <a:pt x="76" y="0"/>
                      </a:moveTo>
                      <a:lnTo>
                        <a:pt x="76" y="0"/>
                      </a:lnTo>
                      <a:cubicBezTo>
                        <a:pt x="90" y="0"/>
                        <a:pt x="101" y="11"/>
                        <a:pt x="101" y="25"/>
                      </a:cubicBezTo>
                      <a:cubicBezTo>
                        <a:pt x="101" y="39"/>
                        <a:pt x="90" y="50"/>
                        <a:pt x="76" y="50"/>
                      </a:cubicBezTo>
                      <a:lnTo>
                        <a:pt x="76" y="50"/>
                      </a:lnTo>
                      <a:cubicBezTo>
                        <a:pt x="62" y="50"/>
                        <a:pt x="51" y="39"/>
                        <a:pt x="51" y="25"/>
                      </a:cubicBezTo>
                      <a:cubicBezTo>
                        <a:pt x="51" y="11"/>
                        <a:pt x="62" y="0"/>
                        <a:pt x="76" y="0"/>
                      </a:cubicBezTo>
                      <a:close/>
                      <a:moveTo>
                        <a:pt x="176" y="0"/>
                      </a:moveTo>
                      <a:lnTo>
                        <a:pt x="176" y="0"/>
                      </a:lnTo>
                      <a:cubicBezTo>
                        <a:pt x="190" y="0"/>
                        <a:pt x="201" y="11"/>
                        <a:pt x="201" y="25"/>
                      </a:cubicBezTo>
                      <a:cubicBezTo>
                        <a:pt x="201" y="39"/>
                        <a:pt x="190" y="50"/>
                        <a:pt x="176" y="50"/>
                      </a:cubicBezTo>
                      <a:lnTo>
                        <a:pt x="176" y="50"/>
                      </a:lnTo>
                      <a:cubicBezTo>
                        <a:pt x="162" y="50"/>
                        <a:pt x="151" y="39"/>
                        <a:pt x="151" y="25"/>
                      </a:cubicBezTo>
                      <a:cubicBezTo>
                        <a:pt x="151" y="11"/>
                        <a:pt x="162" y="0"/>
                        <a:pt x="176" y="0"/>
                      </a:cubicBezTo>
                      <a:close/>
                      <a:moveTo>
                        <a:pt x="276" y="0"/>
                      </a:moveTo>
                      <a:lnTo>
                        <a:pt x="276" y="0"/>
                      </a:lnTo>
                      <a:cubicBezTo>
                        <a:pt x="290" y="0"/>
                        <a:pt x="301" y="11"/>
                        <a:pt x="301" y="25"/>
                      </a:cubicBezTo>
                      <a:cubicBezTo>
                        <a:pt x="301" y="39"/>
                        <a:pt x="290" y="50"/>
                        <a:pt x="276" y="50"/>
                      </a:cubicBezTo>
                      <a:lnTo>
                        <a:pt x="276" y="50"/>
                      </a:lnTo>
                      <a:cubicBezTo>
                        <a:pt x="262" y="50"/>
                        <a:pt x="251" y="39"/>
                        <a:pt x="251" y="25"/>
                      </a:cubicBezTo>
                      <a:cubicBezTo>
                        <a:pt x="251" y="11"/>
                        <a:pt x="262" y="0"/>
                        <a:pt x="276" y="0"/>
                      </a:cubicBezTo>
                      <a:close/>
                      <a:moveTo>
                        <a:pt x="376" y="0"/>
                      </a:moveTo>
                      <a:lnTo>
                        <a:pt x="376" y="0"/>
                      </a:lnTo>
                      <a:cubicBezTo>
                        <a:pt x="390" y="0"/>
                        <a:pt x="401" y="11"/>
                        <a:pt x="401" y="25"/>
                      </a:cubicBezTo>
                      <a:cubicBezTo>
                        <a:pt x="401" y="39"/>
                        <a:pt x="390" y="50"/>
                        <a:pt x="376" y="50"/>
                      </a:cubicBezTo>
                      <a:lnTo>
                        <a:pt x="376" y="50"/>
                      </a:lnTo>
                      <a:cubicBezTo>
                        <a:pt x="362" y="50"/>
                        <a:pt x="351" y="39"/>
                        <a:pt x="351" y="25"/>
                      </a:cubicBezTo>
                      <a:cubicBezTo>
                        <a:pt x="351" y="11"/>
                        <a:pt x="362" y="0"/>
                        <a:pt x="376" y="0"/>
                      </a:cubicBezTo>
                      <a:close/>
                      <a:moveTo>
                        <a:pt x="476" y="0"/>
                      </a:moveTo>
                      <a:lnTo>
                        <a:pt x="476" y="0"/>
                      </a:lnTo>
                      <a:cubicBezTo>
                        <a:pt x="490" y="0"/>
                        <a:pt x="501" y="11"/>
                        <a:pt x="501" y="25"/>
                      </a:cubicBezTo>
                      <a:cubicBezTo>
                        <a:pt x="501" y="39"/>
                        <a:pt x="490" y="50"/>
                        <a:pt x="476" y="50"/>
                      </a:cubicBezTo>
                      <a:lnTo>
                        <a:pt x="476" y="50"/>
                      </a:lnTo>
                      <a:cubicBezTo>
                        <a:pt x="463" y="50"/>
                        <a:pt x="451" y="39"/>
                        <a:pt x="451" y="25"/>
                      </a:cubicBezTo>
                      <a:cubicBezTo>
                        <a:pt x="451" y="11"/>
                        <a:pt x="463" y="0"/>
                        <a:pt x="47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421440" y="4408200"/>
                  <a:ext cx="142560" cy="220320"/>
                </a:xfrm>
                <a:custGeom>
                  <a:avLst/>
                  <a:gdLst/>
                  <a:ahLst/>
                  <a:rect l="l" t="t" r="r" b="b"/>
                  <a:pathLst>
                    <a:path w="509" h="1299">
                      <a:moveTo>
                        <a:pt x="58" y="25"/>
                      </a:moveTo>
                      <a:lnTo>
                        <a:pt x="58" y="25"/>
                      </a:lnTo>
                      <a:cubicBezTo>
                        <a:pt x="58" y="39"/>
                        <a:pt x="47" y="50"/>
                        <a:pt x="33" y="50"/>
                      </a:cubicBezTo>
                      <a:cubicBezTo>
                        <a:pt x="19" y="50"/>
                        <a:pt x="8" y="39"/>
                        <a:pt x="8" y="25"/>
                      </a:cubicBezTo>
                      <a:lnTo>
                        <a:pt x="8" y="25"/>
                      </a:lnTo>
                      <a:cubicBezTo>
                        <a:pt x="9" y="11"/>
                        <a:pt x="20" y="0"/>
                        <a:pt x="34" y="0"/>
                      </a:cubicBezTo>
                      <a:cubicBezTo>
                        <a:pt x="48" y="0"/>
                        <a:pt x="59" y="12"/>
                        <a:pt x="58" y="25"/>
                      </a:cubicBezTo>
                      <a:close/>
                      <a:moveTo>
                        <a:pt x="58" y="125"/>
                      </a:moveTo>
                      <a:lnTo>
                        <a:pt x="58" y="125"/>
                      </a:lnTo>
                      <a:cubicBezTo>
                        <a:pt x="58" y="139"/>
                        <a:pt x="46" y="150"/>
                        <a:pt x="33" y="150"/>
                      </a:cubicBezTo>
                      <a:cubicBezTo>
                        <a:pt x="19" y="150"/>
                        <a:pt x="8" y="139"/>
                        <a:pt x="8" y="125"/>
                      </a:cubicBezTo>
                      <a:lnTo>
                        <a:pt x="8" y="125"/>
                      </a:lnTo>
                      <a:cubicBezTo>
                        <a:pt x="8" y="111"/>
                        <a:pt x="19" y="100"/>
                        <a:pt x="33" y="100"/>
                      </a:cubicBezTo>
                      <a:cubicBezTo>
                        <a:pt x="47" y="100"/>
                        <a:pt x="58" y="112"/>
                        <a:pt x="58" y="125"/>
                      </a:cubicBezTo>
                      <a:close/>
                      <a:moveTo>
                        <a:pt x="57" y="225"/>
                      </a:moveTo>
                      <a:lnTo>
                        <a:pt x="57" y="226"/>
                      </a:lnTo>
                      <a:cubicBezTo>
                        <a:pt x="57" y="239"/>
                        <a:pt x="46" y="250"/>
                        <a:pt x="32" y="250"/>
                      </a:cubicBezTo>
                      <a:cubicBezTo>
                        <a:pt x="18" y="250"/>
                        <a:pt x="7" y="239"/>
                        <a:pt x="7" y="225"/>
                      </a:cubicBezTo>
                      <a:lnTo>
                        <a:pt x="7" y="225"/>
                      </a:lnTo>
                      <a:cubicBezTo>
                        <a:pt x="7" y="211"/>
                        <a:pt x="19" y="200"/>
                        <a:pt x="32" y="200"/>
                      </a:cubicBezTo>
                      <a:cubicBezTo>
                        <a:pt x="46" y="200"/>
                        <a:pt x="57" y="212"/>
                        <a:pt x="57" y="225"/>
                      </a:cubicBezTo>
                      <a:close/>
                      <a:moveTo>
                        <a:pt x="56" y="326"/>
                      </a:moveTo>
                      <a:lnTo>
                        <a:pt x="56" y="326"/>
                      </a:lnTo>
                      <a:cubicBezTo>
                        <a:pt x="56" y="339"/>
                        <a:pt x="45" y="350"/>
                        <a:pt x="31" y="350"/>
                      </a:cubicBezTo>
                      <a:cubicBezTo>
                        <a:pt x="17" y="350"/>
                        <a:pt x="6" y="339"/>
                        <a:pt x="6" y="325"/>
                      </a:cubicBezTo>
                      <a:lnTo>
                        <a:pt x="6" y="325"/>
                      </a:lnTo>
                      <a:cubicBezTo>
                        <a:pt x="7" y="311"/>
                        <a:pt x="18" y="300"/>
                        <a:pt x="32" y="300"/>
                      </a:cubicBezTo>
                      <a:cubicBezTo>
                        <a:pt x="46" y="300"/>
                        <a:pt x="57" y="312"/>
                        <a:pt x="56" y="326"/>
                      </a:cubicBezTo>
                      <a:close/>
                      <a:moveTo>
                        <a:pt x="56" y="426"/>
                      </a:moveTo>
                      <a:lnTo>
                        <a:pt x="56" y="426"/>
                      </a:lnTo>
                      <a:cubicBezTo>
                        <a:pt x="56" y="439"/>
                        <a:pt x="44" y="451"/>
                        <a:pt x="31" y="450"/>
                      </a:cubicBezTo>
                      <a:cubicBezTo>
                        <a:pt x="17" y="450"/>
                        <a:pt x="6" y="439"/>
                        <a:pt x="6" y="425"/>
                      </a:cubicBezTo>
                      <a:lnTo>
                        <a:pt x="6" y="425"/>
                      </a:lnTo>
                      <a:cubicBezTo>
                        <a:pt x="6" y="411"/>
                        <a:pt x="17" y="400"/>
                        <a:pt x="31" y="400"/>
                      </a:cubicBezTo>
                      <a:cubicBezTo>
                        <a:pt x="45" y="400"/>
                        <a:pt x="56" y="412"/>
                        <a:pt x="56" y="426"/>
                      </a:cubicBezTo>
                      <a:close/>
                      <a:moveTo>
                        <a:pt x="55" y="526"/>
                      </a:moveTo>
                      <a:lnTo>
                        <a:pt x="55" y="526"/>
                      </a:lnTo>
                      <a:cubicBezTo>
                        <a:pt x="55" y="539"/>
                        <a:pt x="44" y="551"/>
                        <a:pt x="30" y="550"/>
                      </a:cubicBezTo>
                      <a:cubicBezTo>
                        <a:pt x="16" y="550"/>
                        <a:pt x="5" y="539"/>
                        <a:pt x="5" y="525"/>
                      </a:cubicBezTo>
                      <a:lnTo>
                        <a:pt x="5" y="525"/>
                      </a:lnTo>
                      <a:cubicBezTo>
                        <a:pt x="5" y="511"/>
                        <a:pt x="17" y="500"/>
                        <a:pt x="30" y="500"/>
                      </a:cubicBezTo>
                      <a:cubicBezTo>
                        <a:pt x="44" y="501"/>
                        <a:pt x="55" y="512"/>
                        <a:pt x="55" y="526"/>
                      </a:cubicBezTo>
                      <a:close/>
                      <a:moveTo>
                        <a:pt x="54" y="626"/>
                      </a:moveTo>
                      <a:lnTo>
                        <a:pt x="54" y="626"/>
                      </a:lnTo>
                      <a:cubicBezTo>
                        <a:pt x="54" y="640"/>
                        <a:pt x="43" y="651"/>
                        <a:pt x="29" y="650"/>
                      </a:cubicBezTo>
                      <a:cubicBezTo>
                        <a:pt x="15" y="650"/>
                        <a:pt x="4" y="639"/>
                        <a:pt x="4" y="625"/>
                      </a:cubicBezTo>
                      <a:lnTo>
                        <a:pt x="4" y="625"/>
                      </a:lnTo>
                      <a:cubicBezTo>
                        <a:pt x="5" y="611"/>
                        <a:pt x="16" y="600"/>
                        <a:pt x="30" y="600"/>
                      </a:cubicBezTo>
                      <a:cubicBezTo>
                        <a:pt x="43" y="601"/>
                        <a:pt x="55" y="612"/>
                        <a:pt x="54" y="626"/>
                      </a:cubicBezTo>
                      <a:close/>
                      <a:moveTo>
                        <a:pt x="54" y="726"/>
                      </a:moveTo>
                      <a:lnTo>
                        <a:pt x="54" y="726"/>
                      </a:lnTo>
                      <a:cubicBezTo>
                        <a:pt x="54" y="740"/>
                        <a:pt x="42" y="751"/>
                        <a:pt x="29" y="751"/>
                      </a:cubicBezTo>
                      <a:cubicBezTo>
                        <a:pt x="15" y="750"/>
                        <a:pt x="4" y="739"/>
                        <a:pt x="4" y="725"/>
                      </a:cubicBezTo>
                      <a:lnTo>
                        <a:pt x="4" y="725"/>
                      </a:lnTo>
                      <a:cubicBezTo>
                        <a:pt x="4" y="711"/>
                        <a:pt x="15" y="700"/>
                        <a:pt x="29" y="700"/>
                      </a:cubicBezTo>
                      <a:cubicBezTo>
                        <a:pt x="43" y="701"/>
                        <a:pt x="54" y="712"/>
                        <a:pt x="54" y="726"/>
                      </a:cubicBezTo>
                      <a:close/>
                      <a:moveTo>
                        <a:pt x="53" y="826"/>
                      </a:moveTo>
                      <a:lnTo>
                        <a:pt x="53" y="826"/>
                      </a:lnTo>
                      <a:cubicBezTo>
                        <a:pt x="53" y="840"/>
                        <a:pt x="42" y="851"/>
                        <a:pt x="28" y="851"/>
                      </a:cubicBezTo>
                      <a:cubicBezTo>
                        <a:pt x="14" y="850"/>
                        <a:pt x="3" y="839"/>
                        <a:pt x="3" y="825"/>
                      </a:cubicBezTo>
                      <a:lnTo>
                        <a:pt x="3" y="825"/>
                      </a:lnTo>
                      <a:cubicBezTo>
                        <a:pt x="3" y="811"/>
                        <a:pt x="15" y="800"/>
                        <a:pt x="28" y="801"/>
                      </a:cubicBezTo>
                      <a:cubicBezTo>
                        <a:pt x="42" y="801"/>
                        <a:pt x="53" y="812"/>
                        <a:pt x="53" y="826"/>
                      </a:cubicBezTo>
                      <a:close/>
                      <a:moveTo>
                        <a:pt x="52" y="926"/>
                      </a:moveTo>
                      <a:lnTo>
                        <a:pt x="52" y="926"/>
                      </a:lnTo>
                      <a:cubicBezTo>
                        <a:pt x="52" y="940"/>
                        <a:pt x="41" y="951"/>
                        <a:pt x="27" y="951"/>
                      </a:cubicBezTo>
                      <a:cubicBezTo>
                        <a:pt x="13" y="950"/>
                        <a:pt x="2" y="939"/>
                        <a:pt x="2" y="925"/>
                      </a:cubicBezTo>
                      <a:lnTo>
                        <a:pt x="2" y="925"/>
                      </a:lnTo>
                      <a:cubicBezTo>
                        <a:pt x="3" y="912"/>
                        <a:pt x="14" y="900"/>
                        <a:pt x="28" y="901"/>
                      </a:cubicBezTo>
                      <a:cubicBezTo>
                        <a:pt x="41" y="901"/>
                        <a:pt x="53" y="912"/>
                        <a:pt x="52" y="926"/>
                      </a:cubicBezTo>
                      <a:close/>
                      <a:moveTo>
                        <a:pt x="52" y="1026"/>
                      </a:moveTo>
                      <a:lnTo>
                        <a:pt x="52" y="1026"/>
                      </a:lnTo>
                      <a:cubicBezTo>
                        <a:pt x="52" y="1040"/>
                        <a:pt x="40" y="1051"/>
                        <a:pt x="27" y="1051"/>
                      </a:cubicBezTo>
                      <a:cubicBezTo>
                        <a:pt x="13" y="1051"/>
                        <a:pt x="2" y="1039"/>
                        <a:pt x="2" y="1025"/>
                      </a:cubicBezTo>
                      <a:lnTo>
                        <a:pt x="2" y="1025"/>
                      </a:lnTo>
                      <a:cubicBezTo>
                        <a:pt x="2" y="1012"/>
                        <a:pt x="13" y="1000"/>
                        <a:pt x="27" y="1001"/>
                      </a:cubicBezTo>
                      <a:cubicBezTo>
                        <a:pt x="41" y="1001"/>
                        <a:pt x="52" y="1012"/>
                        <a:pt x="52" y="1026"/>
                      </a:cubicBezTo>
                      <a:close/>
                      <a:moveTo>
                        <a:pt x="51" y="1126"/>
                      </a:moveTo>
                      <a:lnTo>
                        <a:pt x="51" y="1126"/>
                      </a:lnTo>
                      <a:cubicBezTo>
                        <a:pt x="51" y="1140"/>
                        <a:pt x="40" y="1151"/>
                        <a:pt x="26" y="1151"/>
                      </a:cubicBezTo>
                      <a:cubicBezTo>
                        <a:pt x="12" y="1151"/>
                        <a:pt x="1" y="1139"/>
                        <a:pt x="1" y="1125"/>
                      </a:cubicBezTo>
                      <a:lnTo>
                        <a:pt x="1" y="1125"/>
                      </a:lnTo>
                      <a:cubicBezTo>
                        <a:pt x="1" y="1112"/>
                        <a:pt x="13" y="1101"/>
                        <a:pt x="26" y="1101"/>
                      </a:cubicBezTo>
                      <a:cubicBezTo>
                        <a:pt x="40" y="1101"/>
                        <a:pt x="51" y="1112"/>
                        <a:pt x="51" y="1126"/>
                      </a:cubicBezTo>
                      <a:close/>
                      <a:moveTo>
                        <a:pt x="50" y="1226"/>
                      </a:moveTo>
                      <a:lnTo>
                        <a:pt x="50" y="1226"/>
                      </a:lnTo>
                      <a:cubicBezTo>
                        <a:pt x="50" y="1240"/>
                        <a:pt x="39" y="1251"/>
                        <a:pt x="25" y="1251"/>
                      </a:cubicBezTo>
                      <a:cubicBezTo>
                        <a:pt x="11" y="1251"/>
                        <a:pt x="0" y="1239"/>
                        <a:pt x="0" y="1226"/>
                      </a:cubicBezTo>
                      <a:lnTo>
                        <a:pt x="0" y="1225"/>
                      </a:lnTo>
                      <a:cubicBezTo>
                        <a:pt x="1" y="1212"/>
                        <a:pt x="12" y="1201"/>
                        <a:pt x="26" y="1201"/>
                      </a:cubicBezTo>
                      <a:cubicBezTo>
                        <a:pt x="39" y="1201"/>
                        <a:pt x="51" y="1212"/>
                        <a:pt x="50" y="1226"/>
                      </a:cubicBezTo>
                      <a:close/>
                      <a:moveTo>
                        <a:pt x="84" y="1243"/>
                      </a:moveTo>
                      <a:lnTo>
                        <a:pt x="84" y="1243"/>
                      </a:lnTo>
                      <a:cubicBezTo>
                        <a:pt x="98" y="1243"/>
                        <a:pt x="109" y="1254"/>
                        <a:pt x="109" y="1268"/>
                      </a:cubicBezTo>
                      <a:cubicBezTo>
                        <a:pt x="109" y="1282"/>
                        <a:pt x="98" y="1293"/>
                        <a:pt x="84" y="1293"/>
                      </a:cubicBezTo>
                      <a:lnTo>
                        <a:pt x="84" y="1293"/>
                      </a:lnTo>
                      <a:cubicBezTo>
                        <a:pt x="70" y="1293"/>
                        <a:pt x="59" y="1282"/>
                        <a:pt x="59" y="1268"/>
                      </a:cubicBezTo>
                      <a:cubicBezTo>
                        <a:pt x="59" y="1254"/>
                        <a:pt x="70" y="1243"/>
                        <a:pt x="84" y="1243"/>
                      </a:cubicBezTo>
                      <a:close/>
                      <a:moveTo>
                        <a:pt x="184" y="1244"/>
                      </a:moveTo>
                      <a:lnTo>
                        <a:pt x="184" y="1244"/>
                      </a:lnTo>
                      <a:cubicBezTo>
                        <a:pt x="198" y="1244"/>
                        <a:pt x="209" y="1256"/>
                        <a:pt x="209" y="1269"/>
                      </a:cubicBezTo>
                      <a:cubicBezTo>
                        <a:pt x="209" y="1283"/>
                        <a:pt x="198" y="1294"/>
                        <a:pt x="184" y="1294"/>
                      </a:cubicBezTo>
                      <a:lnTo>
                        <a:pt x="184" y="1294"/>
                      </a:lnTo>
                      <a:cubicBezTo>
                        <a:pt x="170" y="1294"/>
                        <a:pt x="159" y="1283"/>
                        <a:pt x="159" y="1269"/>
                      </a:cubicBezTo>
                      <a:cubicBezTo>
                        <a:pt x="159" y="1256"/>
                        <a:pt x="170" y="1244"/>
                        <a:pt x="184" y="1244"/>
                      </a:cubicBezTo>
                      <a:close/>
                      <a:moveTo>
                        <a:pt x="284" y="1246"/>
                      </a:moveTo>
                      <a:lnTo>
                        <a:pt x="284" y="1246"/>
                      </a:lnTo>
                      <a:cubicBezTo>
                        <a:pt x="298" y="1246"/>
                        <a:pt x="309" y="1257"/>
                        <a:pt x="309" y="1271"/>
                      </a:cubicBezTo>
                      <a:cubicBezTo>
                        <a:pt x="309" y="1285"/>
                        <a:pt x="298" y="1296"/>
                        <a:pt x="284" y="1296"/>
                      </a:cubicBezTo>
                      <a:lnTo>
                        <a:pt x="284" y="1296"/>
                      </a:lnTo>
                      <a:cubicBezTo>
                        <a:pt x="270" y="1296"/>
                        <a:pt x="259" y="1285"/>
                        <a:pt x="259" y="1271"/>
                      </a:cubicBezTo>
                      <a:cubicBezTo>
                        <a:pt x="259" y="1257"/>
                        <a:pt x="270" y="1246"/>
                        <a:pt x="284" y="1246"/>
                      </a:cubicBezTo>
                      <a:close/>
                      <a:moveTo>
                        <a:pt x="384" y="1248"/>
                      </a:moveTo>
                      <a:lnTo>
                        <a:pt x="384" y="1248"/>
                      </a:lnTo>
                      <a:cubicBezTo>
                        <a:pt x="398" y="1248"/>
                        <a:pt x="409" y="1259"/>
                        <a:pt x="409" y="1273"/>
                      </a:cubicBezTo>
                      <a:cubicBezTo>
                        <a:pt x="409" y="1286"/>
                        <a:pt x="398" y="1298"/>
                        <a:pt x="384" y="1298"/>
                      </a:cubicBezTo>
                      <a:lnTo>
                        <a:pt x="384" y="1298"/>
                      </a:lnTo>
                      <a:cubicBezTo>
                        <a:pt x="370" y="1298"/>
                        <a:pt x="359" y="1286"/>
                        <a:pt x="359" y="1273"/>
                      </a:cubicBezTo>
                      <a:cubicBezTo>
                        <a:pt x="359" y="1259"/>
                        <a:pt x="370" y="1248"/>
                        <a:pt x="384" y="1248"/>
                      </a:cubicBezTo>
                      <a:close/>
                      <a:moveTo>
                        <a:pt x="484" y="1249"/>
                      </a:moveTo>
                      <a:lnTo>
                        <a:pt x="484" y="1249"/>
                      </a:lnTo>
                      <a:cubicBezTo>
                        <a:pt x="498" y="1249"/>
                        <a:pt x="509" y="1261"/>
                        <a:pt x="509" y="1274"/>
                      </a:cubicBezTo>
                      <a:cubicBezTo>
                        <a:pt x="509" y="1288"/>
                        <a:pt x="498" y="1299"/>
                        <a:pt x="484" y="1299"/>
                      </a:cubicBezTo>
                      <a:lnTo>
                        <a:pt x="484" y="1299"/>
                      </a:lnTo>
                      <a:cubicBezTo>
                        <a:pt x="470" y="1299"/>
                        <a:pt x="459" y="1288"/>
                        <a:pt x="459" y="1274"/>
                      </a:cubicBezTo>
                      <a:cubicBezTo>
                        <a:pt x="459" y="1261"/>
                        <a:pt x="470" y="1249"/>
                        <a:pt x="484" y="124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3564000" y="4596480"/>
                  <a:ext cx="102600" cy="101880"/>
                  <a:chOff x="3564000" y="4596480"/>
                  <a:chExt cx="102600" cy="101880"/>
                </a:xfrm>
              </p:grpSpPr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564000" y="4596480"/>
                    <a:ext cx="102600" cy="101880"/>
                    <a:chOff x="3564000" y="4596480"/>
                    <a:chExt cx="102600" cy="1018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3564000" y="4596480"/>
                      <a:ext cx="102600" cy="10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3564000" y="4596480"/>
                      <a:ext cx="102600" cy="1018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8" name=""/>
                  <p:cNvSpPr/>
                  <p:nvPr/>
                </p:nvSpPr>
                <p:spPr>
                  <a:xfrm rot="16200000">
                    <a:off x="3597480" y="4620960"/>
                    <a:ext cx="280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3644640" y="4292640"/>
                  <a:ext cx="212760" cy="253440"/>
                  <a:chOff x="3644640" y="4292640"/>
                  <a:chExt cx="212760" cy="253440"/>
                </a:xfrm>
              </p:grpSpPr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3644640" y="4292640"/>
                    <a:ext cx="212760" cy="97560"/>
                    <a:chOff x="3644640" y="4292640"/>
                    <a:chExt cx="212760" cy="975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3644640" y="4292640"/>
                      <a:ext cx="212760" cy="9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3644640" y="4292640"/>
                      <a:ext cx="212760" cy="9756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3748320" y="4418280"/>
                    <a:ext cx="99360" cy="37440"/>
                    <a:chOff x="3748320" y="4418280"/>
                    <a:chExt cx="99360" cy="374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3788280" y="4418280"/>
                      <a:ext cx="59400" cy="3744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3748320" y="4431960"/>
                      <a:ext cx="36360" cy="7920"/>
                      <a:chOff x="3748320" y="4431960"/>
                      <a:chExt cx="36360" cy="7920"/>
                    </a:xfrm>
                  </p:grpSpPr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3748320" y="4431960"/>
                        <a:ext cx="36360" cy="7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3748320" y="4431960"/>
                        <a:ext cx="36360" cy="7920"/>
                      </a:xfrm>
                      <a:prstGeom prst="rect">
                        <a:avLst/>
                      </a:prstGeom>
                      <a:noFill/>
                      <a:ln cap="rnd"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3810600" y="4455720"/>
                    <a:ext cx="0" cy="9036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3622680" y="4736160"/>
                  <a:ext cx="212760" cy="282960"/>
                  <a:chOff x="3622680" y="4736160"/>
                  <a:chExt cx="212760" cy="2829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3798720" y="4736160"/>
                    <a:ext cx="0" cy="12564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3622680" y="4920120"/>
                    <a:ext cx="212760" cy="99000"/>
                    <a:chOff x="3622680" y="4920120"/>
                    <a:chExt cx="212760" cy="9900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3622680" y="4920120"/>
                      <a:ext cx="212760" cy="9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3622680" y="4920120"/>
                      <a:ext cx="212760" cy="9900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3731400" y="4850640"/>
                    <a:ext cx="99360" cy="38880"/>
                    <a:chOff x="3731400" y="4850640"/>
                    <a:chExt cx="99360" cy="388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3771360" y="4850640"/>
                      <a:ext cx="59400" cy="38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3731400" y="4865760"/>
                      <a:ext cx="36000" cy="9720"/>
                      <a:chOff x="3731400" y="4865760"/>
                      <a:chExt cx="36000" cy="972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3731400" y="4865760"/>
                        <a:ext cx="36000" cy="9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3731400" y="4865760"/>
                        <a:ext cx="36000" cy="9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cap="rnd"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19" name=""/>
                <p:cNvSpPr/>
                <p:nvPr/>
              </p:nvSpPr>
              <p:spPr>
                <a:xfrm>
                  <a:off x="3622680" y="4545000"/>
                  <a:ext cx="176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22680" y="4734720"/>
                  <a:ext cx="176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1" name=""/>
          <p:cNvGrpSpPr/>
          <p:nvPr/>
        </p:nvGrpSpPr>
        <p:grpSpPr>
          <a:xfrm>
            <a:off x="2046240" y="5654520"/>
            <a:ext cx="1968480" cy="982080"/>
            <a:chOff x="2046240" y="5654520"/>
            <a:chExt cx="1968480" cy="982080"/>
          </a:xfrm>
        </p:grpSpPr>
        <p:sp>
          <p:nvSpPr>
            <p:cNvPr id="422" name=""/>
            <p:cNvSpPr/>
            <p:nvPr/>
          </p:nvSpPr>
          <p:spPr>
            <a:xfrm>
              <a:off x="2377800" y="6453360"/>
              <a:ext cx="12978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s 2 and 5 shall not be lifting axles.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y axle may be a steering ax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2046240" y="5654520"/>
              <a:ext cx="1968480" cy="715680"/>
              <a:chOff x="2046240" y="5654520"/>
              <a:chExt cx="1968480" cy="715680"/>
            </a:xfrm>
          </p:grpSpPr>
          <p:sp>
            <p:nvSpPr>
              <p:cNvPr id="424" name=""/>
              <p:cNvSpPr/>
              <p:nvPr/>
            </p:nvSpPr>
            <p:spPr>
              <a:xfrm>
                <a:off x="2046240" y="5670720"/>
                <a:ext cx="1968480" cy="672840"/>
              </a:xfrm>
              <a:custGeom>
                <a:avLst/>
                <a:gdLst/>
                <a:ahLst/>
                <a:rect l="l" t="t" r="r" b="b"/>
                <a:pathLst>
                  <a:path w="948" h="499">
                    <a:moveTo>
                      <a:pt x="944" y="6"/>
                    </a:moveTo>
                    <a:lnTo>
                      <a:pt x="920" y="6"/>
                    </a:lnTo>
                    <a:lnTo>
                      <a:pt x="920" y="0"/>
                    </a:lnTo>
                    <a:lnTo>
                      <a:pt x="944" y="0"/>
                    </a:lnTo>
                    <a:lnTo>
                      <a:pt x="944" y="6"/>
                    </a:lnTo>
                    <a:close/>
                    <a:moveTo>
                      <a:pt x="901" y="6"/>
                    </a:moveTo>
                    <a:lnTo>
                      <a:pt x="877" y="6"/>
                    </a:lnTo>
                    <a:lnTo>
                      <a:pt x="877" y="0"/>
                    </a:lnTo>
                    <a:lnTo>
                      <a:pt x="901" y="0"/>
                    </a:lnTo>
                    <a:lnTo>
                      <a:pt x="901" y="6"/>
                    </a:lnTo>
                    <a:close/>
                    <a:moveTo>
                      <a:pt x="858" y="6"/>
                    </a:moveTo>
                    <a:lnTo>
                      <a:pt x="834" y="6"/>
                    </a:lnTo>
                    <a:lnTo>
                      <a:pt x="834" y="0"/>
                    </a:lnTo>
                    <a:lnTo>
                      <a:pt x="858" y="0"/>
                    </a:lnTo>
                    <a:lnTo>
                      <a:pt x="858" y="6"/>
                    </a:lnTo>
                    <a:close/>
                    <a:moveTo>
                      <a:pt x="815" y="6"/>
                    </a:moveTo>
                    <a:lnTo>
                      <a:pt x="791" y="6"/>
                    </a:lnTo>
                    <a:lnTo>
                      <a:pt x="791" y="0"/>
                    </a:lnTo>
                    <a:lnTo>
                      <a:pt x="815" y="0"/>
                    </a:lnTo>
                    <a:lnTo>
                      <a:pt x="815" y="6"/>
                    </a:lnTo>
                    <a:close/>
                    <a:moveTo>
                      <a:pt x="772" y="6"/>
                    </a:moveTo>
                    <a:lnTo>
                      <a:pt x="747" y="6"/>
                    </a:lnTo>
                    <a:lnTo>
                      <a:pt x="747" y="0"/>
                    </a:lnTo>
                    <a:lnTo>
                      <a:pt x="772" y="0"/>
                    </a:lnTo>
                    <a:lnTo>
                      <a:pt x="772" y="6"/>
                    </a:lnTo>
                    <a:close/>
                    <a:moveTo>
                      <a:pt x="729" y="6"/>
                    </a:moveTo>
                    <a:lnTo>
                      <a:pt x="704" y="6"/>
                    </a:lnTo>
                    <a:lnTo>
                      <a:pt x="704" y="0"/>
                    </a:lnTo>
                    <a:lnTo>
                      <a:pt x="729" y="0"/>
                    </a:lnTo>
                    <a:lnTo>
                      <a:pt x="729" y="6"/>
                    </a:lnTo>
                    <a:close/>
                    <a:moveTo>
                      <a:pt x="686" y="6"/>
                    </a:moveTo>
                    <a:lnTo>
                      <a:pt x="661" y="6"/>
                    </a:lnTo>
                    <a:lnTo>
                      <a:pt x="661" y="0"/>
                    </a:lnTo>
                    <a:lnTo>
                      <a:pt x="686" y="0"/>
                    </a:lnTo>
                    <a:lnTo>
                      <a:pt x="686" y="6"/>
                    </a:lnTo>
                    <a:close/>
                    <a:moveTo>
                      <a:pt x="643" y="6"/>
                    </a:moveTo>
                    <a:lnTo>
                      <a:pt x="618" y="6"/>
                    </a:lnTo>
                    <a:lnTo>
                      <a:pt x="618" y="0"/>
                    </a:lnTo>
                    <a:lnTo>
                      <a:pt x="643" y="0"/>
                    </a:lnTo>
                    <a:lnTo>
                      <a:pt x="643" y="6"/>
                    </a:lnTo>
                    <a:close/>
                    <a:moveTo>
                      <a:pt x="600" y="6"/>
                    </a:moveTo>
                    <a:lnTo>
                      <a:pt x="575" y="6"/>
                    </a:lnTo>
                    <a:lnTo>
                      <a:pt x="575" y="0"/>
                    </a:lnTo>
                    <a:lnTo>
                      <a:pt x="600" y="0"/>
                    </a:lnTo>
                    <a:lnTo>
                      <a:pt x="600" y="6"/>
                    </a:lnTo>
                    <a:close/>
                    <a:moveTo>
                      <a:pt x="557" y="6"/>
                    </a:moveTo>
                    <a:lnTo>
                      <a:pt x="532" y="6"/>
                    </a:lnTo>
                    <a:lnTo>
                      <a:pt x="532" y="0"/>
                    </a:lnTo>
                    <a:lnTo>
                      <a:pt x="557" y="0"/>
                    </a:lnTo>
                    <a:lnTo>
                      <a:pt x="557" y="6"/>
                    </a:lnTo>
                    <a:close/>
                    <a:moveTo>
                      <a:pt x="513" y="6"/>
                    </a:moveTo>
                    <a:lnTo>
                      <a:pt x="489" y="6"/>
                    </a:lnTo>
                    <a:lnTo>
                      <a:pt x="489" y="0"/>
                    </a:lnTo>
                    <a:lnTo>
                      <a:pt x="513" y="0"/>
                    </a:lnTo>
                    <a:lnTo>
                      <a:pt x="513" y="6"/>
                    </a:lnTo>
                    <a:close/>
                    <a:moveTo>
                      <a:pt x="470" y="6"/>
                    </a:moveTo>
                    <a:lnTo>
                      <a:pt x="446" y="6"/>
                    </a:lnTo>
                    <a:lnTo>
                      <a:pt x="446" y="0"/>
                    </a:lnTo>
                    <a:lnTo>
                      <a:pt x="470" y="0"/>
                    </a:lnTo>
                    <a:lnTo>
                      <a:pt x="470" y="6"/>
                    </a:lnTo>
                    <a:close/>
                    <a:moveTo>
                      <a:pt x="427" y="6"/>
                    </a:moveTo>
                    <a:lnTo>
                      <a:pt x="403" y="6"/>
                    </a:lnTo>
                    <a:lnTo>
                      <a:pt x="403" y="0"/>
                    </a:lnTo>
                    <a:lnTo>
                      <a:pt x="427" y="0"/>
                    </a:lnTo>
                    <a:lnTo>
                      <a:pt x="427" y="6"/>
                    </a:lnTo>
                    <a:close/>
                    <a:moveTo>
                      <a:pt x="384" y="6"/>
                    </a:moveTo>
                    <a:lnTo>
                      <a:pt x="360" y="6"/>
                    </a:lnTo>
                    <a:lnTo>
                      <a:pt x="360" y="0"/>
                    </a:lnTo>
                    <a:lnTo>
                      <a:pt x="384" y="0"/>
                    </a:lnTo>
                    <a:lnTo>
                      <a:pt x="384" y="6"/>
                    </a:lnTo>
                    <a:close/>
                    <a:moveTo>
                      <a:pt x="341" y="6"/>
                    </a:moveTo>
                    <a:lnTo>
                      <a:pt x="316" y="6"/>
                    </a:lnTo>
                    <a:lnTo>
                      <a:pt x="316" y="0"/>
                    </a:lnTo>
                    <a:lnTo>
                      <a:pt x="341" y="0"/>
                    </a:lnTo>
                    <a:lnTo>
                      <a:pt x="341" y="6"/>
                    </a:lnTo>
                    <a:close/>
                    <a:moveTo>
                      <a:pt x="298" y="6"/>
                    </a:moveTo>
                    <a:lnTo>
                      <a:pt x="273" y="6"/>
                    </a:lnTo>
                    <a:lnTo>
                      <a:pt x="273" y="0"/>
                    </a:lnTo>
                    <a:lnTo>
                      <a:pt x="298" y="0"/>
                    </a:lnTo>
                    <a:lnTo>
                      <a:pt x="298" y="6"/>
                    </a:lnTo>
                    <a:close/>
                    <a:moveTo>
                      <a:pt x="255" y="6"/>
                    </a:moveTo>
                    <a:lnTo>
                      <a:pt x="230" y="6"/>
                    </a:lnTo>
                    <a:lnTo>
                      <a:pt x="230" y="0"/>
                    </a:lnTo>
                    <a:lnTo>
                      <a:pt x="255" y="0"/>
                    </a:lnTo>
                    <a:lnTo>
                      <a:pt x="255" y="6"/>
                    </a:lnTo>
                    <a:close/>
                    <a:moveTo>
                      <a:pt x="212" y="6"/>
                    </a:moveTo>
                    <a:lnTo>
                      <a:pt x="187" y="6"/>
                    </a:lnTo>
                    <a:lnTo>
                      <a:pt x="187" y="0"/>
                    </a:lnTo>
                    <a:lnTo>
                      <a:pt x="212" y="0"/>
                    </a:lnTo>
                    <a:lnTo>
                      <a:pt x="212" y="6"/>
                    </a:lnTo>
                    <a:close/>
                    <a:moveTo>
                      <a:pt x="169" y="6"/>
                    </a:moveTo>
                    <a:lnTo>
                      <a:pt x="144" y="6"/>
                    </a:lnTo>
                    <a:lnTo>
                      <a:pt x="144" y="0"/>
                    </a:lnTo>
                    <a:lnTo>
                      <a:pt x="169" y="0"/>
                    </a:lnTo>
                    <a:lnTo>
                      <a:pt x="169" y="6"/>
                    </a:lnTo>
                    <a:close/>
                    <a:moveTo>
                      <a:pt x="126" y="6"/>
                    </a:moveTo>
                    <a:lnTo>
                      <a:pt x="101" y="6"/>
                    </a:lnTo>
                    <a:lnTo>
                      <a:pt x="101" y="0"/>
                    </a:lnTo>
                    <a:lnTo>
                      <a:pt x="126" y="0"/>
                    </a:lnTo>
                    <a:lnTo>
                      <a:pt x="126" y="6"/>
                    </a:lnTo>
                    <a:close/>
                    <a:moveTo>
                      <a:pt x="83" y="6"/>
                    </a:moveTo>
                    <a:lnTo>
                      <a:pt x="58" y="6"/>
                    </a:lnTo>
                    <a:lnTo>
                      <a:pt x="58" y="0"/>
                    </a:lnTo>
                    <a:lnTo>
                      <a:pt x="83" y="0"/>
                    </a:lnTo>
                    <a:lnTo>
                      <a:pt x="83" y="6"/>
                    </a:lnTo>
                    <a:close/>
                    <a:moveTo>
                      <a:pt x="39" y="6"/>
                    </a:moveTo>
                    <a:lnTo>
                      <a:pt x="15" y="6"/>
                    </a:lnTo>
                    <a:lnTo>
                      <a:pt x="15" y="0"/>
                    </a:lnTo>
                    <a:lnTo>
                      <a:pt x="39" y="0"/>
                    </a:lnTo>
                    <a:lnTo>
                      <a:pt x="39" y="6"/>
                    </a:lnTo>
                    <a:close/>
                    <a:moveTo>
                      <a:pt x="6" y="9"/>
                    </a:moveTo>
                    <a:lnTo>
                      <a:pt x="6" y="34"/>
                    </a:lnTo>
                    <a:lnTo>
                      <a:pt x="0" y="34"/>
                    </a:lnTo>
                    <a:lnTo>
                      <a:pt x="0" y="9"/>
                    </a:lnTo>
                    <a:lnTo>
                      <a:pt x="6" y="9"/>
                    </a:lnTo>
                    <a:close/>
                    <a:moveTo>
                      <a:pt x="6" y="52"/>
                    </a:moveTo>
                    <a:lnTo>
                      <a:pt x="6" y="77"/>
                    </a:lnTo>
                    <a:lnTo>
                      <a:pt x="0" y="77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  <a:moveTo>
                      <a:pt x="6" y="95"/>
                    </a:moveTo>
                    <a:lnTo>
                      <a:pt x="6" y="120"/>
                    </a:lnTo>
                    <a:lnTo>
                      <a:pt x="0" y="120"/>
                    </a:lnTo>
                    <a:lnTo>
                      <a:pt x="0" y="95"/>
                    </a:lnTo>
                    <a:lnTo>
                      <a:pt x="6" y="95"/>
                    </a:lnTo>
                    <a:close/>
                    <a:moveTo>
                      <a:pt x="6" y="138"/>
                    </a:moveTo>
                    <a:lnTo>
                      <a:pt x="6" y="163"/>
                    </a:lnTo>
                    <a:lnTo>
                      <a:pt x="0" y="163"/>
                    </a:lnTo>
                    <a:lnTo>
                      <a:pt x="0" y="138"/>
                    </a:lnTo>
                    <a:lnTo>
                      <a:pt x="6" y="138"/>
                    </a:lnTo>
                    <a:close/>
                    <a:moveTo>
                      <a:pt x="6" y="182"/>
                    </a:moveTo>
                    <a:lnTo>
                      <a:pt x="6" y="206"/>
                    </a:lnTo>
                    <a:lnTo>
                      <a:pt x="0" y="206"/>
                    </a:lnTo>
                    <a:lnTo>
                      <a:pt x="0" y="182"/>
                    </a:lnTo>
                    <a:lnTo>
                      <a:pt x="6" y="182"/>
                    </a:lnTo>
                    <a:close/>
                    <a:moveTo>
                      <a:pt x="6" y="225"/>
                    </a:moveTo>
                    <a:lnTo>
                      <a:pt x="6" y="249"/>
                    </a:lnTo>
                    <a:lnTo>
                      <a:pt x="0" y="249"/>
                    </a:lnTo>
                    <a:lnTo>
                      <a:pt x="0" y="225"/>
                    </a:lnTo>
                    <a:lnTo>
                      <a:pt x="6" y="225"/>
                    </a:lnTo>
                    <a:close/>
                    <a:moveTo>
                      <a:pt x="6" y="268"/>
                    </a:moveTo>
                    <a:lnTo>
                      <a:pt x="6" y="292"/>
                    </a:lnTo>
                    <a:lnTo>
                      <a:pt x="0" y="292"/>
                    </a:lnTo>
                    <a:lnTo>
                      <a:pt x="0" y="268"/>
                    </a:lnTo>
                    <a:lnTo>
                      <a:pt x="6" y="268"/>
                    </a:lnTo>
                    <a:close/>
                    <a:moveTo>
                      <a:pt x="6" y="311"/>
                    </a:moveTo>
                    <a:lnTo>
                      <a:pt x="6" y="336"/>
                    </a:lnTo>
                    <a:lnTo>
                      <a:pt x="0" y="336"/>
                    </a:lnTo>
                    <a:lnTo>
                      <a:pt x="0" y="311"/>
                    </a:lnTo>
                    <a:lnTo>
                      <a:pt x="6" y="311"/>
                    </a:lnTo>
                    <a:close/>
                    <a:moveTo>
                      <a:pt x="6" y="354"/>
                    </a:moveTo>
                    <a:lnTo>
                      <a:pt x="6" y="379"/>
                    </a:lnTo>
                    <a:lnTo>
                      <a:pt x="0" y="379"/>
                    </a:lnTo>
                    <a:lnTo>
                      <a:pt x="0" y="354"/>
                    </a:lnTo>
                    <a:lnTo>
                      <a:pt x="6" y="354"/>
                    </a:lnTo>
                    <a:close/>
                    <a:moveTo>
                      <a:pt x="6" y="397"/>
                    </a:moveTo>
                    <a:lnTo>
                      <a:pt x="6" y="422"/>
                    </a:lnTo>
                    <a:lnTo>
                      <a:pt x="0" y="422"/>
                    </a:lnTo>
                    <a:lnTo>
                      <a:pt x="0" y="397"/>
                    </a:lnTo>
                    <a:lnTo>
                      <a:pt x="6" y="397"/>
                    </a:lnTo>
                    <a:close/>
                    <a:moveTo>
                      <a:pt x="6" y="440"/>
                    </a:moveTo>
                    <a:lnTo>
                      <a:pt x="6" y="465"/>
                    </a:lnTo>
                    <a:lnTo>
                      <a:pt x="0" y="465"/>
                    </a:lnTo>
                    <a:lnTo>
                      <a:pt x="0" y="440"/>
                    </a:lnTo>
                    <a:lnTo>
                      <a:pt x="6" y="440"/>
                    </a:lnTo>
                    <a:close/>
                    <a:moveTo>
                      <a:pt x="6" y="483"/>
                    </a:moveTo>
                    <a:lnTo>
                      <a:pt x="6" y="496"/>
                    </a:lnTo>
                    <a:lnTo>
                      <a:pt x="2" y="493"/>
                    </a:lnTo>
                    <a:lnTo>
                      <a:pt x="15" y="493"/>
                    </a:lnTo>
                    <a:lnTo>
                      <a:pt x="15" y="499"/>
                    </a:lnTo>
                    <a:lnTo>
                      <a:pt x="0" y="499"/>
                    </a:lnTo>
                    <a:lnTo>
                      <a:pt x="0" y="483"/>
                    </a:lnTo>
                    <a:lnTo>
                      <a:pt x="6" y="483"/>
                    </a:lnTo>
                    <a:close/>
                    <a:moveTo>
                      <a:pt x="33" y="493"/>
                    </a:moveTo>
                    <a:lnTo>
                      <a:pt x="58" y="493"/>
                    </a:lnTo>
                    <a:lnTo>
                      <a:pt x="58" y="499"/>
                    </a:lnTo>
                    <a:lnTo>
                      <a:pt x="33" y="499"/>
                    </a:lnTo>
                    <a:lnTo>
                      <a:pt x="33" y="493"/>
                    </a:lnTo>
                    <a:close/>
                    <a:moveTo>
                      <a:pt x="76" y="493"/>
                    </a:moveTo>
                    <a:lnTo>
                      <a:pt x="101" y="493"/>
                    </a:lnTo>
                    <a:lnTo>
                      <a:pt x="101" y="499"/>
                    </a:lnTo>
                    <a:lnTo>
                      <a:pt x="76" y="499"/>
                    </a:lnTo>
                    <a:lnTo>
                      <a:pt x="76" y="493"/>
                    </a:lnTo>
                    <a:close/>
                    <a:moveTo>
                      <a:pt x="119" y="493"/>
                    </a:moveTo>
                    <a:lnTo>
                      <a:pt x="144" y="493"/>
                    </a:lnTo>
                    <a:lnTo>
                      <a:pt x="144" y="499"/>
                    </a:lnTo>
                    <a:lnTo>
                      <a:pt x="119" y="499"/>
                    </a:lnTo>
                    <a:lnTo>
                      <a:pt x="119" y="493"/>
                    </a:lnTo>
                    <a:close/>
                    <a:moveTo>
                      <a:pt x="163" y="493"/>
                    </a:moveTo>
                    <a:lnTo>
                      <a:pt x="187" y="493"/>
                    </a:lnTo>
                    <a:lnTo>
                      <a:pt x="187" y="499"/>
                    </a:lnTo>
                    <a:lnTo>
                      <a:pt x="163" y="499"/>
                    </a:lnTo>
                    <a:lnTo>
                      <a:pt x="163" y="493"/>
                    </a:lnTo>
                    <a:close/>
                    <a:moveTo>
                      <a:pt x="206" y="493"/>
                    </a:moveTo>
                    <a:lnTo>
                      <a:pt x="230" y="493"/>
                    </a:lnTo>
                    <a:lnTo>
                      <a:pt x="230" y="499"/>
                    </a:lnTo>
                    <a:lnTo>
                      <a:pt x="206" y="499"/>
                    </a:lnTo>
                    <a:lnTo>
                      <a:pt x="206" y="493"/>
                    </a:lnTo>
                    <a:close/>
                    <a:moveTo>
                      <a:pt x="249" y="493"/>
                    </a:moveTo>
                    <a:lnTo>
                      <a:pt x="273" y="493"/>
                    </a:lnTo>
                    <a:lnTo>
                      <a:pt x="273" y="499"/>
                    </a:lnTo>
                    <a:lnTo>
                      <a:pt x="249" y="499"/>
                    </a:lnTo>
                    <a:lnTo>
                      <a:pt x="249" y="493"/>
                    </a:lnTo>
                    <a:close/>
                    <a:moveTo>
                      <a:pt x="292" y="493"/>
                    </a:moveTo>
                    <a:lnTo>
                      <a:pt x="316" y="493"/>
                    </a:lnTo>
                    <a:lnTo>
                      <a:pt x="316" y="499"/>
                    </a:lnTo>
                    <a:lnTo>
                      <a:pt x="292" y="499"/>
                    </a:lnTo>
                    <a:lnTo>
                      <a:pt x="292" y="493"/>
                    </a:lnTo>
                    <a:close/>
                    <a:moveTo>
                      <a:pt x="335" y="493"/>
                    </a:moveTo>
                    <a:lnTo>
                      <a:pt x="360" y="493"/>
                    </a:lnTo>
                    <a:lnTo>
                      <a:pt x="360" y="499"/>
                    </a:lnTo>
                    <a:lnTo>
                      <a:pt x="335" y="499"/>
                    </a:lnTo>
                    <a:lnTo>
                      <a:pt x="335" y="493"/>
                    </a:lnTo>
                    <a:close/>
                    <a:moveTo>
                      <a:pt x="378" y="493"/>
                    </a:moveTo>
                    <a:lnTo>
                      <a:pt x="403" y="493"/>
                    </a:lnTo>
                    <a:lnTo>
                      <a:pt x="403" y="499"/>
                    </a:lnTo>
                    <a:lnTo>
                      <a:pt x="378" y="499"/>
                    </a:lnTo>
                    <a:lnTo>
                      <a:pt x="378" y="493"/>
                    </a:lnTo>
                    <a:close/>
                    <a:moveTo>
                      <a:pt x="421" y="493"/>
                    </a:moveTo>
                    <a:lnTo>
                      <a:pt x="446" y="493"/>
                    </a:lnTo>
                    <a:lnTo>
                      <a:pt x="446" y="499"/>
                    </a:lnTo>
                    <a:lnTo>
                      <a:pt x="421" y="499"/>
                    </a:lnTo>
                    <a:lnTo>
                      <a:pt x="421" y="493"/>
                    </a:lnTo>
                    <a:close/>
                    <a:moveTo>
                      <a:pt x="464" y="493"/>
                    </a:moveTo>
                    <a:lnTo>
                      <a:pt x="489" y="493"/>
                    </a:lnTo>
                    <a:lnTo>
                      <a:pt x="489" y="499"/>
                    </a:lnTo>
                    <a:lnTo>
                      <a:pt x="464" y="499"/>
                    </a:lnTo>
                    <a:lnTo>
                      <a:pt x="464" y="493"/>
                    </a:lnTo>
                    <a:close/>
                    <a:moveTo>
                      <a:pt x="507" y="493"/>
                    </a:moveTo>
                    <a:lnTo>
                      <a:pt x="532" y="493"/>
                    </a:lnTo>
                    <a:lnTo>
                      <a:pt x="532" y="499"/>
                    </a:lnTo>
                    <a:lnTo>
                      <a:pt x="507" y="499"/>
                    </a:lnTo>
                    <a:lnTo>
                      <a:pt x="507" y="493"/>
                    </a:lnTo>
                    <a:close/>
                    <a:moveTo>
                      <a:pt x="550" y="493"/>
                    </a:moveTo>
                    <a:lnTo>
                      <a:pt x="575" y="493"/>
                    </a:lnTo>
                    <a:lnTo>
                      <a:pt x="575" y="499"/>
                    </a:lnTo>
                    <a:lnTo>
                      <a:pt x="550" y="499"/>
                    </a:lnTo>
                    <a:lnTo>
                      <a:pt x="550" y="493"/>
                    </a:lnTo>
                    <a:close/>
                    <a:moveTo>
                      <a:pt x="594" y="493"/>
                    </a:moveTo>
                    <a:lnTo>
                      <a:pt x="618" y="493"/>
                    </a:lnTo>
                    <a:lnTo>
                      <a:pt x="618" y="499"/>
                    </a:lnTo>
                    <a:lnTo>
                      <a:pt x="594" y="499"/>
                    </a:lnTo>
                    <a:lnTo>
                      <a:pt x="594" y="493"/>
                    </a:lnTo>
                    <a:close/>
                    <a:moveTo>
                      <a:pt x="637" y="493"/>
                    </a:moveTo>
                    <a:lnTo>
                      <a:pt x="661" y="493"/>
                    </a:lnTo>
                    <a:lnTo>
                      <a:pt x="661" y="499"/>
                    </a:lnTo>
                    <a:lnTo>
                      <a:pt x="637" y="499"/>
                    </a:lnTo>
                    <a:lnTo>
                      <a:pt x="637" y="493"/>
                    </a:lnTo>
                    <a:close/>
                    <a:moveTo>
                      <a:pt x="680" y="493"/>
                    </a:moveTo>
                    <a:lnTo>
                      <a:pt x="704" y="493"/>
                    </a:lnTo>
                    <a:lnTo>
                      <a:pt x="704" y="499"/>
                    </a:lnTo>
                    <a:lnTo>
                      <a:pt x="680" y="499"/>
                    </a:lnTo>
                    <a:lnTo>
                      <a:pt x="680" y="493"/>
                    </a:lnTo>
                    <a:close/>
                    <a:moveTo>
                      <a:pt x="723" y="493"/>
                    </a:moveTo>
                    <a:lnTo>
                      <a:pt x="747" y="493"/>
                    </a:lnTo>
                    <a:lnTo>
                      <a:pt x="747" y="499"/>
                    </a:lnTo>
                    <a:lnTo>
                      <a:pt x="723" y="499"/>
                    </a:lnTo>
                    <a:lnTo>
                      <a:pt x="723" y="493"/>
                    </a:lnTo>
                    <a:close/>
                    <a:moveTo>
                      <a:pt x="766" y="493"/>
                    </a:moveTo>
                    <a:lnTo>
                      <a:pt x="791" y="493"/>
                    </a:lnTo>
                    <a:lnTo>
                      <a:pt x="791" y="499"/>
                    </a:lnTo>
                    <a:lnTo>
                      <a:pt x="766" y="499"/>
                    </a:lnTo>
                    <a:lnTo>
                      <a:pt x="766" y="493"/>
                    </a:lnTo>
                    <a:close/>
                    <a:moveTo>
                      <a:pt x="809" y="493"/>
                    </a:moveTo>
                    <a:lnTo>
                      <a:pt x="834" y="493"/>
                    </a:lnTo>
                    <a:lnTo>
                      <a:pt x="834" y="499"/>
                    </a:lnTo>
                    <a:lnTo>
                      <a:pt x="809" y="499"/>
                    </a:lnTo>
                    <a:lnTo>
                      <a:pt x="809" y="493"/>
                    </a:lnTo>
                    <a:close/>
                    <a:moveTo>
                      <a:pt x="852" y="493"/>
                    </a:moveTo>
                    <a:lnTo>
                      <a:pt x="877" y="493"/>
                    </a:lnTo>
                    <a:lnTo>
                      <a:pt x="877" y="499"/>
                    </a:lnTo>
                    <a:lnTo>
                      <a:pt x="852" y="499"/>
                    </a:lnTo>
                    <a:lnTo>
                      <a:pt x="852" y="493"/>
                    </a:lnTo>
                    <a:close/>
                    <a:moveTo>
                      <a:pt x="895" y="493"/>
                    </a:moveTo>
                    <a:lnTo>
                      <a:pt x="920" y="493"/>
                    </a:lnTo>
                    <a:lnTo>
                      <a:pt x="920" y="499"/>
                    </a:lnTo>
                    <a:lnTo>
                      <a:pt x="895" y="499"/>
                    </a:lnTo>
                    <a:lnTo>
                      <a:pt x="895" y="493"/>
                    </a:lnTo>
                    <a:close/>
                    <a:moveTo>
                      <a:pt x="938" y="493"/>
                    </a:moveTo>
                    <a:lnTo>
                      <a:pt x="944" y="493"/>
                    </a:lnTo>
                    <a:lnTo>
                      <a:pt x="942" y="496"/>
                    </a:lnTo>
                    <a:lnTo>
                      <a:pt x="942" y="477"/>
                    </a:lnTo>
                    <a:lnTo>
                      <a:pt x="948" y="477"/>
                    </a:lnTo>
                    <a:lnTo>
                      <a:pt x="948" y="499"/>
                    </a:lnTo>
                    <a:lnTo>
                      <a:pt x="938" y="499"/>
                    </a:lnTo>
                    <a:lnTo>
                      <a:pt x="938" y="493"/>
                    </a:lnTo>
                    <a:close/>
                    <a:moveTo>
                      <a:pt x="942" y="459"/>
                    </a:moveTo>
                    <a:lnTo>
                      <a:pt x="942" y="434"/>
                    </a:lnTo>
                    <a:lnTo>
                      <a:pt x="948" y="434"/>
                    </a:lnTo>
                    <a:lnTo>
                      <a:pt x="948" y="459"/>
                    </a:lnTo>
                    <a:lnTo>
                      <a:pt x="942" y="459"/>
                    </a:lnTo>
                    <a:close/>
                    <a:moveTo>
                      <a:pt x="942" y="416"/>
                    </a:moveTo>
                    <a:lnTo>
                      <a:pt x="942" y="391"/>
                    </a:lnTo>
                    <a:lnTo>
                      <a:pt x="948" y="391"/>
                    </a:lnTo>
                    <a:lnTo>
                      <a:pt x="948" y="416"/>
                    </a:lnTo>
                    <a:lnTo>
                      <a:pt x="942" y="416"/>
                    </a:lnTo>
                    <a:close/>
                    <a:moveTo>
                      <a:pt x="942" y="373"/>
                    </a:moveTo>
                    <a:lnTo>
                      <a:pt x="942" y="348"/>
                    </a:lnTo>
                    <a:lnTo>
                      <a:pt x="948" y="348"/>
                    </a:lnTo>
                    <a:lnTo>
                      <a:pt x="948" y="373"/>
                    </a:lnTo>
                    <a:lnTo>
                      <a:pt x="942" y="373"/>
                    </a:lnTo>
                    <a:close/>
                    <a:moveTo>
                      <a:pt x="942" y="329"/>
                    </a:moveTo>
                    <a:lnTo>
                      <a:pt x="942" y="305"/>
                    </a:lnTo>
                    <a:lnTo>
                      <a:pt x="948" y="305"/>
                    </a:lnTo>
                    <a:lnTo>
                      <a:pt x="948" y="329"/>
                    </a:lnTo>
                    <a:lnTo>
                      <a:pt x="942" y="329"/>
                    </a:lnTo>
                    <a:close/>
                    <a:moveTo>
                      <a:pt x="942" y="286"/>
                    </a:moveTo>
                    <a:lnTo>
                      <a:pt x="942" y="262"/>
                    </a:lnTo>
                    <a:lnTo>
                      <a:pt x="948" y="262"/>
                    </a:lnTo>
                    <a:lnTo>
                      <a:pt x="948" y="286"/>
                    </a:lnTo>
                    <a:lnTo>
                      <a:pt x="942" y="286"/>
                    </a:lnTo>
                    <a:close/>
                    <a:moveTo>
                      <a:pt x="942" y="243"/>
                    </a:moveTo>
                    <a:lnTo>
                      <a:pt x="942" y="219"/>
                    </a:lnTo>
                    <a:lnTo>
                      <a:pt x="948" y="219"/>
                    </a:lnTo>
                    <a:lnTo>
                      <a:pt x="948" y="243"/>
                    </a:lnTo>
                    <a:lnTo>
                      <a:pt x="942" y="243"/>
                    </a:lnTo>
                    <a:close/>
                    <a:moveTo>
                      <a:pt x="942" y="200"/>
                    </a:moveTo>
                    <a:lnTo>
                      <a:pt x="942" y="175"/>
                    </a:lnTo>
                    <a:lnTo>
                      <a:pt x="948" y="175"/>
                    </a:lnTo>
                    <a:lnTo>
                      <a:pt x="948" y="200"/>
                    </a:lnTo>
                    <a:lnTo>
                      <a:pt x="942" y="200"/>
                    </a:lnTo>
                    <a:close/>
                    <a:moveTo>
                      <a:pt x="942" y="157"/>
                    </a:moveTo>
                    <a:lnTo>
                      <a:pt x="942" y="132"/>
                    </a:lnTo>
                    <a:lnTo>
                      <a:pt x="948" y="132"/>
                    </a:lnTo>
                    <a:lnTo>
                      <a:pt x="948" y="157"/>
                    </a:lnTo>
                    <a:lnTo>
                      <a:pt x="942" y="157"/>
                    </a:lnTo>
                    <a:close/>
                    <a:moveTo>
                      <a:pt x="942" y="114"/>
                    </a:moveTo>
                    <a:lnTo>
                      <a:pt x="942" y="89"/>
                    </a:lnTo>
                    <a:lnTo>
                      <a:pt x="948" y="89"/>
                    </a:lnTo>
                    <a:lnTo>
                      <a:pt x="948" y="114"/>
                    </a:lnTo>
                    <a:lnTo>
                      <a:pt x="942" y="114"/>
                    </a:lnTo>
                    <a:close/>
                    <a:moveTo>
                      <a:pt x="942" y="71"/>
                    </a:moveTo>
                    <a:lnTo>
                      <a:pt x="942" y="46"/>
                    </a:lnTo>
                    <a:lnTo>
                      <a:pt x="948" y="46"/>
                    </a:lnTo>
                    <a:lnTo>
                      <a:pt x="948" y="71"/>
                    </a:lnTo>
                    <a:lnTo>
                      <a:pt x="942" y="71"/>
                    </a:lnTo>
                    <a:close/>
                    <a:moveTo>
                      <a:pt x="942" y="28"/>
                    </a:moveTo>
                    <a:lnTo>
                      <a:pt x="942" y="3"/>
                    </a:lnTo>
                    <a:lnTo>
                      <a:pt x="948" y="3"/>
                    </a:lnTo>
                    <a:lnTo>
                      <a:pt x="948" y="28"/>
                    </a:lnTo>
                    <a:lnTo>
                      <a:pt x="94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2149560" y="5967360"/>
                <a:ext cx="112320" cy="102240"/>
                <a:chOff x="2149560" y="5967360"/>
                <a:chExt cx="112320" cy="102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152080" y="5967360"/>
                  <a:ext cx="106920" cy="102240"/>
                </a:xfrm>
                <a:prstGeom prst="ellipse">
                  <a:avLst/>
                </a:prstGeom>
                <a:noFill/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149560" y="6019560"/>
                  <a:ext cx="112320" cy="144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2206080" y="5969880"/>
                  <a:ext cx="1440" cy="993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2761560" y="6338160"/>
                <a:ext cx="47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871720" y="6338160"/>
                <a:ext cx="48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2818440" y="5685120"/>
                <a:ext cx="48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2708640" y="568512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2697120" y="5657040"/>
                <a:ext cx="216000" cy="93960"/>
                <a:chOff x="2697120" y="5657040"/>
                <a:chExt cx="216000" cy="939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697120" y="5657040"/>
                  <a:ext cx="216000" cy="93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697120" y="5657040"/>
                  <a:ext cx="216000" cy="939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97120" y="6272280"/>
                <a:ext cx="216000" cy="95400"/>
                <a:chOff x="2697120" y="6272280"/>
                <a:chExt cx="216000" cy="95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7120" y="6272280"/>
                  <a:ext cx="216000" cy="9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97120" y="6272280"/>
                  <a:ext cx="216000" cy="954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804400" y="5779800"/>
                <a:ext cx="100440" cy="37440"/>
                <a:chOff x="2804400" y="5779800"/>
                <a:chExt cx="100440" cy="374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845440" y="5779800"/>
                  <a:ext cx="59400" cy="374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2804400" y="5792760"/>
                  <a:ext cx="37440" cy="7920"/>
                  <a:chOff x="2804400" y="5792760"/>
                  <a:chExt cx="37440" cy="7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804400" y="5792760"/>
                    <a:ext cx="3744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804400" y="5792760"/>
                    <a:ext cx="3744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4" name=""/>
              <p:cNvGrpSpPr/>
              <p:nvPr/>
            </p:nvGrpSpPr>
            <p:grpSpPr>
              <a:xfrm>
                <a:off x="2804400" y="6203520"/>
                <a:ext cx="100440" cy="37440"/>
                <a:chOff x="2804400" y="6203520"/>
                <a:chExt cx="100440" cy="374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845440" y="6203520"/>
                  <a:ext cx="59400" cy="374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2804400" y="6216840"/>
                  <a:ext cx="37440" cy="10440"/>
                  <a:chOff x="2804400" y="6216840"/>
                  <a:chExt cx="37440" cy="104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2804400" y="6216840"/>
                    <a:ext cx="37440" cy="1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804400" y="6216840"/>
                    <a:ext cx="37440" cy="104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2729520" y="5770440"/>
                <a:ext cx="2520" cy="26640"/>
                <a:chOff x="2729520" y="5770440"/>
                <a:chExt cx="2520" cy="266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729520" y="5770440"/>
                  <a:ext cx="2520" cy="26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729520" y="5770440"/>
                  <a:ext cx="2520" cy="266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730600" y="6226200"/>
                <a:ext cx="2520" cy="26640"/>
                <a:chOff x="2730600" y="6226200"/>
                <a:chExt cx="2520" cy="266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730600" y="6226200"/>
                  <a:ext cx="2520" cy="26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730600" y="6226200"/>
                  <a:ext cx="2520" cy="266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2946960" y="6273360"/>
                <a:ext cx="214560" cy="96840"/>
                <a:chOff x="2946960" y="6273360"/>
                <a:chExt cx="214560" cy="968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2946960" y="6273360"/>
                  <a:ext cx="214560" cy="9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946960" y="6273360"/>
                  <a:ext cx="214560" cy="968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946960" y="5655600"/>
                <a:ext cx="214560" cy="94320"/>
                <a:chOff x="2946960" y="5655600"/>
                <a:chExt cx="214560" cy="943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2946960" y="5655600"/>
                  <a:ext cx="214560" cy="9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946960" y="5655600"/>
                  <a:ext cx="214560" cy="943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054240" y="5778360"/>
                <a:ext cx="100440" cy="37440"/>
                <a:chOff x="3054240" y="5778360"/>
                <a:chExt cx="100440" cy="3744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095280" y="5778360"/>
                  <a:ext cx="59400" cy="374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054240" y="5791680"/>
                  <a:ext cx="37440" cy="7920"/>
                  <a:chOff x="3054240" y="5791680"/>
                  <a:chExt cx="37440" cy="79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054240" y="5791680"/>
                    <a:ext cx="3744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054240" y="5791680"/>
                    <a:ext cx="3744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3050280" y="6206040"/>
                <a:ext cx="100800" cy="37800"/>
                <a:chOff x="3050280" y="6206040"/>
                <a:chExt cx="100800" cy="378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91680" y="6206040"/>
                  <a:ext cx="59400" cy="37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3050280" y="6220800"/>
                  <a:ext cx="37080" cy="8280"/>
                  <a:chOff x="3050280" y="6220800"/>
                  <a:chExt cx="37080" cy="828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3050280" y="6220800"/>
                    <a:ext cx="3708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050280" y="6220800"/>
                    <a:ext cx="37080" cy="82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2449800" y="6273360"/>
                <a:ext cx="214560" cy="95400"/>
                <a:chOff x="2449800" y="6273360"/>
                <a:chExt cx="214560" cy="954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449800" y="6273360"/>
                  <a:ext cx="214560" cy="9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49800" y="6273360"/>
                  <a:ext cx="214560" cy="954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449800" y="5654520"/>
                <a:ext cx="214560" cy="94320"/>
                <a:chOff x="2449800" y="5654520"/>
                <a:chExt cx="214560" cy="943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449800" y="5654520"/>
                  <a:ext cx="214560" cy="9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449800" y="5654520"/>
                  <a:ext cx="214560" cy="943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2557440" y="5776920"/>
                <a:ext cx="100440" cy="37800"/>
                <a:chOff x="2557440" y="5776920"/>
                <a:chExt cx="100440" cy="3780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2597400" y="5776920"/>
                  <a:ext cx="60480" cy="37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2557440" y="5790240"/>
                  <a:ext cx="36000" cy="7920"/>
                  <a:chOff x="2557440" y="5790240"/>
                  <a:chExt cx="36000" cy="79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2557440" y="5790240"/>
                    <a:ext cx="360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557440" y="5790240"/>
                    <a:ext cx="3600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"/>
              <p:cNvGrpSpPr/>
              <p:nvPr/>
            </p:nvGrpSpPr>
            <p:grpSpPr>
              <a:xfrm>
                <a:off x="2553120" y="6204600"/>
                <a:ext cx="99360" cy="37800"/>
                <a:chOff x="2553120" y="6204600"/>
                <a:chExt cx="99360" cy="378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593080" y="6204600"/>
                  <a:ext cx="59400" cy="37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2553120" y="6219360"/>
                  <a:ext cx="36360" cy="7920"/>
                  <a:chOff x="2553120" y="6219360"/>
                  <a:chExt cx="36360" cy="79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2553120" y="6219360"/>
                    <a:ext cx="3636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553120" y="6219360"/>
                    <a:ext cx="3636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"/>
              <p:cNvSpPr/>
              <p:nvPr/>
            </p:nvSpPr>
            <p:spPr>
              <a:xfrm>
                <a:off x="2764440" y="6013080"/>
                <a:ext cx="95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6200000">
                <a:off x="2775240" y="603360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6200000">
                <a:off x="2775240" y="593316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757960" y="5921280"/>
                <a:ext cx="103320" cy="18468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725560" y="5797080"/>
                <a:ext cx="108360" cy="119880"/>
              </a:xfrm>
              <a:custGeom>
                <a:avLst/>
                <a:gdLst/>
                <a:ahLst/>
                <a:rect l="l" t="t" r="r" b="b"/>
                <a:pathLst>
                  <a:path w="342" h="358">
                    <a:moveTo>
                      <a:pt x="317" y="346"/>
                    </a:moveTo>
                    <a:lnTo>
                      <a:pt x="317" y="346"/>
                    </a:lnTo>
                    <a:cubicBezTo>
                      <a:pt x="317" y="339"/>
                      <a:pt x="323" y="333"/>
                      <a:pt x="329" y="333"/>
                    </a:cubicBezTo>
                    <a:cubicBezTo>
                      <a:pt x="336" y="333"/>
                      <a:pt x="342" y="339"/>
                      <a:pt x="342" y="346"/>
                    </a:cubicBezTo>
                    <a:lnTo>
                      <a:pt x="342" y="346"/>
                    </a:lnTo>
                    <a:cubicBezTo>
                      <a:pt x="342" y="353"/>
                      <a:pt x="336" y="358"/>
                      <a:pt x="329" y="358"/>
                    </a:cubicBezTo>
                    <a:cubicBezTo>
                      <a:pt x="323" y="358"/>
                      <a:pt x="317" y="353"/>
                      <a:pt x="317" y="346"/>
                    </a:cubicBezTo>
                    <a:close/>
                    <a:moveTo>
                      <a:pt x="317" y="296"/>
                    </a:moveTo>
                    <a:lnTo>
                      <a:pt x="317" y="296"/>
                    </a:lnTo>
                    <a:cubicBezTo>
                      <a:pt x="317" y="289"/>
                      <a:pt x="323" y="283"/>
                      <a:pt x="329" y="283"/>
                    </a:cubicBezTo>
                    <a:cubicBezTo>
                      <a:pt x="336" y="283"/>
                      <a:pt x="342" y="289"/>
                      <a:pt x="342" y="296"/>
                    </a:cubicBezTo>
                    <a:lnTo>
                      <a:pt x="342" y="296"/>
                    </a:lnTo>
                    <a:cubicBezTo>
                      <a:pt x="342" y="303"/>
                      <a:pt x="336" y="308"/>
                      <a:pt x="329" y="308"/>
                    </a:cubicBezTo>
                    <a:cubicBezTo>
                      <a:pt x="323" y="308"/>
                      <a:pt x="317" y="303"/>
                      <a:pt x="317" y="296"/>
                    </a:cubicBezTo>
                    <a:close/>
                    <a:moveTo>
                      <a:pt x="317" y="246"/>
                    </a:moveTo>
                    <a:lnTo>
                      <a:pt x="317" y="246"/>
                    </a:lnTo>
                    <a:cubicBezTo>
                      <a:pt x="317" y="239"/>
                      <a:pt x="323" y="233"/>
                      <a:pt x="329" y="233"/>
                    </a:cubicBezTo>
                    <a:cubicBezTo>
                      <a:pt x="336" y="233"/>
                      <a:pt x="342" y="239"/>
                      <a:pt x="342" y="246"/>
                    </a:cubicBezTo>
                    <a:lnTo>
                      <a:pt x="342" y="246"/>
                    </a:lnTo>
                    <a:cubicBezTo>
                      <a:pt x="342" y="253"/>
                      <a:pt x="336" y="258"/>
                      <a:pt x="329" y="258"/>
                    </a:cubicBezTo>
                    <a:cubicBezTo>
                      <a:pt x="323" y="258"/>
                      <a:pt x="317" y="253"/>
                      <a:pt x="317" y="246"/>
                    </a:cubicBezTo>
                    <a:close/>
                    <a:moveTo>
                      <a:pt x="321" y="217"/>
                    </a:moveTo>
                    <a:lnTo>
                      <a:pt x="321" y="217"/>
                    </a:lnTo>
                    <a:cubicBezTo>
                      <a:pt x="314" y="217"/>
                      <a:pt x="309" y="211"/>
                      <a:pt x="309" y="204"/>
                    </a:cubicBezTo>
                    <a:cubicBezTo>
                      <a:pt x="309" y="197"/>
                      <a:pt x="314" y="192"/>
                      <a:pt x="321" y="192"/>
                    </a:cubicBezTo>
                    <a:lnTo>
                      <a:pt x="321" y="192"/>
                    </a:lnTo>
                    <a:cubicBezTo>
                      <a:pt x="328" y="192"/>
                      <a:pt x="334" y="197"/>
                      <a:pt x="334" y="204"/>
                    </a:cubicBezTo>
                    <a:cubicBezTo>
                      <a:pt x="334" y="211"/>
                      <a:pt x="328" y="217"/>
                      <a:pt x="321" y="217"/>
                    </a:cubicBezTo>
                    <a:close/>
                    <a:moveTo>
                      <a:pt x="271" y="217"/>
                    </a:moveTo>
                    <a:lnTo>
                      <a:pt x="271" y="217"/>
                    </a:lnTo>
                    <a:cubicBezTo>
                      <a:pt x="264" y="217"/>
                      <a:pt x="259" y="211"/>
                      <a:pt x="259" y="204"/>
                    </a:cubicBezTo>
                    <a:cubicBezTo>
                      <a:pt x="259" y="197"/>
                      <a:pt x="264" y="192"/>
                      <a:pt x="271" y="192"/>
                    </a:cubicBezTo>
                    <a:lnTo>
                      <a:pt x="271" y="192"/>
                    </a:lnTo>
                    <a:cubicBezTo>
                      <a:pt x="278" y="192"/>
                      <a:pt x="284" y="197"/>
                      <a:pt x="284" y="204"/>
                    </a:cubicBezTo>
                    <a:cubicBezTo>
                      <a:pt x="284" y="211"/>
                      <a:pt x="278" y="217"/>
                      <a:pt x="271" y="217"/>
                    </a:cubicBezTo>
                    <a:close/>
                    <a:moveTo>
                      <a:pt x="221" y="217"/>
                    </a:moveTo>
                    <a:lnTo>
                      <a:pt x="221" y="217"/>
                    </a:lnTo>
                    <a:cubicBezTo>
                      <a:pt x="214" y="217"/>
                      <a:pt x="208" y="211"/>
                      <a:pt x="208" y="204"/>
                    </a:cubicBezTo>
                    <a:cubicBezTo>
                      <a:pt x="208" y="197"/>
                      <a:pt x="214" y="192"/>
                      <a:pt x="221" y="192"/>
                    </a:cubicBezTo>
                    <a:lnTo>
                      <a:pt x="221" y="192"/>
                    </a:lnTo>
                    <a:cubicBezTo>
                      <a:pt x="228" y="192"/>
                      <a:pt x="234" y="197"/>
                      <a:pt x="234" y="204"/>
                    </a:cubicBezTo>
                    <a:cubicBezTo>
                      <a:pt x="234" y="211"/>
                      <a:pt x="228" y="217"/>
                      <a:pt x="221" y="217"/>
                    </a:cubicBezTo>
                    <a:close/>
                    <a:moveTo>
                      <a:pt x="171" y="217"/>
                    </a:moveTo>
                    <a:lnTo>
                      <a:pt x="171" y="217"/>
                    </a:lnTo>
                    <a:cubicBezTo>
                      <a:pt x="164" y="217"/>
                      <a:pt x="158" y="211"/>
                      <a:pt x="158" y="204"/>
                    </a:cubicBezTo>
                    <a:cubicBezTo>
                      <a:pt x="158" y="197"/>
                      <a:pt x="164" y="192"/>
                      <a:pt x="171" y="192"/>
                    </a:cubicBezTo>
                    <a:lnTo>
                      <a:pt x="171" y="192"/>
                    </a:lnTo>
                    <a:cubicBezTo>
                      <a:pt x="178" y="192"/>
                      <a:pt x="183" y="197"/>
                      <a:pt x="183" y="204"/>
                    </a:cubicBezTo>
                    <a:cubicBezTo>
                      <a:pt x="183" y="211"/>
                      <a:pt x="178" y="217"/>
                      <a:pt x="171" y="217"/>
                    </a:cubicBezTo>
                    <a:close/>
                    <a:moveTo>
                      <a:pt x="121" y="217"/>
                    </a:moveTo>
                    <a:lnTo>
                      <a:pt x="121" y="217"/>
                    </a:lnTo>
                    <a:cubicBezTo>
                      <a:pt x="114" y="217"/>
                      <a:pt x="108" y="211"/>
                      <a:pt x="108" y="204"/>
                    </a:cubicBezTo>
                    <a:cubicBezTo>
                      <a:pt x="108" y="197"/>
                      <a:pt x="114" y="192"/>
                      <a:pt x="121" y="192"/>
                    </a:cubicBezTo>
                    <a:lnTo>
                      <a:pt x="121" y="192"/>
                    </a:lnTo>
                    <a:cubicBezTo>
                      <a:pt x="128" y="192"/>
                      <a:pt x="133" y="197"/>
                      <a:pt x="133" y="204"/>
                    </a:cubicBezTo>
                    <a:cubicBezTo>
                      <a:pt x="133" y="211"/>
                      <a:pt x="128" y="217"/>
                      <a:pt x="121" y="217"/>
                    </a:cubicBezTo>
                    <a:close/>
                    <a:moveTo>
                      <a:pt x="71" y="217"/>
                    </a:moveTo>
                    <a:lnTo>
                      <a:pt x="71" y="217"/>
                    </a:lnTo>
                    <a:cubicBezTo>
                      <a:pt x="64" y="217"/>
                      <a:pt x="58" y="211"/>
                      <a:pt x="58" y="204"/>
                    </a:cubicBezTo>
                    <a:cubicBezTo>
                      <a:pt x="58" y="197"/>
                      <a:pt x="64" y="192"/>
                      <a:pt x="71" y="192"/>
                    </a:cubicBezTo>
                    <a:lnTo>
                      <a:pt x="71" y="192"/>
                    </a:lnTo>
                    <a:cubicBezTo>
                      <a:pt x="78" y="192"/>
                      <a:pt x="83" y="197"/>
                      <a:pt x="83" y="204"/>
                    </a:cubicBezTo>
                    <a:cubicBezTo>
                      <a:pt x="83" y="211"/>
                      <a:pt x="78" y="217"/>
                      <a:pt x="71" y="217"/>
                    </a:cubicBezTo>
                    <a:close/>
                    <a:moveTo>
                      <a:pt x="21" y="217"/>
                    </a:moveTo>
                    <a:lnTo>
                      <a:pt x="21" y="217"/>
                    </a:lnTo>
                    <a:cubicBezTo>
                      <a:pt x="14" y="217"/>
                      <a:pt x="8" y="211"/>
                      <a:pt x="8" y="204"/>
                    </a:cubicBezTo>
                    <a:cubicBezTo>
                      <a:pt x="8" y="197"/>
                      <a:pt x="14" y="192"/>
                      <a:pt x="21" y="192"/>
                    </a:cubicBezTo>
                    <a:lnTo>
                      <a:pt x="21" y="192"/>
                    </a:lnTo>
                    <a:cubicBezTo>
                      <a:pt x="28" y="192"/>
                      <a:pt x="33" y="197"/>
                      <a:pt x="33" y="204"/>
                    </a:cubicBezTo>
                    <a:cubicBezTo>
                      <a:pt x="33" y="211"/>
                      <a:pt x="28" y="217"/>
                      <a:pt x="21" y="217"/>
                    </a:cubicBezTo>
                    <a:close/>
                    <a:moveTo>
                      <a:pt x="0" y="162"/>
                    </a:moveTo>
                    <a:lnTo>
                      <a:pt x="0" y="162"/>
                    </a:lnTo>
                    <a:cubicBezTo>
                      <a:pt x="0" y="155"/>
                      <a:pt x="6" y="150"/>
                      <a:pt x="13" y="150"/>
                    </a:cubicBezTo>
                    <a:cubicBezTo>
                      <a:pt x="20" y="150"/>
                      <a:pt x="25" y="155"/>
                      <a:pt x="25" y="162"/>
                    </a:cubicBezTo>
                    <a:lnTo>
                      <a:pt x="25" y="162"/>
                    </a:lnTo>
                    <a:cubicBezTo>
                      <a:pt x="25" y="169"/>
                      <a:pt x="20" y="175"/>
                      <a:pt x="13" y="175"/>
                    </a:cubicBezTo>
                    <a:cubicBezTo>
                      <a:pt x="6" y="175"/>
                      <a:pt x="0" y="169"/>
                      <a:pt x="0" y="162"/>
                    </a:cubicBezTo>
                    <a:close/>
                    <a:moveTo>
                      <a:pt x="0" y="112"/>
                    </a:moveTo>
                    <a:lnTo>
                      <a:pt x="0" y="112"/>
                    </a:lnTo>
                    <a:cubicBezTo>
                      <a:pt x="0" y="105"/>
                      <a:pt x="6" y="100"/>
                      <a:pt x="13" y="100"/>
                    </a:cubicBezTo>
                    <a:cubicBezTo>
                      <a:pt x="20" y="100"/>
                      <a:pt x="25" y="105"/>
                      <a:pt x="25" y="112"/>
                    </a:cubicBezTo>
                    <a:lnTo>
                      <a:pt x="25" y="112"/>
                    </a:lnTo>
                    <a:cubicBezTo>
                      <a:pt x="25" y="119"/>
                      <a:pt x="20" y="125"/>
                      <a:pt x="13" y="125"/>
                    </a:cubicBezTo>
                    <a:cubicBezTo>
                      <a:pt x="6" y="125"/>
                      <a:pt x="0" y="119"/>
                      <a:pt x="0" y="112"/>
                    </a:cubicBezTo>
                    <a:close/>
                    <a:moveTo>
                      <a:pt x="0" y="62"/>
                    </a:moveTo>
                    <a:lnTo>
                      <a:pt x="0" y="62"/>
                    </a:lnTo>
                    <a:cubicBezTo>
                      <a:pt x="0" y="55"/>
                      <a:pt x="6" y="50"/>
                      <a:pt x="13" y="50"/>
                    </a:cubicBezTo>
                    <a:cubicBezTo>
                      <a:pt x="20" y="50"/>
                      <a:pt x="25" y="55"/>
                      <a:pt x="25" y="62"/>
                    </a:cubicBezTo>
                    <a:lnTo>
                      <a:pt x="25" y="62"/>
                    </a:lnTo>
                    <a:cubicBezTo>
                      <a:pt x="25" y="69"/>
                      <a:pt x="20" y="75"/>
                      <a:pt x="13" y="75"/>
                    </a:cubicBezTo>
                    <a:cubicBezTo>
                      <a:pt x="6" y="75"/>
                      <a:pt x="0" y="69"/>
                      <a:pt x="0" y="62"/>
                    </a:cubicBezTo>
                    <a:close/>
                    <a:moveTo>
                      <a:pt x="0" y="12"/>
                    </a:moveTo>
                    <a:lnTo>
                      <a:pt x="0" y="12"/>
                    </a:lnTo>
                    <a:cubicBezTo>
                      <a:pt x="0" y="5"/>
                      <a:pt x="6" y="0"/>
                      <a:pt x="13" y="0"/>
                    </a:cubicBezTo>
                    <a:cubicBezTo>
                      <a:pt x="20" y="0"/>
                      <a:pt x="25" y="5"/>
                      <a:pt x="25" y="12"/>
                    </a:cubicBezTo>
                    <a:lnTo>
                      <a:pt x="25" y="12"/>
                    </a:lnTo>
                    <a:cubicBezTo>
                      <a:pt x="25" y="19"/>
                      <a:pt x="20" y="25"/>
                      <a:pt x="13" y="25"/>
                    </a:cubicBezTo>
                    <a:cubicBezTo>
                      <a:pt x="6" y="25"/>
                      <a:pt x="0" y="19"/>
                      <a:pt x="0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29520" y="610092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325" h="326">
                    <a:moveTo>
                      <a:pt x="325" y="13"/>
                    </a:moveTo>
                    <a:lnTo>
                      <a:pt x="325" y="13"/>
                    </a:lnTo>
                    <a:cubicBezTo>
                      <a:pt x="325" y="20"/>
                      <a:pt x="319" y="25"/>
                      <a:pt x="312" y="25"/>
                    </a:cubicBezTo>
                    <a:cubicBezTo>
                      <a:pt x="305" y="25"/>
                      <a:pt x="300" y="20"/>
                      <a:pt x="300" y="13"/>
                    </a:cubicBezTo>
                    <a:lnTo>
                      <a:pt x="300" y="13"/>
                    </a:lnTo>
                    <a:cubicBezTo>
                      <a:pt x="300" y="6"/>
                      <a:pt x="305" y="0"/>
                      <a:pt x="312" y="0"/>
                    </a:cubicBezTo>
                    <a:cubicBezTo>
                      <a:pt x="319" y="0"/>
                      <a:pt x="325" y="6"/>
                      <a:pt x="325" y="13"/>
                    </a:cubicBezTo>
                    <a:close/>
                    <a:moveTo>
                      <a:pt x="325" y="63"/>
                    </a:moveTo>
                    <a:lnTo>
                      <a:pt x="325" y="63"/>
                    </a:lnTo>
                    <a:cubicBezTo>
                      <a:pt x="325" y="70"/>
                      <a:pt x="319" y="76"/>
                      <a:pt x="312" y="76"/>
                    </a:cubicBezTo>
                    <a:cubicBezTo>
                      <a:pt x="305" y="76"/>
                      <a:pt x="300" y="70"/>
                      <a:pt x="300" y="63"/>
                    </a:cubicBezTo>
                    <a:lnTo>
                      <a:pt x="300" y="63"/>
                    </a:lnTo>
                    <a:cubicBezTo>
                      <a:pt x="300" y="56"/>
                      <a:pt x="305" y="50"/>
                      <a:pt x="312" y="50"/>
                    </a:cubicBezTo>
                    <a:cubicBezTo>
                      <a:pt x="319" y="50"/>
                      <a:pt x="325" y="56"/>
                      <a:pt x="325" y="63"/>
                    </a:cubicBezTo>
                    <a:close/>
                    <a:moveTo>
                      <a:pt x="325" y="113"/>
                    </a:moveTo>
                    <a:lnTo>
                      <a:pt x="325" y="113"/>
                    </a:lnTo>
                    <a:cubicBezTo>
                      <a:pt x="325" y="120"/>
                      <a:pt x="319" y="126"/>
                      <a:pt x="312" y="126"/>
                    </a:cubicBezTo>
                    <a:cubicBezTo>
                      <a:pt x="305" y="126"/>
                      <a:pt x="300" y="120"/>
                      <a:pt x="300" y="113"/>
                    </a:cubicBezTo>
                    <a:lnTo>
                      <a:pt x="300" y="113"/>
                    </a:lnTo>
                    <a:cubicBezTo>
                      <a:pt x="300" y="106"/>
                      <a:pt x="305" y="101"/>
                      <a:pt x="312" y="101"/>
                    </a:cubicBezTo>
                    <a:cubicBezTo>
                      <a:pt x="319" y="101"/>
                      <a:pt x="325" y="106"/>
                      <a:pt x="325" y="113"/>
                    </a:cubicBezTo>
                    <a:close/>
                    <a:moveTo>
                      <a:pt x="304" y="167"/>
                    </a:moveTo>
                    <a:lnTo>
                      <a:pt x="304" y="167"/>
                    </a:lnTo>
                    <a:cubicBezTo>
                      <a:pt x="297" y="167"/>
                      <a:pt x="291" y="162"/>
                      <a:pt x="291" y="155"/>
                    </a:cubicBezTo>
                    <a:cubicBezTo>
                      <a:pt x="291" y="148"/>
                      <a:pt x="297" y="142"/>
                      <a:pt x="304" y="142"/>
                    </a:cubicBezTo>
                    <a:lnTo>
                      <a:pt x="304" y="142"/>
                    </a:lnTo>
                    <a:cubicBezTo>
                      <a:pt x="311" y="142"/>
                      <a:pt x="316" y="148"/>
                      <a:pt x="316" y="155"/>
                    </a:cubicBezTo>
                    <a:cubicBezTo>
                      <a:pt x="316" y="162"/>
                      <a:pt x="311" y="167"/>
                      <a:pt x="304" y="167"/>
                    </a:cubicBezTo>
                    <a:close/>
                    <a:moveTo>
                      <a:pt x="254" y="167"/>
                    </a:moveTo>
                    <a:lnTo>
                      <a:pt x="254" y="167"/>
                    </a:lnTo>
                    <a:cubicBezTo>
                      <a:pt x="247" y="167"/>
                      <a:pt x="241" y="162"/>
                      <a:pt x="241" y="155"/>
                    </a:cubicBezTo>
                    <a:cubicBezTo>
                      <a:pt x="241" y="148"/>
                      <a:pt x="247" y="142"/>
                      <a:pt x="254" y="142"/>
                    </a:cubicBezTo>
                    <a:lnTo>
                      <a:pt x="254" y="142"/>
                    </a:lnTo>
                    <a:cubicBezTo>
                      <a:pt x="261" y="142"/>
                      <a:pt x="266" y="148"/>
                      <a:pt x="266" y="155"/>
                    </a:cubicBezTo>
                    <a:cubicBezTo>
                      <a:pt x="266" y="162"/>
                      <a:pt x="261" y="167"/>
                      <a:pt x="254" y="167"/>
                    </a:cubicBezTo>
                    <a:close/>
                    <a:moveTo>
                      <a:pt x="204" y="167"/>
                    </a:moveTo>
                    <a:lnTo>
                      <a:pt x="204" y="167"/>
                    </a:lnTo>
                    <a:cubicBezTo>
                      <a:pt x="197" y="167"/>
                      <a:pt x="191" y="162"/>
                      <a:pt x="191" y="155"/>
                    </a:cubicBezTo>
                    <a:cubicBezTo>
                      <a:pt x="191" y="148"/>
                      <a:pt x="197" y="142"/>
                      <a:pt x="204" y="142"/>
                    </a:cubicBezTo>
                    <a:lnTo>
                      <a:pt x="204" y="142"/>
                    </a:lnTo>
                    <a:cubicBezTo>
                      <a:pt x="211" y="142"/>
                      <a:pt x="216" y="148"/>
                      <a:pt x="216" y="155"/>
                    </a:cubicBezTo>
                    <a:cubicBezTo>
                      <a:pt x="216" y="162"/>
                      <a:pt x="211" y="167"/>
                      <a:pt x="204" y="167"/>
                    </a:cubicBezTo>
                    <a:close/>
                    <a:moveTo>
                      <a:pt x="154" y="167"/>
                    </a:moveTo>
                    <a:lnTo>
                      <a:pt x="154" y="167"/>
                    </a:lnTo>
                    <a:cubicBezTo>
                      <a:pt x="147" y="167"/>
                      <a:pt x="141" y="162"/>
                      <a:pt x="141" y="155"/>
                    </a:cubicBezTo>
                    <a:cubicBezTo>
                      <a:pt x="141" y="148"/>
                      <a:pt x="147" y="142"/>
                      <a:pt x="154" y="142"/>
                    </a:cubicBezTo>
                    <a:lnTo>
                      <a:pt x="154" y="142"/>
                    </a:lnTo>
                    <a:cubicBezTo>
                      <a:pt x="161" y="142"/>
                      <a:pt x="166" y="148"/>
                      <a:pt x="166" y="155"/>
                    </a:cubicBezTo>
                    <a:cubicBezTo>
                      <a:pt x="166" y="162"/>
                      <a:pt x="161" y="167"/>
                      <a:pt x="154" y="167"/>
                    </a:cubicBezTo>
                    <a:close/>
                    <a:moveTo>
                      <a:pt x="104" y="167"/>
                    </a:moveTo>
                    <a:lnTo>
                      <a:pt x="104" y="167"/>
                    </a:lnTo>
                    <a:cubicBezTo>
                      <a:pt x="97" y="167"/>
                      <a:pt x="91" y="162"/>
                      <a:pt x="91" y="155"/>
                    </a:cubicBezTo>
                    <a:cubicBezTo>
                      <a:pt x="91" y="148"/>
                      <a:pt x="97" y="142"/>
                      <a:pt x="104" y="142"/>
                    </a:cubicBezTo>
                    <a:lnTo>
                      <a:pt x="104" y="142"/>
                    </a:lnTo>
                    <a:cubicBezTo>
                      <a:pt x="111" y="142"/>
                      <a:pt x="116" y="148"/>
                      <a:pt x="116" y="155"/>
                    </a:cubicBezTo>
                    <a:cubicBezTo>
                      <a:pt x="116" y="162"/>
                      <a:pt x="111" y="167"/>
                      <a:pt x="104" y="167"/>
                    </a:cubicBezTo>
                    <a:close/>
                    <a:moveTo>
                      <a:pt x="54" y="167"/>
                    </a:moveTo>
                    <a:lnTo>
                      <a:pt x="54" y="167"/>
                    </a:lnTo>
                    <a:cubicBezTo>
                      <a:pt x="47" y="167"/>
                      <a:pt x="41" y="162"/>
                      <a:pt x="41" y="155"/>
                    </a:cubicBezTo>
                    <a:cubicBezTo>
                      <a:pt x="41" y="148"/>
                      <a:pt x="47" y="142"/>
                      <a:pt x="54" y="142"/>
                    </a:cubicBezTo>
                    <a:lnTo>
                      <a:pt x="54" y="142"/>
                    </a:lnTo>
                    <a:cubicBezTo>
                      <a:pt x="61" y="142"/>
                      <a:pt x="66" y="148"/>
                      <a:pt x="66" y="155"/>
                    </a:cubicBezTo>
                    <a:cubicBezTo>
                      <a:pt x="66" y="162"/>
                      <a:pt x="61" y="167"/>
                      <a:pt x="54" y="167"/>
                    </a:cubicBezTo>
                    <a:close/>
                    <a:moveTo>
                      <a:pt x="25" y="163"/>
                    </a:moveTo>
                    <a:lnTo>
                      <a:pt x="25" y="163"/>
                    </a:lnTo>
                    <a:cubicBezTo>
                      <a:pt x="25" y="170"/>
                      <a:pt x="19" y="176"/>
                      <a:pt x="12" y="176"/>
                    </a:cubicBezTo>
                    <a:cubicBezTo>
                      <a:pt x="5" y="176"/>
                      <a:pt x="0" y="170"/>
                      <a:pt x="0" y="163"/>
                    </a:cubicBezTo>
                    <a:lnTo>
                      <a:pt x="0" y="163"/>
                    </a:lnTo>
                    <a:cubicBezTo>
                      <a:pt x="0" y="156"/>
                      <a:pt x="5" y="151"/>
                      <a:pt x="12" y="151"/>
                    </a:cubicBezTo>
                    <a:cubicBezTo>
                      <a:pt x="19" y="151"/>
                      <a:pt x="25" y="156"/>
                      <a:pt x="25" y="163"/>
                    </a:cubicBezTo>
                    <a:close/>
                    <a:moveTo>
                      <a:pt x="25" y="213"/>
                    </a:moveTo>
                    <a:lnTo>
                      <a:pt x="25" y="213"/>
                    </a:lnTo>
                    <a:cubicBezTo>
                      <a:pt x="25" y="220"/>
                      <a:pt x="19" y="226"/>
                      <a:pt x="12" y="226"/>
                    </a:cubicBezTo>
                    <a:cubicBezTo>
                      <a:pt x="5" y="226"/>
                      <a:pt x="0" y="220"/>
                      <a:pt x="0" y="213"/>
                    </a:cubicBezTo>
                    <a:lnTo>
                      <a:pt x="0" y="213"/>
                    </a:lnTo>
                    <a:cubicBezTo>
                      <a:pt x="0" y="206"/>
                      <a:pt x="5" y="201"/>
                      <a:pt x="12" y="201"/>
                    </a:cubicBezTo>
                    <a:cubicBezTo>
                      <a:pt x="19" y="201"/>
                      <a:pt x="25" y="206"/>
                      <a:pt x="25" y="213"/>
                    </a:cubicBezTo>
                    <a:close/>
                    <a:moveTo>
                      <a:pt x="25" y="263"/>
                    </a:moveTo>
                    <a:lnTo>
                      <a:pt x="25" y="263"/>
                    </a:lnTo>
                    <a:cubicBezTo>
                      <a:pt x="25" y="270"/>
                      <a:pt x="19" y="276"/>
                      <a:pt x="12" y="276"/>
                    </a:cubicBezTo>
                    <a:cubicBezTo>
                      <a:pt x="5" y="276"/>
                      <a:pt x="0" y="270"/>
                      <a:pt x="0" y="263"/>
                    </a:cubicBezTo>
                    <a:lnTo>
                      <a:pt x="0" y="263"/>
                    </a:lnTo>
                    <a:cubicBezTo>
                      <a:pt x="0" y="256"/>
                      <a:pt x="5" y="251"/>
                      <a:pt x="12" y="251"/>
                    </a:cubicBezTo>
                    <a:cubicBezTo>
                      <a:pt x="19" y="251"/>
                      <a:pt x="25" y="256"/>
                      <a:pt x="25" y="263"/>
                    </a:cubicBezTo>
                    <a:close/>
                    <a:moveTo>
                      <a:pt x="25" y="313"/>
                    </a:moveTo>
                    <a:lnTo>
                      <a:pt x="25" y="313"/>
                    </a:lnTo>
                    <a:cubicBezTo>
                      <a:pt x="25" y="320"/>
                      <a:pt x="19" y="326"/>
                      <a:pt x="12" y="326"/>
                    </a:cubicBezTo>
                    <a:cubicBezTo>
                      <a:pt x="5" y="326"/>
                      <a:pt x="0" y="320"/>
                      <a:pt x="0" y="313"/>
                    </a:cubicBezTo>
                    <a:lnTo>
                      <a:pt x="0" y="313"/>
                    </a:lnTo>
                    <a:cubicBezTo>
                      <a:pt x="0" y="306"/>
                      <a:pt x="5" y="301"/>
                      <a:pt x="12" y="301"/>
                    </a:cubicBezTo>
                    <a:cubicBezTo>
                      <a:pt x="19" y="301"/>
                      <a:pt x="25" y="306"/>
                      <a:pt x="25" y="3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48680" y="5816160"/>
                <a:ext cx="289800" cy="97200"/>
              </a:xfrm>
              <a:custGeom>
                <a:avLst/>
                <a:gdLst/>
                <a:ahLst/>
                <a:rect l="l" t="t" r="r" b="b"/>
                <a:pathLst>
                  <a:path w="224" h="72">
                    <a:moveTo>
                      <a:pt x="0" y="72"/>
                    </a:moveTo>
                    <a:lnTo>
                      <a:pt x="0" y="37"/>
                    </a:lnTo>
                    <a:lnTo>
                      <a:pt x="224" y="37"/>
                    </a:lnTo>
                    <a:lnTo>
                      <a:pt x="224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46880" y="6104880"/>
                <a:ext cx="287280" cy="93960"/>
              </a:xfrm>
              <a:custGeom>
                <a:avLst/>
                <a:gdLst/>
                <a:ahLst/>
                <a:rect l="l" t="t" r="r" b="b"/>
                <a:pathLst>
                  <a:path w="222" h="70">
                    <a:moveTo>
                      <a:pt x="222" y="70"/>
                    </a:moveTo>
                    <a:lnTo>
                      <a:pt x="222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2886120" y="5818680"/>
                <a:ext cx="0" cy="44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86120" y="6153480"/>
                <a:ext cx="0" cy="46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636280" y="581616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103" h="74">
                    <a:moveTo>
                      <a:pt x="103" y="74"/>
                    </a:moveTo>
                    <a:lnTo>
                      <a:pt x="103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637360" y="610488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103" h="74">
                    <a:moveTo>
                      <a:pt x="103" y="0"/>
                    </a:moveTo>
                    <a:lnTo>
                      <a:pt x="103" y="17"/>
                    </a:lnTo>
                    <a:lnTo>
                      <a:pt x="0" y="17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21520" y="6338160"/>
                <a:ext cx="47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631680" y="6338160"/>
                <a:ext cx="48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3578400" y="5685120"/>
                <a:ext cx="48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467880" y="5685120"/>
                <a:ext cx="46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3456720" y="5657040"/>
                <a:ext cx="216000" cy="93960"/>
                <a:chOff x="3456720" y="5657040"/>
                <a:chExt cx="216000" cy="939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3456720" y="5657040"/>
                  <a:ext cx="216000" cy="93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456720" y="5657040"/>
                  <a:ext cx="216000" cy="939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456720" y="6272280"/>
                <a:ext cx="216000" cy="95400"/>
                <a:chOff x="3456720" y="6272280"/>
                <a:chExt cx="216000" cy="95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456720" y="6272280"/>
                  <a:ext cx="216000" cy="9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56720" y="6272280"/>
                  <a:ext cx="216000" cy="954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564000" y="5779800"/>
                <a:ext cx="100440" cy="37440"/>
                <a:chOff x="3564000" y="5779800"/>
                <a:chExt cx="100440" cy="374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605040" y="5779800"/>
                  <a:ext cx="59400" cy="374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3564000" y="5792760"/>
                  <a:ext cx="37440" cy="7920"/>
                  <a:chOff x="3564000" y="5792760"/>
                  <a:chExt cx="37440" cy="79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>
                    <a:off x="3564000" y="5792760"/>
                    <a:ext cx="3744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3564000" y="5792760"/>
                    <a:ext cx="3744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4" name=""/>
              <p:cNvGrpSpPr/>
              <p:nvPr/>
            </p:nvGrpSpPr>
            <p:grpSpPr>
              <a:xfrm>
                <a:off x="3564000" y="6203520"/>
                <a:ext cx="100440" cy="37440"/>
                <a:chOff x="3564000" y="6203520"/>
                <a:chExt cx="100440" cy="374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3605040" y="6203520"/>
                  <a:ext cx="59400" cy="374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6" name=""/>
                <p:cNvGrpSpPr/>
                <p:nvPr/>
              </p:nvGrpSpPr>
              <p:grpSpPr>
                <a:xfrm>
                  <a:off x="3564000" y="6216840"/>
                  <a:ext cx="37440" cy="10440"/>
                  <a:chOff x="3564000" y="6216840"/>
                  <a:chExt cx="37440" cy="1044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3564000" y="6216840"/>
                    <a:ext cx="37440" cy="10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564000" y="6216840"/>
                    <a:ext cx="37440" cy="104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3489120" y="5770440"/>
                <a:ext cx="2160" cy="26640"/>
                <a:chOff x="3489120" y="5770440"/>
                <a:chExt cx="2160" cy="2664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489120" y="5770440"/>
                  <a:ext cx="2160" cy="26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489120" y="5770440"/>
                  <a:ext cx="2160" cy="266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490560" y="6226200"/>
                <a:ext cx="2520" cy="26640"/>
                <a:chOff x="3490560" y="6226200"/>
                <a:chExt cx="2520" cy="2664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3490560" y="6226200"/>
                  <a:ext cx="2520" cy="26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490560" y="6226200"/>
                  <a:ext cx="2520" cy="266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706560" y="6273360"/>
                <a:ext cx="214560" cy="96840"/>
                <a:chOff x="3706560" y="6273360"/>
                <a:chExt cx="214560" cy="9684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706560" y="6273360"/>
                  <a:ext cx="214560" cy="9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706560" y="6273360"/>
                  <a:ext cx="214560" cy="968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3706560" y="5655600"/>
                <a:ext cx="214560" cy="94320"/>
                <a:chOff x="3706560" y="5655600"/>
                <a:chExt cx="214560" cy="943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706560" y="5655600"/>
                  <a:ext cx="214560" cy="9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6560" y="5655600"/>
                  <a:ext cx="214560" cy="943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13840" y="5778360"/>
                <a:ext cx="100440" cy="37440"/>
                <a:chOff x="3813840" y="5778360"/>
                <a:chExt cx="100440" cy="374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854880" y="5778360"/>
                  <a:ext cx="59400" cy="374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813840" y="5791680"/>
                  <a:ext cx="37440" cy="7920"/>
                  <a:chOff x="3813840" y="5791680"/>
                  <a:chExt cx="37440" cy="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813840" y="5791680"/>
                    <a:ext cx="3744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813840" y="5791680"/>
                    <a:ext cx="3744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3809880" y="6206040"/>
                <a:ext cx="100800" cy="37800"/>
                <a:chOff x="3809880" y="6206040"/>
                <a:chExt cx="100800" cy="3780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851280" y="6206040"/>
                  <a:ext cx="59400" cy="37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809880" y="6220800"/>
                  <a:ext cx="37080" cy="8280"/>
                  <a:chOff x="3809880" y="6220800"/>
                  <a:chExt cx="37080" cy="8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3809880" y="6220800"/>
                    <a:ext cx="3708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809880" y="6220800"/>
                    <a:ext cx="37080" cy="82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209400" y="6273360"/>
                <a:ext cx="214560" cy="95400"/>
                <a:chOff x="3209400" y="6273360"/>
                <a:chExt cx="214560" cy="95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209400" y="6273360"/>
                  <a:ext cx="214560" cy="9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209400" y="6273360"/>
                  <a:ext cx="214560" cy="954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3209400" y="5654520"/>
                <a:ext cx="214560" cy="94320"/>
                <a:chOff x="3209400" y="5654520"/>
                <a:chExt cx="214560" cy="943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209400" y="5654520"/>
                  <a:ext cx="214560" cy="9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09400" y="5654520"/>
                  <a:ext cx="214560" cy="943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3317040" y="5776920"/>
                <a:ext cx="100440" cy="37800"/>
                <a:chOff x="3317040" y="5776920"/>
                <a:chExt cx="100440" cy="378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3357000" y="5776920"/>
                  <a:ext cx="60480" cy="37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3317040" y="5790240"/>
                  <a:ext cx="36000" cy="7920"/>
                  <a:chOff x="3317040" y="5790240"/>
                  <a:chExt cx="36000" cy="79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3317040" y="5790240"/>
                    <a:ext cx="360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317040" y="5790240"/>
                    <a:ext cx="3600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3313080" y="6204600"/>
                <a:ext cx="99000" cy="37800"/>
                <a:chOff x="3313080" y="6204600"/>
                <a:chExt cx="99000" cy="378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3353040" y="6204600"/>
                  <a:ext cx="59040" cy="378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3313080" y="6219360"/>
                  <a:ext cx="36000" cy="7920"/>
                  <a:chOff x="3313080" y="6219360"/>
                  <a:chExt cx="36000" cy="792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3313080" y="6219360"/>
                    <a:ext cx="360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3313080" y="6219360"/>
                    <a:ext cx="3600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7" name=""/>
              <p:cNvSpPr/>
              <p:nvPr/>
            </p:nvSpPr>
            <p:spPr>
              <a:xfrm>
                <a:off x="3524040" y="6013080"/>
                <a:ext cx="95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6200000">
                <a:off x="3538440" y="603360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200000">
                <a:off x="3538440" y="59299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17560" y="5921280"/>
                <a:ext cx="102960" cy="18468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485160" y="5797080"/>
                <a:ext cx="108720" cy="119880"/>
              </a:xfrm>
              <a:custGeom>
                <a:avLst/>
                <a:gdLst/>
                <a:ahLst/>
                <a:rect l="l" t="t" r="r" b="b"/>
                <a:pathLst>
                  <a:path w="342" h="358">
                    <a:moveTo>
                      <a:pt x="317" y="346"/>
                    </a:moveTo>
                    <a:lnTo>
                      <a:pt x="317" y="346"/>
                    </a:lnTo>
                    <a:cubicBezTo>
                      <a:pt x="317" y="339"/>
                      <a:pt x="323" y="333"/>
                      <a:pt x="329" y="333"/>
                    </a:cubicBezTo>
                    <a:cubicBezTo>
                      <a:pt x="336" y="333"/>
                      <a:pt x="342" y="339"/>
                      <a:pt x="342" y="346"/>
                    </a:cubicBezTo>
                    <a:lnTo>
                      <a:pt x="342" y="346"/>
                    </a:lnTo>
                    <a:cubicBezTo>
                      <a:pt x="342" y="353"/>
                      <a:pt x="336" y="358"/>
                      <a:pt x="329" y="358"/>
                    </a:cubicBezTo>
                    <a:cubicBezTo>
                      <a:pt x="323" y="358"/>
                      <a:pt x="317" y="353"/>
                      <a:pt x="317" y="346"/>
                    </a:cubicBezTo>
                    <a:close/>
                    <a:moveTo>
                      <a:pt x="317" y="296"/>
                    </a:moveTo>
                    <a:lnTo>
                      <a:pt x="317" y="296"/>
                    </a:lnTo>
                    <a:cubicBezTo>
                      <a:pt x="317" y="289"/>
                      <a:pt x="323" y="283"/>
                      <a:pt x="329" y="283"/>
                    </a:cubicBezTo>
                    <a:cubicBezTo>
                      <a:pt x="336" y="283"/>
                      <a:pt x="342" y="289"/>
                      <a:pt x="342" y="296"/>
                    </a:cubicBezTo>
                    <a:lnTo>
                      <a:pt x="342" y="296"/>
                    </a:lnTo>
                    <a:cubicBezTo>
                      <a:pt x="342" y="303"/>
                      <a:pt x="336" y="308"/>
                      <a:pt x="329" y="308"/>
                    </a:cubicBezTo>
                    <a:cubicBezTo>
                      <a:pt x="323" y="308"/>
                      <a:pt x="317" y="303"/>
                      <a:pt x="317" y="296"/>
                    </a:cubicBezTo>
                    <a:close/>
                    <a:moveTo>
                      <a:pt x="317" y="246"/>
                    </a:moveTo>
                    <a:lnTo>
                      <a:pt x="317" y="246"/>
                    </a:lnTo>
                    <a:cubicBezTo>
                      <a:pt x="317" y="239"/>
                      <a:pt x="323" y="233"/>
                      <a:pt x="329" y="233"/>
                    </a:cubicBezTo>
                    <a:cubicBezTo>
                      <a:pt x="336" y="233"/>
                      <a:pt x="342" y="239"/>
                      <a:pt x="342" y="246"/>
                    </a:cubicBezTo>
                    <a:lnTo>
                      <a:pt x="342" y="246"/>
                    </a:lnTo>
                    <a:cubicBezTo>
                      <a:pt x="342" y="253"/>
                      <a:pt x="336" y="258"/>
                      <a:pt x="329" y="258"/>
                    </a:cubicBezTo>
                    <a:cubicBezTo>
                      <a:pt x="323" y="258"/>
                      <a:pt x="317" y="253"/>
                      <a:pt x="317" y="246"/>
                    </a:cubicBezTo>
                    <a:close/>
                    <a:moveTo>
                      <a:pt x="321" y="217"/>
                    </a:moveTo>
                    <a:lnTo>
                      <a:pt x="321" y="217"/>
                    </a:lnTo>
                    <a:cubicBezTo>
                      <a:pt x="314" y="217"/>
                      <a:pt x="309" y="211"/>
                      <a:pt x="309" y="204"/>
                    </a:cubicBezTo>
                    <a:cubicBezTo>
                      <a:pt x="309" y="197"/>
                      <a:pt x="314" y="192"/>
                      <a:pt x="321" y="192"/>
                    </a:cubicBezTo>
                    <a:lnTo>
                      <a:pt x="321" y="192"/>
                    </a:lnTo>
                    <a:cubicBezTo>
                      <a:pt x="328" y="192"/>
                      <a:pt x="334" y="197"/>
                      <a:pt x="334" y="204"/>
                    </a:cubicBezTo>
                    <a:cubicBezTo>
                      <a:pt x="334" y="211"/>
                      <a:pt x="328" y="217"/>
                      <a:pt x="321" y="217"/>
                    </a:cubicBezTo>
                    <a:close/>
                    <a:moveTo>
                      <a:pt x="271" y="217"/>
                    </a:moveTo>
                    <a:lnTo>
                      <a:pt x="271" y="217"/>
                    </a:lnTo>
                    <a:cubicBezTo>
                      <a:pt x="264" y="217"/>
                      <a:pt x="259" y="211"/>
                      <a:pt x="259" y="204"/>
                    </a:cubicBezTo>
                    <a:cubicBezTo>
                      <a:pt x="259" y="197"/>
                      <a:pt x="264" y="192"/>
                      <a:pt x="271" y="192"/>
                    </a:cubicBezTo>
                    <a:lnTo>
                      <a:pt x="271" y="192"/>
                    </a:lnTo>
                    <a:cubicBezTo>
                      <a:pt x="278" y="192"/>
                      <a:pt x="284" y="197"/>
                      <a:pt x="284" y="204"/>
                    </a:cubicBezTo>
                    <a:cubicBezTo>
                      <a:pt x="284" y="211"/>
                      <a:pt x="278" y="217"/>
                      <a:pt x="271" y="217"/>
                    </a:cubicBezTo>
                    <a:close/>
                    <a:moveTo>
                      <a:pt x="221" y="217"/>
                    </a:moveTo>
                    <a:lnTo>
                      <a:pt x="221" y="217"/>
                    </a:lnTo>
                    <a:cubicBezTo>
                      <a:pt x="214" y="217"/>
                      <a:pt x="208" y="211"/>
                      <a:pt x="208" y="204"/>
                    </a:cubicBezTo>
                    <a:cubicBezTo>
                      <a:pt x="208" y="197"/>
                      <a:pt x="214" y="192"/>
                      <a:pt x="221" y="192"/>
                    </a:cubicBezTo>
                    <a:lnTo>
                      <a:pt x="221" y="192"/>
                    </a:lnTo>
                    <a:cubicBezTo>
                      <a:pt x="228" y="192"/>
                      <a:pt x="234" y="197"/>
                      <a:pt x="234" y="204"/>
                    </a:cubicBezTo>
                    <a:cubicBezTo>
                      <a:pt x="234" y="211"/>
                      <a:pt x="228" y="217"/>
                      <a:pt x="221" y="217"/>
                    </a:cubicBezTo>
                    <a:close/>
                    <a:moveTo>
                      <a:pt x="171" y="217"/>
                    </a:moveTo>
                    <a:lnTo>
                      <a:pt x="171" y="217"/>
                    </a:lnTo>
                    <a:cubicBezTo>
                      <a:pt x="164" y="217"/>
                      <a:pt x="158" y="211"/>
                      <a:pt x="158" y="204"/>
                    </a:cubicBezTo>
                    <a:cubicBezTo>
                      <a:pt x="158" y="197"/>
                      <a:pt x="164" y="192"/>
                      <a:pt x="171" y="192"/>
                    </a:cubicBezTo>
                    <a:lnTo>
                      <a:pt x="171" y="192"/>
                    </a:lnTo>
                    <a:cubicBezTo>
                      <a:pt x="178" y="192"/>
                      <a:pt x="183" y="197"/>
                      <a:pt x="183" y="204"/>
                    </a:cubicBezTo>
                    <a:cubicBezTo>
                      <a:pt x="183" y="211"/>
                      <a:pt x="178" y="217"/>
                      <a:pt x="171" y="217"/>
                    </a:cubicBezTo>
                    <a:close/>
                    <a:moveTo>
                      <a:pt x="121" y="217"/>
                    </a:moveTo>
                    <a:lnTo>
                      <a:pt x="121" y="217"/>
                    </a:lnTo>
                    <a:cubicBezTo>
                      <a:pt x="114" y="217"/>
                      <a:pt x="108" y="211"/>
                      <a:pt x="108" y="204"/>
                    </a:cubicBezTo>
                    <a:cubicBezTo>
                      <a:pt x="108" y="197"/>
                      <a:pt x="114" y="192"/>
                      <a:pt x="121" y="192"/>
                    </a:cubicBezTo>
                    <a:lnTo>
                      <a:pt x="121" y="192"/>
                    </a:lnTo>
                    <a:cubicBezTo>
                      <a:pt x="128" y="192"/>
                      <a:pt x="133" y="197"/>
                      <a:pt x="133" y="204"/>
                    </a:cubicBezTo>
                    <a:cubicBezTo>
                      <a:pt x="133" y="211"/>
                      <a:pt x="128" y="217"/>
                      <a:pt x="121" y="217"/>
                    </a:cubicBezTo>
                    <a:close/>
                    <a:moveTo>
                      <a:pt x="71" y="217"/>
                    </a:moveTo>
                    <a:lnTo>
                      <a:pt x="71" y="217"/>
                    </a:lnTo>
                    <a:cubicBezTo>
                      <a:pt x="64" y="217"/>
                      <a:pt x="58" y="211"/>
                      <a:pt x="58" y="204"/>
                    </a:cubicBezTo>
                    <a:cubicBezTo>
                      <a:pt x="58" y="197"/>
                      <a:pt x="64" y="192"/>
                      <a:pt x="71" y="192"/>
                    </a:cubicBezTo>
                    <a:lnTo>
                      <a:pt x="71" y="192"/>
                    </a:lnTo>
                    <a:cubicBezTo>
                      <a:pt x="78" y="192"/>
                      <a:pt x="83" y="197"/>
                      <a:pt x="83" y="204"/>
                    </a:cubicBezTo>
                    <a:cubicBezTo>
                      <a:pt x="83" y="211"/>
                      <a:pt x="78" y="217"/>
                      <a:pt x="71" y="217"/>
                    </a:cubicBezTo>
                    <a:close/>
                    <a:moveTo>
                      <a:pt x="21" y="217"/>
                    </a:moveTo>
                    <a:lnTo>
                      <a:pt x="21" y="217"/>
                    </a:lnTo>
                    <a:cubicBezTo>
                      <a:pt x="14" y="217"/>
                      <a:pt x="8" y="211"/>
                      <a:pt x="8" y="204"/>
                    </a:cubicBezTo>
                    <a:cubicBezTo>
                      <a:pt x="8" y="197"/>
                      <a:pt x="14" y="192"/>
                      <a:pt x="21" y="192"/>
                    </a:cubicBezTo>
                    <a:lnTo>
                      <a:pt x="21" y="192"/>
                    </a:lnTo>
                    <a:cubicBezTo>
                      <a:pt x="28" y="192"/>
                      <a:pt x="33" y="197"/>
                      <a:pt x="33" y="204"/>
                    </a:cubicBezTo>
                    <a:cubicBezTo>
                      <a:pt x="33" y="211"/>
                      <a:pt x="28" y="217"/>
                      <a:pt x="21" y="217"/>
                    </a:cubicBezTo>
                    <a:close/>
                    <a:moveTo>
                      <a:pt x="0" y="162"/>
                    </a:moveTo>
                    <a:lnTo>
                      <a:pt x="0" y="162"/>
                    </a:lnTo>
                    <a:cubicBezTo>
                      <a:pt x="0" y="155"/>
                      <a:pt x="6" y="150"/>
                      <a:pt x="13" y="150"/>
                    </a:cubicBezTo>
                    <a:cubicBezTo>
                      <a:pt x="20" y="150"/>
                      <a:pt x="25" y="155"/>
                      <a:pt x="25" y="162"/>
                    </a:cubicBezTo>
                    <a:lnTo>
                      <a:pt x="25" y="162"/>
                    </a:lnTo>
                    <a:cubicBezTo>
                      <a:pt x="25" y="169"/>
                      <a:pt x="20" y="175"/>
                      <a:pt x="13" y="175"/>
                    </a:cubicBezTo>
                    <a:cubicBezTo>
                      <a:pt x="6" y="175"/>
                      <a:pt x="0" y="169"/>
                      <a:pt x="0" y="162"/>
                    </a:cubicBezTo>
                    <a:close/>
                    <a:moveTo>
                      <a:pt x="0" y="112"/>
                    </a:moveTo>
                    <a:lnTo>
                      <a:pt x="0" y="112"/>
                    </a:lnTo>
                    <a:cubicBezTo>
                      <a:pt x="0" y="105"/>
                      <a:pt x="6" y="100"/>
                      <a:pt x="13" y="100"/>
                    </a:cubicBezTo>
                    <a:cubicBezTo>
                      <a:pt x="20" y="100"/>
                      <a:pt x="25" y="105"/>
                      <a:pt x="25" y="112"/>
                    </a:cubicBezTo>
                    <a:lnTo>
                      <a:pt x="25" y="112"/>
                    </a:lnTo>
                    <a:cubicBezTo>
                      <a:pt x="25" y="119"/>
                      <a:pt x="20" y="125"/>
                      <a:pt x="13" y="125"/>
                    </a:cubicBezTo>
                    <a:cubicBezTo>
                      <a:pt x="6" y="125"/>
                      <a:pt x="0" y="119"/>
                      <a:pt x="0" y="112"/>
                    </a:cubicBezTo>
                    <a:close/>
                    <a:moveTo>
                      <a:pt x="0" y="62"/>
                    </a:moveTo>
                    <a:lnTo>
                      <a:pt x="0" y="62"/>
                    </a:lnTo>
                    <a:cubicBezTo>
                      <a:pt x="0" y="55"/>
                      <a:pt x="6" y="50"/>
                      <a:pt x="13" y="50"/>
                    </a:cubicBezTo>
                    <a:cubicBezTo>
                      <a:pt x="20" y="50"/>
                      <a:pt x="25" y="55"/>
                      <a:pt x="25" y="62"/>
                    </a:cubicBezTo>
                    <a:lnTo>
                      <a:pt x="25" y="62"/>
                    </a:lnTo>
                    <a:cubicBezTo>
                      <a:pt x="25" y="69"/>
                      <a:pt x="20" y="75"/>
                      <a:pt x="13" y="75"/>
                    </a:cubicBezTo>
                    <a:cubicBezTo>
                      <a:pt x="6" y="75"/>
                      <a:pt x="0" y="69"/>
                      <a:pt x="0" y="62"/>
                    </a:cubicBezTo>
                    <a:close/>
                    <a:moveTo>
                      <a:pt x="0" y="12"/>
                    </a:moveTo>
                    <a:lnTo>
                      <a:pt x="0" y="12"/>
                    </a:lnTo>
                    <a:cubicBezTo>
                      <a:pt x="0" y="5"/>
                      <a:pt x="6" y="0"/>
                      <a:pt x="13" y="0"/>
                    </a:cubicBezTo>
                    <a:cubicBezTo>
                      <a:pt x="20" y="0"/>
                      <a:pt x="25" y="5"/>
                      <a:pt x="25" y="12"/>
                    </a:cubicBezTo>
                    <a:lnTo>
                      <a:pt x="25" y="12"/>
                    </a:lnTo>
                    <a:cubicBezTo>
                      <a:pt x="25" y="19"/>
                      <a:pt x="20" y="25"/>
                      <a:pt x="13" y="25"/>
                    </a:cubicBezTo>
                    <a:cubicBezTo>
                      <a:pt x="6" y="25"/>
                      <a:pt x="0" y="19"/>
                      <a:pt x="0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489120" y="6100920"/>
                <a:ext cx="102960" cy="107640"/>
              </a:xfrm>
              <a:custGeom>
                <a:avLst/>
                <a:gdLst/>
                <a:ahLst/>
                <a:rect l="l" t="t" r="r" b="b"/>
                <a:pathLst>
                  <a:path w="325" h="326">
                    <a:moveTo>
                      <a:pt x="325" y="13"/>
                    </a:moveTo>
                    <a:lnTo>
                      <a:pt x="325" y="13"/>
                    </a:lnTo>
                    <a:cubicBezTo>
                      <a:pt x="325" y="20"/>
                      <a:pt x="319" y="25"/>
                      <a:pt x="312" y="25"/>
                    </a:cubicBezTo>
                    <a:cubicBezTo>
                      <a:pt x="305" y="25"/>
                      <a:pt x="300" y="20"/>
                      <a:pt x="300" y="13"/>
                    </a:cubicBezTo>
                    <a:lnTo>
                      <a:pt x="300" y="13"/>
                    </a:lnTo>
                    <a:cubicBezTo>
                      <a:pt x="300" y="6"/>
                      <a:pt x="305" y="0"/>
                      <a:pt x="312" y="0"/>
                    </a:cubicBezTo>
                    <a:cubicBezTo>
                      <a:pt x="319" y="0"/>
                      <a:pt x="325" y="6"/>
                      <a:pt x="325" y="13"/>
                    </a:cubicBezTo>
                    <a:close/>
                    <a:moveTo>
                      <a:pt x="325" y="63"/>
                    </a:moveTo>
                    <a:lnTo>
                      <a:pt x="325" y="63"/>
                    </a:lnTo>
                    <a:cubicBezTo>
                      <a:pt x="325" y="70"/>
                      <a:pt x="319" y="76"/>
                      <a:pt x="312" y="76"/>
                    </a:cubicBezTo>
                    <a:cubicBezTo>
                      <a:pt x="305" y="76"/>
                      <a:pt x="300" y="70"/>
                      <a:pt x="300" y="63"/>
                    </a:cubicBezTo>
                    <a:lnTo>
                      <a:pt x="300" y="63"/>
                    </a:lnTo>
                    <a:cubicBezTo>
                      <a:pt x="300" y="56"/>
                      <a:pt x="305" y="50"/>
                      <a:pt x="312" y="50"/>
                    </a:cubicBezTo>
                    <a:cubicBezTo>
                      <a:pt x="319" y="50"/>
                      <a:pt x="325" y="56"/>
                      <a:pt x="325" y="63"/>
                    </a:cubicBezTo>
                    <a:close/>
                    <a:moveTo>
                      <a:pt x="325" y="113"/>
                    </a:moveTo>
                    <a:lnTo>
                      <a:pt x="325" y="113"/>
                    </a:lnTo>
                    <a:cubicBezTo>
                      <a:pt x="325" y="120"/>
                      <a:pt x="319" y="126"/>
                      <a:pt x="312" y="126"/>
                    </a:cubicBezTo>
                    <a:cubicBezTo>
                      <a:pt x="305" y="126"/>
                      <a:pt x="300" y="120"/>
                      <a:pt x="300" y="113"/>
                    </a:cubicBezTo>
                    <a:lnTo>
                      <a:pt x="300" y="113"/>
                    </a:lnTo>
                    <a:cubicBezTo>
                      <a:pt x="300" y="106"/>
                      <a:pt x="305" y="101"/>
                      <a:pt x="312" y="101"/>
                    </a:cubicBezTo>
                    <a:cubicBezTo>
                      <a:pt x="319" y="101"/>
                      <a:pt x="325" y="106"/>
                      <a:pt x="325" y="113"/>
                    </a:cubicBezTo>
                    <a:close/>
                    <a:moveTo>
                      <a:pt x="304" y="167"/>
                    </a:moveTo>
                    <a:lnTo>
                      <a:pt x="304" y="167"/>
                    </a:lnTo>
                    <a:cubicBezTo>
                      <a:pt x="297" y="167"/>
                      <a:pt x="291" y="162"/>
                      <a:pt x="291" y="155"/>
                    </a:cubicBezTo>
                    <a:cubicBezTo>
                      <a:pt x="291" y="148"/>
                      <a:pt x="297" y="142"/>
                      <a:pt x="304" y="142"/>
                    </a:cubicBezTo>
                    <a:lnTo>
                      <a:pt x="304" y="142"/>
                    </a:lnTo>
                    <a:cubicBezTo>
                      <a:pt x="311" y="142"/>
                      <a:pt x="316" y="148"/>
                      <a:pt x="316" y="155"/>
                    </a:cubicBezTo>
                    <a:cubicBezTo>
                      <a:pt x="316" y="162"/>
                      <a:pt x="311" y="167"/>
                      <a:pt x="304" y="167"/>
                    </a:cubicBezTo>
                    <a:close/>
                    <a:moveTo>
                      <a:pt x="254" y="167"/>
                    </a:moveTo>
                    <a:lnTo>
                      <a:pt x="254" y="167"/>
                    </a:lnTo>
                    <a:cubicBezTo>
                      <a:pt x="247" y="167"/>
                      <a:pt x="241" y="162"/>
                      <a:pt x="241" y="155"/>
                    </a:cubicBezTo>
                    <a:cubicBezTo>
                      <a:pt x="241" y="148"/>
                      <a:pt x="247" y="142"/>
                      <a:pt x="254" y="142"/>
                    </a:cubicBezTo>
                    <a:lnTo>
                      <a:pt x="254" y="142"/>
                    </a:lnTo>
                    <a:cubicBezTo>
                      <a:pt x="261" y="142"/>
                      <a:pt x="266" y="148"/>
                      <a:pt x="266" y="155"/>
                    </a:cubicBezTo>
                    <a:cubicBezTo>
                      <a:pt x="266" y="162"/>
                      <a:pt x="261" y="167"/>
                      <a:pt x="254" y="167"/>
                    </a:cubicBezTo>
                    <a:close/>
                    <a:moveTo>
                      <a:pt x="204" y="167"/>
                    </a:moveTo>
                    <a:lnTo>
                      <a:pt x="204" y="167"/>
                    </a:lnTo>
                    <a:cubicBezTo>
                      <a:pt x="197" y="167"/>
                      <a:pt x="191" y="162"/>
                      <a:pt x="191" y="155"/>
                    </a:cubicBezTo>
                    <a:cubicBezTo>
                      <a:pt x="191" y="148"/>
                      <a:pt x="197" y="142"/>
                      <a:pt x="204" y="142"/>
                    </a:cubicBezTo>
                    <a:lnTo>
                      <a:pt x="204" y="142"/>
                    </a:lnTo>
                    <a:cubicBezTo>
                      <a:pt x="211" y="142"/>
                      <a:pt x="216" y="148"/>
                      <a:pt x="216" y="155"/>
                    </a:cubicBezTo>
                    <a:cubicBezTo>
                      <a:pt x="216" y="162"/>
                      <a:pt x="211" y="167"/>
                      <a:pt x="204" y="167"/>
                    </a:cubicBezTo>
                    <a:close/>
                    <a:moveTo>
                      <a:pt x="154" y="167"/>
                    </a:moveTo>
                    <a:lnTo>
                      <a:pt x="154" y="167"/>
                    </a:lnTo>
                    <a:cubicBezTo>
                      <a:pt x="147" y="167"/>
                      <a:pt x="141" y="162"/>
                      <a:pt x="141" y="155"/>
                    </a:cubicBezTo>
                    <a:cubicBezTo>
                      <a:pt x="141" y="148"/>
                      <a:pt x="147" y="142"/>
                      <a:pt x="154" y="142"/>
                    </a:cubicBezTo>
                    <a:lnTo>
                      <a:pt x="154" y="142"/>
                    </a:lnTo>
                    <a:cubicBezTo>
                      <a:pt x="161" y="142"/>
                      <a:pt x="166" y="148"/>
                      <a:pt x="166" y="155"/>
                    </a:cubicBezTo>
                    <a:cubicBezTo>
                      <a:pt x="166" y="162"/>
                      <a:pt x="161" y="167"/>
                      <a:pt x="154" y="167"/>
                    </a:cubicBezTo>
                    <a:close/>
                    <a:moveTo>
                      <a:pt x="104" y="167"/>
                    </a:moveTo>
                    <a:lnTo>
                      <a:pt x="104" y="167"/>
                    </a:lnTo>
                    <a:cubicBezTo>
                      <a:pt x="97" y="167"/>
                      <a:pt x="91" y="162"/>
                      <a:pt x="91" y="155"/>
                    </a:cubicBezTo>
                    <a:cubicBezTo>
                      <a:pt x="91" y="148"/>
                      <a:pt x="97" y="142"/>
                      <a:pt x="104" y="142"/>
                    </a:cubicBezTo>
                    <a:lnTo>
                      <a:pt x="104" y="142"/>
                    </a:lnTo>
                    <a:cubicBezTo>
                      <a:pt x="111" y="142"/>
                      <a:pt x="116" y="148"/>
                      <a:pt x="116" y="155"/>
                    </a:cubicBezTo>
                    <a:cubicBezTo>
                      <a:pt x="116" y="162"/>
                      <a:pt x="111" y="167"/>
                      <a:pt x="104" y="167"/>
                    </a:cubicBezTo>
                    <a:close/>
                    <a:moveTo>
                      <a:pt x="54" y="167"/>
                    </a:moveTo>
                    <a:lnTo>
                      <a:pt x="54" y="167"/>
                    </a:lnTo>
                    <a:cubicBezTo>
                      <a:pt x="47" y="167"/>
                      <a:pt x="41" y="162"/>
                      <a:pt x="41" y="155"/>
                    </a:cubicBezTo>
                    <a:cubicBezTo>
                      <a:pt x="41" y="148"/>
                      <a:pt x="47" y="142"/>
                      <a:pt x="54" y="142"/>
                    </a:cubicBezTo>
                    <a:lnTo>
                      <a:pt x="54" y="142"/>
                    </a:lnTo>
                    <a:cubicBezTo>
                      <a:pt x="61" y="142"/>
                      <a:pt x="66" y="148"/>
                      <a:pt x="66" y="155"/>
                    </a:cubicBezTo>
                    <a:cubicBezTo>
                      <a:pt x="66" y="162"/>
                      <a:pt x="61" y="167"/>
                      <a:pt x="54" y="167"/>
                    </a:cubicBezTo>
                    <a:close/>
                    <a:moveTo>
                      <a:pt x="25" y="163"/>
                    </a:moveTo>
                    <a:lnTo>
                      <a:pt x="25" y="163"/>
                    </a:lnTo>
                    <a:cubicBezTo>
                      <a:pt x="25" y="170"/>
                      <a:pt x="19" y="176"/>
                      <a:pt x="12" y="176"/>
                    </a:cubicBezTo>
                    <a:cubicBezTo>
                      <a:pt x="5" y="176"/>
                      <a:pt x="0" y="170"/>
                      <a:pt x="0" y="163"/>
                    </a:cubicBezTo>
                    <a:lnTo>
                      <a:pt x="0" y="163"/>
                    </a:lnTo>
                    <a:cubicBezTo>
                      <a:pt x="0" y="156"/>
                      <a:pt x="5" y="151"/>
                      <a:pt x="12" y="151"/>
                    </a:cubicBezTo>
                    <a:cubicBezTo>
                      <a:pt x="19" y="151"/>
                      <a:pt x="25" y="156"/>
                      <a:pt x="25" y="163"/>
                    </a:cubicBezTo>
                    <a:close/>
                    <a:moveTo>
                      <a:pt x="25" y="213"/>
                    </a:moveTo>
                    <a:lnTo>
                      <a:pt x="25" y="213"/>
                    </a:lnTo>
                    <a:cubicBezTo>
                      <a:pt x="25" y="220"/>
                      <a:pt x="19" y="226"/>
                      <a:pt x="12" y="226"/>
                    </a:cubicBezTo>
                    <a:cubicBezTo>
                      <a:pt x="5" y="226"/>
                      <a:pt x="0" y="220"/>
                      <a:pt x="0" y="213"/>
                    </a:cubicBezTo>
                    <a:lnTo>
                      <a:pt x="0" y="213"/>
                    </a:lnTo>
                    <a:cubicBezTo>
                      <a:pt x="0" y="206"/>
                      <a:pt x="5" y="201"/>
                      <a:pt x="12" y="201"/>
                    </a:cubicBezTo>
                    <a:cubicBezTo>
                      <a:pt x="19" y="201"/>
                      <a:pt x="25" y="206"/>
                      <a:pt x="25" y="213"/>
                    </a:cubicBezTo>
                    <a:close/>
                    <a:moveTo>
                      <a:pt x="25" y="263"/>
                    </a:moveTo>
                    <a:lnTo>
                      <a:pt x="25" y="263"/>
                    </a:lnTo>
                    <a:cubicBezTo>
                      <a:pt x="25" y="270"/>
                      <a:pt x="19" y="276"/>
                      <a:pt x="12" y="276"/>
                    </a:cubicBezTo>
                    <a:cubicBezTo>
                      <a:pt x="5" y="276"/>
                      <a:pt x="0" y="270"/>
                      <a:pt x="0" y="263"/>
                    </a:cubicBezTo>
                    <a:lnTo>
                      <a:pt x="0" y="263"/>
                    </a:lnTo>
                    <a:cubicBezTo>
                      <a:pt x="0" y="256"/>
                      <a:pt x="5" y="251"/>
                      <a:pt x="12" y="251"/>
                    </a:cubicBezTo>
                    <a:cubicBezTo>
                      <a:pt x="19" y="251"/>
                      <a:pt x="25" y="256"/>
                      <a:pt x="25" y="263"/>
                    </a:cubicBezTo>
                    <a:close/>
                    <a:moveTo>
                      <a:pt x="25" y="313"/>
                    </a:moveTo>
                    <a:lnTo>
                      <a:pt x="25" y="313"/>
                    </a:lnTo>
                    <a:cubicBezTo>
                      <a:pt x="25" y="320"/>
                      <a:pt x="19" y="326"/>
                      <a:pt x="12" y="326"/>
                    </a:cubicBezTo>
                    <a:cubicBezTo>
                      <a:pt x="5" y="326"/>
                      <a:pt x="0" y="320"/>
                      <a:pt x="0" y="313"/>
                    </a:cubicBezTo>
                    <a:lnTo>
                      <a:pt x="0" y="313"/>
                    </a:lnTo>
                    <a:cubicBezTo>
                      <a:pt x="0" y="306"/>
                      <a:pt x="5" y="301"/>
                      <a:pt x="12" y="301"/>
                    </a:cubicBezTo>
                    <a:cubicBezTo>
                      <a:pt x="19" y="301"/>
                      <a:pt x="25" y="306"/>
                      <a:pt x="25" y="313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608280" y="5816160"/>
                <a:ext cx="289800" cy="97200"/>
              </a:xfrm>
              <a:custGeom>
                <a:avLst/>
                <a:gdLst/>
                <a:ahLst/>
                <a:rect l="l" t="t" r="r" b="b"/>
                <a:pathLst>
                  <a:path w="224" h="72">
                    <a:moveTo>
                      <a:pt x="0" y="72"/>
                    </a:moveTo>
                    <a:lnTo>
                      <a:pt x="0" y="37"/>
                    </a:lnTo>
                    <a:lnTo>
                      <a:pt x="224" y="37"/>
                    </a:lnTo>
                    <a:lnTo>
                      <a:pt x="224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06840" y="6104880"/>
                <a:ext cx="287280" cy="93960"/>
              </a:xfrm>
              <a:custGeom>
                <a:avLst/>
                <a:gdLst/>
                <a:ahLst/>
                <a:rect l="l" t="t" r="r" b="b"/>
                <a:pathLst>
                  <a:path w="222" h="70">
                    <a:moveTo>
                      <a:pt x="222" y="70"/>
                    </a:moveTo>
                    <a:lnTo>
                      <a:pt x="222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3645720" y="5818680"/>
                <a:ext cx="0" cy="44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45720" y="6153480"/>
                <a:ext cx="0" cy="46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95880" y="581616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103" h="74">
                    <a:moveTo>
                      <a:pt x="103" y="74"/>
                    </a:moveTo>
                    <a:lnTo>
                      <a:pt x="103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396960" y="610488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103" h="74">
                    <a:moveTo>
                      <a:pt x="103" y="0"/>
                    </a:moveTo>
                    <a:lnTo>
                      <a:pt x="103" y="17"/>
                    </a:lnTo>
                    <a:lnTo>
                      <a:pt x="0" y="17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250920" y="5081760"/>
            <a:ext cx="1873080" cy="578880"/>
            <a:chOff x="250920" y="5081760"/>
            <a:chExt cx="1873080" cy="578880"/>
          </a:xfrm>
        </p:grpSpPr>
        <p:sp>
          <p:nvSpPr>
            <p:cNvPr id="570" name=""/>
            <p:cNvSpPr/>
            <p:nvPr/>
          </p:nvSpPr>
          <p:spPr>
            <a:xfrm>
              <a:off x="1146240" y="5472000"/>
              <a:ext cx="208080" cy="1886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8600" y="5464080"/>
              <a:ext cx="1440" cy="18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250920" y="5429160"/>
              <a:ext cx="1185840" cy="26640"/>
              <a:chOff x="250920" y="5429160"/>
              <a:chExt cx="1185840" cy="26640"/>
            </a:xfrm>
          </p:grpSpPr>
          <p:sp>
            <p:nvSpPr>
              <p:cNvPr id="573" name=""/>
              <p:cNvSpPr/>
              <p:nvPr/>
            </p:nvSpPr>
            <p:spPr>
              <a:xfrm>
                <a:off x="250920" y="5429160"/>
                <a:ext cx="118584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0920" y="5429160"/>
                <a:ext cx="1185840" cy="2664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924120" y="5472000"/>
              <a:ext cx="207720" cy="1886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200" y="5470200"/>
              <a:ext cx="206280" cy="1872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3920" y="5503680"/>
              <a:ext cx="51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     2     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39960" y="5081760"/>
              <a:ext cx="1171440" cy="36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4"/>
            <a:stretch/>
          </p:blipFill>
          <p:spPr>
            <a:xfrm>
              <a:off x="938160" y="5081760"/>
              <a:ext cx="117180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833840" y="5470200"/>
              <a:ext cx="207720" cy="1886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938160" y="5427360"/>
              <a:ext cx="1185840" cy="26640"/>
              <a:chOff x="938160" y="5427360"/>
              <a:chExt cx="1185840" cy="26640"/>
            </a:xfrm>
          </p:grpSpPr>
          <p:sp>
            <p:nvSpPr>
              <p:cNvPr id="582" name=""/>
              <p:cNvSpPr/>
              <p:nvPr/>
            </p:nvSpPr>
            <p:spPr>
              <a:xfrm>
                <a:off x="938160" y="5427360"/>
                <a:ext cx="118584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38160" y="5427360"/>
                <a:ext cx="1185840" cy="2664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1611360" y="5470200"/>
              <a:ext cx="208080" cy="1886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87440" y="5468760"/>
              <a:ext cx="206640" cy="1868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51160" y="5502240"/>
              <a:ext cx="517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     5      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250920" y="5083200"/>
              <a:ext cx="1872720" cy="366120"/>
              <a:chOff x="250920" y="5083200"/>
              <a:chExt cx="1872720" cy="366120"/>
            </a:xfrm>
          </p:grpSpPr>
          <p:sp>
            <p:nvSpPr>
              <p:cNvPr id="588" name=""/>
              <p:cNvSpPr/>
              <p:nvPr/>
            </p:nvSpPr>
            <p:spPr>
              <a:xfrm>
                <a:off x="253080" y="5083200"/>
                <a:ext cx="1870560" cy="36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5083200"/>
                <a:ext cx="1870560" cy="36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"/>
              <p:cNvSpPr/>
              <p:nvPr/>
            </p:nvSpPr>
            <p:spPr>
              <a:xfrm>
                <a:off x="253080" y="5083200"/>
                <a:ext cx="1870560" cy="366120"/>
              </a:xfrm>
              <a:prstGeom prst="rect">
                <a:avLst/>
              </a:prstGeom>
              <a:noFill/>
              <a:ln cap="rnd"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"/>
          <p:cNvGrpSpPr/>
          <p:nvPr/>
        </p:nvGrpSpPr>
        <p:grpSpPr>
          <a:xfrm>
            <a:off x="395280" y="4073400"/>
            <a:ext cx="1655640" cy="579240"/>
            <a:chOff x="395280" y="4073400"/>
            <a:chExt cx="1655640" cy="579240"/>
          </a:xfrm>
        </p:grpSpPr>
        <p:grpSp>
          <p:nvGrpSpPr>
            <p:cNvPr id="592" name=""/>
            <p:cNvGrpSpPr/>
            <p:nvPr/>
          </p:nvGrpSpPr>
          <p:grpSpPr>
            <a:xfrm>
              <a:off x="395280" y="4075200"/>
              <a:ext cx="1185840" cy="577440"/>
              <a:chOff x="395280" y="4075200"/>
              <a:chExt cx="1185840" cy="57744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395280" y="4075200"/>
                <a:ext cx="1172880" cy="366480"/>
                <a:chOff x="395280" y="4075200"/>
                <a:chExt cx="1172880" cy="36648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96720" y="4075200"/>
                  <a:ext cx="1171440" cy="366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5280" y="4075200"/>
                  <a:ext cx="1171440" cy="36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6" name=""/>
                <p:cNvSpPr/>
                <p:nvPr/>
              </p:nvSpPr>
              <p:spPr>
                <a:xfrm>
                  <a:off x="396720" y="4075200"/>
                  <a:ext cx="1171440" cy="366480"/>
                </a:xfrm>
                <a:prstGeom prst="rect">
                  <a:avLst/>
                </a:prstGeom>
                <a:noFill/>
                <a:ln cap="rnd"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1290600" y="4464000"/>
                <a:ext cx="208080" cy="188640"/>
              </a:xfrm>
              <a:prstGeom prst="ellipse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42960" y="4456080"/>
                <a:ext cx="1800" cy="182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395280" y="4421160"/>
                <a:ext cx="1185840" cy="26640"/>
                <a:chOff x="395280" y="4421160"/>
                <a:chExt cx="1185840" cy="2664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95280" y="4421160"/>
                  <a:ext cx="1185840" cy="26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95280" y="4421160"/>
                  <a:ext cx="1185840" cy="266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1068480" y="4464000"/>
                <a:ext cx="208080" cy="188640"/>
              </a:xfrm>
              <a:prstGeom prst="ellipse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44560" y="4462200"/>
                <a:ext cx="206640" cy="187200"/>
              </a:xfrm>
              <a:prstGeom prst="ellipse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8280" y="4495680"/>
                <a:ext cx="517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      2      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395280" y="4073400"/>
              <a:ext cx="1642320" cy="366840"/>
              <a:chOff x="395280" y="4073400"/>
              <a:chExt cx="1642320" cy="366840"/>
            </a:xfrm>
          </p:grpSpPr>
          <p:sp>
            <p:nvSpPr>
              <p:cNvPr id="606" name=""/>
              <p:cNvSpPr/>
              <p:nvPr/>
            </p:nvSpPr>
            <p:spPr>
              <a:xfrm>
                <a:off x="397080" y="4073400"/>
                <a:ext cx="164052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5280" y="4073400"/>
                <a:ext cx="1640520" cy="36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397080" y="4073400"/>
                <a:ext cx="1640520" cy="366840"/>
              </a:xfrm>
              <a:prstGeom prst="rect">
                <a:avLst/>
              </a:prstGeom>
              <a:noFill/>
              <a:ln cap="rnd"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60400" y="4462200"/>
              <a:ext cx="208080" cy="1890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865080" y="4419360"/>
              <a:ext cx="1185840" cy="27000"/>
              <a:chOff x="865080" y="4419360"/>
              <a:chExt cx="1185840" cy="27000"/>
            </a:xfrm>
          </p:grpSpPr>
          <p:sp>
            <p:nvSpPr>
              <p:cNvPr id="611" name=""/>
              <p:cNvSpPr/>
              <p:nvPr/>
            </p:nvSpPr>
            <p:spPr>
              <a:xfrm>
                <a:off x="865080" y="4419360"/>
                <a:ext cx="11858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65080" y="4419360"/>
                <a:ext cx="1185840" cy="2700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1538280" y="4462200"/>
              <a:ext cx="208080" cy="1890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77360" y="4494240"/>
              <a:ext cx="51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    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5280" y="443376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785840" y="4081320"/>
            <a:ext cx="1657080" cy="779760"/>
            <a:chOff x="4785840" y="4081320"/>
            <a:chExt cx="1657080" cy="779760"/>
          </a:xfrm>
        </p:grpSpPr>
        <p:sp>
          <p:nvSpPr>
            <p:cNvPr id="617" name=""/>
            <p:cNvSpPr/>
            <p:nvPr/>
          </p:nvSpPr>
          <p:spPr>
            <a:xfrm>
              <a:off x="5921280" y="4465440"/>
              <a:ext cx="204840" cy="18576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4785840" y="4449600"/>
              <a:ext cx="235080" cy="1684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64120" y="4465440"/>
              <a:ext cx="203040" cy="18576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36480" y="449568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65040" y="4495680"/>
              <a:ext cx="28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     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78280" y="4467240"/>
              <a:ext cx="204840" cy="18576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57800" y="4465440"/>
              <a:ext cx="204840" cy="18576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03640" y="4081320"/>
              <a:ext cx="1439280" cy="366840"/>
              <a:chOff x="5003640" y="4081320"/>
              <a:chExt cx="1439280" cy="366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011560" y="4081320"/>
                <a:ext cx="1421640" cy="363600"/>
                <a:chOff x="5011560" y="4081320"/>
                <a:chExt cx="1421640" cy="36360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011560" y="4081320"/>
                  <a:ext cx="1421640" cy="36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2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11560" y="4081320"/>
                  <a:ext cx="1421640" cy="36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8" name=""/>
                <p:cNvSpPr/>
                <p:nvPr/>
              </p:nvSpPr>
              <p:spPr>
                <a:xfrm>
                  <a:off x="5011560" y="4081320"/>
                  <a:ext cx="1421640" cy="362160"/>
                </a:xfrm>
                <a:prstGeom prst="rect">
                  <a:avLst/>
                </a:prstGeom>
                <a:noFill/>
                <a:ln cap="rnd"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003640" y="4424400"/>
                <a:ext cx="1439280" cy="23760"/>
                <a:chOff x="5003640" y="4424400"/>
                <a:chExt cx="1439280" cy="2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003640" y="4424400"/>
                  <a:ext cx="143928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003640" y="4424400"/>
                  <a:ext cx="1439280" cy="237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2" name=""/>
            <p:cNvSpPr/>
            <p:nvPr/>
          </p:nvSpPr>
          <p:spPr>
            <a:xfrm>
              <a:off x="5300640" y="4465440"/>
              <a:ext cx="203040" cy="18576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5160" y="4495680"/>
              <a:ext cx="131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00840" y="449568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900680" y="3144960"/>
            <a:ext cx="1399680" cy="570960"/>
            <a:chOff x="4900680" y="3144960"/>
            <a:chExt cx="1399680" cy="570960"/>
          </a:xfrm>
        </p:grpSpPr>
        <p:grpSp>
          <p:nvGrpSpPr>
            <p:cNvPr id="636" name=""/>
            <p:cNvGrpSpPr/>
            <p:nvPr/>
          </p:nvGrpSpPr>
          <p:grpSpPr>
            <a:xfrm>
              <a:off x="4900680" y="3144960"/>
              <a:ext cx="1399680" cy="570960"/>
              <a:chOff x="4900680" y="3144960"/>
              <a:chExt cx="1399680" cy="57096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5135400" y="3144960"/>
                <a:ext cx="1157040" cy="363240"/>
                <a:chOff x="5135400" y="3144960"/>
                <a:chExt cx="1157040" cy="36324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5135400" y="3144960"/>
                  <a:ext cx="1157040" cy="361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3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135400" y="3144960"/>
                  <a:ext cx="1157040" cy="36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0" name=""/>
                <p:cNvSpPr/>
                <p:nvPr/>
              </p:nvSpPr>
              <p:spPr>
                <a:xfrm>
                  <a:off x="5135400" y="3144960"/>
                  <a:ext cx="1157040" cy="361800"/>
                </a:xfrm>
                <a:prstGeom prst="rect">
                  <a:avLst/>
                </a:prstGeom>
                <a:noFill/>
                <a:ln cap="rnd"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6035400" y="3529080"/>
                <a:ext cx="204480" cy="185040"/>
              </a:xfrm>
              <a:prstGeom prst="ellipse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900680" y="3512880"/>
                <a:ext cx="234720" cy="16812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5128920" y="3487680"/>
                <a:ext cx="1171440" cy="23400"/>
                <a:chOff x="5128920" y="3487680"/>
                <a:chExt cx="1171440" cy="234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5128920" y="3487680"/>
                  <a:ext cx="117144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128920" y="3487680"/>
                  <a:ext cx="1171440" cy="234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5178240" y="3529080"/>
                <a:ext cx="203040" cy="185040"/>
              </a:xfrm>
              <a:prstGeom prst="ellipse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250600" y="3558960"/>
                <a:ext cx="404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     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79160" y="3558960"/>
                <a:ext cx="287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      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92760" y="3530520"/>
                <a:ext cx="204480" cy="185400"/>
              </a:xfrm>
              <a:prstGeom prst="ellipse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5414760" y="3528720"/>
              <a:ext cx="203040" cy="1854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87120" y="3558960"/>
              <a:ext cx="40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16400" y="355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643280" y="5089680"/>
            <a:ext cx="1944000" cy="570960"/>
            <a:chOff x="4643280" y="5089680"/>
            <a:chExt cx="1944000" cy="570960"/>
          </a:xfrm>
        </p:grpSpPr>
        <p:sp>
          <p:nvSpPr>
            <p:cNvPr id="654" name=""/>
            <p:cNvSpPr/>
            <p:nvPr/>
          </p:nvSpPr>
          <p:spPr>
            <a:xfrm>
              <a:off x="5176440" y="5473800"/>
              <a:ext cx="203400" cy="185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10080" y="5473800"/>
              <a:ext cx="204840" cy="185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53840" y="5503680"/>
              <a:ext cx="28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      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82920" y="5475240"/>
              <a:ext cx="204840" cy="1854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06800" y="5473800"/>
              <a:ext cx="204840" cy="185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643280" y="5457600"/>
              <a:ext cx="234720" cy="168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4871880" y="5089680"/>
              <a:ext cx="1715400" cy="366120"/>
              <a:chOff x="4871880" y="5089680"/>
              <a:chExt cx="1715400" cy="36612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4880520" y="5089680"/>
                <a:ext cx="1694880" cy="363240"/>
                <a:chOff x="4880520" y="5089680"/>
                <a:chExt cx="1694880" cy="36324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880520" y="5089680"/>
                  <a:ext cx="1694880" cy="361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880520" y="5089680"/>
                  <a:ext cx="1694880" cy="36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4" name=""/>
                <p:cNvSpPr/>
                <p:nvPr/>
              </p:nvSpPr>
              <p:spPr>
                <a:xfrm>
                  <a:off x="4880520" y="5089680"/>
                  <a:ext cx="1694880" cy="361800"/>
                </a:xfrm>
                <a:prstGeom prst="rect">
                  <a:avLst/>
                </a:prstGeom>
                <a:noFill/>
                <a:ln cap="rnd"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71880" y="5432400"/>
                <a:ext cx="1715400" cy="23400"/>
                <a:chOff x="4871880" y="5432400"/>
                <a:chExt cx="1715400" cy="23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871880" y="5432400"/>
                  <a:ext cx="1715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871880" y="5432400"/>
                  <a:ext cx="1715400" cy="234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8" name=""/>
            <p:cNvSpPr/>
            <p:nvPr/>
          </p:nvSpPr>
          <p:spPr>
            <a:xfrm>
              <a:off x="4920840" y="5473800"/>
              <a:ext cx="203400" cy="185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95000" y="550368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     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52000" y="5503680"/>
              <a:ext cx="28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     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79640" y="5475240"/>
              <a:ext cx="204840" cy="18540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732720" y="3052800"/>
            <a:ext cx="1799640" cy="972360"/>
            <a:chOff x="6732720" y="3052800"/>
            <a:chExt cx="1799640" cy="972360"/>
          </a:xfrm>
        </p:grpSpPr>
        <p:sp>
          <p:nvSpPr>
            <p:cNvPr id="673" name=""/>
            <p:cNvSpPr/>
            <p:nvPr/>
          </p:nvSpPr>
          <p:spPr>
            <a:xfrm flipH="1">
              <a:off x="7138800" y="3841920"/>
              <a:ext cx="1278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s 2 and 3 may be a lifting axle.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s 2 and 3 may be a steering ax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6732720" y="3052800"/>
              <a:ext cx="1799640" cy="726840"/>
              <a:chOff x="6732720" y="3052800"/>
              <a:chExt cx="1799640" cy="72684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6732720" y="3052800"/>
                <a:ext cx="1799640" cy="722880"/>
                <a:chOff x="6732720" y="3052800"/>
                <a:chExt cx="1799640" cy="7228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6949440" y="3068640"/>
                  <a:ext cx="1582920" cy="679320"/>
                </a:xfrm>
                <a:custGeom>
                  <a:avLst/>
                  <a:gdLst/>
                  <a:ahLst/>
                  <a:rect l="l" t="t" r="r" b="b"/>
                  <a:pathLst>
                    <a:path w="936" h="493">
                      <a:moveTo>
                        <a:pt x="933" y="6"/>
                      </a:moveTo>
                      <a:lnTo>
                        <a:pt x="908" y="6"/>
                      </a:lnTo>
                      <a:lnTo>
                        <a:pt x="908" y="0"/>
                      </a:lnTo>
                      <a:lnTo>
                        <a:pt x="933" y="0"/>
                      </a:lnTo>
                      <a:lnTo>
                        <a:pt x="933" y="6"/>
                      </a:lnTo>
                      <a:close/>
                      <a:moveTo>
                        <a:pt x="890" y="6"/>
                      </a:moveTo>
                      <a:lnTo>
                        <a:pt x="866" y="6"/>
                      </a:lnTo>
                      <a:lnTo>
                        <a:pt x="866" y="0"/>
                      </a:lnTo>
                      <a:lnTo>
                        <a:pt x="890" y="0"/>
                      </a:lnTo>
                      <a:lnTo>
                        <a:pt x="890" y="6"/>
                      </a:lnTo>
                      <a:close/>
                      <a:moveTo>
                        <a:pt x="848" y="6"/>
                      </a:moveTo>
                      <a:lnTo>
                        <a:pt x="823" y="6"/>
                      </a:lnTo>
                      <a:lnTo>
                        <a:pt x="823" y="0"/>
                      </a:lnTo>
                      <a:lnTo>
                        <a:pt x="848" y="0"/>
                      </a:lnTo>
                      <a:lnTo>
                        <a:pt x="848" y="6"/>
                      </a:lnTo>
                      <a:close/>
                      <a:moveTo>
                        <a:pt x="805" y="6"/>
                      </a:moveTo>
                      <a:lnTo>
                        <a:pt x="781" y="6"/>
                      </a:lnTo>
                      <a:lnTo>
                        <a:pt x="781" y="0"/>
                      </a:lnTo>
                      <a:lnTo>
                        <a:pt x="805" y="0"/>
                      </a:lnTo>
                      <a:lnTo>
                        <a:pt x="805" y="6"/>
                      </a:lnTo>
                      <a:close/>
                      <a:moveTo>
                        <a:pt x="763" y="6"/>
                      </a:moveTo>
                      <a:lnTo>
                        <a:pt x="738" y="6"/>
                      </a:lnTo>
                      <a:lnTo>
                        <a:pt x="738" y="0"/>
                      </a:lnTo>
                      <a:lnTo>
                        <a:pt x="763" y="0"/>
                      </a:lnTo>
                      <a:lnTo>
                        <a:pt x="763" y="6"/>
                      </a:lnTo>
                      <a:close/>
                      <a:moveTo>
                        <a:pt x="720" y="6"/>
                      </a:moveTo>
                      <a:lnTo>
                        <a:pt x="696" y="6"/>
                      </a:lnTo>
                      <a:lnTo>
                        <a:pt x="696" y="0"/>
                      </a:lnTo>
                      <a:lnTo>
                        <a:pt x="720" y="0"/>
                      </a:lnTo>
                      <a:lnTo>
                        <a:pt x="720" y="6"/>
                      </a:lnTo>
                      <a:close/>
                      <a:moveTo>
                        <a:pt x="678" y="6"/>
                      </a:moveTo>
                      <a:lnTo>
                        <a:pt x="653" y="6"/>
                      </a:lnTo>
                      <a:lnTo>
                        <a:pt x="653" y="0"/>
                      </a:lnTo>
                      <a:lnTo>
                        <a:pt x="678" y="0"/>
                      </a:lnTo>
                      <a:lnTo>
                        <a:pt x="678" y="6"/>
                      </a:lnTo>
                      <a:close/>
                      <a:moveTo>
                        <a:pt x="635" y="6"/>
                      </a:moveTo>
                      <a:lnTo>
                        <a:pt x="611" y="6"/>
                      </a:lnTo>
                      <a:lnTo>
                        <a:pt x="611" y="0"/>
                      </a:lnTo>
                      <a:lnTo>
                        <a:pt x="635" y="0"/>
                      </a:lnTo>
                      <a:lnTo>
                        <a:pt x="635" y="6"/>
                      </a:lnTo>
                      <a:close/>
                      <a:moveTo>
                        <a:pt x="592" y="6"/>
                      </a:moveTo>
                      <a:lnTo>
                        <a:pt x="568" y="6"/>
                      </a:lnTo>
                      <a:lnTo>
                        <a:pt x="568" y="0"/>
                      </a:lnTo>
                      <a:lnTo>
                        <a:pt x="592" y="0"/>
                      </a:lnTo>
                      <a:lnTo>
                        <a:pt x="592" y="6"/>
                      </a:lnTo>
                      <a:close/>
                      <a:moveTo>
                        <a:pt x="550" y="6"/>
                      </a:moveTo>
                      <a:lnTo>
                        <a:pt x="526" y="6"/>
                      </a:lnTo>
                      <a:lnTo>
                        <a:pt x="526" y="0"/>
                      </a:lnTo>
                      <a:lnTo>
                        <a:pt x="550" y="0"/>
                      </a:lnTo>
                      <a:lnTo>
                        <a:pt x="550" y="6"/>
                      </a:lnTo>
                      <a:close/>
                      <a:moveTo>
                        <a:pt x="507" y="6"/>
                      </a:moveTo>
                      <a:lnTo>
                        <a:pt x="483" y="6"/>
                      </a:lnTo>
                      <a:lnTo>
                        <a:pt x="483" y="0"/>
                      </a:lnTo>
                      <a:lnTo>
                        <a:pt x="507" y="0"/>
                      </a:lnTo>
                      <a:lnTo>
                        <a:pt x="507" y="6"/>
                      </a:lnTo>
                      <a:close/>
                      <a:moveTo>
                        <a:pt x="465" y="6"/>
                      </a:moveTo>
                      <a:lnTo>
                        <a:pt x="441" y="6"/>
                      </a:lnTo>
                      <a:lnTo>
                        <a:pt x="441" y="0"/>
                      </a:lnTo>
                      <a:lnTo>
                        <a:pt x="465" y="0"/>
                      </a:lnTo>
                      <a:lnTo>
                        <a:pt x="465" y="6"/>
                      </a:lnTo>
                      <a:close/>
                      <a:moveTo>
                        <a:pt x="422" y="6"/>
                      </a:moveTo>
                      <a:lnTo>
                        <a:pt x="398" y="6"/>
                      </a:lnTo>
                      <a:lnTo>
                        <a:pt x="398" y="0"/>
                      </a:lnTo>
                      <a:lnTo>
                        <a:pt x="422" y="0"/>
                      </a:lnTo>
                      <a:lnTo>
                        <a:pt x="422" y="6"/>
                      </a:lnTo>
                      <a:close/>
                      <a:moveTo>
                        <a:pt x="380" y="6"/>
                      </a:moveTo>
                      <a:lnTo>
                        <a:pt x="355" y="6"/>
                      </a:lnTo>
                      <a:lnTo>
                        <a:pt x="355" y="0"/>
                      </a:lnTo>
                      <a:lnTo>
                        <a:pt x="380" y="0"/>
                      </a:lnTo>
                      <a:lnTo>
                        <a:pt x="380" y="6"/>
                      </a:lnTo>
                      <a:close/>
                      <a:moveTo>
                        <a:pt x="337" y="6"/>
                      </a:moveTo>
                      <a:lnTo>
                        <a:pt x="313" y="6"/>
                      </a:lnTo>
                      <a:lnTo>
                        <a:pt x="313" y="0"/>
                      </a:lnTo>
                      <a:lnTo>
                        <a:pt x="337" y="0"/>
                      </a:lnTo>
                      <a:lnTo>
                        <a:pt x="337" y="6"/>
                      </a:lnTo>
                      <a:close/>
                      <a:moveTo>
                        <a:pt x="295" y="6"/>
                      </a:moveTo>
                      <a:lnTo>
                        <a:pt x="270" y="6"/>
                      </a:lnTo>
                      <a:lnTo>
                        <a:pt x="270" y="0"/>
                      </a:lnTo>
                      <a:lnTo>
                        <a:pt x="295" y="0"/>
                      </a:lnTo>
                      <a:lnTo>
                        <a:pt x="295" y="6"/>
                      </a:lnTo>
                      <a:close/>
                      <a:moveTo>
                        <a:pt x="252" y="6"/>
                      </a:moveTo>
                      <a:lnTo>
                        <a:pt x="228" y="6"/>
                      </a:lnTo>
                      <a:lnTo>
                        <a:pt x="228" y="0"/>
                      </a:lnTo>
                      <a:lnTo>
                        <a:pt x="252" y="0"/>
                      </a:lnTo>
                      <a:lnTo>
                        <a:pt x="252" y="6"/>
                      </a:lnTo>
                      <a:close/>
                      <a:moveTo>
                        <a:pt x="210" y="6"/>
                      </a:moveTo>
                      <a:lnTo>
                        <a:pt x="185" y="6"/>
                      </a:lnTo>
                      <a:lnTo>
                        <a:pt x="185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  <a:moveTo>
                        <a:pt x="167" y="6"/>
                      </a:moveTo>
                      <a:lnTo>
                        <a:pt x="143" y="6"/>
                      </a:lnTo>
                      <a:lnTo>
                        <a:pt x="143" y="0"/>
                      </a:lnTo>
                      <a:lnTo>
                        <a:pt x="167" y="0"/>
                      </a:lnTo>
                      <a:lnTo>
                        <a:pt x="167" y="6"/>
                      </a:lnTo>
                      <a:close/>
                      <a:moveTo>
                        <a:pt x="125" y="6"/>
                      </a:moveTo>
                      <a:lnTo>
                        <a:pt x="100" y="6"/>
                      </a:lnTo>
                      <a:lnTo>
                        <a:pt x="100" y="0"/>
                      </a:lnTo>
                      <a:lnTo>
                        <a:pt x="125" y="0"/>
                      </a:lnTo>
                      <a:lnTo>
                        <a:pt x="125" y="6"/>
                      </a:lnTo>
                      <a:close/>
                      <a:moveTo>
                        <a:pt x="82" y="6"/>
                      </a:moveTo>
                      <a:lnTo>
                        <a:pt x="58" y="6"/>
                      </a:lnTo>
                      <a:lnTo>
                        <a:pt x="58" y="0"/>
                      </a:lnTo>
                      <a:lnTo>
                        <a:pt x="82" y="0"/>
                      </a:lnTo>
                      <a:lnTo>
                        <a:pt x="82" y="6"/>
                      </a:lnTo>
                      <a:close/>
                      <a:moveTo>
                        <a:pt x="40" y="6"/>
                      </a:moveTo>
                      <a:lnTo>
                        <a:pt x="15" y="6"/>
                      </a:lnTo>
                      <a:lnTo>
                        <a:pt x="15" y="0"/>
                      </a:lnTo>
                      <a:lnTo>
                        <a:pt x="40" y="0"/>
                      </a:lnTo>
                      <a:lnTo>
                        <a:pt x="40" y="6"/>
                      </a:lnTo>
                      <a:close/>
                      <a:moveTo>
                        <a:pt x="6" y="9"/>
                      </a:moveTo>
                      <a:lnTo>
                        <a:pt x="6" y="33"/>
                      </a:lnTo>
                      <a:lnTo>
                        <a:pt x="0" y="33"/>
                      </a:lnTo>
                      <a:lnTo>
                        <a:pt x="0" y="9"/>
                      </a:lnTo>
                      <a:lnTo>
                        <a:pt x="6" y="9"/>
                      </a:lnTo>
                      <a:close/>
                      <a:moveTo>
                        <a:pt x="6" y="52"/>
                      </a:moveTo>
                      <a:lnTo>
                        <a:pt x="6" y="76"/>
                      </a:lnTo>
                      <a:lnTo>
                        <a:pt x="0" y="76"/>
                      </a:lnTo>
                      <a:lnTo>
                        <a:pt x="0" y="52"/>
                      </a:lnTo>
                      <a:lnTo>
                        <a:pt x="6" y="52"/>
                      </a:lnTo>
                      <a:close/>
                      <a:moveTo>
                        <a:pt x="6" y="94"/>
                      </a:moveTo>
                      <a:lnTo>
                        <a:pt x="6" y="119"/>
                      </a:lnTo>
                      <a:lnTo>
                        <a:pt x="0" y="119"/>
                      </a:lnTo>
                      <a:lnTo>
                        <a:pt x="0" y="94"/>
                      </a:lnTo>
                      <a:lnTo>
                        <a:pt x="6" y="94"/>
                      </a:lnTo>
                      <a:close/>
                      <a:moveTo>
                        <a:pt x="6" y="137"/>
                      </a:moveTo>
                      <a:lnTo>
                        <a:pt x="6" y="161"/>
                      </a:lnTo>
                      <a:lnTo>
                        <a:pt x="0" y="161"/>
                      </a:lnTo>
                      <a:lnTo>
                        <a:pt x="0" y="137"/>
                      </a:lnTo>
                      <a:lnTo>
                        <a:pt x="6" y="137"/>
                      </a:lnTo>
                      <a:close/>
                      <a:moveTo>
                        <a:pt x="6" y="179"/>
                      </a:moveTo>
                      <a:lnTo>
                        <a:pt x="6" y="204"/>
                      </a:lnTo>
                      <a:lnTo>
                        <a:pt x="0" y="204"/>
                      </a:lnTo>
                      <a:lnTo>
                        <a:pt x="0" y="179"/>
                      </a:lnTo>
                      <a:lnTo>
                        <a:pt x="6" y="179"/>
                      </a:lnTo>
                      <a:close/>
                      <a:moveTo>
                        <a:pt x="6" y="222"/>
                      </a:moveTo>
                      <a:lnTo>
                        <a:pt x="6" y="246"/>
                      </a:lnTo>
                      <a:lnTo>
                        <a:pt x="0" y="246"/>
                      </a:lnTo>
                      <a:lnTo>
                        <a:pt x="0" y="222"/>
                      </a:lnTo>
                      <a:lnTo>
                        <a:pt x="6" y="222"/>
                      </a:lnTo>
                      <a:close/>
                      <a:moveTo>
                        <a:pt x="6" y="265"/>
                      </a:moveTo>
                      <a:lnTo>
                        <a:pt x="6" y="289"/>
                      </a:lnTo>
                      <a:lnTo>
                        <a:pt x="0" y="289"/>
                      </a:lnTo>
                      <a:lnTo>
                        <a:pt x="0" y="265"/>
                      </a:lnTo>
                      <a:lnTo>
                        <a:pt x="6" y="265"/>
                      </a:lnTo>
                      <a:close/>
                      <a:moveTo>
                        <a:pt x="6" y="307"/>
                      </a:moveTo>
                      <a:lnTo>
                        <a:pt x="6" y="332"/>
                      </a:lnTo>
                      <a:lnTo>
                        <a:pt x="0" y="332"/>
                      </a:lnTo>
                      <a:lnTo>
                        <a:pt x="0" y="307"/>
                      </a:lnTo>
                      <a:lnTo>
                        <a:pt x="6" y="307"/>
                      </a:lnTo>
                      <a:close/>
                      <a:moveTo>
                        <a:pt x="6" y="350"/>
                      </a:moveTo>
                      <a:lnTo>
                        <a:pt x="6" y="374"/>
                      </a:lnTo>
                      <a:lnTo>
                        <a:pt x="0" y="374"/>
                      </a:lnTo>
                      <a:lnTo>
                        <a:pt x="0" y="350"/>
                      </a:lnTo>
                      <a:lnTo>
                        <a:pt x="6" y="350"/>
                      </a:lnTo>
                      <a:close/>
                      <a:moveTo>
                        <a:pt x="6" y="393"/>
                      </a:moveTo>
                      <a:lnTo>
                        <a:pt x="6" y="417"/>
                      </a:lnTo>
                      <a:lnTo>
                        <a:pt x="0" y="417"/>
                      </a:lnTo>
                      <a:lnTo>
                        <a:pt x="0" y="393"/>
                      </a:lnTo>
                      <a:lnTo>
                        <a:pt x="6" y="393"/>
                      </a:lnTo>
                      <a:close/>
                      <a:moveTo>
                        <a:pt x="6" y="435"/>
                      </a:moveTo>
                      <a:lnTo>
                        <a:pt x="6" y="459"/>
                      </a:lnTo>
                      <a:lnTo>
                        <a:pt x="0" y="459"/>
                      </a:lnTo>
                      <a:lnTo>
                        <a:pt x="0" y="435"/>
                      </a:lnTo>
                      <a:lnTo>
                        <a:pt x="6" y="435"/>
                      </a:lnTo>
                      <a:close/>
                      <a:moveTo>
                        <a:pt x="6" y="478"/>
                      </a:moveTo>
                      <a:lnTo>
                        <a:pt x="6" y="490"/>
                      </a:lnTo>
                      <a:lnTo>
                        <a:pt x="3" y="487"/>
                      </a:lnTo>
                      <a:lnTo>
                        <a:pt x="15" y="487"/>
                      </a:lnTo>
                      <a:lnTo>
                        <a:pt x="15" y="493"/>
                      </a:lnTo>
                      <a:lnTo>
                        <a:pt x="0" y="493"/>
                      </a:lnTo>
                      <a:lnTo>
                        <a:pt x="0" y="478"/>
                      </a:lnTo>
                      <a:lnTo>
                        <a:pt x="6" y="478"/>
                      </a:lnTo>
                      <a:close/>
                      <a:moveTo>
                        <a:pt x="33" y="487"/>
                      </a:moveTo>
                      <a:lnTo>
                        <a:pt x="58" y="487"/>
                      </a:lnTo>
                      <a:lnTo>
                        <a:pt x="58" y="493"/>
                      </a:lnTo>
                      <a:lnTo>
                        <a:pt x="33" y="493"/>
                      </a:lnTo>
                      <a:lnTo>
                        <a:pt x="33" y="487"/>
                      </a:lnTo>
                      <a:close/>
                      <a:moveTo>
                        <a:pt x="76" y="487"/>
                      </a:moveTo>
                      <a:lnTo>
                        <a:pt x="100" y="487"/>
                      </a:lnTo>
                      <a:lnTo>
                        <a:pt x="100" y="493"/>
                      </a:lnTo>
                      <a:lnTo>
                        <a:pt x="76" y="493"/>
                      </a:lnTo>
                      <a:lnTo>
                        <a:pt x="76" y="487"/>
                      </a:lnTo>
                      <a:close/>
                      <a:moveTo>
                        <a:pt x="118" y="487"/>
                      </a:moveTo>
                      <a:lnTo>
                        <a:pt x="143" y="487"/>
                      </a:lnTo>
                      <a:lnTo>
                        <a:pt x="143" y="493"/>
                      </a:lnTo>
                      <a:lnTo>
                        <a:pt x="118" y="493"/>
                      </a:lnTo>
                      <a:lnTo>
                        <a:pt x="118" y="487"/>
                      </a:lnTo>
                      <a:close/>
                      <a:moveTo>
                        <a:pt x="161" y="487"/>
                      </a:moveTo>
                      <a:lnTo>
                        <a:pt x="185" y="487"/>
                      </a:lnTo>
                      <a:lnTo>
                        <a:pt x="185" y="493"/>
                      </a:lnTo>
                      <a:lnTo>
                        <a:pt x="161" y="493"/>
                      </a:lnTo>
                      <a:lnTo>
                        <a:pt x="161" y="487"/>
                      </a:lnTo>
                      <a:close/>
                      <a:moveTo>
                        <a:pt x="204" y="487"/>
                      </a:moveTo>
                      <a:lnTo>
                        <a:pt x="228" y="487"/>
                      </a:lnTo>
                      <a:lnTo>
                        <a:pt x="228" y="493"/>
                      </a:lnTo>
                      <a:lnTo>
                        <a:pt x="204" y="493"/>
                      </a:lnTo>
                      <a:lnTo>
                        <a:pt x="204" y="487"/>
                      </a:lnTo>
                      <a:close/>
                      <a:moveTo>
                        <a:pt x="246" y="487"/>
                      </a:moveTo>
                      <a:lnTo>
                        <a:pt x="270" y="487"/>
                      </a:lnTo>
                      <a:lnTo>
                        <a:pt x="270" y="493"/>
                      </a:lnTo>
                      <a:lnTo>
                        <a:pt x="246" y="493"/>
                      </a:lnTo>
                      <a:lnTo>
                        <a:pt x="246" y="487"/>
                      </a:lnTo>
                      <a:close/>
                      <a:moveTo>
                        <a:pt x="289" y="487"/>
                      </a:moveTo>
                      <a:lnTo>
                        <a:pt x="313" y="487"/>
                      </a:lnTo>
                      <a:lnTo>
                        <a:pt x="313" y="493"/>
                      </a:lnTo>
                      <a:lnTo>
                        <a:pt x="289" y="493"/>
                      </a:lnTo>
                      <a:lnTo>
                        <a:pt x="289" y="487"/>
                      </a:lnTo>
                      <a:close/>
                      <a:moveTo>
                        <a:pt x="331" y="487"/>
                      </a:moveTo>
                      <a:lnTo>
                        <a:pt x="355" y="487"/>
                      </a:lnTo>
                      <a:lnTo>
                        <a:pt x="355" y="493"/>
                      </a:lnTo>
                      <a:lnTo>
                        <a:pt x="331" y="493"/>
                      </a:lnTo>
                      <a:lnTo>
                        <a:pt x="331" y="487"/>
                      </a:lnTo>
                      <a:close/>
                      <a:moveTo>
                        <a:pt x="374" y="487"/>
                      </a:moveTo>
                      <a:lnTo>
                        <a:pt x="398" y="487"/>
                      </a:lnTo>
                      <a:lnTo>
                        <a:pt x="398" y="493"/>
                      </a:lnTo>
                      <a:lnTo>
                        <a:pt x="374" y="493"/>
                      </a:lnTo>
                      <a:lnTo>
                        <a:pt x="374" y="487"/>
                      </a:lnTo>
                      <a:close/>
                      <a:moveTo>
                        <a:pt x="416" y="487"/>
                      </a:moveTo>
                      <a:lnTo>
                        <a:pt x="441" y="487"/>
                      </a:lnTo>
                      <a:lnTo>
                        <a:pt x="441" y="493"/>
                      </a:lnTo>
                      <a:lnTo>
                        <a:pt x="416" y="493"/>
                      </a:lnTo>
                      <a:lnTo>
                        <a:pt x="416" y="487"/>
                      </a:lnTo>
                      <a:close/>
                      <a:moveTo>
                        <a:pt x="459" y="487"/>
                      </a:moveTo>
                      <a:lnTo>
                        <a:pt x="483" y="487"/>
                      </a:lnTo>
                      <a:lnTo>
                        <a:pt x="483" y="493"/>
                      </a:lnTo>
                      <a:lnTo>
                        <a:pt x="459" y="493"/>
                      </a:lnTo>
                      <a:lnTo>
                        <a:pt x="459" y="487"/>
                      </a:lnTo>
                      <a:close/>
                      <a:moveTo>
                        <a:pt x="501" y="487"/>
                      </a:moveTo>
                      <a:lnTo>
                        <a:pt x="526" y="487"/>
                      </a:lnTo>
                      <a:lnTo>
                        <a:pt x="526" y="493"/>
                      </a:lnTo>
                      <a:lnTo>
                        <a:pt x="501" y="493"/>
                      </a:lnTo>
                      <a:lnTo>
                        <a:pt x="501" y="487"/>
                      </a:lnTo>
                      <a:close/>
                      <a:moveTo>
                        <a:pt x="544" y="487"/>
                      </a:moveTo>
                      <a:lnTo>
                        <a:pt x="568" y="487"/>
                      </a:lnTo>
                      <a:lnTo>
                        <a:pt x="568" y="493"/>
                      </a:lnTo>
                      <a:lnTo>
                        <a:pt x="544" y="493"/>
                      </a:lnTo>
                      <a:lnTo>
                        <a:pt x="544" y="487"/>
                      </a:lnTo>
                      <a:close/>
                      <a:moveTo>
                        <a:pt x="586" y="487"/>
                      </a:moveTo>
                      <a:lnTo>
                        <a:pt x="611" y="487"/>
                      </a:lnTo>
                      <a:lnTo>
                        <a:pt x="611" y="493"/>
                      </a:lnTo>
                      <a:lnTo>
                        <a:pt x="586" y="493"/>
                      </a:lnTo>
                      <a:lnTo>
                        <a:pt x="586" y="487"/>
                      </a:lnTo>
                      <a:close/>
                      <a:moveTo>
                        <a:pt x="629" y="487"/>
                      </a:moveTo>
                      <a:lnTo>
                        <a:pt x="653" y="487"/>
                      </a:lnTo>
                      <a:lnTo>
                        <a:pt x="653" y="493"/>
                      </a:lnTo>
                      <a:lnTo>
                        <a:pt x="629" y="493"/>
                      </a:lnTo>
                      <a:lnTo>
                        <a:pt x="629" y="487"/>
                      </a:lnTo>
                      <a:close/>
                      <a:moveTo>
                        <a:pt x="671" y="487"/>
                      </a:moveTo>
                      <a:lnTo>
                        <a:pt x="696" y="487"/>
                      </a:lnTo>
                      <a:lnTo>
                        <a:pt x="696" y="493"/>
                      </a:lnTo>
                      <a:lnTo>
                        <a:pt x="671" y="493"/>
                      </a:lnTo>
                      <a:lnTo>
                        <a:pt x="671" y="487"/>
                      </a:lnTo>
                      <a:close/>
                      <a:moveTo>
                        <a:pt x="714" y="487"/>
                      </a:moveTo>
                      <a:lnTo>
                        <a:pt x="738" y="487"/>
                      </a:lnTo>
                      <a:lnTo>
                        <a:pt x="738" y="493"/>
                      </a:lnTo>
                      <a:lnTo>
                        <a:pt x="714" y="493"/>
                      </a:lnTo>
                      <a:lnTo>
                        <a:pt x="714" y="487"/>
                      </a:lnTo>
                      <a:close/>
                      <a:moveTo>
                        <a:pt x="757" y="487"/>
                      </a:moveTo>
                      <a:lnTo>
                        <a:pt x="781" y="487"/>
                      </a:lnTo>
                      <a:lnTo>
                        <a:pt x="781" y="493"/>
                      </a:lnTo>
                      <a:lnTo>
                        <a:pt x="757" y="493"/>
                      </a:lnTo>
                      <a:lnTo>
                        <a:pt x="757" y="487"/>
                      </a:lnTo>
                      <a:close/>
                      <a:moveTo>
                        <a:pt x="799" y="487"/>
                      </a:moveTo>
                      <a:lnTo>
                        <a:pt x="823" y="487"/>
                      </a:lnTo>
                      <a:lnTo>
                        <a:pt x="823" y="493"/>
                      </a:lnTo>
                      <a:lnTo>
                        <a:pt x="799" y="493"/>
                      </a:lnTo>
                      <a:lnTo>
                        <a:pt x="799" y="487"/>
                      </a:lnTo>
                      <a:close/>
                      <a:moveTo>
                        <a:pt x="842" y="487"/>
                      </a:moveTo>
                      <a:lnTo>
                        <a:pt x="866" y="487"/>
                      </a:lnTo>
                      <a:lnTo>
                        <a:pt x="866" y="493"/>
                      </a:lnTo>
                      <a:lnTo>
                        <a:pt x="842" y="493"/>
                      </a:lnTo>
                      <a:lnTo>
                        <a:pt x="842" y="487"/>
                      </a:lnTo>
                      <a:close/>
                      <a:moveTo>
                        <a:pt x="884" y="487"/>
                      </a:moveTo>
                      <a:lnTo>
                        <a:pt x="908" y="487"/>
                      </a:lnTo>
                      <a:lnTo>
                        <a:pt x="908" y="493"/>
                      </a:lnTo>
                      <a:lnTo>
                        <a:pt x="884" y="493"/>
                      </a:lnTo>
                      <a:lnTo>
                        <a:pt x="884" y="487"/>
                      </a:lnTo>
                      <a:close/>
                      <a:moveTo>
                        <a:pt x="927" y="487"/>
                      </a:moveTo>
                      <a:lnTo>
                        <a:pt x="933" y="487"/>
                      </a:lnTo>
                      <a:lnTo>
                        <a:pt x="930" y="490"/>
                      </a:lnTo>
                      <a:lnTo>
                        <a:pt x="930" y="472"/>
                      </a:lnTo>
                      <a:lnTo>
                        <a:pt x="936" y="472"/>
                      </a:lnTo>
                      <a:lnTo>
                        <a:pt x="936" y="493"/>
                      </a:lnTo>
                      <a:lnTo>
                        <a:pt x="927" y="493"/>
                      </a:lnTo>
                      <a:lnTo>
                        <a:pt x="927" y="487"/>
                      </a:lnTo>
                      <a:close/>
                      <a:moveTo>
                        <a:pt x="930" y="453"/>
                      </a:moveTo>
                      <a:lnTo>
                        <a:pt x="930" y="429"/>
                      </a:lnTo>
                      <a:lnTo>
                        <a:pt x="936" y="429"/>
                      </a:lnTo>
                      <a:lnTo>
                        <a:pt x="936" y="453"/>
                      </a:lnTo>
                      <a:lnTo>
                        <a:pt x="930" y="453"/>
                      </a:lnTo>
                      <a:close/>
                      <a:moveTo>
                        <a:pt x="930" y="411"/>
                      </a:moveTo>
                      <a:lnTo>
                        <a:pt x="930" y="386"/>
                      </a:lnTo>
                      <a:lnTo>
                        <a:pt x="936" y="386"/>
                      </a:lnTo>
                      <a:lnTo>
                        <a:pt x="936" y="411"/>
                      </a:lnTo>
                      <a:lnTo>
                        <a:pt x="930" y="411"/>
                      </a:lnTo>
                      <a:close/>
                      <a:moveTo>
                        <a:pt x="930" y="368"/>
                      </a:moveTo>
                      <a:lnTo>
                        <a:pt x="930" y="344"/>
                      </a:lnTo>
                      <a:lnTo>
                        <a:pt x="936" y="344"/>
                      </a:lnTo>
                      <a:lnTo>
                        <a:pt x="936" y="368"/>
                      </a:lnTo>
                      <a:lnTo>
                        <a:pt x="930" y="368"/>
                      </a:lnTo>
                      <a:close/>
                      <a:moveTo>
                        <a:pt x="930" y="326"/>
                      </a:moveTo>
                      <a:lnTo>
                        <a:pt x="930" y="301"/>
                      </a:lnTo>
                      <a:lnTo>
                        <a:pt x="936" y="301"/>
                      </a:lnTo>
                      <a:lnTo>
                        <a:pt x="936" y="326"/>
                      </a:lnTo>
                      <a:lnTo>
                        <a:pt x="930" y="326"/>
                      </a:lnTo>
                      <a:close/>
                      <a:moveTo>
                        <a:pt x="930" y="283"/>
                      </a:moveTo>
                      <a:lnTo>
                        <a:pt x="930" y="259"/>
                      </a:lnTo>
                      <a:lnTo>
                        <a:pt x="936" y="259"/>
                      </a:lnTo>
                      <a:lnTo>
                        <a:pt x="936" y="283"/>
                      </a:lnTo>
                      <a:lnTo>
                        <a:pt x="930" y="283"/>
                      </a:lnTo>
                      <a:close/>
                      <a:moveTo>
                        <a:pt x="930" y="240"/>
                      </a:moveTo>
                      <a:lnTo>
                        <a:pt x="930" y="216"/>
                      </a:lnTo>
                      <a:lnTo>
                        <a:pt x="936" y="216"/>
                      </a:lnTo>
                      <a:lnTo>
                        <a:pt x="936" y="240"/>
                      </a:lnTo>
                      <a:lnTo>
                        <a:pt x="930" y="240"/>
                      </a:lnTo>
                      <a:close/>
                      <a:moveTo>
                        <a:pt x="930" y="198"/>
                      </a:moveTo>
                      <a:lnTo>
                        <a:pt x="930" y="173"/>
                      </a:lnTo>
                      <a:lnTo>
                        <a:pt x="936" y="173"/>
                      </a:lnTo>
                      <a:lnTo>
                        <a:pt x="936" y="198"/>
                      </a:lnTo>
                      <a:lnTo>
                        <a:pt x="930" y="198"/>
                      </a:lnTo>
                      <a:close/>
                      <a:moveTo>
                        <a:pt x="930" y="155"/>
                      </a:moveTo>
                      <a:lnTo>
                        <a:pt x="930" y="131"/>
                      </a:lnTo>
                      <a:lnTo>
                        <a:pt x="936" y="131"/>
                      </a:lnTo>
                      <a:lnTo>
                        <a:pt x="936" y="155"/>
                      </a:lnTo>
                      <a:lnTo>
                        <a:pt x="930" y="155"/>
                      </a:lnTo>
                      <a:close/>
                      <a:moveTo>
                        <a:pt x="930" y="113"/>
                      </a:moveTo>
                      <a:lnTo>
                        <a:pt x="930" y="88"/>
                      </a:lnTo>
                      <a:lnTo>
                        <a:pt x="936" y="88"/>
                      </a:lnTo>
                      <a:lnTo>
                        <a:pt x="936" y="113"/>
                      </a:lnTo>
                      <a:lnTo>
                        <a:pt x="930" y="113"/>
                      </a:lnTo>
                      <a:close/>
                      <a:moveTo>
                        <a:pt x="930" y="70"/>
                      </a:moveTo>
                      <a:lnTo>
                        <a:pt x="930" y="46"/>
                      </a:lnTo>
                      <a:lnTo>
                        <a:pt x="936" y="46"/>
                      </a:lnTo>
                      <a:lnTo>
                        <a:pt x="936" y="70"/>
                      </a:lnTo>
                      <a:lnTo>
                        <a:pt x="930" y="70"/>
                      </a:lnTo>
                      <a:close/>
                      <a:moveTo>
                        <a:pt x="930" y="27"/>
                      </a:moveTo>
                      <a:lnTo>
                        <a:pt x="930" y="3"/>
                      </a:lnTo>
                      <a:lnTo>
                        <a:pt x="936" y="3"/>
                      </a:lnTo>
                      <a:lnTo>
                        <a:pt x="936" y="27"/>
                      </a:lnTo>
                      <a:lnTo>
                        <a:pt x="93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211240" y="3321360"/>
                  <a:ext cx="117720" cy="1854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205120" y="3405960"/>
                  <a:ext cx="12204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9" name=""/>
                <p:cNvGrpSpPr/>
                <p:nvPr/>
              </p:nvGrpSpPr>
              <p:grpSpPr>
                <a:xfrm>
                  <a:off x="8161560" y="3677760"/>
                  <a:ext cx="245520" cy="97920"/>
                  <a:chOff x="8161560" y="3677760"/>
                  <a:chExt cx="245520" cy="9792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8161560" y="3677760"/>
                    <a:ext cx="245520" cy="9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8161560" y="3677760"/>
                    <a:ext cx="245520" cy="9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8161560" y="3053880"/>
                  <a:ext cx="245520" cy="96120"/>
                  <a:chOff x="8161560" y="3053880"/>
                  <a:chExt cx="245520" cy="9612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8161560" y="3053880"/>
                    <a:ext cx="245520" cy="9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8161560" y="3053880"/>
                    <a:ext cx="245520" cy="961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" name=""/>
                <p:cNvSpPr/>
                <p:nvPr/>
              </p:nvSpPr>
              <p:spPr>
                <a:xfrm>
                  <a:off x="8330400" y="3178080"/>
                  <a:ext cx="68040" cy="363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6" name=""/>
                <p:cNvGrpSpPr/>
                <p:nvPr/>
              </p:nvGrpSpPr>
              <p:grpSpPr>
                <a:xfrm>
                  <a:off x="8283600" y="3191400"/>
                  <a:ext cx="42120" cy="8280"/>
                  <a:chOff x="8283600" y="3191400"/>
                  <a:chExt cx="42120" cy="828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8283600" y="3191400"/>
                    <a:ext cx="4212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8283600" y="3191400"/>
                    <a:ext cx="42120" cy="82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9" name=""/>
                <p:cNvSpPr/>
                <p:nvPr/>
              </p:nvSpPr>
              <p:spPr>
                <a:xfrm>
                  <a:off x="8326080" y="3610440"/>
                  <a:ext cx="68040" cy="367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" name=""/>
                <p:cNvGrpSpPr/>
                <p:nvPr/>
              </p:nvGrpSpPr>
              <p:grpSpPr>
                <a:xfrm>
                  <a:off x="8279640" y="3623760"/>
                  <a:ext cx="42120" cy="8640"/>
                  <a:chOff x="8279640" y="3623760"/>
                  <a:chExt cx="42120" cy="864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8279640" y="3623760"/>
                    <a:ext cx="42120" cy="86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8279640" y="3623760"/>
                    <a:ext cx="42120" cy="86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8196480" y="3168000"/>
                  <a:ext cx="2880" cy="27720"/>
                  <a:chOff x="8196480" y="3168000"/>
                  <a:chExt cx="2880" cy="2772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8196480" y="3168000"/>
                    <a:ext cx="288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8196480" y="3168000"/>
                    <a:ext cx="2880" cy="27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8184600" y="3628080"/>
                  <a:ext cx="2880" cy="27720"/>
                  <a:chOff x="8184600" y="3628080"/>
                  <a:chExt cx="2880" cy="2772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8184600" y="3628080"/>
                    <a:ext cx="288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8184600" y="3628080"/>
                    <a:ext cx="2880" cy="27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" name=""/>
                <p:cNvSpPr/>
                <p:nvPr/>
              </p:nvSpPr>
              <p:spPr>
                <a:xfrm>
                  <a:off x="8314560" y="3219120"/>
                  <a:ext cx="50760" cy="91440"/>
                </a:xfrm>
                <a:custGeom>
                  <a:avLst/>
                  <a:gdLst/>
                  <a:ahLst/>
                  <a:rect l="l" t="t" r="r" b="b"/>
                  <a:pathLst>
                    <a:path w="34" h="67">
                      <a:moveTo>
                        <a:pt x="0" y="67"/>
                      </a:moveTo>
                      <a:lnTo>
                        <a:pt x="0" y="29"/>
                      </a:lnTo>
                      <a:lnTo>
                        <a:pt x="34" y="29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312760" y="3508560"/>
                  <a:ext cx="51120" cy="91440"/>
                </a:xfrm>
                <a:custGeom>
                  <a:avLst/>
                  <a:gdLst/>
                  <a:ahLst/>
                  <a:rect l="l" t="t" r="r" b="b"/>
                  <a:pathLst>
                    <a:path w="34" h="67">
                      <a:moveTo>
                        <a:pt x="0" y="0"/>
                      </a:moveTo>
                      <a:lnTo>
                        <a:pt x="0" y="39"/>
                      </a:lnTo>
                      <a:lnTo>
                        <a:pt x="34" y="39"/>
                      </a:lnTo>
                      <a:lnTo>
                        <a:pt x="34" y="67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732720" y="3258720"/>
                  <a:ext cx="282240" cy="290520"/>
                </a:xfrm>
                <a:custGeom>
                  <a:avLst/>
                  <a:gdLst/>
                  <a:ahLst/>
                  <a:rect l="l" t="t" r="r" b="b"/>
                  <a:pathLst>
                    <a:path w="189" h="211">
                      <a:moveTo>
                        <a:pt x="181" y="211"/>
                      </a:moveTo>
                      <a:lnTo>
                        <a:pt x="0" y="102"/>
                      </a:lnTo>
                      <a:lnTo>
                        <a:pt x="189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"/>
                <p:cNvGrpSpPr/>
                <p:nvPr/>
              </p:nvGrpSpPr>
              <p:grpSpPr>
                <a:xfrm>
                  <a:off x="7875000" y="3052800"/>
                  <a:ext cx="244440" cy="96120"/>
                  <a:chOff x="7875000" y="3052800"/>
                  <a:chExt cx="244440" cy="961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>
                    <a:off x="7875000" y="3052800"/>
                    <a:ext cx="244440" cy="9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7875000" y="3052800"/>
                    <a:ext cx="244440" cy="961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7880760" y="3677760"/>
                  <a:ext cx="244080" cy="96120"/>
                  <a:chOff x="7880760" y="3677760"/>
                  <a:chExt cx="244080" cy="9612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7880760" y="3677760"/>
                    <a:ext cx="244080" cy="9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880760" y="3677760"/>
                    <a:ext cx="244080" cy="961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8002800" y="3610440"/>
                  <a:ext cx="114120" cy="37800"/>
                  <a:chOff x="8002800" y="3610440"/>
                  <a:chExt cx="114120" cy="3780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8049960" y="3610440"/>
                    <a:ext cx="66960" cy="378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8002800" y="3625200"/>
                    <a:ext cx="42840" cy="9360"/>
                    <a:chOff x="8002800" y="3625200"/>
                    <a:chExt cx="42840" cy="936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8002800" y="3625200"/>
                      <a:ext cx="428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8002800" y="3625200"/>
                      <a:ext cx="42840" cy="936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13" name=""/>
                <p:cNvSpPr/>
                <p:nvPr/>
              </p:nvSpPr>
              <p:spPr>
                <a:xfrm>
                  <a:off x="8078400" y="3508560"/>
                  <a:ext cx="142200" cy="97560"/>
                </a:xfrm>
                <a:custGeom>
                  <a:avLst/>
                  <a:gdLst/>
                  <a:ahLst/>
                  <a:rect l="l" t="t" r="r" b="b"/>
                  <a:pathLst>
                    <a:path w="95" h="71">
                      <a:moveTo>
                        <a:pt x="0" y="71"/>
                      </a:moveTo>
                      <a:lnTo>
                        <a:pt x="0" y="31"/>
                      </a:lnTo>
                      <a:lnTo>
                        <a:pt x="95" y="31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7992720" y="3179520"/>
                  <a:ext cx="114120" cy="36720"/>
                  <a:chOff x="7992720" y="3179520"/>
                  <a:chExt cx="114120" cy="3672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8039880" y="3179520"/>
                    <a:ext cx="66960" cy="36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7992720" y="3192840"/>
                    <a:ext cx="42840" cy="9360"/>
                    <a:chOff x="7992720" y="3192840"/>
                    <a:chExt cx="42840" cy="9360"/>
                  </a:xfrm>
                </p:grpSpPr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7992720" y="3192840"/>
                      <a:ext cx="428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7992720" y="3192840"/>
                      <a:ext cx="42840" cy="936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19" name=""/>
                <p:cNvSpPr/>
                <p:nvPr/>
              </p:nvSpPr>
              <p:spPr>
                <a:xfrm>
                  <a:off x="8074080" y="3216240"/>
                  <a:ext cx="148320" cy="91800"/>
                </a:xfrm>
                <a:custGeom>
                  <a:avLst/>
                  <a:gdLst/>
                  <a:ahLst/>
                  <a:rect l="l" t="t" r="r" b="b"/>
                  <a:pathLst>
                    <a:path w="99" h="67">
                      <a:moveTo>
                        <a:pt x="0" y="0"/>
                      </a:moveTo>
                      <a:lnTo>
                        <a:pt x="0" y="39"/>
                      </a:lnTo>
                      <a:lnTo>
                        <a:pt x="99" y="39"/>
                      </a:lnTo>
                      <a:lnTo>
                        <a:pt x="99" y="67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rot="16200000">
                  <a:off x="8224200" y="3422880"/>
                  <a:ext cx="691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rot="16200000">
                  <a:off x="8231040" y="332856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1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180640" y="3518640"/>
                  <a:ext cx="109080" cy="116280"/>
                </a:xfrm>
                <a:custGeom>
                  <a:avLst/>
                  <a:gdLst/>
                  <a:ahLst/>
                  <a:rect l="l" t="t" r="r" b="b"/>
                  <a:pathLst>
                    <a:path w="600" h="700">
                      <a:moveTo>
                        <a:pt x="0" y="675"/>
                      </a:moveTo>
                      <a:lnTo>
                        <a:pt x="0" y="675"/>
                      </a:lnTo>
                      <a:cubicBezTo>
                        <a:pt x="0" y="662"/>
                        <a:pt x="12" y="650"/>
                        <a:pt x="25" y="650"/>
                      </a:cubicBezTo>
                      <a:cubicBezTo>
                        <a:pt x="39" y="650"/>
                        <a:pt x="50" y="662"/>
                        <a:pt x="50" y="675"/>
                      </a:cubicBezTo>
                      <a:lnTo>
                        <a:pt x="50" y="675"/>
                      </a:lnTo>
                      <a:cubicBezTo>
                        <a:pt x="50" y="689"/>
                        <a:pt x="39" y="700"/>
                        <a:pt x="25" y="700"/>
                      </a:cubicBezTo>
                      <a:cubicBezTo>
                        <a:pt x="12" y="700"/>
                        <a:pt x="0" y="689"/>
                        <a:pt x="0" y="675"/>
                      </a:cubicBezTo>
                      <a:close/>
                      <a:moveTo>
                        <a:pt x="0" y="575"/>
                      </a:moveTo>
                      <a:lnTo>
                        <a:pt x="0" y="575"/>
                      </a:lnTo>
                      <a:cubicBezTo>
                        <a:pt x="0" y="562"/>
                        <a:pt x="12" y="550"/>
                        <a:pt x="25" y="550"/>
                      </a:cubicBezTo>
                      <a:cubicBezTo>
                        <a:pt x="39" y="550"/>
                        <a:pt x="50" y="562"/>
                        <a:pt x="50" y="575"/>
                      </a:cubicBezTo>
                      <a:lnTo>
                        <a:pt x="50" y="575"/>
                      </a:lnTo>
                      <a:cubicBezTo>
                        <a:pt x="50" y="589"/>
                        <a:pt x="39" y="600"/>
                        <a:pt x="25" y="600"/>
                      </a:cubicBezTo>
                      <a:cubicBezTo>
                        <a:pt x="12" y="600"/>
                        <a:pt x="0" y="589"/>
                        <a:pt x="0" y="575"/>
                      </a:cubicBezTo>
                      <a:close/>
                      <a:moveTo>
                        <a:pt x="0" y="475"/>
                      </a:moveTo>
                      <a:lnTo>
                        <a:pt x="0" y="475"/>
                      </a:lnTo>
                      <a:cubicBezTo>
                        <a:pt x="0" y="462"/>
                        <a:pt x="12" y="450"/>
                        <a:pt x="25" y="450"/>
                      </a:cubicBezTo>
                      <a:cubicBezTo>
                        <a:pt x="39" y="450"/>
                        <a:pt x="50" y="462"/>
                        <a:pt x="50" y="475"/>
                      </a:cubicBezTo>
                      <a:lnTo>
                        <a:pt x="50" y="475"/>
                      </a:lnTo>
                      <a:cubicBezTo>
                        <a:pt x="50" y="489"/>
                        <a:pt x="39" y="500"/>
                        <a:pt x="25" y="500"/>
                      </a:cubicBezTo>
                      <a:cubicBezTo>
                        <a:pt x="12" y="500"/>
                        <a:pt x="0" y="489"/>
                        <a:pt x="0" y="475"/>
                      </a:cubicBezTo>
                      <a:close/>
                      <a:moveTo>
                        <a:pt x="0" y="375"/>
                      </a:moveTo>
                      <a:lnTo>
                        <a:pt x="0" y="375"/>
                      </a:lnTo>
                      <a:cubicBezTo>
                        <a:pt x="0" y="361"/>
                        <a:pt x="12" y="350"/>
                        <a:pt x="25" y="350"/>
                      </a:cubicBezTo>
                      <a:cubicBezTo>
                        <a:pt x="39" y="350"/>
                        <a:pt x="50" y="361"/>
                        <a:pt x="50" y="375"/>
                      </a:cubicBezTo>
                      <a:lnTo>
                        <a:pt x="50" y="375"/>
                      </a:lnTo>
                      <a:cubicBezTo>
                        <a:pt x="50" y="389"/>
                        <a:pt x="39" y="400"/>
                        <a:pt x="25" y="400"/>
                      </a:cubicBezTo>
                      <a:cubicBezTo>
                        <a:pt x="12" y="400"/>
                        <a:pt x="0" y="389"/>
                        <a:pt x="0" y="375"/>
                      </a:cubicBezTo>
                      <a:close/>
                      <a:moveTo>
                        <a:pt x="109" y="334"/>
                      </a:moveTo>
                      <a:lnTo>
                        <a:pt x="109" y="334"/>
                      </a:lnTo>
                      <a:cubicBezTo>
                        <a:pt x="123" y="334"/>
                        <a:pt x="134" y="345"/>
                        <a:pt x="134" y="359"/>
                      </a:cubicBezTo>
                      <a:cubicBezTo>
                        <a:pt x="134" y="373"/>
                        <a:pt x="123" y="384"/>
                        <a:pt x="109" y="384"/>
                      </a:cubicBezTo>
                      <a:lnTo>
                        <a:pt x="109" y="384"/>
                      </a:lnTo>
                      <a:cubicBezTo>
                        <a:pt x="95" y="384"/>
                        <a:pt x="84" y="373"/>
                        <a:pt x="84" y="359"/>
                      </a:cubicBezTo>
                      <a:cubicBezTo>
                        <a:pt x="84" y="345"/>
                        <a:pt x="95" y="334"/>
                        <a:pt x="109" y="334"/>
                      </a:cubicBezTo>
                      <a:close/>
                      <a:moveTo>
                        <a:pt x="209" y="334"/>
                      </a:moveTo>
                      <a:lnTo>
                        <a:pt x="209" y="334"/>
                      </a:lnTo>
                      <a:cubicBezTo>
                        <a:pt x="223" y="334"/>
                        <a:pt x="234" y="345"/>
                        <a:pt x="234" y="359"/>
                      </a:cubicBezTo>
                      <a:cubicBezTo>
                        <a:pt x="234" y="373"/>
                        <a:pt x="223" y="384"/>
                        <a:pt x="209" y="384"/>
                      </a:cubicBezTo>
                      <a:lnTo>
                        <a:pt x="209" y="384"/>
                      </a:lnTo>
                      <a:cubicBezTo>
                        <a:pt x="195" y="384"/>
                        <a:pt x="184" y="373"/>
                        <a:pt x="184" y="359"/>
                      </a:cubicBezTo>
                      <a:cubicBezTo>
                        <a:pt x="184" y="345"/>
                        <a:pt x="195" y="334"/>
                        <a:pt x="209" y="334"/>
                      </a:cubicBezTo>
                      <a:close/>
                      <a:moveTo>
                        <a:pt x="309" y="334"/>
                      </a:moveTo>
                      <a:lnTo>
                        <a:pt x="309" y="334"/>
                      </a:lnTo>
                      <a:cubicBezTo>
                        <a:pt x="323" y="334"/>
                        <a:pt x="334" y="345"/>
                        <a:pt x="334" y="359"/>
                      </a:cubicBezTo>
                      <a:cubicBezTo>
                        <a:pt x="334" y="373"/>
                        <a:pt x="323" y="384"/>
                        <a:pt x="309" y="384"/>
                      </a:cubicBezTo>
                      <a:lnTo>
                        <a:pt x="309" y="384"/>
                      </a:lnTo>
                      <a:cubicBezTo>
                        <a:pt x="295" y="384"/>
                        <a:pt x="284" y="373"/>
                        <a:pt x="284" y="359"/>
                      </a:cubicBezTo>
                      <a:cubicBezTo>
                        <a:pt x="284" y="345"/>
                        <a:pt x="295" y="334"/>
                        <a:pt x="309" y="334"/>
                      </a:cubicBezTo>
                      <a:close/>
                      <a:moveTo>
                        <a:pt x="409" y="334"/>
                      </a:moveTo>
                      <a:lnTo>
                        <a:pt x="409" y="334"/>
                      </a:lnTo>
                      <a:cubicBezTo>
                        <a:pt x="423" y="334"/>
                        <a:pt x="434" y="345"/>
                        <a:pt x="434" y="359"/>
                      </a:cubicBezTo>
                      <a:cubicBezTo>
                        <a:pt x="434" y="373"/>
                        <a:pt x="423" y="384"/>
                        <a:pt x="409" y="384"/>
                      </a:cubicBezTo>
                      <a:lnTo>
                        <a:pt x="409" y="384"/>
                      </a:lnTo>
                      <a:cubicBezTo>
                        <a:pt x="395" y="384"/>
                        <a:pt x="384" y="373"/>
                        <a:pt x="384" y="359"/>
                      </a:cubicBezTo>
                      <a:cubicBezTo>
                        <a:pt x="384" y="345"/>
                        <a:pt x="395" y="334"/>
                        <a:pt x="409" y="334"/>
                      </a:cubicBezTo>
                      <a:close/>
                      <a:moveTo>
                        <a:pt x="509" y="334"/>
                      </a:moveTo>
                      <a:lnTo>
                        <a:pt x="509" y="334"/>
                      </a:lnTo>
                      <a:cubicBezTo>
                        <a:pt x="523" y="334"/>
                        <a:pt x="534" y="345"/>
                        <a:pt x="534" y="359"/>
                      </a:cubicBezTo>
                      <a:cubicBezTo>
                        <a:pt x="534" y="373"/>
                        <a:pt x="523" y="384"/>
                        <a:pt x="509" y="384"/>
                      </a:cubicBezTo>
                      <a:lnTo>
                        <a:pt x="509" y="384"/>
                      </a:lnTo>
                      <a:cubicBezTo>
                        <a:pt x="495" y="384"/>
                        <a:pt x="484" y="373"/>
                        <a:pt x="484" y="359"/>
                      </a:cubicBezTo>
                      <a:cubicBezTo>
                        <a:pt x="484" y="345"/>
                        <a:pt x="495" y="334"/>
                        <a:pt x="509" y="334"/>
                      </a:cubicBezTo>
                      <a:close/>
                      <a:moveTo>
                        <a:pt x="550" y="325"/>
                      </a:moveTo>
                      <a:lnTo>
                        <a:pt x="550" y="325"/>
                      </a:lnTo>
                      <a:cubicBezTo>
                        <a:pt x="550" y="311"/>
                        <a:pt x="562" y="300"/>
                        <a:pt x="575" y="300"/>
                      </a:cubicBezTo>
                      <a:cubicBezTo>
                        <a:pt x="589" y="300"/>
                        <a:pt x="600" y="311"/>
                        <a:pt x="600" y="325"/>
                      </a:cubicBezTo>
                      <a:lnTo>
                        <a:pt x="600" y="325"/>
                      </a:lnTo>
                      <a:cubicBezTo>
                        <a:pt x="600" y="339"/>
                        <a:pt x="589" y="350"/>
                        <a:pt x="575" y="350"/>
                      </a:cubicBezTo>
                      <a:cubicBezTo>
                        <a:pt x="562" y="350"/>
                        <a:pt x="550" y="339"/>
                        <a:pt x="550" y="325"/>
                      </a:cubicBezTo>
                      <a:close/>
                      <a:moveTo>
                        <a:pt x="550" y="225"/>
                      </a:moveTo>
                      <a:lnTo>
                        <a:pt x="550" y="225"/>
                      </a:lnTo>
                      <a:cubicBezTo>
                        <a:pt x="550" y="211"/>
                        <a:pt x="562" y="200"/>
                        <a:pt x="575" y="200"/>
                      </a:cubicBezTo>
                      <a:cubicBezTo>
                        <a:pt x="589" y="200"/>
                        <a:pt x="600" y="211"/>
                        <a:pt x="600" y="225"/>
                      </a:cubicBezTo>
                      <a:lnTo>
                        <a:pt x="600" y="225"/>
                      </a:lnTo>
                      <a:cubicBezTo>
                        <a:pt x="600" y="239"/>
                        <a:pt x="589" y="250"/>
                        <a:pt x="575" y="250"/>
                      </a:cubicBezTo>
                      <a:cubicBezTo>
                        <a:pt x="562" y="250"/>
                        <a:pt x="550" y="239"/>
                        <a:pt x="550" y="225"/>
                      </a:cubicBezTo>
                      <a:close/>
                      <a:moveTo>
                        <a:pt x="550" y="125"/>
                      </a:moveTo>
                      <a:lnTo>
                        <a:pt x="550" y="125"/>
                      </a:lnTo>
                      <a:cubicBezTo>
                        <a:pt x="550" y="111"/>
                        <a:pt x="562" y="100"/>
                        <a:pt x="575" y="100"/>
                      </a:cubicBezTo>
                      <a:cubicBezTo>
                        <a:pt x="589" y="100"/>
                        <a:pt x="600" y="111"/>
                        <a:pt x="600" y="125"/>
                      </a:cubicBezTo>
                      <a:lnTo>
                        <a:pt x="600" y="125"/>
                      </a:lnTo>
                      <a:cubicBezTo>
                        <a:pt x="600" y="139"/>
                        <a:pt x="589" y="150"/>
                        <a:pt x="575" y="150"/>
                      </a:cubicBezTo>
                      <a:cubicBezTo>
                        <a:pt x="562" y="150"/>
                        <a:pt x="550" y="139"/>
                        <a:pt x="550" y="125"/>
                      </a:cubicBezTo>
                      <a:close/>
                      <a:moveTo>
                        <a:pt x="550" y="25"/>
                      </a:moveTo>
                      <a:lnTo>
                        <a:pt x="550" y="25"/>
                      </a:lnTo>
                      <a:cubicBezTo>
                        <a:pt x="550" y="11"/>
                        <a:pt x="562" y="0"/>
                        <a:pt x="575" y="0"/>
                      </a:cubicBezTo>
                      <a:cubicBezTo>
                        <a:pt x="589" y="0"/>
                        <a:pt x="600" y="11"/>
                        <a:pt x="600" y="25"/>
                      </a:cubicBezTo>
                      <a:lnTo>
                        <a:pt x="600" y="25"/>
                      </a:lnTo>
                      <a:cubicBezTo>
                        <a:pt x="600" y="39"/>
                        <a:pt x="589" y="50"/>
                        <a:pt x="575" y="50"/>
                      </a:cubicBezTo>
                      <a:cubicBezTo>
                        <a:pt x="562" y="50"/>
                        <a:pt x="550" y="39"/>
                        <a:pt x="550" y="2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190720" y="3169440"/>
                  <a:ext cx="95760" cy="145800"/>
                </a:xfrm>
                <a:custGeom>
                  <a:avLst/>
                  <a:gdLst/>
                  <a:ahLst/>
                  <a:rect l="l" t="t" r="r" b="b"/>
                  <a:pathLst>
                    <a:path w="534" h="867">
                      <a:moveTo>
                        <a:pt x="50" y="25"/>
                      </a:moveTo>
                      <a:lnTo>
                        <a:pt x="50" y="25"/>
                      </a:lnTo>
                      <a:cubicBezTo>
                        <a:pt x="50" y="39"/>
                        <a:pt x="39" y="50"/>
                        <a:pt x="25" y="50"/>
                      </a:cubicBezTo>
                      <a:cubicBezTo>
                        <a:pt x="12" y="50"/>
                        <a:pt x="0" y="39"/>
                        <a:pt x="0" y="25"/>
                      </a:cubicBezTo>
                      <a:lnTo>
                        <a:pt x="0" y="25"/>
                      </a:lnTo>
                      <a:cubicBezTo>
                        <a:pt x="0" y="11"/>
                        <a:pt x="12" y="0"/>
                        <a:pt x="25" y="0"/>
                      </a:cubicBezTo>
                      <a:cubicBezTo>
                        <a:pt x="39" y="0"/>
                        <a:pt x="50" y="11"/>
                        <a:pt x="50" y="25"/>
                      </a:cubicBezTo>
                      <a:close/>
                      <a:moveTo>
                        <a:pt x="50" y="125"/>
                      </a:moveTo>
                      <a:lnTo>
                        <a:pt x="50" y="125"/>
                      </a:lnTo>
                      <a:cubicBezTo>
                        <a:pt x="50" y="139"/>
                        <a:pt x="39" y="150"/>
                        <a:pt x="25" y="150"/>
                      </a:cubicBezTo>
                      <a:cubicBezTo>
                        <a:pt x="12" y="150"/>
                        <a:pt x="0" y="139"/>
                        <a:pt x="0" y="125"/>
                      </a:cubicBezTo>
                      <a:lnTo>
                        <a:pt x="0" y="125"/>
                      </a:lnTo>
                      <a:cubicBezTo>
                        <a:pt x="0" y="111"/>
                        <a:pt x="12" y="100"/>
                        <a:pt x="25" y="100"/>
                      </a:cubicBezTo>
                      <a:cubicBezTo>
                        <a:pt x="39" y="100"/>
                        <a:pt x="50" y="111"/>
                        <a:pt x="50" y="125"/>
                      </a:cubicBezTo>
                      <a:close/>
                      <a:moveTo>
                        <a:pt x="50" y="225"/>
                      </a:moveTo>
                      <a:lnTo>
                        <a:pt x="50" y="225"/>
                      </a:lnTo>
                      <a:cubicBezTo>
                        <a:pt x="50" y="239"/>
                        <a:pt x="39" y="250"/>
                        <a:pt x="25" y="250"/>
                      </a:cubicBezTo>
                      <a:cubicBezTo>
                        <a:pt x="12" y="250"/>
                        <a:pt x="0" y="239"/>
                        <a:pt x="0" y="225"/>
                      </a:cubicBezTo>
                      <a:lnTo>
                        <a:pt x="0" y="225"/>
                      </a:lnTo>
                      <a:cubicBezTo>
                        <a:pt x="0" y="211"/>
                        <a:pt x="12" y="200"/>
                        <a:pt x="25" y="200"/>
                      </a:cubicBezTo>
                      <a:cubicBezTo>
                        <a:pt x="39" y="200"/>
                        <a:pt x="50" y="211"/>
                        <a:pt x="50" y="225"/>
                      </a:cubicBezTo>
                      <a:close/>
                      <a:moveTo>
                        <a:pt x="50" y="325"/>
                      </a:moveTo>
                      <a:lnTo>
                        <a:pt x="50" y="325"/>
                      </a:lnTo>
                      <a:cubicBezTo>
                        <a:pt x="50" y="339"/>
                        <a:pt x="39" y="350"/>
                        <a:pt x="25" y="350"/>
                      </a:cubicBezTo>
                      <a:cubicBezTo>
                        <a:pt x="12" y="350"/>
                        <a:pt x="0" y="339"/>
                        <a:pt x="0" y="325"/>
                      </a:cubicBezTo>
                      <a:lnTo>
                        <a:pt x="0" y="325"/>
                      </a:lnTo>
                      <a:cubicBezTo>
                        <a:pt x="0" y="311"/>
                        <a:pt x="12" y="300"/>
                        <a:pt x="25" y="300"/>
                      </a:cubicBezTo>
                      <a:cubicBezTo>
                        <a:pt x="39" y="300"/>
                        <a:pt x="50" y="311"/>
                        <a:pt x="50" y="325"/>
                      </a:cubicBezTo>
                      <a:close/>
                      <a:moveTo>
                        <a:pt x="92" y="333"/>
                      </a:moveTo>
                      <a:lnTo>
                        <a:pt x="92" y="333"/>
                      </a:lnTo>
                      <a:cubicBezTo>
                        <a:pt x="106" y="333"/>
                        <a:pt x="117" y="345"/>
                        <a:pt x="117" y="358"/>
                      </a:cubicBezTo>
                      <a:cubicBezTo>
                        <a:pt x="117" y="372"/>
                        <a:pt x="106" y="383"/>
                        <a:pt x="92" y="383"/>
                      </a:cubicBezTo>
                      <a:lnTo>
                        <a:pt x="92" y="383"/>
                      </a:lnTo>
                      <a:cubicBezTo>
                        <a:pt x="79" y="383"/>
                        <a:pt x="67" y="372"/>
                        <a:pt x="67" y="358"/>
                      </a:cubicBezTo>
                      <a:cubicBezTo>
                        <a:pt x="67" y="345"/>
                        <a:pt x="79" y="333"/>
                        <a:pt x="92" y="333"/>
                      </a:cubicBezTo>
                      <a:close/>
                      <a:moveTo>
                        <a:pt x="192" y="333"/>
                      </a:moveTo>
                      <a:lnTo>
                        <a:pt x="192" y="333"/>
                      </a:lnTo>
                      <a:cubicBezTo>
                        <a:pt x="206" y="333"/>
                        <a:pt x="217" y="345"/>
                        <a:pt x="217" y="358"/>
                      </a:cubicBezTo>
                      <a:cubicBezTo>
                        <a:pt x="217" y="372"/>
                        <a:pt x="206" y="383"/>
                        <a:pt x="192" y="383"/>
                      </a:cubicBezTo>
                      <a:lnTo>
                        <a:pt x="192" y="383"/>
                      </a:lnTo>
                      <a:cubicBezTo>
                        <a:pt x="179" y="383"/>
                        <a:pt x="167" y="372"/>
                        <a:pt x="167" y="358"/>
                      </a:cubicBezTo>
                      <a:cubicBezTo>
                        <a:pt x="167" y="345"/>
                        <a:pt x="179" y="333"/>
                        <a:pt x="192" y="333"/>
                      </a:cubicBezTo>
                      <a:close/>
                      <a:moveTo>
                        <a:pt x="292" y="333"/>
                      </a:moveTo>
                      <a:lnTo>
                        <a:pt x="292" y="333"/>
                      </a:lnTo>
                      <a:cubicBezTo>
                        <a:pt x="306" y="333"/>
                        <a:pt x="317" y="345"/>
                        <a:pt x="317" y="358"/>
                      </a:cubicBezTo>
                      <a:cubicBezTo>
                        <a:pt x="317" y="372"/>
                        <a:pt x="306" y="383"/>
                        <a:pt x="292" y="383"/>
                      </a:cubicBezTo>
                      <a:lnTo>
                        <a:pt x="292" y="383"/>
                      </a:lnTo>
                      <a:cubicBezTo>
                        <a:pt x="279" y="383"/>
                        <a:pt x="267" y="372"/>
                        <a:pt x="267" y="358"/>
                      </a:cubicBezTo>
                      <a:cubicBezTo>
                        <a:pt x="267" y="345"/>
                        <a:pt x="279" y="333"/>
                        <a:pt x="292" y="333"/>
                      </a:cubicBezTo>
                      <a:close/>
                      <a:moveTo>
                        <a:pt x="392" y="333"/>
                      </a:moveTo>
                      <a:lnTo>
                        <a:pt x="393" y="333"/>
                      </a:lnTo>
                      <a:cubicBezTo>
                        <a:pt x="406" y="333"/>
                        <a:pt x="418" y="345"/>
                        <a:pt x="418" y="358"/>
                      </a:cubicBezTo>
                      <a:cubicBezTo>
                        <a:pt x="418" y="372"/>
                        <a:pt x="406" y="383"/>
                        <a:pt x="393" y="383"/>
                      </a:cubicBezTo>
                      <a:lnTo>
                        <a:pt x="392" y="383"/>
                      </a:lnTo>
                      <a:cubicBezTo>
                        <a:pt x="379" y="383"/>
                        <a:pt x="367" y="372"/>
                        <a:pt x="367" y="358"/>
                      </a:cubicBezTo>
                      <a:cubicBezTo>
                        <a:pt x="367" y="345"/>
                        <a:pt x="379" y="333"/>
                        <a:pt x="392" y="333"/>
                      </a:cubicBezTo>
                      <a:close/>
                      <a:moveTo>
                        <a:pt x="493" y="333"/>
                      </a:moveTo>
                      <a:lnTo>
                        <a:pt x="493" y="333"/>
                      </a:lnTo>
                      <a:cubicBezTo>
                        <a:pt x="506" y="333"/>
                        <a:pt x="518" y="345"/>
                        <a:pt x="518" y="358"/>
                      </a:cubicBezTo>
                      <a:cubicBezTo>
                        <a:pt x="518" y="372"/>
                        <a:pt x="506" y="383"/>
                        <a:pt x="493" y="383"/>
                      </a:cubicBezTo>
                      <a:lnTo>
                        <a:pt x="493" y="383"/>
                      </a:lnTo>
                      <a:cubicBezTo>
                        <a:pt x="479" y="383"/>
                        <a:pt x="468" y="372"/>
                        <a:pt x="468" y="358"/>
                      </a:cubicBezTo>
                      <a:cubicBezTo>
                        <a:pt x="468" y="345"/>
                        <a:pt x="479" y="333"/>
                        <a:pt x="493" y="333"/>
                      </a:cubicBezTo>
                      <a:close/>
                      <a:moveTo>
                        <a:pt x="534" y="442"/>
                      </a:moveTo>
                      <a:lnTo>
                        <a:pt x="534" y="442"/>
                      </a:lnTo>
                      <a:cubicBezTo>
                        <a:pt x="534" y="456"/>
                        <a:pt x="523" y="467"/>
                        <a:pt x="509" y="467"/>
                      </a:cubicBezTo>
                      <a:cubicBezTo>
                        <a:pt x="495" y="467"/>
                        <a:pt x="484" y="456"/>
                        <a:pt x="484" y="442"/>
                      </a:cubicBezTo>
                      <a:lnTo>
                        <a:pt x="484" y="442"/>
                      </a:lnTo>
                      <a:cubicBezTo>
                        <a:pt x="484" y="428"/>
                        <a:pt x="495" y="417"/>
                        <a:pt x="509" y="417"/>
                      </a:cubicBezTo>
                      <a:cubicBezTo>
                        <a:pt x="523" y="417"/>
                        <a:pt x="534" y="428"/>
                        <a:pt x="534" y="442"/>
                      </a:cubicBezTo>
                      <a:close/>
                      <a:moveTo>
                        <a:pt x="534" y="542"/>
                      </a:moveTo>
                      <a:lnTo>
                        <a:pt x="534" y="542"/>
                      </a:lnTo>
                      <a:cubicBezTo>
                        <a:pt x="534" y="556"/>
                        <a:pt x="523" y="567"/>
                        <a:pt x="509" y="567"/>
                      </a:cubicBezTo>
                      <a:cubicBezTo>
                        <a:pt x="495" y="567"/>
                        <a:pt x="484" y="556"/>
                        <a:pt x="484" y="542"/>
                      </a:cubicBezTo>
                      <a:lnTo>
                        <a:pt x="484" y="542"/>
                      </a:lnTo>
                      <a:cubicBezTo>
                        <a:pt x="484" y="528"/>
                        <a:pt x="495" y="517"/>
                        <a:pt x="509" y="517"/>
                      </a:cubicBezTo>
                      <a:cubicBezTo>
                        <a:pt x="523" y="517"/>
                        <a:pt x="534" y="528"/>
                        <a:pt x="534" y="542"/>
                      </a:cubicBezTo>
                      <a:close/>
                      <a:moveTo>
                        <a:pt x="534" y="642"/>
                      </a:moveTo>
                      <a:lnTo>
                        <a:pt x="534" y="642"/>
                      </a:lnTo>
                      <a:cubicBezTo>
                        <a:pt x="534" y="656"/>
                        <a:pt x="523" y="667"/>
                        <a:pt x="509" y="667"/>
                      </a:cubicBezTo>
                      <a:cubicBezTo>
                        <a:pt x="495" y="667"/>
                        <a:pt x="484" y="656"/>
                        <a:pt x="484" y="642"/>
                      </a:cubicBezTo>
                      <a:lnTo>
                        <a:pt x="484" y="642"/>
                      </a:lnTo>
                      <a:cubicBezTo>
                        <a:pt x="484" y="629"/>
                        <a:pt x="495" y="617"/>
                        <a:pt x="509" y="617"/>
                      </a:cubicBezTo>
                      <a:cubicBezTo>
                        <a:pt x="523" y="617"/>
                        <a:pt x="534" y="629"/>
                        <a:pt x="534" y="642"/>
                      </a:cubicBezTo>
                      <a:close/>
                      <a:moveTo>
                        <a:pt x="534" y="742"/>
                      </a:moveTo>
                      <a:lnTo>
                        <a:pt x="534" y="742"/>
                      </a:lnTo>
                      <a:cubicBezTo>
                        <a:pt x="534" y="756"/>
                        <a:pt x="523" y="767"/>
                        <a:pt x="509" y="767"/>
                      </a:cubicBezTo>
                      <a:cubicBezTo>
                        <a:pt x="495" y="767"/>
                        <a:pt x="484" y="756"/>
                        <a:pt x="484" y="742"/>
                      </a:cubicBezTo>
                      <a:lnTo>
                        <a:pt x="484" y="742"/>
                      </a:lnTo>
                      <a:cubicBezTo>
                        <a:pt x="484" y="729"/>
                        <a:pt x="495" y="717"/>
                        <a:pt x="509" y="717"/>
                      </a:cubicBezTo>
                      <a:cubicBezTo>
                        <a:pt x="523" y="717"/>
                        <a:pt x="534" y="729"/>
                        <a:pt x="534" y="742"/>
                      </a:cubicBezTo>
                      <a:close/>
                      <a:moveTo>
                        <a:pt x="534" y="842"/>
                      </a:moveTo>
                      <a:lnTo>
                        <a:pt x="534" y="843"/>
                      </a:lnTo>
                      <a:cubicBezTo>
                        <a:pt x="534" y="856"/>
                        <a:pt x="523" y="867"/>
                        <a:pt x="509" y="867"/>
                      </a:cubicBezTo>
                      <a:cubicBezTo>
                        <a:pt x="495" y="867"/>
                        <a:pt x="484" y="856"/>
                        <a:pt x="484" y="843"/>
                      </a:cubicBezTo>
                      <a:lnTo>
                        <a:pt x="484" y="842"/>
                      </a:lnTo>
                      <a:cubicBezTo>
                        <a:pt x="484" y="829"/>
                        <a:pt x="495" y="817"/>
                        <a:pt x="509" y="817"/>
                      </a:cubicBezTo>
                      <a:cubicBezTo>
                        <a:pt x="523" y="817"/>
                        <a:pt x="534" y="829"/>
                        <a:pt x="534" y="84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014960" y="3052800"/>
                <a:ext cx="527400" cy="726840"/>
                <a:chOff x="7014960" y="3052800"/>
                <a:chExt cx="527400" cy="72684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7278840" y="3432240"/>
                  <a:ext cx="0" cy="6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278840" y="3305160"/>
                  <a:ext cx="0" cy="6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7" name=""/>
                <p:cNvGrpSpPr/>
                <p:nvPr/>
              </p:nvGrpSpPr>
              <p:grpSpPr>
                <a:xfrm>
                  <a:off x="7026840" y="3052800"/>
                  <a:ext cx="238680" cy="97560"/>
                  <a:chOff x="7026840" y="3052800"/>
                  <a:chExt cx="238680" cy="9756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7026840" y="3052800"/>
                    <a:ext cx="238680" cy="9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7026840" y="3052800"/>
                    <a:ext cx="238680" cy="975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7014960" y="3680640"/>
                  <a:ext cx="239040" cy="99000"/>
                  <a:chOff x="7014960" y="3680640"/>
                  <a:chExt cx="239040" cy="9900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7014960" y="3680640"/>
                    <a:ext cx="239040" cy="9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7014960" y="3680640"/>
                    <a:ext cx="239040" cy="99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7143480" y="3178080"/>
                  <a:ext cx="111600" cy="37440"/>
                  <a:chOff x="7143480" y="3178080"/>
                  <a:chExt cx="111600" cy="374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7188480" y="3178080"/>
                    <a:ext cx="66600" cy="374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7143480" y="3191760"/>
                    <a:ext cx="40680" cy="7920"/>
                    <a:chOff x="7143480" y="3191760"/>
                    <a:chExt cx="40680" cy="792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7143480" y="3191760"/>
                      <a:ext cx="4068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7143480" y="3191760"/>
                      <a:ext cx="4068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7137360" y="3610800"/>
                  <a:ext cx="111600" cy="39240"/>
                  <a:chOff x="7137360" y="3610800"/>
                  <a:chExt cx="111600" cy="3924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7182000" y="3610800"/>
                    <a:ext cx="66960" cy="392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7137360" y="3625920"/>
                    <a:ext cx="40320" cy="9720"/>
                    <a:chOff x="7137360" y="3625920"/>
                    <a:chExt cx="40320" cy="972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7137360" y="3625920"/>
                      <a:ext cx="40320" cy="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7137360" y="3625920"/>
                      <a:ext cx="40320" cy="97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7058880" y="3171240"/>
                  <a:ext cx="2880" cy="27720"/>
                  <a:chOff x="7058880" y="3171240"/>
                  <a:chExt cx="2880" cy="2772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>
                    <a:off x="7058880" y="3171240"/>
                    <a:ext cx="288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7058880" y="3171240"/>
                    <a:ext cx="2880" cy="27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7063200" y="3634560"/>
                  <a:ext cx="2880" cy="27720"/>
                  <a:chOff x="7063200" y="3634560"/>
                  <a:chExt cx="2880" cy="2772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7063200" y="3634560"/>
                    <a:ext cx="288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7063200" y="3634560"/>
                    <a:ext cx="2880" cy="27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9" name=""/>
                <p:cNvSpPr/>
                <p:nvPr/>
              </p:nvSpPr>
              <p:spPr>
                <a:xfrm>
                  <a:off x="7229160" y="3215880"/>
                  <a:ext cx="0" cy="3906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058880" y="3419640"/>
                  <a:ext cx="154080" cy="220320"/>
                </a:xfrm>
                <a:custGeom>
                  <a:avLst/>
                  <a:gdLst/>
                  <a:ahLst/>
                  <a:rect l="l" t="t" r="r" b="b"/>
                  <a:pathLst>
                    <a:path w="501" h="1300">
                      <a:moveTo>
                        <a:pt x="0" y="1275"/>
                      </a:moveTo>
                      <a:lnTo>
                        <a:pt x="0" y="1275"/>
                      </a:lnTo>
                      <a:cubicBezTo>
                        <a:pt x="0" y="1261"/>
                        <a:pt x="12" y="1250"/>
                        <a:pt x="25" y="1250"/>
                      </a:cubicBezTo>
                      <a:cubicBezTo>
                        <a:pt x="39" y="1250"/>
                        <a:pt x="50" y="1261"/>
                        <a:pt x="50" y="1275"/>
                      </a:cubicBezTo>
                      <a:lnTo>
                        <a:pt x="50" y="1275"/>
                      </a:lnTo>
                      <a:cubicBezTo>
                        <a:pt x="50" y="1289"/>
                        <a:pt x="39" y="1300"/>
                        <a:pt x="25" y="1300"/>
                      </a:cubicBezTo>
                      <a:cubicBezTo>
                        <a:pt x="12" y="1300"/>
                        <a:pt x="0" y="1289"/>
                        <a:pt x="0" y="1275"/>
                      </a:cubicBezTo>
                      <a:close/>
                      <a:moveTo>
                        <a:pt x="0" y="1175"/>
                      </a:moveTo>
                      <a:lnTo>
                        <a:pt x="0" y="1175"/>
                      </a:lnTo>
                      <a:cubicBezTo>
                        <a:pt x="0" y="1161"/>
                        <a:pt x="12" y="1150"/>
                        <a:pt x="25" y="1150"/>
                      </a:cubicBezTo>
                      <a:cubicBezTo>
                        <a:pt x="39" y="1150"/>
                        <a:pt x="50" y="1161"/>
                        <a:pt x="50" y="1175"/>
                      </a:cubicBezTo>
                      <a:lnTo>
                        <a:pt x="50" y="1175"/>
                      </a:lnTo>
                      <a:cubicBezTo>
                        <a:pt x="50" y="1189"/>
                        <a:pt x="39" y="1200"/>
                        <a:pt x="25" y="1200"/>
                      </a:cubicBezTo>
                      <a:cubicBezTo>
                        <a:pt x="12" y="1200"/>
                        <a:pt x="0" y="1189"/>
                        <a:pt x="0" y="1175"/>
                      </a:cubicBezTo>
                      <a:close/>
                      <a:moveTo>
                        <a:pt x="0" y="1075"/>
                      </a:moveTo>
                      <a:lnTo>
                        <a:pt x="0" y="1075"/>
                      </a:lnTo>
                      <a:cubicBezTo>
                        <a:pt x="0" y="1061"/>
                        <a:pt x="12" y="1050"/>
                        <a:pt x="25" y="1050"/>
                      </a:cubicBezTo>
                      <a:cubicBezTo>
                        <a:pt x="39" y="1050"/>
                        <a:pt x="50" y="1061"/>
                        <a:pt x="50" y="1075"/>
                      </a:cubicBezTo>
                      <a:lnTo>
                        <a:pt x="50" y="1075"/>
                      </a:lnTo>
                      <a:cubicBezTo>
                        <a:pt x="50" y="1089"/>
                        <a:pt x="39" y="1100"/>
                        <a:pt x="25" y="1100"/>
                      </a:cubicBezTo>
                      <a:cubicBezTo>
                        <a:pt x="12" y="1100"/>
                        <a:pt x="0" y="1089"/>
                        <a:pt x="0" y="1075"/>
                      </a:cubicBezTo>
                      <a:close/>
                      <a:moveTo>
                        <a:pt x="0" y="975"/>
                      </a:moveTo>
                      <a:lnTo>
                        <a:pt x="0" y="975"/>
                      </a:lnTo>
                      <a:cubicBezTo>
                        <a:pt x="0" y="961"/>
                        <a:pt x="12" y="950"/>
                        <a:pt x="25" y="950"/>
                      </a:cubicBezTo>
                      <a:cubicBezTo>
                        <a:pt x="39" y="950"/>
                        <a:pt x="50" y="961"/>
                        <a:pt x="50" y="975"/>
                      </a:cubicBezTo>
                      <a:lnTo>
                        <a:pt x="50" y="975"/>
                      </a:lnTo>
                      <a:cubicBezTo>
                        <a:pt x="50" y="989"/>
                        <a:pt x="39" y="1000"/>
                        <a:pt x="25" y="1000"/>
                      </a:cubicBezTo>
                      <a:cubicBezTo>
                        <a:pt x="12" y="1000"/>
                        <a:pt x="0" y="989"/>
                        <a:pt x="0" y="975"/>
                      </a:cubicBezTo>
                      <a:close/>
                      <a:moveTo>
                        <a:pt x="0" y="875"/>
                      </a:moveTo>
                      <a:lnTo>
                        <a:pt x="0" y="875"/>
                      </a:lnTo>
                      <a:cubicBezTo>
                        <a:pt x="0" y="861"/>
                        <a:pt x="12" y="850"/>
                        <a:pt x="25" y="850"/>
                      </a:cubicBezTo>
                      <a:cubicBezTo>
                        <a:pt x="39" y="850"/>
                        <a:pt x="50" y="861"/>
                        <a:pt x="50" y="875"/>
                      </a:cubicBezTo>
                      <a:lnTo>
                        <a:pt x="50" y="875"/>
                      </a:lnTo>
                      <a:cubicBezTo>
                        <a:pt x="50" y="889"/>
                        <a:pt x="39" y="900"/>
                        <a:pt x="25" y="900"/>
                      </a:cubicBezTo>
                      <a:cubicBezTo>
                        <a:pt x="12" y="900"/>
                        <a:pt x="0" y="889"/>
                        <a:pt x="0" y="875"/>
                      </a:cubicBezTo>
                      <a:close/>
                      <a:moveTo>
                        <a:pt x="0" y="775"/>
                      </a:moveTo>
                      <a:lnTo>
                        <a:pt x="0" y="775"/>
                      </a:lnTo>
                      <a:cubicBezTo>
                        <a:pt x="0" y="761"/>
                        <a:pt x="12" y="750"/>
                        <a:pt x="25" y="750"/>
                      </a:cubicBezTo>
                      <a:cubicBezTo>
                        <a:pt x="39" y="750"/>
                        <a:pt x="50" y="761"/>
                        <a:pt x="50" y="775"/>
                      </a:cubicBezTo>
                      <a:lnTo>
                        <a:pt x="50" y="775"/>
                      </a:lnTo>
                      <a:cubicBezTo>
                        <a:pt x="50" y="789"/>
                        <a:pt x="39" y="800"/>
                        <a:pt x="25" y="800"/>
                      </a:cubicBezTo>
                      <a:cubicBezTo>
                        <a:pt x="12" y="800"/>
                        <a:pt x="0" y="789"/>
                        <a:pt x="0" y="775"/>
                      </a:cubicBezTo>
                      <a:close/>
                      <a:moveTo>
                        <a:pt x="0" y="675"/>
                      </a:moveTo>
                      <a:lnTo>
                        <a:pt x="0" y="675"/>
                      </a:lnTo>
                      <a:cubicBezTo>
                        <a:pt x="0" y="661"/>
                        <a:pt x="12" y="650"/>
                        <a:pt x="25" y="650"/>
                      </a:cubicBezTo>
                      <a:cubicBezTo>
                        <a:pt x="39" y="650"/>
                        <a:pt x="50" y="661"/>
                        <a:pt x="50" y="675"/>
                      </a:cubicBezTo>
                      <a:lnTo>
                        <a:pt x="50" y="675"/>
                      </a:lnTo>
                      <a:cubicBezTo>
                        <a:pt x="50" y="689"/>
                        <a:pt x="39" y="700"/>
                        <a:pt x="25" y="700"/>
                      </a:cubicBezTo>
                      <a:cubicBezTo>
                        <a:pt x="12" y="700"/>
                        <a:pt x="0" y="689"/>
                        <a:pt x="0" y="675"/>
                      </a:cubicBezTo>
                      <a:close/>
                      <a:moveTo>
                        <a:pt x="0" y="575"/>
                      </a:moveTo>
                      <a:lnTo>
                        <a:pt x="0" y="575"/>
                      </a:lnTo>
                      <a:cubicBezTo>
                        <a:pt x="0" y="561"/>
                        <a:pt x="12" y="550"/>
                        <a:pt x="25" y="550"/>
                      </a:cubicBezTo>
                      <a:cubicBezTo>
                        <a:pt x="39" y="550"/>
                        <a:pt x="50" y="561"/>
                        <a:pt x="50" y="575"/>
                      </a:cubicBezTo>
                      <a:lnTo>
                        <a:pt x="50" y="575"/>
                      </a:lnTo>
                      <a:cubicBezTo>
                        <a:pt x="50" y="589"/>
                        <a:pt x="39" y="600"/>
                        <a:pt x="25" y="600"/>
                      </a:cubicBezTo>
                      <a:cubicBezTo>
                        <a:pt x="12" y="600"/>
                        <a:pt x="0" y="589"/>
                        <a:pt x="0" y="575"/>
                      </a:cubicBezTo>
                      <a:close/>
                      <a:moveTo>
                        <a:pt x="0" y="475"/>
                      </a:moveTo>
                      <a:lnTo>
                        <a:pt x="0" y="475"/>
                      </a:lnTo>
                      <a:cubicBezTo>
                        <a:pt x="0" y="461"/>
                        <a:pt x="12" y="450"/>
                        <a:pt x="25" y="450"/>
                      </a:cubicBezTo>
                      <a:cubicBezTo>
                        <a:pt x="39" y="450"/>
                        <a:pt x="50" y="461"/>
                        <a:pt x="50" y="475"/>
                      </a:cubicBezTo>
                      <a:lnTo>
                        <a:pt x="50" y="475"/>
                      </a:lnTo>
                      <a:cubicBezTo>
                        <a:pt x="50" y="489"/>
                        <a:pt x="39" y="500"/>
                        <a:pt x="25" y="500"/>
                      </a:cubicBezTo>
                      <a:cubicBezTo>
                        <a:pt x="12" y="500"/>
                        <a:pt x="0" y="489"/>
                        <a:pt x="0" y="475"/>
                      </a:cubicBezTo>
                      <a:close/>
                      <a:moveTo>
                        <a:pt x="0" y="375"/>
                      </a:moveTo>
                      <a:lnTo>
                        <a:pt x="0" y="375"/>
                      </a:lnTo>
                      <a:cubicBezTo>
                        <a:pt x="0" y="361"/>
                        <a:pt x="12" y="350"/>
                        <a:pt x="25" y="350"/>
                      </a:cubicBezTo>
                      <a:cubicBezTo>
                        <a:pt x="39" y="350"/>
                        <a:pt x="50" y="361"/>
                        <a:pt x="50" y="375"/>
                      </a:cubicBezTo>
                      <a:lnTo>
                        <a:pt x="50" y="375"/>
                      </a:lnTo>
                      <a:cubicBezTo>
                        <a:pt x="50" y="388"/>
                        <a:pt x="39" y="400"/>
                        <a:pt x="25" y="400"/>
                      </a:cubicBezTo>
                      <a:cubicBezTo>
                        <a:pt x="12" y="400"/>
                        <a:pt x="0" y="388"/>
                        <a:pt x="0" y="375"/>
                      </a:cubicBezTo>
                      <a:close/>
                      <a:moveTo>
                        <a:pt x="0" y="275"/>
                      </a:moveTo>
                      <a:lnTo>
                        <a:pt x="0" y="275"/>
                      </a:lnTo>
                      <a:cubicBezTo>
                        <a:pt x="0" y="261"/>
                        <a:pt x="12" y="250"/>
                        <a:pt x="25" y="250"/>
                      </a:cubicBezTo>
                      <a:cubicBezTo>
                        <a:pt x="39" y="250"/>
                        <a:pt x="50" y="261"/>
                        <a:pt x="50" y="275"/>
                      </a:cubicBezTo>
                      <a:lnTo>
                        <a:pt x="50" y="275"/>
                      </a:lnTo>
                      <a:cubicBezTo>
                        <a:pt x="50" y="288"/>
                        <a:pt x="39" y="300"/>
                        <a:pt x="25" y="300"/>
                      </a:cubicBezTo>
                      <a:cubicBezTo>
                        <a:pt x="12" y="300"/>
                        <a:pt x="0" y="288"/>
                        <a:pt x="0" y="275"/>
                      </a:cubicBezTo>
                      <a:close/>
                      <a:moveTo>
                        <a:pt x="0" y="175"/>
                      </a:moveTo>
                      <a:lnTo>
                        <a:pt x="0" y="175"/>
                      </a:lnTo>
                      <a:cubicBezTo>
                        <a:pt x="0" y="161"/>
                        <a:pt x="12" y="150"/>
                        <a:pt x="25" y="150"/>
                      </a:cubicBezTo>
                      <a:cubicBezTo>
                        <a:pt x="39" y="150"/>
                        <a:pt x="50" y="161"/>
                        <a:pt x="50" y="175"/>
                      </a:cubicBezTo>
                      <a:lnTo>
                        <a:pt x="50" y="175"/>
                      </a:lnTo>
                      <a:cubicBezTo>
                        <a:pt x="50" y="188"/>
                        <a:pt x="39" y="200"/>
                        <a:pt x="25" y="200"/>
                      </a:cubicBezTo>
                      <a:cubicBezTo>
                        <a:pt x="12" y="200"/>
                        <a:pt x="0" y="188"/>
                        <a:pt x="0" y="175"/>
                      </a:cubicBezTo>
                      <a:close/>
                      <a:moveTo>
                        <a:pt x="0" y="75"/>
                      </a:moveTo>
                      <a:lnTo>
                        <a:pt x="0" y="74"/>
                      </a:lnTo>
                      <a:cubicBezTo>
                        <a:pt x="0" y="61"/>
                        <a:pt x="12" y="49"/>
                        <a:pt x="25" y="49"/>
                      </a:cubicBezTo>
                      <a:cubicBezTo>
                        <a:pt x="39" y="49"/>
                        <a:pt x="50" y="61"/>
                        <a:pt x="50" y="74"/>
                      </a:cubicBezTo>
                      <a:lnTo>
                        <a:pt x="50" y="75"/>
                      </a:lnTo>
                      <a:cubicBezTo>
                        <a:pt x="50" y="88"/>
                        <a:pt x="39" y="100"/>
                        <a:pt x="25" y="100"/>
                      </a:cubicBezTo>
                      <a:cubicBezTo>
                        <a:pt x="12" y="100"/>
                        <a:pt x="0" y="88"/>
                        <a:pt x="0" y="75"/>
                      </a:cubicBezTo>
                      <a:close/>
                      <a:moveTo>
                        <a:pt x="76" y="0"/>
                      </a:moveTo>
                      <a:lnTo>
                        <a:pt x="76" y="0"/>
                      </a:lnTo>
                      <a:cubicBezTo>
                        <a:pt x="90" y="0"/>
                        <a:pt x="101" y="11"/>
                        <a:pt x="101" y="25"/>
                      </a:cubicBezTo>
                      <a:cubicBezTo>
                        <a:pt x="101" y="39"/>
                        <a:pt x="90" y="50"/>
                        <a:pt x="76" y="50"/>
                      </a:cubicBezTo>
                      <a:lnTo>
                        <a:pt x="76" y="50"/>
                      </a:lnTo>
                      <a:cubicBezTo>
                        <a:pt x="62" y="50"/>
                        <a:pt x="51" y="39"/>
                        <a:pt x="51" y="25"/>
                      </a:cubicBezTo>
                      <a:cubicBezTo>
                        <a:pt x="51" y="11"/>
                        <a:pt x="62" y="0"/>
                        <a:pt x="76" y="0"/>
                      </a:cubicBezTo>
                      <a:close/>
                      <a:moveTo>
                        <a:pt x="176" y="0"/>
                      </a:moveTo>
                      <a:lnTo>
                        <a:pt x="176" y="0"/>
                      </a:lnTo>
                      <a:cubicBezTo>
                        <a:pt x="190" y="0"/>
                        <a:pt x="201" y="11"/>
                        <a:pt x="201" y="25"/>
                      </a:cubicBezTo>
                      <a:cubicBezTo>
                        <a:pt x="201" y="39"/>
                        <a:pt x="190" y="50"/>
                        <a:pt x="176" y="50"/>
                      </a:cubicBezTo>
                      <a:lnTo>
                        <a:pt x="176" y="50"/>
                      </a:lnTo>
                      <a:cubicBezTo>
                        <a:pt x="162" y="50"/>
                        <a:pt x="151" y="39"/>
                        <a:pt x="151" y="25"/>
                      </a:cubicBezTo>
                      <a:cubicBezTo>
                        <a:pt x="151" y="11"/>
                        <a:pt x="162" y="0"/>
                        <a:pt x="176" y="0"/>
                      </a:cubicBezTo>
                      <a:close/>
                      <a:moveTo>
                        <a:pt x="276" y="0"/>
                      </a:moveTo>
                      <a:lnTo>
                        <a:pt x="276" y="0"/>
                      </a:lnTo>
                      <a:cubicBezTo>
                        <a:pt x="290" y="0"/>
                        <a:pt x="301" y="11"/>
                        <a:pt x="301" y="25"/>
                      </a:cubicBezTo>
                      <a:cubicBezTo>
                        <a:pt x="301" y="39"/>
                        <a:pt x="290" y="50"/>
                        <a:pt x="276" y="50"/>
                      </a:cubicBezTo>
                      <a:lnTo>
                        <a:pt x="276" y="50"/>
                      </a:lnTo>
                      <a:cubicBezTo>
                        <a:pt x="262" y="50"/>
                        <a:pt x="251" y="39"/>
                        <a:pt x="251" y="25"/>
                      </a:cubicBezTo>
                      <a:cubicBezTo>
                        <a:pt x="251" y="11"/>
                        <a:pt x="262" y="0"/>
                        <a:pt x="276" y="0"/>
                      </a:cubicBezTo>
                      <a:close/>
                      <a:moveTo>
                        <a:pt x="376" y="0"/>
                      </a:moveTo>
                      <a:lnTo>
                        <a:pt x="376" y="0"/>
                      </a:lnTo>
                      <a:cubicBezTo>
                        <a:pt x="390" y="0"/>
                        <a:pt x="401" y="11"/>
                        <a:pt x="401" y="25"/>
                      </a:cubicBezTo>
                      <a:cubicBezTo>
                        <a:pt x="401" y="39"/>
                        <a:pt x="390" y="50"/>
                        <a:pt x="376" y="50"/>
                      </a:cubicBezTo>
                      <a:lnTo>
                        <a:pt x="376" y="50"/>
                      </a:lnTo>
                      <a:cubicBezTo>
                        <a:pt x="362" y="50"/>
                        <a:pt x="351" y="39"/>
                        <a:pt x="351" y="25"/>
                      </a:cubicBezTo>
                      <a:cubicBezTo>
                        <a:pt x="351" y="11"/>
                        <a:pt x="362" y="0"/>
                        <a:pt x="376" y="0"/>
                      </a:cubicBezTo>
                      <a:close/>
                      <a:moveTo>
                        <a:pt x="476" y="0"/>
                      </a:moveTo>
                      <a:lnTo>
                        <a:pt x="476" y="0"/>
                      </a:lnTo>
                      <a:cubicBezTo>
                        <a:pt x="490" y="0"/>
                        <a:pt x="501" y="11"/>
                        <a:pt x="501" y="25"/>
                      </a:cubicBezTo>
                      <a:cubicBezTo>
                        <a:pt x="501" y="39"/>
                        <a:pt x="490" y="50"/>
                        <a:pt x="476" y="50"/>
                      </a:cubicBezTo>
                      <a:lnTo>
                        <a:pt x="476" y="50"/>
                      </a:lnTo>
                      <a:cubicBezTo>
                        <a:pt x="463" y="50"/>
                        <a:pt x="451" y="39"/>
                        <a:pt x="451" y="25"/>
                      </a:cubicBezTo>
                      <a:cubicBezTo>
                        <a:pt x="451" y="11"/>
                        <a:pt x="463" y="0"/>
                        <a:pt x="47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052760" y="3168360"/>
                  <a:ext cx="160200" cy="220320"/>
                </a:xfrm>
                <a:custGeom>
                  <a:avLst/>
                  <a:gdLst/>
                  <a:ahLst/>
                  <a:rect l="l" t="t" r="r" b="b"/>
                  <a:pathLst>
                    <a:path w="509" h="1299">
                      <a:moveTo>
                        <a:pt x="58" y="25"/>
                      </a:moveTo>
                      <a:lnTo>
                        <a:pt x="58" y="25"/>
                      </a:lnTo>
                      <a:cubicBezTo>
                        <a:pt x="58" y="39"/>
                        <a:pt x="47" y="50"/>
                        <a:pt x="33" y="50"/>
                      </a:cubicBezTo>
                      <a:cubicBezTo>
                        <a:pt x="19" y="50"/>
                        <a:pt x="8" y="39"/>
                        <a:pt x="8" y="25"/>
                      </a:cubicBezTo>
                      <a:lnTo>
                        <a:pt x="8" y="25"/>
                      </a:lnTo>
                      <a:cubicBezTo>
                        <a:pt x="9" y="11"/>
                        <a:pt x="20" y="0"/>
                        <a:pt x="34" y="0"/>
                      </a:cubicBezTo>
                      <a:cubicBezTo>
                        <a:pt x="48" y="0"/>
                        <a:pt x="59" y="12"/>
                        <a:pt x="58" y="25"/>
                      </a:cubicBezTo>
                      <a:close/>
                      <a:moveTo>
                        <a:pt x="58" y="125"/>
                      </a:moveTo>
                      <a:lnTo>
                        <a:pt x="58" y="125"/>
                      </a:lnTo>
                      <a:cubicBezTo>
                        <a:pt x="58" y="139"/>
                        <a:pt x="46" y="150"/>
                        <a:pt x="33" y="150"/>
                      </a:cubicBezTo>
                      <a:cubicBezTo>
                        <a:pt x="19" y="150"/>
                        <a:pt x="8" y="139"/>
                        <a:pt x="8" y="125"/>
                      </a:cubicBezTo>
                      <a:lnTo>
                        <a:pt x="8" y="125"/>
                      </a:lnTo>
                      <a:cubicBezTo>
                        <a:pt x="8" y="111"/>
                        <a:pt x="19" y="100"/>
                        <a:pt x="33" y="100"/>
                      </a:cubicBezTo>
                      <a:cubicBezTo>
                        <a:pt x="47" y="100"/>
                        <a:pt x="58" y="112"/>
                        <a:pt x="58" y="125"/>
                      </a:cubicBezTo>
                      <a:close/>
                      <a:moveTo>
                        <a:pt x="57" y="225"/>
                      </a:moveTo>
                      <a:lnTo>
                        <a:pt x="57" y="226"/>
                      </a:lnTo>
                      <a:cubicBezTo>
                        <a:pt x="57" y="239"/>
                        <a:pt x="46" y="250"/>
                        <a:pt x="32" y="250"/>
                      </a:cubicBezTo>
                      <a:cubicBezTo>
                        <a:pt x="18" y="250"/>
                        <a:pt x="7" y="239"/>
                        <a:pt x="7" y="225"/>
                      </a:cubicBezTo>
                      <a:lnTo>
                        <a:pt x="7" y="225"/>
                      </a:lnTo>
                      <a:cubicBezTo>
                        <a:pt x="7" y="211"/>
                        <a:pt x="19" y="200"/>
                        <a:pt x="32" y="200"/>
                      </a:cubicBezTo>
                      <a:cubicBezTo>
                        <a:pt x="46" y="200"/>
                        <a:pt x="57" y="212"/>
                        <a:pt x="57" y="225"/>
                      </a:cubicBezTo>
                      <a:close/>
                      <a:moveTo>
                        <a:pt x="56" y="326"/>
                      </a:moveTo>
                      <a:lnTo>
                        <a:pt x="56" y="326"/>
                      </a:lnTo>
                      <a:cubicBezTo>
                        <a:pt x="56" y="339"/>
                        <a:pt x="45" y="350"/>
                        <a:pt x="31" y="350"/>
                      </a:cubicBezTo>
                      <a:cubicBezTo>
                        <a:pt x="17" y="350"/>
                        <a:pt x="6" y="339"/>
                        <a:pt x="6" y="325"/>
                      </a:cubicBezTo>
                      <a:lnTo>
                        <a:pt x="6" y="325"/>
                      </a:lnTo>
                      <a:cubicBezTo>
                        <a:pt x="7" y="311"/>
                        <a:pt x="18" y="300"/>
                        <a:pt x="32" y="300"/>
                      </a:cubicBezTo>
                      <a:cubicBezTo>
                        <a:pt x="46" y="300"/>
                        <a:pt x="57" y="312"/>
                        <a:pt x="56" y="326"/>
                      </a:cubicBezTo>
                      <a:close/>
                      <a:moveTo>
                        <a:pt x="56" y="426"/>
                      </a:moveTo>
                      <a:lnTo>
                        <a:pt x="56" y="426"/>
                      </a:lnTo>
                      <a:cubicBezTo>
                        <a:pt x="56" y="439"/>
                        <a:pt x="44" y="451"/>
                        <a:pt x="31" y="450"/>
                      </a:cubicBezTo>
                      <a:cubicBezTo>
                        <a:pt x="17" y="450"/>
                        <a:pt x="6" y="439"/>
                        <a:pt x="6" y="425"/>
                      </a:cubicBezTo>
                      <a:lnTo>
                        <a:pt x="6" y="425"/>
                      </a:lnTo>
                      <a:cubicBezTo>
                        <a:pt x="6" y="411"/>
                        <a:pt x="17" y="400"/>
                        <a:pt x="31" y="400"/>
                      </a:cubicBezTo>
                      <a:cubicBezTo>
                        <a:pt x="45" y="400"/>
                        <a:pt x="56" y="412"/>
                        <a:pt x="56" y="426"/>
                      </a:cubicBezTo>
                      <a:close/>
                      <a:moveTo>
                        <a:pt x="55" y="526"/>
                      </a:moveTo>
                      <a:lnTo>
                        <a:pt x="55" y="526"/>
                      </a:lnTo>
                      <a:cubicBezTo>
                        <a:pt x="55" y="539"/>
                        <a:pt x="44" y="551"/>
                        <a:pt x="30" y="550"/>
                      </a:cubicBezTo>
                      <a:cubicBezTo>
                        <a:pt x="16" y="550"/>
                        <a:pt x="5" y="539"/>
                        <a:pt x="5" y="525"/>
                      </a:cubicBezTo>
                      <a:lnTo>
                        <a:pt x="5" y="525"/>
                      </a:lnTo>
                      <a:cubicBezTo>
                        <a:pt x="5" y="511"/>
                        <a:pt x="17" y="500"/>
                        <a:pt x="30" y="500"/>
                      </a:cubicBezTo>
                      <a:cubicBezTo>
                        <a:pt x="44" y="501"/>
                        <a:pt x="55" y="512"/>
                        <a:pt x="55" y="526"/>
                      </a:cubicBezTo>
                      <a:close/>
                      <a:moveTo>
                        <a:pt x="54" y="626"/>
                      </a:moveTo>
                      <a:lnTo>
                        <a:pt x="54" y="626"/>
                      </a:lnTo>
                      <a:cubicBezTo>
                        <a:pt x="54" y="640"/>
                        <a:pt x="43" y="651"/>
                        <a:pt x="29" y="650"/>
                      </a:cubicBezTo>
                      <a:cubicBezTo>
                        <a:pt x="15" y="650"/>
                        <a:pt x="4" y="639"/>
                        <a:pt x="4" y="625"/>
                      </a:cubicBezTo>
                      <a:lnTo>
                        <a:pt x="4" y="625"/>
                      </a:lnTo>
                      <a:cubicBezTo>
                        <a:pt x="5" y="611"/>
                        <a:pt x="16" y="600"/>
                        <a:pt x="30" y="600"/>
                      </a:cubicBezTo>
                      <a:cubicBezTo>
                        <a:pt x="43" y="601"/>
                        <a:pt x="55" y="612"/>
                        <a:pt x="54" y="626"/>
                      </a:cubicBezTo>
                      <a:close/>
                      <a:moveTo>
                        <a:pt x="54" y="726"/>
                      </a:moveTo>
                      <a:lnTo>
                        <a:pt x="54" y="726"/>
                      </a:lnTo>
                      <a:cubicBezTo>
                        <a:pt x="54" y="740"/>
                        <a:pt x="42" y="751"/>
                        <a:pt x="29" y="751"/>
                      </a:cubicBezTo>
                      <a:cubicBezTo>
                        <a:pt x="15" y="750"/>
                        <a:pt x="4" y="739"/>
                        <a:pt x="4" y="725"/>
                      </a:cubicBezTo>
                      <a:lnTo>
                        <a:pt x="4" y="725"/>
                      </a:lnTo>
                      <a:cubicBezTo>
                        <a:pt x="4" y="711"/>
                        <a:pt x="15" y="700"/>
                        <a:pt x="29" y="700"/>
                      </a:cubicBezTo>
                      <a:cubicBezTo>
                        <a:pt x="43" y="701"/>
                        <a:pt x="54" y="712"/>
                        <a:pt x="54" y="726"/>
                      </a:cubicBezTo>
                      <a:close/>
                      <a:moveTo>
                        <a:pt x="53" y="826"/>
                      </a:moveTo>
                      <a:lnTo>
                        <a:pt x="53" y="826"/>
                      </a:lnTo>
                      <a:cubicBezTo>
                        <a:pt x="53" y="840"/>
                        <a:pt x="42" y="851"/>
                        <a:pt x="28" y="851"/>
                      </a:cubicBezTo>
                      <a:cubicBezTo>
                        <a:pt x="14" y="850"/>
                        <a:pt x="3" y="839"/>
                        <a:pt x="3" y="825"/>
                      </a:cubicBezTo>
                      <a:lnTo>
                        <a:pt x="3" y="825"/>
                      </a:lnTo>
                      <a:cubicBezTo>
                        <a:pt x="3" y="811"/>
                        <a:pt x="15" y="800"/>
                        <a:pt x="28" y="801"/>
                      </a:cubicBezTo>
                      <a:cubicBezTo>
                        <a:pt x="42" y="801"/>
                        <a:pt x="53" y="812"/>
                        <a:pt x="53" y="826"/>
                      </a:cubicBezTo>
                      <a:close/>
                      <a:moveTo>
                        <a:pt x="52" y="926"/>
                      </a:moveTo>
                      <a:lnTo>
                        <a:pt x="52" y="926"/>
                      </a:lnTo>
                      <a:cubicBezTo>
                        <a:pt x="52" y="940"/>
                        <a:pt x="41" y="951"/>
                        <a:pt x="27" y="951"/>
                      </a:cubicBezTo>
                      <a:cubicBezTo>
                        <a:pt x="13" y="950"/>
                        <a:pt x="2" y="939"/>
                        <a:pt x="2" y="925"/>
                      </a:cubicBezTo>
                      <a:lnTo>
                        <a:pt x="2" y="925"/>
                      </a:lnTo>
                      <a:cubicBezTo>
                        <a:pt x="3" y="912"/>
                        <a:pt x="14" y="900"/>
                        <a:pt x="28" y="901"/>
                      </a:cubicBezTo>
                      <a:cubicBezTo>
                        <a:pt x="41" y="901"/>
                        <a:pt x="53" y="912"/>
                        <a:pt x="52" y="926"/>
                      </a:cubicBezTo>
                      <a:close/>
                      <a:moveTo>
                        <a:pt x="52" y="1026"/>
                      </a:moveTo>
                      <a:lnTo>
                        <a:pt x="52" y="1026"/>
                      </a:lnTo>
                      <a:cubicBezTo>
                        <a:pt x="52" y="1040"/>
                        <a:pt x="40" y="1051"/>
                        <a:pt x="27" y="1051"/>
                      </a:cubicBezTo>
                      <a:cubicBezTo>
                        <a:pt x="13" y="1051"/>
                        <a:pt x="2" y="1039"/>
                        <a:pt x="2" y="1025"/>
                      </a:cubicBezTo>
                      <a:lnTo>
                        <a:pt x="2" y="1025"/>
                      </a:lnTo>
                      <a:cubicBezTo>
                        <a:pt x="2" y="1012"/>
                        <a:pt x="13" y="1000"/>
                        <a:pt x="27" y="1001"/>
                      </a:cubicBezTo>
                      <a:cubicBezTo>
                        <a:pt x="41" y="1001"/>
                        <a:pt x="52" y="1012"/>
                        <a:pt x="52" y="1026"/>
                      </a:cubicBezTo>
                      <a:close/>
                      <a:moveTo>
                        <a:pt x="51" y="1126"/>
                      </a:moveTo>
                      <a:lnTo>
                        <a:pt x="51" y="1126"/>
                      </a:lnTo>
                      <a:cubicBezTo>
                        <a:pt x="51" y="1140"/>
                        <a:pt x="40" y="1151"/>
                        <a:pt x="26" y="1151"/>
                      </a:cubicBezTo>
                      <a:cubicBezTo>
                        <a:pt x="12" y="1151"/>
                        <a:pt x="1" y="1139"/>
                        <a:pt x="1" y="1125"/>
                      </a:cubicBezTo>
                      <a:lnTo>
                        <a:pt x="1" y="1125"/>
                      </a:lnTo>
                      <a:cubicBezTo>
                        <a:pt x="1" y="1112"/>
                        <a:pt x="13" y="1101"/>
                        <a:pt x="26" y="1101"/>
                      </a:cubicBezTo>
                      <a:cubicBezTo>
                        <a:pt x="40" y="1101"/>
                        <a:pt x="51" y="1112"/>
                        <a:pt x="51" y="1126"/>
                      </a:cubicBezTo>
                      <a:close/>
                      <a:moveTo>
                        <a:pt x="50" y="1226"/>
                      </a:moveTo>
                      <a:lnTo>
                        <a:pt x="50" y="1226"/>
                      </a:lnTo>
                      <a:cubicBezTo>
                        <a:pt x="50" y="1240"/>
                        <a:pt x="39" y="1251"/>
                        <a:pt x="25" y="1251"/>
                      </a:cubicBezTo>
                      <a:cubicBezTo>
                        <a:pt x="11" y="1251"/>
                        <a:pt x="0" y="1239"/>
                        <a:pt x="0" y="1226"/>
                      </a:cubicBezTo>
                      <a:lnTo>
                        <a:pt x="0" y="1225"/>
                      </a:lnTo>
                      <a:cubicBezTo>
                        <a:pt x="1" y="1212"/>
                        <a:pt x="12" y="1201"/>
                        <a:pt x="26" y="1201"/>
                      </a:cubicBezTo>
                      <a:cubicBezTo>
                        <a:pt x="39" y="1201"/>
                        <a:pt x="51" y="1212"/>
                        <a:pt x="50" y="1226"/>
                      </a:cubicBezTo>
                      <a:close/>
                      <a:moveTo>
                        <a:pt x="84" y="1243"/>
                      </a:moveTo>
                      <a:lnTo>
                        <a:pt x="84" y="1243"/>
                      </a:lnTo>
                      <a:cubicBezTo>
                        <a:pt x="98" y="1243"/>
                        <a:pt x="109" y="1254"/>
                        <a:pt x="109" y="1268"/>
                      </a:cubicBezTo>
                      <a:cubicBezTo>
                        <a:pt x="109" y="1282"/>
                        <a:pt x="98" y="1293"/>
                        <a:pt x="84" y="1293"/>
                      </a:cubicBezTo>
                      <a:lnTo>
                        <a:pt x="84" y="1293"/>
                      </a:lnTo>
                      <a:cubicBezTo>
                        <a:pt x="70" y="1293"/>
                        <a:pt x="59" y="1282"/>
                        <a:pt x="59" y="1268"/>
                      </a:cubicBezTo>
                      <a:cubicBezTo>
                        <a:pt x="59" y="1254"/>
                        <a:pt x="70" y="1243"/>
                        <a:pt x="84" y="1243"/>
                      </a:cubicBezTo>
                      <a:close/>
                      <a:moveTo>
                        <a:pt x="184" y="1244"/>
                      </a:moveTo>
                      <a:lnTo>
                        <a:pt x="184" y="1244"/>
                      </a:lnTo>
                      <a:cubicBezTo>
                        <a:pt x="198" y="1244"/>
                        <a:pt x="209" y="1256"/>
                        <a:pt x="209" y="1269"/>
                      </a:cubicBezTo>
                      <a:cubicBezTo>
                        <a:pt x="209" y="1283"/>
                        <a:pt x="198" y="1294"/>
                        <a:pt x="184" y="1294"/>
                      </a:cubicBezTo>
                      <a:lnTo>
                        <a:pt x="184" y="1294"/>
                      </a:lnTo>
                      <a:cubicBezTo>
                        <a:pt x="170" y="1294"/>
                        <a:pt x="159" y="1283"/>
                        <a:pt x="159" y="1269"/>
                      </a:cubicBezTo>
                      <a:cubicBezTo>
                        <a:pt x="159" y="1256"/>
                        <a:pt x="170" y="1244"/>
                        <a:pt x="184" y="1244"/>
                      </a:cubicBezTo>
                      <a:close/>
                      <a:moveTo>
                        <a:pt x="284" y="1246"/>
                      </a:moveTo>
                      <a:lnTo>
                        <a:pt x="284" y="1246"/>
                      </a:lnTo>
                      <a:cubicBezTo>
                        <a:pt x="298" y="1246"/>
                        <a:pt x="309" y="1257"/>
                        <a:pt x="309" y="1271"/>
                      </a:cubicBezTo>
                      <a:cubicBezTo>
                        <a:pt x="309" y="1285"/>
                        <a:pt x="298" y="1296"/>
                        <a:pt x="284" y="1296"/>
                      </a:cubicBezTo>
                      <a:lnTo>
                        <a:pt x="284" y="1296"/>
                      </a:lnTo>
                      <a:cubicBezTo>
                        <a:pt x="270" y="1296"/>
                        <a:pt x="259" y="1285"/>
                        <a:pt x="259" y="1271"/>
                      </a:cubicBezTo>
                      <a:cubicBezTo>
                        <a:pt x="259" y="1257"/>
                        <a:pt x="270" y="1246"/>
                        <a:pt x="284" y="1246"/>
                      </a:cubicBezTo>
                      <a:close/>
                      <a:moveTo>
                        <a:pt x="384" y="1248"/>
                      </a:moveTo>
                      <a:lnTo>
                        <a:pt x="384" y="1248"/>
                      </a:lnTo>
                      <a:cubicBezTo>
                        <a:pt x="398" y="1248"/>
                        <a:pt x="409" y="1259"/>
                        <a:pt x="409" y="1273"/>
                      </a:cubicBezTo>
                      <a:cubicBezTo>
                        <a:pt x="409" y="1286"/>
                        <a:pt x="398" y="1298"/>
                        <a:pt x="384" y="1298"/>
                      </a:cubicBezTo>
                      <a:lnTo>
                        <a:pt x="384" y="1298"/>
                      </a:lnTo>
                      <a:cubicBezTo>
                        <a:pt x="370" y="1298"/>
                        <a:pt x="359" y="1286"/>
                        <a:pt x="359" y="1273"/>
                      </a:cubicBezTo>
                      <a:cubicBezTo>
                        <a:pt x="359" y="1259"/>
                        <a:pt x="370" y="1248"/>
                        <a:pt x="384" y="1248"/>
                      </a:cubicBezTo>
                      <a:close/>
                      <a:moveTo>
                        <a:pt x="484" y="1249"/>
                      </a:moveTo>
                      <a:lnTo>
                        <a:pt x="484" y="1249"/>
                      </a:lnTo>
                      <a:cubicBezTo>
                        <a:pt x="498" y="1249"/>
                        <a:pt x="509" y="1261"/>
                        <a:pt x="509" y="1274"/>
                      </a:cubicBezTo>
                      <a:cubicBezTo>
                        <a:pt x="509" y="1288"/>
                        <a:pt x="498" y="1299"/>
                        <a:pt x="484" y="1299"/>
                      </a:cubicBezTo>
                      <a:lnTo>
                        <a:pt x="484" y="1299"/>
                      </a:lnTo>
                      <a:cubicBezTo>
                        <a:pt x="470" y="1299"/>
                        <a:pt x="459" y="1288"/>
                        <a:pt x="459" y="1274"/>
                      </a:cubicBezTo>
                      <a:cubicBezTo>
                        <a:pt x="459" y="1261"/>
                        <a:pt x="470" y="1249"/>
                        <a:pt x="484" y="124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2" name=""/>
                <p:cNvGrpSpPr/>
                <p:nvPr/>
              </p:nvGrpSpPr>
              <p:grpSpPr>
                <a:xfrm>
                  <a:off x="7212960" y="3356640"/>
                  <a:ext cx="115200" cy="101880"/>
                  <a:chOff x="7212960" y="3356640"/>
                  <a:chExt cx="115200" cy="101880"/>
                </a:xfrm>
              </p:grpSpPr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7212960" y="3356640"/>
                    <a:ext cx="115200" cy="101880"/>
                    <a:chOff x="7212960" y="3356640"/>
                    <a:chExt cx="115200" cy="10188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7212960" y="3356640"/>
                      <a:ext cx="115200" cy="10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7212960" y="3356640"/>
                      <a:ext cx="115200" cy="1018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6" name=""/>
                  <p:cNvSpPr/>
                  <p:nvPr/>
                </p:nvSpPr>
                <p:spPr>
                  <a:xfrm rot="16200000">
                    <a:off x="7249680" y="3379680"/>
                    <a:ext cx="280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7303680" y="3052800"/>
                  <a:ext cx="238680" cy="253440"/>
                  <a:chOff x="7303680" y="3052800"/>
                  <a:chExt cx="238680" cy="253440"/>
                </a:xfrm>
              </p:grpSpPr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7303680" y="3052800"/>
                    <a:ext cx="238680" cy="97560"/>
                    <a:chOff x="7303680" y="3052800"/>
                    <a:chExt cx="238680" cy="975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7303680" y="3052800"/>
                      <a:ext cx="238680" cy="9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7303680" y="3052800"/>
                      <a:ext cx="238680" cy="9756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7419960" y="3178440"/>
                    <a:ext cx="111240" cy="37440"/>
                    <a:chOff x="7419960" y="3178440"/>
                    <a:chExt cx="111240" cy="374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7464600" y="3178440"/>
                      <a:ext cx="66600" cy="3744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3" name=""/>
                    <p:cNvGrpSpPr/>
                    <p:nvPr/>
                  </p:nvGrpSpPr>
                  <p:grpSpPr>
                    <a:xfrm>
                      <a:off x="7419960" y="3192120"/>
                      <a:ext cx="40680" cy="7920"/>
                      <a:chOff x="7419960" y="3192120"/>
                      <a:chExt cx="40680" cy="7920"/>
                    </a:xfrm>
                  </p:grpSpPr>
                  <p:sp>
                    <p:nvSpPr>
                      <p:cNvPr id="764" name=""/>
                      <p:cNvSpPr/>
                      <p:nvPr/>
                    </p:nvSpPr>
                    <p:spPr>
                      <a:xfrm>
                        <a:off x="7419960" y="3192120"/>
                        <a:ext cx="40680" cy="7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5" name=""/>
                      <p:cNvSpPr/>
                      <p:nvPr/>
                    </p:nvSpPr>
                    <p:spPr>
                      <a:xfrm>
                        <a:off x="7419960" y="3192120"/>
                        <a:ext cx="40680" cy="7920"/>
                      </a:xfrm>
                      <a:prstGeom prst="rect">
                        <a:avLst/>
                      </a:prstGeom>
                      <a:noFill/>
                      <a:ln cap="rnd"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66" name=""/>
                  <p:cNvSpPr/>
                  <p:nvPr/>
                </p:nvSpPr>
                <p:spPr>
                  <a:xfrm>
                    <a:off x="7489800" y="3215880"/>
                    <a:ext cx="0" cy="9036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7278840" y="3496320"/>
                  <a:ext cx="238680" cy="282960"/>
                  <a:chOff x="7278840" y="3496320"/>
                  <a:chExt cx="238680" cy="28296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7476480" y="3496320"/>
                    <a:ext cx="0" cy="12564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9" name=""/>
                  <p:cNvGrpSpPr/>
                  <p:nvPr/>
                </p:nvGrpSpPr>
                <p:grpSpPr>
                  <a:xfrm>
                    <a:off x="7278840" y="3680280"/>
                    <a:ext cx="238680" cy="99000"/>
                    <a:chOff x="7278840" y="3680280"/>
                    <a:chExt cx="238680" cy="99000"/>
                  </a:xfrm>
                </p:grpSpPr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7278840" y="3680280"/>
                      <a:ext cx="238680" cy="9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7278840" y="3680280"/>
                      <a:ext cx="238680" cy="9900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7400880" y="3610800"/>
                    <a:ext cx="111240" cy="38880"/>
                    <a:chOff x="7400880" y="3610800"/>
                    <a:chExt cx="111240" cy="38880"/>
                  </a:xfrm>
                </p:grpSpPr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7445520" y="3610800"/>
                      <a:ext cx="66600" cy="38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74" name=""/>
                    <p:cNvGrpSpPr/>
                    <p:nvPr/>
                  </p:nvGrpSpPr>
                  <p:grpSpPr>
                    <a:xfrm>
                      <a:off x="7400880" y="3625920"/>
                      <a:ext cx="40320" cy="9720"/>
                      <a:chOff x="7400880" y="3625920"/>
                      <a:chExt cx="40320" cy="9720"/>
                    </a:xfrm>
                  </p:grpSpPr>
                  <p:sp>
                    <p:nvSpPr>
                      <p:cNvPr id="775" name=""/>
                      <p:cNvSpPr/>
                      <p:nvPr/>
                    </p:nvSpPr>
                    <p:spPr>
                      <a:xfrm>
                        <a:off x="7400880" y="3625920"/>
                        <a:ext cx="40320" cy="9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"/>
                      <p:cNvSpPr/>
                      <p:nvPr/>
                    </p:nvSpPr>
                    <p:spPr>
                      <a:xfrm>
                        <a:off x="7400880" y="3625920"/>
                        <a:ext cx="40320" cy="9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cap="rnd"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77" name=""/>
                <p:cNvSpPr/>
                <p:nvPr/>
              </p:nvSpPr>
              <p:spPr>
                <a:xfrm>
                  <a:off x="7278840" y="3305160"/>
                  <a:ext cx="19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278840" y="3494880"/>
                  <a:ext cx="19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"/>
          <p:cNvGrpSpPr/>
          <p:nvPr/>
        </p:nvGrpSpPr>
        <p:grpSpPr>
          <a:xfrm>
            <a:off x="6853320" y="1916280"/>
            <a:ext cx="1605960" cy="968760"/>
            <a:chOff x="6853320" y="1916280"/>
            <a:chExt cx="1605960" cy="968760"/>
          </a:xfrm>
        </p:grpSpPr>
        <p:sp>
          <p:nvSpPr>
            <p:cNvPr id="780" name=""/>
            <p:cNvSpPr/>
            <p:nvPr/>
          </p:nvSpPr>
          <p:spPr>
            <a:xfrm flipH="1">
              <a:off x="7081560" y="2701800"/>
              <a:ext cx="1278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 2 may be a lifting axle.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s 2 and 3 may be a steering ax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6853320" y="1916280"/>
              <a:ext cx="1605960" cy="713880"/>
              <a:chOff x="6853320" y="1916280"/>
              <a:chExt cx="1605960" cy="713880"/>
            </a:xfrm>
          </p:grpSpPr>
          <p:sp>
            <p:nvSpPr>
              <p:cNvPr id="782" name=""/>
              <p:cNvSpPr/>
              <p:nvPr/>
            </p:nvSpPr>
            <p:spPr>
              <a:xfrm>
                <a:off x="7038360" y="1932480"/>
                <a:ext cx="1420920" cy="670680"/>
              </a:xfrm>
              <a:custGeom>
                <a:avLst/>
                <a:gdLst/>
                <a:ahLst/>
                <a:rect l="l" t="t" r="r" b="b"/>
                <a:pathLst>
                  <a:path w="936" h="493">
                    <a:moveTo>
                      <a:pt x="933" y="6"/>
                    </a:moveTo>
                    <a:lnTo>
                      <a:pt x="908" y="6"/>
                    </a:lnTo>
                    <a:lnTo>
                      <a:pt x="908" y="0"/>
                    </a:lnTo>
                    <a:lnTo>
                      <a:pt x="933" y="0"/>
                    </a:lnTo>
                    <a:lnTo>
                      <a:pt x="933" y="6"/>
                    </a:lnTo>
                    <a:close/>
                    <a:moveTo>
                      <a:pt x="890" y="6"/>
                    </a:moveTo>
                    <a:lnTo>
                      <a:pt x="866" y="6"/>
                    </a:lnTo>
                    <a:lnTo>
                      <a:pt x="866" y="0"/>
                    </a:lnTo>
                    <a:lnTo>
                      <a:pt x="890" y="0"/>
                    </a:lnTo>
                    <a:lnTo>
                      <a:pt x="890" y="6"/>
                    </a:lnTo>
                    <a:close/>
                    <a:moveTo>
                      <a:pt x="848" y="6"/>
                    </a:moveTo>
                    <a:lnTo>
                      <a:pt x="823" y="6"/>
                    </a:lnTo>
                    <a:lnTo>
                      <a:pt x="823" y="0"/>
                    </a:lnTo>
                    <a:lnTo>
                      <a:pt x="848" y="0"/>
                    </a:lnTo>
                    <a:lnTo>
                      <a:pt x="848" y="6"/>
                    </a:lnTo>
                    <a:close/>
                    <a:moveTo>
                      <a:pt x="805" y="6"/>
                    </a:moveTo>
                    <a:lnTo>
                      <a:pt x="781" y="6"/>
                    </a:lnTo>
                    <a:lnTo>
                      <a:pt x="781" y="0"/>
                    </a:lnTo>
                    <a:lnTo>
                      <a:pt x="805" y="0"/>
                    </a:lnTo>
                    <a:lnTo>
                      <a:pt x="805" y="6"/>
                    </a:lnTo>
                    <a:close/>
                    <a:moveTo>
                      <a:pt x="763" y="6"/>
                    </a:moveTo>
                    <a:lnTo>
                      <a:pt x="738" y="6"/>
                    </a:lnTo>
                    <a:lnTo>
                      <a:pt x="738" y="0"/>
                    </a:lnTo>
                    <a:lnTo>
                      <a:pt x="763" y="0"/>
                    </a:lnTo>
                    <a:lnTo>
                      <a:pt x="763" y="6"/>
                    </a:lnTo>
                    <a:close/>
                    <a:moveTo>
                      <a:pt x="720" y="6"/>
                    </a:moveTo>
                    <a:lnTo>
                      <a:pt x="696" y="6"/>
                    </a:lnTo>
                    <a:lnTo>
                      <a:pt x="696" y="0"/>
                    </a:lnTo>
                    <a:lnTo>
                      <a:pt x="720" y="0"/>
                    </a:lnTo>
                    <a:lnTo>
                      <a:pt x="720" y="6"/>
                    </a:lnTo>
                    <a:close/>
                    <a:moveTo>
                      <a:pt x="678" y="6"/>
                    </a:moveTo>
                    <a:lnTo>
                      <a:pt x="653" y="6"/>
                    </a:lnTo>
                    <a:lnTo>
                      <a:pt x="653" y="0"/>
                    </a:lnTo>
                    <a:lnTo>
                      <a:pt x="678" y="0"/>
                    </a:lnTo>
                    <a:lnTo>
                      <a:pt x="678" y="6"/>
                    </a:lnTo>
                    <a:close/>
                    <a:moveTo>
                      <a:pt x="635" y="6"/>
                    </a:moveTo>
                    <a:lnTo>
                      <a:pt x="611" y="6"/>
                    </a:lnTo>
                    <a:lnTo>
                      <a:pt x="611" y="0"/>
                    </a:lnTo>
                    <a:lnTo>
                      <a:pt x="635" y="0"/>
                    </a:lnTo>
                    <a:lnTo>
                      <a:pt x="635" y="6"/>
                    </a:lnTo>
                    <a:close/>
                    <a:moveTo>
                      <a:pt x="592" y="6"/>
                    </a:moveTo>
                    <a:lnTo>
                      <a:pt x="568" y="6"/>
                    </a:lnTo>
                    <a:lnTo>
                      <a:pt x="568" y="0"/>
                    </a:lnTo>
                    <a:lnTo>
                      <a:pt x="592" y="0"/>
                    </a:lnTo>
                    <a:lnTo>
                      <a:pt x="592" y="6"/>
                    </a:lnTo>
                    <a:close/>
                    <a:moveTo>
                      <a:pt x="550" y="6"/>
                    </a:moveTo>
                    <a:lnTo>
                      <a:pt x="526" y="6"/>
                    </a:lnTo>
                    <a:lnTo>
                      <a:pt x="526" y="0"/>
                    </a:lnTo>
                    <a:lnTo>
                      <a:pt x="550" y="0"/>
                    </a:lnTo>
                    <a:lnTo>
                      <a:pt x="550" y="6"/>
                    </a:lnTo>
                    <a:close/>
                    <a:moveTo>
                      <a:pt x="507" y="6"/>
                    </a:moveTo>
                    <a:lnTo>
                      <a:pt x="483" y="6"/>
                    </a:lnTo>
                    <a:lnTo>
                      <a:pt x="483" y="0"/>
                    </a:lnTo>
                    <a:lnTo>
                      <a:pt x="507" y="0"/>
                    </a:lnTo>
                    <a:lnTo>
                      <a:pt x="507" y="6"/>
                    </a:lnTo>
                    <a:close/>
                    <a:moveTo>
                      <a:pt x="465" y="6"/>
                    </a:moveTo>
                    <a:lnTo>
                      <a:pt x="441" y="6"/>
                    </a:lnTo>
                    <a:lnTo>
                      <a:pt x="441" y="0"/>
                    </a:lnTo>
                    <a:lnTo>
                      <a:pt x="465" y="0"/>
                    </a:lnTo>
                    <a:lnTo>
                      <a:pt x="465" y="6"/>
                    </a:lnTo>
                    <a:close/>
                    <a:moveTo>
                      <a:pt x="422" y="6"/>
                    </a:moveTo>
                    <a:lnTo>
                      <a:pt x="398" y="6"/>
                    </a:lnTo>
                    <a:lnTo>
                      <a:pt x="398" y="0"/>
                    </a:lnTo>
                    <a:lnTo>
                      <a:pt x="422" y="0"/>
                    </a:lnTo>
                    <a:lnTo>
                      <a:pt x="422" y="6"/>
                    </a:lnTo>
                    <a:close/>
                    <a:moveTo>
                      <a:pt x="380" y="6"/>
                    </a:moveTo>
                    <a:lnTo>
                      <a:pt x="355" y="6"/>
                    </a:lnTo>
                    <a:lnTo>
                      <a:pt x="355" y="0"/>
                    </a:lnTo>
                    <a:lnTo>
                      <a:pt x="380" y="0"/>
                    </a:lnTo>
                    <a:lnTo>
                      <a:pt x="380" y="6"/>
                    </a:lnTo>
                    <a:close/>
                    <a:moveTo>
                      <a:pt x="337" y="6"/>
                    </a:moveTo>
                    <a:lnTo>
                      <a:pt x="313" y="6"/>
                    </a:lnTo>
                    <a:lnTo>
                      <a:pt x="313" y="0"/>
                    </a:lnTo>
                    <a:lnTo>
                      <a:pt x="337" y="0"/>
                    </a:lnTo>
                    <a:lnTo>
                      <a:pt x="337" y="6"/>
                    </a:lnTo>
                    <a:close/>
                    <a:moveTo>
                      <a:pt x="295" y="6"/>
                    </a:moveTo>
                    <a:lnTo>
                      <a:pt x="270" y="6"/>
                    </a:lnTo>
                    <a:lnTo>
                      <a:pt x="270" y="0"/>
                    </a:lnTo>
                    <a:lnTo>
                      <a:pt x="295" y="0"/>
                    </a:lnTo>
                    <a:lnTo>
                      <a:pt x="295" y="6"/>
                    </a:lnTo>
                    <a:close/>
                    <a:moveTo>
                      <a:pt x="252" y="6"/>
                    </a:moveTo>
                    <a:lnTo>
                      <a:pt x="228" y="6"/>
                    </a:lnTo>
                    <a:lnTo>
                      <a:pt x="228" y="0"/>
                    </a:lnTo>
                    <a:lnTo>
                      <a:pt x="252" y="0"/>
                    </a:lnTo>
                    <a:lnTo>
                      <a:pt x="252" y="6"/>
                    </a:lnTo>
                    <a:close/>
                    <a:moveTo>
                      <a:pt x="210" y="6"/>
                    </a:moveTo>
                    <a:lnTo>
                      <a:pt x="185" y="6"/>
                    </a:lnTo>
                    <a:lnTo>
                      <a:pt x="185" y="0"/>
                    </a:lnTo>
                    <a:lnTo>
                      <a:pt x="210" y="0"/>
                    </a:lnTo>
                    <a:lnTo>
                      <a:pt x="210" y="6"/>
                    </a:lnTo>
                    <a:close/>
                    <a:moveTo>
                      <a:pt x="167" y="6"/>
                    </a:moveTo>
                    <a:lnTo>
                      <a:pt x="143" y="6"/>
                    </a:lnTo>
                    <a:lnTo>
                      <a:pt x="143" y="0"/>
                    </a:lnTo>
                    <a:lnTo>
                      <a:pt x="167" y="0"/>
                    </a:lnTo>
                    <a:lnTo>
                      <a:pt x="167" y="6"/>
                    </a:lnTo>
                    <a:close/>
                    <a:moveTo>
                      <a:pt x="125" y="6"/>
                    </a:moveTo>
                    <a:lnTo>
                      <a:pt x="100" y="6"/>
                    </a:lnTo>
                    <a:lnTo>
                      <a:pt x="100" y="0"/>
                    </a:lnTo>
                    <a:lnTo>
                      <a:pt x="125" y="0"/>
                    </a:lnTo>
                    <a:lnTo>
                      <a:pt x="125" y="6"/>
                    </a:lnTo>
                    <a:close/>
                    <a:moveTo>
                      <a:pt x="82" y="6"/>
                    </a:moveTo>
                    <a:lnTo>
                      <a:pt x="58" y="6"/>
                    </a:lnTo>
                    <a:lnTo>
                      <a:pt x="58" y="0"/>
                    </a:lnTo>
                    <a:lnTo>
                      <a:pt x="82" y="0"/>
                    </a:lnTo>
                    <a:lnTo>
                      <a:pt x="82" y="6"/>
                    </a:lnTo>
                    <a:close/>
                    <a:moveTo>
                      <a:pt x="40" y="6"/>
                    </a:moveTo>
                    <a:lnTo>
                      <a:pt x="15" y="6"/>
                    </a:lnTo>
                    <a:lnTo>
                      <a:pt x="15" y="0"/>
                    </a:lnTo>
                    <a:lnTo>
                      <a:pt x="40" y="0"/>
                    </a:lnTo>
                    <a:lnTo>
                      <a:pt x="40" y="6"/>
                    </a:lnTo>
                    <a:close/>
                    <a:moveTo>
                      <a:pt x="6" y="9"/>
                    </a:moveTo>
                    <a:lnTo>
                      <a:pt x="6" y="33"/>
                    </a:lnTo>
                    <a:lnTo>
                      <a:pt x="0" y="33"/>
                    </a:lnTo>
                    <a:lnTo>
                      <a:pt x="0" y="9"/>
                    </a:lnTo>
                    <a:lnTo>
                      <a:pt x="6" y="9"/>
                    </a:lnTo>
                    <a:close/>
                    <a:moveTo>
                      <a:pt x="6" y="52"/>
                    </a:moveTo>
                    <a:lnTo>
                      <a:pt x="6" y="76"/>
                    </a:lnTo>
                    <a:lnTo>
                      <a:pt x="0" y="76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  <a:moveTo>
                      <a:pt x="6" y="94"/>
                    </a:moveTo>
                    <a:lnTo>
                      <a:pt x="6" y="119"/>
                    </a:lnTo>
                    <a:lnTo>
                      <a:pt x="0" y="119"/>
                    </a:lnTo>
                    <a:lnTo>
                      <a:pt x="0" y="94"/>
                    </a:lnTo>
                    <a:lnTo>
                      <a:pt x="6" y="94"/>
                    </a:lnTo>
                    <a:close/>
                    <a:moveTo>
                      <a:pt x="6" y="137"/>
                    </a:moveTo>
                    <a:lnTo>
                      <a:pt x="6" y="16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6" y="137"/>
                    </a:lnTo>
                    <a:close/>
                    <a:moveTo>
                      <a:pt x="6" y="179"/>
                    </a:moveTo>
                    <a:lnTo>
                      <a:pt x="6" y="204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6" y="179"/>
                    </a:lnTo>
                    <a:close/>
                    <a:moveTo>
                      <a:pt x="6" y="222"/>
                    </a:moveTo>
                    <a:lnTo>
                      <a:pt x="6" y="246"/>
                    </a:lnTo>
                    <a:lnTo>
                      <a:pt x="0" y="246"/>
                    </a:lnTo>
                    <a:lnTo>
                      <a:pt x="0" y="222"/>
                    </a:lnTo>
                    <a:lnTo>
                      <a:pt x="6" y="222"/>
                    </a:lnTo>
                    <a:close/>
                    <a:moveTo>
                      <a:pt x="6" y="265"/>
                    </a:moveTo>
                    <a:lnTo>
                      <a:pt x="6" y="289"/>
                    </a:lnTo>
                    <a:lnTo>
                      <a:pt x="0" y="289"/>
                    </a:lnTo>
                    <a:lnTo>
                      <a:pt x="0" y="265"/>
                    </a:lnTo>
                    <a:lnTo>
                      <a:pt x="6" y="265"/>
                    </a:lnTo>
                    <a:close/>
                    <a:moveTo>
                      <a:pt x="6" y="307"/>
                    </a:moveTo>
                    <a:lnTo>
                      <a:pt x="6" y="332"/>
                    </a:lnTo>
                    <a:lnTo>
                      <a:pt x="0" y="332"/>
                    </a:lnTo>
                    <a:lnTo>
                      <a:pt x="0" y="307"/>
                    </a:lnTo>
                    <a:lnTo>
                      <a:pt x="6" y="307"/>
                    </a:lnTo>
                    <a:close/>
                    <a:moveTo>
                      <a:pt x="6" y="350"/>
                    </a:moveTo>
                    <a:lnTo>
                      <a:pt x="6" y="374"/>
                    </a:lnTo>
                    <a:lnTo>
                      <a:pt x="0" y="374"/>
                    </a:lnTo>
                    <a:lnTo>
                      <a:pt x="0" y="350"/>
                    </a:lnTo>
                    <a:lnTo>
                      <a:pt x="6" y="350"/>
                    </a:lnTo>
                    <a:close/>
                    <a:moveTo>
                      <a:pt x="6" y="393"/>
                    </a:moveTo>
                    <a:lnTo>
                      <a:pt x="6" y="417"/>
                    </a:lnTo>
                    <a:lnTo>
                      <a:pt x="0" y="417"/>
                    </a:lnTo>
                    <a:lnTo>
                      <a:pt x="0" y="393"/>
                    </a:lnTo>
                    <a:lnTo>
                      <a:pt x="6" y="393"/>
                    </a:lnTo>
                    <a:close/>
                    <a:moveTo>
                      <a:pt x="6" y="435"/>
                    </a:moveTo>
                    <a:lnTo>
                      <a:pt x="6" y="459"/>
                    </a:lnTo>
                    <a:lnTo>
                      <a:pt x="0" y="459"/>
                    </a:lnTo>
                    <a:lnTo>
                      <a:pt x="0" y="435"/>
                    </a:lnTo>
                    <a:lnTo>
                      <a:pt x="6" y="435"/>
                    </a:lnTo>
                    <a:close/>
                    <a:moveTo>
                      <a:pt x="6" y="478"/>
                    </a:moveTo>
                    <a:lnTo>
                      <a:pt x="6" y="490"/>
                    </a:lnTo>
                    <a:lnTo>
                      <a:pt x="3" y="487"/>
                    </a:lnTo>
                    <a:lnTo>
                      <a:pt x="15" y="487"/>
                    </a:lnTo>
                    <a:lnTo>
                      <a:pt x="15" y="493"/>
                    </a:lnTo>
                    <a:lnTo>
                      <a:pt x="0" y="493"/>
                    </a:lnTo>
                    <a:lnTo>
                      <a:pt x="0" y="478"/>
                    </a:lnTo>
                    <a:lnTo>
                      <a:pt x="6" y="478"/>
                    </a:lnTo>
                    <a:close/>
                    <a:moveTo>
                      <a:pt x="33" y="487"/>
                    </a:moveTo>
                    <a:lnTo>
                      <a:pt x="58" y="487"/>
                    </a:lnTo>
                    <a:lnTo>
                      <a:pt x="58" y="493"/>
                    </a:lnTo>
                    <a:lnTo>
                      <a:pt x="33" y="493"/>
                    </a:lnTo>
                    <a:lnTo>
                      <a:pt x="33" y="487"/>
                    </a:lnTo>
                    <a:close/>
                    <a:moveTo>
                      <a:pt x="76" y="487"/>
                    </a:moveTo>
                    <a:lnTo>
                      <a:pt x="100" y="487"/>
                    </a:lnTo>
                    <a:lnTo>
                      <a:pt x="100" y="493"/>
                    </a:lnTo>
                    <a:lnTo>
                      <a:pt x="76" y="493"/>
                    </a:lnTo>
                    <a:lnTo>
                      <a:pt x="76" y="487"/>
                    </a:lnTo>
                    <a:close/>
                    <a:moveTo>
                      <a:pt x="118" y="487"/>
                    </a:moveTo>
                    <a:lnTo>
                      <a:pt x="143" y="487"/>
                    </a:lnTo>
                    <a:lnTo>
                      <a:pt x="143" y="493"/>
                    </a:lnTo>
                    <a:lnTo>
                      <a:pt x="118" y="493"/>
                    </a:lnTo>
                    <a:lnTo>
                      <a:pt x="118" y="487"/>
                    </a:lnTo>
                    <a:close/>
                    <a:moveTo>
                      <a:pt x="161" y="487"/>
                    </a:moveTo>
                    <a:lnTo>
                      <a:pt x="185" y="487"/>
                    </a:lnTo>
                    <a:lnTo>
                      <a:pt x="185" y="493"/>
                    </a:lnTo>
                    <a:lnTo>
                      <a:pt x="161" y="493"/>
                    </a:lnTo>
                    <a:lnTo>
                      <a:pt x="161" y="487"/>
                    </a:lnTo>
                    <a:close/>
                    <a:moveTo>
                      <a:pt x="204" y="487"/>
                    </a:moveTo>
                    <a:lnTo>
                      <a:pt x="228" y="487"/>
                    </a:lnTo>
                    <a:lnTo>
                      <a:pt x="228" y="493"/>
                    </a:lnTo>
                    <a:lnTo>
                      <a:pt x="204" y="493"/>
                    </a:lnTo>
                    <a:lnTo>
                      <a:pt x="204" y="487"/>
                    </a:lnTo>
                    <a:close/>
                    <a:moveTo>
                      <a:pt x="246" y="487"/>
                    </a:moveTo>
                    <a:lnTo>
                      <a:pt x="270" y="487"/>
                    </a:lnTo>
                    <a:lnTo>
                      <a:pt x="270" y="493"/>
                    </a:lnTo>
                    <a:lnTo>
                      <a:pt x="246" y="493"/>
                    </a:lnTo>
                    <a:lnTo>
                      <a:pt x="246" y="487"/>
                    </a:lnTo>
                    <a:close/>
                    <a:moveTo>
                      <a:pt x="289" y="487"/>
                    </a:moveTo>
                    <a:lnTo>
                      <a:pt x="313" y="487"/>
                    </a:lnTo>
                    <a:lnTo>
                      <a:pt x="313" y="493"/>
                    </a:lnTo>
                    <a:lnTo>
                      <a:pt x="289" y="493"/>
                    </a:lnTo>
                    <a:lnTo>
                      <a:pt x="289" y="487"/>
                    </a:lnTo>
                    <a:close/>
                    <a:moveTo>
                      <a:pt x="331" y="487"/>
                    </a:moveTo>
                    <a:lnTo>
                      <a:pt x="355" y="487"/>
                    </a:lnTo>
                    <a:lnTo>
                      <a:pt x="355" y="493"/>
                    </a:lnTo>
                    <a:lnTo>
                      <a:pt x="331" y="493"/>
                    </a:lnTo>
                    <a:lnTo>
                      <a:pt x="331" y="487"/>
                    </a:lnTo>
                    <a:close/>
                    <a:moveTo>
                      <a:pt x="374" y="487"/>
                    </a:moveTo>
                    <a:lnTo>
                      <a:pt x="398" y="487"/>
                    </a:lnTo>
                    <a:lnTo>
                      <a:pt x="398" y="493"/>
                    </a:lnTo>
                    <a:lnTo>
                      <a:pt x="374" y="493"/>
                    </a:lnTo>
                    <a:lnTo>
                      <a:pt x="374" y="487"/>
                    </a:lnTo>
                    <a:close/>
                    <a:moveTo>
                      <a:pt x="416" y="487"/>
                    </a:moveTo>
                    <a:lnTo>
                      <a:pt x="441" y="487"/>
                    </a:lnTo>
                    <a:lnTo>
                      <a:pt x="441" y="493"/>
                    </a:lnTo>
                    <a:lnTo>
                      <a:pt x="416" y="493"/>
                    </a:lnTo>
                    <a:lnTo>
                      <a:pt x="416" y="487"/>
                    </a:lnTo>
                    <a:close/>
                    <a:moveTo>
                      <a:pt x="459" y="487"/>
                    </a:moveTo>
                    <a:lnTo>
                      <a:pt x="483" y="487"/>
                    </a:lnTo>
                    <a:lnTo>
                      <a:pt x="483" y="493"/>
                    </a:lnTo>
                    <a:lnTo>
                      <a:pt x="459" y="493"/>
                    </a:lnTo>
                    <a:lnTo>
                      <a:pt x="459" y="487"/>
                    </a:lnTo>
                    <a:close/>
                    <a:moveTo>
                      <a:pt x="501" y="487"/>
                    </a:moveTo>
                    <a:lnTo>
                      <a:pt x="526" y="487"/>
                    </a:lnTo>
                    <a:lnTo>
                      <a:pt x="526" y="493"/>
                    </a:lnTo>
                    <a:lnTo>
                      <a:pt x="501" y="493"/>
                    </a:lnTo>
                    <a:lnTo>
                      <a:pt x="501" y="487"/>
                    </a:lnTo>
                    <a:close/>
                    <a:moveTo>
                      <a:pt x="544" y="487"/>
                    </a:moveTo>
                    <a:lnTo>
                      <a:pt x="568" y="487"/>
                    </a:lnTo>
                    <a:lnTo>
                      <a:pt x="568" y="493"/>
                    </a:lnTo>
                    <a:lnTo>
                      <a:pt x="544" y="493"/>
                    </a:lnTo>
                    <a:lnTo>
                      <a:pt x="544" y="487"/>
                    </a:lnTo>
                    <a:close/>
                    <a:moveTo>
                      <a:pt x="586" y="487"/>
                    </a:moveTo>
                    <a:lnTo>
                      <a:pt x="611" y="487"/>
                    </a:lnTo>
                    <a:lnTo>
                      <a:pt x="611" y="493"/>
                    </a:lnTo>
                    <a:lnTo>
                      <a:pt x="586" y="493"/>
                    </a:lnTo>
                    <a:lnTo>
                      <a:pt x="586" y="487"/>
                    </a:lnTo>
                    <a:close/>
                    <a:moveTo>
                      <a:pt x="629" y="487"/>
                    </a:moveTo>
                    <a:lnTo>
                      <a:pt x="653" y="487"/>
                    </a:lnTo>
                    <a:lnTo>
                      <a:pt x="653" y="493"/>
                    </a:lnTo>
                    <a:lnTo>
                      <a:pt x="629" y="493"/>
                    </a:lnTo>
                    <a:lnTo>
                      <a:pt x="629" y="487"/>
                    </a:lnTo>
                    <a:close/>
                    <a:moveTo>
                      <a:pt x="671" y="487"/>
                    </a:moveTo>
                    <a:lnTo>
                      <a:pt x="696" y="487"/>
                    </a:lnTo>
                    <a:lnTo>
                      <a:pt x="696" y="493"/>
                    </a:lnTo>
                    <a:lnTo>
                      <a:pt x="671" y="493"/>
                    </a:lnTo>
                    <a:lnTo>
                      <a:pt x="671" y="487"/>
                    </a:lnTo>
                    <a:close/>
                    <a:moveTo>
                      <a:pt x="714" y="487"/>
                    </a:moveTo>
                    <a:lnTo>
                      <a:pt x="738" y="487"/>
                    </a:lnTo>
                    <a:lnTo>
                      <a:pt x="738" y="493"/>
                    </a:lnTo>
                    <a:lnTo>
                      <a:pt x="714" y="493"/>
                    </a:lnTo>
                    <a:lnTo>
                      <a:pt x="714" y="487"/>
                    </a:lnTo>
                    <a:close/>
                    <a:moveTo>
                      <a:pt x="757" y="487"/>
                    </a:moveTo>
                    <a:lnTo>
                      <a:pt x="781" y="487"/>
                    </a:lnTo>
                    <a:lnTo>
                      <a:pt x="781" y="493"/>
                    </a:lnTo>
                    <a:lnTo>
                      <a:pt x="757" y="493"/>
                    </a:lnTo>
                    <a:lnTo>
                      <a:pt x="757" y="487"/>
                    </a:lnTo>
                    <a:close/>
                    <a:moveTo>
                      <a:pt x="799" y="487"/>
                    </a:moveTo>
                    <a:lnTo>
                      <a:pt x="823" y="487"/>
                    </a:lnTo>
                    <a:lnTo>
                      <a:pt x="823" y="493"/>
                    </a:lnTo>
                    <a:lnTo>
                      <a:pt x="799" y="493"/>
                    </a:lnTo>
                    <a:lnTo>
                      <a:pt x="799" y="487"/>
                    </a:lnTo>
                    <a:close/>
                    <a:moveTo>
                      <a:pt x="842" y="487"/>
                    </a:moveTo>
                    <a:lnTo>
                      <a:pt x="866" y="487"/>
                    </a:lnTo>
                    <a:lnTo>
                      <a:pt x="866" y="493"/>
                    </a:lnTo>
                    <a:lnTo>
                      <a:pt x="842" y="493"/>
                    </a:lnTo>
                    <a:lnTo>
                      <a:pt x="842" y="487"/>
                    </a:lnTo>
                    <a:close/>
                    <a:moveTo>
                      <a:pt x="884" y="487"/>
                    </a:moveTo>
                    <a:lnTo>
                      <a:pt x="908" y="487"/>
                    </a:lnTo>
                    <a:lnTo>
                      <a:pt x="908" y="493"/>
                    </a:lnTo>
                    <a:lnTo>
                      <a:pt x="884" y="493"/>
                    </a:lnTo>
                    <a:lnTo>
                      <a:pt x="884" y="487"/>
                    </a:lnTo>
                    <a:close/>
                    <a:moveTo>
                      <a:pt x="927" y="487"/>
                    </a:moveTo>
                    <a:lnTo>
                      <a:pt x="933" y="487"/>
                    </a:lnTo>
                    <a:lnTo>
                      <a:pt x="930" y="490"/>
                    </a:lnTo>
                    <a:lnTo>
                      <a:pt x="930" y="472"/>
                    </a:lnTo>
                    <a:lnTo>
                      <a:pt x="936" y="472"/>
                    </a:lnTo>
                    <a:lnTo>
                      <a:pt x="936" y="493"/>
                    </a:lnTo>
                    <a:lnTo>
                      <a:pt x="927" y="493"/>
                    </a:lnTo>
                    <a:lnTo>
                      <a:pt x="927" y="487"/>
                    </a:lnTo>
                    <a:close/>
                    <a:moveTo>
                      <a:pt x="930" y="453"/>
                    </a:moveTo>
                    <a:lnTo>
                      <a:pt x="930" y="429"/>
                    </a:lnTo>
                    <a:lnTo>
                      <a:pt x="936" y="429"/>
                    </a:lnTo>
                    <a:lnTo>
                      <a:pt x="936" y="453"/>
                    </a:lnTo>
                    <a:lnTo>
                      <a:pt x="930" y="453"/>
                    </a:lnTo>
                    <a:close/>
                    <a:moveTo>
                      <a:pt x="930" y="411"/>
                    </a:moveTo>
                    <a:lnTo>
                      <a:pt x="930" y="386"/>
                    </a:lnTo>
                    <a:lnTo>
                      <a:pt x="936" y="386"/>
                    </a:lnTo>
                    <a:lnTo>
                      <a:pt x="936" y="411"/>
                    </a:lnTo>
                    <a:lnTo>
                      <a:pt x="930" y="411"/>
                    </a:lnTo>
                    <a:close/>
                    <a:moveTo>
                      <a:pt x="930" y="368"/>
                    </a:moveTo>
                    <a:lnTo>
                      <a:pt x="930" y="344"/>
                    </a:lnTo>
                    <a:lnTo>
                      <a:pt x="936" y="344"/>
                    </a:lnTo>
                    <a:lnTo>
                      <a:pt x="936" y="368"/>
                    </a:lnTo>
                    <a:lnTo>
                      <a:pt x="930" y="368"/>
                    </a:lnTo>
                    <a:close/>
                    <a:moveTo>
                      <a:pt x="930" y="326"/>
                    </a:moveTo>
                    <a:lnTo>
                      <a:pt x="930" y="301"/>
                    </a:lnTo>
                    <a:lnTo>
                      <a:pt x="936" y="301"/>
                    </a:lnTo>
                    <a:lnTo>
                      <a:pt x="936" y="326"/>
                    </a:lnTo>
                    <a:lnTo>
                      <a:pt x="930" y="326"/>
                    </a:lnTo>
                    <a:close/>
                    <a:moveTo>
                      <a:pt x="930" y="283"/>
                    </a:moveTo>
                    <a:lnTo>
                      <a:pt x="930" y="259"/>
                    </a:lnTo>
                    <a:lnTo>
                      <a:pt x="936" y="259"/>
                    </a:lnTo>
                    <a:lnTo>
                      <a:pt x="936" y="283"/>
                    </a:lnTo>
                    <a:lnTo>
                      <a:pt x="930" y="283"/>
                    </a:lnTo>
                    <a:close/>
                    <a:moveTo>
                      <a:pt x="930" y="240"/>
                    </a:moveTo>
                    <a:lnTo>
                      <a:pt x="930" y="216"/>
                    </a:lnTo>
                    <a:lnTo>
                      <a:pt x="936" y="216"/>
                    </a:lnTo>
                    <a:lnTo>
                      <a:pt x="936" y="240"/>
                    </a:lnTo>
                    <a:lnTo>
                      <a:pt x="930" y="240"/>
                    </a:lnTo>
                    <a:close/>
                    <a:moveTo>
                      <a:pt x="930" y="198"/>
                    </a:moveTo>
                    <a:lnTo>
                      <a:pt x="930" y="173"/>
                    </a:lnTo>
                    <a:lnTo>
                      <a:pt x="936" y="173"/>
                    </a:lnTo>
                    <a:lnTo>
                      <a:pt x="936" y="198"/>
                    </a:lnTo>
                    <a:lnTo>
                      <a:pt x="930" y="198"/>
                    </a:lnTo>
                    <a:close/>
                    <a:moveTo>
                      <a:pt x="930" y="155"/>
                    </a:moveTo>
                    <a:lnTo>
                      <a:pt x="930" y="131"/>
                    </a:lnTo>
                    <a:lnTo>
                      <a:pt x="936" y="131"/>
                    </a:lnTo>
                    <a:lnTo>
                      <a:pt x="936" y="155"/>
                    </a:lnTo>
                    <a:lnTo>
                      <a:pt x="930" y="155"/>
                    </a:lnTo>
                    <a:close/>
                    <a:moveTo>
                      <a:pt x="930" y="113"/>
                    </a:moveTo>
                    <a:lnTo>
                      <a:pt x="930" y="88"/>
                    </a:lnTo>
                    <a:lnTo>
                      <a:pt x="936" y="88"/>
                    </a:lnTo>
                    <a:lnTo>
                      <a:pt x="936" y="113"/>
                    </a:lnTo>
                    <a:lnTo>
                      <a:pt x="930" y="113"/>
                    </a:lnTo>
                    <a:close/>
                    <a:moveTo>
                      <a:pt x="930" y="70"/>
                    </a:moveTo>
                    <a:lnTo>
                      <a:pt x="930" y="46"/>
                    </a:lnTo>
                    <a:lnTo>
                      <a:pt x="936" y="46"/>
                    </a:lnTo>
                    <a:lnTo>
                      <a:pt x="936" y="70"/>
                    </a:lnTo>
                    <a:lnTo>
                      <a:pt x="930" y="70"/>
                    </a:lnTo>
                    <a:close/>
                    <a:moveTo>
                      <a:pt x="930" y="27"/>
                    </a:moveTo>
                    <a:lnTo>
                      <a:pt x="930" y="3"/>
                    </a:lnTo>
                    <a:lnTo>
                      <a:pt x="936" y="3"/>
                    </a:lnTo>
                    <a:lnTo>
                      <a:pt x="936" y="27"/>
                    </a:lnTo>
                    <a:lnTo>
                      <a:pt x="93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133120" y="2181600"/>
                <a:ext cx="119880" cy="18324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127360" y="2265840"/>
                <a:ext cx="124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8083080" y="2533680"/>
                <a:ext cx="248760" cy="96480"/>
                <a:chOff x="8083080" y="2533680"/>
                <a:chExt cx="248760" cy="9648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8083080" y="2533680"/>
                  <a:ext cx="248760" cy="9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083080" y="2533680"/>
                  <a:ext cx="248760" cy="9648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8083080" y="1917720"/>
                <a:ext cx="248760" cy="94680"/>
                <a:chOff x="8083080" y="1917720"/>
                <a:chExt cx="248760" cy="946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8083080" y="1917720"/>
                  <a:ext cx="248760" cy="9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083080" y="1917720"/>
                  <a:ext cx="248760" cy="9468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8254440" y="2039760"/>
                <a:ext cx="69840" cy="3672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8207280" y="2053800"/>
                <a:ext cx="42480" cy="7920"/>
                <a:chOff x="8207280" y="2053800"/>
                <a:chExt cx="42480" cy="792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8207280" y="2053800"/>
                  <a:ext cx="4248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207280" y="2053800"/>
                  <a:ext cx="42480" cy="79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8250120" y="2467080"/>
                <a:ext cx="69840" cy="36360"/>
              </a:xfrm>
              <a:prstGeom prst="rect">
                <a:avLst/>
              </a:prstGeom>
              <a:noFill/>
              <a:ln cap="rnd"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8202960" y="2480760"/>
                <a:ext cx="42480" cy="8280"/>
                <a:chOff x="8202960" y="2480760"/>
                <a:chExt cx="42480" cy="828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202960" y="2480760"/>
                  <a:ext cx="4248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202960" y="2480760"/>
                  <a:ext cx="42480" cy="828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8118000" y="2030400"/>
                <a:ext cx="2880" cy="27000"/>
                <a:chOff x="8118000" y="2030400"/>
                <a:chExt cx="2880" cy="2700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8118000" y="2030400"/>
                  <a:ext cx="28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118000" y="2030400"/>
                  <a:ext cx="2880" cy="270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8107200" y="2484720"/>
                <a:ext cx="2880" cy="27360"/>
                <a:chOff x="8107200" y="2484720"/>
                <a:chExt cx="2880" cy="2736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8107200" y="2484720"/>
                  <a:ext cx="288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107200" y="2484720"/>
                  <a:ext cx="2880" cy="273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"/>
              <p:cNvSpPr/>
              <p:nvPr/>
            </p:nvSpPr>
            <p:spPr>
              <a:xfrm>
                <a:off x="8238240" y="2080800"/>
                <a:ext cx="51120" cy="907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67"/>
                    </a:moveTo>
                    <a:lnTo>
                      <a:pt x="0" y="29"/>
                    </a:lnTo>
                    <a:lnTo>
                      <a:pt x="34" y="29"/>
                    </a:lnTo>
                    <a:lnTo>
                      <a:pt x="34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236440" y="2366640"/>
                <a:ext cx="51480" cy="907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0"/>
                    </a:moveTo>
                    <a:lnTo>
                      <a:pt x="0" y="39"/>
                    </a:lnTo>
                    <a:lnTo>
                      <a:pt x="34" y="39"/>
                    </a:lnTo>
                    <a:lnTo>
                      <a:pt x="34" y="67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53320" y="2120400"/>
                <a:ext cx="286560" cy="286920"/>
              </a:xfrm>
              <a:custGeom>
                <a:avLst/>
                <a:gdLst/>
                <a:ahLst/>
                <a:rect l="l" t="t" r="r" b="b"/>
                <a:pathLst>
                  <a:path w="189" h="211">
                    <a:moveTo>
                      <a:pt x="181" y="211"/>
                    </a:moveTo>
                    <a:lnTo>
                      <a:pt x="0" y="102"/>
                    </a:lnTo>
                    <a:lnTo>
                      <a:pt x="1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7791480" y="1916280"/>
                <a:ext cx="248760" cy="95040"/>
                <a:chOff x="7791480" y="1916280"/>
                <a:chExt cx="248760" cy="9504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791480" y="1916280"/>
                  <a:ext cx="248760" cy="95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791480" y="1916280"/>
                  <a:ext cx="248760" cy="950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7797600" y="2533680"/>
                <a:ext cx="248760" cy="95040"/>
                <a:chOff x="7797600" y="2533680"/>
                <a:chExt cx="248760" cy="950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7797600" y="2533680"/>
                  <a:ext cx="248760" cy="95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797600" y="2533680"/>
                  <a:ext cx="248760" cy="950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21800" y="2467080"/>
                <a:ext cx="116640" cy="38160"/>
                <a:chOff x="7921800" y="2467080"/>
                <a:chExt cx="116640" cy="3816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7970040" y="2467080"/>
                  <a:ext cx="68400" cy="381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7921800" y="2481840"/>
                  <a:ext cx="43920" cy="9360"/>
                  <a:chOff x="7921800" y="2481840"/>
                  <a:chExt cx="43920" cy="93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7921800" y="2481840"/>
                    <a:ext cx="439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921800" y="2481840"/>
                    <a:ext cx="43920" cy="9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9" name=""/>
              <p:cNvSpPr/>
              <p:nvPr/>
            </p:nvSpPr>
            <p:spPr>
              <a:xfrm>
                <a:off x="7999560" y="2366640"/>
                <a:ext cx="144000" cy="96480"/>
              </a:xfrm>
              <a:custGeom>
                <a:avLst/>
                <a:gdLst/>
                <a:ahLst/>
                <a:rect l="l" t="t" r="r" b="b"/>
                <a:pathLst>
                  <a:path w="95" h="71">
                    <a:moveTo>
                      <a:pt x="0" y="71"/>
                    </a:moveTo>
                    <a:lnTo>
                      <a:pt x="0" y="31"/>
                    </a:lnTo>
                    <a:lnTo>
                      <a:pt x="95" y="31"/>
                    </a:lnTo>
                    <a:lnTo>
                      <a:pt x="95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7911360" y="2041200"/>
                <a:ext cx="116640" cy="36360"/>
                <a:chOff x="7911360" y="2041200"/>
                <a:chExt cx="116640" cy="3636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7959600" y="2041200"/>
                  <a:ext cx="68400" cy="363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2" name=""/>
                <p:cNvGrpSpPr/>
                <p:nvPr/>
              </p:nvGrpSpPr>
              <p:grpSpPr>
                <a:xfrm>
                  <a:off x="7911360" y="2054520"/>
                  <a:ext cx="43920" cy="9360"/>
                  <a:chOff x="7911360" y="2054520"/>
                  <a:chExt cx="43920" cy="936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>
                    <a:off x="7911360" y="2054520"/>
                    <a:ext cx="4392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7911360" y="2054520"/>
                    <a:ext cx="43920" cy="9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5" name=""/>
              <p:cNvSpPr/>
              <p:nvPr/>
            </p:nvSpPr>
            <p:spPr>
              <a:xfrm>
                <a:off x="7994880" y="2077920"/>
                <a:ext cx="150120" cy="90720"/>
              </a:xfrm>
              <a:custGeom>
                <a:avLst/>
                <a:gdLst/>
                <a:ahLst/>
                <a:rect l="l" t="t" r="r" b="b"/>
                <a:pathLst>
                  <a:path w="99" h="67">
                    <a:moveTo>
                      <a:pt x="0" y="0"/>
                    </a:moveTo>
                    <a:lnTo>
                      <a:pt x="0" y="39"/>
                    </a:lnTo>
                    <a:lnTo>
                      <a:pt x="99" y="39"/>
                    </a:lnTo>
                    <a:lnTo>
                      <a:pt x="99" y="67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6200000">
                <a:off x="8147160" y="2284560"/>
                <a:ext cx="691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8154000" y="219168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8" name=""/>
              <p:cNvGrpSpPr/>
              <p:nvPr/>
            </p:nvGrpSpPr>
            <p:grpSpPr>
              <a:xfrm>
                <a:off x="7129440" y="1918800"/>
                <a:ext cx="267120" cy="708120"/>
                <a:chOff x="7129440" y="1918800"/>
                <a:chExt cx="267120" cy="708120"/>
              </a:xfrm>
            </p:grpSpPr>
            <p:grpSp>
              <p:nvGrpSpPr>
                <p:cNvPr id="829" name=""/>
                <p:cNvGrpSpPr/>
                <p:nvPr/>
              </p:nvGrpSpPr>
              <p:grpSpPr>
                <a:xfrm>
                  <a:off x="7141680" y="1918800"/>
                  <a:ext cx="248760" cy="95040"/>
                  <a:chOff x="7141680" y="1918800"/>
                  <a:chExt cx="248760" cy="9504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>
                    <a:off x="7141680" y="1918800"/>
                    <a:ext cx="248760" cy="9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7141680" y="1918800"/>
                    <a:ext cx="248760" cy="950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129440" y="2530440"/>
                  <a:ext cx="249120" cy="96480"/>
                  <a:chOff x="7129440" y="2530440"/>
                  <a:chExt cx="249120" cy="9648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7129440" y="2530440"/>
                    <a:ext cx="249120" cy="96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7129440" y="2530440"/>
                    <a:ext cx="249120" cy="964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7263000" y="2041200"/>
                  <a:ext cx="116640" cy="36360"/>
                  <a:chOff x="7263000" y="2041200"/>
                  <a:chExt cx="116640" cy="3636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7309800" y="2041200"/>
                    <a:ext cx="69840" cy="36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7263000" y="2054520"/>
                    <a:ext cx="42480" cy="7920"/>
                    <a:chOff x="7263000" y="2054520"/>
                    <a:chExt cx="42480" cy="7920"/>
                  </a:xfrm>
                </p:grpSpPr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7263000" y="2054520"/>
                      <a:ext cx="4248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7263000" y="2054520"/>
                      <a:ext cx="4248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7256880" y="2462400"/>
                  <a:ext cx="116640" cy="37800"/>
                  <a:chOff x="7256880" y="2462400"/>
                  <a:chExt cx="116640" cy="3780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>
                    <a:off x="7303680" y="2462400"/>
                    <a:ext cx="69840" cy="378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7256880" y="2477160"/>
                    <a:ext cx="42120" cy="9360"/>
                    <a:chOff x="7256880" y="2477160"/>
                    <a:chExt cx="42120" cy="936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7256880" y="2477160"/>
                      <a:ext cx="4212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7256880" y="2477160"/>
                      <a:ext cx="42120" cy="936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7175160" y="2034360"/>
                  <a:ext cx="2880" cy="27000"/>
                  <a:chOff x="7175160" y="2034360"/>
                  <a:chExt cx="2880" cy="2700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7175160" y="2034360"/>
                    <a:ext cx="288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7175160" y="2034360"/>
                    <a:ext cx="2880" cy="27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7179480" y="2485800"/>
                  <a:ext cx="2880" cy="27000"/>
                  <a:chOff x="7179480" y="2485800"/>
                  <a:chExt cx="2880" cy="2700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>
                    <a:off x="7179480" y="2485800"/>
                    <a:ext cx="288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7179480" y="2485800"/>
                    <a:ext cx="2880" cy="27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"/>
                <p:cNvSpPr/>
                <p:nvPr/>
              </p:nvSpPr>
              <p:spPr>
                <a:xfrm>
                  <a:off x="7352640" y="2077560"/>
                  <a:ext cx="0" cy="3805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2" name=""/>
                <p:cNvGrpSpPr/>
                <p:nvPr/>
              </p:nvGrpSpPr>
              <p:grpSpPr>
                <a:xfrm>
                  <a:off x="7276680" y="2215080"/>
                  <a:ext cx="119880" cy="99000"/>
                  <a:chOff x="7276680" y="2215080"/>
                  <a:chExt cx="119880" cy="9900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7276680" y="2215080"/>
                    <a:ext cx="119880" cy="9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7276680" y="2215080"/>
                    <a:ext cx="119880" cy="99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5" name=""/>
                <p:cNvSpPr/>
                <p:nvPr/>
              </p:nvSpPr>
              <p:spPr>
                <a:xfrm rot="16200000">
                  <a:off x="7305840" y="2232000"/>
                  <a:ext cx="417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175160" y="2276280"/>
                  <a:ext cx="92520" cy="214560"/>
                </a:xfrm>
                <a:custGeom>
                  <a:avLst/>
                  <a:gdLst/>
                  <a:ahLst/>
                  <a:rect l="l" t="t" r="r" b="b"/>
                  <a:pathLst>
                    <a:path w="501" h="1300">
                      <a:moveTo>
                        <a:pt x="0" y="1275"/>
                      </a:moveTo>
                      <a:lnTo>
                        <a:pt x="0" y="1275"/>
                      </a:lnTo>
                      <a:cubicBezTo>
                        <a:pt x="0" y="1261"/>
                        <a:pt x="12" y="1250"/>
                        <a:pt x="25" y="1250"/>
                      </a:cubicBezTo>
                      <a:cubicBezTo>
                        <a:pt x="39" y="1250"/>
                        <a:pt x="50" y="1261"/>
                        <a:pt x="50" y="1275"/>
                      </a:cubicBezTo>
                      <a:lnTo>
                        <a:pt x="50" y="1275"/>
                      </a:lnTo>
                      <a:cubicBezTo>
                        <a:pt x="50" y="1289"/>
                        <a:pt x="39" y="1300"/>
                        <a:pt x="25" y="1300"/>
                      </a:cubicBezTo>
                      <a:cubicBezTo>
                        <a:pt x="12" y="1300"/>
                        <a:pt x="0" y="1289"/>
                        <a:pt x="0" y="1275"/>
                      </a:cubicBezTo>
                      <a:close/>
                      <a:moveTo>
                        <a:pt x="0" y="1175"/>
                      </a:moveTo>
                      <a:lnTo>
                        <a:pt x="0" y="1175"/>
                      </a:lnTo>
                      <a:cubicBezTo>
                        <a:pt x="0" y="1161"/>
                        <a:pt x="12" y="1150"/>
                        <a:pt x="25" y="1150"/>
                      </a:cubicBezTo>
                      <a:cubicBezTo>
                        <a:pt x="39" y="1150"/>
                        <a:pt x="50" y="1161"/>
                        <a:pt x="50" y="1175"/>
                      </a:cubicBezTo>
                      <a:lnTo>
                        <a:pt x="50" y="1175"/>
                      </a:lnTo>
                      <a:cubicBezTo>
                        <a:pt x="50" y="1189"/>
                        <a:pt x="39" y="1200"/>
                        <a:pt x="25" y="1200"/>
                      </a:cubicBezTo>
                      <a:cubicBezTo>
                        <a:pt x="12" y="1200"/>
                        <a:pt x="0" y="1189"/>
                        <a:pt x="0" y="1175"/>
                      </a:cubicBezTo>
                      <a:close/>
                      <a:moveTo>
                        <a:pt x="0" y="1075"/>
                      </a:moveTo>
                      <a:lnTo>
                        <a:pt x="0" y="1075"/>
                      </a:lnTo>
                      <a:cubicBezTo>
                        <a:pt x="0" y="1061"/>
                        <a:pt x="12" y="1050"/>
                        <a:pt x="25" y="1050"/>
                      </a:cubicBezTo>
                      <a:cubicBezTo>
                        <a:pt x="39" y="1050"/>
                        <a:pt x="50" y="1061"/>
                        <a:pt x="50" y="1075"/>
                      </a:cubicBezTo>
                      <a:lnTo>
                        <a:pt x="50" y="1075"/>
                      </a:lnTo>
                      <a:cubicBezTo>
                        <a:pt x="50" y="1089"/>
                        <a:pt x="39" y="1100"/>
                        <a:pt x="25" y="1100"/>
                      </a:cubicBezTo>
                      <a:cubicBezTo>
                        <a:pt x="12" y="1100"/>
                        <a:pt x="0" y="1089"/>
                        <a:pt x="0" y="1075"/>
                      </a:cubicBezTo>
                      <a:close/>
                      <a:moveTo>
                        <a:pt x="0" y="975"/>
                      </a:moveTo>
                      <a:lnTo>
                        <a:pt x="0" y="975"/>
                      </a:lnTo>
                      <a:cubicBezTo>
                        <a:pt x="0" y="961"/>
                        <a:pt x="12" y="950"/>
                        <a:pt x="25" y="950"/>
                      </a:cubicBezTo>
                      <a:cubicBezTo>
                        <a:pt x="39" y="950"/>
                        <a:pt x="50" y="961"/>
                        <a:pt x="50" y="975"/>
                      </a:cubicBezTo>
                      <a:lnTo>
                        <a:pt x="50" y="975"/>
                      </a:lnTo>
                      <a:cubicBezTo>
                        <a:pt x="50" y="989"/>
                        <a:pt x="39" y="1000"/>
                        <a:pt x="25" y="1000"/>
                      </a:cubicBezTo>
                      <a:cubicBezTo>
                        <a:pt x="12" y="1000"/>
                        <a:pt x="0" y="989"/>
                        <a:pt x="0" y="975"/>
                      </a:cubicBezTo>
                      <a:close/>
                      <a:moveTo>
                        <a:pt x="0" y="875"/>
                      </a:moveTo>
                      <a:lnTo>
                        <a:pt x="0" y="875"/>
                      </a:lnTo>
                      <a:cubicBezTo>
                        <a:pt x="0" y="861"/>
                        <a:pt x="12" y="850"/>
                        <a:pt x="25" y="850"/>
                      </a:cubicBezTo>
                      <a:cubicBezTo>
                        <a:pt x="39" y="850"/>
                        <a:pt x="50" y="861"/>
                        <a:pt x="50" y="875"/>
                      </a:cubicBezTo>
                      <a:lnTo>
                        <a:pt x="50" y="875"/>
                      </a:lnTo>
                      <a:cubicBezTo>
                        <a:pt x="50" y="889"/>
                        <a:pt x="39" y="900"/>
                        <a:pt x="25" y="900"/>
                      </a:cubicBezTo>
                      <a:cubicBezTo>
                        <a:pt x="12" y="900"/>
                        <a:pt x="0" y="889"/>
                        <a:pt x="0" y="875"/>
                      </a:cubicBezTo>
                      <a:close/>
                      <a:moveTo>
                        <a:pt x="0" y="775"/>
                      </a:moveTo>
                      <a:lnTo>
                        <a:pt x="0" y="775"/>
                      </a:lnTo>
                      <a:cubicBezTo>
                        <a:pt x="0" y="761"/>
                        <a:pt x="12" y="750"/>
                        <a:pt x="25" y="750"/>
                      </a:cubicBezTo>
                      <a:cubicBezTo>
                        <a:pt x="39" y="750"/>
                        <a:pt x="50" y="761"/>
                        <a:pt x="50" y="775"/>
                      </a:cubicBezTo>
                      <a:lnTo>
                        <a:pt x="50" y="775"/>
                      </a:lnTo>
                      <a:cubicBezTo>
                        <a:pt x="50" y="789"/>
                        <a:pt x="39" y="800"/>
                        <a:pt x="25" y="800"/>
                      </a:cubicBezTo>
                      <a:cubicBezTo>
                        <a:pt x="12" y="800"/>
                        <a:pt x="0" y="789"/>
                        <a:pt x="0" y="775"/>
                      </a:cubicBezTo>
                      <a:close/>
                      <a:moveTo>
                        <a:pt x="0" y="675"/>
                      </a:moveTo>
                      <a:lnTo>
                        <a:pt x="0" y="675"/>
                      </a:lnTo>
                      <a:cubicBezTo>
                        <a:pt x="0" y="661"/>
                        <a:pt x="12" y="650"/>
                        <a:pt x="25" y="650"/>
                      </a:cubicBezTo>
                      <a:cubicBezTo>
                        <a:pt x="39" y="650"/>
                        <a:pt x="50" y="661"/>
                        <a:pt x="50" y="675"/>
                      </a:cubicBezTo>
                      <a:lnTo>
                        <a:pt x="50" y="675"/>
                      </a:lnTo>
                      <a:cubicBezTo>
                        <a:pt x="50" y="689"/>
                        <a:pt x="39" y="700"/>
                        <a:pt x="25" y="700"/>
                      </a:cubicBezTo>
                      <a:cubicBezTo>
                        <a:pt x="12" y="700"/>
                        <a:pt x="0" y="689"/>
                        <a:pt x="0" y="675"/>
                      </a:cubicBezTo>
                      <a:close/>
                      <a:moveTo>
                        <a:pt x="0" y="575"/>
                      </a:moveTo>
                      <a:lnTo>
                        <a:pt x="0" y="575"/>
                      </a:lnTo>
                      <a:cubicBezTo>
                        <a:pt x="0" y="561"/>
                        <a:pt x="12" y="550"/>
                        <a:pt x="25" y="550"/>
                      </a:cubicBezTo>
                      <a:cubicBezTo>
                        <a:pt x="39" y="550"/>
                        <a:pt x="50" y="561"/>
                        <a:pt x="50" y="575"/>
                      </a:cubicBezTo>
                      <a:lnTo>
                        <a:pt x="50" y="575"/>
                      </a:lnTo>
                      <a:cubicBezTo>
                        <a:pt x="50" y="589"/>
                        <a:pt x="39" y="600"/>
                        <a:pt x="25" y="600"/>
                      </a:cubicBezTo>
                      <a:cubicBezTo>
                        <a:pt x="12" y="600"/>
                        <a:pt x="0" y="589"/>
                        <a:pt x="0" y="575"/>
                      </a:cubicBezTo>
                      <a:close/>
                      <a:moveTo>
                        <a:pt x="0" y="475"/>
                      </a:moveTo>
                      <a:lnTo>
                        <a:pt x="0" y="475"/>
                      </a:lnTo>
                      <a:cubicBezTo>
                        <a:pt x="0" y="461"/>
                        <a:pt x="12" y="450"/>
                        <a:pt x="25" y="450"/>
                      </a:cubicBezTo>
                      <a:cubicBezTo>
                        <a:pt x="39" y="450"/>
                        <a:pt x="50" y="461"/>
                        <a:pt x="50" y="475"/>
                      </a:cubicBezTo>
                      <a:lnTo>
                        <a:pt x="50" y="475"/>
                      </a:lnTo>
                      <a:cubicBezTo>
                        <a:pt x="50" y="489"/>
                        <a:pt x="39" y="500"/>
                        <a:pt x="25" y="500"/>
                      </a:cubicBezTo>
                      <a:cubicBezTo>
                        <a:pt x="12" y="500"/>
                        <a:pt x="0" y="489"/>
                        <a:pt x="0" y="475"/>
                      </a:cubicBezTo>
                      <a:close/>
                      <a:moveTo>
                        <a:pt x="0" y="375"/>
                      </a:moveTo>
                      <a:lnTo>
                        <a:pt x="0" y="375"/>
                      </a:lnTo>
                      <a:cubicBezTo>
                        <a:pt x="0" y="361"/>
                        <a:pt x="12" y="350"/>
                        <a:pt x="25" y="350"/>
                      </a:cubicBezTo>
                      <a:cubicBezTo>
                        <a:pt x="39" y="350"/>
                        <a:pt x="50" y="361"/>
                        <a:pt x="50" y="375"/>
                      </a:cubicBezTo>
                      <a:lnTo>
                        <a:pt x="50" y="375"/>
                      </a:lnTo>
                      <a:cubicBezTo>
                        <a:pt x="50" y="388"/>
                        <a:pt x="39" y="400"/>
                        <a:pt x="25" y="400"/>
                      </a:cubicBezTo>
                      <a:cubicBezTo>
                        <a:pt x="12" y="400"/>
                        <a:pt x="0" y="388"/>
                        <a:pt x="0" y="375"/>
                      </a:cubicBezTo>
                      <a:close/>
                      <a:moveTo>
                        <a:pt x="0" y="275"/>
                      </a:moveTo>
                      <a:lnTo>
                        <a:pt x="0" y="275"/>
                      </a:lnTo>
                      <a:cubicBezTo>
                        <a:pt x="0" y="261"/>
                        <a:pt x="12" y="250"/>
                        <a:pt x="25" y="250"/>
                      </a:cubicBezTo>
                      <a:cubicBezTo>
                        <a:pt x="39" y="250"/>
                        <a:pt x="50" y="261"/>
                        <a:pt x="50" y="275"/>
                      </a:cubicBezTo>
                      <a:lnTo>
                        <a:pt x="50" y="275"/>
                      </a:lnTo>
                      <a:cubicBezTo>
                        <a:pt x="50" y="288"/>
                        <a:pt x="39" y="300"/>
                        <a:pt x="25" y="300"/>
                      </a:cubicBezTo>
                      <a:cubicBezTo>
                        <a:pt x="12" y="300"/>
                        <a:pt x="0" y="288"/>
                        <a:pt x="0" y="275"/>
                      </a:cubicBezTo>
                      <a:close/>
                      <a:moveTo>
                        <a:pt x="0" y="175"/>
                      </a:moveTo>
                      <a:lnTo>
                        <a:pt x="0" y="175"/>
                      </a:lnTo>
                      <a:cubicBezTo>
                        <a:pt x="0" y="161"/>
                        <a:pt x="12" y="150"/>
                        <a:pt x="25" y="150"/>
                      </a:cubicBezTo>
                      <a:cubicBezTo>
                        <a:pt x="39" y="150"/>
                        <a:pt x="50" y="161"/>
                        <a:pt x="50" y="175"/>
                      </a:cubicBezTo>
                      <a:lnTo>
                        <a:pt x="50" y="175"/>
                      </a:lnTo>
                      <a:cubicBezTo>
                        <a:pt x="50" y="188"/>
                        <a:pt x="39" y="200"/>
                        <a:pt x="25" y="200"/>
                      </a:cubicBezTo>
                      <a:cubicBezTo>
                        <a:pt x="12" y="200"/>
                        <a:pt x="0" y="188"/>
                        <a:pt x="0" y="175"/>
                      </a:cubicBezTo>
                      <a:close/>
                      <a:moveTo>
                        <a:pt x="0" y="75"/>
                      </a:moveTo>
                      <a:lnTo>
                        <a:pt x="0" y="74"/>
                      </a:lnTo>
                      <a:cubicBezTo>
                        <a:pt x="0" y="61"/>
                        <a:pt x="12" y="49"/>
                        <a:pt x="25" y="49"/>
                      </a:cubicBezTo>
                      <a:cubicBezTo>
                        <a:pt x="39" y="49"/>
                        <a:pt x="50" y="61"/>
                        <a:pt x="50" y="74"/>
                      </a:cubicBezTo>
                      <a:lnTo>
                        <a:pt x="50" y="75"/>
                      </a:lnTo>
                      <a:cubicBezTo>
                        <a:pt x="50" y="88"/>
                        <a:pt x="39" y="100"/>
                        <a:pt x="25" y="100"/>
                      </a:cubicBezTo>
                      <a:cubicBezTo>
                        <a:pt x="12" y="100"/>
                        <a:pt x="0" y="88"/>
                        <a:pt x="0" y="75"/>
                      </a:cubicBezTo>
                      <a:close/>
                      <a:moveTo>
                        <a:pt x="76" y="0"/>
                      </a:moveTo>
                      <a:lnTo>
                        <a:pt x="76" y="0"/>
                      </a:lnTo>
                      <a:cubicBezTo>
                        <a:pt x="90" y="0"/>
                        <a:pt x="101" y="11"/>
                        <a:pt x="101" y="25"/>
                      </a:cubicBezTo>
                      <a:cubicBezTo>
                        <a:pt x="101" y="39"/>
                        <a:pt x="90" y="50"/>
                        <a:pt x="76" y="50"/>
                      </a:cubicBezTo>
                      <a:lnTo>
                        <a:pt x="76" y="50"/>
                      </a:lnTo>
                      <a:cubicBezTo>
                        <a:pt x="62" y="50"/>
                        <a:pt x="51" y="39"/>
                        <a:pt x="51" y="25"/>
                      </a:cubicBezTo>
                      <a:cubicBezTo>
                        <a:pt x="51" y="11"/>
                        <a:pt x="62" y="0"/>
                        <a:pt x="76" y="0"/>
                      </a:cubicBezTo>
                      <a:close/>
                      <a:moveTo>
                        <a:pt x="176" y="0"/>
                      </a:moveTo>
                      <a:lnTo>
                        <a:pt x="176" y="0"/>
                      </a:lnTo>
                      <a:cubicBezTo>
                        <a:pt x="190" y="0"/>
                        <a:pt x="201" y="11"/>
                        <a:pt x="201" y="25"/>
                      </a:cubicBezTo>
                      <a:cubicBezTo>
                        <a:pt x="201" y="39"/>
                        <a:pt x="190" y="50"/>
                        <a:pt x="176" y="50"/>
                      </a:cubicBezTo>
                      <a:lnTo>
                        <a:pt x="176" y="50"/>
                      </a:lnTo>
                      <a:cubicBezTo>
                        <a:pt x="162" y="50"/>
                        <a:pt x="151" y="39"/>
                        <a:pt x="151" y="25"/>
                      </a:cubicBezTo>
                      <a:cubicBezTo>
                        <a:pt x="151" y="11"/>
                        <a:pt x="162" y="0"/>
                        <a:pt x="176" y="0"/>
                      </a:cubicBezTo>
                      <a:close/>
                      <a:moveTo>
                        <a:pt x="276" y="0"/>
                      </a:moveTo>
                      <a:lnTo>
                        <a:pt x="276" y="0"/>
                      </a:lnTo>
                      <a:cubicBezTo>
                        <a:pt x="290" y="0"/>
                        <a:pt x="301" y="11"/>
                        <a:pt x="301" y="25"/>
                      </a:cubicBezTo>
                      <a:cubicBezTo>
                        <a:pt x="301" y="39"/>
                        <a:pt x="290" y="50"/>
                        <a:pt x="276" y="50"/>
                      </a:cubicBezTo>
                      <a:lnTo>
                        <a:pt x="276" y="50"/>
                      </a:lnTo>
                      <a:cubicBezTo>
                        <a:pt x="262" y="50"/>
                        <a:pt x="251" y="39"/>
                        <a:pt x="251" y="25"/>
                      </a:cubicBezTo>
                      <a:cubicBezTo>
                        <a:pt x="251" y="11"/>
                        <a:pt x="262" y="0"/>
                        <a:pt x="276" y="0"/>
                      </a:cubicBezTo>
                      <a:close/>
                      <a:moveTo>
                        <a:pt x="376" y="0"/>
                      </a:moveTo>
                      <a:lnTo>
                        <a:pt x="376" y="0"/>
                      </a:lnTo>
                      <a:cubicBezTo>
                        <a:pt x="390" y="0"/>
                        <a:pt x="401" y="11"/>
                        <a:pt x="401" y="25"/>
                      </a:cubicBezTo>
                      <a:cubicBezTo>
                        <a:pt x="401" y="39"/>
                        <a:pt x="390" y="50"/>
                        <a:pt x="376" y="50"/>
                      </a:cubicBezTo>
                      <a:lnTo>
                        <a:pt x="376" y="50"/>
                      </a:lnTo>
                      <a:cubicBezTo>
                        <a:pt x="362" y="50"/>
                        <a:pt x="351" y="39"/>
                        <a:pt x="351" y="25"/>
                      </a:cubicBezTo>
                      <a:cubicBezTo>
                        <a:pt x="351" y="11"/>
                        <a:pt x="362" y="0"/>
                        <a:pt x="376" y="0"/>
                      </a:cubicBezTo>
                      <a:close/>
                      <a:moveTo>
                        <a:pt x="476" y="0"/>
                      </a:moveTo>
                      <a:lnTo>
                        <a:pt x="476" y="0"/>
                      </a:lnTo>
                      <a:cubicBezTo>
                        <a:pt x="490" y="0"/>
                        <a:pt x="501" y="11"/>
                        <a:pt x="501" y="25"/>
                      </a:cubicBezTo>
                      <a:cubicBezTo>
                        <a:pt x="501" y="39"/>
                        <a:pt x="490" y="50"/>
                        <a:pt x="476" y="50"/>
                      </a:cubicBezTo>
                      <a:lnTo>
                        <a:pt x="476" y="50"/>
                      </a:lnTo>
                      <a:cubicBezTo>
                        <a:pt x="463" y="50"/>
                        <a:pt x="451" y="39"/>
                        <a:pt x="451" y="25"/>
                      </a:cubicBezTo>
                      <a:cubicBezTo>
                        <a:pt x="451" y="11"/>
                        <a:pt x="463" y="0"/>
                        <a:pt x="47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168680" y="2031480"/>
                  <a:ext cx="93960" cy="214560"/>
                </a:xfrm>
                <a:custGeom>
                  <a:avLst/>
                  <a:gdLst/>
                  <a:ahLst/>
                  <a:rect l="l" t="t" r="r" b="b"/>
                  <a:pathLst>
                    <a:path w="509" h="1299">
                      <a:moveTo>
                        <a:pt x="58" y="25"/>
                      </a:moveTo>
                      <a:lnTo>
                        <a:pt x="58" y="25"/>
                      </a:lnTo>
                      <a:cubicBezTo>
                        <a:pt x="58" y="39"/>
                        <a:pt x="47" y="50"/>
                        <a:pt x="33" y="50"/>
                      </a:cubicBezTo>
                      <a:cubicBezTo>
                        <a:pt x="19" y="50"/>
                        <a:pt x="8" y="39"/>
                        <a:pt x="8" y="25"/>
                      </a:cubicBezTo>
                      <a:lnTo>
                        <a:pt x="8" y="25"/>
                      </a:lnTo>
                      <a:cubicBezTo>
                        <a:pt x="9" y="11"/>
                        <a:pt x="20" y="0"/>
                        <a:pt x="34" y="0"/>
                      </a:cubicBezTo>
                      <a:cubicBezTo>
                        <a:pt x="48" y="0"/>
                        <a:pt x="59" y="12"/>
                        <a:pt x="58" y="25"/>
                      </a:cubicBezTo>
                      <a:close/>
                      <a:moveTo>
                        <a:pt x="58" y="125"/>
                      </a:moveTo>
                      <a:lnTo>
                        <a:pt x="58" y="125"/>
                      </a:lnTo>
                      <a:cubicBezTo>
                        <a:pt x="58" y="139"/>
                        <a:pt x="46" y="150"/>
                        <a:pt x="33" y="150"/>
                      </a:cubicBezTo>
                      <a:cubicBezTo>
                        <a:pt x="19" y="150"/>
                        <a:pt x="8" y="139"/>
                        <a:pt x="8" y="125"/>
                      </a:cubicBezTo>
                      <a:lnTo>
                        <a:pt x="8" y="125"/>
                      </a:lnTo>
                      <a:cubicBezTo>
                        <a:pt x="8" y="111"/>
                        <a:pt x="19" y="100"/>
                        <a:pt x="33" y="100"/>
                      </a:cubicBezTo>
                      <a:cubicBezTo>
                        <a:pt x="47" y="100"/>
                        <a:pt x="58" y="112"/>
                        <a:pt x="58" y="125"/>
                      </a:cubicBezTo>
                      <a:close/>
                      <a:moveTo>
                        <a:pt x="57" y="225"/>
                      </a:moveTo>
                      <a:lnTo>
                        <a:pt x="57" y="226"/>
                      </a:lnTo>
                      <a:cubicBezTo>
                        <a:pt x="57" y="239"/>
                        <a:pt x="46" y="250"/>
                        <a:pt x="32" y="250"/>
                      </a:cubicBezTo>
                      <a:cubicBezTo>
                        <a:pt x="18" y="250"/>
                        <a:pt x="7" y="239"/>
                        <a:pt x="7" y="225"/>
                      </a:cubicBezTo>
                      <a:lnTo>
                        <a:pt x="7" y="225"/>
                      </a:lnTo>
                      <a:cubicBezTo>
                        <a:pt x="7" y="211"/>
                        <a:pt x="19" y="200"/>
                        <a:pt x="32" y="200"/>
                      </a:cubicBezTo>
                      <a:cubicBezTo>
                        <a:pt x="46" y="200"/>
                        <a:pt x="57" y="212"/>
                        <a:pt x="57" y="225"/>
                      </a:cubicBezTo>
                      <a:close/>
                      <a:moveTo>
                        <a:pt x="56" y="326"/>
                      </a:moveTo>
                      <a:lnTo>
                        <a:pt x="56" y="326"/>
                      </a:lnTo>
                      <a:cubicBezTo>
                        <a:pt x="56" y="339"/>
                        <a:pt x="45" y="350"/>
                        <a:pt x="31" y="350"/>
                      </a:cubicBezTo>
                      <a:cubicBezTo>
                        <a:pt x="17" y="350"/>
                        <a:pt x="6" y="339"/>
                        <a:pt x="6" y="325"/>
                      </a:cubicBezTo>
                      <a:lnTo>
                        <a:pt x="6" y="325"/>
                      </a:lnTo>
                      <a:cubicBezTo>
                        <a:pt x="7" y="311"/>
                        <a:pt x="18" y="300"/>
                        <a:pt x="32" y="300"/>
                      </a:cubicBezTo>
                      <a:cubicBezTo>
                        <a:pt x="46" y="300"/>
                        <a:pt x="57" y="312"/>
                        <a:pt x="56" y="326"/>
                      </a:cubicBezTo>
                      <a:close/>
                      <a:moveTo>
                        <a:pt x="56" y="426"/>
                      </a:moveTo>
                      <a:lnTo>
                        <a:pt x="56" y="426"/>
                      </a:lnTo>
                      <a:cubicBezTo>
                        <a:pt x="56" y="439"/>
                        <a:pt x="44" y="451"/>
                        <a:pt x="31" y="450"/>
                      </a:cubicBezTo>
                      <a:cubicBezTo>
                        <a:pt x="17" y="450"/>
                        <a:pt x="6" y="439"/>
                        <a:pt x="6" y="425"/>
                      </a:cubicBezTo>
                      <a:lnTo>
                        <a:pt x="6" y="425"/>
                      </a:lnTo>
                      <a:cubicBezTo>
                        <a:pt x="6" y="411"/>
                        <a:pt x="17" y="400"/>
                        <a:pt x="31" y="400"/>
                      </a:cubicBezTo>
                      <a:cubicBezTo>
                        <a:pt x="45" y="400"/>
                        <a:pt x="56" y="412"/>
                        <a:pt x="56" y="426"/>
                      </a:cubicBezTo>
                      <a:close/>
                      <a:moveTo>
                        <a:pt x="55" y="526"/>
                      </a:moveTo>
                      <a:lnTo>
                        <a:pt x="55" y="526"/>
                      </a:lnTo>
                      <a:cubicBezTo>
                        <a:pt x="55" y="539"/>
                        <a:pt x="44" y="551"/>
                        <a:pt x="30" y="550"/>
                      </a:cubicBezTo>
                      <a:cubicBezTo>
                        <a:pt x="16" y="550"/>
                        <a:pt x="5" y="539"/>
                        <a:pt x="5" y="525"/>
                      </a:cubicBezTo>
                      <a:lnTo>
                        <a:pt x="5" y="525"/>
                      </a:lnTo>
                      <a:cubicBezTo>
                        <a:pt x="5" y="511"/>
                        <a:pt x="17" y="500"/>
                        <a:pt x="30" y="500"/>
                      </a:cubicBezTo>
                      <a:cubicBezTo>
                        <a:pt x="44" y="501"/>
                        <a:pt x="55" y="512"/>
                        <a:pt x="55" y="526"/>
                      </a:cubicBezTo>
                      <a:close/>
                      <a:moveTo>
                        <a:pt x="54" y="626"/>
                      </a:moveTo>
                      <a:lnTo>
                        <a:pt x="54" y="626"/>
                      </a:lnTo>
                      <a:cubicBezTo>
                        <a:pt x="54" y="640"/>
                        <a:pt x="43" y="651"/>
                        <a:pt x="29" y="650"/>
                      </a:cubicBezTo>
                      <a:cubicBezTo>
                        <a:pt x="15" y="650"/>
                        <a:pt x="4" y="639"/>
                        <a:pt x="4" y="625"/>
                      </a:cubicBezTo>
                      <a:lnTo>
                        <a:pt x="4" y="625"/>
                      </a:lnTo>
                      <a:cubicBezTo>
                        <a:pt x="5" y="611"/>
                        <a:pt x="16" y="600"/>
                        <a:pt x="30" y="600"/>
                      </a:cubicBezTo>
                      <a:cubicBezTo>
                        <a:pt x="43" y="601"/>
                        <a:pt x="55" y="612"/>
                        <a:pt x="54" y="626"/>
                      </a:cubicBezTo>
                      <a:close/>
                      <a:moveTo>
                        <a:pt x="54" y="726"/>
                      </a:moveTo>
                      <a:lnTo>
                        <a:pt x="54" y="726"/>
                      </a:lnTo>
                      <a:cubicBezTo>
                        <a:pt x="54" y="740"/>
                        <a:pt x="42" y="751"/>
                        <a:pt x="29" y="751"/>
                      </a:cubicBezTo>
                      <a:cubicBezTo>
                        <a:pt x="15" y="750"/>
                        <a:pt x="4" y="739"/>
                        <a:pt x="4" y="725"/>
                      </a:cubicBezTo>
                      <a:lnTo>
                        <a:pt x="4" y="725"/>
                      </a:lnTo>
                      <a:cubicBezTo>
                        <a:pt x="4" y="711"/>
                        <a:pt x="15" y="700"/>
                        <a:pt x="29" y="700"/>
                      </a:cubicBezTo>
                      <a:cubicBezTo>
                        <a:pt x="43" y="701"/>
                        <a:pt x="54" y="712"/>
                        <a:pt x="54" y="726"/>
                      </a:cubicBezTo>
                      <a:close/>
                      <a:moveTo>
                        <a:pt x="53" y="826"/>
                      </a:moveTo>
                      <a:lnTo>
                        <a:pt x="53" y="826"/>
                      </a:lnTo>
                      <a:cubicBezTo>
                        <a:pt x="53" y="840"/>
                        <a:pt x="42" y="851"/>
                        <a:pt x="28" y="851"/>
                      </a:cubicBezTo>
                      <a:cubicBezTo>
                        <a:pt x="14" y="850"/>
                        <a:pt x="3" y="839"/>
                        <a:pt x="3" y="825"/>
                      </a:cubicBezTo>
                      <a:lnTo>
                        <a:pt x="3" y="825"/>
                      </a:lnTo>
                      <a:cubicBezTo>
                        <a:pt x="3" y="811"/>
                        <a:pt x="15" y="800"/>
                        <a:pt x="28" y="801"/>
                      </a:cubicBezTo>
                      <a:cubicBezTo>
                        <a:pt x="42" y="801"/>
                        <a:pt x="53" y="812"/>
                        <a:pt x="53" y="826"/>
                      </a:cubicBezTo>
                      <a:close/>
                      <a:moveTo>
                        <a:pt x="52" y="926"/>
                      </a:moveTo>
                      <a:lnTo>
                        <a:pt x="52" y="926"/>
                      </a:lnTo>
                      <a:cubicBezTo>
                        <a:pt x="52" y="940"/>
                        <a:pt x="41" y="951"/>
                        <a:pt x="27" y="951"/>
                      </a:cubicBezTo>
                      <a:cubicBezTo>
                        <a:pt x="13" y="950"/>
                        <a:pt x="2" y="939"/>
                        <a:pt x="2" y="925"/>
                      </a:cubicBezTo>
                      <a:lnTo>
                        <a:pt x="2" y="925"/>
                      </a:lnTo>
                      <a:cubicBezTo>
                        <a:pt x="3" y="912"/>
                        <a:pt x="14" y="900"/>
                        <a:pt x="28" y="901"/>
                      </a:cubicBezTo>
                      <a:cubicBezTo>
                        <a:pt x="41" y="901"/>
                        <a:pt x="53" y="912"/>
                        <a:pt x="52" y="926"/>
                      </a:cubicBezTo>
                      <a:close/>
                      <a:moveTo>
                        <a:pt x="52" y="1026"/>
                      </a:moveTo>
                      <a:lnTo>
                        <a:pt x="52" y="1026"/>
                      </a:lnTo>
                      <a:cubicBezTo>
                        <a:pt x="52" y="1040"/>
                        <a:pt x="40" y="1051"/>
                        <a:pt x="27" y="1051"/>
                      </a:cubicBezTo>
                      <a:cubicBezTo>
                        <a:pt x="13" y="1051"/>
                        <a:pt x="2" y="1039"/>
                        <a:pt x="2" y="1025"/>
                      </a:cubicBezTo>
                      <a:lnTo>
                        <a:pt x="2" y="1025"/>
                      </a:lnTo>
                      <a:cubicBezTo>
                        <a:pt x="2" y="1012"/>
                        <a:pt x="13" y="1000"/>
                        <a:pt x="27" y="1001"/>
                      </a:cubicBezTo>
                      <a:cubicBezTo>
                        <a:pt x="41" y="1001"/>
                        <a:pt x="52" y="1012"/>
                        <a:pt x="52" y="1026"/>
                      </a:cubicBezTo>
                      <a:close/>
                      <a:moveTo>
                        <a:pt x="51" y="1126"/>
                      </a:moveTo>
                      <a:lnTo>
                        <a:pt x="51" y="1126"/>
                      </a:lnTo>
                      <a:cubicBezTo>
                        <a:pt x="51" y="1140"/>
                        <a:pt x="40" y="1151"/>
                        <a:pt x="26" y="1151"/>
                      </a:cubicBezTo>
                      <a:cubicBezTo>
                        <a:pt x="12" y="1151"/>
                        <a:pt x="1" y="1139"/>
                        <a:pt x="1" y="1125"/>
                      </a:cubicBezTo>
                      <a:lnTo>
                        <a:pt x="1" y="1125"/>
                      </a:lnTo>
                      <a:cubicBezTo>
                        <a:pt x="1" y="1112"/>
                        <a:pt x="13" y="1101"/>
                        <a:pt x="26" y="1101"/>
                      </a:cubicBezTo>
                      <a:cubicBezTo>
                        <a:pt x="40" y="1101"/>
                        <a:pt x="51" y="1112"/>
                        <a:pt x="51" y="1126"/>
                      </a:cubicBezTo>
                      <a:close/>
                      <a:moveTo>
                        <a:pt x="50" y="1226"/>
                      </a:moveTo>
                      <a:lnTo>
                        <a:pt x="50" y="1226"/>
                      </a:lnTo>
                      <a:cubicBezTo>
                        <a:pt x="50" y="1240"/>
                        <a:pt x="39" y="1251"/>
                        <a:pt x="25" y="1251"/>
                      </a:cubicBezTo>
                      <a:cubicBezTo>
                        <a:pt x="11" y="1251"/>
                        <a:pt x="0" y="1239"/>
                        <a:pt x="0" y="1226"/>
                      </a:cubicBezTo>
                      <a:lnTo>
                        <a:pt x="0" y="1225"/>
                      </a:lnTo>
                      <a:cubicBezTo>
                        <a:pt x="1" y="1212"/>
                        <a:pt x="12" y="1201"/>
                        <a:pt x="26" y="1201"/>
                      </a:cubicBezTo>
                      <a:cubicBezTo>
                        <a:pt x="39" y="1201"/>
                        <a:pt x="51" y="1212"/>
                        <a:pt x="50" y="1226"/>
                      </a:cubicBezTo>
                      <a:close/>
                      <a:moveTo>
                        <a:pt x="84" y="1243"/>
                      </a:moveTo>
                      <a:lnTo>
                        <a:pt x="84" y="1243"/>
                      </a:lnTo>
                      <a:cubicBezTo>
                        <a:pt x="98" y="1243"/>
                        <a:pt x="109" y="1254"/>
                        <a:pt x="109" y="1268"/>
                      </a:cubicBezTo>
                      <a:cubicBezTo>
                        <a:pt x="109" y="1282"/>
                        <a:pt x="98" y="1293"/>
                        <a:pt x="84" y="1293"/>
                      </a:cubicBezTo>
                      <a:lnTo>
                        <a:pt x="84" y="1293"/>
                      </a:lnTo>
                      <a:cubicBezTo>
                        <a:pt x="70" y="1293"/>
                        <a:pt x="59" y="1282"/>
                        <a:pt x="59" y="1268"/>
                      </a:cubicBezTo>
                      <a:cubicBezTo>
                        <a:pt x="59" y="1254"/>
                        <a:pt x="70" y="1243"/>
                        <a:pt x="84" y="1243"/>
                      </a:cubicBezTo>
                      <a:close/>
                      <a:moveTo>
                        <a:pt x="184" y="1244"/>
                      </a:moveTo>
                      <a:lnTo>
                        <a:pt x="184" y="1244"/>
                      </a:lnTo>
                      <a:cubicBezTo>
                        <a:pt x="198" y="1244"/>
                        <a:pt x="209" y="1256"/>
                        <a:pt x="209" y="1269"/>
                      </a:cubicBezTo>
                      <a:cubicBezTo>
                        <a:pt x="209" y="1283"/>
                        <a:pt x="198" y="1294"/>
                        <a:pt x="184" y="1294"/>
                      </a:cubicBezTo>
                      <a:lnTo>
                        <a:pt x="184" y="1294"/>
                      </a:lnTo>
                      <a:cubicBezTo>
                        <a:pt x="170" y="1294"/>
                        <a:pt x="159" y="1283"/>
                        <a:pt x="159" y="1269"/>
                      </a:cubicBezTo>
                      <a:cubicBezTo>
                        <a:pt x="159" y="1256"/>
                        <a:pt x="170" y="1244"/>
                        <a:pt x="184" y="1244"/>
                      </a:cubicBezTo>
                      <a:close/>
                      <a:moveTo>
                        <a:pt x="284" y="1246"/>
                      </a:moveTo>
                      <a:lnTo>
                        <a:pt x="284" y="1246"/>
                      </a:lnTo>
                      <a:cubicBezTo>
                        <a:pt x="298" y="1246"/>
                        <a:pt x="309" y="1257"/>
                        <a:pt x="309" y="1271"/>
                      </a:cubicBezTo>
                      <a:cubicBezTo>
                        <a:pt x="309" y="1285"/>
                        <a:pt x="298" y="1296"/>
                        <a:pt x="284" y="1296"/>
                      </a:cubicBezTo>
                      <a:lnTo>
                        <a:pt x="284" y="1296"/>
                      </a:lnTo>
                      <a:cubicBezTo>
                        <a:pt x="270" y="1296"/>
                        <a:pt x="259" y="1285"/>
                        <a:pt x="259" y="1271"/>
                      </a:cubicBezTo>
                      <a:cubicBezTo>
                        <a:pt x="259" y="1257"/>
                        <a:pt x="270" y="1246"/>
                        <a:pt x="284" y="1246"/>
                      </a:cubicBezTo>
                      <a:close/>
                      <a:moveTo>
                        <a:pt x="384" y="1248"/>
                      </a:moveTo>
                      <a:lnTo>
                        <a:pt x="384" y="1248"/>
                      </a:lnTo>
                      <a:cubicBezTo>
                        <a:pt x="398" y="1248"/>
                        <a:pt x="409" y="1259"/>
                        <a:pt x="409" y="1273"/>
                      </a:cubicBezTo>
                      <a:cubicBezTo>
                        <a:pt x="409" y="1286"/>
                        <a:pt x="398" y="1298"/>
                        <a:pt x="384" y="1298"/>
                      </a:cubicBezTo>
                      <a:lnTo>
                        <a:pt x="384" y="1298"/>
                      </a:lnTo>
                      <a:cubicBezTo>
                        <a:pt x="370" y="1298"/>
                        <a:pt x="359" y="1286"/>
                        <a:pt x="359" y="1273"/>
                      </a:cubicBezTo>
                      <a:cubicBezTo>
                        <a:pt x="359" y="1259"/>
                        <a:pt x="370" y="1248"/>
                        <a:pt x="384" y="1248"/>
                      </a:cubicBezTo>
                      <a:close/>
                      <a:moveTo>
                        <a:pt x="484" y="1249"/>
                      </a:moveTo>
                      <a:lnTo>
                        <a:pt x="484" y="1249"/>
                      </a:lnTo>
                      <a:cubicBezTo>
                        <a:pt x="498" y="1249"/>
                        <a:pt x="509" y="1261"/>
                        <a:pt x="509" y="1274"/>
                      </a:cubicBezTo>
                      <a:cubicBezTo>
                        <a:pt x="509" y="1288"/>
                        <a:pt x="498" y="1299"/>
                        <a:pt x="484" y="1299"/>
                      </a:cubicBezTo>
                      <a:lnTo>
                        <a:pt x="484" y="1299"/>
                      </a:lnTo>
                      <a:cubicBezTo>
                        <a:pt x="470" y="1299"/>
                        <a:pt x="459" y="1288"/>
                        <a:pt x="459" y="1274"/>
                      </a:cubicBezTo>
                      <a:cubicBezTo>
                        <a:pt x="459" y="1261"/>
                        <a:pt x="470" y="1249"/>
                        <a:pt x="484" y="124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>
                <a:off x="8102880" y="2377440"/>
                <a:ext cx="110520" cy="115560"/>
              </a:xfrm>
              <a:custGeom>
                <a:avLst/>
                <a:gdLst/>
                <a:ahLst/>
                <a:rect l="l" t="t" r="r" b="b"/>
                <a:pathLst>
                  <a:path w="600" h="700">
                    <a:moveTo>
                      <a:pt x="0" y="675"/>
                    </a:moveTo>
                    <a:lnTo>
                      <a:pt x="0" y="675"/>
                    </a:lnTo>
                    <a:cubicBezTo>
                      <a:pt x="0" y="662"/>
                      <a:pt x="12" y="650"/>
                      <a:pt x="25" y="650"/>
                    </a:cubicBezTo>
                    <a:cubicBezTo>
                      <a:pt x="39" y="650"/>
                      <a:pt x="50" y="662"/>
                      <a:pt x="50" y="675"/>
                    </a:cubicBezTo>
                    <a:lnTo>
                      <a:pt x="50" y="675"/>
                    </a:lnTo>
                    <a:cubicBezTo>
                      <a:pt x="50" y="689"/>
                      <a:pt x="39" y="700"/>
                      <a:pt x="25" y="700"/>
                    </a:cubicBezTo>
                    <a:cubicBezTo>
                      <a:pt x="12" y="700"/>
                      <a:pt x="0" y="689"/>
                      <a:pt x="0" y="675"/>
                    </a:cubicBezTo>
                    <a:close/>
                    <a:moveTo>
                      <a:pt x="0" y="575"/>
                    </a:moveTo>
                    <a:lnTo>
                      <a:pt x="0" y="575"/>
                    </a:lnTo>
                    <a:cubicBezTo>
                      <a:pt x="0" y="562"/>
                      <a:pt x="12" y="550"/>
                      <a:pt x="25" y="550"/>
                    </a:cubicBezTo>
                    <a:cubicBezTo>
                      <a:pt x="39" y="550"/>
                      <a:pt x="50" y="562"/>
                      <a:pt x="50" y="575"/>
                    </a:cubicBezTo>
                    <a:lnTo>
                      <a:pt x="50" y="575"/>
                    </a:lnTo>
                    <a:cubicBezTo>
                      <a:pt x="50" y="589"/>
                      <a:pt x="39" y="600"/>
                      <a:pt x="25" y="600"/>
                    </a:cubicBezTo>
                    <a:cubicBezTo>
                      <a:pt x="12" y="600"/>
                      <a:pt x="0" y="589"/>
                      <a:pt x="0" y="575"/>
                    </a:cubicBezTo>
                    <a:close/>
                    <a:moveTo>
                      <a:pt x="0" y="475"/>
                    </a:moveTo>
                    <a:lnTo>
                      <a:pt x="0" y="475"/>
                    </a:lnTo>
                    <a:cubicBezTo>
                      <a:pt x="0" y="462"/>
                      <a:pt x="12" y="450"/>
                      <a:pt x="25" y="450"/>
                    </a:cubicBezTo>
                    <a:cubicBezTo>
                      <a:pt x="39" y="450"/>
                      <a:pt x="50" y="462"/>
                      <a:pt x="50" y="475"/>
                    </a:cubicBezTo>
                    <a:lnTo>
                      <a:pt x="50" y="475"/>
                    </a:lnTo>
                    <a:cubicBezTo>
                      <a:pt x="50" y="489"/>
                      <a:pt x="39" y="500"/>
                      <a:pt x="25" y="500"/>
                    </a:cubicBezTo>
                    <a:cubicBezTo>
                      <a:pt x="12" y="500"/>
                      <a:pt x="0" y="489"/>
                      <a:pt x="0" y="475"/>
                    </a:cubicBezTo>
                    <a:close/>
                    <a:moveTo>
                      <a:pt x="0" y="375"/>
                    </a:moveTo>
                    <a:lnTo>
                      <a:pt x="0" y="375"/>
                    </a:lnTo>
                    <a:cubicBezTo>
                      <a:pt x="0" y="361"/>
                      <a:pt x="12" y="350"/>
                      <a:pt x="25" y="350"/>
                    </a:cubicBezTo>
                    <a:cubicBezTo>
                      <a:pt x="39" y="350"/>
                      <a:pt x="50" y="361"/>
                      <a:pt x="50" y="375"/>
                    </a:cubicBezTo>
                    <a:lnTo>
                      <a:pt x="50" y="375"/>
                    </a:lnTo>
                    <a:cubicBezTo>
                      <a:pt x="50" y="389"/>
                      <a:pt x="39" y="400"/>
                      <a:pt x="25" y="400"/>
                    </a:cubicBezTo>
                    <a:cubicBezTo>
                      <a:pt x="12" y="400"/>
                      <a:pt x="0" y="389"/>
                      <a:pt x="0" y="375"/>
                    </a:cubicBezTo>
                    <a:close/>
                    <a:moveTo>
                      <a:pt x="109" y="334"/>
                    </a:moveTo>
                    <a:lnTo>
                      <a:pt x="109" y="334"/>
                    </a:lnTo>
                    <a:cubicBezTo>
                      <a:pt x="123" y="334"/>
                      <a:pt x="134" y="345"/>
                      <a:pt x="134" y="359"/>
                    </a:cubicBezTo>
                    <a:cubicBezTo>
                      <a:pt x="134" y="373"/>
                      <a:pt x="123" y="384"/>
                      <a:pt x="109" y="384"/>
                    </a:cubicBezTo>
                    <a:lnTo>
                      <a:pt x="109" y="384"/>
                    </a:lnTo>
                    <a:cubicBezTo>
                      <a:pt x="95" y="384"/>
                      <a:pt x="84" y="373"/>
                      <a:pt x="84" y="359"/>
                    </a:cubicBezTo>
                    <a:cubicBezTo>
                      <a:pt x="84" y="345"/>
                      <a:pt x="95" y="334"/>
                      <a:pt x="109" y="334"/>
                    </a:cubicBezTo>
                    <a:close/>
                    <a:moveTo>
                      <a:pt x="209" y="334"/>
                    </a:moveTo>
                    <a:lnTo>
                      <a:pt x="209" y="334"/>
                    </a:lnTo>
                    <a:cubicBezTo>
                      <a:pt x="223" y="334"/>
                      <a:pt x="234" y="345"/>
                      <a:pt x="234" y="359"/>
                    </a:cubicBezTo>
                    <a:cubicBezTo>
                      <a:pt x="234" y="373"/>
                      <a:pt x="223" y="384"/>
                      <a:pt x="209" y="384"/>
                    </a:cubicBezTo>
                    <a:lnTo>
                      <a:pt x="209" y="384"/>
                    </a:lnTo>
                    <a:cubicBezTo>
                      <a:pt x="195" y="384"/>
                      <a:pt x="184" y="373"/>
                      <a:pt x="184" y="359"/>
                    </a:cubicBezTo>
                    <a:cubicBezTo>
                      <a:pt x="184" y="345"/>
                      <a:pt x="195" y="334"/>
                      <a:pt x="209" y="334"/>
                    </a:cubicBezTo>
                    <a:close/>
                    <a:moveTo>
                      <a:pt x="309" y="334"/>
                    </a:moveTo>
                    <a:lnTo>
                      <a:pt x="309" y="334"/>
                    </a:lnTo>
                    <a:cubicBezTo>
                      <a:pt x="323" y="334"/>
                      <a:pt x="334" y="345"/>
                      <a:pt x="334" y="359"/>
                    </a:cubicBezTo>
                    <a:cubicBezTo>
                      <a:pt x="334" y="373"/>
                      <a:pt x="323" y="384"/>
                      <a:pt x="309" y="384"/>
                    </a:cubicBezTo>
                    <a:lnTo>
                      <a:pt x="309" y="384"/>
                    </a:lnTo>
                    <a:cubicBezTo>
                      <a:pt x="295" y="384"/>
                      <a:pt x="284" y="373"/>
                      <a:pt x="284" y="359"/>
                    </a:cubicBezTo>
                    <a:cubicBezTo>
                      <a:pt x="284" y="345"/>
                      <a:pt x="295" y="334"/>
                      <a:pt x="309" y="334"/>
                    </a:cubicBezTo>
                    <a:close/>
                    <a:moveTo>
                      <a:pt x="409" y="334"/>
                    </a:moveTo>
                    <a:lnTo>
                      <a:pt x="409" y="334"/>
                    </a:lnTo>
                    <a:cubicBezTo>
                      <a:pt x="423" y="334"/>
                      <a:pt x="434" y="345"/>
                      <a:pt x="434" y="359"/>
                    </a:cubicBezTo>
                    <a:cubicBezTo>
                      <a:pt x="434" y="373"/>
                      <a:pt x="423" y="384"/>
                      <a:pt x="409" y="384"/>
                    </a:cubicBezTo>
                    <a:lnTo>
                      <a:pt x="409" y="384"/>
                    </a:lnTo>
                    <a:cubicBezTo>
                      <a:pt x="395" y="384"/>
                      <a:pt x="384" y="373"/>
                      <a:pt x="384" y="359"/>
                    </a:cubicBezTo>
                    <a:cubicBezTo>
                      <a:pt x="384" y="345"/>
                      <a:pt x="395" y="334"/>
                      <a:pt x="409" y="334"/>
                    </a:cubicBezTo>
                    <a:close/>
                    <a:moveTo>
                      <a:pt x="509" y="334"/>
                    </a:moveTo>
                    <a:lnTo>
                      <a:pt x="509" y="334"/>
                    </a:lnTo>
                    <a:cubicBezTo>
                      <a:pt x="523" y="334"/>
                      <a:pt x="534" y="345"/>
                      <a:pt x="534" y="359"/>
                    </a:cubicBezTo>
                    <a:cubicBezTo>
                      <a:pt x="534" y="373"/>
                      <a:pt x="523" y="384"/>
                      <a:pt x="509" y="384"/>
                    </a:cubicBezTo>
                    <a:lnTo>
                      <a:pt x="509" y="384"/>
                    </a:lnTo>
                    <a:cubicBezTo>
                      <a:pt x="495" y="384"/>
                      <a:pt x="484" y="373"/>
                      <a:pt x="484" y="359"/>
                    </a:cubicBezTo>
                    <a:cubicBezTo>
                      <a:pt x="484" y="345"/>
                      <a:pt x="495" y="334"/>
                      <a:pt x="509" y="334"/>
                    </a:cubicBezTo>
                    <a:close/>
                    <a:moveTo>
                      <a:pt x="550" y="325"/>
                    </a:moveTo>
                    <a:lnTo>
                      <a:pt x="550" y="325"/>
                    </a:lnTo>
                    <a:cubicBezTo>
                      <a:pt x="550" y="311"/>
                      <a:pt x="562" y="300"/>
                      <a:pt x="575" y="300"/>
                    </a:cubicBezTo>
                    <a:cubicBezTo>
                      <a:pt x="589" y="300"/>
                      <a:pt x="600" y="311"/>
                      <a:pt x="600" y="325"/>
                    </a:cubicBezTo>
                    <a:lnTo>
                      <a:pt x="600" y="325"/>
                    </a:lnTo>
                    <a:cubicBezTo>
                      <a:pt x="600" y="339"/>
                      <a:pt x="589" y="350"/>
                      <a:pt x="575" y="350"/>
                    </a:cubicBezTo>
                    <a:cubicBezTo>
                      <a:pt x="562" y="350"/>
                      <a:pt x="550" y="339"/>
                      <a:pt x="550" y="325"/>
                    </a:cubicBezTo>
                    <a:close/>
                    <a:moveTo>
                      <a:pt x="550" y="225"/>
                    </a:moveTo>
                    <a:lnTo>
                      <a:pt x="550" y="225"/>
                    </a:lnTo>
                    <a:cubicBezTo>
                      <a:pt x="550" y="211"/>
                      <a:pt x="562" y="200"/>
                      <a:pt x="575" y="200"/>
                    </a:cubicBezTo>
                    <a:cubicBezTo>
                      <a:pt x="589" y="200"/>
                      <a:pt x="600" y="211"/>
                      <a:pt x="600" y="225"/>
                    </a:cubicBezTo>
                    <a:lnTo>
                      <a:pt x="600" y="225"/>
                    </a:lnTo>
                    <a:cubicBezTo>
                      <a:pt x="600" y="239"/>
                      <a:pt x="589" y="250"/>
                      <a:pt x="575" y="250"/>
                    </a:cubicBezTo>
                    <a:cubicBezTo>
                      <a:pt x="562" y="250"/>
                      <a:pt x="550" y="239"/>
                      <a:pt x="550" y="225"/>
                    </a:cubicBezTo>
                    <a:close/>
                    <a:moveTo>
                      <a:pt x="550" y="125"/>
                    </a:moveTo>
                    <a:lnTo>
                      <a:pt x="550" y="125"/>
                    </a:lnTo>
                    <a:cubicBezTo>
                      <a:pt x="550" y="111"/>
                      <a:pt x="562" y="100"/>
                      <a:pt x="575" y="100"/>
                    </a:cubicBezTo>
                    <a:cubicBezTo>
                      <a:pt x="589" y="100"/>
                      <a:pt x="600" y="111"/>
                      <a:pt x="600" y="125"/>
                    </a:cubicBezTo>
                    <a:lnTo>
                      <a:pt x="600" y="125"/>
                    </a:lnTo>
                    <a:cubicBezTo>
                      <a:pt x="600" y="139"/>
                      <a:pt x="589" y="150"/>
                      <a:pt x="575" y="150"/>
                    </a:cubicBezTo>
                    <a:cubicBezTo>
                      <a:pt x="562" y="150"/>
                      <a:pt x="550" y="139"/>
                      <a:pt x="550" y="125"/>
                    </a:cubicBezTo>
                    <a:close/>
                    <a:moveTo>
                      <a:pt x="550" y="25"/>
                    </a:moveTo>
                    <a:lnTo>
                      <a:pt x="550" y="25"/>
                    </a:lnTo>
                    <a:cubicBezTo>
                      <a:pt x="550" y="11"/>
                      <a:pt x="562" y="0"/>
                      <a:pt x="575" y="0"/>
                    </a:cubicBezTo>
                    <a:cubicBezTo>
                      <a:pt x="589" y="0"/>
                      <a:pt x="600" y="11"/>
                      <a:pt x="600" y="25"/>
                    </a:cubicBezTo>
                    <a:lnTo>
                      <a:pt x="600" y="25"/>
                    </a:lnTo>
                    <a:cubicBezTo>
                      <a:pt x="600" y="39"/>
                      <a:pt x="589" y="50"/>
                      <a:pt x="575" y="50"/>
                    </a:cubicBezTo>
                    <a:cubicBezTo>
                      <a:pt x="562" y="50"/>
                      <a:pt x="550" y="39"/>
                      <a:pt x="550" y="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111880" y="2031840"/>
                <a:ext cx="98280" cy="144000"/>
              </a:xfrm>
              <a:custGeom>
                <a:avLst/>
                <a:gdLst/>
                <a:ahLst/>
                <a:rect l="l" t="t" r="r" b="b"/>
                <a:pathLst>
                  <a:path w="534" h="867">
                    <a:moveTo>
                      <a:pt x="50" y="25"/>
                    </a:moveTo>
                    <a:lnTo>
                      <a:pt x="50" y="25"/>
                    </a:lnTo>
                    <a:cubicBezTo>
                      <a:pt x="50" y="39"/>
                      <a:pt x="39" y="50"/>
                      <a:pt x="25" y="50"/>
                    </a:cubicBezTo>
                    <a:cubicBezTo>
                      <a:pt x="12" y="50"/>
                      <a:pt x="0" y="39"/>
                      <a:pt x="0" y="25"/>
                    </a:cubicBezTo>
                    <a:lnTo>
                      <a:pt x="0" y="25"/>
                    </a:lnTo>
                    <a:cubicBezTo>
                      <a:pt x="0" y="11"/>
                      <a:pt x="12" y="0"/>
                      <a:pt x="25" y="0"/>
                    </a:cubicBezTo>
                    <a:cubicBezTo>
                      <a:pt x="39" y="0"/>
                      <a:pt x="50" y="11"/>
                      <a:pt x="50" y="25"/>
                    </a:cubicBezTo>
                    <a:close/>
                    <a:moveTo>
                      <a:pt x="50" y="125"/>
                    </a:moveTo>
                    <a:lnTo>
                      <a:pt x="50" y="125"/>
                    </a:lnTo>
                    <a:cubicBezTo>
                      <a:pt x="50" y="139"/>
                      <a:pt x="39" y="150"/>
                      <a:pt x="25" y="150"/>
                    </a:cubicBezTo>
                    <a:cubicBezTo>
                      <a:pt x="12" y="150"/>
                      <a:pt x="0" y="139"/>
                      <a:pt x="0" y="125"/>
                    </a:cubicBezTo>
                    <a:lnTo>
                      <a:pt x="0" y="125"/>
                    </a:lnTo>
                    <a:cubicBezTo>
                      <a:pt x="0" y="111"/>
                      <a:pt x="12" y="100"/>
                      <a:pt x="25" y="100"/>
                    </a:cubicBezTo>
                    <a:cubicBezTo>
                      <a:pt x="39" y="100"/>
                      <a:pt x="50" y="111"/>
                      <a:pt x="50" y="125"/>
                    </a:cubicBezTo>
                    <a:close/>
                    <a:moveTo>
                      <a:pt x="50" y="225"/>
                    </a:moveTo>
                    <a:lnTo>
                      <a:pt x="50" y="225"/>
                    </a:lnTo>
                    <a:cubicBezTo>
                      <a:pt x="50" y="239"/>
                      <a:pt x="39" y="250"/>
                      <a:pt x="25" y="250"/>
                    </a:cubicBezTo>
                    <a:cubicBezTo>
                      <a:pt x="12" y="250"/>
                      <a:pt x="0" y="239"/>
                      <a:pt x="0" y="225"/>
                    </a:cubicBezTo>
                    <a:lnTo>
                      <a:pt x="0" y="225"/>
                    </a:lnTo>
                    <a:cubicBezTo>
                      <a:pt x="0" y="211"/>
                      <a:pt x="12" y="200"/>
                      <a:pt x="25" y="200"/>
                    </a:cubicBezTo>
                    <a:cubicBezTo>
                      <a:pt x="39" y="200"/>
                      <a:pt x="50" y="211"/>
                      <a:pt x="50" y="225"/>
                    </a:cubicBezTo>
                    <a:close/>
                    <a:moveTo>
                      <a:pt x="50" y="325"/>
                    </a:moveTo>
                    <a:lnTo>
                      <a:pt x="50" y="325"/>
                    </a:lnTo>
                    <a:cubicBezTo>
                      <a:pt x="50" y="339"/>
                      <a:pt x="39" y="350"/>
                      <a:pt x="25" y="350"/>
                    </a:cubicBezTo>
                    <a:cubicBezTo>
                      <a:pt x="12" y="350"/>
                      <a:pt x="0" y="339"/>
                      <a:pt x="0" y="325"/>
                    </a:cubicBezTo>
                    <a:lnTo>
                      <a:pt x="0" y="325"/>
                    </a:lnTo>
                    <a:cubicBezTo>
                      <a:pt x="0" y="311"/>
                      <a:pt x="12" y="300"/>
                      <a:pt x="25" y="300"/>
                    </a:cubicBezTo>
                    <a:cubicBezTo>
                      <a:pt x="39" y="300"/>
                      <a:pt x="50" y="311"/>
                      <a:pt x="50" y="325"/>
                    </a:cubicBezTo>
                    <a:close/>
                    <a:moveTo>
                      <a:pt x="92" y="333"/>
                    </a:moveTo>
                    <a:lnTo>
                      <a:pt x="92" y="333"/>
                    </a:lnTo>
                    <a:cubicBezTo>
                      <a:pt x="106" y="333"/>
                      <a:pt x="117" y="345"/>
                      <a:pt x="117" y="358"/>
                    </a:cubicBezTo>
                    <a:cubicBezTo>
                      <a:pt x="117" y="372"/>
                      <a:pt x="106" y="383"/>
                      <a:pt x="92" y="383"/>
                    </a:cubicBezTo>
                    <a:lnTo>
                      <a:pt x="92" y="383"/>
                    </a:lnTo>
                    <a:cubicBezTo>
                      <a:pt x="79" y="383"/>
                      <a:pt x="67" y="372"/>
                      <a:pt x="67" y="358"/>
                    </a:cubicBezTo>
                    <a:cubicBezTo>
                      <a:pt x="67" y="345"/>
                      <a:pt x="79" y="333"/>
                      <a:pt x="92" y="333"/>
                    </a:cubicBezTo>
                    <a:close/>
                    <a:moveTo>
                      <a:pt x="192" y="333"/>
                    </a:moveTo>
                    <a:lnTo>
                      <a:pt x="192" y="333"/>
                    </a:lnTo>
                    <a:cubicBezTo>
                      <a:pt x="206" y="333"/>
                      <a:pt x="217" y="345"/>
                      <a:pt x="217" y="358"/>
                    </a:cubicBezTo>
                    <a:cubicBezTo>
                      <a:pt x="217" y="372"/>
                      <a:pt x="206" y="383"/>
                      <a:pt x="192" y="383"/>
                    </a:cubicBezTo>
                    <a:lnTo>
                      <a:pt x="192" y="383"/>
                    </a:lnTo>
                    <a:cubicBezTo>
                      <a:pt x="179" y="383"/>
                      <a:pt x="167" y="372"/>
                      <a:pt x="167" y="358"/>
                    </a:cubicBezTo>
                    <a:cubicBezTo>
                      <a:pt x="167" y="345"/>
                      <a:pt x="179" y="333"/>
                      <a:pt x="192" y="333"/>
                    </a:cubicBezTo>
                    <a:close/>
                    <a:moveTo>
                      <a:pt x="292" y="333"/>
                    </a:moveTo>
                    <a:lnTo>
                      <a:pt x="292" y="333"/>
                    </a:lnTo>
                    <a:cubicBezTo>
                      <a:pt x="306" y="333"/>
                      <a:pt x="317" y="345"/>
                      <a:pt x="317" y="358"/>
                    </a:cubicBezTo>
                    <a:cubicBezTo>
                      <a:pt x="317" y="372"/>
                      <a:pt x="306" y="383"/>
                      <a:pt x="292" y="383"/>
                    </a:cubicBezTo>
                    <a:lnTo>
                      <a:pt x="292" y="383"/>
                    </a:lnTo>
                    <a:cubicBezTo>
                      <a:pt x="279" y="383"/>
                      <a:pt x="267" y="372"/>
                      <a:pt x="267" y="358"/>
                    </a:cubicBezTo>
                    <a:cubicBezTo>
                      <a:pt x="267" y="345"/>
                      <a:pt x="279" y="333"/>
                      <a:pt x="292" y="333"/>
                    </a:cubicBezTo>
                    <a:close/>
                    <a:moveTo>
                      <a:pt x="392" y="333"/>
                    </a:moveTo>
                    <a:lnTo>
                      <a:pt x="393" y="333"/>
                    </a:lnTo>
                    <a:cubicBezTo>
                      <a:pt x="406" y="333"/>
                      <a:pt x="418" y="345"/>
                      <a:pt x="418" y="358"/>
                    </a:cubicBezTo>
                    <a:cubicBezTo>
                      <a:pt x="418" y="372"/>
                      <a:pt x="406" y="383"/>
                      <a:pt x="393" y="383"/>
                    </a:cubicBezTo>
                    <a:lnTo>
                      <a:pt x="392" y="383"/>
                    </a:lnTo>
                    <a:cubicBezTo>
                      <a:pt x="379" y="383"/>
                      <a:pt x="367" y="372"/>
                      <a:pt x="367" y="358"/>
                    </a:cubicBezTo>
                    <a:cubicBezTo>
                      <a:pt x="367" y="345"/>
                      <a:pt x="379" y="333"/>
                      <a:pt x="392" y="333"/>
                    </a:cubicBezTo>
                    <a:close/>
                    <a:moveTo>
                      <a:pt x="493" y="333"/>
                    </a:moveTo>
                    <a:lnTo>
                      <a:pt x="493" y="333"/>
                    </a:lnTo>
                    <a:cubicBezTo>
                      <a:pt x="506" y="333"/>
                      <a:pt x="518" y="345"/>
                      <a:pt x="518" y="358"/>
                    </a:cubicBezTo>
                    <a:cubicBezTo>
                      <a:pt x="518" y="372"/>
                      <a:pt x="506" y="383"/>
                      <a:pt x="493" y="383"/>
                    </a:cubicBezTo>
                    <a:lnTo>
                      <a:pt x="493" y="383"/>
                    </a:lnTo>
                    <a:cubicBezTo>
                      <a:pt x="479" y="383"/>
                      <a:pt x="468" y="372"/>
                      <a:pt x="468" y="358"/>
                    </a:cubicBezTo>
                    <a:cubicBezTo>
                      <a:pt x="468" y="345"/>
                      <a:pt x="479" y="333"/>
                      <a:pt x="493" y="333"/>
                    </a:cubicBezTo>
                    <a:close/>
                    <a:moveTo>
                      <a:pt x="534" y="442"/>
                    </a:moveTo>
                    <a:lnTo>
                      <a:pt x="534" y="442"/>
                    </a:lnTo>
                    <a:cubicBezTo>
                      <a:pt x="534" y="456"/>
                      <a:pt x="523" y="467"/>
                      <a:pt x="509" y="467"/>
                    </a:cubicBezTo>
                    <a:cubicBezTo>
                      <a:pt x="495" y="467"/>
                      <a:pt x="484" y="456"/>
                      <a:pt x="484" y="442"/>
                    </a:cubicBezTo>
                    <a:lnTo>
                      <a:pt x="484" y="442"/>
                    </a:lnTo>
                    <a:cubicBezTo>
                      <a:pt x="484" y="428"/>
                      <a:pt x="495" y="417"/>
                      <a:pt x="509" y="417"/>
                    </a:cubicBezTo>
                    <a:cubicBezTo>
                      <a:pt x="523" y="417"/>
                      <a:pt x="534" y="428"/>
                      <a:pt x="534" y="442"/>
                    </a:cubicBezTo>
                    <a:close/>
                    <a:moveTo>
                      <a:pt x="534" y="542"/>
                    </a:moveTo>
                    <a:lnTo>
                      <a:pt x="534" y="542"/>
                    </a:lnTo>
                    <a:cubicBezTo>
                      <a:pt x="534" y="556"/>
                      <a:pt x="523" y="567"/>
                      <a:pt x="509" y="567"/>
                    </a:cubicBezTo>
                    <a:cubicBezTo>
                      <a:pt x="495" y="567"/>
                      <a:pt x="484" y="556"/>
                      <a:pt x="484" y="542"/>
                    </a:cubicBezTo>
                    <a:lnTo>
                      <a:pt x="484" y="542"/>
                    </a:lnTo>
                    <a:cubicBezTo>
                      <a:pt x="484" y="528"/>
                      <a:pt x="495" y="517"/>
                      <a:pt x="509" y="517"/>
                    </a:cubicBezTo>
                    <a:cubicBezTo>
                      <a:pt x="523" y="517"/>
                      <a:pt x="534" y="528"/>
                      <a:pt x="534" y="542"/>
                    </a:cubicBezTo>
                    <a:close/>
                    <a:moveTo>
                      <a:pt x="534" y="642"/>
                    </a:moveTo>
                    <a:lnTo>
                      <a:pt x="534" y="642"/>
                    </a:lnTo>
                    <a:cubicBezTo>
                      <a:pt x="534" y="656"/>
                      <a:pt x="523" y="667"/>
                      <a:pt x="509" y="667"/>
                    </a:cubicBezTo>
                    <a:cubicBezTo>
                      <a:pt x="495" y="667"/>
                      <a:pt x="484" y="656"/>
                      <a:pt x="484" y="642"/>
                    </a:cubicBezTo>
                    <a:lnTo>
                      <a:pt x="484" y="642"/>
                    </a:lnTo>
                    <a:cubicBezTo>
                      <a:pt x="484" y="629"/>
                      <a:pt x="495" y="617"/>
                      <a:pt x="509" y="617"/>
                    </a:cubicBezTo>
                    <a:cubicBezTo>
                      <a:pt x="523" y="617"/>
                      <a:pt x="534" y="629"/>
                      <a:pt x="534" y="642"/>
                    </a:cubicBezTo>
                    <a:close/>
                    <a:moveTo>
                      <a:pt x="534" y="742"/>
                    </a:moveTo>
                    <a:lnTo>
                      <a:pt x="534" y="742"/>
                    </a:lnTo>
                    <a:cubicBezTo>
                      <a:pt x="534" y="756"/>
                      <a:pt x="523" y="767"/>
                      <a:pt x="509" y="767"/>
                    </a:cubicBezTo>
                    <a:cubicBezTo>
                      <a:pt x="495" y="767"/>
                      <a:pt x="484" y="756"/>
                      <a:pt x="484" y="742"/>
                    </a:cubicBezTo>
                    <a:lnTo>
                      <a:pt x="484" y="742"/>
                    </a:lnTo>
                    <a:cubicBezTo>
                      <a:pt x="484" y="729"/>
                      <a:pt x="495" y="717"/>
                      <a:pt x="509" y="717"/>
                    </a:cubicBezTo>
                    <a:cubicBezTo>
                      <a:pt x="523" y="717"/>
                      <a:pt x="534" y="729"/>
                      <a:pt x="534" y="742"/>
                    </a:cubicBezTo>
                    <a:close/>
                    <a:moveTo>
                      <a:pt x="534" y="842"/>
                    </a:moveTo>
                    <a:lnTo>
                      <a:pt x="534" y="843"/>
                    </a:lnTo>
                    <a:cubicBezTo>
                      <a:pt x="534" y="856"/>
                      <a:pt x="523" y="867"/>
                      <a:pt x="509" y="867"/>
                    </a:cubicBezTo>
                    <a:cubicBezTo>
                      <a:pt x="495" y="867"/>
                      <a:pt x="484" y="856"/>
                      <a:pt x="484" y="843"/>
                    </a:cubicBezTo>
                    <a:lnTo>
                      <a:pt x="484" y="842"/>
                    </a:lnTo>
                    <a:cubicBezTo>
                      <a:pt x="484" y="829"/>
                      <a:pt x="495" y="817"/>
                      <a:pt x="509" y="817"/>
                    </a:cubicBezTo>
                    <a:cubicBezTo>
                      <a:pt x="523" y="817"/>
                      <a:pt x="534" y="829"/>
                      <a:pt x="534" y="84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6588000" y="4278240"/>
            <a:ext cx="2087640" cy="989640"/>
            <a:chOff x="6588000" y="4278240"/>
            <a:chExt cx="2087640" cy="989640"/>
          </a:xfrm>
        </p:grpSpPr>
        <p:sp>
          <p:nvSpPr>
            <p:cNvPr id="861" name=""/>
            <p:cNvSpPr/>
            <p:nvPr/>
          </p:nvSpPr>
          <p:spPr>
            <a:xfrm flipH="1">
              <a:off x="7026480" y="5084640"/>
              <a:ext cx="13633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s 2, 3 and 5 may be a lifting axle.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s 3, 4 and 5 may be a steering ax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6588000" y="4278240"/>
              <a:ext cx="2087640" cy="726840"/>
              <a:chOff x="6588000" y="4278240"/>
              <a:chExt cx="2087640" cy="726840"/>
            </a:xfrm>
          </p:grpSpPr>
          <p:grpSp>
            <p:nvGrpSpPr>
              <p:cNvPr id="863" name=""/>
              <p:cNvGrpSpPr/>
              <p:nvPr/>
            </p:nvGrpSpPr>
            <p:grpSpPr>
              <a:xfrm>
                <a:off x="6915240" y="4278240"/>
                <a:ext cx="520200" cy="726840"/>
                <a:chOff x="6915240" y="4278240"/>
                <a:chExt cx="520200" cy="72684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7175520" y="4657680"/>
                  <a:ext cx="0" cy="6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175520" y="4530600"/>
                  <a:ext cx="0" cy="6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6" name=""/>
                <p:cNvGrpSpPr/>
                <p:nvPr/>
              </p:nvGrpSpPr>
              <p:grpSpPr>
                <a:xfrm>
                  <a:off x="6926760" y="4278240"/>
                  <a:ext cx="235440" cy="97560"/>
                  <a:chOff x="6926760" y="4278240"/>
                  <a:chExt cx="235440" cy="9756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6926760" y="4278240"/>
                    <a:ext cx="235440" cy="9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926760" y="4278240"/>
                    <a:ext cx="235440" cy="975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6915240" y="4906080"/>
                  <a:ext cx="235800" cy="99000"/>
                  <a:chOff x="6915240" y="4906080"/>
                  <a:chExt cx="235800" cy="9900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6915240" y="4906080"/>
                    <a:ext cx="235800" cy="9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915240" y="4906080"/>
                    <a:ext cx="235800" cy="99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7041960" y="4403520"/>
                  <a:ext cx="109800" cy="37440"/>
                  <a:chOff x="7041960" y="4403520"/>
                  <a:chExt cx="109800" cy="3744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7086240" y="4403520"/>
                    <a:ext cx="65520" cy="374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7041960" y="4417200"/>
                    <a:ext cx="39960" cy="7920"/>
                    <a:chOff x="7041960" y="4417200"/>
                    <a:chExt cx="39960" cy="792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7041960" y="4417200"/>
                      <a:ext cx="3996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7041960" y="4417200"/>
                      <a:ext cx="3996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7035840" y="4836240"/>
                  <a:ext cx="109800" cy="39240"/>
                  <a:chOff x="7035840" y="4836240"/>
                  <a:chExt cx="109800" cy="3924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7079760" y="4836240"/>
                    <a:ext cx="65880" cy="392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7035840" y="4851360"/>
                    <a:ext cx="39960" cy="9720"/>
                    <a:chOff x="7035840" y="4851360"/>
                    <a:chExt cx="39960" cy="9720"/>
                  </a:xfrm>
                </p:grpSpPr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7035840" y="4851360"/>
                      <a:ext cx="39960" cy="9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7035840" y="4851360"/>
                      <a:ext cx="39960" cy="97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6958440" y="4396680"/>
                  <a:ext cx="2880" cy="27720"/>
                  <a:chOff x="6958440" y="4396680"/>
                  <a:chExt cx="2880" cy="27720"/>
                </a:xfrm>
              </p:grpSpPr>
              <p:sp>
                <p:nvSpPr>
                  <p:cNvPr id="883" name=""/>
                  <p:cNvSpPr/>
                  <p:nvPr/>
                </p:nvSpPr>
                <p:spPr>
                  <a:xfrm>
                    <a:off x="6958440" y="4396680"/>
                    <a:ext cx="288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958440" y="4396680"/>
                    <a:ext cx="2880" cy="27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5" name=""/>
                <p:cNvGrpSpPr/>
                <p:nvPr/>
              </p:nvGrpSpPr>
              <p:grpSpPr>
                <a:xfrm>
                  <a:off x="6962760" y="4860000"/>
                  <a:ext cx="2880" cy="27720"/>
                  <a:chOff x="6962760" y="4860000"/>
                  <a:chExt cx="2880" cy="2772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6962760" y="4860000"/>
                    <a:ext cx="288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6962760" y="4860000"/>
                    <a:ext cx="2880" cy="27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8" name=""/>
                <p:cNvSpPr/>
                <p:nvPr/>
              </p:nvSpPr>
              <p:spPr>
                <a:xfrm>
                  <a:off x="7126560" y="4441320"/>
                  <a:ext cx="0" cy="3906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958440" y="4645080"/>
                  <a:ext cx="151920" cy="220320"/>
                </a:xfrm>
                <a:custGeom>
                  <a:avLst/>
                  <a:gdLst/>
                  <a:ahLst/>
                  <a:rect l="l" t="t" r="r" b="b"/>
                  <a:pathLst>
                    <a:path w="501" h="1300">
                      <a:moveTo>
                        <a:pt x="0" y="1275"/>
                      </a:moveTo>
                      <a:lnTo>
                        <a:pt x="0" y="1275"/>
                      </a:lnTo>
                      <a:cubicBezTo>
                        <a:pt x="0" y="1261"/>
                        <a:pt x="12" y="1250"/>
                        <a:pt x="25" y="1250"/>
                      </a:cubicBezTo>
                      <a:cubicBezTo>
                        <a:pt x="39" y="1250"/>
                        <a:pt x="50" y="1261"/>
                        <a:pt x="50" y="1275"/>
                      </a:cubicBezTo>
                      <a:lnTo>
                        <a:pt x="50" y="1275"/>
                      </a:lnTo>
                      <a:cubicBezTo>
                        <a:pt x="50" y="1289"/>
                        <a:pt x="39" y="1300"/>
                        <a:pt x="25" y="1300"/>
                      </a:cubicBezTo>
                      <a:cubicBezTo>
                        <a:pt x="12" y="1300"/>
                        <a:pt x="0" y="1289"/>
                        <a:pt x="0" y="1275"/>
                      </a:cubicBezTo>
                      <a:close/>
                      <a:moveTo>
                        <a:pt x="0" y="1175"/>
                      </a:moveTo>
                      <a:lnTo>
                        <a:pt x="0" y="1175"/>
                      </a:lnTo>
                      <a:cubicBezTo>
                        <a:pt x="0" y="1161"/>
                        <a:pt x="12" y="1150"/>
                        <a:pt x="25" y="1150"/>
                      </a:cubicBezTo>
                      <a:cubicBezTo>
                        <a:pt x="39" y="1150"/>
                        <a:pt x="50" y="1161"/>
                        <a:pt x="50" y="1175"/>
                      </a:cubicBezTo>
                      <a:lnTo>
                        <a:pt x="50" y="1175"/>
                      </a:lnTo>
                      <a:cubicBezTo>
                        <a:pt x="50" y="1189"/>
                        <a:pt x="39" y="1200"/>
                        <a:pt x="25" y="1200"/>
                      </a:cubicBezTo>
                      <a:cubicBezTo>
                        <a:pt x="12" y="1200"/>
                        <a:pt x="0" y="1189"/>
                        <a:pt x="0" y="1175"/>
                      </a:cubicBezTo>
                      <a:close/>
                      <a:moveTo>
                        <a:pt x="0" y="1075"/>
                      </a:moveTo>
                      <a:lnTo>
                        <a:pt x="0" y="1075"/>
                      </a:lnTo>
                      <a:cubicBezTo>
                        <a:pt x="0" y="1061"/>
                        <a:pt x="12" y="1050"/>
                        <a:pt x="25" y="1050"/>
                      </a:cubicBezTo>
                      <a:cubicBezTo>
                        <a:pt x="39" y="1050"/>
                        <a:pt x="50" y="1061"/>
                        <a:pt x="50" y="1075"/>
                      </a:cubicBezTo>
                      <a:lnTo>
                        <a:pt x="50" y="1075"/>
                      </a:lnTo>
                      <a:cubicBezTo>
                        <a:pt x="50" y="1089"/>
                        <a:pt x="39" y="1100"/>
                        <a:pt x="25" y="1100"/>
                      </a:cubicBezTo>
                      <a:cubicBezTo>
                        <a:pt x="12" y="1100"/>
                        <a:pt x="0" y="1089"/>
                        <a:pt x="0" y="1075"/>
                      </a:cubicBezTo>
                      <a:close/>
                      <a:moveTo>
                        <a:pt x="0" y="975"/>
                      </a:moveTo>
                      <a:lnTo>
                        <a:pt x="0" y="975"/>
                      </a:lnTo>
                      <a:cubicBezTo>
                        <a:pt x="0" y="961"/>
                        <a:pt x="12" y="950"/>
                        <a:pt x="25" y="950"/>
                      </a:cubicBezTo>
                      <a:cubicBezTo>
                        <a:pt x="39" y="950"/>
                        <a:pt x="50" y="961"/>
                        <a:pt x="50" y="975"/>
                      </a:cubicBezTo>
                      <a:lnTo>
                        <a:pt x="50" y="975"/>
                      </a:lnTo>
                      <a:cubicBezTo>
                        <a:pt x="50" y="989"/>
                        <a:pt x="39" y="1000"/>
                        <a:pt x="25" y="1000"/>
                      </a:cubicBezTo>
                      <a:cubicBezTo>
                        <a:pt x="12" y="1000"/>
                        <a:pt x="0" y="989"/>
                        <a:pt x="0" y="975"/>
                      </a:cubicBezTo>
                      <a:close/>
                      <a:moveTo>
                        <a:pt x="0" y="875"/>
                      </a:moveTo>
                      <a:lnTo>
                        <a:pt x="0" y="875"/>
                      </a:lnTo>
                      <a:cubicBezTo>
                        <a:pt x="0" y="861"/>
                        <a:pt x="12" y="850"/>
                        <a:pt x="25" y="850"/>
                      </a:cubicBezTo>
                      <a:cubicBezTo>
                        <a:pt x="39" y="850"/>
                        <a:pt x="50" y="861"/>
                        <a:pt x="50" y="875"/>
                      </a:cubicBezTo>
                      <a:lnTo>
                        <a:pt x="50" y="875"/>
                      </a:lnTo>
                      <a:cubicBezTo>
                        <a:pt x="50" y="889"/>
                        <a:pt x="39" y="900"/>
                        <a:pt x="25" y="900"/>
                      </a:cubicBezTo>
                      <a:cubicBezTo>
                        <a:pt x="12" y="900"/>
                        <a:pt x="0" y="889"/>
                        <a:pt x="0" y="875"/>
                      </a:cubicBezTo>
                      <a:close/>
                      <a:moveTo>
                        <a:pt x="0" y="775"/>
                      </a:moveTo>
                      <a:lnTo>
                        <a:pt x="0" y="775"/>
                      </a:lnTo>
                      <a:cubicBezTo>
                        <a:pt x="0" y="761"/>
                        <a:pt x="12" y="750"/>
                        <a:pt x="25" y="750"/>
                      </a:cubicBezTo>
                      <a:cubicBezTo>
                        <a:pt x="39" y="750"/>
                        <a:pt x="50" y="761"/>
                        <a:pt x="50" y="775"/>
                      </a:cubicBezTo>
                      <a:lnTo>
                        <a:pt x="50" y="775"/>
                      </a:lnTo>
                      <a:cubicBezTo>
                        <a:pt x="50" y="789"/>
                        <a:pt x="39" y="800"/>
                        <a:pt x="25" y="800"/>
                      </a:cubicBezTo>
                      <a:cubicBezTo>
                        <a:pt x="12" y="800"/>
                        <a:pt x="0" y="789"/>
                        <a:pt x="0" y="775"/>
                      </a:cubicBezTo>
                      <a:close/>
                      <a:moveTo>
                        <a:pt x="0" y="675"/>
                      </a:moveTo>
                      <a:lnTo>
                        <a:pt x="0" y="675"/>
                      </a:lnTo>
                      <a:cubicBezTo>
                        <a:pt x="0" y="661"/>
                        <a:pt x="12" y="650"/>
                        <a:pt x="25" y="650"/>
                      </a:cubicBezTo>
                      <a:cubicBezTo>
                        <a:pt x="39" y="650"/>
                        <a:pt x="50" y="661"/>
                        <a:pt x="50" y="675"/>
                      </a:cubicBezTo>
                      <a:lnTo>
                        <a:pt x="50" y="675"/>
                      </a:lnTo>
                      <a:cubicBezTo>
                        <a:pt x="50" y="689"/>
                        <a:pt x="39" y="700"/>
                        <a:pt x="25" y="700"/>
                      </a:cubicBezTo>
                      <a:cubicBezTo>
                        <a:pt x="12" y="700"/>
                        <a:pt x="0" y="689"/>
                        <a:pt x="0" y="675"/>
                      </a:cubicBezTo>
                      <a:close/>
                      <a:moveTo>
                        <a:pt x="0" y="575"/>
                      </a:moveTo>
                      <a:lnTo>
                        <a:pt x="0" y="575"/>
                      </a:lnTo>
                      <a:cubicBezTo>
                        <a:pt x="0" y="561"/>
                        <a:pt x="12" y="550"/>
                        <a:pt x="25" y="550"/>
                      </a:cubicBezTo>
                      <a:cubicBezTo>
                        <a:pt x="39" y="550"/>
                        <a:pt x="50" y="561"/>
                        <a:pt x="50" y="575"/>
                      </a:cubicBezTo>
                      <a:lnTo>
                        <a:pt x="50" y="575"/>
                      </a:lnTo>
                      <a:cubicBezTo>
                        <a:pt x="50" y="589"/>
                        <a:pt x="39" y="600"/>
                        <a:pt x="25" y="600"/>
                      </a:cubicBezTo>
                      <a:cubicBezTo>
                        <a:pt x="12" y="600"/>
                        <a:pt x="0" y="589"/>
                        <a:pt x="0" y="575"/>
                      </a:cubicBezTo>
                      <a:close/>
                      <a:moveTo>
                        <a:pt x="0" y="475"/>
                      </a:moveTo>
                      <a:lnTo>
                        <a:pt x="0" y="475"/>
                      </a:lnTo>
                      <a:cubicBezTo>
                        <a:pt x="0" y="461"/>
                        <a:pt x="12" y="450"/>
                        <a:pt x="25" y="450"/>
                      </a:cubicBezTo>
                      <a:cubicBezTo>
                        <a:pt x="39" y="450"/>
                        <a:pt x="50" y="461"/>
                        <a:pt x="50" y="475"/>
                      </a:cubicBezTo>
                      <a:lnTo>
                        <a:pt x="50" y="475"/>
                      </a:lnTo>
                      <a:cubicBezTo>
                        <a:pt x="50" y="489"/>
                        <a:pt x="39" y="500"/>
                        <a:pt x="25" y="500"/>
                      </a:cubicBezTo>
                      <a:cubicBezTo>
                        <a:pt x="12" y="500"/>
                        <a:pt x="0" y="489"/>
                        <a:pt x="0" y="475"/>
                      </a:cubicBezTo>
                      <a:close/>
                      <a:moveTo>
                        <a:pt x="0" y="375"/>
                      </a:moveTo>
                      <a:lnTo>
                        <a:pt x="0" y="375"/>
                      </a:lnTo>
                      <a:cubicBezTo>
                        <a:pt x="0" y="361"/>
                        <a:pt x="12" y="350"/>
                        <a:pt x="25" y="350"/>
                      </a:cubicBezTo>
                      <a:cubicBezTo>
                        <a:pt x="39" y="350"/>
                        <a:pt x="50" y="361"/>
                        <a:pt x="50" y="375"/>
                      </a:cubicBezTo>
                      <a:lnTo>
                        <a:pt x="50" y="375"/>
                      </a:lnTo>
                      <a:cubicBezTo>
                        <a:pt x="50" y="388"/>
                        <a:pt x="39" y="400"/>
                        <a:pt x="25" y="400"/>
                      </a:cubicBezTo>
                      <a:cubicBezTo>
                        <a:pt x="12" y="400"/>
                        <a:pt x="0" y="388"/>
                        <a:pt x="0" y="375"/>
                      </a:cubicBezTo>
                      <a:close/>
                      <a:moveTo>
                        <a:pt x="0" y="275"/>
                      </a:moveTo>
                      <a:lnTo>
                        <a:pt x="0" y="275"/>
                      </a:lnTo>
                      <a:cubicBezTo>
                        <a:pt x="0" y="261"/>
                        <a:pt x="12" y="250"/>
                        <a:pt x="25" y="250"/>
                      </a:cubicBezTo>
                      <a:cubicBezTo>
                        <a:pt x="39" y="250"/>
                        <a:pt x="50" y="261"/>
                        <a:pt x="50" y="275"/>
                      </a:cubicBezTo>
                      <a:lnTo>
                        <a:pt x="50" y="275"/>
                      </a:lnTo>
                      <a:cubicBezTo>
                        <a:pt x="50" y="288"/>
                        <a:pt x="39" y="300"/>
                        <a:pt x="25" y="300"/>
                      </a:cubicBezTo>
                      <a:cubicBezTo>
                        <a:pt x="12" y="300"/>
                        <a:pt x="0" y="288"/>
                        <a:pt x="0" y="275"/>
                      </a:cubicBezTo>
                      <a:close/>
                      <a:moveTo>
                        <a:pt x="0" y="175"/>
                      </a:moveTo>
                      <a:lnTo>
                        <a:pt x="0" y="175"/>
                      </a:lnTo>
                      <a:cubicBezTo>
                        <a:pt x="0" y="161"/>
                        <a:pt x="12" y="150"/>
                        <a:pt x="25" y="150"/>
                      </a:cubicBezTo>
                      <a:cubicBezTo>
                        <a:pt x="39" y="150"/>
                        <a:pt x="50" y="161"/>
                        <a:pt x="50" y="175"/>
                      </a:cubicBezTo>
                      <a:lnTo>
                        <a:pt x="50" y="175"/>
                      </a:lnTo>
                      <a:cubicBezTo>
                        <a:pt x="50" y="188"/>
                        <a:pt x="39" y="200"/>
                        <a:pt x="25" y="200"/>
                      </a:cubicBezTo>
                      <a:cubicBezTo>
                        <a:pt x="12" y="200"/>
                        <a:pt x="0" y="188"/>
                        <a:pt x="0" y="175"/>
                      </a:cubicBezTo>
                      <a:close/>
                      <a:moveTo>
                        <a:pt x="0" y="75"/>
                      </a:moveTo>
                      <a:lnTo>
                        <a:pt x="0" y="74"/>
                      </a:lnTo>
                      <a:cubicBezTo>
                        <a:pt x="0" y="61"/>
                        <a:pt x="12" y="49"/>
                        <a:pt x="25" y="49"/>
                      </a:cubicBezTo>
                      <a:cubicBezTo>
                        <a:pt x="39" y="49"/>
                        <a:pt x="50" y="61"/>
                        <a:pt x="50" y="74"/>
                      </a:cubicBezTo>
                      <a:lnTo>
                        <a:pt x="50" y="75"/>
                      </a:lnTo>
                      <a:cubicBezTo>
                        <a:pt x="50" y="88"/>
                        <a:pt x="39" y="100"/>
                        <a:pt x="25" y="100"/>
                      </a:cubicBezTo>
                      <a:cubicBezTo>
                        <a:pt x="12" y="100"/>
                        <a:pt x="0" y="88"/>
                        <a:pt x="0" y="75"/>
                      </a:cubicBezTo>
                      <a:close/>
                      <a:moveTo>
                        <a:pt x="76" y="0"/>
                      </a:moveTo>
                      <a:lnTo>
                        <a:pt x="76" y="0"/>
                      </a:lnTo>
                      <a:cubicBezTo>
                        <a:pt x="90" y="0"/>
                        <a:pt x="101" y="11"/>
                        <a:pt x="101" y="25"/>
                      </a:cubicBezTo>
                      <a:cubicBezTo>
                        <a:pt x="101" y="39"/>
                        <a:pt x="90" y="50"/>
                        <a:pt x="76" y="50"/>
                      </a:cubicBezTo>
                      <a:lnTo>
                        <a:pt x="76" y="50"/>
                      </a:lnTo>
                      <a:cubicBezTo>
                        <a:pt x="62" y="50"/>
                        <a:pt x="51" y="39"/>
                        <a:pt x="51" y="25"/>
                      </a:cubicBezTo>
                      <a:cubicBezTo>
                        <a:pt x="51" y="11"/>
                        <a:pt x="62" y="0"/>
                        <a:pt x="76" y="0"/>
                      </a:cubicBezTo>
                      <a:close/>
                      <a:moveTo>
                        <a:pt x="176" y="0"/>
                      </a:moveTo>
                      <a:lnTo>
                        <a:pt x="176" y="0"/>
                      </a:lnTo>
                      <a:cubicBezTo>
                        <a:pt x="190" y="0"/>
                        <a:pt x="201" y="11"/>
                        <a:pt x="201" y="25"/>
                      </a:cubicBezTo>
                      <a:cubicBezTo>
                        <a:pt x="201" y="39"/>
                        <a:pt x="190" y="50"/>
                        <a:pt x="176" y="50"/>
                      </a:cubicBezTo>
                      <a:lnTo>
                        <a:pt x="176" y="50"/>
                      </a:lnTo>
                      <a:cubicBezTo>
                        <a:pt x="162" y="50"/>
                        <a:pt x="151" y="39"/>
                        <a:pt x="151" y="25"/>
                      </a:cubicBezTo>
                      <a:cubicBezTo>
                        <a:pt x="151" y="11"/>
                        <a:pt x="162" y="0"/>
                        <a:pt x="176" y="0"/>
                      </a:cubicBezTo>
                      <a:close/>
                      <a:moveTo>
                        <a:pt x="276" y="0"/>
                      </a:moveTo>
                      <a:lnTo>
                        <a:pt x="276" y="0"/>
                      </a:lnTo>
                      <a:cubicBezTo>
                        <a:pt x="290" y="0"/>
                        <a:pt x="301" y="11"/>
                        <a:pt x="301" y="25"/>
                      </a:cubicBezTo>
                      <a:cubicBezTo>
                        <a:pt x="301" y="39"/>
                        <a:pt x="290" y="50"/>
                        <a:pt x="276" y="50"/>
                      </a:cubicBezTo>
                      <a:lnTo>
                        <a:pt x="276" y="50"/>
                      </a:lnTo>
                      <a:cubicBezTo>
                        <a:pt x="262" y="50"/>
                        <a:pt x="251" y="39"/>
                        <a:pt x="251" y="25"/>
                      </a:cubicBezTo>
                      <a:cubicBezTo>
                        <a:pt x="251" y="11"/>
                        <a:pt x="262" y="0"/>
                        <a:pt x="276" y="0"/>
                      </a:cubicBezTo>
                      <a:close/>
                      <a:moveTo>
                        <a:pt x="376" y="0"/>
                      </a:moveTo>
                      <a:lnTo>
                        <a:pt x="376" y="0"/>
                      </a:lnTo>
                      <a:cubicBezTo>
                        <a:pt x="390" y="0"/>
                        <a:pt x="401" y="11"/>
                        <a:pt x="401" y="25"/>
                      </a:cubicBezTo>
                      <a:cubicBezTo>
                        <a:pt x="401" y="39"/>
                        <a:pt x="390" y="50"/>
                        <a:pt x="376" y="50"/>
                      </a:cubicBezTo>
                      <a:lnTo>
                        <a:pt x="376" y="50"/>
                      </a:lnTo>
                      <a:cubicBezTo>
                        <a:pt x="362" y="50"/>
                        <a:pt x="351" y="39"/>
                        <a:pt x="351" y="25"/>
                      </a:cubicBezTo>
                      <a:cubicBezTo>
                        <a:pt x="351" y="11"/>
                        <a:pt x="362" y="0"/>
                        <a:pt x="376" y="0"/>
                      </a:cubicBezTo>
                      <a:close/>
                      <a:moveTo>
                        <a:pt x="476" y="0"/>
                      </a:moveTo>
                      <a:lnTo>
                        <a:pt x="476" y="0"/>
                      </a:lnTo>
                      <a:cubicBezTo>
                        <a:pt x="490" y="0"/>
                        <a:pt x="501" y="11"/>
                        <a:pt x="501" y="25"/>
                      </a:cubicBezTo>
                      <a:cubicBezTo>
                        <a:pt x="501" y="39"/>
                        <a:pt x="490" y="50"/>
                        <a:pt x="476" y="50"/>
                      </a:cubicBezTo>
                      <a:lnTo>
                        <a:pt x="476" y="50"/>
                      </a:lnTo>
                      <a:cubicBezTo>
                        <a:pt x="463" y="50"/>
                        <a:pt x="451" y="39"/>
                        <a:pt x="451" y="25"/>
                      </a:cubicBezTo>
                      <a:cubicBezTo>
                        <a:pt x="451" y="11"/>
                        <a:pt x="463" y="0"/>
                        <a:pt x="47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952680" y="4393800"/>
                  <a:ext cx="158040" cy="220320"/>
                </a:xfrm>
                <a:custGeom>
                  <a:avLst/>
                  <a:gdLst/>
                  <a:ahLst/>
                  <a:rect l="l" t="t" r="r" b="b"/>
                  <a:pathLst>
                    <a:path w="509" h="1299">
                      <a:moveTo>
                        <a:pt x="58" y="25"/>
                      </a:moveTo>
                      <a:lnTo>
                        <a:pt x="58" y="25"/>
                      </a:lnTo>
                      <a:cubicBezTo>
                        <a:pt x="58" y="39"/>
                        <a:pt x="47" y="50"/>
                        <a:pt x="33" y="50"/>
                      </a:cubicBezTo>
                      <a:cubicBezTo>
                        <a:pt x="19" y="50"/>
                        <a:pt x="8" y="39"/>
                        <a:pt x="8" y="25"/>
                      </a:cubicBezTo>
                      <a:lnTo>
                        <a:pt x="8" y="25"/>
                      </a:lnTo>
                      <a:cubicBezTo>
                        <a:pt x="9" y="11"/>
                        <a:pt x="20" y="0"/>
                        <a:pt x="34" y="0"/>
                      </a:cubicBezTo>
                      <a:cubicBezTo>
                        <a:pt x="48" y="0"/>
                        <a:pt x="59" y="12"/>
                        <a:pt x="58" y="25"/>
                      </a:cubicBezTo>
                      <a:close/>
                      <a:moveTo>
                        <a:pt x="58" y="125"/>
                      </a:moveTo>
                      <a:lnTo>
                        <a:pt x="58" y="125"/>
                      </a:lnTo>
                      <a:cubicBezTo>
                        <a:pt x="58" y="139"/>
                        <a:pt x="46" y="150"/>
                        <a:pt x="33" y="150"/>
                      </a:cubicBezTo>
                      <a:cubicBezTo>
                        <a:pt x="19" y="150"/>
                        <a:pt x="8" y="139"/>
                        <a:pt x="8" y="125"/>
                      </a:cubicBezTo>
                      <a:lnTo>
                        <a:pt x="8" y="125"/>
                      </a:lnTo>
                      <a:cubicBezTo>
                        <a:pt x="8" y="111"/>
                        <a:pt x="19" y="100"/>
                        <a:pt x="33" y="100"/>
                      </a:cubicBezTo>
                      <a:cubicBezTo>
                        <a:pt x="47" y="100"/>
                        <a:pt x="58" y="112"/>
                        <a:pt x="58" y="125"/>
                      </a:cubicBezTo>
                      <a:close/>
                      <a:moveTo>
                        <a:pt x="57" y="225"/>
                      </a:moveTo>
                      <a:lnTo>
                        <a:pt x="57" y="226"/>
                      </a:lnTo>
                      <a:cubicBezTo>
                        <a:pt x="57" y="239"/>
                        <a:pt x="46" y="250"/>
                        <a:pt x="32" y="250"/>
                      </a:cubicBezTo>
                      <a:cubicBezTo>
                        <a:pt x="18" y="250"/>
                        <a:pt x="7" y="239"/>
                        <a:pt x="7" y="225"/>
                      </a:cubicBezTo>
                      <a:lnTo>
                        <a:pt x="7" y="225"/>
                      </a:lnTo>
                      <a:cubicBezTo>
                        <a:pt x="7" y="211"/>
                        <a:pt x="19" y="200"/>
                        <a:pt x="32" y="200"/>
                      </a:cubicBezTo>
                      <a:cubicBezTo>
                        <a:pt x="46" y="200"/>
                        <a:pt x="57" y="212"/>
                        <a:pt x="57" y="225"/>
                      </a:cubicBezTo>
                      <a:close/>
                      <a:moveTo>
                        <a:pt x="56" y="326"/>
                      </a:moveTo>
                      <a:lnTo>
                        <a:pt x="56" y="326"/>
                      </a:lnTo>
                      <a:cubicBezTo>
                        <a:pt x="56" y="339"/>
                        <a:pt x="45" y="350"/>
                        <a:pt x="31" y="350"/>
                      </a:cubicBezTo>
                      <a:cubicBezTo>
                        <a:pt x="17" y="350"/>
                        <a:pt x="6" y="339"/>
                        <a:pt x="6" y="325"/>
                      </a:cubicBezTo>
                      <a:lnTo>
                        <a:pt x="6" y="325"/>
                      </a:lnTo>
                      <a:cubicBezTo>
                        <a:pt x="7" y="311"/>
                        <a:pt x="18" y="300"/>
                        <a:pt x="32" y="300"/>
                      </a:cubicBezTo>
                      <a:cubicBezTo>
                        <a:pt x="46" y="300"/>
                        <a:pt x="57" y="312"/>
                        <a:pt x="56" y="326"/>
                      </a:cubicBezTo>
                      <a:close/>
                      <a:moveTo>
                        <a:pt x="56" y="426"/>
                      </a:moveTo>
                      <a:lnTo>
                        <a:pt x="56" y="426"/>
                      </a:lnTo>
                      <a:cubicBezTo>
                        <a:pt x="56" y="439"/>
                        <a:pt x="44" y="451"/>
                        <a:pt x="31" y="450"/>
                      </a:cubicBezTo>
                      <a:cubicBezTo>
                        <a:pt x="17" y="450"/>
                        <a:pt x="6" y="439"/>
                        <a:pt x="6" y="425"/>
                      </a:cubicBezTo>
                      <a:lnTo>
                        <a:pt x="6" y="425"/>
                      </a:lnTo>
                      <a:cubicBezTo>
                        <a:pt x="6" y="411"/>
                        <a:pt x="17" y="400"/>
                        <a:pt x="31" y="400"/>
                      </a:cubicBezTo>
                      <a:cubicBezTo>
                        <a:pt x="45" y="400"/>
                        <a:pt x="56" y="412"/>
                        <a:pt x="56" y="426"/>
                      </a:cubicBezTo>
                      <a:close/>
                      <a:moveTo>
                        <a:pt x="55" y="526"/>
                      </a:moveTo>
                      <a:lnTo>
                        <a:pt x="55" y="526"/>
                      </a:lnTo>
                      <a:cubicBezTo>
                        <a:pt x="55" y="539"/>
                        <a:pt x="44" y="551"/>
                        <a:pt x="30" y="550"/>
                      </a:cubicBezTo>
                      <a:cubicBezTo>
                        <a:pt x="16" y="550"/>
                        <a:pt x="5" y="539"/>
                        <a:pt x="5" y="525"/>
                      </a:cubicBezTo>
                      <a:lnTo>
                        <a:pt x="5" y="525"/>
                      </a:lnTo>
                      <a:cubicBezTo>
                        <a:pt x="5" y="511"/>
                        <a:pt x="17" y="500"/>
                        <a:pt x="30" y="500"/>
                      </a:cubicBezTo>
                      <a:cubicBezTo>
                        <a:pt x="44" y="501"/>
                        <a:pt x="55" y="512"/>
                        <a:pt x="55" y="526"/>
                      </a:cubicBezTo>
                      <a:close/>
                      <a:moveTo>
                        <a:pt x="54" y="626"/>
                      </a:moveTo>
                      <a:lnTo>
                        <a:pt x="54" y="626"/>
                      </a:lnTo>
                      <a:cubicBezTo>
                        <a:pt x="54" y="640"/>
                        <a:pt x="43" y="651"/>
                        <a:pt x="29" y="650"/>
                      </a:cubicBezTo>
                      <a:cubicBezTo>
                        <a:pt x="15" y="650"/>
                        <a:pt x="4" y="639"/>
                        <a:pt x="4" y="625"/>
                      </a:cubicBezTo>
                      <a:lnTo>
                        <a:pt x="4" y="625"/>
                      </a:lnTo>
                      <a:cubicBezTo>
                        <a:pt x="5" y="611"/>
                        <a:pt x="16" y="600"/>
                        <a:pt x="30" y="600"/>
                      </a:cubicBezTo>
                      <a:cubicBezTo>
                        <a:pt x="43" y="601"/>
                        <a:pt x="55" y="612"/>
                        <a:pt x="54" y="626"/>
                      </a:cubicBezTo>
                      <a:close/>
                      <a:moveTo>
                        <a:pt x="54" y="726"/>
                      </a:moveTo>
                      <a:lnTo>
                        <a:pt x="54" y="726"/>
                      </a:lnTo>
                      <a:cubicBezTo>
                        <a:pt x="54" y="740"/>
                        <a:pt x="42" y="751"/>
                        <a:pt x="29" y="751"/>
                      </a:cubicBezTo>
                      <a:cubicBezTo>
                        <a:pt x="15" y="750"/>
                        <a:pt x="4" y="739"/>
                        <a:pt x="4" y="725"/>
                      </a:cubicBezTo>
                      <a:lnTo>
                        <a:pt x="4" y="725"/>
                      </a:lnTo>
                      <a:cubicBezTo>
                        <a:pt x="4" y="711"/>
                        <a:pt x="15" y="700"/>
                        <a:pt x="29" y="700"/>
                      </a:cubicBezTo>
                      <a:cubicBezTo>
                        <a:pt x="43" y="701"/>
                        <a:pt x="54" y="712"/>
                        <a:pt x="54" y="726"/>
                      </a:cubicBezTo>
                      <a:close/>
                      <a:moveTo>
                        <a:pt x="53" y="826"/>
                      </a:moveTo>
                      <a:lnTo>
                        <a:pt x="53" y="826"/>
                      </a:lnTo>
                      <a:cubicBezTo>
                        <a:pt x="53" y="840"/>
                        <a:pt x="42" y="851"/>
                        <a:pt x="28" y="851"/>
                      </a:cubicBezTo>
                      <a:cubicBezTo>
                        <a:pt x="14" y="850"/>
                        <a:pt x="3" y="839"/>
                        <a:pt x="3" y="825"/>
                      </a:cubicBezTo>
                      <a:lnTo>
                        <a:pt x="3" y="825"/>
                      </a:lnTo>
                      <a:cubicBezTo>
                        <a:pt x="3" y="811"/>
                        <a:pt x="15" y="800"/>
                        <a:pt x="28" y="801"/>
                      </a:cubicBezTo>
                      <a:cubicBezTo>
                        <a:pt x="42" y="801"/>
                        <a:pt x="53" y="812"/>
                        <a:pt x="53" y="826"/>
                      </a:cubicBezTo>
                      <a:close/>
                      <a:moveTo>
                        <a:pt x="52" y="926"/>
                      </a:moveTo>
                      <a:lnTo>
                        <a:pt x="52" y="926"/>
                      </a:lnTo>
                      <a:cubicBezTo>
                        <a:pt x="52" y="940"/>
                        <a:pt x="41" y="951"/>
                        <a:pt x="27" y="951"/>
                      </a:cubicBezTo>
                      <a:cubicBezTo>
                        <a:pt x="13" y="950"/>
                        <a:pt x="2" y="939"/>
                        <a:pt x="2" y="925"/>
                      </a:cubicBezTo>
                      <a:lnTo>
                        <a:pt x="2" y="925"/>
                      </a:lnTo>
                      <a:cubicBezTo>
                        <a:pt x="3" y="912"/>
                        <a:pt x="14" y="900"/>
                        <a:pt x="28" y="901"/>
                      </a:cubicBezTo>
                      <a:cubicBezTo>
                        <a:pt x="41" y="901"/>
                        <a:pt x="53" y="912"/>
                        <a:pt x="52" y="926"/>
                      </a:cubicBezTo>
                      <a:close/>
                      <a:moveTo>
                        <a:pt x="52" y="1026"/>
                      </a:moveTo>
                      <a:lnTo>
                        <a:pt x="52" y="1026"/>
                      </a:lnTo>
                      <a:cubicBezTo>
                        <a:pt x="52" y="1040"/>
                        <a:pt x="40" y="1051"/>
                        <a:pt x="27" y="1051"/>
                      </a:cubicBezTo>
                      <a:cubicBezTo>
                        <a:pt x="13" y="1051"/>
                        <a:pt x="2" y="1039"/>
                        <a:pt x="2" y="1025"/>
                      </a:cubicBezTo>
                      <a:lnTo>
                        <a:pt x="2" y="1025"/>
                      </a:lnTo>
                      <a:cubicBezTo>
                        <a:pt x="2" y="1012"/>
                        <a:pt x="13" y="1000"/>
                        <a:pt x="27" y="1001"/>
                      </a:cubicBezTo>
                      <a:cubicBezTo>
                        <a:pt x="41" y="1001"/>
                        <a:pt x="52" y="1012"/>
                        <a:pt x="52" y="1026"/>
                      </a:cubicBezTo>
                      <a:close/>
                      <a:moveTo>
                        <a:pt x="51" y="1126"/>
                      </a:moveTo>
                      <a:lnTo>
                        <a:pt x="51" y="1126"/>
                      </a:lnTo>
                      <a:cubicBezTo>
                        <a:pt x="51" y="1140"/>
                        <a:pt x="40" y="1151"/>
                        <a:pt x="26" y="1151"/>
                      </a:cubicBezTo>
                      <a:cubicBezTo>
                        <a:pt x="12" y="1151"/>
                        <a:pt x="1" y="1139"/>
                        <a:pt x="1" y="1125"/>
                      </a:cubicBezTo>
                      <a:lnTo>
                        <a:pt x="1" y="1125"/>
                      </a:lnTo>
                      <a:cubicBezTo>
                        <a:pt x="1" y="1112"/>
                        <a:pt x="13" y="1101"/>
                        <a:pt x="26" y="1101"/>
                      </a:cubicBezTo>
                      <a:cubicBezTo>
                        <a:pt x="40" y="1101"/>
                        <a:pt x="51" y="1112"/>
                        <a:pt x="51" y="1126"/>
                      </a:cubicBezTo>
                      <a:close/>
                      <a:moveTo>
                        <a:pt x="50" y="1226"/>
                      </a:moveTo>
                      <a:lnTo>
                        <a:pt x="50" y="1226"/>
                      </a:lnTo>
                      <a:cubicBezTo>
                        <a:pt x="50" y="1240"/>
                        <a:pt x="39" y="1251"/>
                        <a:pt x="25" y="1251"/>
                      </a:cubicBezTo>
                      <a:cubicBezTo>
                        <a:pt x="11" y="1251"/>
                        <a:pt x="0" y="1239"/>
                        <a:pt x="0" y="1226"/>
                      </a:cubicBezTo>
                      <a:lnTo>
                        <a:pt x="0" y="1225"/>
                      </a:lnTo>
                      <a:cubicBezTo>
                        <a:pt x="1" y="1212"/>
                        <a:pt x="12" y="1201"/>
                        <a:pt x="26" y="1201"/>
                      </a:cubicBezTo>
                      <a:cubicBezTo>
                        <a:pt x="39" y="1201"/>
                        <a:pt x="51" y="1212"/>
                        <a:pt x="50" y="1226"/>
                      </a:cubicBezTo>
                      <a:close/>
                      <a:moveTo>
                        <a:pt x="84" y="1243"/>
                      </a:moveTo>
                      <a:lnTo>
                        <a:pt x="84" y="1243"/>
                      </a:lnTo>
                      <a:cubicBezTo>
                        <a:pt x="98" y="1243"/>
                        <a:pt x="109" y="1254"/>
                        <a:pt x="109" y="1268"/>
                      </a:cubicBezTo>
                      <a:cubicBezTo>
                        <a:pt x="109" y="1282"/>
                        <a:pt x="98" y="1293"/>
                        <a:pt x="84" y="1293"/>
                      </a:cubicBezTo>
                      <a:lnTo>
                        <a:pt x="84" y="1293"/>
                      </a:lnTo>
                      <a:cubicBezTo>
                        <a:pt x="70" y="1293"/>
                        <a:pt x="59" y="1282"/>
                        <a:pt x="59" y="1268"/>
                      </a:cubicBezTo>
                      <a:cubicBezTo>
                        <a:pt x="59" y="1254"/>
                        <a:pt x="70" y="1243"/>
                        <a:pt x="84" y="1243"/>
                      </a:cubicBezTo>
                      <a:close/>
                      <a:moveTo>
                        <a:pt x="184" y="1244"/>
                      </a:moveTo>
                      <a:lnTo>
                        <a:pt x="184" y="1244"/>
                      </a:lnTo>
                      <a:cubicBezTo>
                        <a:pt x="198" y="1244"/>
                        <a:pt x="209" y="1256"/>
                        <a:pt x="209" y="1269"/>
                      </a:cubicBezTo>
                      <a:cubicBezTo>
                        <a:pt x="209" y="1283"/>
                        <a:pt x="198" y="1294"/>
                        <a:pt x="184" y="1294"/>
                      </a:cubicBezTo>
                      <a:lnTo>
                        <a:pt x="184" y="1294"/>
                      </a:lnTo>
                      <a:cubicBezTo>
                        <a:pt x="170" y="1294"/>
                        <a:pt x="159" y="1283"/>
                        <a:pt x="159" y="1269"/>
                      </a:cubicBezTo>
                      <a:cubicBezTo>
                        <a:pt x="159" y="1256"/>
                        <a:pt x="170" y="1244"/>
                        <a:pt x="184" y="1244"/>
                      </a:cubicBezTo>
                      <a:close/>
                      <a:moveTo>
                        <a:pt x="284" y="1246"/>
                      </a:moveTo>
                      <a:lnTo>
                        <a:pt x="284" y="1246"/>
                      </a:lnTo>
                      <a:cubicBezTo>
                        <a:pt x="298" y="1246"/>
                        <a:pt x="309" y="1257"/>
                        <a:pt x="309" y="1271"/>
                      </a:cubicBezTo>
                      <a:cubicBezTo>
                        <a:pt x="309" y="1285"/>
                        <a:pt x="298" y="1296"/>
                        <a:pt x="284" y="1296"/>
                      </a:cubicBezTo>
                      <a:lnTo>
                        <a:pt x="284" y="1296"/>
                      </a:lnTo>
                      <a:cubicBezTo>
                        <a:pt x="270" y="1296"/>
                        <a:pt x="259" y="1285"/>
                        <a:pt x="259" y="1271"/>
                      </a:cubicBezTo>
                      <a:cubicBezTo>
                        <a:pt x="259" y="1257"/>
                        <a:pt x="270" y="1246"/>
                        <a:pt x="284" y="1246"/>
                      </a:cubicBezTo>
                      <a:close/>
                      <a:moveTo>
                        <a:pt x="384" y="1248"/>
                      </a:moveTo>
                      <a:lnTo>
                        <a:pt x="384" y="1248"/>
                      </a:lnTo>
                      <a:cubicBezTo>
                        <a:pt x="398" y="1248"/>
                        <a:pt x="409" y="1259"/>
                        <a:pt x="409" y="1273"/>
                      </a:cubicBezTo>
                      <a:cubicBezTo>
                        <a:pt x="409" y="1286"/>
                        <a:pt x="398" y="1298"/>
                        <a:pt x="384" y="1298"/>
                      </a:cubicBezTo>
                      <a:lnTo>
                        <a:pt x="384" y="1298"/>
                      </a:lnTo>
                      <a:cubicBezTo>
                        <a:pt x="370" y="1298"/>
                        <a:pt x="359" y="1286"/>
                        <a:pt x="359" y="1273"/>
                      </a:cubicBezTo>
                      <a:cubicBezTo>
                        <a:pt x="359" y="1259"/>
                        <a:pt x="370" y="1248"/>
                        <a:pt x="384" y="1248"/>
                      </a:cubicBezTo>
                      <a:close/>
                      <a:moveTo>
                        <a:pt x="484" y="1249"/>
                      </a:moveTo>
                      <a:lnTo>
                        <a:pt x="484" y="1249"/>
                      </a:lnTo>
                      <a:cubicBezTo>
                        <a:pt x="498" y="1249"/>
                        <a:pt x="509" y="1261"/>
                        <a:pt x="509" y="1274"/>
                      </a:cubicBezTo>
                      <a:cubicBezTo>
                        <a:pt x="509" y="1288"/>
                        <a:pt x="498" y="1299"/>
                        <a:pt x="484" y="1299"/>
                      </a:cubicBezTo>
                      <a:lnTo>
                        <a:pt x="484" y="1299"/>
                      </a:lnTo>
                      <a:cubicBezTo>
                        <a:pt x="470" y="1299"/>
                        <a:pt x="459" y="1288"/>
                        <a:pt x="459" y="1274"/>
                      </a:cubicBezTo>
                      <a:cubicBezTo>
                        <a:pt x="459" y="1261"/>
                        <a:pt x="470" y="1249"/>
                        <a:pt x="484" y="124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1" name=""/>
                <p:cNvGrpSpPr/>
                <p:nvPr/>
              </p:nvGrpSpPr>
              <p:grpSpPr>
                <a:xfrm>
                  <a:off x="7110720" y="4582080"/>
                  <a:ext cx="113760" cy="101880"/>
                  <a:chOff x="7110720" y="4582080"/>
                  <a:chExt cx="113760" cy="101880"/>
                </a:xfrm>
              </p:grpSpPr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7110720" y="4582080"/>
                    <a:ext cx="113760" cy="101880"/>
                    <a:chOff x="7110720" y="4582080"/>
                    <a:chExt cx="113760" cy="10188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7110720" y="4582080"/>
                      <a:ext cx="113760" cy="10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7110720" y="4582080"/>
                      <a:ext cx="113760" cy="1018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5" name=""/>
                  <p:cNvSpPr/>
                  <p:nvPr/>
                </p:nvSpPr>
                <p:spPr>
                  <a:xfrm rot="16200000">
                    <a:off x="7140600" y="4604760"/>
                    <a:ext cx="4176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6" name=""/>
                <p:cNvGrpSpPr/>
                <p:nvPr/>
              </p:nvGrpSpPr>
              <p:grpSpPr>
                <a:xfrm>
                  <a:off x="7200000" y="4278240"/>
                  <a:ext cx="235440" cy="253440"/>
                  <a:chOff x="7200000" y="4278240"/>
                  <a:chExt cx="235440" cy="253440"/>
                </a:xfrm>
              </p:grpSpPr>
              <p:grpSp>
                <p:nvGrpSpPr>
                  <p:cNvPr id="897" name=""/>
                  <p:cNvGrpSpPr/>
                  <p:nvPr/>
                </p:nvGrpSpPr>
                <p:grpSpPr>
                  <a:xfrm>
                    <a:off x="7200000" y="4278240"/>
                    <a:ext cx="235440" cy="97560"/>
                    <a:chOff x="7200000" y="4278240"/>
                    <a:chExt cx="235440" cy="97560"/>
                  </a:xfrm>
                </p:grpSpPr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7200000" y="4278240"/>
                      <a:ext cx="235440" cy="9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7200000" y="4278240"/>
                      <a:ext cx="235440" cy="9756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7314840" y="4403880"/>
                    <a:ext cx="109800" cy="37440"/>
                    <a:chOff x="7314840" y="4403880"/>
                    <a:chExt cx="109800" cy="37440"/>
                  </a:xfrm>
                </p:grpSpPr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7359120" y="4403880"/>
                      <a:ext cx="65520" cy="3744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02" name=""/>
                    <p:cNvGrpSpPr/>
                    <p:nvPr/>
                  </p:nvGrpSpPr>
                  <p:grpSpPr>
                    <a:xfrm>
                      <a:off x="7314840" y="4417560"/>
                      <a:ext cx="39960" cy="7920"/>
                      <a:chOff x="7314840" y="4417560"/>
                      <a:chExt cx="39960" cy="7920"/>
                    </a:xfrm>
                  </p:grpSpPr>
                  <p:sp>
                    <p:nvSpPr>
                      <p:cNvPr id="903" name=""/>
                      <p:cNvSpPr/>
                      <p:nvPr/>
                    </p:nvSpPr>
                    <p:spPr>
                      <a:xfrm>
                        <a:off x="7314840" y="4417560"/>
                        <a:ext cx="39960" cy="7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4" name=""/>
                      <p:cNvSpPr/>
                      <p:nvPr/>
                    </p:nvSpPr>
                    <p:spPr>
                      <a:xfrm>
                        <a:off x="7314840" y="4417560"/>
                        <a:ext cx="39960" cy="7920"/>
                      </a:xfrm>
                      <a:prstGeom prst="rect">
                        <a:avLst/>
                      </a:prstGeom>
                      <a:noFill/>
                      <a:ln cap="rnd"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05" name=""/>
                  <p:cNvSpPr/>
                  <p:nvPr/>
                </p:nvSpPr>
                <p:spPr>
                  <a:xfrm>
                    <a:off x="7383600" y="4441320"/>
                    <a:ext cx="0" cy="9036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7175520" y="4721760"/>
                  <a:ext cx="235440" cy="282960"/>
                  <a:chOff x="7175520" y="4721760"/>
                  <a:chExt cx="235440" cy="2829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7370280" y="4721760"/>
                    <a:ext cx="0" cy="12564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7175520" y="4905720"/>
                    <a:ext cx="235440" cy="99000"/>
                    <a:chOff x="7175520" y="4905720"/>
                    <a:chExt cx="235440" cy="9900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7175520" y="4905720"/>
                      <a:ext cx="235440" cy="9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7175520" y="4905720"/>
                      <a:ext cx="235440" cy="9900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1" name=""/>
                  <p:cNvGrpSpPr/>
                  <p:nvPr/>
                </p:nvGrpSpPr>
                <p:grpSpPr>
                  <a:xfrm>
                    <a:off x="7295760" y="4836240"/>
                    <a:ext cx="109800" cy="38880"/>
                    <a:chOff x="7295760" y="4836240"/>
                    <a:chExt cx="109800" cy="38880"/>
                  </a:xfrm>
                </p:grpSpPr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7339680" y="4836240"/>
                      <a:ext cx="65880" cy="38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3" name=""/>
                    <p:cNvGrpSpPr/>
                    <p:nvPr/>
                  </p:nvGrpSpPr>
                  <p:grpSpPr>
                    <a:xfrm>
                      <a:off x="7295760" y="4851360"/>
                      <a:ext cx="39960" cy="9720"/>
                      <a:chOff x="7295760" y="4851360"/>
                      <a:chExt cx="39960" cy="9720"/>
                    </a:xfrm>
                  </p:grpSpPr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7295760" y="4851360"/>
                        <a:ext cx="39960" cy="9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5" name=""/>
                      <p:cNvSpPr/>
                      <p:nvPr/>
                    </p:nvSpPr>
                    <p:spPr>
                      <a:xfrm>
                        <a:off x="7295760" y="4851360"/>
                        <a:ext cx="39960" cy="9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cap="rnd"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16" name=""/>
                <p:cNvSpPr/>
                <p:nvPr/>
              </p:nvSpPr>
              <p:spPr>
                <a:xfrm>
                  <a:off x="7175520" y="4530600"/>
                  <a:ext cx="19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175520" y="4720320"/>
                  <a:ext cx="19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>
                <a:off x="6784920" y="4322880"/>
                <a:ext cx="1890720" cy="622080"/>
              </a:xfrm>
              <a:custGeom>
                <a:avLst/>
                <a:gdLst/>
                <a:ahLst/>
                <a:rect l="l" t="t" r="r" b="b"/>
                <a:pathLst>
                  <a:path w="948" h="499">
                    <a:moveTo>
                      <a:pt x="944" y="6"/>
                    </a:moveTo>
                    <a:lnTo>
                      <a:pt x="920" y="6"/>
                    </a:lnTo>
                    <a:lnTo>
                      <a:pt x="920" y="0"/>
                    </a:lnTo>
                    <a:lnTo>
                      <a:pt x="944" y="0"/>
                    </a:lnTo>
                    <a:lnTo>
                      <a:pt x="944" y="6"/>
                    </a:lnTo>
                    <a:close/>
                    <a:moveTo>
                      <a:pt x="901" y="6"/>
                    </a:moveTo>
                    <a:lnTo>
                      <a:pt x="877" y="6"/>
                    </a:lnTo>
                    <a:lnTo>
                      <a:pt x="877" y="0"/>
                    </a:lnTo>
                    <a:lnTo>
                      <a:pt x="901" y="0"/>
                    </a:lnTo>
                    <a:lnTo>
                      <a:pt x="901" y="6"/>
                    </a:lnTo>
                    <a:close/>
                    <a:moveTo>
                      <a:pt x="858" y="6"/>
                    </a:moveTo>
                    <a:lnTo>
                      <a:pt x="834" y="6"/>
                    </a:lnTo>
                    <a:lnTo>
                      <a:pt x="834" y="0"/>
                    </a:lnTo>
                    <a:lnTo>
                      <a:pt x="858" y="0"/>
                    </a:lnTo>
                    <a:lnTo>
                      <a:pt x="858" y="6"/>
                    </a:lnTo>
                    <a:close/>
                    <a:moveTo>
                      <a:pt x="815" y="6"/>
                    </a:moveTo>
                    <a:lnTo>
                      <a:pt x="791" y="6"/>
                    </a:lnTo>
                    <a:lnTo>
                      <a:pt x="791" y="0"/>
                    </a:lnTo>
                    <a:lnTo>
                      <a:pt x="815" y="0"/>
                    </a:lnTo>
                    <a:lnTo>
                      <a:pt x="815" y="6"/>
                    </a:lnTo>
                    <a:close/>
                    <a:moveTo>
                      <a:pt x="772" y="6"/>
                    </a:moveTo>
                    <a:lnTo>
                      <a:pt x="747" y="6"/>
                    </a:lnTo>
                    <a:lnTo>
                      <a:pt x="747" y="0"/>
                    </a:lnTo>
                    <a:lnTo>
                      <a:pt x="772" y="0"/>
                    </a:lnTo>
                    <a:lnTo>
                      <a:pt x="772" y="6"/>
                    </a:lnTo>
                    <a:close/>
                    <a:moveTo>
                      <a:pt x="729" y="6"/>
                    </a:moveTo>
                    <a:lnTo>
                      <a:pt x="704" y="6"/>
                    </a:lnTo>
                    <a:lnTo>
                      <a:pt x="704" y="0"/>
                    </a:lnTo>
                    <a:lnTo>
                      <a:pt x="729" y="0"/>
                    </a:lnTo>
                    <a:lnTo>
                      <a:pt x="729" y="6"/>
                    </a:lnTo>
                    <a:close/>
                    <a:moveTo>
                      <a:pt x="686" y="6"/>
                    </a:moveTo>
                    <a:lnTo>
                      <a:pt x="661" y="6"/>
                    </a:lnTo>
                    <a:lnTo>
                      <a:pt x="661" y="0"/>
                    </a:lnTo>
                    <a:lnTo>
                      <a:pt x="686" y="0"/>
                    </a:lnTo>
                    <a:lnTo>
                      <a:pt x="686" y="6"/>
                    </a:lnTo>
                    <a:close/>
                    <a:moveTo>
                      <a:pt x="643" y="6"/>
                    </a:moveTo>
                    <a:lnTo>
                      <a:pt x="618" y="6"/>
                    </a:lnTo>
                    <a:lnTo>
                      <a:pt x="618" y="0"/>
                    </a:lnTo>
                    <a:lnTo>
                      <a:pt x="643" y="0"/>
                    </a:lnTo>
                    <a:lnTo>
                      <a:pt x="643" y="6"/>
                    </a:lnTo>
                    <a:close/>
                    <a:moveTo>
                      <a:pt x="600" y="6"/>
                    </a:moveTo>
                    <a:lnTo>
                      <a:pt x="575" y="6"/>
                    </a:lnTo>
                    <a:lnTo>
                      <a:pt x="575" y="0"/>
                    </a:lnTo>
                    <a:lnTo>
                      <a:pt x="600" y="0"/>
                    </a:lnTo>
                    <a:lnTo>
                      <a:pt x="600" y="6"/>
                    </a:lnTo>
                    <a:close/>
                    <a:moveTo>
                      <a:pt x="557" y="6"/>
                    </a:moveTo>
                    <a:lnTo>
                      <a:pt x="532" y="6"/>
                    </a:lnTo>
                    <a:lnTo>
                      <a:pt x="532" y="0"/>
                    </a:lnTo>
                    <a:lnTo>
                      <a:pt x="557" y="0"/>
                    </a:lnTo>
                    <a:lnTo>
                      <a:pt x="557" y="6"/>
                    </a:lnTo>
                    <a:close/>
                    <a:moveTo>
                      <a:pt x="513" y="6"/>
                    </a:moveTo>
                    <a:lnTo>
                      <a:pt x="489" y="6"/>
                    </a:lnTo>
                    <a:lnTo>
                      <a:pt x="489" y="0"/>
                    </a:lnTo>
                    <a:lnTo>
                      <a:pt x="513" y="0"/>
                    </a:lnTo>
                    <a:lnTo>
                      <a:pt x="513" y="6"/>
                    </a:lnTo>
                    <a:close/>
                    <a:moveTo>
                      <a:pt x="470" y="6"/>
                    </a:moveTo>
                    <a:lnTo>
                      <a:pt x="446" y="6"/>
                    </a:lnTo>
                    <a:lnTo>
                      <a:pt x="446" y="0"/>
                    </a:lnTo>
                    <a:lnTo>
                      <a:pt x="470" y="0"/>
                    </a:lnTo>
                    <a:lnTo>
                      <a:pt x="470" y="6"/>
                    </a:lnTo>
                    <a:close/>
                    <a:moveTo>
                      <a:pt x="427" y="6"/>
                    </a:moveTo>
                    <a:lnTo>
                      <a:pt x="403" y="6"/>
                    </a:lnTo>
                    <a:lnTo>
                      <a:pt x="403" y="0"/>
                    </a:lnTo>
                    <a:lnTo>
                      <a:pt x="427" y="0"/>
                    </a:lnTo>
                    <a:lnTo>
                      <a:pt x="427" y="6"/>
                    </a:lnTo>
                    <a:close/>
                    <a:moveTo>
                      <a:pt x="384" y="6"/>
                    </a:moveTo>
                    <a:lnTo>
                      <a:pt x="360" y="6"/>
                    </a:lnTo>
                    <a:lnTo>
                      <a:pt x="360" y="0"/>
                    </a:lnTo>
                    <a:lnTo>
                      <a:pt x="384" y="0"/>
                    </a:lnTo>
                    <a:lnTo>
                      <a:pt x="384" y="6"/>
                    </a:lnTo>
                    <a:close/>
                    <a:moveTo>
                      <a:pt x="341" y="6"/>
                    </a:moveTo>
                    <a:lnTo>
                      <a:pt x="316" y="6"/>
                    </a:lnTo>
                    <a:lnTo>
                      <a:pt x="316" y="0"/>
                    </a:lnTo>
                    <a:lnTo>
                      <a:pt x="341" y="0"/>
                    </a:lnTo>
                    <a:lnTo>
                      <a:pt x="341" y="6"/>
                    </a:lnTo>
                    <a:close/>
                    <a:moveTo>
                      <a:pt x="298" y="6"/>
                    </a:moveTo>
                    <a:lnTo>
                      <a:pt x="273" y="6"/>
                    </a:lnTo>
                    <a:lnTo>
                      <a:pt x="273" y="0"/>
                    </a:lnTo>
                    <a:lnTo>
                      <a:pt x="298" y="0"/>
                    </a:lnTo>
                    <a:lnTo>
                      <a:pt x="298" y="6"/>
                    </a:lnTo>
                    <a:close/>
                    <a:moveTo>
                      <a:pt x="255" y="6"/>
                    </a:moveTo>
                    <a:lnTo>
                      <a:pt x="230" y="6"/>
                    </a:lnTo>
                    <a:lnTo>
                      <a:pt x="230" y="0"/>
                    </a:lnTo>
                    <a:lnTo>
                      <a:pt x="255" y="0"/>
                    </a:lnTo>
                    <a:lnTo>
                      <a:pt x="255" y="6"/>
                    </a:lnTo>
                    <a:close/>
                    <a:moveTo>
                      <a:pt x="212" y="6"/>
                    </a:moveTo>
                    <a:lnTo>
                      <a:pt x="187" y="6"/>
                    </a:lnTo>
                    <a:lnTo>
                      <a:pt x="187" y="0"/>
                    </a:lnTo>
                    <a:lnTo>
                      <a:pt x="212" y="0"/>
                    </a:lnTo>
                    <a:lnTo>
                      <a:pt x="212" y="6"/>
                    </a:lnTo>
                    <a:close/>
                    <a:moveTo>
                      <a:pt x="169" y="6"/>
                    </a:moveTo>
                    <a:lnTo>
                      <a:pt x="144" y="6"/>
                    </a:lnTo>
                    <a:lnTo>
                      <a:pt x="144" y="0"/>
                    </a:lnTo>
                    <a:lnTo>
                      <a:pt x="169" y="0"/>
                    </a:lnTo>
                    <a:lnTo>
                      <a:pt x="169" y="6"/>
                    </a:lnTo>
                    <a:close/>
                    <a:moveTo>
                      <a:pt x="126" y="6"/>
                    </a:moveTo>
                    <a:lnTo>
                      <a:pt x="101" y="6"/>
                    </a:lnTo>
                    <a:lnTo>
                      <a:pt x="101" y="0"/>
                    </a:lnTo>
                    <a:lnTo>
                      <a:pt x="126" y="0"/>
                    </a:lnTo>
                    <a:lnTo>
                      <a:pt x="126" y="6"/>
                    </a:lnTo>
                    <a:close/>
                    <a:moveTo>
                      <a:pt x="83" y="6"/>
                    </a:moveTo>
                    <a:lnTo>
                      <a:pt x="58" y="6"/>
                    </a:lnTo>
                    <a:lnTo>
                      <a:pt x="58" y="0"/>
                    </a:lnTo>
                    <a:lnTo>
                      <a:pt x="83" y="0"/>
                    </a:lnTo>
                    <a:lnTo>
                      <a:pt x="83" y="6"/>
                    </a:lnTo>
                    <a:close/>
                    <a:moveTo>
                      <a:pt x="39" y="6"/>
                    </a:moveTo>
                    <a:lnTo>
                      <a:pt x="15" y="6"/>
                    </a:lnTo>
                    <a:lnTo>
                      <a:pt x="15" y="0"/>
                    </a:lnTo>
                    <a:lnTo>
                      <a:pt x="39" y="0"/>
                    </a:lnTo>
                    <a:lnTo>
                      <a:pt x="39" y="6"/>
                    </a:lnTo>
                    <a:close/>
                    <a:moveTo>
                      <a:pt x="6" y="9"/>
                    </a:moveTo>
                    <a:lnTo>
                      <a:pt x="6" y="34"/>
                    </a:lnTo>
                    <a:lnTo>
                      <a:pt x="0" y="34"/>
                    </a:lnTo>
                    <a:lnTo>
                      <a:pt x="0" y="9"/>
                    </a:lnTo>
                    <a:lnTo>
                      <a:pt x="6" y="9"/>
                    </a:lnTo>
                    <a:close/>
                    <a:moveTo>
                      <a:pt x="6" y="52"/>
                    </a:moveTo>
                    <a:lnTo>
                      <a:pt x="6" y="77"/>
                    </a:lnTo>
                    <a:lnTo>
                      <a:pt x="0" y="77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  <a:moveTo>
                      <a:pt x="6" y="95"/>
                    </a:moveTo>
                    <a:lnTo>
                      <a:pt x="6" y="120"/>
                    </a:lnTo>
                    <a:lnTo>
                      <a:pt x="0" y="120"/>
                    </a:lnTo>
                    <a:lnTo>
                      <a:pt x="0" y="95"/>
                    </a:lnTo>
                    <a:lnTo>
                      <a:pt x="6" y="95"/>
                    </a:lnTo>
                    <a:close/>
                    <a:moveTo>
                      <a:pt x="6" y="138"/>
                    </a:moveTo>
                    <a:lnTo>
                      <a:pt x="6" y="163"/>
                    </a:lnTo>
                    <a:lnTo>
                      <a:pt x="0" y="163"/>
                    </a:lnTo>
                    <a:lnTo>
                      <a:pt x="0" y="138"/>
                    </a:lnTo>
                    <a:lnTo>
                      <a:pt x="6" y="138"/>
                    </a:lnTo>
                    <a:close/>
                    <a:moveTo>
                      <a:pt x="6" y="182"/>
                    </a:moveTo>
                    <a:lnTo>
                      <a:pt x="6" y="206"/>
                    </a:lnTo>
                    <a:lnTo>
                      <a:pt x="0" y="206"/>
                    </a:lnTo>
                    <a:lnTo>
                      <a:pt x="0" y="182"/>
                    </a:lnTo>
                    <a:lnTo>
                      <a:pt x="6" y="182"/>
                    </a:lnTo>
                    <a:close/>
                    <a:moveTo>
                      <a:pt x="6" y="225"/>
                    </a:moveTo>
                    <a:lnTo>
                      <a:pt x="6" y="249"/>
                    </a:lnTo>
                    <a:lnTo>
                      <a:pt x="0" y="249"/>
                    </a:lnTo>
                    <a:lnTo>
                      <a:pt x="0" y="225"/>
                    </a:lnTo>
                    <a:lnTo>
                      <a:pt x="6" y="225"/>
                    </a:lnTo>
                    <a:close/>
                    <a:moveTo>
                      <a:pt x="6" y="268"/>
                    </a:moveTo>
                    <a:lnTo>
                      <a:pt x="6" y="292"/>
                    </a:lnTo>
                    <a:lnTo>
                      <a:pt x="0" y="292"/>
                    </a:lnTo>
                    <a:lnTo>
                      <a:pt x="0" y="268"/>
                    </a:lnTo>
                    <a:lnTo>
                      <a:pt x="6" y="268"/>
                    </a:lnTo>
                    <a:close/>
                    <a:moveTo>
                      <a:pt x="6" y="311"/>
                    </a:moveTo>
                    <a:lnTo>
                      <a:pt x="6" y="336"/>
                    </a:lnTo>
                    <a:lnTo>
                      <a:pt x="0" y="336"/>
                    </a:lnTo>
                    <a:lnTo>
                      <a:pt x="0" y="311"/>
                    </a:lnTo>
                    <a:lnTo>
                      <a:pt x="6" y="311"/>
                    </a:lnTo>
                    <a:close/>
                    <a:moveTo>
                      <a:pt x="6" y="354"/>
                    </a:moveTo>
                    <a:lnTo>
                      <a:pt x="6" y="379"/>
                    </a:lnTo>
                    <a:lnTo>
                      <a:pt x="0" y="379"/>
                    </a:lnTo>
                    <a:lnTo>
                      <a:pt x="0" y="354"/>
                    </a:lnTo>
                    <a:lnTo>
                      <a:pt x="6" y="354"/>
                    </a:lnTo>
                    <a:close/>
                    <a:moveTo>
                      <a:pt x="6" y="397"/>
                    </a:moveTo>
                    <a:lnTo>
                      <a:pt x="6" y="422"/>
                    </a:lnTo>
                    <a:lnTo>
                      <a:pt x="0" y="422"/>
                    </a:lnTo>
                    <a:lnTo>
                      <a:pt x="0" y="397"/>
                    </a:lnTo>
                    <a:lnTo>
                      <a:pt x="6" y="397"/>
                    </a:lnTo>
                    <a:close/>
                    <a:moveTo>
                      <a:pt x="6" y="440"/>
                    </a:moveTo>
                    <a:lnTo>
                      <a:pt x="6" y="465"/>
                    </a:lnTo>
                    <a:lnTo>
                      <a:pt x="0" y="465"/>
                    </a:lnTo>
                    <a:lnTo>
                      <a:pt x="0" y="440"/>
                    </a:lnTo>
                    <a:lnTo>
                      <a:pt x="6" y="440"/>
                    </a:lnTo>
                    <a:close/>
                    <a:moveTo>
                      <a:pt x="6" y="483"/>
                    </a:moveTo>
                    <a:lnTo>
                      <a:pt x="6" y="496"/>
                    </a:lnTo>
                    <a:lnTo>
                      <a:pt x="2" y="493"/>
                    </a:lnTo>
                    <a:lnTo>
                      <a:pt x="15" y="493"/>
                    </a:lnTo>
                    <a:lnTo>
                      <a:pt x="15" y="499"/>
                    </a:lnTo>
                    <a:lnTo>
                      <a:pt x="0" y="499"/>
                    </a:lnTo>
                    <a:lnTo>
                      <a:pt x="0" y="483"/>
                    </a:lnTo>
                    <a:lnTo>
                      <a:pt x="6" y="483"/>
                    </a:lnTo>
                    <a:close/>
                    <a:moveTo>
                      <a:pt x="33" y="493"/>
                    </a:moveTo>
                    <a:lnTo>
                      <a:pt x="58" y="493"/>
                    </a:lnTo>
                    <a:lnTo>
                      <a:pt x="58" y="499"/>
                    </a:lnTo>
                    <a:lnTo>
                      <a:pt x="33" y="499"/>
                    </a:lnTo>
                    <a:lnTo>
                      <a:pt x="33" y="493"/>
                    </a:lnTo>
                    <a:close/>
                    <a:moveTo>
                      <a:pt x="76" y="493"/>
                    </a:moveTo>
                    <a:lnTo>
                      <a:pt x="101" y="493"/>
                    </a:lnTo>
                    <a:lnTo>
                      <a:pt x="101" y="499"/>
                    </a:lnTo>
                    <a:lnTo>
                      <a:pt x="76" y="499"/>
                    </a:lnTo>
                    <a:lnTo>
                      <a:pt x="76" y="493"/>
                    </a:lnTo>
                    <a:close/>
                    <a:moveTo>
                      <a:pt x="119" y="493"/>
                    </a:moveTo>
                    <a:lnTo>
                      <a:pt x="144" y="493"/>
                    </a:lnTo>
                    <a:lnTo>
                      <a:pt x="144" y="499"/>
                    </a:lnTo>
                    <a:lnTo>
                      <a:pt x="119" y="499"/>
                    </a:lnTo>
                    <a:lnTo>
                      <a:pt x="119" y="493"/>
                    </a:lnTo>
                    <a:close/>
                    <a:moveTo>
                      <a:pt x="163" y="493"/>
                    </a:moveTo>
                    <a:lnTo>
                      <a:pt x="187" y="493"/>
                    </a:lnTo>
                    <a:lnTo>
                      <a:pt x="187" y="499"/>
                    </a:lnTo>
                    <a:lnTo>
                      <a:pt x="163" y="499"/>
                    </a:lnTo>
                    <a:lnTo>
                      <a:pt x="163" y="493"/>
                    </a:lnTo>
                    <a:close/>
                    <a:moveTo>
                      <a:pt x="206" y="493"/>
                    </a:moveTo>
                    <a:lnTo>
                      <a:pt x="230" y="493"/>
                    </a:lnTo>
                    <a:lnTo>
                      <a:pt x="230" y="499"/>
                    </a:lnTo>
                    <a:lnTo>
                      <a:pt x="206" y="499"/>
                    </a:lnTo>
                    <a:lnTo>
                      <a:pt x="206" y="493"/>
                    </a:lnTo>
                    <a:close/>
                    <a:moveTo>
                      <a:pt x="249" y="493"/>
                    </a:moveTo>
                    <a:lnTo>
                      <a:pt x="273" y="493"/>
                    </a:lnTo>
                    <a:lnTo>
                      <a:pt x="273" y="499"/>
                    </a:lnTo>
                    <a:lnTo>
                      <a:pt x="249" y="499"/>
                    </a:lnTo>
                    <a:lnTo>
                      <a:pt x="249" y="493"/>
                    </a:lnTo>
                    <a:close/>
                    <a:moveTo>
                      <a:pt x="292" y="493"/>
                    </a:moveTo>
                    <a:lnTo>
                      <a:pt x="316" y="493"/>
                    </a:lnTo>
                    <a:lnTo>
                      <a:pt x="316" y="499"/>
                    </a:lnTo>
                    <a:lnTo>
                      <a:pt x="292" y="499"/>
                    </a:lnTo>
                    <a:lnTo>
                      <a:pt x="292" y="493"/>
                    </a:lnTo>
                    <a:close/>
                    <a:moveTo>
                      <a:pt x="335" y="493"/>
                    </a:moveTo>
                    <a:lnTo>
                      <a:pt x="360" y="493"/>
                    </a:lnTo>
                    <a:lnTo>
                      <a:pt x="360" y="499"/>
                    </a:lnTo>
                    <a:lnTo>
                      <a:pt x="335" y="499"/>
                    </a:lnTo>
                    <a:lnTo>
                      <a:pt x="335" y="493"/>
                    </a:lnTo>
                    <a:close/>
                    <a:moveTo>
                      <a:pt x="378" y="493"/>
                    </a:moveTo>
                    <a:lnTo>
                      <a:pt x="403" y="493"/>
                    </a:lnTo>
                    <a:lnTo>
                      <a:pt x="403" y="499"/>
                    </a:lnTo>
                    <a:lnTo>
                      <a:pt x="378" y="499"/>
                    </a:lnTo>
                    <a:lnTo>
                      <a:pt x="378" y="493"/>
                    </a:lnTo>
                    <a:close/>
                    <a:moveTo>
                      <a:pt x="421" y="493"/>
                    </a:moveTo>
                    <a:lnTo>
                      <a:pt x="446" y="493"/>
                    </a:lnTo>
                    <a:lnTo>
                      <a:pt x="446" y="499"/>
                    </a:lnTo>
                    <a:lnTo>
                      <a:pt x="421" y="499"/>
                    </a:lnTo>
                    <a:lnTo>
                      <a:pt x="421" y="493"/>
                    </a:lnTo>
                    <a:close/>
                    <a:moveTo>
                      <a:pt x="464" y="493"/>
                    </a:moveTo>
                    <a:lnTo>
                      <a:pt x="489" y="493"/>
                    </a:lnTo>
                    <a:lnTo>
                      <a:pt x="489" y="499"/>
                    </a:lnTo>
                    <a:lnTo>
                      <a:pt x="464" y="499"/>
                    </a:lnTo>
                    <a:lnTo>
                      <a:pt x="464" y="493"/>
                    </a:lnTo>
                    <a:close/>
                    <a:moveTo>
                      <a:pt x="507" y="493"/>
                    </a:moveTo>
                    <a:lnTo>
                      <a:pt x="532" y="493"/>
                    </a:lnTo>
                    <a:lnTo>
                      <a:pt x="532" y="499"/>
                    </a:lnTo>
                    <a:lnTo>
                      <a:pt x="507" y="499"/>
                    </a:lnTo>
                    <a:lnTo>
                      <a:pt x="507" y="493"/>
                    </a:lnTo>
                    <a:close/>
                    <a:moveTo>
                      <a:pt x="550" y="493"/>
                    </a:moveTo>
                    <a:lnTo>
                      <a:pt x="575" y="493"/>
                    </a:lnTo>
                    <a:lnTo>
                      <a:pt x="575" y="499"/>
                    </a:lnTo>
                    <a:lnTo>
                      <a:pt x="550" y="499"/>
                    </a:lnTo>
                    <a:lnTo>
                      <a:pt x="550" y="493"/>
                    </a:lnTo>
                    <a:close/>
                    <a:moveTo>
                      <a:pt x="594" y="493"/>
                    </a:moveTo>
                    <a:lnTo>
                      <a:pt x="618" y="493"/>
                    </a:lnTo>
                    <a:lnTo>
                      <a:pt x="618" y="499"/>
                    </a:lnTo>
                    <a:lnTo>
                      <a:pt x="594" y="499"/>
                    </a:lnTo>
                    <a:lnTo>
                      <a:pt x="594" y="493"/>
                    </a:lnTo>
                    <a:close/>
                    <a:moveTo>
                      <a:pt x="637" y="493"/>
                    </a:moveTo>
                    <a:lnTo>
                      <a:pt x="661" y="493"/>
                    </a:lnTo>
                    <a:lnTo>
                      <a:pt x="661" y="499"/>
                    </a:lnTo>
                    <a:lnTo>
                      <a:pt x="637" y="499"/>
                    </a:lnTo>
                    <a:lnTo>
                      <a:pt x="637" y="493"/>
                    </a:lnTo>
                    <a:close/>
                    <a:moveTo>
                      <a:pt x="680" y="493"/>
                    </a:moveTo>
                    <a:lnTo>
                      <a:pt x="704" y="493"/>
                    </a:lnTo>
                    <a:lnTo>
                      <a:pt x="704" y="499"/>
                    </a:lnTo>
                    <a:lnTo>
                      <a:pt x="680" y="499"/>
                    </a:lnTo>
                    <a:lnTo>
                      <a:pt x="680" y="493"/>
                    </a:lnTo>
                    <a:close/>
                    <a:moveTo>
                      <a:pt x="723" y="493"/>
                    </a:moveTo>
                    <a:lnTo>
                      <a:pt x="747" y="493"/>
                    </a:lnTo>
                    <a:lnTo>
                      <a:pt x="747" y="499"/>
                    </a:lnTo>
                    <a:lnTo>
                      <a:pt x="723" y="499"/>
                    </a:lnTo>
                    <a:lnTo>
                      <a:pt x="723" y="493"/>
                    </a:lnTo>
                    <a:close/>
                    <a:moveTo>
                      <a:pt x="766" y="493"/>
                    </a:moveTo>
                    <a:lnTo>
                      <a:pt x="791" y="493"/>
                    </a:lnTo>
                    <a:lnTo>
                      <a:pt x="791" y="499"/>
                    </a:lnTo>
                    <a:lnTo>
                      <a:pt x="766" y="499"/>
                    </a:lnTo>
                    <a:lnTo>
                      <a:pt x="766" y="493"/>
                    </a:lnTo>
                    <a:close/>
                    <a:moveTo>
                      <a:pt x="809" y="493"/>
                    </a:moveTo>
                    <a:lnTo>
                      <a:pt x="834" y="493"/>
                    </a:lnTo>
                    <a:lnTo>
                      <a:pt x="834" y="499"/>
                    </a:lnTo>
                    <a:lnTo>
                      <a:pt x="809" y="499"/>
                    </a:lnTo>
                    <a:lnTo>
                      <a:pt x="809" y="493"/>
                    </a:lnTo>
                    <a:close/>
                    <a:moveTo>
                      <a:pt x="852" y="493"/>
                    </a:moveTo>
                    <a:lnTo>
                      <a:pt x="877" y="493"/>
                    </a:lnTo>
                    <a:lnTo>
                      <a:pt x="877" y="499"/>
                    </a:lnTo>
                    <a:lnTo>
                      <a:pt x="852" y="499"/>
                    </a:lnTo>
                    <a:lnTo>
                      <a:pt x="852" y="493"/>
                    </a:lnTo>
                    <a:close/>
                    <a:moveTo>
                      <a:pt x="895" y="493"/>
                    </a:moveTo>
                    <a:lnTo>
                      <a:pt x="920" y="493"/>
                    </a:lnTo>
                    <a:lnTo>
                      <a:pt x="920" y="499"/>
                    </a:lnTo>
                    <a:lnTo>
                      <a:pt x="895" y="499"/>
                    </a:lnTo>
                    <a:lnTo>
                      <a:pt x="895" y="493"/>
                    </a:lnTo>
                    <a:close/>
                    <a:moveTo>
                      <a:pt x="938" y="493"/>
                    </a:moveTo>
                    <a:lnTo>
                      <a:pt x="944" y="493"/>
                    </a:lnTo>
                    <a:lnTo>
                      <a:pt x="942" y="496"/>
                    </a:lnTo>
                    <a:lnTo>
                      <a:pt x="942" y="477"/>
                    </a:lnTo>
                    <a:lnTo>
                      <a:pt x="948" y="477"/>
                    </a:lnTo>
                    <a:lnTo>
                      <a:pt x="948" y="499"/>
                    </a:lnTo>
                    <a:lnTo>
                      <a:pt x="938" y="499"/>
                    </a:lnTo>
                    <a:lnTo>
                      <a:pt x="938" y="493"/>
                    </a:lnTo>
                    <a:close/>
                    <a:moveTo>
                      <a:pt x="942" y="459"/>
                    </a:moveTo>
                    <a:lnTo>
                      <a:pt x="942" y="434"/>
                    </a:lnTo>
                    <a:lnTo>
                      <a:pt x="948" y="434"/>
                    </a:lnTo>
                    <a:lnTo>
                      <a:pt x="948" y="459"/>
                    </a:lnTo>
                    <a:lnTo>
                      <a:pt x="942" y="459"/>
                    </a:lnTo>
                    <a:close/>
                    <a:moveTo>
                      <a:pt x="942" y="416"/>
                    </a:moveTo>
                    <a:lnTo>
                      <a:pt x="942" y="391"/>
                    </a:lnTo>
                    <a:lnTo>
                      <a:pt x="948" y="391"/>
                    </a:lnTo>
                    <a:lnTo>
                      <a:pt x="948" y="416"/>
                    </a:lnTo>
                    <a:lnTo>
                      <a:pt x="942" y="416"/>
                    </a:lnTo>
                    <a:close/>
                    <a:moveTo>
                      <a:pt x="942" y="373"/>
                    </a:moveTo>
                    <a:lnTo>
                      <a:pt x="942" y="348"/>
                    </a:lnTo>
                    <a:lnTo>
                      <a:pt x="948" y="348"/>
                    </a:lnTo>
                    <a:lnTo>
                      <a:pt x="948" y="373"/>
                    </a:lnTo>
                    <a:lnTo>
                      <a:pt x="942" y="373"/>
                    </a:lnTo>
                    <a:close/>
                    <a:moveTo>
                      <a:pt x="942" y="329"/>
                    </a:moveTo>
                    <a:lnTo>
                      <a:pt x="942" y="305"/>
                    </a:lnTo>
                    <a:lnTo>
                      <a:pt x="948" y="305"/>
                    </a:lnTo>
                    <a:lnTo>
                      <a:pt x="948" y="329"/>
                    </a:lnTo>
                    <a:lnTo>
                      <a:pt x="942" y="329"/>
                    </a:lnTo>
                    <a:close/>
                    <a:moveTo>
                      <a:pt x="942" y="286"/>
                    </a:moveTo>
                    <a:lnTo>
                      <a:pt x="942" y="262"/>
                    </a:lnTo>
                    <a:lnTo>
                      <a:pt x="948" y="262"/>
                    </a:lnTo>
                    <a:lnTo>
                      <a:pt x="948" y="286"/>
                    </a:lnTo>
                    <a:lnTo>
                      <a:pt x="942" y="286"/>
                    </a:lnTo>
                    <a:close/>
                    <a:moveTo>
                      <a:pt x="942" y="243"/>
                    </a:moveTo>
                    <a:lnTo>
                      <a:pt x="942" y="219"/>
                    </a:lnTo>
                    <a:lnTo>
                      <a:pt x="948" y="219"/>
                    </a:lnTo>
                    <a:lnTo>
                      <a:pt x="948" y="243"/>
                    </a:lnTo>
                    <a:lnTo>
                      <a:pt x="942" y="243"/>
                    </a:lnTo>
                    <a:close/>
                    <a:moveTo>
                      <a:pt x="942" y="200"/>
                    </a:moveTo>
                    <a:lnTo>
                      <a:pt x="942" y="175"/>
                    </a:lnTo>
                    <a:lnTo>
                      <a:pt x="948" y="175"/>
                    </a:lnTo>
                    <a:lnTo>
                      <a:pt x="948" y="200"/>
                    </a:lnTo>
                    <a:lnTo>
                      <a:pt x="942" y="200"/>
                    </a:lnTo>
                    <a:close/>
                    <a:moveTo>
                      <a:pt x="942" y="157"/>
                    </a:moveTo>
                    <a:lnTo>
                      <a:pt x="942" y="132"/>
                    </a:lnTo>
                    <a:lnTo>
                      <a:pt x="948" y="132"/>
                    </a:lnTo>
                    <a:lnTo>
                      <a:pt x="948" y="157"/>
                    </a:lnTo>
                    <a:lnTo>
                      <a:pt x="942" y="157"/>
                    </a:lnTo>
                    <a:close/>
                    <a:moveTo>
                      <a:pt x="942" y="114"/>
                    </a:moveTo>
                    <a:lnTo>
                      <a:pt x="942" y="89"/>
                    </a:lnTo>
                    <a:lnTo>
                      <a:pt x="948" y="89"/>
                    </a:lnTo>
                    <a:lnTo>
                      <a:pt x="948" y="114"/>
                    </a:lnTo>
                    <a:lnTo>
                      <a:pt x="942" y="114"/>
                    </a:lnTo>
                    <a:close/>
                    <a:moveTo>
                      <a:pt x="942" y="71"/>
                    </a:moveTo>
                    <a:lnTo>
                      <a:pt x="942" y="46"/>
                    </a:lnTo>
                    <a:lnTo>
                      <a:pt x="948" y="46"/>
                    </a:lnTo>
                    <a:lnTo>
                      <a:pt x="948" y="71"/>
                    </a:lnTo>
                    <a:lnTo>
                      <a:pt x="942" y="71"/>
                    </a:lnTo>
                    <a:close/>
                    <a:moveTo>
                      <a:pt x="942" y="28"/>
                    </a:moveTo>
                    <a:lnTo>
                      <a:pt x="942" y="3"/>
                    </a:lnTo>
                    <a:lnTo>
                      <a:pt x="948" y="3"/>
                    </a:lnTo>
                    <a:lnTo>
                      <a:pt x="948" y="28"/>
                    </a:lnTo>
                    <a:lnTo>
                      <a:pt x="94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819920" y="4278240"/>
                <a:ext cx="788760" cy="726840"/>
                <a:chOff x="7819920" y="4278240"/>
                <a:chExt cx="788760" cy="72684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8165520" y="4972320"/>
                  <a:ext cx="529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287200" y="4972320"/>
                  <a:ext cx="5436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>
                  <a:off x="8228880" y="4309560"/>
                  <a:ext cx="54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8106480" y="4309560"/>
                  <a:ext cx="514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8093880" y="4280760"/>
                  <a:ext cx="239760" cy="95760"/>
                  <a:chOff x="8093880" y="4280760"/>
                  <a:chExt cx="239760" cy="9576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8093880" y="4280760"/>
                    <a:ext cx="239760" cy="9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8093880" y="4280760"/>
                    <a:ext cx="239760" cy="957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8093880" y="4905360"/>
                  <a:ext cx="239760" cy="96840"/>
                  <a:chOff x="8093880" y="4905360"/>
                  <a:chExt cx="239760" cy="9684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>
                    <a:off x="8093880" y="4905360"/>
                    <a:ext cx="239760" cy="9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8093880" y="4905360"/>
                    <a:ext cx="239760" cy="968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0" name=""/>
                <p:cNvGrpSpPr/>
                <p:nvPr/>
              </p:nvGrpSpPr>
              <p:grpSpPr>
                <a:xfrm>
                  <a:off x="8212680" y="4405320"/>
                  <a:ext cx="111240" cy="38160"/>
                  <a:chOff x="8212680" y="4405320"/>
                  <a:chExt cx="111240" cy="3816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8258400" y="4405320"/>
                    <a:ext cx="6552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8212680" y="4418640"/>
                    <a:ext cx="41400" cy="8280"/>
                    <a:chOff x="8212680" y="4418640"/>
                    <a:chExt cx="41400" cy="828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8212680" y="4418640"/>
                      <a:ext cx="41400" cy="82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8212680" y="4418640"/>
                      <a:ext cx="41400" cy="82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8212680" y="4835520"/>
                  <a:ext cx="111240" cy="38160"/>
                  <a:chOff x="8212680" y="4835520"/>
                  <a:chExt cx="111240" cy="381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8258400" y="4835520"/>
                    <a:ext cx="6552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8212680" y="4848840"/>
                    <a:ext cx="41400" cy="10800"/>
                    <a:chOff x="8212680" y="4848840"/>
                    <a:chExt cx="41400" cy="1080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8212680" y="4848840"/>
                      <a:ext cx="41400" cy="10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8212680" y="4848840"/>
                      <a:ext cx="41400" cy="1080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8129520" y="4395600"/>
                  <a:ext cx="2880" cy="27360"/>
                  <a:chOff x="8129520" y="4395600"/>
                  <a:chExt cx="2880" cy="2736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8129520" y="4395600"/>
                    <a:ext cx="2880" cy="27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8129520" y="4395600"/>
                    <a:ext cx="2880" cy="27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8131320" y="4858920"/>
                  <a:ext cx="2880" cy="27000"/>
                  <a:chOff x="8131320" y="4858920"/>
                  <a:chExt cx="2880" cy="270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8131320" y="4858920"/>
                    <a:ext cx="288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8131320" y="4858920"/>
                    <a:ext cx="2880" cy="27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8370720" y="4906440"/>
                  <a:ext cx="237960" cy="98640"/>
                  <a:chOff x="8370720" y="4906440"/>
                  <a:chExt cx="237960" cy="9864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8370720" y="4906440"/>
                    <a:ext cx="237960" cy="98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8370720" y="4906440"/>
                    <a:ext cx="237960" cy="986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8370720" y="4279680"/>
                  <a:ext cx="237960" cy="95400"/>
                  <a:chOff x="8370720" y="4279680"/>
                  <a:chExt cx="237960" cy="9540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8370720" y="4279680"/>
                    <a:ext cx="237960" cy="95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8370720" y="4279680"/>
                    <a:ext cx="237960" cy="954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8489880" y="4404240"/>
                  <a:ext cx="111240" cy="38160"/>
                  <a:chOff x="8489880" y="4404240"/>
                  <a:chExt cx="111240" cy="3816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8535600" y="4404240"/>
                    <a:ext cx="6552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8489880" y="4417560"/>
                    <a:ext cx="41400" cy="8280"/>
                    <a:chOff x="8489880" y="4417560"/>
                    <a:chExt cx="41400" cy="828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8489880" y="4417560"/>
                      <a:ext cx="41400" cy="82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8489880" y="4417560"/>
                      <a:ext cx="41400" cy="82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8485560" y="4838400"/>
                  <a:ext cx="111240" cy="38160"/>
                  <a:chOff x="8485560" y="4838400"/>
                  <a:chExt cx="111240" cy="381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8531280" y="4838400"/>
                    <a:ext cx="6552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8485560" y="4853160"/>
                    <a:ext cx="41040" cy="8280"/>
                    <a:chOff x="8485560" y="4853160"/>
                    <a:chExt cx="41040" cy="828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8485560" y="4853160"/>
                      <a:ext cx="41040" cy="82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8485560" y="4853160"/>
                      <a:ext cx="41040" cy="82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7819920" y="4906440"/>
                  <a:ext cx="237960" cy="96840"/>
                  <a:chOff x="7819920" y="4906440"/>
                  <a:chExt cx="237960" cy="9684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>
                    <a:off x="7819920" y="4906440"/>
                    <a:ext cx="237960" cy="9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7819920" y="4906440"/>
                    <a:ext cx="237960" cy="968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7819920" y="4278240"/>
                  <a:ext cx="237960" cy="95760"/>
                  <a:chOff x="7819920" y="4278240"/>
                  <a:chExt cx="237960" cy="957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7819920" y="4278240"/>
                    <a:ext cx="237960" cy="9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7819920" y="4278240"/>
                    <a:ext cx="237960" cy="957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7938720" y="4402800"/>
                  <a:ext cx="111240" cy="38160"/>
                  <a:chOff x="7938720" y="4402800"/>
                  <a:chExt cx="111240" cy="3816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7983000" y="4402800"/>
                    <a:ext cx="6696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7938720" y="4416120"/>
                    <a:ext cx="39960" cy="7920"/>
                    <a:chOff x="7938720" y="4416120"/>
                    <a:chExt cx="39960" cy="7920"/>
                  </a:xfrm>
                </p:grpSpPr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7938720" y="4416120"/>
                      <a:ext cx="3996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7938720" y="4416120"/>
                      <a:ext cx="3996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7934760" y="4836600"/>
                  <a:ext cx="109800" cy="38160"/>
                  <a:chOff x="7934760" y="4836600"/>
                  <a:chExt cx="109800" cy="3816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7979040" y="4836600"/>
                    <a:ext cx="6552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7934760" y="4851360"/>
                    <a:ext cx="39960" cy="7920"/>
                    <a:chOff x="7934760" y="4851360"/>
                    <a:chExt cx="39960" cy="792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7934760" y="4851360"/>
                      <a:ext cx="3996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7934760" y="4851360"/>
                      <a:ext cx="3996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78" name=""/>
                <p:cNvSpPr/>
                <p:nvPr/>
              </p:nvSpPr>
              <p:spPr>
                <a:xfrm>
                  <a:off x="8168400" y="4642200"/>
                  <a:ext cx="10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6200000">
                  <a:off x="8173080" y="4654080"/>
                  <a:ext cx="691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16200000">
                  <a:off x="8179920" y="4561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1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161200" y="4549320"/>
                  <a:ext cx="114840" cy="18720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125200" y="4423320"/>
                  <a:ext cx="120600" cy="121680"/>
                </a:xfrm>
                <a:custGeom>
                  <a:avLst/>
                  <a:gdLst/>
                  <a:ahLst/>
                  <a:rect l="l" t="t" r="r" b="b"/>
                  <a:pathLst>
                    <a:path w="342" h="358">
                      <a:moveTo>
                        <a:pt x="317" y="346"/>
                      </a:moveTo>
                      <a:lnTo>
                        <a:pt x="317" y="346"/>
                      </a:lnTo>
                      <a:cubicBezTo>
                        <a:pt x="317" y="339"/>
                        <a:pt x="323" y="333"/>
                        <a:pt x="329" y="333"/>
                      </a:cubicBezTo>
                      <a:cubicBezTo>
                        <a:pt x="336" y="333"/>
                        <a:pt x="342" y="339"/>
                        <a:pt x="342" y="346"/>
                      </a:cubicBezTo>
                      <a:lnTo>
                        <a:pt x="342" y="346"/>
                      </a:lnTo>
                      <a:cubicBezTo>
                        <a:pt x="342" y="353"/>
                        <a:pt x="336" y="358"/>
                        <a:pt x="329" y="358"/>
                      </a:cubicBezTo>
                      <a:cubicBezTo>
                        <a:pt x="323" y="358"/>
                        <a:pt x="317" y="353"/>
                        <a:pt x="317" y="346"/>
                      </a:cubicBezTo>
                      <a:close/>
                      <a:moveTo>
                        <a:pt x="317" y="296"/>
                      </a:moveTo>
                      <a:lnTo>
                        <a:pt x="317" y="296"/>
                      </a:lnTo>
                      <a:cubicBezTo>
                        <a:pt x="317" y="289"/>
                        <a:pt x="323" y="283"/>
                        <a:pt x="329" y="283"/>
                      </a:cubicBezTo>
                      <a:cubicBezTo>
                        <a:pt x="336" y="283"/>
                        <a:pt x="342" y="289"/>
                        <a:pt x="342" y="296"/>
                      </a:cubicBezTo>
                      <a:lnTo>
                        <a:pt x="342" y="296"/>
                      </a:lnTo>
                      <a:cubicBezTo>
                        <a:pt x="342" y="303"/>
                        <a:pt x="336" y="308"/>
                        <a:pt x="329" y="308"/>
                      </a:cubicBezTo>
                      <a:cubicBezTo>
                        <a:pt x="323" y="308"/>
                        <a:pt x="317" y="303"/>
                        <a:pt x="317" y="296"/>
                      </a:cubicBezTo>
                      <a:close/>
                      <a:moveTo>
                        <a:pt x="317" y="246"/>
                      </a:moveTo>
                      <a:lnTo>
                        <a:pt x="317" y="246"/>
                      </a:lnTo>
                      <a:cubicBezTo>
                        <a:pt x="317" y="239"/>
                        <a:pt x="323" y="233"/>
                        <a:pt x="329" y="233"/>
                      </a:cubicBezTo>
                      <a:cubicBezTo>
                        <a:pt x="336" y="233"/>
                        <a:pt x="342" y="239"/>
                        <a:pt x="342" y="246"/>
                      </a:cubicBezTo>
                      <a:lnTo>
                        <a:pt x="342" y="246"/>
                      </a:lnTo>
                      <a:cubicBezTo>
                        <a:pt x="342" y="253"/>
                        <a:pt x="336" y="258"/>
                        <a:pt x="329" y="258"/>
                      </a:cubicBezTo>
                      <a:cubicBezTo>
                        <a:pt x="323" y="258"/>
                        <a:pt x="317" y="253"/>
                        <a:pt x="317" y="246"/>
                      </a:cubicBezTo>
                      <a:close/>
                      <a:moveTo>
                        <a:pt x="321" y="217"/>
                      </a:moveTo>
                      <a:lnTo>
                        <a:pt x="321" y="217"/>
                      </a:lnTo>
                      <a:cubicBezTo>
                        <a:pt x="314" y="217"/>
                        <a:pt x="309" y="211"/>
                        <a:pt x="309" y="204"/>
                      </a:cubicBezTo>
                      <a:cubicBezTo>
                        <a:pt x="309" y="197"/>
                        <a:pt x="314" y="192"/>
                        <a:pt x="321" y="192"/>
                      </a:cubicBezTo>
                      <a:lnTo>
                        <a:pt x="321" y="192"/>
                      </a:lnTo>
                      <a:cubicBezTo>
                        <a:pt x="328" y="192"/>
                        <a:pt x="334" y="197"/>
                        <a:pt x="334" y="204"/>
                      </a:cubicBezTo>
                      <a:cubicBezTo>
                        <a:pt x="334" y="211"/>
                        <a:pt x="328" y="217"/>
                        <a:pt x="321" y="217"/>
                      </a:cubicBezTo>
                      <a:close/>
                      <a:moveTo>
                        <a:pt x="271" y="217"/>
                      </a:moveTo>
                      <a:lnTo>
                        <a:pt x="271" y="217"/>
                      </a:lnTo>
                      <a:cubicBezTo>
                        <a:pt x="264" y="217"/>
                        <a:pt x="259" y="211"/>
                        <a:pt x="259" y="204"/>
                      </a:cubicBezTo>
                      <a:cubicBezTo>
                        <a:pt x="259" y="197"/>
                        <a:pt x="264" y="192"/>
                        <a:pt x="271" y="192"/>
                      </a:cubicBezTo>
                      <a:lnTo>
                        <a:pt x="271" y="192"/>
                      </a:lnTo>
                      <a:cubicBezTo>
                        <a:pt x="278" y="192"/>
                        <a:pt x="284" y="197"/>
                        <a:pt x="284" y="204"/>
                      </a:cubicBezTo>
                      <a:cubicBezTo>
                        <a:pt x="284" y="211"/>
                        <a:pt x="278" y="217"/>
                        <a:pt x="271" y="217"/>
                      </a:cubicBezTo>
                      <a:close/>
                      <a:moveTo>
                        <a:pt x="221" y="217"/>
                      </a:moveTo>
                      <a:lnTo>
                        <a:pt x="221" y="217"/>
                      </a:lnTo>
                      <a:cubicBezTo>
                        <a:pt x="214" y="217"/>
                        <a:pt x="208" y="211"/>
                        <a:pt x="208" y="204"/>
                      </a:cubicBezTo>
                      <a:cubicBezTo>
                        <a:pt x="208" y="197"/>
                        <a:pt x="214" y="192"/>
                        <a:pt x="221" y="192"/>
                      </a:cubicBezTo>
                      <a:lnTo>
                        <a:pt x="221" y="192"/>
                      </a:lnTo>
                      <a:cubicBezTo>
                        <a:pt x="228" y="192"/>
                        <a:pt x="234" y="197"/>
                        <a:pt x="234" y="204"/>
                      </a:cubicBezTo>
                      <a:cubicBezTo>
                        <a:pt x="234" y="211"/>
                        <a:pt x="228" y="217"/>
                        <a:pt x="221" y="217"/>
                      </a:cubicBezTo>
                      <a:close/>
                      <a:moveTo>
                        <a:pt x="171" y="217"/>
                      </a:moveTo>
                      <a:lnTo>
                        <a:pt x="171" y="217"/>
                      </a:lnTo>
                      <a:cubicBezTo>
                        <a:pt x="164" y="217"/>
                        <a:pt x="158" y="211"/>
                        <a:pt x="158" y="204"/>
                      </a:cubicBezTo>
                      <a:cubicBezTo>
                        <a:pt x="158" y="197"/>
                        <a:pt x="164" y="192"/>
                        <a:pt x="171" y="192"/>
                      </a:cubicBezTo>
                      <a:lnTo>
                        <a:pt x="171" y="192"/>
                      </a:lnTo>
                      <a:cubicBezTo>
                        <a:pt x="178" y="192"/>
                        <a:pt x="183" y="197"/>
                        <a:pt x="183" y="204"/>
                      </a:cubicBezTo>
                      <a:cubicBezTo>
                        <a:pt x="183" y="211"/>
                        <a:pt x="178" y="217"/>
                        <a:pt x="171" y="217"/>
                      </a:cubicBezTo>
                      <a:close/>
                      <a:moveTo>
                        <a:pt x="121" y="217"/>
                      </a:moveTo>
                      <a:lnTo>
                        <a:pt x="121" y="217"/>
                      </a:lnTo>
                      <a:cubicBezTo>
                        <a:pt x="114" y="217"/>
                        <a:pt x="108" y="211"/>
                        <a:pt x="108" y="204"/>
                      </a:cubicBezTo>
                      <a:cubicBezTo>
                        <a:pt x="108" y="197"/>
                        <a:pt x="114" y="192"/>
                        <a:pt x="121" y="192"/>
                      </a:cubicBezTo>
                      <a:lnTo>
                        <a:pt x="121" y="192"/>
                      </a:lnTo>
                      <a:cubicBezTo>
                        <a:pt x="128" y="192"/>
                        <a:pt x="133" y="197"/>
                        <a:pt x="133" y="204"/>
                      </a:cubicBezTo>
                      <a:cubicBezTo>
                        <a:pt x="133" y="211"/>
                        <a:pt x="128" y="217"/>
                        <a:pt x="121" y="217"/>
                      </a:cubicBezTo>
                      <a:close/>
                      <a:moveTo>
                        <a:pt x="71" y="217"/>
                      </a:moveTo>
                      <a:lnTo>
                        <a:pt x="71" y="217"/>
                      </a:lnTo>
                      <a:cubicBezTo>
                        <a:pt x="64" y="217"/>
                        <a:pt x="58" y="211"/>
                        <a:pt x="58" y="204"/>
                      </a:cubicBezTo>
                      <a:cubicBezTo>
                        <a:pt x="58" y="197"/>
                        <a:pt x="64" y="192"/>
                        <a:pt x="71" y="192"/>
                      </a:cubicBezTo>
                      <a:lnTo>
                        <a:pt x="71" y="192"/>
                      </a:lnTo>
                      <a:cubicBezTo>
                        <a:pt x="78" y="192"/>
                        <a:pt x="83" y="197"/>
                        <a:pt x="83" y="204"/>
                      </a:cubicBezTo>
                      <a:cubicBezTo>
                        <a:pt x="83" y="211"/>
                        <a:pt x="78" y="217"/>
                        <a:pt x="71" y="217"/>
                      </a:cubicBezTo>
                      <a:close/>
                      <a:moveTo>
                        <a:pt x="21" y="217"/>
                      </a:moveTo>
                      <a:lnTo>
                        <a:pt x="21" y="217"/>
                      </a:lnTo>
                      <a:cubicBezTo>
                        <a:pt x="14" y="217"/>
                        <a:pt x="8" y="211"/>
                        <a:pt x="8" y="204"/>
                      </a:cubicBezTo>
                      <a:cubicBezTo>
                        <a:pt x="8" y="197"/>
                        <a:pt x="14" y="192"/>
                        <a:pt x="21" y="192"/>
                      </a:cubicBezTo>
                      <a:lnTo>
                        <a:pt x="21" y="192"/>
                      </a:lnTo>
                      <a:cubicBezTo>
                        <a:pt x="28" y="192"/>
                        <a:pt x="33" y="197"/>
                        <a:pt x="33" y="204"/>
                      </a:cubicBezTo>
                      <a:cubicBezTo>
                        <a:pt x="33" y="211"/>
                        <a:pt x="28" y="217"/>
                        <a:pt x="21" y="217"/>
                      </a:cubicBezTo>
                      <a:close/>
                      <a:moveTo>
                        <a:pt x="0" y="162"/>
                      </a:moveTo>
                      <a:lnTo>
                        <a:pt x="0" y="162"/>
                      </a:lnTo>
                      <a:cubicBezTo>
                        <a:pt x="0" y="155"/>
                        <a:pt x="6" y="150"/>
                        <a:pt x="13" y="150"/>
                      </a:cubicBezTo>
                      <a:cubicBezTo>
                        <a:pt x="20" y="150"/>
                        <a:pt x="25" y="155"/>
                        <a:pt x="25" y="162"/>
                      </a:cubicBezTo>
                      <a:lnTo>
                        <a:pt x="25" y="162"/>
                      </a:lnTo>
                      <a:cubicBezTo>
                        <a:pt x="25" y="169"/>
                        <a:pt x="20" y="175"/>
                        <a:pt x="13" y="175"/>
                      </a:cubicBezTo>
                      <a:cubicBezTo>
                        <a:pt x="6" y="175"/>
                        <a:pt x="0" y="169"/>
                        <a:pt x="0" y="162"/>
                      </a:cubicBezTo>
                      <a:close/>
                      <a:moveTo>
                        <a:pt x="0" y="112"/>
                      </a:moveTo>
                      <a:lnTo>
                        <a:pt x="0" y="112"/>
                      </a:lnTo>
                      <a:cubicBezTo>
                        <a:pt x="0" y="105"/>
                        <a:pt x="6" y="100"/>
                        <a:pt x="13" y="100"/>
                      </a:cubicBezTo>
                      <a:cubicBezTo>
                        <a:pt x="20" y="100"/>
                        <a:pt x="25" y="105"/>
                        <a:pt x="25" y="112"/>
                      </a:cubicBezTo>
                      <a:lnTo>
                        <a:pt x="25" y="112"/>
                      </a:lnTo>
                      <a:cubicBezTo>
                        <a:pt x="25" y="119"/>
                        <a:pt x="20" y="125"/>
                        <a:pt x="13" y="125"/>
                      </a:cubicBezTo>
                      <a:cubicBezTo>
                        <a:pt x="6" y="125"/>
                        <a:pt x="0" y="119"/>
                        <a:pt x="0" y="112"/>
                      </a:cubicBezTo>
                      <a:close/>
                      <a:moveTo>
                        <a:pt x="0" y="62"/>
                      </a:moveTo>
                      <a:lnTo>
                        <a:pt x="0" y="62"/>
                      </a:lnTo>
                      <a:cubicBezTo>
                        <a:pt x="0" y="55"/>
                        <a:pt x="6" y="50"/>
                        <a:pt x="13" y="50"/>
                      </a:cubicBezTo>
                      <a:cubicBezTo>
                        <a:pt x="20" y="50"/>
                        <a:pt x="25" y="55"/>
                        <a:pt x="25" y="62"/>
                      </a:cubicBezTo>
                      <a:lnTo>
                        <a:pt x="25" y="62"/>
                      </a:lnTo>
                      <a:cubicBezTo>
                        <a:pt x="25" y="69"/>
                        <a:pt x="20" y="75"/>
                        <a:pt x="13" y="75"/>
                      </a:cubicBezTo>
                      <a:cubicBezTo>
                        <a:pt x="6" y="75"/>
                        <a:pt x="0" y="69"/>
                        <a:pt x="0" y="62"/>
                      </a:cubicBezTo>
                      <a:close/>
                      <a:moveTo>
                        <a:pt x="0" y="12"/>
                      </a:moveTo>
                      <a:lnTo>
                        <a:pt x="0" y="12"/>
                      </a:lnTo>
                      <a:cubicBezTo>
                        <a:pt x="0" y="5"/>
                        <a:pt x="6" y="0"/>
                        <a:pt x="13" y="0"/>
                      </a:cubicBezTo>
                      <a:cubicBezTo>
                        <a:pt x="20" y="0"/>
                        <a:pt x="25" y="5"/>
                        <a:pt x="25" y="12"/>
                      </a:cubicBezTo>
                      <a:lnTo>
                        <a:pt x="25" y="12"/>
                      </a:lnTo>
                      <a:cubicBezTo>
                        <a:pt x="25" y="19"/>
                        <a:pt x="20" y="25"/>
                        <a:pt x="13" y="25"/>
                      </a:cubicBezTo>
                      <a:cubicBezTo>
                        <a:pt x="6" y="25"/>
                        <a:pt x="0" y="19"/>
                        <a:pt x="0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129520" y="4731480"/>
                  <a:ext cx="114840" cy="109440"/>
                </a:xfrm>
                <a:custGeom>
                  <a:avLst/>
                  <a:gdLst/>
                  <a:ahLst/>
                  <a:rect l="l" t="t" r="r" b="b"/>
                  <a:pathLst>
                    <a:path w="325" h="326">
                      <a:moveTo>
                        <a:pt x="325" y="13"/>
                      </a:moveTo>
                      <a:lnTo>
                        <a:pt x="325" y="13"/>
                      </a:lnTo>
                      <a:cubicBezTo>
                        <a:pt x="325" y="20"/>
                        <a:pt x="319" y="25"/>
                        <a:pt x="312" y="25"/>
                      </a:cubicBezTo>
                      <a:cubicBezTo>
                        <a:pt x="305" y="25"/>
                        <a:pt x="300" y="20"/>
                        <a:pt x="300" y="13"/>
                      </a:cubicBezTo>
                      <a:lnTo>
                        <a:pt x="300" y="13"/>
                      </a:lnTo>
                      <a:cubicBezTo>
                        <a:pt x="300" y="6"/>
                        <a:pt x="305" y="0"/>
                        <a:pt x="312" y="0"/>
                      </a:cubicBezTo>
                      <a:cubicBezTo>
                        <a:pt x="319" y="0"/>
                        <a:pt x="325" y="6"/>
                        <a:pt x="325" y="13"/>
                      </a:cubicBezTo>
                      <a:close/>
                      <a:moveTo>
                        <a:pt x="325" y="63"/>
                      </a:moveTo>
                      <a:lnTo>
                        <a:pt x="325" y="63"/>
                      </a:lnTo>
                      <a:cubicBezTo>
                        <a:pt x="325" y="70"/>
                        <a:pt x="319" y="76"/>
                        <a:pt x="312" y="76"/>
                      </a:cubicBezTo>
                      <a:cubicBezTo>
                        <a:pt x="305" y="76"/>
                        <a:pt x="300" y="70"/>
                        <a:pt x="300" y="63"/>
                      </a:cubicBezTo>
                      <a:lnTo>
                        <a:pt x="300" y="63"/>
                      </a:lnTo>
                      <a:cubicBezTo>
                        <a:pt x="300" y="56"/>
                        <a:pt x="305" y="50"/>
                        <a:pt x="312" y="50"/>
                      </a:cubicBezTo>
                      <a:cubicBezTo>
                        <a:pt x="319" y="50"/>
                        <a:pt x="325" y="56"/>
                        <a:pt x="325" y="63"/>
                      </a:cubicBezTo>
                      <a:close/>
                      <a:moveTo>
                        <a:pt x="325" y="113"/>
                      </a:moveTo>
                      <a:lnTo>
                        <a:pt x="325" y="113"/>
                      </a:lnTo>
                      <a:cubicBezTo>
                        <a:pt x="325" y="120"/>
                        <a:pt x="319" y="126"/>
                        <a:pt x="312" y="126"/>
                      </a:cubicBezTo>
                      <a:cubicBezTo>
                        <a:pt x="305" y="126"/>
                        <a:pt x="300" y="120"/>
                        <a:pt x="300" y="113"/>
                      </a:cubicBezTo>
                      <a:lnTo>
                        <a:pt x="300" y="113"/>
                      </a:lnTo>
                      <a:cubicBezTo>
                        <a:pt x="300" y="106"/>
                        <a:pt x="305" y="101"/>
                        <a:pt x="312" y="101"/>
                      </a:cubicBezTo>
                      <a:cubicBezTo>
                        <a:pt x="319" y="101"/>
                        <a:pt x="325" y="106"/>
                        <a:pt x="325" y="113"/>
                      </a:cubicBezTo>
                      <a:close/>
                      <a:moveTo>
                        <a:pt x="304" y="167"/>
                      </a:moveTo>
                      <a:lnTo>
                        <a:pt x="304" y="167"/>
                      </a:lnTo>
                      <a:cubicBezTo>
                        <a:pt x="297" y="167"/>
                        <a:pt x="291" y="162"/>
                        <a:pt x="291" y="155"/>
                      </a:cubicBezTo>
                      <a:cubicBezTo>
                        <a:pt x="291" y="148"/>
                        <a:pt x="297" y="142"/>
                        <a:pt x="304" y="142"/>
                      </a:cubicBezTo>
                      <a:lnTo>
                        <a:pt x="304" y="142"/>
                      </a:lnTo>
                      <a:cubicBezTo>
                        <a:pt x="311" y="142"/>
                        <a:pt x="316" y="148"/>
                        <a:pt x="316" y="155"/>
                      </a:cubicBezTo>
                      <a:cubicBezTo>
                        <a:pt x="316" y="162"/>
                        <a:pt x="311" y="167"/>
                        <a:pt x="304" y="167"/>
                      </a:cubicBezTo>
                      <a:close/>
                      <a:moveTo>
                        <a:pt x="254" y="167"/>
                      </a:moveTo>
                      <a:lnTo>
                        <a:pt x="254" y="167"/>
                      </a:lnTo>
                      <a:cubicBezTo>
                        <a:pt x="247" y="167"/>
                        <a:pt x="241" y="162"/>
                        <a:pt x="241" y="155"/>
                      </a:cubicBezTo>
                      <a:cubicBezTo>
                        <a:pt x="241" y="148"/>
                        <a:pt x="247" y="142"/>
                        <a:pt x="254" y="142"/>
                      </a:cubicBezTo>
                      <a:lnTo>
                        <a:pt x="254" y="142"/>
                      </a:lnTo>
                      <a:cubicBezTo>
                        <a:pt x="261" y="142"/>
                        <a:pt x="266" y="148"/>
                        <a:pt x="266" y="155"/>
                      </a:cubicBezTo>
                      <a:cubicBezTo>
                        <a:pt x="266" y="162"/>
                        <a:pt x="261" y="167"/>
                        <a:pt x="254" y="167"/>
                      </a:cubicBezTo>
                      <a:close/>
                      <a:moveTo>
                        <a:pt x="204" y="167"/>
                      </a:moveTo>
                      <a:lnTo>
                        <a:pt x="204" y="167"/>
                      </a:lnTo>
                      <a:cubicBezTo>
                        <a:pt x="197" y="167"/>
                        <a:pt x="191" y="162"/>
                        <a:pt x="191" y="155"/>
                      </a:cubicBezTo>
                      <a:cubicBezTo>
                        <a:pt x="191" y="148"/>
                        <a:pt x="197" y="142"/>
                        <a:pt x="204" y="142"/>
                      </a:cubicBezTo>
                      <a:lnTo>
                        <a:pt x="204" y="142"/>
                      </a:lnTo>
                      <a:cubicBezTo>
                        <a:pt x="211" y="142"/>
                        <a:pt x="216" y="148"/>
                        <a:pt x="216" y="155"/>
                      </a:cubicBezTo>
                      <a:cubicBezTo>
                        <a:pt x="216" y="162"/>
                        <a:pt x="211" y="167"/>
                        <a:pt x="204" y="167"/>
                      </a:cubicBezTo>
                      <a:close/>
                      <a:moveTo>
                        <a:pt x="154" y="167"/>
                      </a:moveTo>
                      <a:lnTo>
                        <a:pt x="154" y="167"/>
                      </a:lnTo>
                      <a:cubicBezTo>
                        <a:pt x="147" y="167"/>
                        <a:pt x="141" y="162"/>
                        <a:pt x="141" y="155"/>
                      </a:cubicBezTo>
                      <a:cubicBezTo>
                        <a:pt x="141" y="148"/>
                        <a:pt x="147" y="142"/>
                        <a:pt x="154" y="142"/>
                      </a:cubicBezTo>
                      <a:lnTo>
                        <a:pt x="154" y="142"/>
                      </a:lnTo>
                      <a:cubicBezTo>
                        <a:pt x="161" y="142"/>
                        <a:pt x="166" y="148"/>
                        <a:pt x="166" y="155"/>
                      </a:cubicBezTo>
                      <a:cubicBezTo>
                        <a:pt x="166" y="162"/>
                        <a:pt x="161" y="167"/>
                        <a:pt x="154" y="167"/>
                      </a:cubicBezTo>
                      <a:close/>
                      <a:moveTo>
                        <a:pt x="104" y="167"/>
                      </a:moveTo>
                      <a:lnTo>
                        <a:pt x="104" y="167"/>
                      </a:lnTo>
                      <a:cubicBezTo>
                        <a:pt x="97" y="167"/>
                        <a:pt x="91" y="162"/>
                        <a:pt x="91" y="155"/>
                      </a:cubicBezTo>
                      <a:cubicBezTo>
                        <a:pt x="91" y="148"/>
                        <a:pt x="97" y="142"/>
                        <a:pt x="104" y="142"/>
                      </a:cubicBezTo>
                      <a:lnTo>
                        <a:pt x="104" y="142"/>
                      </a:lnTo>
                      <a:cubicBezTo>
                        <a:pt x="111" y="142"/>
                        <a:pt x="116" y="148"/>
                        <a:pt x="116" y="155"/>
                      </a:cubicBezTo>
                      <a:cubicBezTo>
                        <a:pt x="116" y="162"/>
                        <a:pt x="111" y="167"/>
                        <a:pt x="104" y="167"/>
                      </a:cubicBezTo>
                      <a:close/>
                      <a:moveTo>
                        <a:pt x="54" y="167"/>
                      </a:moveTo>
                      <a:lnTo>
                        <a:pt x="54" y="167"/>
                      </a:lnTo>
                      <a:cubicBezTo>
                        <a:pt x="47" y="167"/>
                        <a:pt x="41" y="162"/>
                        <a:pt x="41" y="155"/>
                      </a:cubicBezTo>
                      <a:cubicBezTo>
                        <a:pt x="41" y="148"/>
                        <a:pt x="47" y="142"/>
                        <a:pt x="54" y="142"/>
                      </a:cubicBezTo>
                      <a:lnTo>
                        <a:pt x="54" y="142"/>
                      </a:lnTo>
                      <a:cubicBezTo>
                        <a:pt x="61" y="142"/>
                        <a:pt x="66" y="148"/>
                        <a:pt x="66" y="155"/>
                      </a:cubicBezTo>
                      <a:cubicBezTo>
                        <a:pt x="66" y="162"/>
                        <a:pt x="61" y="167"/>
                        <a:pt x="54" y="167"/>
                      </a:cubicBezTo>
                      <a:close/>
                      <a:moveTo>
                        <a:pt x="25" y="163"/>
                      </a:moveTo>
                      <a:lnTo>
                        <a:pt x="25" y="163"/>
                      </a:lnTo>
                      <a:cubicBezTo>
                        <a:pt x="25" y="170"/>
                        <a:pt x="19" y="176"/>
                        <a:pt x="12" y="176"/>
                      </a:cubicBezTo>
                      <a:cubicBezTo>
                        <a:pt x="5" y="176"/>
                        <a:pt x="0" y="170"/>
                        <a:pt x="0" y="163"/>
                      </a:cubicBezTo>
                      <a:lnTo>
                        <a:pt x="0" y="163"/>
                      </a:lnTo>
                      <a:cubicBezTo>
                        <a:pt x="0" y="156"/>
                        <a:pt x="5" y="151"/>
                        <a:pt x="12" y="151"/>
                      </a:cubicBezTo>
                      <a:cubicBezTo>
                        <a:pt x="19" y="151"/>
                        <a:pt x="25" y="156"/>
                        <a:pt x="25" y="163"/>
                      </a:cubicBezTo>
                      <a:close/>
                      <a:moveTo>
                        <a:pt x="25" y="213"/>
                      </a:moveTo>
                      <a:lnTo>
                        <a:pt x="25" y="213"/>
                      </a:lnTo>
                      <a:cubicBezTo>
                        <a:pt x="25" y="220"/>
                        <a:pt x="19" y="226"/>
                        <a:pt x="12" y="226"/>
                      </a:cubicBezTo>
                      <a:cubicBezTo>
                        <a:pt x="5" y="226"/>
                        <a:pt x="0" y="220"/>
                        <a:pt x="0" y="213"/>
                      </a:cubicBezTo>
                      <a:lnTo>
                        <a:pt x="0" y="213"/>
                      </a:lnTo>
                      <a:cubicBezTo>
                        <a:pt x="0" y="206"/>
                        <a:pt x="5" y="201"/>
                        <a:pt x="12" y="201"/>
                      </a:cubicBezTo>
                      <a:cubicBezTo>
                        <a:pt x="19" y="201"/>
                        <a:pt x="25" y="206"/>
                        <a:pt x="25" y="213"/>
                      </a:cubicBezTo>
                      <a:close/>
                      <a:moveTo>
                        <a:pt x="25" y="263"/>
                      </a:moveTo>
                      <a:lnTo>
                        <a:pt x="25" y="263"/>
                      </a:lnTo>
                      <a:cubicBezTo>
                        <a:pt x="25" y="270"/>
                        <a:pt x="19" y="276"/>
                        <a:pt x="12" y="276"/>
                      </a:cubicBezTo>
                      <a:cubicBezTo>
                        <a:pt x="5" y="276"/>
                        <a:pt x="0" y="270"/>
                        <a:pt x="0" y="263"/>
                      </a:cubicBezTo>
                      <a:lnTo>
                        <a:pt x="0" y="263"/>
                      </a:lnTo>
                      <a:cubicBezTo>
                        <a:pt x="0" y="256"/>
                        <a:pt x="5" y="251"/>
                        <a:pt x="12" y="251"/>
                      </a:cubicBezTo>
                      <a:cubicBezTo>
                        <a:pt x="19" y="251"/>
                        <a:pt x="25" y="256"/>
                        <a:pt x="25" y="263"/>
                      </a:cubicBezTo>
                      <a:close/>
                      <a:moveTo>
                        <a:pt x="25" y="313"/>
                      </a:moveTo>
                      <a:lnTo>
                        <a:pt x="25" y="313"/>
                      </a:lnTo>
                      <a:cubicBezTo>
                        <a:pt x="25" y="320"/>
                        <a:pt x="19" y="326"/>
                        <a:pt x="12" y="326"/>
                      </a:cubicBezTo>
                      <a:cubicBezTo>
                        <a:pt x="5" y="326"/>
                        <a:pt x="0" y="320"/>
                        <a:pt x="0" y="313"/>
                      </a:cubicBezTo>
                      <a:lnTo>
                        <a:pt x="0" y="313"/>
                      </a:lnTo>
                      <a:cubicBezTo>
                        <a:pt x="0" y="306"/>
                        <a:pt x="5" y="301"/>
                        <a:pt x="12" y="301"/>
                      </a:cubicBezTo>
                      <a:cubicBezTo>
                        <a:pt x="19" y="301"/>
                        <a:pt x="25" y="306"/>
                        <a:pt x="25" y="31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261640" y="4442400"/>
                  <a:ext cx="321480" cy="98640"/>
                </a:xfrm>
                <a:custGeom>
                  <a:avLst/>
                  <a:gdLst/>
                  <a:ahLst/>
                  <a:rect l="l" t="t" r="r" b="b"/>
                  <a:pathLst>
                    <a:path w="224" h="72">
                      <a:moveTo>
                        <a:pt x="0" y="72"/>
                      </a:moveTo>
                      <a:lnTo>
                        <a:pt x="0" y="37"/>
                      </a:lnTo>
                      <a:lnTo>
                        <a:pt x="224" y="37"/>
                      </a:lnTo>
                      <a:lnTo>
                        <a:pt x="224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260200" y="4735440"/>
                  <a:ext cx="318240" cy="95760"/>
                </a:xfrm>
                <a:custGeom>
                  <a:avLst/>
                  <a:gdLst/>
                  <a:ahLst/>
                  <a:rect l="l" t="t" r="r" b="b"/>
                  <a:pathLst>
                    <a:path w="222" h="70">
                      <a:moveTo>
                        <a:pt x="222" y="70"/>
                      </a:moveTo>
                      <a:lnTo>
                        <a:pt x="222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V="1">
                  <a:off x="8303400" y="4444920"/>
                  <a:ext cx="0" cy="450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303400" y="4784760"/>
                  <a:ext cx="0" cy="475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026560" y="4442400"/>
                  <a:ext cx="147600" cy="101520"/>
                </a:xfrm>
                <a:custGeom>
                  <a:avLst/>
                  <a:gdLst/>
                  <a:ahLst/>
                  <a:rect l="l" t="t" r="r" b="b"/>
                  <a:pathLst>
                    <a:path w="103" h="74">
                      <a:moveTo>
                        <a:pt x="103" y="74"/>
                      </a:moveTo>
                      <a:lnTo>
                        <a:pt x="103" y="57"/>
                      </a:lnTo>
                      <a:lnTo>
                        <a:pt x="0" y="5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027640" y="4735440"/>
                  <a:ext cx="147600" cy="101160"/>
                </a:xfrm>
                <a:custGeom>
                  <a:avLst/>
                  <a:gdLst/>
                  <a:ahLst/>
                  <a:rect l="l" t="t" r="r" b="b"/>
                  <a:pathLst>
                    <a:path w="103" h="74">
                      <a:moveTo>
                        <a:pt x="103" y="0"/>
                      </a:moveTo>
                      <a:lnTo>
                        <a:pt x="103" y="17"/>
                      </a:lnTo>
                      <a:lnTo>
                        <a:pt x="0" y="17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0" name=""/>
              <p:cNvSpPr/>
              <p:nvPr/>
            </p:nvSpPr>
            <p:spPr>
              <a:xfrm>
                <a:off x="6588000" y="4481640"/>
                <a:ext cx="271440" cy="282600"/>
              </a:xfrm>
              <a:custGeom>
                <a:avLst/>
                <a:gdLst/>
                <a:ahLst/>
                <a:rect l="l" t="t" r="r" b="b"/>
                <a:pathLst>
                  <a:path w="189" h="211">
                    <a:moveTo>
                      <a:pt x="181" y="211"/>
                    </a:moveTo>
                    <a:lnTo>
                      <a:pt x="0" y="102"/>
                    </a:lnTo>
                    <a:lnTo>
                      <a:pt x="1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1" name=""/>
          <p:cNvSpPr/>
          <p:nvPr/>
        </p:nvSpPr>
        <p:spPr>
          <a:xfrm>
            <a:off x="179280" y="549360"/>
            <a:ext cx="55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ing document for ECE/TRANS/WP.29/GRRF/2010/11/Rev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regard to paragraph 7.4.1. and its foot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24000" y="1268280"/>
            <a:ext cx="8568720" cy="432000"/>
            <a:chOff x="324000" y="1268280"/>
            <a:chExt cx="8568720" cy="432000"/>
          </a:xfrm>
        </p:grpSpPr>
        <p:sp>
          <p:nvSpPr>
            <p:cNvPr id="993" name=""/>
            <p:cNvSpPr/>
            <p:nvPr/>
          </p:nvSpPr>
          <p:spPr>
            <a:xfrm>
              <a:off x="324000" y="1322280"/>
              <a:ext cx="85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ypical ABS installations showing directly controlled wheels using a minimum number of sensors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4000" y="1268280"/>
              <a:ext cx="8568720" cy="43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3417840" y="5518080"/>
            <a:ext cx="287280" cy="93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627280" y="551664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348000" y="414972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844720" y="414972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05080" y="292428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16360" y="292428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89440" y="177336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093080" y="177336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028000" y="177336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292428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8101080" y="292572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877080" y="414972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8028000" y="4149720"/>
            <a:ext cx="28728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6370560" y="5516640"/>
            <a:ext cx="2449080" cy="1119960"/>
            <a:chOff x="6370560" y="5516640"/>
            <a:chExt cx="2449080" cy="1119960"/>
          </a:xfrm>
        </p:grpSpPr>
        <p:sp>
          <p:nvSpPr>
            <p:cNvPr id="1009" name=""/>
            <p:cNvSpPr/>
            <p:nvPr/>
          </p:nvSpPr>
          <p:spPr>
            <a:xfrm flipH="1">
              <a:off x="6894720" y="6453360"/>
              <a:ext cx="144864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s 2 and 4 shall not be a lifting axle.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xles 3, 4, 5 and 6 may be a steering ax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6370560" y="5648400"/>
              <a:ext cx="2449080" cy="713880"/>
              <a:chOff x="6370560" y="5648400"/>
              <a:chExt cx="2449080" cy="713880"/>
            </a:xfrm>
          </p:grpSpPr>
          <p:sp>
            <p:nvSpPr>
              <p:cNvPr id="1011" name=""/>
              <p:cNvSpPr/>
              <p:nvPr/>
            </p:nvSpPr>
            <p:spPr>
              <a:xfrm>
                <a:off x="6553440" y="5664600"/>
                <a:ext cx="2266200" cy="670680"/>
              </a:xfrm>
              <a:custGeom>
                <a:avLst/>
                <a:gdLst/>
                <a:ahLst/>
                <a:rect l="l" t="t" r="r" b="b"/>
                <a:pathLst>
                  <a:path w="936" h="493">
                    <a:moveTo>
                      <a:pt x="933" y="6"/>
                    </a:moveTo>
                    <a:lnTo>
                      <a:pt x="908" y="6"/>
                    </a:lnTo>
                    <a:lnTo>
                      <a:pt x="908" y="0"/>
                    </a:lnTo>
                    <a:lnTo>
                      <a:pt x="933" y="0"/>
                    </a:lnTo>
                    <a:lnTo>
                      <a:pt x="933" y="6"/>
                    </a:lnTo>
                    <a:close/>
                    <a:moveTo>
                      <a:pt x="890" y="6"/>
                    </a:moveTo>
                    <a:lnTo>
                      <a:pt x="866" y="6"/>
                    </a:lnTo>
                    <a:lnTo>
                      <a:pt x="866" y="0"/>
                    </a:lnTo>
                    <a:lnTo>
                      <a:pt x="890" y="0"/>
                    </a:lnTo>
                    <a:lnTo>
                      <a:pt x="890" y="6"/>
                    </a:lnTo>
                    <a:close/>
                    <a:moveTo>
                      <a:pt x="848" y="6"/>
                    </a:moveTo>
                    <a:lnTo>
                      <a:pt x="823" y="6"/>
                    </a:lnTo>
                    <a:lnTo>
                      <a:pt x="823" y="0"/>
                    </a:lnTo>
                    <a:lnTo>
                      <a:pt x="848" y="0"/>
                    </a:lnTo>
                    <a:lnTo>
                      <a:pt x="848" y="6"/>
                    </a:lnTo>
                    <a:close/>
                    <a:moveTo>
                      <a:pt x="805" y="6"/>
                    </a:moveTo>
                    <a:lnTo>
                      <a:pt x="781" y="6"/>
                    </a:lnTo>
                    <a:lnTo>
                      <a:pt x="781" y="0"/>
                    </a:lnTo>
                    <a:lnTo>
                      <a:pt x="805" y="0"/>
                    </a:lnTo>
                    <a:lnTo>
                      <a:pt x="805" y="6"/>
                    </a:lnTo>
                    <a:close/>
                    <a:moveTo>
                      <a:pt x="763" y="6"/>
                    </a:moveTo>
                    <a:lnTo>
                      <a:pt x="738" y="6"/>
                    </a:lnTo>
                    <a:lnTo>
                      <a:pt x="738" y="0"/>
                    </a:lnTo>
                    <a:lnTo>
                      <a:pt x="763" y="0"/>
                    </a:lnTo>
                    <a:lnTo>
                      <a:pt x="763" y="6"/>
                    </a:lnTo>
                    <a:close/>
                    <a:moveTo>
                      <a:pt x="720" y="6"/>
                    </a:moveTo>
                    <a:lnTo>
                      <a:pt x="696" y="6"/>
                    </a:lnTo>
                    <a:lnTo>
                      <a:pt x="696" y="0"/>
                    </a:lnTo>
                    <a:lnTo>
                      <a:pt x="720" y="0"/>
                    </a:lnTo>
                    <a:lnTo>
                      <a:pt x="720" y="6"/>
                    </a:lnTo>
                    <a:close/>
                    <a:moveTo>
                      <a:pt x="678" y="6"/>
                    </a:moveTo>
                    <a:lnTo>
                      <a:pt x="653" y="6"/>
                    </a:lnTo>
                    <a:lnTo>
                      <a:pt x="653" y="0"/>
                    </a:lnTo>
                    <a:lnTo>
                      <a:pt x="678" y="0"/>
                    </a:lnTo>
                    <a:lnTo>
                      <a:pt x="678" y="6"/>
                    </a:lnTo>
                    <a:close/>
                    <a:moveTo>
                      <a:pt x="635" y="6"/>
                    </a:moveTo>
                    <a:lnTo>
                      <a:pt x="611" y="6"/>
                    </a:lnTo>
                    <a:lnTo>
                      <a:pt x="611" y="0"/>
                    </a:lnTo>
                    <a:lnTo>
                      <a:pt x="635" y="0"/>
                    </a:lnTo>
                    <a:lnTo>
                      <a:pt x="635" y="6"/>
                    </a:lnTo>
                    <a:close/>
                    <a:moveTo>
                      <a:pt x="592" y="6"/>
                    </a:moveTo>
                    <a:lnTo>
                      <a:pt x="568" y="6"/>
                    </a:lnTo>
                    <a:lnTo>
                      <a:pt x="568" y="0"/>
                    </a:lnTo>
                    <a:lnTo>
                      <a:pt x="592" y="0"/>
                    </a:lnTo>
                    <a:lnTo>
                      <a:pt x="592" y="6"/>
                    </a:lnTo>
                    <a:close/>
                    <a:moveTo>
                      <a:pt x="550" y="6"/>
                    </a:moveTo>
                    <a:lnTo>
                      <a:pt x="526" y="6"/>
                    </a:lnTo>
                    <a:lnTo>
                      <a:pt x="526" y="0"/>
                    </a:lnTo>
                    <a:lnTo>
                      <a:pt x="550" y="0"/>
                    </a:lnTo>
                    <a:lnTo>
                      <a:pt x="550" y="6"/>
                    </a:lnTo>
                    <a:close/>
                    <a:moveTo>
                      <a:pt x="507" y="6"/>
                    </a:moveTo>
                    <a:lnTo>
                      <a:pt x="483" y="6"/>
                    </a:lnTo>
                    <a:lnTo>
                      <a:pt x="483" y="0"/>
                    </a:lnTo>
                    <a:lnTo>
                      <a:pt x="507" y="0"/>
                    </a:lnTo>
                    <a:lnTo>
                      <a:pt x="507" y="6"/>
                    </a:lnTo>
                    <a:close/>
                    <a:moveTo>
                      <a:pt x="465" y="6"/>
                    </a:moveTo>
                    <a:lnTo>
                      <a:pt x="441" y="6"/>
                    </a:lnTo>
                    <a:lnTo>
                      <a:pt x="441" y="0"/>
                    </a:lnTo>
                    <a:lnTo>
                      <a:pt x="465" y="0"/>
                    </a:lnTo>
                    <a:lnTo>
                      <a:pt x="465" y="6"/>
                    </a:lnTo>
                    <a:close/>
                    <a:moveTo>
                      <a:pt x="422" y="6"/>
                    </a:moveTo>
                    <a:lnTo>
                      <a:pt x="398" y="6"/>
                    </a:lnTo>
                    <a:lnTo>
                      <a:pt x="398" y="0"/>
                    </a:lnTo>
                    <a:lnTo>
                      <a:pt x="422" y="0"/>
                    </a:lnTo>
                    <a:lnTo>
                      <a:pt x="422" y="6"/>
                    </a:lnTo>
                    <a:close/>
                    <a:moveTo>
                      <a:pt x="380" y="6"/>
                    </a:moveTo>
                    <a:lnTo>
                      <a:pt x="355" y="6"/>
                    </a:lnTo>
                    <a:lnTo>
                      <a:pt x="355" y="0"/>
                    </a:lnTo>
                    <a:lnTo>
                      <a:pt x="380" y="0"/>
                    </a:lnTo>
                    <a:lnTo>
                      <a:pt x="380" y="6"/>
                    </a:lnTo>
                    <a:close/>
                    <a:moveTo>
                      <a:pt x="337" y="6"/>
                    </a:moveTo>
                    <a:lnTo>
                      <a:pt x="313" y="6"/>
                    </a:lnTo>
                    <a:lnTo>
                      <a:pt x="313" y="0"/>
                    </a:lnTo>
                    <a:lnTo>
                      <a:pt x="337" y="0"/>
                    </a:lnTo>
                    <a:lnTo>
                      <a:pt x="337" y="6"/>
                    </a:lnTo>
                    <a:close/>
                    <a:moveTo>
                      <a:pt x="295" y="6"/>
                    </a:moveTo>
                    <a:lnTo>
                      <a:pt x="270" y="6"/>
                    </a:lnTo>
                    <a:lnTo>
                      <a:pt x="270" y="0"/>
                    </a:lnTo>
                    <a:lnTo>
                      <a:pt x="295" y="0"/>
                    </a:lnTo>
                    <a:lnTo>
                      <a:pt x="295" y="6"/>
                    </a:lnTo>
                    <a:close/>
                    <a:moveTo>
                      <a:pt x="252" y="6"/>
                    </a:moveTo>
                    <a:lnTo>
                      <a:pt x="228" y="6"/>
                    </a:lnTo>
                    <a:lnTo>
                      <a:pt x="228" y="0"/>
                    </a:lnTo>
                    <a:lnTo>
                      <a:pt x="252" y="0"/>
                    </a:lnTo>
                    <a:lnTo>
                      <a:pt x="252" y="6"/>
                    </a:lnTo>
                    <a:close/>
                    <a:moveTo>
                      <a:pt x="210" y="6"/>
                    </a:moveTo>
                    <a:lnTo>
                      <a:pt x="185" y="6"/>
                    </a:lnTo>
                    <a:lnTo>
                      <a:pt x="185" y="0"/>
                    </a:lnTo>
                    <a:lnTo>
                      <a:pt x="210" y="0"/>
                    </a:lnTo>
                    <a:lnTo>
                      <a:pt x="210" y="6"/>
                    </a:lnTo>
                    <a:close/>
                    <a:moveTo>
                      <a:pt x="167" y="6"/>
                    </a:moveTo>
                    <a:lnTo>
                      <a:pt x="143" y="6"/>
                    </a:lnTo>
                    <a:lnTo>
                      <a:pt x="143" y="0"/>
                    </a:lnTo>
                    <a:lnTo>
                      <a:pt x="167" y="0"/>
                    </a:lnTo>
                    <a:lnTo>
                      <a:pt x="167" y="6"/>
                    </a:lnTo>
                    <a:close/>
                    <a:moveTo>
                      <a:pt x="125" y="6"/>
                    </a:moveTo>
                    <a:lnTo>
                      <a:pt x="100" y="6"/>
                    </a:lnTo>
                    <a:lnTo>
                      <a:pt x="100" y="0"/>
                    </a:lnTo>
                    <a:lnTo>
                      <a:pt x="125" y="0"/>
                    </a:lnTo>
                    <a:lnTo>
                      <a:pt x="125" y="6"/>
                    </a:lnTo>
                    <a:close/>
                    <a:moveTo>
                      <a:pt x="82" y="6"/>
                    </a:moveTo>
                    <a:lnTo>
                      <a:pt x="58" y="6"/>
                    </a:lnTo>
                    <a:lnTo>
                      <a:pt x="58" y="0"/>
                    </a:lnTo>
                    <a:lnTo>
                      <a:pt x="82" y="0"/>
                    </a:lnTo>
                    <a:lnTo>
                      <a:pt x="82" y="6"/>
                    </a:lnTo>
                    <a:close/>
                    <a:moveTo>
                      <a:pt x="40" y="6"/>
                    </a:moveTo>
                    <a:lnTo>
                      <a:pt x="15" y="6"/>
                    </a:lnTo>
                    <a:lnTo>
                      <a:pt x="15" y="0"/>
                    </a:lnTo>
                    <a:lnTo>
                      <a:pt x="40" y="0"/>
                    </a:lnTo>
                    <a:lnTo>
                      <a:pt x="40" y="6"/>
                    </a:lnTo>
                    <a:close/>
                    <a:moveTo>
                      <a:pt x="6" y="9"/>
                    </a:moveTo>
                    <a:lnTo>
                      <a:pt x="6" y="33"/>
                    </a:lnTo>
                    <a:lnTo>
                      <a:pt x="0" y="33"/>
                    </a:lnTo>
                    <a:lnTo>
                      <a:pt x="0" y="9"/>
                    </a:lnTo>
                    <a:lnTo>
                      <a:pt x="6" y="9"/>
                    </a:lnTo>
                    <a:close/>
                    <a:moveTo>
                      <a:pt x="6" y="52"/>
                    </a:moveTo>
                    <a:lnTo>
                      <a:pt x="6" y="76"/>
                    </a:lnTo>
                    <a:lnTo>
                      <a:pt x="0" y="76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  <a:moveTo>
                      <a:pt x="6" y="94"/>
                    </a:moveTo>
                    <a:lnTo>
                      <a:pt x="6" y="119"/>
                    </a:lnTo>
                    <a:lnTo>
                      <a:pt x="0" y="119"/>
                    </a:lnTo>
                    <a:lnTo>
                      <a:pt x="0" y="94"/>
                    </a:lnTo>
                    <a:lnTo>
                      <a:pt x="6" y="94"/>
                    </a:lnTo>
                    <a:close/>
                    <a:moveTo>
                      <a:pt x="6" y="137"/>
                    </a:moveTo>
                    <a:lnTo>
                      <a:pt x="6" y="16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6" y="137"/>
                    </a:lnTo>
                    <a:close/>
                    <a:moveTo>
                      <a:pt x="6" y="179"/>
                    </a:moveTo>
                    <a:lnTo>
                      <a:pt x="6" y="204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6" y="179"/>
                    </a:lnTo>
                    <a:close/>
                    <a:moveTo>
                      <a:pt x="6" y="222"/>
                    </a:moveTo>
                    <a:lnTo>
                      <a:pt x="6" y="246"/>
                    </a:lnTo>
                    <a:lnTo>
                      <a:pt x="0" y="246"/>
                    </a:lnTo>
                    <a:lnTo>
                      <a:pt x="0" y="222"/>
                    </a:lnTo>
                    <a:lnTo>
                      <a:pt x="6" y="222"/>
                    </a:lnTo>
                    <a:close/>
                    <a:moveTo>
                      <a:pt x="6" y="265"/>
                    </a:moveTo>
                    <a:lnTo>
                      <a:pt x="6" y="289"/>
                    </a:lnTo>
                    <a:lnTo>
                      <a:pt x="0" y="289"/>
                    </a:lnTo>
                    <a:lnTo>
                      <a:pt x="0" y="265"/>
                    </a:lnTo>
                    <a:lnTo>
                      <a:pt x="6" y="265"/>
                    </a:lnTo>
                    <a:close/>
                    <a:moveTo>
                      <a:pt x="6" y="307"/>
                    </a:moveTo>
                    <a:lnTo>
                      <a:pt x="6" y="332"/>
                    </a:lnTo>
                    <a:lnTo>
                      <a:pt x="0" y="332"/>
                    </a:lnTo>
                    <a:lnTo>
                      <a:pt x="0" y="307"/>
                    </a:lnTo>
                    <a:lnTo>
                      <a:pt x="6" y="307"/>
                    </a:lnTo>
                    <a:close/>
                    <a:moveTo>
                      <a:pt x="6" y="350"/>
                    </a:moveTo>
                    <a:lnTo>
                      <a:pt x="6" y="374"/>
                    </a:lnTo>
                    <a:lnTo>
                      <a:pt x="0" y="374"/>
                    </a:lnTo>
                    <a:lnTo>
                      <a:pt x="0" y="350"/>
                    </a:lnTo>
                    <a:lnTo>
                      <a:pt x="6" y="350"/>
                    </a:lnTo>
                    <a:close/>
                    <a:moveTo>
                      <a:pt x="6" y="393"/>
                    </a:moveTo>
                    <a:lnTo>
                      <a:pt x="6" y="417"/>
                    </a:lnTo>
                    <a:lnTo>
                      <a:pt x="0" y="417"/>
                    </a:lnTo>
                    <a:lnTo>
                      <a:pt x="0" y="393"/>
                    </a:lnTo>
                    <a:lnTo>
                      <a:pt x="6" y="393"/>
                    </a:lnTo>
                    <a:close/>
                    <a:moveTo>
                      <a:pt x="6" y="435"/>
                    </a:moveTo>
                    <a:lnTo>
                      <a:pt x="6" y="459"/>
                    </a:lnTo>
                    <a:lnTo>
                      <a:pt x="0" y="459"/>
                    </a:lnTo>
                    <a:lnTo>
                      <a:pt x="0" y="435"/>
                    </a:lnTo>
                    <a:lnTo>
                      <a:pt x="6" y="435"/>
                    </a:lnTo>
                    <a:close/>
                    <a:moveTo>
                      <a:pt x="6" y="478"/>
                    </a:moveTo>
                    <a:lnTo>
                      <a:pt x="6" y="490"/>
                    </a:lnTo>
                    <a:lnTo>
                      <a:pt x="3" y="487"/>
                    </a:lnTo>
                    <a:lnTo>
                      <a:pt x="15" y="487"/>
                    </a:lnTo>
                    <a:lnTo>
                      <a:pt x="15" y="493"/>
                    </a:lnTo>
                    <a:lnTo>
                      <a:pt x="0" y="493"/>
                    </a:lnTo>
                    <a:lnTo>
                      <a:pt x="0" y="478"/>
                    </a:lnTo>
                    <a:lnTo>
                      <a:pt x="6" y="478"/>
                    </a:lnTo>
                    <a:close/>
                    <a:moveTo>
                      <a:pt x="33" y="487"/>
                    </a:moveTo>
                    <a:lnTo>
                      <a:pt x="58" y="487"/>
                    </a:lnTo>
                    <a:lnTo>
                      <a:pt x="58" y="493"/>
                    </a:lnTo>
                    <a:lnTo>
                      <a:pt x="33" y="493"/>
                    </a:lnTo>
                    <a:lnTo>
                      <a:pt x="33" y="487"/>
                    </a:lnTo>
                    <a:close/>
                    <a:moveTo>
                      <a:pt x="76" y="487"/>
                    </a:moveTo>
                    <a:lnTo>
                      <a:pt x="100" y="487"/>
                    </a:lnTo>
                    <a:lnTo>
                      <a:pt x="100" y="493"/>
                    </a:lnTo>
                    <a:lnTo>
                      <a:pt x="76" y="493"/>
                    </a:lnTo>
                    <a:lnTo>
                      <a:pt x="76" y="487"/>
                    </a:lnTo>
                    <a:close/>
                    <a:moveTo>
                      <a:pt x="118" y="487"/>
                    </a:moveTo>
                    <a:lnTo>
                      <a:pt x="143" y="487"/>
                    </a:lnTo>
                    <a:lnTo>
                      <a:pt x="143" y="493"/>
                    </a:lnTo>
                    <a:lnTo>
                      <a:pt x="118" y="493"/>
                    </a:lnTo>
                    <a:lnTo>
                      <a:pt x="118" y="487"/>
                    </a:lnTo>
                    <a:close/>
                    <a:moveTo>
                      <a:pt x="161" y="487"/>
                    </a:moveTo>
                    <a:lnTo>
                      <a:pt x="185" y="487"/>
                    </a:lnTo>
                    <a:lnTo>
                      <a:pt x="185" y="493"/>
                    </a:lnTo>
                    <a:lnTo>
                      <a:pt x="161" y="493"/>
                    </a:lnTo>
                    <a:lnTo>
                      <a:pt x="161" y="487"/>
                    </a:lnTo>
                    <a:close/>
                    <a:moveTo>
                      <a:pt x="204" y="487"/>
                    </a:moveTo>
                    <a:lnTo>
                      <a:pt x="228" y="487"/>
                    </a:lnTo>
                    <a:lnTo>
                      <a:pt x="228" y="493"/>
                    </a:lnTo>
                    <a:lnTo>
                      <a:pt x="204" y="493"/>
                    </a:lnTo>
                    <a:lnTo>
                      <a:pt x="204" y="487"/>
                    </a:lnTo>
                    <a:close/>
                    <a:moveTo>
                      <a:pt x="246" y="487"/>
                    </a:moveTo>
                    <a:lnTo>
                      <a:pt x="270" y="487"/>
                    </a:lnTo>
                    <a:lnTo>
                      <a:pt x="270" y="493"/>
                    </a:lnTo>
                    <a:lnTo>
                      <a:pt x="246" y="493"/>
                    </a:lnTo>
                    <a:lnTo>
                      <a:pt x="246" y="487"/>
                    </a:lnTo>
                    <a:close/>
                    <a:moveTo>
                      <a:pt x="289" y="487"/>
                    </a:moveTo>
                    <a:lnTo>
                      <a:pt x="313" y="487"/>
                    </a:lnTo>
                    <a:lnTo>
                      <a:pt x="313" y="493"/>
                    </a:lnTo>
                    <a:lnTo>
                      <a:pt x="289" y="493"/>
                    </a:lnTo>
                    <a:lnTo>
                      <a:pt x="289" y="487"/>
                    </a:lnTo>
                    <a:close/>
                    <a:moveTo>
                      <a:pt x="331" y="487"/>
                    </a:moveTo>
                    <a:lnTo>
                      <a:pt x="355" y="487"/>
                    </a:lnTo>
                    <a:lnTo>
                      <a:pt x="355" y="493"/>
                    </a:lnTo>
                    <a:lnTo>
                      <a:pt x="331" y="493"/>
                    </a:lnTo>
                    <a:lnTo>
                      <a:pt x="331" y="487"/>
                    </a:lnTo>
                    <a:close/>
                    <a:moveTo>
                      <a:pt x="374" y="487"/>
                    </a:moveTo>
                    <a:lnTo>
                      <a:pt x="398" y="487"/>
                    </a:lnTo>
                    <a:lnTo>
                      <a:pt x="398" y="493"/>
                    </a:lnTo>
                    <a:lnTo>
                      <a:pt x="374" y="493"/>
                    </a:lnTo>
                    <a:lnTo>
                      <a:pt x="374" y="487"/>
                    </a:lnTo>
                    <a:close/>
                    <a:moveTo>
                      <a:pt x="416" y="487"/>
                    </a:moveTo>
                    <a:lnTo>
                      <a:pt x="441" y="487"/>
                    </a:lnTo>
                    <a:lnTo>
                      <a:pt x="441" y="493"/>
                    </a:lnTo>
                    <a:lnTo>
                      <a:pt x="416" y="493"/>
                    </a:lnTo>
                    <a:lnTo>
                      <a:pt x="416" y="487"/>
                    </a:lnTo>
                    <a:close/>
                    <a:moveTo>
                      <a:pt x="459" y="487"/>
                    </a:moveTo>
                    <a:lnTo>
                      <a:pt x="483" y="487"/>
                    </a:lnTo>
                    <a:lnTo>
                      <a:pt x="483" y="493"/>
                    </a:lnTo>
                    <a:lnTo>
                      <a:pt x="459" y="493"/>
                    </a:lnTo>
                    <a:lnTo>
                      <a:pt x="459" y="487"/>
                    </a:lnTo>
                    <a:close/>
                    <a:moveTo>
                      <a:pt x="501" y="487"/>
                    </a:moveTo>
                    <a:lnTo>
                      <a:pt x="526" y="487"/>
                    </a:lnTo>
                    <a:lnTo>
                      <a:pt x="526" y="493"/>
                    </a:lnTo>
                    <a:lnTo>
                      <a:pt x="501" y="493"/>
                    </a:lnTo>
                    <a:lnTo>
                      <a:pt x="501" y="487"/>
                    </a:lnTo>
                    <a:close/>
                    <a:moveTo>
                      <a:pt x="544" y="487"/>
                    </a:moveTo>
                    <a:lnTo>
                      <a:pt x="568" y="487"/>
                    </a:lnTo>
                    <a:lnTo>
                      <a:pt x="568" y="493"/>
                    </a:lnTo>
                    <a:lnTo>
                      <a:pt x="544" y="493"/>
                    </a:lnTo>
                    <a:lnTo>
                      <a:pt x="544" y="487"/>
                    </a:lnTo>
                    <a:close/>
                    <a:moveTo>
                      <a:pt x="586" y="487"/>
                    </a:moveTo>
                    <a:lnTo>
                      <a:pt x="611" y="487"/>
                    </a:lnTo>
                    <a:lnTo>
                      <a:pt x="611" y="493"/>
                    </a:lnTo>
                    <a:lnTo>
                      <a:pt x="586" y="493"/>
                    </a:lnTo>
                    <a:lnTo>
                      <a:pt x="586" y="487"/>
                    </a:lnTo>
                    <a:close/>
                    <a:moveTo>
                      <a:pt x="629" y="487"/>
                    </a:moveTo>
                    <a:lnTo>
                      <a:pt x="653" y="487"/>
                    </a:lnTo>
                    <a:lnTo>
                      <a:pt x="653" y="493"/>
                    </a:lnTo>
                    <a:lnTo>
                      <a:pt x="629" y="493"/>
                    </a:lnTo>
                    <a:lnTo>
                      <a:pt x="629" y="487"/>
                    </a:lnTo>
                    <a:close/>
                    <a:moveTo>
                      <a:pt x="671" y="487"/>
                    </a:moveTo>
                    <a:lnTo>
                      <a:pt x="696" y="487"/>
                    </a:lnTo>
                    <a:lnTo>
                      <a:pt x="696" y="493"/>
                    </a:lnTo>
                    <a:lnTo>
                      <a:pt x="671" y="493"/>
                    </a:lnTo>
                    <a:lnTo>
                      <a:pt x="671" y="487"/>
                    </a:lnTo>
                    <a:close/>
                    <a:moveTo>
                      <a:pt x="714" y="487"/>
                    </a:moveTo>
                    <a:lnTo>
                      <a:pt x="738" y="487"/>
                    </a:lnTo>
                    <a:lnTo>
                      <a:pt x="738" y="493"/>
                    </a:lnTo>
                    <a:lnTo>
                      <a:pt x="714" y="493"/>
                    </a:lnTo>
                    <a:lnTo>
                      <a:pt x="714" y="487"/>
                    </a:lnTo>
                    <a:close/>
                    <a:moveTo>
                      <a:pt x="757" y="487"/>
                    </a:moveTo>
                    <a:lnTo>
                      <a:pt x="781" y="487"/>
                    </a:lnTo>
                    <a:lnTo>
                      <a:pt x="781" y="493"/>
                    </a:lnTo>
                    <a:lnTo>
                      <a:pt x="757" y="493"/>
                    </a:lnTo>
                    <a:lnTo>
                      <a:pt x="757" y="487"/>
                    </a:lnTo>
                    <a:close/>
                    <a:moveTo>
                      <a:pt x="799" y="487"/>
                    </a:moveTo>
                    <a:lnTo>
                      <a:pt x="823" y="487"/>
                    </a:lnTo>
                    <a:lnTo>
                      <a:pt x="823" y="493"/>
                    </a:lnTo>
                    <a:lnTo>
                      <a:pt x="799" y="493"/>
                    </a:lnTo>
                    <a:lnTo>
                      <a:pt x="799" y="487"/>
                    </a:lnTo>
                    <a:close/>
                    <a:moveTo>
                      <a:pt x="842" y="487"/>
                    </a:moveTo>
                    <a:lnTo>
                      <a:pt x="866" y="487"/>
                    </a:lnTo>
                    <a:lnTo>
                      <a:pt x="866" y="493"/>
                    </a:lnTo>
                    <a:lnTo>
                      <a:pt x="842" y="493"/>
                    </a:lnTo>
                    <a:lnTo>
                      <a:pt x="842" y="487"/>
                    </a:lnTo>
                    <a:close/>
                    <a:moveTo>
                      <a:pt x="884" y="487"/>
                    </a:moveTo>
                    <a:lnTo>
                      <a:pt x="908" y="487"/>
                    </a:lnTo>
                    <a:lnTo>
                      <a:pt x="908" y="493"/>
                    </a:lnTo>
                    <a:lnTo>
                      <a:pt x="884" y="493"/>
                    </a:lnTo>
                    <a:lnTo>
                      <a:pt x="884" y="487"/>
                    </a:lnTo>
                    <a:close/>
                    <a:moveTo>
                      <a:pt x="927" y="487"/>
                    </a:moveTo>
                    <a:lnTo>
                      <a:pt x="933" y="487"/>
                    </a:lnTo>
                    <a:lnTo>
                      <a:pt x="930" y="490"/>
                    </a:lnTo>
                    <a:lnTo>
                      <a:pt x="930" y="472"/>
                    </a:lnTo>
                    <a:lnTo>
                      <a:pt x="936" y="472"/>
                    </a:lnTo>
                    <a:lnTo>
                      <a:pt x="936" y="493"/>
                    </a:lnTo>
                    <a:lnTo>
                      <a:pt x="927" y="493"/>
                    </a:lnTo>
                    <a:lnTo>
                      <a:pt x="927" y="487"/>
                    </a:lnTo>
                    <a:close/>
                    <a:moveTo>
                      <a:pt x="930" y="453"/>
                    </a:moveTo>
                    <a:lnTo>
                      <a:pt x="930" y="429"/>
                    </a:lnTo>
                    <a:lnTo>
                      <a:pt x="936" y="429"/>
                    </a:lnTo>
                    <a:lnTo>
                      <a:pt x="936" y="453"/>
                    </a:lnTo>
                    <a:lnTo>
                      <a:pt x="930" y="453"/>
                    </a:lnTo>
                    <a:close/>
                    <a:moveTo>
                      <a:pt x="930" y="411"/>
                    </a:moveTo>
                    <a:lnTo>
                      <a:pt x="930" y="386"/>
                    </a:lnTo>
                    <a:lnTo>
                      <a:pt x="936" y="386"/>
                    </a:lnTo>
                    <a:lnTo>
                      <a:pt x="936" y="411"/>
                    </a:lnTo>
                    <a:lnTo>
                      <a:pt x="930" y="411"/>
                    </a:lnTo>
                    <a:close/>
                    <a:moveTo>
                      <a:pt x="930" y="368"/>
                    </a:moveTo>
                    <a:lnTo>
                      <a:pt x="930" y="344"/>
                    </a:lnTo>
                    <a:lnTo>
                      <a:pt x="936" y="344"/>
                    </a:lnTo>
                    <a:lnTo>
                      <a:pt x="936" y="368"/>
                    </a:lnTo>
                    <a:lnTo>
                      <a:pt x="930" y="368"/>
                    </a:lnTo>
                    <a:close/>
                    <a:moveTo>
                      <a:pt x="930" y="326"/>
                    </a:moveTo>
                    <a:lnTo>
                      <a:pt x="930" y="301"/>
                    </a:lnTo>
                    <a:lnTo>
                      <a:pt x="936" y="301"/>
                    </a:lnTo>
                    <a:lnTo>
                      <a:pt x="936" y="326"/>
                    </a:lnTo>
                    <a:lnTo>
                      <a:pt x="930" y="326"/>
                    </a:lnTo>
                    <a:close/>
                    <a:moveTo>
                      <a:pt x="930" y="283"/>
                    </a:moveTo>
                    <a:lnTo>
                      <a:pt x="930" y="259"/>
                    </a:lnTo>
                    <a:lnTo>
                      <a:pt x="936" y="259"/>
                    </a:lnTo>
                    <a:lnTo>
                      <a:pt x="936" y="283"/>
                    </a:lnTo>
                    <a:lnTo>
                      <a:pt x="930" y="283"/>
                    </a:lnTo>
                    <a:close/>
                    <a:moveTo>
                      <a:pt x="930" y="240"/>
                    </a:moveTo>
                    <a:lnTo>
                      <a:pt x="930" y="216"/>
                    </a:lnTo>
                    <a:lnTo>
                      <a:pt x="936" y="216"/>
                    </a:lnTo>
                    <a:lnTo>
                      <a:pt x="936" y="240"/>
                    </a:lnTo>
                    <a:lnTo>
                      <a:pt x="930" y="240"/>
                    </a:lnTo>
                    <a:close/>
                    <a:moveTo>
                      <a:pt x="930" y="198"/>
                    </a:moveTo>
                    <a:lnTo>
                      <a:pt x="930" y="173"/>
                    </a:lnTo>
                    <a:lnTo>
                      <a:pt x="936" y="173"/>
                    </a:lnTo>
                    <a:lnTo>
                      <a:pt x="936" y="198"/>
                    </a:lnTo>
                    <a:lnTo>
                      <a:pt x="930" y="198"/>
                    </a:lnTo>
                    <a:close/>
                    <a:moveTo>
                      <a:pt x="930" y="155"/>
                    </a:moveTo>
                    <a:lnTo>
                      <a:pt x="930" y="131"/>
                    </a:lnTo>
                    <a:lnTo>
                      <a:pt x="936" y="131"/>
                    </a:lnTo>
                    <a:lnTo>
                      <a:pt x="936" y="155"/>
                    </a:lnTo>
                    <a:lnTo>
                      <a:pt x="930" y="155"/>
                    </a:lnTo>
                    <a:close/>
                    <a:moveTo>
                      <a:pt x="930" y="113"/>
                    </a:moveTo>
                    <a:lnTo>
                      <a:pt x="930" y="88"/>
                    </a:lnTo>
                    <a:lnTo>
                      <a:pt x="936" y="88"/>
                    </a:lnTo>
                    <a:lnTo>
                      <a:pt x="936" y="113"/>
                    </a:lnTo>
                    <a:lnTo>
                      <a:pt x="930" y="113"/>
                    </a:lnTo>
                    <a:close/>
                    <a:moveTo>
                      <a:pt x="930" y="70"/>
                    </a:moveTo>
                    <a:lnTo>
                      <a:pt x="930" y="46"/>
                    </a:lnTo>
                    <a:lnTo>
                      <a:pt x="936" y="46"/>
                    </a:lnTo>
                    <a:lnTo>
                      <a:pt x="936" y="70"/>
                    </a:lnTo>
                    <a:lnTo>
                      <a:pt x="930" y="70"/>
                    </a:lnTo>
                    <a:close/>
                    <a:moveTo>
                      <a:pt x="930" y="27"/>
                    </a:moveTo>
                    <a:lnTo>
                      <a:pt x="930" y="3"/>
                    </a:lnTo>
                    <a:lnTo>
                      <a:pt x="936" y="3"/>
                    </a:lnTo>
                    <a:lnTo>
                      <a:pt x="936" y="27"/>
                    </a:lnTo>
                    <a:lnTo>
                      <a:pt x="93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70560" y="5852520"/>
                <a:ext cx="283320" cy="286920"/>
              </a:xfrm>
              <a:custGeom>
                <a:avLst/>
                <a:gdLst/>
                <a:ahLst/>
                <a:rect l="l" t="t" r="r" b="b"/>
                <a:pathLst>
                  <a:path w="189" h="211">
                    <a:moveTo>
                      <a:pt x="181" y="211"/>
                    </a:moveTo>
                    <a:lnTo>
                      <a:pt x="0" y="102"/>
                    </a:lnTo>
                    <a:lnTo>
                      <a:pt x="18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3" name=""/>
              <p:cNvGrpSpPr/>
              <p:nvPr/>
            </p:nvGrpSpPr>
            <p:grpSpPr>
              <a:xfrm>
                <a:off x="6652440" y="5648400"/>
                <a:ext cx="533520" cy="713880"/>
                <a:chOff x="6652440" y="5648400"/>
                <a:chExt cx="533520" cy="7138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6989760" y="5913720"/>
                  <a:ext cx="118440" cy="18324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984000" y="5997960"/>
                  <a:ext cx="12276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6" name=""/>
                <p:cNvGrpSpPr/>
                <p:nvPr/>
              </p:nvGrpSpPr>
              <p:grpSpPr>
                <a:xfrm>
                  <a:off x="6940440" y="6265800"/>
                  <a:ext cx="245520" cy="96480"/>
                  <a:chOff x="6940440" y="6265800"/>
                  <a:chExt cx="245520" cy="9648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6940440" y="6265800"/>
                    <a:ext cx="245520" cy="96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6940440" y="6265800"/>
                    <a:ext cx="245520" cy="964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6940440" y="5649840"/>
                  <a:ext cx="245520" cy="94680"/>
                  <a:chOff x="6940440" y="5649840"/>
                  <a:chExt cx="245520" cy="9468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6940440" y="5649840"/>
                    <a:ext cx="245520" cy="9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6940440" y="5649840"/>
                    <a:ext cx="245520" cy="946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2" name=""/>
                <p:cNvSpPr/>
                <p:nvPr/>
              </p:nvSpPr>
              <p:spPr>
                <a:xfrm>
                  <a:off x="7109640" y="5771880"/>
                  <a:ext cx="68760" cy="3672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3" name=""/>
                <p:cNvGrpSpPr/>
                <p:nvPr/>
              </p:nvGrpSpPr>
              <p:grpSpPr>
                <a:xfrm>
                  <a:off x="7063200" y="5785920"/>
                  <a:ext cx="42120" cy="7920"/>
                  <a:chOff x="7063200" y="5785920"/>
                  <a:chExt cx="42120" cy="792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7063200" y="5785920"/>
                    <a:ext cx="4212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7063200" y="5785920"/>
                    <a:ext cx="42120" cy="79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6" name=""/>
                <p:cNvSpPr/>
                <p:nvPr/>
              </p:nvSpPr>
              <p:spPr>
                <a:xfrm>
                  <a:off x="7105320" y="6199200"/>
                  <a:ext cx="68760" cy="36360"/>
                </a:xfrm>
                <a:prstGeom prst="rect">
                  <a:avLst/>
                </a:prstGeom>
                <a:noFill/>
                <a:ln cap="rnd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7" name=""/>
                <p:cNvGrpSpPr/>
                <p:nvPr/>
              </p:nvGrpSpPr>
              <p:grpSpPr>
                <a:xfrm>
                  <a:off x="7058520" y="6212880"/>
                  <a:ext cx="42120" cy="8280"/>
                  <a:chOff x="7058520" y="6212880"/>
                  <a:chExt cx="42120" cy="828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058520" y="6212880"/>
                    <a:ext cx="4212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058520" y="6212880"/>
                    <a:ext cx="42120" cy="82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6974640" y="5762520"/>
                  <a:ext cx="2880" cy="27000"/>
                  <a:chOff x="6974640" y="5762520"/>
                  <a:chExt cx="2880" cy="2700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6974640" y="5762520"/>
                    <a:ext cx="288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974640" y="5762520"/>
                    <a:ext cx="2880" cy="27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6964200" y="6216840"/>
                  <a:ext cx="2880" cy="27360"/>
                  <a:chOff x="6964200" y="6216840"/>
                  <a:chExt cx="2880" cy="2736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6964200" y="6216840"/>
                    <a:ext cx="2880" cy="27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6964200" y="6216840"/>
                    <a:ext cx="2880" cy="27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093440" y="5812920"/>
                  <a:ext cx="50400" cy="90720"/>
                </a:xfrm>
                <a:custGeom>
                  <a:avLst/>
                  <a:gdLst/>
                  <a:ahLst/>
                  <a:rect l="l" t="t" r="r" b="b"/>
                  <a:pathLst>
                    <a:path w="34" h="67">
                      <a:moveTo>
                        <a:pt x="0" y="67"/>
                      </a:moveTo>
                      <a:lnTo>
                        <a:pt x="0" y="29"/>
                      </a:lnTo>
                      <a:lnTo>
                        <a:pt x="34" y="29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091640" y="6098760"/>
                  <a:ext cx="50760" cy="90720"/>
                </a:xfrm>
                <a:custGeom>
                  <a:avLst/>
                  <a:gdLst/>
                  <a:ahLst/>
                  <a:rect l="l" t="t" r="r" b="b"/>
                  <a:pathLst>
                    <a:path w="34" h="67">
                      <a:moveTo>
                        <a:pt x="0" y="0"/>
                      </a:moveTo>
                      <a:lnTo>
                        <a:pt x="0" y="39"/>
                      </a:lnTo>
                      <a:lnTo>
                        <a:pt x="34" y="39"/>
                      </a:lnTo>
                      <a:lnTo>
                        <a:pt x="34" y="67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8" name=""/>
                <p:cNvGrpSpPr/>
                <p:nvPr/>
              </p:nvGrpSpPr>
              <p:grpSpPr>
                <a:xfrm>
                  <a:off x="6652440" y="5648400"/>
                  <a:ext cx="245520" cy="95040"/>
                  <a:chOff x="6652440" y="5648400"/>
                  <a:chExt cx="245520" cy="9504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6652440" y="5648400"/>
                    <a:ext cx="245520" cy="9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652440" y="5648400"/>
                    <a:ext cx="245520" cy="950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1" name=""/>
                <p:cNvGrpSpPr/>
                <p:nvPr/>
              </p:nvGrpSpPr>
              <p:grpSpPr>
                <a:xfrm>
                  <a:off x="6658560" y="6265800"/>
                  <a:ext cx="245520" cy="95040"/>
                  <a:chOff x="6658560" y="6265800"/>
                  <a:chExt cx="245520" cy="95040"/>
                </a:xfrm>
              </p:grpSpPr>
              <p:sp>
                <p:nvSpPr>
                  <p:cNvPr id="1042" name=""/>
                  <p:cNvSpPr/>
                  <p:nvPr/>
                </p:nvSpPr>
                <p:spPr>
                  <a:xfrm>
                    <a:off x="6658560" y="6265800"/>
                    <a:ext cx="245520" cy="9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6658560" y="6265800"/>
                    <a:ext cx="245520" cy="950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4" name=""/>
                <p:cNvGrpSpPr/>
                <p:nvPr/>
              </p:nvGrpSpPr>
              <p:grpSpPr>
                <a:xfrm>
                  <a:off x="6781320" y="6199200"/>
                  <a:ext cx="115200" cy="38160"/>
                  <a:chOff x="6781320" y="6199200"/>
                  <a:chExt cx="115200" cy="3816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6829200" y="6199200"/>
                    <a:ext cx="67320" cy="381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6781320" y="6213960"/>
                    <a:ext cx="43200" cy="9360"/>
                    <a:chOff x="6781320" y="6213960"/>
                    <a:chExt cx="43200" cy="9360"/>
                  </a:xfrm>
                </p:grpSpPr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6781320" y="6213960"/>
                      <a:ext cx="4320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6781320" y="6213960"/>
                      <a:ext cx="43200" cy="936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9" name=""/>
                <p:cNvSpPr/>
                <p:nvPr/>
              </p:nvSpPr>
              <p:spPr>
                <a:xfrm>
                  <a:off x="6857640" y="6098760"/>
                  <a:ext cx="142200" cy="96480"/>
                </a:xfrm>
                <a:custGeom>
                  <a:avLst/>
                  <a:gdLst/>
                  <a:ahLst/>
                  <a:rect l="l" t="t" r="r" b="b"/>
                  <a:pathLst>
                    <a:path w="95" h="71">
                      <a:moveTo>
                        <a:pt x="0" y="71"/>
                      </a:moveTo>
                      <a:lnTo>
                        <a:pt x="0" y="31"/>
                      </a:lnTo>
                      <a:lnTo>
                        <a:pt x="95" y="31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0" name=""/>
                <p:cNvGrpSpPr/>
                <p:nvPr/>
              </p:nvGrpSpPr>
              <p:grpSpPr>
                <a:xfrm>
                  <a:off x="6770520" y="5773320"/>
                  <a:ext cx="115200" cy="36360"/>
                  <a:chOff x="6770520" y="5773320"/>
                  <a:chExt cx="115200" cy="3636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>
                    <a:off x="6818400" y="5773320"/>
                    <a:ext cx="67320" cy="36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2" name=""/>
                  <p:cNvGrpSpPr/>
                  <p:nvPr/>
                </p:nvGrpSpPr>
                <p:grpSpPr>
                  <a:xfrm>
                    <a:off x="6770520" y="5786640"/>
                    <a:ext cx="43200" cy="9360"/>
                    <a:chOff x="6770520" y="5786640"/>
                    <a:chExt cx="43200" cy="9360"/>
                  </a:xfrm>
                </p:grpSpPr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6770520" y="5786640"/>
                      <a:ext cx="4320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6770520" y="5786640"/>
                      <a:ext cx="43200" cy="936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55" name=""/>
                <p:cNvSpPr/>
                <p:nvPr/>
              </p:nvSpPr>
              <p:spPr>
                <a:xfrm>
                  <a:off x="6853320" y="5810040"/>
                  <a:ext cx="148320" cy="90720"/>
                </a:xfrm>
                <a:custGeom>
                  <a:avLst/>
                  <a:gdLst/>
                  <a:ahLst/>
                  <a:rect l="l" t="t" r="r" b="b"/>
                  <a:pathLst>
                    <a:path w="99" h="67">
                      <a:moveTo>
                        <a:pt x="0" y="0"/>
                      </a:moveTo>
                      <a:lnTo>
                        <a:pt x="0" y="39"/>
                      </a:lnTo>
                      <a:lnTo>
                        <a:pt x="99" y="39"/>
                      </a:lnTo>
                      <a:lnTo>
                        <a:pt x="99" y="67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rot="16200000">
                  <a:off x="7002360" y="6020280"/>
                  <a:ext cx="691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rot="16200000">
                  <a:off x="7002360" y="5920200"/>
                  <a:ext cx="691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1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959520" y="6109560"/>
                  <a:ext cx="109440" cy="115560"/>
                </a:xfrm>
                <a:custGeom>
                  <a:avLst/>
                  <a:gdLst/>
                  <a:ahLst/>
                  <a:rect l="l" t="t" r="r" b="b"/>
                  <a:pathLst>
                    <a:path w="600" h="700">
                      <a:moveTo>
                        <a:pt x="0" y="675"/>
                      </a:moveTo>
                      <a:lnTo>
                        <a:pt x="0" y="675"/>
                      </a:lnTo>
                      <a:cubicBezTo>
                        <a:pt x="0" y="662"/>
                        <a:pt x="12" y="650"/>
                        <a:pt x="25" y="650"/>
                      </a:cubicBezTo>
                      <a:cubicBezTo>
                        <a:pt x="39" y="650"/>
                        <a:pt x="50" y="662"/>
                        <a:pt x="50" y="675"/>
                      </a:cubicBezTo>
                      <a:lnTo>
                        <a:pt x="50" y="675"/>
                      </a:lnTo>
                      <a:cubicBezTo>
                        <a:pt x="50" y="689"/>
                        <a:pt x="39" y="700"/>
                        <a:pt x="25" y="700"/>
                      </a:cubicBezTo>
                      <a:cubicBezTo>
                        <a:pt x="12" y="700"/>
                        <a:pt x="0" y="689"/>
                        <a:pt x="0" y="675"/>
                      </a:cubicBezTo>
                      <a:close/>
                      <a:moveTo>
                        <a:pt x="0" y="575"/>
                      </a:moveTo>
                      <a:lnTo>
                        <a:pt x="0" y="575"/>
                      </a:lnTo>
                      <a:cubicBezTo>
                        <a:pt x="0" y="562"/>
                        <a:pt x="12" y="550"/>
                        <a:pt x="25" y="550"/>
                      </a:cubicBezTo>
                      <a:cubicBezTo>
                        <a:pt x="39" y="550"/>
                        <a:pt x="50" y="562"/>
                        <a:pt x="50" y="575"/>
                      </a:cubicBezTo>
                      <a:lnTo>
                        <a:pt x="50" y="575"/>
                      </a:lnTo>
                      <a:cubicBezTo>
                        <a:pt x="50" y="589"/>
                        <a:pt x="39" y="600"/>
                        <a:pt x="25" y="600"/>
                      </a:cubicBezTo>
                      <a:cubicBezTo>
                        <a:pt x="12" y="600"/>
                        <a:pt x="0" y="589"/>
                        <a:pt x="0" y="575"/>
                      </a:cubicBezTo>
                      <a:close/>
                      <a:moveTo>
                        <a:pt x="0" y="475"/>
                      </a:moveTo>
                      <a:lnTo>
                        <a:pt x="0" y="475"/>
                      </a:lnTo>
                      <a:cubicBezTo>
                        <a:pt x="0" y="462"/>
                        <a:pt x="12" y="450"/>
                        <a:pt x="25" y="450"/>
                      </a:cubicBezTo>
                      <a:cubicBezTo>
                        <a:pt x="39" y="450"/>
                        <a:pt x="50" y="462"/>
                        <a:pt x="50" y="475"/>
                      </a:cubicBezTo>
                      <a:lnTo>
                        <a:pt x="50" y="475"/>
                      </a:lnTo>
                      <a:cubicBezTo>
                        <a:pt x="50" y="489"/>
                        <a:pt x="39" y="500"/>
                        <a:pt x="25" y="500"/>
                      </a:cubicBezTo>
                      <a:cubicBezTo>
                        <a:pt x="12" y="500"/>
                        <a:pt x="0" y="489"/>
                        <a:pt x="0" y="475"/>
                      </a:cubicBezTo>
                      <a:close/>
                      <a:moveTo>
                        <a:pt x="0" y="375"/>
                      </a:moveTo>
                      <a:lnTo>
                        <a:pt x="0" y="375"/>
                      </a:lnTo>
                      <a:cubicBezTo>
                        <a:pt x="0" y="361"/>
                        <a:pt x="12" y="350"/>
                        <a:pt x="25" y="350"/>
                      </a:cubicBezTo>
                      <a:cubicBezTo>
                        <a:pt x="39" y="350"/>
                        <a:pt x="50" y="361"/>
                        <a:pt x="50" y="375"/>
                      </a:cubicBezTo>
                      <a:lnTo>
                        <a:pt x="50" y="375"/>
                      </a:lnTo>
                      <a:cubicBezTo>
                        <a:pt x="50" y="389"/>
                        <a:pt x="39" y="400"/>
                        <a:pt x="25" y="400"/>
                      </a:cubicBezTo>
                      <a:cubicBezTo>
                        <a:pt x="12" y="400"/>
                        <a:pt x="0" y="389"/>
                        <a:pt x="0" y="375"/>
                      </a:cubicBezTo>
                      <a:close/>
                      <a:moveTo>
                        <a:pt x="109" y="334"/>
                      </a:moveTo>
                      <a:lnTo>
                        <a:pt x="109" y="334"/>
                      </a:lnTo>
                      <a:cubicBezTo>
                        <a:pt x="123" y="334"/>
                        <a:pt x="134" y="345"/>
                        <a:pt x="134" y="359"/>
                      </a:cubicBezTo>
                      <a:cubicBezTo>
                        <a:pt x="134" y="373"/>
                        <a:pt x="123" y="384"/>
                        <a:pt x="109" y="384"/>
                      </a:cubicBezTo>
                      <a:lnTo>
                        <a:pt x="109" y="384"/>
                      </a:lnTo>
                      <a:cubicBezTo>
                        <a:pt x="95" y="384"/>
                        <a:pt x="84" y="373"/>
                        <a:pt x="84" y="359"/>
                      </a:cubicBezTo>
                      <a:cubicBezTo>
                        <a:pt x="84" y="345"/>
                        <a:pt x="95" y="334"/>
                        <a:pt x="109" y="334"/>
                      </a:cubicBezTo>
                      <a:close/>
                      <a:moveTo>
                        <a:pt x="209" y="334"/>
                      </a:moveTo>
                      <a:lnTo>
                        <a:pt x="209" y="334"/>
                      </a:lnTo>
                      <a:cubicBezTo>
                        <a:pt x="223" y="334"/>
                        <a:pt x="234" y="345"/>
                        <a:pt x="234" y="359"/>
                      </a:cubicBezTo>
                      <a:cubicBezTo>
                        <a:pt x="234" y="373"/>
                        <a:pt x="223" y="384"/>
                        <a:pt x="209" y="384"/>
                      </a:cubicBezTo>
                      <a:lnTo>
                        <a:pt x="209" y="384"/>
                      </a:lnTo>
                      <a:cubicBezTo>
                        <a:pt x="195" y="384"/>
                        <a:pt x="184" y="373"/>
                        <a:pt x="184" y="359"/>
                      </a:cubicBezTo>
                      <a:cubicBezTo>
                        <a:pt x="184" y="345"/>
                        <a:pt x="195" y="334"/>
                        <a:pt x="209" y="334"/>
                      </a:cubicBezTo>
                      <a:close/>
                      <a:moveTo>
                        <a:pt x="309" y="334"/>
                      </a:moveTo>
                      <a:lnTo>
                        <a:pt x="309" y="334"/>
                      </a:lnTo>
                      <a:cubicBezTo>
                        <a:pt x="323" y="334"/>
                        <a:pt x="334" y="345"/>
                        <a:pt x="334" y="359"/>
                      </a:cubicBezTo>
                      <a:cubicBezTo>
                        <a:pt x="334" y="373"/>
                        <a:pt x="323" y="384"/>
                        <a:pt x="309" y="384"/>
                      </a:cubicBezTo>
                      <a:lnTo>
                        <a:pt x="309" y="384"/>
                      </a:lnTo>
                      <a:cubicBezTo>
                        <a:pt x="295" y="384"/>
                        <a:pt x="284" y="373"/>
                        <a:pt x="284" y="359"/>
                      </a:cubicBezTo>
                      <a:cubicBezTo>
                        <a:pt x="284" y="345"/>
                        <a:pt x="295" y="334"/>
                        <a:pt x="309" y="334"/>
                      </a:cubicBezTo>
                      <a:close/>
                      <a:moveTo>
                        <a:pt x="409" y="334"/>
                      </a:moveTo>
                      <a:lnTo>
                        <a:pt x="409" y="334"/>
                      </a:lnTo>
                      <a:cubicBezTo>
                        <a:pt x="423" y="334"/>
                        <a:pt x="434" y="345"/>
                        <a:pt x="434" y="359"/>
                      </a:cubicBezTo>
                      <a:cubicBezTo>
                        <a:pt x="434" y="373"/>
                        <a:pt x="423" y="384"/>
                        <a:pt x="409" y="384"/>
                      </a:cubicBezTo>
                      <a:lnTo>
                        <a:pt x="409" y="384"/>
                      </a:lnTo>
                      <a:cubicBezTo>
                        <a:pt x="395" y="384"/>
                        <a:pt x="384" y="373"/>
                        <a:pt x="384" y="359"/>
                      </a:cubicBezTo>
                      <a:cubicBezTo>
                        <a:pt x="384" y="345"/>
                        <a:pt x="395" y="334"/>
                        <a:pt x="409" y="334"/>
                      </a:cubicBezTo>
                      <a:close/>
                      <a:moveTo>
                        <a:pt x="509" y="334"/>
                      </a:moveTo>
                      <a:lnTo>
                        <a:pt x="509" y="334"/>
                      </a:lnTo>
                      <a:cubicBezTo>
                        <a:pt x="523" y="334"/>
                        <a:pt x="534" y="345"/>
                        <a:pt x="534" y="359"/>
                      </a:cubicBezTo>
                      <a:cubicBezTo>
                        <a:pt x="534" y="373"/>
                        <a:pt x="523" y="384"/>
                        <a:pt x="509" y="384"/>
                      </a:cubicBezTo>
                      <a:lnTo>
                        <a:pt x="509" y="384"/>
                      </a:lnTo>
                      <a:cubicBezTo>
                        <a:pt x="495" y="384"/>
                        <a:pt x="484" y="373"/>
                        <a:pt x="484" y="359"/>
                      </a:cubicBezTo>
                      <a:cubicBezTo>
                        <a:pt x="484" y="345"/>
                        <a:pt x="495" y="334"/>
                        <a:pt x="509" y="334"/>
                      </a:cubicBezTo>
                      <a:close/>
                      <a:moveTo>
                        <a:pt x="550" y="325"/>
                      </a:moveTo>
                      <a:lnTo>
                        <a:pt x="550" y="325"/>
                      </a:lnTo>
                      <a:cubicBezTo>
                        <a:pt x="550" y="311"/>
                        <a:pt x="562" y="300"/>
                        <a:pt x="575" y="300"/>
                      </a:cubicBezTo>
                      <a:cubicBezTo>
                        <a:pt x="589" y="300"/>
                        <a:pt x="600" y="311"/>
                        <a:pt x="600" y="325"/>
                      </a:cubicBezTo>
                      <a:lnTo>
                        <a:pt x="600" y="325"/>
                      </a:lnTo>
                      <a:cubicBezTo>
                        <a:pt x="600" y="339"/>
                        <a:pt x="589" y="350"/>
                        <a:pt x="575" y="350"/>
                      </a:cubicBezTo>
                      <a:cubicBezTo>
                        <a:pt x="562" y="350"/>
                        <a:pt x="550" y="339"/>
                        <a:pt x="550" y="325"/>
                      </a:cubicBezTo>
                      <a:close/>
                      <a:moveTo>
                        <a:pt x="550" y="225"/>
                      </a:moveTo>
                      <a:lnTo>
                        <a:pt x="550" y="225"/>
                      </a:lnTo>
                      <a:cubicBezTo>
                        <a:pt x="550" y="211"/>
                        <a:pt x="562" y="200"/>
                        <a:pt x="575" y="200"/>
                      </a:cubicBezTo>
                      <a:cubicBezTo>
                        <a:pt x="589" y="200"/>
                        <a:pt x="600" y="211"/>
                        <a:pt x="600" y="225"/>
                      </a:cubicBezTo>
                      <a:lnTo>
                        <a:pt x="600" y="225"/>
                      </a:lnTo>
                      <a:cubicBezTo>
                        <a:pt x="600" y="239"/>
                        <a:pt x="589" y="250"/>
                        <a:pt x="575" y="250"/>
                      </a:cubicBezTo>
                      <a:cubicBezTo>
                        <a:pt x="562" y="250"/>
                        <a:pt x="550" y="239"/>
                        <a:pt x="550" y="225"/>
                      </a:cubicBezTo>
                      <a:close/>
                      <a:moveTo>
                        <a:pt x="550" y="125"/>
                      </a:moveTo>
                      <a:lnTo>
                        <a:pt x="550" y="125"/>
                      </a:lnTo>
                      <a:cubicBezTo>
                        <a:pt x="550" y="111"/>
                        <a:pt x="562" y="100"/>
                        <a:pt x="575" y="100"/>
                      </a:cubicBezTo>
                      <a:cubicBezTo>
                        <a:pt x="589" y="100"/>
                        <a:pt x="600" y="111"/>
                        <a:pt x="600" y="125"/>
                      </a:cubicBezTo>
                      <a:lnTo>
                        <a:pt x="600" y="125"/>
                      </a:lnTo>
                      <a:cubicBezTo>
                        <a:pt x="600" y="139"/>
                        <a:pt x="589" y="150"/>
                        <a:pt x="575" y="150"/>
                      </a:cubicBezTo>
                      <a:cubicBezTo>
                        <a:pt x="562" y="150"/>
                        <a:pt x="550" y="139"/>
                        <a:pt x="550" y="125"/>
                      </a:cubicBezTo>
                      <a:close/>
                      <a:moveTo>
                        <a:pt x="550" y="25"/>
                      </a:moveTo>
                      <a:lnTo>
                        <a:pt x="550" y="25"/>
                      </a:lnTo>
                      <a:cubicBezTo>
                        <a:pt x="550" y="11"/>
                        <a:pt x="562" y="0"/>
                        <a:pt x="575" y="0"/>
                      </a:cubicBezTo>
                      <a:cubicBezTo>
                        <a:pt x="589" y="0"/>
                        <a:pt x="600" y="11"/>
                        <a:pt x="600" y="25"/>
                      </a:cubicBezTo>
                      <a:lnTo>
                        <a:pt x="600" y="25"/>
                      </a:lnTo>
                      <a:cubicBezTo>
                        <a:pt x="600" y="39"/>
                        <a:pt x="589" y="50"/>
                        <a:pt x="575" y="50"/>
                      </a:cubicBezTo>
                      <a:cubicBezTo>
                        <a:pt x="562" y="50"/>
                        <a:pt x="550" y="39"/>
                        <a:pt x="550" y="2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968880" y="5763960"/>
                  <a:ext cx="97200" cy="144000"/>
                </a:xfrm>
                <a:custGeom>
                  <a:avLst/>
                  <a:gdLst/>
                  <a:ahLst/>
                  <a:rect l="l" t="t" r="r" b="b"/>
                  <a:pathLst>
                    <a:path w="534" h="867">
                      <a:moveTo>
                        <a:pt x="50" y="25"/>
                      </a:moveTo>
                      <a:lnTo>
                        <a:pt x="50" y="25"/>
                      </a:lnTo>
                      <a:cubicBezTo>
                        <a:pt x="50" y="39"/>
                        <a:pt x="39" y="50"/>
                        <a:pt x="25" y="50"/>
                      </a:cubicBezTo>
                      <a:cubicBezTo>
                        <a:pt x="12" y="50"/>
                        <a:pt x="0" y="39"/>
                        <a:pt x="0" y="25"/>
                      </a:cubicBezTo>
                      <a:lnTo>
                        <a:pt x="0" y="25"/>
                      </a:lnTo>
                      <a:cubicBezTo>
                        <a:pt x="0" y="11"/>
                        <a:pt x="12" y="0"/>
                        <a:pt x="25" y="0"/>
                      </a:cubicBezTo>
                      <a:cubicBezTo>
                        <a:pt x="39" y="0"/>
                        <a:pt x="50" y="11"/>
                        <a:pt x="50" y="25"/>
                      </a:cubicBezTo>
                      <a:close/>
                      <a:moveTo>
                        <a:pt x="50" y="125"/>
                      </a:moveTo>
                      <a:lnTo>
                        <a:pt x="50" y="125"/>
                      </a:lnTo>
                      <a:cubicBezTo>
                        <a:pt x="50" y="139"/>
                        <a:pt x="39" y="150"/>
                        <a:pt x="25" y="150"/>
                      </a:cubicBezTo>
                      <a:cubicBezTo>
                        <a:pt x="12" y="150"/>
                        <a:pt x="0" y="139"/>
                        <a:pt x="0" y="125"/>
                      </a:cubicBezTo>
                      <a:lnTo>
                        <a:pt x="0" y="125"/>
                      </a:lnTo>
                      <a:cubicBezTo>
                        <a:pt x="0" y="111"/>
                        <a:pt x="12" y="100"/>
                        <a:pt x="25" y="100"/>
                      </a:cubicBezTo>
                      <a:cubicBezTo>
                        <a:pt x="39" y="100"/>
                        <a:pt x="50" y="111"/>
                        <a:pt x="50" y="125"/>
                      </a:cubicBezTo>
                      <a:close/>
                      <a:moveTo>
                        <a:pt x="50" y="225"/>
                      </a:moveTo>
                      <a:lnTo>
                        <a:pt x="50" y="225"/>
                      </a:lnTo>
                      <a:cubicBezTo>
                        <a:pt x="50" y="239"/>
                        <a:pt x="39" y="250"/>
                        <a:pt x="25" y="250"/>
                      </a:cubicBezTo>
                      <a:cubicBezTo>
                        <a:pt x="12" y="250"/>
                        <a:pt x="0" y="239"/>
                        <a:pt x="0" y="225"/>
                      </a:cubicBezTo>
                      <a:lnTo>
                        <a:pt x="0" y="225"/>
                      </a:lnTo>
                      <a:cubicBezTo>
                        <a:pt x="0" y="211"/>
                        <a:pt x="12" y="200"/>
                        <a:pt x="25" y="200"/>
                      </a:cubicBezTo>
                      <a:cubicBezTo>
                        <a:pt x="39" y="200"/>
                        <a:pt x="50" y="211"/>
                        <a:pt x="50" y="225"/>
                      </a:cubicBezTo>
                      <a:close/>
                      <a:moveTo>
                        <a:pt x="50" y="325"/>
                      </a:moveTo>
                      <a:lnTo>
                        <a:pt x="50" y="325"/>
                      </a:lnTo>
                      <a:cubicBezTo>
                        <a:pt x="50" y="339"/>
                        <a:pt x="39" y="350"/>
                        <a:pt x="25" y="350"/>
                      </a:cubicBezTo>
                      <a:cubicBezTo>
                        <a:pt x="12" y="350"/>
                        <a:pt x="0" y="339"/>
                        <a:pt x="0" y="325"/>
                      </a:cubicBezTo>
                      <a:lnTo>
                        <a:pt x="0" y="325"/>
                      </a:lnTo>
                      <a:cubicBezTo>
                        <a:pt x="0" y="311"/>
                        <a:pt x="12" y="300"/>
                        <a:pt x="25" y="300"/>
                      </a:cubicBezTo>
                      <a:cubicBezTo>
                        <a:pt x="39" y="300"/>
                        <a:pt x="50" y="311"/>
                        <a:pt x="50" y="325"/>
                      </a:cubicBezTo>
                      <a:close/>
                      <a:moveTo>
                        <a:pt x="92" y="333"/>
                      </a:moveTo>
                      <a:lnTo>
                        <a:pt x="92" y="333"/>
                      </a:lnTo>
                      <a:cubicBezTo>
                        <a:pt x="106" y="333"/>
                        <a:pt x="117" y="345"/>
                        <a:pt x="117" y="358"/>
                      </a:cubicBezTo>
                      <a:cubicBezTo>
                        <a:pt x="117" y="372"/>
                        <a:pt x="106" y="383"/>
                        <a:pt x="92" y="383"/>
                      </a:cubicBezTo>
                      <a:lnTo>
                        <a:pt x="92" y="383"/>
                      </a:lnTo>
                      <a:cubicBezTo>
                        <a:pt x="79" y="383"/>
                        <a:pt x="67" y="372"/>
                        <a:pt x="67" y="358"/>
                      </a:cubicBezTo>
                      <a:cubicBezTo>
                        <a:pt x="67" y="345"/>
                        <a:pt x="79" y="333"/>
                        <a:pt x="92" y="333"/>
                      </a:cubicBezTo>
                      <a:close/>
                      <a:moveTo>
                        <a:pt x="192" y="333"/>
                      </a:moveTo>
                      <a:lnTo>
                        <a:pt x="192" y="333"/>
                      </a:lnTo>
                      <a:cubicBezTo>
                        <a:pt x="206" y="333"/>
                        <a:pt x="217" y="345"/>
                        <a:pt x="217" y="358"/>
                      </a:cubicBezTo>
                      <a:cubicBezTo>
                        <a:pt x="217" y="372"/>
                        <a:pt x="206" y="383"/>
                        <a:pt x="192" y="383"/>
                      </a:cubicBezTo>
                      <a:lnTo>
                        <a:pt x="192" y="383"/>
                      </a:lnTo>
                      <a:cubicBezTo>
                        <a:pt x="179" y="383"/>
                        <a:pt x="167" y="372"/>
                        <a:pt x="167" y="358"/>
                      </a:cubicBezTo>
                      <a:cubicBezTo>
                        <a:pt x="167" y="345"/>
                        <a:pt x="179" y="333"/>
                        <a:pt x="192" y="333"/>
                      </a:cubicBezTo>
                      <a:close/>
                      <a:moveTo>
                        <a:pt x="292" y="333"/>
                      </a:moveTo>
                      <a:lnTo>
                        <a:pt x="292" y="333"/>
                      </a:lnTo>
                      <a:cubicBezTo>
                        <a:pt x="306" y="333"/>
                        <a:pt x="317" y="345"/>
                        <a:pt x="317" y="358"/>
                      </a:cubicBezTo>
                      <a:cubicBezTo>
                        <a:pt x="317" y="372"/>
                        <a:pt x="306" y="383"/>
                        <a:pt x="292" y="383"/>
                      </a:cubicBezTo>
                      <a:lnTo>
                        <a:pt x="292" y="383"/>
                      </a:lnTo>
                      <a:cubicBezTo>
                        <a:pt x="279" y="383"/>
                        <a:pt x="267" y="372"/>
                        <a:pt x="267" y="358"/>
                      </a:cubicBezTo>
                      <a:cubicBezTo>
                        <a:pt x="267" y="345"/>
                        <a:pt x="279" y="333"/>
                        <a:pt x="292" y="333"/>
                      </a:cubicBezTo>
                      <a:close/>
                      <a:moveTo>
                        <a:pt x="392" y="333"/>
                      </a:moveTo>
                      <a:lnTo>
                        <a:pt x="393" y="333"/>
                      </a:lnTo>
                      <a:cubicBezTo>
                        <a:pt x="406" y="333"/>
                        <a:pt x="418" y="345"/>
                        <a:pt x="418" y="358"/>
                      </a:cubicBezTo>
                      <a:cubicBezTo>
                        <a:pt x="418" y="372"/>
                        <a:pt x="406" y="383"/>
                        <a:pt x="393" y="383"/>
                      </a:cubicBezTo>
                      <a:lnTo>
                        <a:pt x="392" y="383"/>
                      </a:lnTo>
                      <a:cubicBezTo>
                        <a:pt x="379" y="383"/>
                        <a:pt x="367" y="372"/>
                        <a:pt x="367" y="358"/>
                      </a:cubicBezTo>
                      <a:cubicBezTo>
                        <a:pt x="367" y="345"/>
                        <a:pt x="379" y="333"/>
                        <a:pt x="392" y="333"/>
                      </a:cubicBezTo>
                      <a:close/>
                      <a:moveTo>
                        <a:pt x="493" y="333"/>
                      </a:moveTo>
                      <a:lnTo>
                        <a:pt x="493" y="333"/>
                      </a:lnTo>
                      <a:cubicBezTo>
                        <a:pt x="506" y="333"/>
                        <a:pt x="518" y="345"/>
                        <a:pt x="518" y="358"/>
                      </a:cubicBezTo>
                      <a:cubicBezTo>
                        <a:pt x="518" y="372"/>
                        <a:pt x="506" y="383"/>
                        <a:pt x="493" y="383"/>
                      </a:cubicBezTo>
                      <a:lnTo>
                        <a:pt x="493" y="383"/>
                      </a:lnTo>
                      <a:cubicBezTo>
                        <a:pt x="479" y="383"/>
                        <a:pt x="468" y="372"/>
                        <a:pt x="468" y="358"/>
                      </a:cubicBezTo>
                      <a:cubicBezTo>
                        <a:pt x="468" y="345"/>
                        <a:pt x="479" y="333"/>
                        <a:pt x="493" y="333"/>
                      </a:cubicBezTo>
                      <a:close/>
                      <a:moveTo>
                        <a:pt x="534" y="442"/>
                      </a:moveTo>
                      <a:lnTo>
                        <a:pt x="534" y="442"/>
                      </a:lnTo>
                      <a:cubicBezTo>
                        <a:pt x="534" y="456"/>
                        <a:pt x="523" y="467"/>
                        <a:pt x="509" y="467"/>
                      </a:cubicBezTo>
                      <a:cubicBezTo>
                        <a:pt x="495" y="467"/>
                        <a:pt x="484" y="456"/>
                        <a:pt x="484" y="442"/>
                      </a:cubicBezTo>
                      <a:lnTo>
                        <a:pt x="484" y="442"/>
                      </a:lnTo>
                      <a:cubicBezTo>
                        <a:pt x="484" y="428"/>
                        <a:pt x="495" y="417"/>
                        <a:pt x="509" y="417"/>
                      </a:cubicBezTo>
                      <a:cubicBezTo>
                        <a:pt x="523" y="417"/>
                        <a:pt x="534" y="428"/>
                        <a:pt x="534" y="442"/>
                      </a:cubicBezTo>
                      <a:close/>
                      <a:moveTo>
                        <a:pt x="534" y="542"/>
                      </a:moveTo>
                      <a:lnTo>
                        <a:pt x="534" y="542"/>
                      </a:lnTo>
                      <a:cubicBezTo>
                        <a:pt x="534" y="556"/>
                        <a:pt x="523" y="567"/>
                        <a:pt x="509" y="567"/>
                      </a:cubicBezTo>
                      <a:cubicBezTo>
                        <a:pt x="495" y="567"/>
                        <a:pt x="484" y="556"/>
                        <a:pt x="484" y="542"/>
                      </a:cubicBezTo>
                      <a:lnTo>
                        <a:pt x="484" y="542"/>
                      </a:lnTo>
                      <a:cubicBezTo>
                        <a:pt x="484" y="528"/>
                        <a:pt x="495" y="517"/>
                        <a:pt x="509" y="517"/>
                      </a:cubicBezTo>
                      <a:cubicBezTo>
                        <a:pt x="523" y="517"/>
                        <a:pt x="534" y="528"/>
                        <a:pt x="534" y="542"/>
                      </a:cubicBezTo>
                      <a:close/>
                      <a:moveTo>
                        <a:pt x="534" y="642"/>
                      </a:moveTo>
                      <a:lnTo>
                        <a:pt x="534" y="642"/>
                      </a:lnTo>
                      <a:cubicBezTo>
                        <a:pt x="534" y="656"/>
                        <a:pt x="523" y="667"/>
                        <a:pt x="509" y="667"/>
                      </a:cubicBezTo>
                      <a:cubicBezTo>
                        <a:pt x="495" y="667"/>
                        <a:pt x="484" y="656"/>
                        <a:pt x="484" y="642"/>
                      </a:cubicBezTo>
                      <a:lnTo>
                        <a:pt x="484" y="642"/>
                      </a:lnTo>
                      <a:cubicBezTo>
                        <a:pt x="484" y="629"/>
                        <a:pt x="495" y="617"/>
                        <a:pt x="509" y="617"/>
                      </a:cubicBezTo>
                      <a:cubicBezTo>
                        <a:pt x="523" y="617"/>
                        <a:pt x="534" y="629"/>
                        <a:pt x="534" y="642"/>
                      </a:cubicBezTo>
                      <a:close/>
                      <a:moveTo>
                        <a:pt x="534" y="742"/>
                      </a:moveTo>
                      <a:lnTo>
                        <a:pt x="534" y="742"/>
                      </a:lnTo>
                      <a:cubicBezTo>
                        <a:pt x="534" y="756"/>
                        <a:pt x="523" y="767"/>
                        <a:pt x="509" y="767"/>
                      </a:cubicBezTo>
                      <a:cubicBezTo>
                        <a:pt x="495" y="767"/>
                        <a:pt x="484" y="756"/>
                        <a:pt x="484" y="742"/>
                      </a:cubicBezTo>
                      <a:lnTo>
                        <a:pt x="484" y="742"/>
                      </a:lnTo>
                      <a:cubicBezTo>
                        <a:pt x="484" y="729"/>
                        <a:pt x="495" y="717"/>
                        <a:pt x="509" y="717"/>
                      </a:cubicBezTo>
                      <a:cubicBezTo>
                        <a:pt x="523" y="717"/>
                        <a:pt x="534" y="729"/>
                        <a:pt x="534" y="742"/>
                      </a:cubicBezTo>
                      <a:close/>
                      <a:moveTo>
                        <a:pt x="534" y="842"/>
                      </a:moveTo>
                      <a:lnTo>
                        <a:pt x="534" y="843"/>
                      </a:lnTo>
                      <a:cubicBezTo>
                        <a:pt x="534" y="856"/>
                        <a:pt x="523" y="867"/>
                        <a:pt x="509" y="867"/>
                      </a:cubicBezTo>
                      <a:cubicBezTo>
                        <a:pt x="495" y="867"/>
                        <a:pt x="484" y="856"/>
                        <a:pt x="484" y="843"/>
                      </a:cubicBezTo>
                      <a:lnTo>
                        <a:pt x="484" y="842"/>
                      </a:lnTo>
                      <a:cubicBezTo>
                        <a:pt x="484" y="829"/>
                        <a:pt x="495" y="817"/>
                        <a:pt x="509" y="817"/>
                      </a:cubicBezTo>
                      <a:cubicBezTo>
                        <a:pt x="523" y="817"/>
                        <a:pt x="534" y="829"/>
                        <a:pt x="534" y="84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7594200" y="5648400"/>
                <a:ext cx="1091520" cy="708840"/>
                <a:chOff x="7594200" y="5648400"/>
                <a:chExt cx="1091520" cy="708840"/>
              </a:xfrm>
            </p:grpSpPr>
            <p:sp>
              <p:nvSpPr>
                <p:cNvPr id="1061" name=""/>
                <p:cNvSpPr/>
                <p:nvPr/>
              </p:nvSpPr>
              <p:spPr>
                <a:xfrm flipV="1">
                  <a:off x="8345520" y="6018120"/>
                  <a:ext cx="0" cy="6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V="1">
                  <a:off x="8345520" y="5894280"/>
                  <a:ext cx="0" cy="60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941960" y="6001920"/>
                  <a:ext cx="117000" cy="99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932960" y="5913720"/>
                  <a:ext cx="118440" cy="97560"/>
                </a:xfrm>
                <a:prstGeom prst="rect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952040" y="6324480"/>
                  <a:ext cx="540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076600" y="6324480"/>
                  <a:ext cx="55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>
                  <a:off x="8016840" y="5682240"/>
                  <a:ext cx="5544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7890840" y="5682240"/>
                  <a:ext cx="5544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9" name=""/>
                <p:cNvGrpSpPr/>
                <p:nvPr/>
              </p:nvGrpSpPr>
              <p:grpSpPr>
                <a:xfrm>
                  <a:off x="7878600" y="5653440"/>
                  <a:ext cx="244440" cy="93960"/>
                  <a:chOff x="7878600" y="5653440"/>
                  <a:chExt cx="244440" cy="9396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7878600" y="5653440"/>
                    <a:ext cx="244440" cy="9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878600" y="5653440"/>
                    <a:ext cx="244440" cy="939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7878600" y="6259320"/>
                  <a:ext cx="244440" cy="95040"/>
                  <a:chOff x="7878600" y="6259320"/>
                  <a:chExt cx="244440" cy="9504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7878600" y="6259320"/>
                    <a:ext cx="244440" cy="9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7878600" y="6259320"/>
                    <a:ext cx="244440" cy="950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8048520" y="5774760"/>
                  <a:ext cx="67320" cy="36720"/>
                  <a:chOff x="8048520" y="5774760"/>
                  <a:chExt cx="67320" cy="3672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8048520" y="5774760"/>
                    <a:ext cx="67320" cy="3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8048520" y="5774760"/>
                    <a:ext cx="67320" cy="36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8001720" y="5788440"/>
                  <a:ext cx="41760" cy="8280"/>
                  <a:chOff x="8001720" y="5788440"/>
                  <a:chExt cx="41760" cy="828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8001720" y="5788440"/>
                    <a:ext cx="4176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8001720" y="5788440"/>
                    <a:ext cx="41760" cy="828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8048520" y="6192720"/>
                  <a:ext cx="67320" cy="36720"/>
                  <a:chOff x="8048520" y="6192720"/>
                  <a:chExt cx="67320" cy="3672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8048520" y="6192720"/>
                    <a:ext cx="67320" cy="3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8048520" y="6192720"/>
                    <a:ext cx="67320" cy="3672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8001720" y="6206040"/>
                  <a:ext cx="41760" cy="9360"/>
                  <a:chOff x="8001720" y="6206040"/>
                  <a:chExt cx="41760" cy="936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8001720" y="6206040"/>
                    <a:ext cx="41760" cy="9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8001720" y="6206040"/>
                    <a:ext cx="41760" cy="93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7902720" y="5767920"/>
                  <a:ext cx="2880" cy="27000"/>
                  <a:chOff x="7902720" y="5767920"/>
                  <a:chExt cx="2880" cy="2700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7902720" y="5767920"/>
                    <a:ext cx="288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902720" y="5767920"/>
                    <a:ext cx="2880" cy="27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0" name=""/>
                <p:cNvSpPr/>
                <p:nvPr/>
              </p:nvSpPr>
              <p:spPr>
                <a:xfrm>
                  <a:off x="7928280" y="5996520"/>
                  <a:ext cx="1231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7898400" y="6214320"/>
                  <a:ext cx="2880" cy="27000"/>
                  <a:chOff x="7898400" y="6214320"/>
                  <a:chExt cx="2880" cy="2700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7898400" y="6214320"/>
                    <a:ext cx="288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7898400" y="6214320"/>
                    <a:ext cx="2880" cy="27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" name=""/>
                <p:cNvGrpSpPr/>
                <p:nvPr/>
              </p:nvGrpSpPr>
              <p:grpSpPr>
                <a:xfrm>
                  <a:off x="8162280" y="6262200"/>
                  <a:ext cx="244440" cy="95040"/>
                  <a:chOff x="8162280" y="6262200"/>
                  <a:chExt cx="244440" cy="9504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>
                    <a:off x="8162280" y="6262200"/>
                    <a:ext cx="244440" cy="9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8162280" y="6262200"/>
                    <a:ext cx="244440" cy="950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8162280" y="5652360"/>
                  <a:ext cx="244440" cy="93600"/>
                  <a:chOff x="8162280" y="5652360"/>
                  <a:chExt cx="244440" cy="9360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8162280" y="5652360"/>
                    <a:ext cx="244440" cy="93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8162280" y="5652360"/>
                    <a:ext cx="244440" cy="936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8283960" y="5773680"/>
                  <a:ext cx="115200" cy="36720"/>
                  <a:chOff x="8283960" y="5773680"/>
                  <a:chExt cx="115200" cy="36720"/>
                </a:xfrm>
              </p:grpSpPr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8331840" y="5773680"/>
                    <a:ext cx="67320" cy="36720"/>
                    <a:chOff x="8331840" y="5773680"/>
                    <a:chExt cx="67320" cy="3672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8331840" y="5773680"/>
                      <a:ext cx="67320" cy="36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8331840" y="5773680"/>
                      <a:ext cx="67320" cy="367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8283960" y="5787000"/>
                    <a:ext cx="43200" cy="7920"/>
                    <a:chOff x="8283960" y="5787000"/>
                    <a:chExt cx="43200" cy="792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8283960" y="5787000"/>
                      <a:ext cx="4320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8283960" y="5787000"/>
                      <a:ext cx="4320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8279280" y="6195240"/>
                  <a:ext cx="114840" cy="36720"/>
                  <a:chOff x="8279280" y="6195240"/>
                  <a:chExt cx="114840" cy="36720"/>
                </a:xfrm>
              </p:grpSpPr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8327160" y="6195240"/>
                    <a:ext cx="66960" cy="36720"/>
                    <a:chOff x="8327160" y="6195240"/>
                    <a:chExt cx="66960" cy="36720"/>
                  </a:xfrm>
                </p:grpSpPr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8327160" y="6195240"/>
                      <a:ext cx="66960" cy="36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8327160" y="6195240"/>
                      <a:ext cx="66960" cy="367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8279280" y="6208560"/>
                    <a:ext cx="43200" cy="7920"/>
                    <a:chOff x="8279280" y="6208560"/>
                    <a:chExt cx="43200" cy="7920"/>
                  </a:xfrm>
                </p:grpSpPr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8279280" y="6208560"/>
                      <a:ext cx="4320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8279280" y="6208560"/>
                      <a:ext cx="4320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8196840" y="5763960"/>
                  <a:ext cx="2880" cy="27000"/>
                  <a:chOff x="8196840" y="5763960"/>
                  <a:chExt cx="2880" cy="2700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>
                    <a:off x="8196840" y="5763960"/>
                    <a:ext cx="288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8196840" y="5763960"/>
                    <a:ext cx="2880" cy="27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7" name=""/>
                <p:cNvGrpSpPr/>
                <p:nvPr/>
              </p:nvGrpSpPr>
              <p:grpSpPr>
                <a:xfrm>
                  <a:off x="8186400" y="6212880"/>
                  <a:ext cx="2880" cy="27000"/>
                  <a:chOff x="8186400" y="6212880"/>
                  <a:chExt cx="2880" cy="2700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8186400" y="6212880"/>
                    <a:ext cx="288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8186400" y="6212880"/>
                    <a:ext cx="2880" cy="270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" name=""/>
                <p:cNvGrpSpPr/>
                <p:nvPr/>
              </p:nvGrpSpPr>
              <p:grpSpPr>
                <a:xfrm>
                  <a:off x="8267400" y="5946480"/>
                  <a:ext cx="118080" cy="97560"/>
                  <a:chOff x="8267400" y="5946480"/>
                  <a:chExt cx="118080" cy="97560"/>
                </a:xfrm>
              </p:grpSpPr>
              <p:sp>
                <p:nvSpPr>
                  <p:cNvPr id="1121" name=""/>
                  <p:cNvSpPr/>
                  <p:nvPr/>
                </p:nvSpPr>
                <p:spPr>
                  <a:xfrm>
                    <a:off x="8267400" y="5946480"/>
                    <a:ext cx="118080" cy="9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8267400" y="5946480"/>
                    <a:ext cx="118080" cy="9756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3" name=""/>
                <p:cNvSpPr/>
                <p:nvPr/>
              </p:nvSpPr>
              <p:spPr>
                <a:xfrm>
                  <a:off x="8038080" y="5814360"/>
                  <a:ext cx="47880" cy="89640"/>
                </a:xfrm>
                <a:custGeom>
                  <a:avLst/>
                  <a:gdLst/>
                  <a:ahLst/>
                  <a:rect l="l" t="t" r="r" b="b"/>
                  <a:pathLst>
                    <a:path w="32" h="66">
                      <a:moveTo>
                        <a:pt x="0" y="66"/>
                      </a:moveTo>
                      <a:lnTo>
                        <a:pt x="0" y="28"/>
                      </a:lnTo>
                      <a:lnTo>
                        <a:pt x="32" y="28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039160" y="6097320"/>
                  <a:ext cx="45000" cy="89640"/>
                </a:xfrm>
                <a:custGeom>
                  <a:avLst/>
                  <a:gdLst/>
                  <a:ahLst/>
                  <a:rect l="l" t="t" r="r" b="b"/>
                  <a:pathLst>
                    <a:path w="30" h="66">
                      <a:moveTo>
                        <a:pt x="0" y="0"/>
                      </a:moveTo>
                      <a:lnTo>
                        <a:pt x="0" y="38"/>
                      </a:lnTo>
                      <a:lnTo>
                        <a:pt x="30" y="38"/>
                      </a:lnTo>
                      <a:lnTo>
                        <a:pt x="30" y="66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321400" y="5810400"/>
                  <a:ext cx="40320" cy="12744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0" y="94"/>
                      </a:moveTo>
                      <a:lnTo>
                        <a:pt x="0" y="40"/>
                      </a:lnTo>
                      <a:lnTo>
                        <a:pt x="27" y="40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322840" y="6048360"/>
                  <a:ext cx="40320" cy="142560"/>
                </a:xfrm>
                <a:custGeom>
                  <a:avLst/>
                  <a:gdLst/>
                  <a:ahLst/>
                  <a:rect l="l" t="t" r="r" b="b"/>
                  <a:pathLst>
                    <a:path w="27" h="105">
                      <a:moveTo>
                        <a:pt x="0" y="0"/>
                      </a:moveTo>
                      <a:lnTo>
                        <a:pt x="0" y="60"/>
                      </a:lnTo>
                      <a:lnTo>
                        <a:pt x="27" y="60"/>
                      </a:lnTo>
                      <a:lnTo>
                        <a:pt x="27" y="105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7935840" y="5911920"/>
                  <a:ext cx="117000" cy="183600"/>
                  <a:chOff x="7935840" y="5911920"/>
                  <a:chExt cx="117000" cy="18360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>
                    <a:off x="7935840" y="5911920"/>
                    <a:ext cx="117000" cy="183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935840" y="5911920"/>
                    <a:ext cx="117000" cy="18360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7595280" y="6260400"/>
                  <a:ext cx="242640" cy="95040"/>
                  <a:chOff x="7595280" y="6260400"/>
                  <a:chExt cx="242640" cy="9504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7595280" y="6260400"/>
                    <a:ext cx="242640" cy="9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595280" y="6260400"/>
                    <a:ext cx="242640" cy="950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7721280" y="6193800"/>
                  <a:ext cx="113760" cy="36720"/>
                  <a:chOff x="7721280" y="6193800"/>
                  <a:chExt cx="113760" cy="36720"/>
                </a:xfrm>
              </p:grpSpPr>
              <p:grpSp>
                <p:nvGrpSpPr>
                  <p:cNvPr id="1134" name=""/>
                  <p:cNvGrpSpPr/>
                  <p:nvPr/>
                </p:nvGrpSpPr>
                <p:grpSpPr>
                  <a:xfrm>
                    <a:off x="7767360" y="6193800"/>
                    <a:ext cx="67680" cy="36720"/>
                    <a:chOff x="7767360" y="6193800"/>
                    <a:chExt cx="67680" cy="36720"/>
                  </a:xfrm>
                </p:grpSpPr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7767360" y="6193800"/>
                      <a:ext cx="67680" cy="36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7767360" y="6193800"/>
                      <a:ext cx="67680" cy="367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7721280" y="6207120"/>
                    <a:ext cx="41760" cy="8280"/>
                    <a:chOff x="7721280" y="6207120"/>
                    <a:chExt cx="41760" cy="82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7721280" y="6207120"/>
                      <a:ext cx="41760" cy="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7721280" y="6207120"/>
                      <a:ext cx="41760" cy="82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7723080" y="5777640"/>
                  <a:ext cx="113400" cy="36720"/>
                  <a:chOff x="7723080" y="5777640"/>
                  <a:chExt cx="113400" cy="36720"/>
                </a:xfrm>
              </p:grpSpPr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7769520" y="5777640"/>
                    <a:ext cx="66960" cy="36720"/>
                    <a:chOff x="7769520" y="5777640"/>
                    <a:chExt cx="66960" cy="3672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7769520" y="5777640"/>
                      <a:ext cx="66960" cy="36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>
                      <a:off x="7769520" y="5777640"/>
                      <a:ext cx="66960" cy="367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7723080" y="5790960"/>
                    <a:ext cx="41760" cy="7920"/>
                    <a:chOff x="7723080" y="5790960"/>
                    <a:chExt cx="41760" cy="792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7723080" y="5790960"/>
                      <a:ext cx="4176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7723080" y="5790960"/>
                      <a:ext cx="41760" cy="792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7594200" y="5653440"/>
                  <a:ext cx="242640" cy="95040"/>
                  <a:chOff x="7594200" y="5653440"/>
                  <a:chExt cx="242640" cy="9504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7594200" y="5653440"/>
                    <a:ext cx="242640" cy="9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7594200" y="5653440"/>
                    <a:ext cx="242640" cy="95040"/>
                  </a:xfrm>
                  <a:prstGeom prst="rect">
                    <a:avLst/>
                  </a:prstGeom>
                  <a:noFill/>
                  <a:ln cap="rnd"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0" name=""/>
                <p:cNvSpPr/>
                <p:nvPr/>
              </p:nvSpPr>
              <p:spPr>
                <a:xfrm>
                  <a:off x="7794720" y="5812560"/>
                  <a:ext cx="154440" cy="95040"/>
                </a:xfrm>
                <a:custGeom>
                  <a:avLst/>
                  <a:gdLst/>
                  <a:ahLst/>
                  <a:rect l="l" t="t" r="r" b="b"/>
                  <a:pathLst>
                    <a:path w="103" h="70">
                      <a:moveTo>
                        <a:pt x="0" y="0"/>
                      </a:moveTo>
                      <a:lnTo>
                        <a:pt x="0" y="38"/>
                      </a:lnTo>
                      <a:lnTo>
                        <a:pt x="103" y="38"/>
                      </a:lnTo>
                      <a:lnTo>
                        <a:pt x="103" y="7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794720" y="6097320"/>
                  <a:ext cx="147240" cy="89640"/>
                </a:xfrm>
                <a:custGeom>
                  <a:avLst/>
                  <a:gdLst/>
                  <a:ahLst/>
                  <a:rect l="l" t="t" r="r" b="b"/>
                  <a:pathLst>
                    <a:path w="98" h="66">
                      <a:moveTo>
                        <a:pt x="0" y="66"/>
                      </a:moveTo>
                      <a:lnTo>
                        <a:pt x="0" y="32"/>
                      </a:lnTo>
                      <a:lnTo>
                        <a:pt x="98" y="32"/>
                      </a:lnTo>
                      <a:lnTo>
                        <a:pt x="98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932960" y="6003360"/>
                  <a:ext cx="1231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16200000">
                  <a:off x="7899480" y="5972760"/>
                  <a:ext cx="1515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2   21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16200000">
                  <a:off x="8292240" y="5963760"/>
                  <a:ext cx="417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898400" y="5806080"/>
                  <a:ext cx="124200" cy="100800"/>
                </a:xfrm>
                <a:custGeom>
                  <a:avLst/>
                  <a:gdLst/>
                  <a:ahLst/>
                  <a:rect l="l" t="t" r="r" b="b"/>
                  <a:pathLst>
                    <a:path w="683" h="618">
                      <a:moveTo>
                        <a:pt x="633" y="593"/>
                      </a:moveTo>
                      <a:lnTo>
                        <a:pt x="633" y="593"/>
                      </a:lnTo>
                      <a:cubicBezTo>
                        <a:pt x="633" y="579"/>
                        <a:pt x="644" y="568"/>
                        <a:pt x="658" y="568"/>
                      </a:cubicBezTo>
                      <a:cubicBezTo>
                        <a:pt x="672" y="568"/>
                        <a:pt x="683" y="579"/>
                        <a:pt x="683" y="593"/>
                      </a:cubicBezTo>
                      <a:lnTo>
                        <a:pt x="683" y="593"/>
                      </a:lnTo>
                      <a:cubicBezTo>
                        <a:pt x="683" y="607"/>
                        <a:pt x="672" y="618"/>
                        <a:pt x="658" y="618"/>
                      </a:cubicBezTo>
                      <a:cubicBezTo>
                        <a:pt x="644" y="618"/>
                        <a:pt x="633" y="607"/>
                        <a:pt x="633" y="593"/>
                      </a:cubicBezTo>
                      <a:close/>
                      <a:moveTo>
                        <a:pt x="633" y="493"/>
                      </a:moveTo>
                      <a:lnTo>
                        <a:pt x="633" y="493"/>
                      </a:lnTo>
                      <a:cubicBezTo>
                        <a:pt x="633" y="479"/>
                        <a:pt x="644" y="468"/>
                        <a:pt x="658" y="468"/>
                      </a:cubicBezTo>
                      <a:cubicBezTo>
                        <a:pt x="672" y="468"/>
                        <a:pt x="683" y="479"/>
                        <a:pt x="683" y="493"/>
                      </a:cubicBezTo>
                      <a:lnTo>
                        <a:pt x="683" y="493"/>
                      </a:lnTo>
                      <a:cubicBezTo>
                        <a:pt x="683" y="507"/>
                        <a:pt x="672" y="518"/>
                        <a:pt x="658" y="518"/>
                      </a:cubicBezTo>
                      <a:cubicBezTo>
                        <a:pt x="644" y="518"/>
                        <a:pt x="633" y="507"/>
                        <a:pt x="633" y="493"/>
                      </a:cubicBezTo>
                      <a:close/>
                      <a:moveTo>
                        <a:pt x="633" y="393"/>
                      </a:moveTo>
                      <a:lnTo>
                        <a:pt x="633" y="393"/>
                      </a:lnTo>
                      <a:cubicBezTo>
                        <a:pt x="633" y="379"/>
                        <a:pt x="644" y="368"/>
                        <a:pt x="658" y="368"/>
                      </a:cubicBezTo>
                      <a:cubicBezTo>
                        <a:pt x="672" y="368"/>
                        <a:pt x="683" y="379"/>
                        <a:pt x="683" y="393"/>
                      </a:cubicBezTo>
                      <a:lnTo>
                        <a:pt x="683" y="393"/>
                      </a:lnTo>
                      <a:cubicBezTo>
                        <a:pt x="683" y="407"/>
                        <a:pt x="672" y="418"/>
                        <a:pt x="658" y="418"/>
                      </a:cubicBezTo>
                      <a:cubicBezTo>
                        <a:pt x="644" y="418"/>
                        <a:pt x="633" y="407"/>
                        <a:pt x="633" y="393"/>
                      </a:cubicBezTo>
                      <a:close/>
                      <a:moveTo>
                        <a:pt x="633" y="293"/>
                      </a:moveTo>
                      <a:lnTo>
                        <a:pt x="633" y="293"/>
                      </a:lnTo>
                      <a:cubicBezTo>
                        <a:pt x="633" y="279"/>
                        <a:pt x="644" y="268"/>
                        <a:pt x="658" y="268"/>
                      </a:cubicBezTo>
                      <a:cubicBezTo>
                        <a:pt x="672" y="268"/>
                        <a:pt x="683" y="279"/>
                        <a:pt x="683" y="293"/>
                      </a:cubicBezTo>
                      <a:lnTo>
                        <a:pt x="683" y="293"/>
                      </a:lnTo>
                      <a:cubicBezTo>
                        <a:pt x="683" y="306"/>
                        <a:pt x="672" y="318"/>
                        <a:pt x="658" y="318"/>
                      </a:cubicBezTo>
                      <a:cubicBezTo>
                        <a:pt x="644" y="318"/>
                        <a:pt x="633" y="306"/>
                        <a:pt x="633" y="293"/>
                      </a:cubicBezTo>
                      <a:close/>
                      <a:moveTo>
                        <a:pt x="633" y="193"/>
                      </a:moveTo>
                      <a:lnTo>
                        <a:pt x="633" y="193"/>
                      </a:lnTo>
                      <a:cubicBezTo>
                        <a:pt x="633" y="179"/>
                        <a:pt x="644" y="168"/>
                        <a:pt x="658" y="168"/>
                      </a:cubicBezTo>
                      <a:cubicBezTo>
                        <a:pt x="672" y="168"/>
                        <a:pt x="683" y="179"/>
                        <a:pt x="683" y="193"/>
                      </a:cubicBezTo>
                      <a:lnTo>
                        <a:pt x="683" y="193"/>
                      </a:lnTo>
                      <a:cubicBezTo>
                        <a:pt x="683" y="206"/>
                        <a:pt x="672" y="218"/>
                        <a:pt x="658" y="218"/>
                      </a:cubicBezTo>
                      <a:cubicBezTo>
                        <a:pt x="644" y="218"/>
                        <a:pt x="633" y="206"/>
                        <a:pt x="633" y="193"/>
                      </a:cubicBezTo>
                      <a:close/>
                      <a:moveTo>
                        <a:pt x="608" y="168"/>
                      </a:moveTo>
                      <a:lnTo>
                        <a:pt x="608" y="168"/>
                      </a:lnTo>
                      <a:cubicBezTo>
                        <a:pt x="594" y="168"/>
                        <a:pt x="583" y="157"/>
                        <a:pt x="583" y="143"/>
                      </a:cubicBezTo>
                      <a:cubicBezTo>
                        <a:pt x="583" y="129"/>
                        <a:pt x="594" y="118"/>
                        <a:pt x="608" y="118"/>
                      </a:cubicBezTo>
                      <a:lnTo>
                        <a:pt x="608" y="118"/>
                      </a:lnTo>
                      <a:cubicBezTo>
                        <a:pt x="622" y="118"/>
                        <a:pt x="633" y="129"/>
                        <a:pt x="633" y="143"/>
                      </a:cubicBezTo>
                      <a:cubicBezTo>
                        <a:pt x="633" y="157"/>
                        <a:pt x="622" y="168"/>
                        <a:pt x="608" y="168"/>
                      </a:cubicBezTo>
                      <a:close/>
                      <a:moveTo>
                        <a:pt x="508" y="168"/>
                      </a:moveTo>
                      <a:lnTo>
                        <a:pt x="508" y="168"/>
                      </a:lnTo>
                      <a:cubicBezTo>
                        <a:pt x="494" y="168"/>
                        <a:pt x="483" y="157"/>
                        <a:pt x="483" y="143"/>
                      </a:cubicBezTo>
                      <a:cubicBezTo>
                        <a:pt x="483" y="129"/>
                        <a:pt x="494" y="118"/>
                        <a:pt x="508" y="118"/>
                      </a:cubicBezTo>
                      <a:lnTo>
                        <a:pt x="508" y="118"/>
                      </a:lnTo>
                      <a:cubicBezTo>
                        <a:pt x="522" y="118"/>
                        <a:pt x="533" y="129"/>
                        <a:pt x="533" y="143"/>
                      </a:cubicBezTo>
                      <a:cubicBezTo>
                        <a:pt x="533" y="157"/>
                        <a:pt x="522" y="168"/>
                        <a:pt x="508" y="168"/>
                      </a:cubicBezTo>
                      <a:close/>
                      <a:moveTo>
                        <a:pt x="408" y="168"/>
                      </a:moveTo>
                      <a:lnTo>
                        <a:pt x="408" y="168"/>
                      </a:lnTo>
                      <a:cubicBezTo>
                        <a:pt x="394" y="168"/>
                        <a:pt x="383" y="157"/>
                        <a:pt x="383" y="143"/>
                      </a:cubicBezTo>
                      <a:cubicBezTo>
                        <a:pt x="383" y="129"/>
                        <a:pt x="394" y="118"/>
                        <a:pt x="408" y="118"/>
                      </a:cubicBezTo>
                      <a:lnTo>
                        <a:pt x="408" y="118"/>
                      </a:lnTo>
                      <a:cubicBezTo>
                        <a:pt x="422" y="118"/>
                        <a:pt x="433" y="129"/>
                        <a:pt x="433" y="143"/>
                      </a:cubicBezTo>
                      <a:cubicBezTo>
                        <a:pt x="433" y="157"/>
                        <a:pt x="422" y="168"/>
                        <a:pt x="408" y="168"/>
                      </a:cubicBezTo>
                      <a:close/>
                      <a:moveTo>
                        <a:pt x="308" y="168"/>
                      </a:moveTo>
                      <a:lnTo>
                        <a:pt x="308" y="168"/>
                      </a:lnTo>
                      <a:cubicBezTo>
                        <a:pt x="294" y="168"/>
                        <a:pt x="283" y="157"/>
                        <a:pt x="283" y="143"/>
                      </a:cubicBezTo>
                      <a:cubicBezTo>
                        <a:pt x="283" y="129"/>
                        <a:pt x="294" y="118"/>
                        <a:pt x="308" y="118"/>
                      </a:cubicBezTo>
                      <a:lnTo>
                        <a:pt x="308" y="118"/>
                      </a:lnTo>
                      <a:cubicBezTo>
                        <a:pt x="322" y="118"/>
                        <a:pt x="333" y="129"/>
                        <a:pt x="333" y="143"/>
                      </a:cubicBezTo>
                      <a:cubicBezTo>
                        <a:pt x="333" y="157"/>
                        <a:pt x="322" y="168"/>
                        <a:pt x="308" y="168"/>
                      </a:cubicBezTo>
                      <a:close/>
                      <a:moveTo>
                        <a:pt x="208" y="168"/>
                      </a:moveTo>
                      <a:lnTo>
                        <a:pt x="208" y="168"/>
                      </a:lnTo>
                      <a:cubicBezTo>
                        <a:pt x="194" y="168"/>
                        <a:pt x="183" y="157"/>
                        <a:pt x="183" y="143"/>
                      </a:cubicBezTo>
                      <a:cubicBezTo>
                        <a:pt x="183" y="129"/>
                        <a:pt x="194" y="118"/>
                        <a:pt x="208" y="118"/>
                      </a:cubicBezTo>
                      <a:lnTo>
                        <a:pt x="208" y="118"/>
                      </a:lnTo>
                      <a:cubicBezTo>
                        <a:pt x="221" y="118"/>
                        <a:pt x="233" y="129"/>
                        <a:pt x="233" y="143"/>
                      </a:cubicBezTo>
                      <a:cubicBezTo>
                        <a:pt x="233" y="157"/>
                        <a:pt x="221" y="168"/>
                        <a:pt x="208" y="168"/>
                      </a:cubicBezTo>
                      <a:close/>
                      <a:moveTo>
                        <a:pt x="108" y="168"/>
                      </a:moveTo>
                      <a:lnTo>
                        <a:pt x="108" y="168"/>
                      </a:lnTo>
                      <a:cubicBezTo>
                        <a:pt x="94" y="168"/>
                        <a:pt x="83" y="157"/>
                        <a:pt x="83" y="143"/>
                      </a:cubicBezTo>
                      <a:cubicBezTo>
                        <a:pt x="83" y="129"/>
                        <a:pt x="94" y="118"/>
                        <a:pt x="108" y="118"/>
                      </a:cubicBezTo>
                      <a:lnTo>
                        <a:pt x="108" y="118"/>
                      </a:lnTo>
                      <a:cubicBezTo>
                        <a:pt x="121" y="118"/>
                        <a:pt x="133" y="129"/>
                        <a:pt x="133" y="143"/>
                      </a:cubicBezTo>
                      <a:cubicBezTo>
                        <a:pt x="133" y="157"/>
                        <a:pt x="121" y="168"/>
                        <a:pt x="108" y="168"/>
                      </a:cubicBezTo>
                      <a:close/>
                      <a:moveTo>
                        <a:pt x="0" y="126"/>
                      </a:moveTo>
                      <a:lnTo>
                        <a:pt x="0" y="126"/>
                      </a:lnTo>
                      <a:cubicBezTo>
                        <a:pt x="0" y="112"/>
                        <a:pt x="11" y="101"/>
                        <a:pt x="25" y="101"/>
                      </a:cubicBezTo>
                      <a:cubicBezTo>
                        <a:pt x="39" y="101"/>
                        <a:pt x="50" y="112"/>
                        <a:pt x="50" y="126"/>
                      </a:cubicBezTo>
                      <a:lnTo>
                        <a:pt x="50" y="126"/>
                      </a:lnTo>
                      <a:cubicBezTo>
                        <a:pt x="50" y="139"/>
                        <a:pt x="39" y="151"/>
                        <a:pt x="25" y="151"/>
                      </a:cubicBezTo>
                      <a:cubicBezTo>
                        <a:pt x="11" y="151"/>
                        <a:pt x="0" y="139"/>
                        <a:pt x="0" y="126"/>
                      </a:cubicBezTo>
                      <a:close/>
                      <a:moveTo>
                        <a:pt x="0" y="26"/>
                      </a:moveTo>
                      <a:lnTo>
                        <a:pt x="0" y="25"/>
                      </a:lnTo>
                      <a:cubicBezTo>
                        <a:pt x="0" y="12"/>
                        <a:pt x="11" y="0"/>
                        <a:pt x="25" y="0"/>
                      </a:cubicBezTo>
                      <a:cubicBezTo>
                        <a:pt x="39" y="0"/>
                        <a:pt x="50" y="12"/>
                        <a:pt x="50" y="25"/>
                      </a:cubicBezTo>
                      <a:lnTo>
                        <a:pt x="50" y="26"/>
                      </a:lnTo>
                      <a:cubicBezTo>
                        <a:pt x="50" y="39"/>
                        <a:pt x="39" y="51"/>
                        <a:pt x="25" y="51"/>
                      </a:cubicBezTo>
                      <a:cubicBezTo>
                        <a:pt x="11" y="51"/>
                        <a:pt x="0" y="39"/>
                        <a:pt x="0" y="2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193600" y="5795280"/>
                  <a:ext cx="94320" cy="144360"/>
                </a:xfrm>
                <a:custGeom>
                  <a:avLst/>
                  <a:gdLst/>
                  <a:ahLst/>
                  <a:rect l="l" t="t" r="r" b="b"/>
                  <a:pathLst>
                    <a:path w="517" h="884">
                      <a:moveTo>
                        <a:pt x="467" y="859"/>
                      </a:moveTo>
                      <a:lnTo>
                        <a:pt x="467" y="859"/>
                      </a:lnTo>
                      <a:cubicBezTo>
                        <a:pt x="467" y="845"/>
                        <a:pt x="478" y="834"/>
                        <a:pt x="492" y="834"/>
                      </a:cubicBezTo>
                      <a:cubicBezTo>
                        <a:pt x="506" y="834"/>
                        <a:pt x="517" y="845"/>
                        <a:pt x="517" y="859"/>
                      </a:cubicBezTo>
                      <a:lnTo>
                        <a:pt x="517" y="859"/>
                      </a:lnTo>
                      <a:cubicBezTo>
                        <a:pt x="517" y="873"/>
                        <a:pt x="506" y="884"/>
                        <a:pt x="492" y="884"/>
                      </a:cubicBezTo>
                      <a:cubicBezTo>
                        <a:pt x="478" y="884"/>
                        <a:pt x="467" y="873"/>
                        <a:pt x="467" y="859"/>
                      </a:cubicBezTo>
                      <a:close/>
                      <a:moveTo>
                        <a:pt x="467" y="759"/>
                      </a:moveTo>
                      <a:lnTo>
                        <a:pt x="467" y="759"/>
                      </a:lnTo>
                      <a:cubicBezTo>
                        <a:pt x="467" y="745"/>
                        <a:pt x="478" y="734"/>
                        <a:pt x="492" y="734"/>
                      </a:cubicBezTo>
                      <a:cubicBezTo>
                        <a:pt x="506" y="734"/>
                        <a:pt x="517" y="745"/>
                        <a:pt x="517" y="759"/>
                      </a:cubicBezTo>
                      <a:lnTo>
                        <a:pt x="517" y="759"/>
                      </a:lnTo>
                      <a:cubicBezTo>
                        <a:pt x="517" y="773"/>
                        <a:pt x="506" y="784"/>
                        <a:pt x="492" y="784"/>
                      </a:cubicBezTo>
                      <a:cubicBezTo>
                        <a:pt x="478" y="784"/>
                        <a:pt x="467" y="773"/>
                        <a:pt x="467" y="759"/>
                      </a:cubicBezTo>
                      <a:close/>
                      <a:moveTo>
                        <a:pt x="467" y="659"/>
                      </a:moveTo>
                      <a:lnTo>
                        <a:pt x="467" y="659"/>
                      </a:lnTo>
                      <a:cubicBezTo>
                        <a:pt x="467" y="645"/>
                        <a:pt x="478" y="634"/>
                        <a:pt x="492" y="634"/>
                      </a:cubicBezTo>
                      <a:cubicBezTo>
                        <a:pt x="506" y="634"/>
                        <a:pt x="517" y="645"/>
                        <a:pt x="517" y="659"/>
                      </a:cubicBezTo>
                      <a:lnTo>
                        <a:pt x="517" y="659"/>
                      </a:lnTo>
                      <a:cubicBezTo>
                        <a:pt x="517" y="673"/>
                        <a:pt x="506" y="684"/>
                        <a:pt x="492" y="684"/>
                      </a:cubicBezTo>
                      <a:cubicBezTo>
                        <a:pt x="478" y="684"/>
                        <a:pt x="467" y="673"/>
                        <a:pt x="467" y="659"/>
                      </a:cubicBezTo>
                      <a:close/>
                      <a:moveTo>
                        <a:pt x="418" y="658"/>
                      </a:moveTo>
                      <a:lnTo>
                        <a:pt x="418" y="658"/>
                      </a:lnTo>
                      <a:cubicBezTo>
                        <a:pt x="404" y="658"/>
                        <a:pt x="393" y="647"/>
                        <a:pt x="393" y="633"/>
                      </a:cubicBezTo>
                      <a:cubicBezTo>
                        <a:pt x="393" y="619"/>
                        <a:pt x="404" y="608"/>
                        <a:pt x="418" y="608"/>
                      </a:cubicBezTo>
                      <a:lnTo>
                        <a:pt x="418" y="608"/>
                      </a:lnTo>
                      <a:cubicBezTo>
                        <a:pt x="431" y="608"/>
                        <a:pt x="443" y="619"/>
                        <a:pt x="443" y="633"/>
                      </a:cubicBezTo>
                      <a:cubicBezTo>
                        <a:pt x="443" y="647"/>
                        <a:pt x="431" y="658"/>
                        <a:pt x="418" y="658"/>
                      </a:cubicBezTo>
                      <a:close/>
                      <a:moveTo>
                        <a:pt x="318" y="658"/>
                      </a:moveTo>
                      <a:lnTo>
                        <a:pt x="318" y="658"/>
                      </a:lnTo>
                      <a:cubicBezTo>
                        <a:pt x="304" y="658"/>
                        <a:pt x="293" y="647"/>
                        <a:pt x="293" y="633"/>
                      </a:cubicBezTo>
                      <a:cubicBezTo>
                        <a:pt x="293" y="619"/>
                        <a:pt x="304" y="608"/>
                        <a:pt x="318" y="608"/>
                      </a:cubicBezTo>
                      <a:lnTo>
                        <a:pt x="318" y="608"/>
                      </a:lnTo>
                      <a:cubicBezTo>
                        <a:pt x="331" y="608"/>
                        <a:pt x="343" y="619"/>
                        <a:pt x="343" y="633"/>
                      </a:cubicBezTo>
                      <a:cubicBezTo>
                        <a:pt x="343" y="647"/>
                        <a:pt x="331" y="658"/>
                        <a:pt x="318" y="658"/>
                      </a:cubicBezTo>
                      <a:close/>
                      <a:moveTo>
                        <a:pt x="218" y="658"/>
                      </a:moveTo>
                      <a:lnTo>
                        <a:pt x="217" y="658"/>
                      </a:lnTo>
                      <a:cubicBezTo>
                        <a:pt x="204" y="658"/>
                        <a:pt x="192" y="647"/>
                        <a:pt x="192" y="633"/>
                      </a:cubicBezTo>
                      <a:cubicBezTo>
                        <a:pt x="192" y="619"/>
                        <a:pt x="204" y="608"/>
                        <a:pt x="217" y="608"/>
                      </a:cubicBezTo>
                      <a:lnTo>
                        <a:pt x="218" y="608"/>
                      </a:lnTo>
                      <a:cubicBezTo>
                        <a:pt x="231" y="608"/>
                        <a:pt x="243" y="619"/>
                        <a:pt x="243" y="633"/>
                      </a:cubicBezTo>
                      <a:cubicBezTo>
                        <a:pt x="243" y="647"/>
                        <a:pt x="231" y="658"/>
                        <a:pt x="218" y="658"/>
                      </a:cubicBezTo>
                      <a:close/>
                      <a:moveTo>
                        <a:pt x="117" y="658"/>
                      </a:moveTo>
                      <a:lnTo>
                        <a:pt x="117" y="658"/>
                      </a:lnTo>
                      <a:cubicBezTo>
                        <a:pt x="104" y="658"/>
                        <a:pt x="92" y="647"/>
                        <a:pt x="92" y="633"/>
                      </a:cubicBezTo>
                      <a:cubicBezTo>
                        <a:pt x="92" y="619"/>
                        <a:pt x="104" y="608"/>
                        <a:pt x="117" y="608"/>
                      </a:cubicBezTo>
                      <a:lnTo>
                        <a:pt x="117" y="608"/>
                      </a:lnTo>
                      <a:cubicBezTo>
                        <a:pt x="131" y="608"/>
                        <a:pt x="142" y="619"/>
                        <a:pt x="142" y="633"/>
                      </a:cubicBezTo>
                      <a:cubicBezTo>
                        <a:pt x="142" y="647"/>
                        <a:pt x="131" y="658"/>
                        <a:pt x="117" y="658"/>
                      </a:cubicBezTo>
                      <a:close/>
                      <a:moveTo>
                        <a:pt x="0" y="625"/>
                      </a:moveTo>
                      <a:lnTo>
                        <a:pt x="0" y="625"/>
                      </a:lnTo>
                      <a:cubicBezTo>
                        <a:pt x="0" y="611"/>
                        <a:pt x="11" y="600"/>
                        <a:pt x="25" y="600"/>
                      </a:cubicBezTo>
                      <a:cubicBezTo>
                        <a:pt x="39" y="600"/>
                        <a:pt x="50" y="611"/>
                        <a:pt x="50" y="625"/>
                      </a:cubicBezTo>
                      <a:lnTo>
                        <a:pt x="50" y="625"/>
                      </a:lnTo>
                      <a:cubicBezTo>
                        <a:pt x="50" y="639"/>
                        <a:pt x="39" y="650"/>
                        <a:pt x="25" y="650"/>
                      </a:cubicBezTo>
                      <a:cubicBezTo>
                        <a:pt x="11" y="650"/>
                        <a:pt x="0" y="639"/>
                        <a:pt x="0" y="625"/>
                      </a:cubicBezTo>
                      <a:close/>
                      <a:moveTo>
                        <a:pt x="0" y="525"/>
                      </a:moveTo>
                      <a:lnTo>
                        <a:pt x="0" y="525"/>
                      </a:lnTo>
                      <a:cubicBezTo>
                        <a:pt x="0" y="511"/>
                        <a:pt x="11" y="500"/>
                        <a:pt x="25" y="500"/>
                      </a:cubicBezTo>
                      <a:cubicBezTo>
                        <a:pt x="39" y="500"/>
                        <a:pt x="50" y="511"/>
                        <a:pt x="50" y="525"/>
                      </a:cubicBezTo>
                      <a:lnTo>
                        <a:pt x="50" y="525"/>
                      </a:lnTo>
                      <a:cubicBezTo>
                        <a:pt x="50" y="539"/>
                        <a:pt x="39" y="550"/>
                        <a:pt x="25" y="550"/>
                      </a:cubicBezTo>
                      <a:cubicBezTo>
                        <a:pt x="11" y="550"/>
                        <a:pt x="0" y="539"/>
                        <a:pt x="0" y="525"/>
                      </a:cubicBezTo>
                      <a:close/>
                      <a:moveTo>
                        <a:pt x="0" y="425"/>
                      </a:moveTo>
                      <a:lnTo>
                        <a:pt x="0" y="425"/>
                      </a:lnTo>
                      <a:cubicBezTo>
                        <a:pt x="0" y="411"/>
                        <a:pt x="11" y="400"/>
                        <a:pt x="25" y="400"/>
                      </a:cubicBezTo>
                      <a:cubicBezTo>
                        <a:pt x="39" y="400"/>
                        <a:pt x="50" y="411"/>
                        <a:pt x="50" y="425"/>
                      </a:cubicBezTo>
                      <a:lnTo>
                        <a:pt x="50" y="425"/>
                      </a:lnTo>
                      <a:cubicBezTo>
                        <a:pt x="50" y="439"/>
                        <a:pt x="39" y="450"/>
                        <a:pt x="25" y="450"/>
                      </a:cubicBezTo>
                      <a:cubicBezTo>
                        <a:pt x="11" y="450"/>
                        <a:pt x="0" y="439"/>
                        <a:pt x="0" y="425"/>
                      </a:cubicBezTo>
                      <a:close/>
                      <a:moveTo>
                        <a:pt x="0" y="325"/>
                      </a:moveTo>
                      <a:lnTo>
                        <a:pt x="0" y="325"/>
                      </a:lnTo>
                      <a:cubicBezTo>
                        <a:pt x="0" y="311"/>
                        <a:pt x="11" y="300"/>
                        <a:pt x="25" y="300"/>
                      </a:cubicBezTo>
                      <a:cubicBezTo>
                        <a:pt x="39" y="300"/>
                        <a:pt x="50" y="311"/>
                        <a:pt x="50" y="325"/>
                      </a:cubicBezTo>
                      <a:lnTo>
                        <a:pt x="50" y="325"/>
                      </a:lnTo>
                      <a:cubicBezTo>
                        <a:pt x="50" y="339"/>
                        <a:pt x="39" y="350"/>
                        <a:pt x="25" y="350"/>
                      </a:cubicBezTo>
                      <a:cubicBezTo>
                        <a:pt x="11" y="350"/>
                        <a:pt x="0" y="339"/>
                        <a:pt x="0" y="325"/>
                      </a:cubicBezTo>
                      <a:close/>
                      <a:moveTo>
                        <a:pt x="0" y="225"/>
                      </a:moveTo>
                      <a:lnTo>
                        <a:pt x="0" y="225"/>
                      </a:lnTo>
                      <a:cubicBezTo>
                        <a:pt x="0" y="211"/>
                        <a:pt x="11" y="200"/>
                        <a:pt x="25" y="200"/>
                      </a:cubicBezTo>
                      <a:cubicBezTo>
                        <a:pt x="39" y="200"/>
                        <a:pt x="50" y="211"/>
                        <a:pt x="50" y="225"/>
                      </a:cubicBezTo>
                      <a:lnTo>
                        <a:pt x="50" y="225"/>
                      </a:lnTo>
                      <a:cubicBezTo>
                        <a:pt x="50" y="239"/>
                        <a:pt x="39" y="250"/>
                        <a:pt x="25" y="250"/>
                      </a:cubicBezTo>
                      <a:cubicBezTo>
                        <a:pt x="11" y="250"/>
                        <a:pt x="0" y="239"/>
                        <a:pt x="0" y="225"/>
                      </a:cubicBezTo>
                      <a:close/>
                      <a:moveTo>
                        <a:pt x="0" y="125"/>
                      </a:moveTo>
                      <a:lnTo>
                        <a:pt x="0" y="125"/>
                      </a:lnTo>
                      <a:cubicBezTo>
                        <a:pt x="0" y="111"/>
                        <a:pt x="11" y="100"/>
                        <a:pt x="25" y="100"/>
                      </a:cubicBezTo>
                      <a:cubicBezTo>
                        <a:pt x="39" y="100"/>
                        <a:pt x="50" y="111"/>
                        <a:pt x="50" y="125"/>
                      </a:cubicBezTo>
                      <a:lnTo>
                        <a:pt x="50" y="125"/>
                      </a:lnTo>
                      <a:cubicBezTo>
                        <a:pt x="50" y="139"/>
                        <a:pt x="39" y="150"/>
                        <a:pt x="25" y="150"/>
                      </a:cubicBezTo>
                      <a:cubicBezTo>
                        <a:pt x="11" y="150"/>
                        <a:pt x="0" y="139"/>
                        <a:pt x="0" y="125"/>
                      </a:cubicBezTo>
                      <a:close/>
                      <a:moveTo>
                        <a:pt x="0" y="25"/>
                      </a:moveTo>
                      <a:lnTo>
                        <a:pt x="0" y="25"/>
                      </a:lnTo>
                      <a:cubicBezTo>
                        <a:pt x="0" y="11"/>
                        <a:pt x="11" y="0"/>
                        <a:pt x="25" y="0"/>
                      </a:cubicBezTo>
                      <a:cubicBezTo>
                        <a:pt x="39" y="0"/>
                        <a:pt x="50" y="11"/>
                        <a:pt x="50" y="25"/>
                      </a:cubicBezTo>
                      <a:lnTo>
                        <a:pt x="50" y="25"/>
                      </a:lnTo>
                      <a:cubicBezTo>
                        <a:pt x="50" y="39"/>
                        <a:pt x="39" y="50"/>
                        <a:pt x="25" y="50"/>
                      </a:cubicBezTo>
                      <a:cubicBezTo>
                        <a:pt x="11" y="50"/>
                        <a:pt x="0" y="39"/>
                        <a:pt x="0" y="2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895520" y="6087600"/>
                  <a:ext cx="127440" cy="114480"/>
                </a:xfrm>
                <a:custGeom>
                  <a:avLst/>
                  <a:gdLst/>
                  <a:ahLst/>
                  <a:rect l="l" t="t" r="r" b="b"/>
                  <a:pathLst>
                    <a:path w="700" h="700">
                      <a:moveTo>
                        <a:pt x="700" y="25"/>
                      </a:moveTo>
                      <a:lnTo>
                        <a:pt x="700" y="25"/>
                      </a:lnTo>
                      <a:cubicBezTo>
                        <a:pt x="700" y="39"/>
                        <a:pt x="689" y="50"/>
                        <a:pt x="675" y="50"/>
                      </a:cubicBezTo>
                      <a:cubicBezTo>
                        <a:pt x="661" y="50"/>
                        <a:pt x="650" y="39"/>
                        <a:pt x="650" y="25"/>
                      </a:cubicBezTo>
                      <a:lnTo>
                        <a:pt x="650" y="25"/>
                      </a:lnTo>
                      <a:cubicBezTo>
                        <a:pt x="650" y="11"/>
                        <a:pt x="661" y="0"/>
                        <a:pt x="675" y="0"/>
                      </a:cubicBezTo>
                      <a:cubicBezTo>
                        <a:pt x="689" y="0"/>
                        <a:pt x="700" y="11"/>
                        <a:pt x="700" y="25"/>
                      </a:cubicBezTo>
                      <a:close/>
                      <a:moveTo>
                        <a:pt x="700" y="125"/>
                      </a:moveTo>
                      <a:lnTo>
                        <a:pt x="700" y="125"/>
                      </a:lnTo>
                      <a:cubicBezTo>
                        <a:pt x="700" y="139"/>
                        <a:pt x="689" y="150"/>
                        <a:pt x="675" y="150"/>
                      </a:cubicBezTo>
                      <a:cubicBezTo>
                        <a:pt x="661" y="150"/>
                        <a:pt x="650" y="139"/>
                        <a:pt x="650" y="125"/>
                      </a:cubicBezTo>
                      <a:lnTo>
                        <a:pt x="650" y="125"/>
                      </a:lnTo>
                      <a:cubicBezTo>
                        <a:pt x="650" y="111"/>
                        <a:pt x="661" y="100"/>
                        <a:pt x="675" y="100"/>
                      </a:cubicBezTo>
                      <a:cubicBezTo>
                        <a:pt x="689" y="100"/>
                        <a:pt x="700" y="111"/>
                        <a:pt x="700" y="125"/>
                      </a:cubicBezTo>
                      <a:close/>
                      <a:moveTo>
                        <a:pt x="700" y="225"/>
                      </a:moveTo>
                      <a:lnTo>
                        <a:pt x="700" y="225"/>
                      </a:lnTo>
                      <a:cubicBezTo>
                        <a:pt x="700" y="239"/>
                        <a:pt x="689" y="250"/>
                        <a:pt x="675" y="250"/>
                      </a:cubicBezTo>
                      <a:cubicBezTo>
                        <a:pt x="661" y="250"/>
                        <a:pt x="650" y="239"/>
                        <a:pt x="650" y="225"/>
                      </a:cubicBezTo>
                      <a:lnTo>
                        <a:pt x="650" y="225"/>
                      </a:lnTo>
                      <a:cubicBezTo>
                        <a:pt x="650" y="211"/>
                        <a:pt x="661" y="200"/>
                        <a:pt x="675" y="200"/>
                      </a:cubicBezTo>
                      <a:cubicBezTo>
                        <a:pt x="689" y="200"/>
                        <a:pt x="700" y="211"/>
                        <a:pt x="700" y="225"/>
                      </a:cubicBezTo>
                      <a:close/>
                      <a:moveTo>
                        <a:pt x="700" y="325"/>
                      </a:moveTo>
                      <a:lnTo>
                        <a:pt x="700" y="325"/>
                      </a:lnTo>
                      <a:cubicBezTo>
                        <a:pt x="700" y="339"/>
                        <a:pt x="689" y="350"/>
                        <a:pt x="675" y="350"/>
                      </a:cubicBezTo>
                      <a:cubicBezTo>
                        <a:pt x="661" y="350"/>
                        <a:pt x="650" y="339"/>
                        <a:pt x="650" y="325"/>
                      </a:cubicBezTo>
                      <a:lnTo>
                        <a:pt x="650" y="325"/>
                      </a:lnTo>
                      <a:cubicBezTo>
                        <a:pt x="650" y="311"/>
                        <a:pt x="661" y="300"/>
                        <a:pt x="675" y="300"/>
                      </a:cubicBezTo>
                      <a:cubicBezTo>
                        <a:pt x="689" y="300"/>
                        <a:pt x="700" y="311"/>
                        <a:pt x="700" y="325"/>
                      </a:cubicBezTo>
                      <a:close/>
                      <a:moveTo>
                        <a:pt x="700" y="425"/>
                      </a:moveTo>
                      <a:lnTo>
                        <a:pt x="700" y="425"/>
                      </a:lnTo>
                      <a:cubicBezTo>
                        <a:pt x="700" y="439"/>
                        <a:pt x="689" y="450"/>
                        <a:pt x="675" y="450"/>
                      </a:cubicBezTo>
                      <a:cubicBezTo>
                        <a:pt x="661" y="450"/>
                        <a:pt x="650" y="439"/>
                        <a:pt x="650" y="425"/>
                      </a:cubicBezTo>
                      <a:lnTo>
                        <a:pt x="650" y="425"/>
                      </a:lnTo>
                      <a:cubicBezTo>
                        <a:pt x="650" y="411"/>
                        <a:pt x="661" y="400"/>
                        <a:pt x="675" y="400"/>
                      </a:cubicBezTo>
                      <a:cubicBezTo>
                        <a:pt x="689" y="400"/>
                        <a:pt x="700" y="411"/>
                        <a:pt x="700" y="425"/>
                      </a:cubicBezTo>
                      <a:close/>
                      <a:moveTo>
                        <a:pt x="700" y="525"/>
                      </a:moveTo>
                      <a:lnTo>
                        <a:pt x="700" y="525"/>
                      </a:lnTo>
                      <a:cubicBezTo>
                        <a:pt x="700" y="539"/>
                        <a:pt x="689" y="550"/>
                        <a:pt x="675" y="550"/>
                      </a:cubicBezTo>
                      <a:cubicBezTo>
                        <a:pt x="661" y="550"/>
                        <a:pt x="650" y="539"/>
                        <a:pt x="650" y="525"/>
                      </a:cubicBezTo>
                      <a:lnTo>
                        <a:pt x="650" y="525"/>
                      </a:lnTo>
                      <a:cubicBezTo>
                        <a:pt x="650" y="511"/>
                        <a:pt x="661" y="500"/>
                        <a:pt x="675" y="500"/>
                      </a:cubicBezTo>
                      <a:cubicBezTo>
                        <a:pt x="689" y="500"/>
                        <a:pt x="700" y="511"/>
                        <a:pt x="700" y="525"/>
                      </a:cubicBezTo>
                      <a:close/>
                      <a:moveTo>
                        <a:pt x="650" y="625"/>
                      </a:moveTo>
                      <a:lnTo>
                        <a:pt x="650" y="625"/>
                      </a:lnTo>
                      <a:cubicBezTo>
                        <a:pt x="637" y="625"/>
                        <a:pt x="625" y="614"/>
                        <a:pt x="625" y="600"/>
                      </a:cubicBezTo>
                      <a:cubicBezTo>
                        <a:pt x="625" y="587"/>
                        <a:pt x="637" y="575"/>
                        <a:pt x="650" y="575"/>
                      </a:cubicBezTo>
                      <a:lnTo>
                        <a:pt x="650" y="575"/>
                      </a:lnTo>
                      <a:cubicBezTo>
                        <a:pt x="664" y="575"/>
                        <a:pt x="675" y="587"/>
                        <a:pt x="675" y="600"/>
                      </a:cubicBezTo>
                      <a:cubicBezTo>
                        <a:pt x="675" y="614"/>
                        <a:pt x="664" y="625"/>
                        <a:pt x="650" y="625"/>
                      </a:cubicBezTo>
                      <a:close/>
                      <a:moveTo>
                        <a:pt x="550" y="625"/>
                      </a:moveTo>
                      <a:lnTo>
                        <a:pt x="550" y="625"/>
                      </a:lnTo>
                      <a:cubicBezTo>
                        <a:pt x="537" y="625"/>
                        <a:pt x="525" y="614"/>
                        <a:pt x="525" y="600"/>
                      </a:cubicBezTo>
                      <a:cubicBezTo>
                        <a:pt x="525" y="587"/>
                        <a:pt x="537" y="575"/>
                        <a:pt x="550" y="575"/>
                      </a:cubicBezTo>
                      <a:lnTo>
                        <a:pt x="550" y="575"/>
                      </a:lnTo>
                      <a:cubicBezTo>
                        <a:pt x="564" y="575"/>
                        <a:pt x="575" y="587"/>
                        <a:pt x="575" y="600"/>
                      </a:cubicBezTo>
                      <a:cubicBezTo>
                        <a:pt x="575" y="614"/>
                        <a:pt x="564" y="625"/>
                        <a:pt x="550" y="625"/>
                      </a:cubicBezTo>
                      <a:close/>
                      <a:moveTo>
                        <a:pt x="450" y="625"/>
                      </a:moveTo>
                      <a:lnTo>
                        <a:pt x="450" y="625"/>
                      </a:lnTo>
                      <a:cubicBezTo>
                        <a:pt x="436" y="625"/>
                        <a:pt x="425" y="614"/>
                        <a:pt x="425" y="600"/>
                      </a:cubicBezTo>
                      <a:cubicBezTo>
                        <a:pt x="425" y="587"/>
                        <a:pt x="436" y="575"/>
                        <a:pt x="450" y="575"/>
                      </a:cubicBezTo>
                      <a:lnTo>
                        <a:pt x="450" y="575"/>
                      </a:lnTo>
                      <a:cubicBezTo>
                        <a:pt x="464" y="575"/>
                        <a:pt x="475" y="587"/>
                        <a:pt x="475" y="600"/>
                      </a:cubicBezTo>
                      <a:cubicBezTo>
                        <a:pt x="475" y="614"/>
                        <a:pt x="464" y="625"/>
                        <a:pt x="450" y="625"/>
                      </a:cubicBezTo>
                      <a:close/>
                      <a:moveTo>
                        <a:pt x="350" y="625"/>
                      </a:moveTo>
                      <a:lnTo>
                        <a:pt x="350" y="625"/>
                      </a:lnTo>
                      <a:cubicBezTo>
                        <a:pt x="336" y="625"/>
                        <a:pt x="325" y="614"/>
                        <a:pt x="325" y="600"/>
                      </a:cubicBezTo>
                      <a:cubicBezTo>
                        <a:pt x="325" y="587"/>
                        <a:pt x="336" y="575"/>
                        <a:pt x="350" y="575"/>
                      </a:cubicBezTo>
                      <a:lnTo>
                        <a:pt x="350" y="575"/>
                      </a:lnTo>
                      <a:cubicBezTo>
                        <a:pt x="364" y="575"/>
                        <a:pt x="375" y="587"/>
                        <a:pt x="375" y="600"/>
                      </a:cubicBezTo>
                      <a:cubicBezTo>
                        <a:pt x="375" y="614"/>
                        <a:pt x="364" y="625"/>
                        <a:pt x="350" y="625"/>
                      </a:cubicBezTo>
                      <a:close/>
                      <a:moveTo>
                        <a:pt x="250" y="625"/>
                      </a:moveTo>
                      <a:lnTo>
                        <a:pt x="250" y="625"/>
                      </a:lnTo>
                      <a:cubicBezTo>
                        <a:pt x="236" y="625"/>
                        <a:pt x="225" y="614"/>
                        <a:pt x="225" y="600"/>
                      </a:cubicBezTo>
                      <a:cubicBezTo>
                        <a:pt x="225" y="587"/>
                        <a:pt x="236" y="575"/>
                        <a:pt x="250" y="575"/>
                      </a:cubicBezTo>
                      <a:lnTo>
                        <a:pt x="250" y="575"/>
                      </a:lnTo>
                      <a:cubicBezTo>
                        <a:pt x="264" y="575"/>
                        <a:pt x="275" y="587"/>
                        <a:pt x="275" y="600"/>
                      </a:cubicBezTo>
                      <a:cubicBezTo>
                        <a:pt x="275" y="614"/>
                        <a:pt x="264" y="625"/>
                        <a:pt x="250" y="625"/>
                      </a:cubicBezTo>
                      <a:close/>
                      <a:moveTo>
                        <a:pt x="150" y="625"/>
                      </a:moveTo>
                      <a:lnTo>
                        <a:pt x="150" y="625"/>
                      </a:lnTo>
                      <a:cubicBezTo>
                        <a:pt x="136" y="625"/>
                        <a:pt x="125" y="614"/>
                        <a:pt x="125" y="600"/>
                      </a:cubicBezTo>
                      <a:cubicBezTo>
                        <a:pt x="125" y="587"/>
                        <a:pt x="136" y="575"/>
                        <a:pt x="150" y="575"/>
                      </a:cubicBezTo>
                      <a:lnTo>
                        <a:pt x="150" y="575"/>
                      </a:lnTo>
                      <a:cubicBezTo>
                        <a:pt x="164" y="575"/>
                        <a:pt x="175" y="587"/>
                        <a:pt x="175" y="600"/>
                      </a:cubicBezTo>
                      <a:cubicBezTo>
                        <a:pt x="175" y="614"/>
                        <a:pt x="164" y="625"/>
                        <a:pt x="150" y="625"/>
                      </a:cubicBezTo>
                      <a:close/>
                      <a:moveTo>
                        <a:pt x="50" y="625"/>
                      </a:moveTo>
                      <a:lnTo>
                        <a:pt x="50" y="625"/>
                      </a:lnTo>
                      <a:cubicBezTo>
                        <a:pt x="36" y="625"/>
                        <a:pt x="25" y="614"/>
                        <a:pt x="25" y="600"/>
                      </a:cubicBezTo>
                      <a:cubicBezTo>
                        <a:pt x="25" y="587"/>
                        <a:pt x="36" y="575"/>
                        <a:pt x="50" y="575"/>
                      </a:cubicBezTo>
                      <a:lnTo>
                        <a:pt x="50" y="575"/>
                      </a:lnTo>
                      <a:cubicBezTo>
                        <a:pt x="64" y="575"/>
                        <a:pt x="75" y="587"/>
                        <a:pt x="75" y="600"/>
                      </a:cubicBezTo>
                      <a:cubicBezTo>
                        <a:pt x="75" y="614"/>
                        <a:pt x="64" y="625"/>
                        <a:pt x="50" y="625"/>
                      </a:cubicBezTo>
                      <a:close/>
                      <a:moveTo>
                        <a:pt x="50" y="675"/>
                      </a:moveTo>
                      <a:lnTo>
                        <a:pt x="50" y="676"/>
                      </a:lnTo>
                      <a:cubicBezTo>
                        <a:pt x="50" y="689"/>
                        <a:pt x="39" y="700"/>
                        <a:pt x="25" y="700"/>
                      </a:cubicBezTo>
                      <a:cubicBezTo>
                        <a:pt x="11" y="700"/>
                        <a:pt x="0" y="689"/>
                        <a:pt x="0" y="676"/>
                      </a:cubicBezTo>
                      <a:lnTo>
                        <a:pt x="0" y="675"/>
                      </a:lnTo>
                      <a:cubicBezTo>
                        <a:pt x="0" y="662"/>
                        <a:pt x="11" y="650"/>
                        <a:pt x="25" y="650"/>
                      </a:cubicBezTo>
                      <a:cubicBezTo>
                        <a:pt x="39" y="650"/>
                        <a:pt x="50" y="662"/>
                        <a:pt x="50" y="67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181720" y="6046920"/>
                  <a:ext cx="101880" cy="152280"/>
                </a:xfrm>
                <a:custGeom>
                  <a:avLst/>
                  <a:gdLst/>
                  <a:ahLst/>
                  <a:rect l="l" t="t" r="r" b="b"/>
                  <a:pathLst>
                    <a:path w="567" h="934">
                      <a:moveTo>
                        <a:pt x="567" y="25"/>
                      </a:moveTo>
                      <a:lnTo>
                        <a:pt x="567" y="25"/>
                      </a:lnTo>
                      <a:cubicBezTo>
                        <a:pt x="567" y="39"/>
                        <a:pt x="556" y="50"/>
                        <a:pt x="542" y="50"/>
                      </a:cubicBezTo>
                      <a:cubicBezTo>
                        <a:pt x="528" y="50"/>
                        <a:pt x="517" y="39"/>
                        <a:pt x="517" y="25"/>
                      </a:cubicBezTo>
                      <a:lnTo>
                        <a:pt x="517" y="25"/>
                      </a:lnTo>
                      <a:cubicBezTo>
                        <a:pt x="517" y="11"/>
                        <a:pt x="528" y="0"/>
                        <a:pt x="542" y="0"/>
                      </a:cubicBezTo>
                      <a:cubicBezTo>
                        <a:pt x="556" y="0"/>
                        <a:pt x="567" y="11"/>
                        <a:pt x="567" y="25"/>
                      </a:cubicBezTo>
                      <a:close/>
                      <a:moveTo>
                        <a:pt x="567" y="125"/>
                      </a:moveTo>
                      <a:lnTo>
                        <a:pt x="567" y="125"/>
                      </a:lnTo>
                      <a:cubicBezTo>
                        <a:pt x="567" y="139"/>
                        <a:pt x="556" y="150"/>
                        <a:pt x="542" y="150"/>
                      </a:cubicBezTo>
                      <a:cubicBezTo>
                        <a:pt x="528" y="150"/>
                        <a:pt x="517" y="139"/>
                        <a:pt x="517" y="125"/>
                      </a:cubicBezTo>
                      <a:lnTo>
                        <a:pt x="517" y="125"/>
                      </a:lnTo>
                      <a:cubicBezTo>
                        <a:pt x="517" y="111"/>
                        <a:pt x="528" y="100"/>
                        <a:pt x="542" y="100"/>
                      </a:cubicBezTo>
                      <a:cubicBezTo>
                        <a:pt x="556" y="100"/>
                        <a:pt x="567" y="111"/>
                        <a:pt x="567" y="125"/>
                      </a:cubicBezTo>
                      <a:close/>
                      <a:moveTo>
                        <a:pt x="567" y="225"/>
                      </a:moveTo>
                      <a:lnTo>
                        <a:pt x="567" y="225"/>
                      </a:lnTo>
                      <a:cubicBezTo>
                        <a:pt x="567" y="239"/>
                        <a:pt x="556" y="250"/>
                        <a:pt x="542" y="250"/>
                      </a:cubicBezTo>
                      <a:cubicBezTo>
                        <a:pt x="528" y="250"/>
                        <a:pt x="517" y="239"/>
                        <a:pt x="517" y="225"/>
                      </a:cubicBezTo>
                      <a:lnTo>
                        <a:pt x="517" y="225"/>
                      </a:lnTo>
                      <a:cubicBezTo>
                        <a:pt x="517" y="211"/>
                        <a:pt x="528" y="200"/>
                        <a:pt x="542" y="200"/>
                      </a:cubicBezTo>
                      <a:cubicBezTo>
                        <a:pt x="556" y="200"/>
                        <a:pt x="567" y="211"/>
                        <a:pt x="567" y="225"/>
                      </a:cubicBezTo>
                      <a:close/>
                      <a:moveTo>
                        <a:pt x="567" y="325"/>
                      </a:moveTo>
                      <a:lnTo>
                        <a:pt x="567" y="325"/>
                      </a:lnTo>
                      <a:cubicBezTo>
                        <a:pt x="567" y="339"/>
                        <a:pt x="556" y="350"/>
                        <a:pt x="542" y="350"/>
                      </a:cubicBezTo>
                      <a:cubicBezTo>
                        <a:pt x="528" y="350"/>
                        <a:pt x="517" y="339"/>
                        <a:pt x="517" y="325"/>
                      </a:cubicBezTo>
                      <a:lnTo>
                        <a:pt x="517" y="325"/>
                      </a:lnTo>
                      <a:cubicBezTo>
                        <a:pt x="517" y="311"/>
                        <a:pt x="528" y="300"/>
                        <a:pt x="542" y="300"/>
                      </a:cubicBezTo>
                      <a:cubicBezTo>
                        <a:pt x="556" y="300"/>
                        <a:pt x="567" y="311"/>
                        <a:pt x="567" y="325"/>
                      </a:cubicBezTo>
                      <a:close/>
                      <a:moveTo>
                        <a:pt x="567" y="425"/>
                      </a:moveTo>
                      <a:lnTo>
                        <a:pt x="567" y="425"/>
                      </a:lnTo>
                      <a:cubicBezTo>
                        <a:pt x="567" y="439"/>
                        <a:pt x="556" y="450"/>
                        <a:pt x="542" y="450"/>
                      </a:cubicBezTo>
                      <a:cubicBezTo>
                        <a:pt x="528" y="450"/>
                        <a:pt x="517" y="439"/>
                        <a:pt x="517" y="425"/>
                      </a:cubicBezTo>
                      <a:lnTo>
                        <a:pt x="517" y="425"/>
                      </a:lnTo>
                      <a:cubicBezTo>
                        <a:pt x="517" y="411"/>
                        <a:pt x="528" y="400"/>
                        <a:pt x="542" y="400"/>
                      </a:cubicBezTo>
                      <a:cubicBezTo>
                        <a:pt x="556" y="400"/>
                        <a:pt x="567" y="411"/>
                        <a:pt x="567" y="425"/>
                      </a:cubicBezTo>
                      <a:close/>
                      <a:moveTo>
                        <a:pt x="567" y="525"/>
                      </a:moveTo>
                      <a:lnTo>
                        <a:pt x="567" y="525"/>
                      </a:lnTo>
                      <a:cubicBezTo>
                        <a:pt x="567" y="539"/>
                        <a:pt x="556" y="550"/>
                        <a:pt x="542" y="550"/>
                      </a:cubicBezTo>
                      <a:cubicBezTo>
                        <a:pt x="528" y="550"/>
                        <a:pt x="517" y="539"/>
                        <a:pt x="517" y="525"/>
                      </a:cubicBezTo>
                      <a:lnTo>
                        <a:pt x="517" y="525"/>
                      </a:lnTo>
                      <a:cubicBezTo>
                        <a:pt x="517" y="511"/>
                        <a:pt x="528" y="500"/>
                        <a:pt x="542" y="500"/>
                      </a:cubicBezTo>
                      <a:cubicBezTo>
                        <a:pt x="556" y="500"/>
                        <a:pt x="567" y="511"/>
                        <a:pt x="567" y="525"/>
                      </a:cubicBezTo>
                      <a:close/>
                      <a:moveTo>
                        <a:pt x="480" y="588"/>
                      </a:moveTo>
                      <a:lnTo>
                        <a:pt x="480" y="588"/>
                      </a:lnTo>
                      <a:cubicBezTo>
                        <a:pt x="466" y="588"/>
                        <a:pt x="455" y="577"/>
                        <a:pt x="455" y="563"/>
                      </a:cubicBezTo>
                      <a:cubicBezTo>
                        <a:pt x="455" y="549"/>
                        <a:pt x="466" y="538"/>
                        <a:pt x="480" y="538"/>
                      </a:cubicBezTo>
                      <a:lnTo>
                        <a:pt x="480" y="538"/>
                      </a:lnTo>
                      <a:cubicBezTo>
                        <a:pt x="494" y="538"/>
                        <a:pt x="505" y="549"/>
                        <a:pt x="505" y="563"/>
                      </a:cubicBezTo>
                      <a:cubicBezTo>
                        <a:pt x="505" y="577"/>
                        <a:pt x="494" y="588"/>
                        <a:pt x="480" y="588"/>
                      </a:cubicBezTo>
                      <a:close/>
                      <a:moveTo>
                        <a:pt x="380" y="588"/>
                      </a:moveTo>
                      <a:lnTo>
                        <a:pt x="380" y="588"/>
                      </a:lnTo>
                      <a:cubicBezTo>
                        <a:pt x="366" y="588"/>
                        <a:pt x="355" y="577"/>
                        <a:pt x="355" y="563"/>
                      </a:cubicBezTo>
                      <a:cubicBezTo>
                        <a:pt x="355" y="549"/>
                        <a:pt x="366" y="538"/>
                        <a:pt x="380" y="538"/>
                      </a:cubicBezTo>
                      <a:lnTo>
                        <a:pt x="380" y="538"/>
                      </a:lnTo>
                      <a:cubicBezTo>
                        <a:pt x="394" y="538"/>
                        <a:pt x="405" y="549"/>
                        <a:pt x="405" y="563"/>
                      </a:cubicBezTo>
                      <a:cubicBezTo>
                        <a:pt x="405" y="577"/>
                        <a:pt x="394" y="588"/>
                        <a:pt x="380" y="588"/>
                      </a:cubicBezTo>
                      <a:close/>
                      <a:moveTo>
                        <a:pt x="280" y="588"/>
                      </a:moveTo>
                      <a:lnTo>
                        <a:pt x="280" y="588"/>
                      </a:lnTo>
                      <a:cubicBezTo>
                        <a:pt x="266" y="588"/>
                        <a:pt x="255" y="577"/>
                        <a:pt x="255" y="563"/>
                      </a:cubicBezTo>
                      <a:cubicBezTo>
                        <a:pt x="255" y="549"/>
                        <a:pt x="266" y="538"/>
                        <a:pt x="280" y="538"/>
                      </a:cubicBezTo>
                      <a:lnTo>
                        <a:pt x="280" y="538"/>
                      </a:lnTo>
                      <a:cubicBezTo>
                        <a:pt x="294" y="538"/>
                        <a:pt x="305" y="549"/>
                        <a:pt x="305" y="563"/>
                      </a:cubicBezTo>
                      <a:cubicBezTo>
                        <a:pt x="305" y="577"/>
                        <a:pt x="294" y="588"/>
                        <a:pt x="280" y="588"/>
                      </a:cubicBezTo>
                      <a:close/>
                      <a:moveTo>
                        <a:pt x="180" y="588"/>
                      </a:moveTo>
                      <a:lnTo>
                        <a:pt x="180" y="588"/>
                      </a:lnTo>
                      <a:cubicBezTo>
                        <a:pt x="166" y="588"/>
                        <a:pt x="155" y="577"/>
                        <a:pt x="155" y="563"/>
                      </a:cubicBezTo>
                      <a:cubicBezTo>
                        <a:pt x="155" y="549"/>
                        <a:pt x="166" y="538"/>
                        <a:pt x="180" y="538"/>
                      </a:cubicBezTo>
                      <a:lnTo>
                        <a:pt x="180" y="538"/>
                      </a:lnTo>
                      <a:cubicBezTo>
                        <a:pt x="194" y="538"/>
                        <a:pt x="205" y="549"/>
                        <a:pt x="205" y="563"/>
                      </a:cubicBezTo>
                      <a:cubicBezTo>
                        <a:pt x="205" y="577"/>
                        <a:pt x="194" y="588"/>
                        <a:pt x="180" y="588"/>
                      </a:cubicBezTo>
                      <a:close/>
                      <a:moveTo>
                        <a:pt x="80" y="588"/>
                      </a:moveTo>
                      <a:lnTo>
                        <a:pt x="80" y="588"/>
                      </a:lnTo>
                      <a:cubicBezTo>
                        <a:pt x="66" y="588"/>
                        <a:pt x="55" y="577"/>
                        <a:pt x="55" y="563"/>
                      </a:cubicBezTo>
                      <a:cubicBezTo>
                        <a:pt x="55" y="549"/>
                        <a:pt x="66" y="538"/>
                        <a:pt x="80" y="538"/>
                      </a:cubicBezTo>
                      <a:lnTo>
                        <a:pt x="80" y="538"/>
                      </a:lnTo>
                      <a:cubicBezTo>
                        <a:pt x="94" y="538"/>
                        <a:pt x="105" y="549"/>
                        <a:pt x="105" y="563"/>
                      </a:cubicBezTo>
                      <a:cubicBezTo>
                        <a:pt x="105" y="577"/>
                        <a:pt x="94" y="588"/>
                        <a:pt x="80" y="588"/>
                      </a:cubicBezTo>
                      <a:close/>
                      <a:moveTo>
                        <a:pt x="50" y="609"/>
                      </a:moveTo>
                      <a:lnTo>
                        <a:pt x="50" y="609"/>
                      </a:lnTo>
                      <a:cubicBezTo>
                        <a:pt x="50" y="623"/>
                        <a:pt x="39" y="634"/>
                        <a:pt x="25" y="634"/>
                      </a:cubicBezTo>
                      <a:cubicBezTo>
                        <a:pt x="12" y="634"/>
                        <a:pt x="0" y="623"/>
                        <a:pt x="0" y="609"/>
                      </a:cubicBezTo>
                      <a:lnTo>
                        <a:pt x="0" y="609"/>
                      </a:lnTo>
                      <a:cubicBezTo>
                        <a:pt x="0" y="595"/>
                        <a:pt x="12" y="584"/>
                        <a:pt x="25" y="584"/>
                      </a:cubicBezTo>
                      <a:cubicBezTo>
                        <a:pt x="39" y="584"/>
                        <a:pt x="50" y="595"/>
                        <a:pt x="50" y="609"/>
                      </a:cubicBezTo>
                      <a:close/>
                      <a:moveTo>
                        <a:pt x="50" y="709"/>
                      </a:moveTo>
                      <a:lnTo>
                        <a:pt x="50" y="709"/>
                      </a:lnTo>
                      <a:cubicBezTo>
                        <a:pt x="50" y="723"/>
                        <a:pt x="39" y="734"/>
                        <a:pt x="25" y="734"/>
                      </a:cubicBezTo>
                      <a:cubicBezTo>
                        <a:pt x="12" y="734"/>
                        <a:pt x="0" y="723"/>
                        <a:pt x="0" y="709"/>
                      </a:cubicBezTo>
                      <a:lnTo>
                        <a:pt x="0" y="709"/>
                      </a:lnTo>
                      <a:cubicBezTo>
                        <a:pt x="0" y="695"/>
                        <a:pt x="12" y="684"/>
                        <a:pt x="25" y="684"/>
                      </a:cubicBezTo>
                      <a:cubicBezTo>
                        <a:pt x="39" y="684"/>
                        <a:pt x="50" y="695"/>
                        <a:pt x="50" y="709"/>
                      </a:cubicBezTo>
                      <a:close/>
                      <a:moveTo>
                        <a:pt x="50" y="809"/>
                      </a:moveTo>
                      <a:lnTo>
                        <a:pt x="50" y="809"/>
                      </a:lnTo>
                      <a:cubicBezTo>
                        <a:pt x="50" y="823"/>
                        <a:pt x="39" y="834"/>
                        <a:pt x="25" y="834"/>
                      </a:cubicBezTo>
                      <a:cubicBezTo>
                        <a:pt x="12" y="834"/>
                        <a:pt x="0" y="823"/>
                        <a:pt x="0" y="809"/>
                      </a:cubicBezTo>
                      <a:lnTo>
                        <a:pt x="0" y="809"/>
                      </a:lnTo>
                      <a:cubicBezTo>
                        <a:pt x="0" y="795"/>
                        <a:pt x="12" y="784"/>
                        <a:pt x="25" y="784"/>
                      </a:cubicBezTo>
                      <a:cubicBezTo>
                        <a:pt x="39" y="784"/>
                        <a:pt x="50" y="795"/>
                        <a:pt x="50" y="809"/>
                      </a:cubicBezTo>
                      <a:close/>
                      <a:moveTo>
                        <a:pt x="50" y="909"/>
                      </a:moveTo>
                      <a:lnTo>
                        <a:pt x="50" y="909"/>
                      </a:lnTo>
                      <a:cubicBezTo>
                        <a:pt x="50" y="923"/>
                        <a:pt x="39" y="934"/>
                        <a:pt x="25" y="934"/>
                      </a:cubicBezTo>
                      <a:cubicBezTo>
                        <a:pt x="12" y="934"/>
                        <a:pt x="0" y="923"/>
                        <a:pt x="0" y="909"/>
                      </a:cubicBezTo>
                      <a:lnTo>
                        <a:pt x="0" y="909"/>
                      </a:lnTo>
                      <a:cubicBezTo>
                        <a:pt x="0" y="895"/>
                        <a:pt x="12" y="884"/>
                        <a:pt x="25" y="884"/>
                      </a:cubicBezTo>
                      <a:cubicBezTo>
                        <a:pt x="39" y="884"/>
                        <a:pt x="50" y="895"/>
                        <a:pt x="50" y="90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8439840" y="5648400"/>
                  <a:ext cx="245880" cy="247320"/>
                  <a:chOff x="8439840" y="5648400"/>
                  <a:chExt cx="245880" cy="247320"/>
                </a:xfrm>
              </p:grpSpPr>
              <p:grpSp>
                <p:nvGrpSpPr>
                  <p:cNvPr id="1160" name=""/>
                  <p:cNvGrpSpPr/>
                  <p:nvPr/>
                </p:nvGrpSpPr>
                <p:grpSpPr>
                  <a:xfrm>
                    <a:off x="8439840" y="5648400"/>
                    <a:ext cx="245880" cy="95040"/>
                    <a:chOff x="8439840" y="5648400"/>
                    <a:chExt cx="245880" cy="95040"/>
                  </a:xfrm>
                </p:grpSpPr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8439840" y="5648400"/>
                      <a:ext cx="245880" cy="95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8439840" y="5648400"/>
                      <a:ext cx="245880" cy="9504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3" name=""/>
                  <p:cNvGrpSpPr/>
                  <p:nvPr/>
                </p:nvGrpSpPr>
                <p:grpSpPr>
                  <a:xfrm>
                    <a:off x="8559720" y="5770800"/>
                    <a:ext cx="114840" cy="36360"/>
                    <a:chOff x="8559720" y="5770800"/>
                    <a:chExt cx="114840" cy="36360"/>
                  </a:xfrm>
                </p:grpSpPr>
                <p:sp>
                  <p:nvSpPr>
                    <p:cNvPr id="1164" name=""/>
                    <p:cNvSpPr/>
                    <p:nvPr/>
                  </p:nvSpPr>
                  <p:spPr>
                    <a:xfrm>
                      <a:off x="8605800" y="5770800"/>
                      <a:ext cx="68760" cy="3636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65" name=""/>
                    <p:cNvGrpSpPr/>
                    <p:nvPr/>
                  </p:nvGrpSpPr>
                  <p:grpSpPr>
                    <a:xfrm>
                      <a:off x="8559720" y="5784120"/>
                      <a:ext cx="41760" cy="7920"/>
                      <a:chOff x="8559720" y="5784120"/>
                      <a:chExt cx="41760" cy="7920"/>
                    </a:xfrm>
                  </p:grpSpPr>
                  <p:sp>
                    <p:nvSpPr>
                      <p:cNvPr id="1166" name=""/>
                      <p:cNvSpPr/>
                      <p:nvPr/>
                    </p:nvSpPr>
                    <p:spPr>
                      <a:xfrm>
                        <a:off x="8559720" y="5784120"/>
                        <a:ext cx="41760" cy="7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7" name=""/>
                      <p:cNvSpPr/>
                      <p:nvPr/>
                    </p:nvSpPr>
                    <p:spPr>
                      <a:xfrm>
                        <a:off x="8559720" y="5784120"/>
                        <a:ext cx="41760" cy="7920"/>
                      </a:xfrm>
                      <a:prstGeom prst="rect">
                        <a:avLst/>
                      </a:prstGeom>
                      <a:noFill/>
                      <a:ln cap="rnd"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68" name=""/>
                  <p:cNvSpPr/>
                  <p:nvPr/>
                </p:nvSpPr>
                <p:spPr>
                  <a:xfrm>
                    <a:off x="8631360" y="5807520"/>
                    <a:ext cx="0" cy="8820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8439840" y="6080760"/>
                  <a:ext cx="245880" cy="275760"/>
                  <a:chOff x="8439840" y="6080760"/>
                  <a:chExt cx="245880" cy="27576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8643240" y="6080760"/>
                    <a:ext cx="0" cy="122400"/>
                  </a:xfrm>
                  <a:prstGeom prst="line">
                    <a:avLst/>
                  </a:prstGeom>
                  <a:ln cap="rnd"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8439840" y="6260040"/>
                    <a:ext cx="245880" cy="96480"/>
                    <a:chOff x="8439840" y="6260040"/>
                    <a:chExt cx="245880" cy="964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8439840" y="6260040"/>
                      <a:ext cx="245880" cy="9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8439840" y="6260040"/>
                      <a:ext cx="245880" cy="96480"/>
                    </a:xfrm>
                    <a:prstGeom prst="rect">
                      <a:avLst/>
                    </a:prstGeom>
                    <a:noFill/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8565480" y="6192360"/>
                    <a:ext cx="114840" cy="37800"/>
                    <a:chOff x="8565480" y="6192360"/>
                    <a:chExt cx="114840" cy="3780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8611560" y="6192360"/>
                      <a:ext cx="68760" cy="37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cap="rnd"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76" name=""/>
                    <p:cNvGrpSpPr/>
                    <p:nvPr/>
                  </p:nvGrpSpPr>
                  <p:grpSpPr>
                    <a:xfrm>
                      <a:off x="8565480" y="6207120"/>
                      <a:ext cx="41760" cy="9360"/>
                      <a:chOff x="8565480" y="6207120"/>
                      <a:chExt cx="41760" cy="9360"/>
                    </a:xfrm>
                  </p:grpSpPr>
                  <p:sp>
                    <p:nvSpPr>
                      <p:cNvPr id="1177" name=""/>
                      <p:cNvSpPr/>
                      <p:nvPr/>
                    </p:nvSpPr>
                    <p:spPr>
                      <a:xfrm>
                        <a:off x="8565480" y="6207120"/>
                        <a:ext cx="41760" cy="9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8" name=""/>
                      <p:cNvSpPr/>
                      <p:nvPr/>
                    </p:nvSpPr>
                    <p:spPr>
                      <a:xfrm>
                        <a:off x="8565480" y="6207120"/>
                        <a:ext cx="41760" cy="9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cap="rnd"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79" name=""/>
                <p:cNvSpPr/>
                <p:nvPr/>
              </p:nvSpPr>
              <p:spPr>
                <a:xfrm>
                  <a:off x="8345520" y="5894640"/>
                  <a:ext cx="27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8345520" y="6079680"/>
                  <a:ext cx="27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1" name=""/>
            <p:cNvSpPr/>
            <p:nvPr/>
          </p:nvSpPr>
          <p:spPr>
            <a:xfrm>
              <a:off x="6877080" y="5516640"/>
              <a:ext cx="287280" cy="93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12000" y="5518080"/>
              <a:ext cx="287280" cy="93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101080" y="5516640"/>
              <a:ext cx="287280" cy="93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179280" y="4428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CLE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300720" y="4428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Document No. GRRF-68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8th GRRF, 21-23 September 201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da item 3(b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95280" y="2924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143960" y="2997360"/>
            <a:ext cx="332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ed &gt;3 axles ext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999600" y="1773360"/>
            <a:ext cx="4849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isting Annex 20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≤3 ax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427640" y="249228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427640" y="2924280"/>
            <a:ext cx="215640" cy="433440"/>
          </a:xfrm>
          <a:prstGeom prst="upArrow">
            <a:avLst>
              <a:gd name="adj1" fmla="val 50000"/>
              <a:gd name="adj2" fmla="val 50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1116000" y="26082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S/2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116000" y="37609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S/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116000" y="46972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S/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84360" y="573408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S/2M  +  2S/2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435640" y="2565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S/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435640" y="37609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S/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435640" y="46972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S/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59280" y="573408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S/2M  +  4S/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5:36:26Z</dcterms:created>
  <dc:creator>Jennison</dc:creator>
  <dc:description/>
  <dc:language>en-US</dc:language>
  <cp:lastModifiedBy>Corrigendum 1 to Revision 2</cp:lastModifiedBy>
  <dcterms:modified xsi:type="dcterms:W3CDTF">2010-09-13T14:43:21Z</dcterms:modified>
  <cp:revision>8</cp:revision>
  <dc:subject/>
  <dc:title>Slide 1</dc:title>
</cp:coreProperties>
</file>