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BC7-F9F8-4F70-B4A3-43D6ED6E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499C-C210-4B18-8AFA-7BB9A355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1CC-EBD4-4324-8A2D-B39B86A8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5C8-ACFC-4E33-BB65-2B7645AB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C7F4-0AB5-40BE-930B-394139C0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2910-71C2-478A-93C7-CB6FDECB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8A5-96F2-4E11-9A22-32D1DC6B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D45-E995-4CA4-97A5-8540E339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4CC-4E2E-4119-9AB7-4D793ADA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2BA4-7A4B-462C-87C0-D6E5B61A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188-B6EC-4E01-9103-F62FB92C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F39-98F6-4821-A192-0ACDC5C4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E344-756D-4068-883C-BF738E973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28720" y="5504040"/>
            <a:ext cx="7488360" cy="733320"/>
            <a:chOff x="828720" y="5504040"/>
            <a:chExt cx="7488360" cy="733320"/>
          </a:xfrm>
        </p:grpSpPr>
        <p:grpSp>
          <p:nvGrpSpPr>
            <p:cNvPr id="42" name=""/>
            <p:cNvGrpSpPr/>
            <p:nvPr/>
          </p:nvGrpSpPr>
          <p:grpSpPr>
            <a:xfrm>
              <a:off x="828720" y="5504040"/>
              <a:ext cx="2085480" cy="520200"/>
              <a:chOff x="828720" y="5504040"/>
              <a:chExt cx="2085480" cy="520200"/>
            </a:xfrm>
          </p:grpSpPr>
          <p:sp>
            <p:nvSpPr>
              <p:cNvPr id="43" name=""/>
              <p:cNvSpPr/>
              <p:nvPr/>
            </p:nvSpPr>
            <p:spPr>
              <a:xfrm>
                <a:off x="1116000" y="5504040"/>
                <a:ext cx="1798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tual vehicle for type-approv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8720" y="5504040"/>
                <a:ext cx="287280" cy="288720"/>
              </a:xfrm>
              <a:custGeom>
                <a:avLst/>
                <a:gdLst>
                  <a:gd name="textAreaLeft" fmla="*/ 118440 w 287280"/>
                  <a:gd name="textAreaRight" fmla="*/ 168840 w 287280"/>
                  <a:gd name="textAreaTop" fmla="*/ 118800 h 288720"/>
                  <a:gd name="textAreaBottom" fmla="*/ 16992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3276720" y="5504040"/>
              <a:ext cx="2449440" cy="520200"/>
              <a:chOff x="3276720" y="5504040"/>
              <a:chExt cx="2449440" cy="520200"/>
            </a:xfrm>
          </p:grpSpPr>
          <p:sp>
            <p:nvSpPr>
              <p:cNvPr id="46" name=""/>
              <p:cNvSpPr/>
              <p:nvPr/>
            </p:nvSpPr>
            <p:spPr>
              <a:xfrm>
                <a:off x="3421080" y="5504040"/>
                <a:ext cx="2305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tual Annex 19 Test Report tested vehic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276720" y="5518080"/>
                <a:ext cx="216000" cy="216000"/>
              </a:xfrm>
              <a:prstGeom prst="star5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00720" y="5504040"/>
              <a:ext cx="2016360" cy="733320"/>
              <a:chOff x="6300720" y="5504040"/>
              <a:chExt cx="2016360" cy="733320"/>
            </a:xfrm>
          </p:grpSpPr>
          <p:sp>
            <p:nvSpPr>
              <p:cNvPr id="49" name=""/>
              <p:cNvSpPr/>
              <p:nvPr/>
            </p:nvSpPr>
            <p:spPr>
              <a:xfrm>
                <a:off x="6661440" y="5504040"/>
                <a:ext cx="1655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ehicle test data (system supplier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00720" y="5516280"/>
                <a:ext cx="289080" cy="288720"/>
              </a:xfrm>
              <a:custGeom>
                <a:avLst/>
                <a:gdLst>
                  <a:gd name="textAreaLeft" fmla="*/ 65880 w 289080"/>
                  <a:gd name="textAreaRight" fmla="*/ 223200 w 28908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538200" y="2181240"/>
            <a:ext cx="7416720" cy="3050280"/>
            <a:chOff x="538200" y="2181240"/>
            <a:chExt cx="7416720" cy="3050280"/>
          </a:xfrm>
        </p:grpSpPr>
        <p:sp>
          <p:nvSpPr>
            <p:cNvPr id="52" name=""/>
            <p:cNvSpPr/>
            <p:nvPr/>
          </p:nvSpPr>
          <p:spPr>
            <a:xfrm>
              <a:off x="3201840" y="4564080"/>
              <a:ext cx="3457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15280" y="4564080"/>
              <a:ext cx="107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el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70200" y="3052800"/>
              <a:ext cx="216000" cy="216000"/>
            </a:xfrm>
            <a:prstGeom prst="star5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346560" y="2836440"/>
              <a:ext cx="0" cy="20876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74920" y="3556080"/>
              <a:ext cx="287280" cy="288720"/>
            </a:xfrm>
            <a:custGeom>
              <a:avLst/>
              <a:gdLst>
                <a:gd name="textAreaLeft" fmla="*/ 118440 w 287280"/>
                <a:gd name="textAreaRight" fmla="*/ 168840 w 28728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af5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30560" y="3844800"/>
              <a:ext cx="287280" cy="289080"/>
            </a:xfrm>
            <a:custGeom>
              <a:avLst/>
              <a:gdLst>
                <a:gd name="textAreaLeft" fmla="*/ 118440 w 287280"/>
                <a:gd name="textAreaRight" fmla="*/ 168840 w 28728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748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70200" y="3987720"/>
              <a:ext cx="431640" cy="0"/>
            </a:xfrm>
            <a:prstGeom prst="line">
              <a:avLst/>
            </a:prstGeom>
            <a:ln w="38160">
              <a:solidFill>
                <a:srgbClr val="f748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01840" y="3772080"/>
              <a:ext cx="165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74811"/>
                  </a:solidFill>
                  <a:latin typeface="Arial"/>
                </a:rPr>
                <a:t>Test report </a:t>
              </a:r>
              <a:r>
                <a:rPr b="1" lang="en-US" sz="1400" spc="-1" strike="noStrike" u="sng">
                  <a:solidFill>
                    <a:srgbClr val="f74811"/>
                  </a:solidFill>
                  <a:uFillTx/>
                  <a:latin typeface="Arial"/>
                </a:rPr>
                <a:t>cannot</a:t>
              </a:r>
              <a:r>
                <a:rPr b="1" lang="en-US" sz="1400" spc="-1" strike="noStrike">
                  <a:solidFill>
                    <a:srgbClr val="f74811"/>
                  </a:solidFill>
                  <a:latin typeface="Arial"/>
                </a:rPr>
                <a:t> be us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490920" y="3700440"/>
              <a:ext cx="5032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51280" y="3543480"/>
              <a:ext cx="165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af539"/>
                  </a:solidFill>
                  <a:latin typeface="Arial"/>
                </a:rPr>
                <a:t>Test report </a:t>
              </a:r>
              <a:r>
                <a:rPr b="1" lang="en-US" sz="1400" spc="-1" strike="noStrike" u="sng">
                  <a:solidFill>
                    <a:srgbClr val="6af539"/>
                  </a:solidFill>
                  <a:uFillTx/>
                  <a:latin typeface="Arial"/>
                </a:rPr>
                <a:t>can</a:t>
              </a:r>
              <a:r>
                <a:rPr b="1" lang="en-US" sz="1400" spc="-1" strike="noStrike">
                  <a:solidFill>
                    <a:srgbClr val="6af539"/>
                  </a:solidFill>
                  <a:latin typeface="Arial"/>
                </a:rPr>
                <a:t> be us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0560" y="3052800"/>
              <a:ext cx="216000" cy="216000"/>
            </a:xfrm>
            <a:prstGeom prst="star5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578560" y="3268440"/>
              <a:ext cx="0" cy="16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96000" y="3556080"/>
              <a:ext cx="287280" cy="288720"/>
            </a:xfrm>
            <a:custGeom>
              <a:avLst/>
              <a:gdLst>
                <a:gd name="textAreaLeft" fmla="*/ 118440 w 287280"/>
                <a:gd name="textAreaRight" fmla="*/ 168840 w 28728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af5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0360" y="3844800"/>
              <a:ext cx="287280" cy="289080"/>
            </a:xfrm>
            <a:custGeom>
              <a:avLst/>
              <a:gdLst>
                <a:gd name="textAreaLeft" fmla="*/ 118440 w 287280"/>
                <a:gd name="textAreaRight" fmla="*/ 168840 w 28728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748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62560" y="3700440"/>
              <a:ext cx="50472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154560" y="3987720"/>
              <a:ext cx="433440" cy="0"/>
            </a:xfrm>
            <a:prstGeom prst="line">
              <a:avLst/>
            </a:prstGeom>
            <a:ln w="38160">
              <a:solidFill>
                <a:srgbClr val="f748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10200" y="2836440"/>
              <a:ext cx="0" cy="20876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99280" y="3772080"/>
              <a:ext cx="165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74811"/>
                  </a:solidFill>
                  <a:latin typeface="Arial"/>
                </a:rPr>
                <a:t>Test report </a:t>
              </a:r>
              <a:r>
                <a:rPr b="1" lang="en-US" sz="1400" spc="-1" strike="noStrike" u="sng">
                  <a:solidFill>
                    <a:srgbClr val="f74811"/>
                  </a:solidFill>
                  <a:uFillTx/>
                  <a:latin typeface="Arial"/>
                </a:rPr>
                <a:t>cannot</a:t>
              </a:r>
              <a:r>
                <a:rPr b="1" lang="en-US" sz="1400" spc="-1" strike="noStrike">
                  <a:solidFill>
                    <a:srgbClr val="f74811"/>
                  </a:solidFill>
                  <a:latin typeface="Arial"/>
                </a:rPr>
                <a:t> be us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03640" y="2692440"/>
              <a:ext cx="288720" cy="288720"/>
            </a:xfrm>
            <a:custGeom>
              <a:avLst/>
              <a:gdLst>
                <a:gd name="textAreaLeft" fmla="*/ 65880 w 288720"/>
                <a:gd name="textAreaRight" fmla="*/ 222840 w 288720"/>
                <a:gd name="textAreaTop" fmla="*/ 65880 h 288720"/>
                <a:gd name="textAreaBottom" fmla="*/ 222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2692440"/>
              <a:ext cx="289080" cy="288720"/>
            </a:xfrm>
            <a:custGeom>
              <a:avLst/>
              <a:gdLst>
                <a:gd name="textAreaLeft" fmla="*/ 65880 w 289080"/>
                <a:gd name="textAreaRight" fmla="*/ 223200 w 289080"/>
                <a:gd name="textAreaTop" fmla="*/ 65880 h 288720"/>
                <a:gd name="textAreaBottom" fmla="*/ 222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8200" y="2181240"/>
              <a:ext cx="2448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ximum and minimum values shown in system supplier information docu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14560" y="233208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14560" y="2332080"/>
              <a:ext cx="295272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78200" y="3268800"/>
              <a:ext cx="0" cy="16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70200" y="492444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-20%] toler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30920" y="492444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+20%] toler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46560" y="48531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78560" y="48531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39640" y="1052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use of a wheelbase allowance (tolerance) between the vehicles actually tested for the Annex 19 test report and the vehicle(s) for which the test report can be utilized at the time of type-appr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18900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MEVSC-03-05e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gust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18900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 by AMEVSC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0:56:05Z</dcterms:created>
  <dc:creator>Jennison</dc:creator>
  <dc:description/>
  <dc:language>en-US</dc:language>
  <cp:lastModifiedBy>Jennison</cp:lastModifiedBy>
  <dcterms:modified xsi:type="dcterms:W3CDTF">2010-08-19T10:30:53Z</dcterms:modified>
  <cp:revision>7</cp:revision>
  <dc:subject/>
  <dc:title>Slide 1</dc:title>
</cp:coreProperties>
</file>