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4FB2-C1D7-42E8-A20A-93B80E1383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390-169F-400A-B7F1-7DA20A6360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CB8-4239-4176-B307-FE24521B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6A3-265A-4660-9C20-DD9FC387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62C-E78A-46D7-8F75-9E9C640B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91B-3751-4366-BF00-5F6DE14C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DA8-A87A-453C-9C1F-BF3ED1C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FC0-7BFA-4D8F-9499-F6200B74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C61-828E-4149-936F-E7A5804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BAC-900F-43D6-9E85-13DEA04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A3A-0A1B-4A45-87AD-D1BAC1B8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138-59DA-484F-AC0A-7E6F7C61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8D0-A697-4A4F-86D2-700C619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ED7-0D0C-4C1A-B136-929B5AA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197-C64A-481E-A89D-5D3BC2EC79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角丸四角形 10"/>
          <p:cNvSpPr/>
          <p:nvPr/>
        </p:nvSpPr>
        <p:spPr>
          <a:xfrm>
            <a:off x="179280" y="1068480"/>
            <a:ext cx="8821800" cy="547200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6"/>
          <p:cNvSpPr/>
          <p:nvPr/>
        </p:nvSpPr>
        <p:spPr>
          <a:xfrm>
            <a:off x="214200" y="1614600"/>
            <a:ext cx="864396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スライド番号プレースホルダ 5"/>
          <p:cNvSpPr/>
          <p:nvPr/>
        </p:nvSpPr>
        <p:spPr>
          <a:xfrm>
            <a:off x="6832440" y="6383160"/>
            <a:ext cx="231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</a:t>
            </a:r>
            <a:fld id="{1B2190B1-1943-445C-BD55-E48B1BABC47A}" type="slidenum"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7"/>
          <p:cNvSpPr/>
          <p:nvPr/>
        </p:nvSpPr>
        <p:spPr>
          <a:xfrm>
            <a:off x="285840" y="165744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ACC, AEBS -&gt; The same hardware in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8"/>
          <p:cNvSpPr/>
          <p:nvPr/>
        </p:nvSpPr>
        <p:spPr>
          <a:xfrm>
            <a:off x="1298520" y="25718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CC: In ordinary sit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9"/>
          <p:cNvSpPr/>
          <p:nvPr/>
        </p:nvSpPr>
        <p:spPr>
          <a:xfrm>
            <a:off x="1370160" y="357192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EBS: In emergency sit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7"/>
          <p:cNvSpPr/>
          <p:nvPr/>
        </p:nvSpPr>
        <p:spPr>
          <a:xfrm>
            <a:off x="428760" y="2728800"/>
            <a:ext cx="78552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矢印 8"/>
          <p:cNvSpPr/>
          <p:nvPr/>
        </p:nvSpPr>
        <p:spPr>
          <a:xfrm>
            <a:off x="428760" y="3728880"/>
            <a:ext cx="857160" cy="3574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8"/>
          <p:cNvSpPr/>
          <p:nvPr/>
        </p:nvSpPr>
        <p:spPr>
          <a:xfrm>
            <a:off x="1357200" y="4572000"/>
            <a:ext cx="707256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AEBS should be activated only in emergency situa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57024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1428840" y="5854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If the system is activated only in emergency situations, rarely happen, the over-reliance does not occur to a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7"/>
          <p:cNvSpPr/>
          <p:nvPr/>
        </p:nvSpPr>
        <p:spPr>
          <a:xfrm>
            <a:off x="7451640" y="189000"/>
            <a:ext cx="13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EBS/LDWS-10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 5"/>
          <p:cNvSpPr/>
          <p:nvPr/>
        </p:nvSpPr>
        <p:spPr>
          <a:xfrm>
            <a:off x="6832440" y="6383160"/>
            <a:ext cx="231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</a:t>
            </a:r>
            <a:fld id="{DEDB76D0-CE93-4B5B-B73C-D9490BFCBBA4}" type="slidenum"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6"/>
          <p:cNvSpPr/>
          <p:nvPr/>
        </p:nvSpPr>
        <p:spPr>
          <a:xfrm>
            <a:off x="142920" y="1768320"/>
            <a:ext cx="8786880" cy="373248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91124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rivers’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&lt;In ordinary situation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operates the avoiding maneuver while TTC is lo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does not operate braking with a high decel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&lt;In emergency situation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operates the avoiding maneuver after TTC becomes short.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operates braking with a high  deceleration to reduce the damage or to avoid a coll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57024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角丸四角形 28"/>
          <p:cNvSpPr/>
          <p:nvPr/>
        </p:nvSpPr>
        <p:spPr>
          <a:xfrm>
            <a:off x="0" y="690480"/>
            <a:ext cx="9144000" cy="604368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5"/>
          <p:cNvSpPr/>
          <p:nvPr/>
        </p:nvSpPr>
        <p:spPr>
          <a:xfrm>
            <a:off x="376200" y="714240"/>
            <a:ext cx="8406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Most drivers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operate braking to avoid a collision at the earlier time than 1.6s at most of overlapping rat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re is no interference with drivers’ oper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 speed reduction of Japan proposal is based on 1.6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Most drivers operate braking to avoid a collision at the earlier time than 3.0s in conditions of overlapping ratio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t is the number which distinguishes an ordinary driving from an emergency operation to avoid a colli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1492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スライド番号プレースホルダ 5"/>
          <p:cNvSpPr/>
          <p:nvPr/>
        </p:nvSpPr>
        <p:spPr>
          <a:xfrm>
            <a:off x="6832440" y="6383160"/>
            <a:ext cx="231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</a:t>
            </a:r>
            <a:fld id="{FC921B4F-5378-49A9-9A84-143D5057B71F}" type="slidenum"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右矢印 31"/>
          <p:cNvSpPr/>
          <p:nvPr/>
        </p:nvSpPr>
        <p:spPr>
          <a:xfrm>
            <a:off x="914400" y="1243080"/>
            <a:ext cx="195120" cy="90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右矢印 32"/>
          <p:cNvSpPr/>
          <p:nvPr/>
        </p:nvSpPr>
        <p:spPr>
          <a:xfrm>
            <a:off x="914400" y="1471680"/>
            <a:ext cx="195120" cy="90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3"/>
          <p:cNvSpPr/>
          <p:nvPr/>
        </p:nvSpPr>
        <p:spPr>
          <a:xfrm>
            <a:off x="909720" y="2338560"/>
            <a:ext cx="195120" cy="90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グループ化 40"/>
          <p:cNvGrpSpPr/>
          <p:nvPr/>
        </p:nvGrpSpPr>
        <p:grpSpPr>
          <a:xfrm>
            <a:off x="71280" y="2643120"/>
            <a:ext cx="8793360" cy="4000680"/>
            <a:chOff x="71280" y="2643120"/>
            <a:chExt cx="8793360" cy="4000680"/>
          </a:xfrm>
        </p:grpSpPr>
        <p:grpSp>
          <p:nvGrpSpPr>
            <p:cNvPr id="72" name="グループ化 26"/>
            <p:cNvGrpSpPr/>
            <p:nvPr/>
          </p:nvGrpSpPr>
          <p:grpSpPr>
            <a:xfrm>
              <a:off x="1244160" y="3000600"/>
              <a:ext cx="6649920" cy="3643200"/>
              <a:chOff x="1244160" y="3000600"/>
              <a:chExt cx="6649920" cy="3643200"/>
            </a:xfrm>
          </p:grpSpPr>
          <p:grpSp>
            <p:nvGrpSpPr>
              <p:cNvPr id="73" name="Group 26"/>
              <p:cNvGrpSpPr/>
              <p:nvPr/>
            </p:nvGrpSpPr>
            <p:grpSpPr>
              <a:xfrm>
                <a:off x="1244160" y="3000600"/>
                <a:ext cx="6175800" cy="3643200"/>
                <a:chOff x="1244160" y="3000600"/>
                <a:chExt cx="6175800" cy="3643200"/>
              </a:xfrm>
            </p:grpSpPr>
            <p:pic>
              <p:nvPicPr>
                <p:cNvPr id="7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44160" y="3149280"/>
                  <a:ext cx="6175800" cy="349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Text Box 13"/>
                <p:cNvSpPr/>
                <p:nvPr/>
              </p:nvSpPr>
              <p:spPr>
                <a:xfrm rot="16200000">
                  <a:off x="1299960" y="4520160"/>
                  <a:ext cx="753120" cy="52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TTC 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ec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14"/>
                <p:cNvSpPr/>
                <p:nvPr/>
              </p:nvSpPr>
              <p:spPr>
                <a:xfrm>
                  <a:off x="2157840" y="3427920"/>
                  <a:ext cx="1632960" cy="291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Unladen, V = 60 km/h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Text Box 15"/>
                <p:cNvSpPr/>
                <p:nvPr/>
              </p:nvSpPr>
              <p:spPr>
                <a:xfrm>
                  <a:off x="3577320" y="6288480"/>
                  <a:ext cx="168336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verlapping Ratio  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1"/>
                <p:cNvSpPr/>
                <p:nvPr/>
              </p:nvSpPr>
              <p:spPr>
                <a:xfrm flipV="1">
                  <a:off x="2626200" y="5357160"/>
                  <a:ext cx="3837240" cy="360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38"/>
                <p:cNvSpPr/>
                <p:nvPr/>
              </p:nvSpPr>
              <p:spPr>
                <a:xfrm rot="20496600">
                  <a:off x="2615040" y="3912120"/>
                  <a:ext cx="3674160" cy="1679040"/>
                </a:xfrm>
                <a:prstGeom prst="ellipse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42"/>
                <p:cNvSpPr/>
                <p:nvPr/>
              </p:nvSpPr>
              <p:spPr>
                <a:xfrm>
                  <a:off x="2113560" y="3774240"/>
                  <a:ext cx="1419840" cy="489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Experiment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on proving ground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45"/>
                <p:cNvSpPr/>
                <p:nvPr/>
              </p:nvSpPr>
              <p:spPr>
                <a:xfrm>
                  <a:off x="3932640" y="3286440"/>
                  <a:ext cx="893880" cy="291960"/>
                </a:xfrm>
                <a:prstGeom prst="rect">
                  <a:avLst/>
                </a:prstGeom>
                <a:solidFill>
                  <a:srgbClr val="ff99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Real world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56"/>
                <p:cNvSpPr/>
                <p:nvPr/>
              </p:nvSpPr>
              <p:spPr>
                <a:xfrm>
                  <a:off x="1569960" y="5716800"/>
                  <a:ext cx="11196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57"/>
                <p:cNvSpPr/>
                <p:nvPr/>
              </p:nvSpPr>
              <p:spPr>
                <a:xfrm>
                  <a:off x="2667240" y="5692680"/>
                  <a:ext cx="68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cc"/>
                      </a:solidFill>
                      <a:latin typeface="Calibri"/>
                    </a:rPr>
                    <a:t>1.6sec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58"/>
                <p:cNvSpPr/>
                <p:nvPr/>
              </p:nvSpPr>
              <p:spPr>
                <a:xfrm>
                  <a:off x="2162160" y="5756400"/>
                  <a:ext cx="271800" cy="309600"/>
                </a:xfrm>
                <a:prstGeom prst="downArrow">
                  <a:avLst>
                    <a:gd name="adj1" fmla="val 49778"/>
                    <a:gd name="adj2" fmla="val 49676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61"/>
                <p:cNvSpPr/>
                <p:nvPr/>
              </p:nvSpPr>
              <p:spPr>
                <a:xfrm>
                  <a:off x="2221920" y="4318920"/>
                  <a:ext cx="979200" cy="1388880"/>
                </a:xfrm>
                <a:prstGeom prst="ellipse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62"/>
                <p:cNvSpPr/>
                <p:nvPr/>
              </p:nvSpPr>
              <p:spPr>
                <a:xfrm rot="18802200">
                  <a:off x="3660480" y="4102920"/>
                  <a:ext cx="1191240" cy="1522080"/>
                </a:xfrm>
                <a:prstGeom prst="ellipse">
                  <a:avLst/>
                </a:prstGeom>
                <a:blipFill rotWithShape="0">
                  <a:blip r:embed="rId4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Oval 63"/>
                <p:cNvSpPr/>
                <p:nvPr/>
              </p:nvSpPr>
              <p:spPr>
                <a:xfrm rot="20365200">
                  <a:off x="5125320" y="3845160"/>
                  <a:ext cx="1334160" cy="1544040"/>
                </a:xfrm>
                <a:prstGeom prst="ellipse">
                  <a:avLst/>
                </a:prstGeom>
                <a:blipFill rotWithShape="0">
                  <a:blip r:embed="rId5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44"/>
                <p:cNvSpPr/>
                <p:nvPr/>
              </p:nvSpPr>
              <p:spPr>
                <a:xfrm rot="3562800">
                  <a:off x="4189320" y="3635280"/>
                  <a:ext cx="395640" cy="271800"/>
                </a:xfrm>
                <a:prstGeom prst="rightArrow">
                  <a:avLst>
                    <a:gd name="adj1" fmla="val 49685"/>
                    <a:gd name="adj2" fmla="val 64229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円/楕円 24"/>
                <p:cNvSpPr/>
                <p:nvPr/>
              </p:nvSpPr>
              <p:spPr>
                <a:xfrm>
                  <a:off x="4505760" y="3510000"/>
                  <a:ext cx="1941840" cy="2093040"/>
                </a:xfrm>
                <a:prstGeom prst="ellipse">
                  <a:avLst/>
                </a:prstGeom>
                <a:blipFill rotWithShape="0">
                  <a:blip r:embed="rId6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テキスト ボックス 25"/>
                <p:cNvSpPr/>
                <p:nvPr/>
              </p:nvSpPr>
              <p:spPr>
                <a:xfrm>
                  <a:off x="5429880" y="3000600"/>
                  <a:ext cx="1250280" cy="4899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Sampling on public road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下矢印 26"/>
                <p:cNvSpPr/>
                <p:nvPr/>
              </p:nvSpPr>
              <p:spPr>
                <a:xfrm rot="2985600">
                  <a:off x="5879520" y="3424680"/>
                  <a:ext cx="256320" cy="323280"/>
                </a:xfrm>
                <a:prstGeom prst="downArrow">
                  <a:avLst>
                    <a:gd name="adj1" fmla="val 35269"/>
                    <a:gd name="adj2" fmla="val 59243"/>
                  </a:avLst>
                </a:prstGeom>
                <a:solidFill>
                  <a:srgbClr val="33cc33"/>
                </a:solidFill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 rot="2149800">
                  <a:off x="3388320" y="4199400"/>
                  <a:ext cx="524880" cy="273240"/>
                </a:xfrm>
                <a:prstGeom prst="rightArrow">
                  <a:avLst>
                    <a:gd name="adj1" fmla="val 49685"/>
                    <a:gd name="adj2" fmla="val 71386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Line 56"/>
              <p:cNvSpPr/>
              <p:nvPr/>
            </p:nvSpPr>
            <p:spPr>
              <a:xfrm>
                <a:off x="5785920" y="5428080"/>
                <a:ext cx="210816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テキスト ボックス 28"/>
              <p:cNvSpPr/>
              <p:nvPr/>
            </p:nvSpPr>
            <p:spPr>
              <a:xfrm>
                <a:off x="5739840" y="5375520"/>
                <a:ext cx="96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3se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57"/>
            <p:cNvSpPr/>
            <p:nvPr/>
          </p:nvSpPr>
          <p:spPr>
            <a:xfrm>
              <a:off x="7023960" y="366084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cc"/>
                  </a:solidFill>
                  <a:latin typeface="Tahoma"/>
                  <a:ea typeface="Tahoma"/>
                </a:rPr>
                <a:t>In ordin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cc"/>
                  </a:solidFill>
                  <a:latin typeface="Tahoma"/>
                  <a:ea typeface="Tahoma"/>
                </a:rPr>
                <a:t>sit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7"/>
            <p:cNvSpPr/>
            <p:nvPr/>
          </p:nvSpPr>
          <p:spPr>
            <a:xfrm>
              <a:off x="7007760" y="5539320"/>
              <a:ext cx="171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In emergenc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sit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7"/>
            <p:cNvSpPr/>
            <p:nvPr/>
          </p:nvSpPr>
          <p:spPr>
            <a:xfrm>
              <a:off x="71280" y="5072040"/>
              <a:ext cx="1643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cc"/>
                  </a:solidFill>
                  <a:latin typeface="Tahoma"/>
                  <a:ea typeface="Tahoma"/>
                </a:rPr>
                <a:t>Requirements of AEBS’s deceleration are based on her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7"/>
            <p:cNvSpPr/>
            <p:nvPr/>
          </p:nvSpPr>
          <p:spPr>
            <a:xfrm>
              <a:off x="7237080" y="4365000"/>
              <a:ext cx="162756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Requirements of AEBS’s acti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上矢印 62"/>
            <p:cNvSpPr/>
            <p:nvPr/>
          </p:nvSpPr>
          <p:spPr>
            <a:xfrm>
              <a:off x="6707160" y="3408120"/>
              <a:ext cx="330120" cy="2538720"/>
            </a:xfrm>
            <a:prstGeom prst="upArrow">
              <a:avLst>
                <a:gd name="adj1" fmla="val 50000"/>
                <a:gd name="adj2" fmla="val 4820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上矢印 63"/>
            <p:cNvSpPr/>
            <p:nvPr/>
          </p:nvSpPr>
          <p:spPr>
            <a:xfrm flipV="1">
              <a:off x="6707160" y="5438880"/>
              <a:ext cx="330120" cy="635040"/>
            </a:xfrm>
            <a:prstGeom prst="upArrow">
              <a:avLst>
                <a:gd name="adj1" fmla="val 50000"/>
                <a:gd name="adj2" fmla="val 48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正方形/長方形 64"/>
            <p:cNvSpPr/>
            <p:nvPr/>
          </p:nvSpPr>
          <p:spPr>
            <a:xfrm>
              <a:off x="2315520" y="2643120"/>
              <a:ext cx="54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rivers’ avoiding maneuver for forward obst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" name="直線矢印コネクタ 40"/>
          <p:cNvCxnSpPr>
            <a:stCxn id="98" idx="2"/>
          </p:cNvCxnSpPr>
          <p:nvPr/>
        </p:nvCxnSpPr>
        <p:spPr>
          <a:xfrm flipH="1">
            <a:off x="7092360" y="5195880"/>
            <a:ext cx="957960" cy="249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角丸四角形 4"/>
          <p:cNvSpPr/>
          <p:nvPr/>
        </p:nvSpPr>
        <p:spPr>
          <a:xfrm>
            <a:off x="179280" y="1068480"/>
            <a:ext cx="8821800" cy="495288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57024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3"/>
          <p:cNvSpPr/>
          <p:nvPr/>
        </p:nvSpPr>
        <p:spPr>
          <a:xfrm>
            <a:off x="428760" y="1143000"/>
            <a:ext cx="81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the system is activated only in emergency situations, the over-reliance does not occur to a d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TC equal to or less than 3.0s is for a definition of the emergency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AEBS is activated in other situations except emergency, it is a problem because it affects other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6:19:36Z</dcterms:created>
  <dc:creator>hirose</dc:creator>
  <dc:description/>
  <dc:language>en-US</dc:language>
  <cp:lastModifiedBy>ofontaine</cp:lastModifiedBy>
  <dcterms:modified xsi:type="dcterms:W3CDTF">2010-12-03T13:57:47Z</dcterms:modified>
  <cp:revision>85</cp:revision>
  <dc:subject/>
  <dc:title>スライド 1</dc:title>
</cp:coreProperties>
</file>