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561E-FE3A-463F-9A32-9AEF5D260B5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5783-EA07-4E06-8874-2FEB4C445A3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33CA-ED96-438C-B54B-9D615679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AB63-4035-4B9E-8697-12A96CA8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D808-A839-43ED-96F7-5FB0467D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42B6-3CED-4235-BAA8-9740A7B3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3C72-C34F-4B0B-89D7-374E635F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7CD9-2A3F-4B60-99D4-6451FDE8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4BA3-ACC5-4D4E-85DB-79215C96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6959-A23B-4B28-972F-E2BB2435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FF38-E530-461B-87B7-180C3D70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CADA-2E02-4F7A-B348-C2A6EDA0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2AA7-85B9-417C-8BCA-AFBAF519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1FB5-AA4A-4CBA-8802-21FFE63A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BC21-ED2D-48C3-B4C4-CFBAEA259F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角丸四角形 10"/>
          <p:cNvSpPr/>
          <p:nvPr/>
        </p:nvSpPr>
        <p:spPr>
          <a:xfrm>
            <a:off x="179280" y="1068480"/>
            <a:ext cx="8821800" cy="5472000"/>
          </a:xfrm>
          <a:prstGeom prst="roundRect">
            <a:avLst>
              <a:gd name="adj" fmla="val 3301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方形/長方形 6"/>
          <p:cNvSpPr/>
          <p:nvPr/>
        </p:nvSpPr>
        <p:spPr>
          <a:xfrm>
            <a:off x="214200" y="1614600"/>
            <a:ext cx="864396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スライド番号プレースホルダ 5"/>
          <p:cNvSpPr/>
          <p:nvPr/>
        </p:nvSpPr>
        <p:spPr>
          <a:xfrm>
            <a:off x="6832440" y="6383160"/>
            <a:ext cx="2311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　　　</a:t>
            </a:r>
            <a:fld id="{E7885F9D-3733-4EAC-A06F-986592945483}" type="slidenum"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7"/>
          <p:cNvSpPr/>
          <p:nvPr/>
        </p:nvSpPr>
        <p:spPr>
          <a:xfrm>
            <a:off x="285840" y="1657440"/>
            <a:ext cx="87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ACC, AEBS -&gt; The same hardware in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8"/>
          <p:cNvSpPr/>
          <p:nvPr/>
        </p:nvSpPr>
        <p:spPr>
          <a:xfrm>
            <a:off x="1298520" y="25718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ACC: In ordinary sit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9"/>
          <p:cNvSpPr/>
          <p:nvPr/>
        </p:nvSpPr>
        <p:spPr>
          <a:xfrm>
            <a:off x="1370160" y="357192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AEBS: In emergency sit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右矢印 7"/>
          <p:cNvSpPr/>
          <p:nvPr/>
        </p:nvSpPr>
        <p:spPr>
          <a:xfrm>
            <a:off x="428760" y="2728800"/>
            <a:ext cx="785520" cy="357480"/>
          </a:xfrm>
          <a:prstGeom prst="rightArrow">
            <a:avLst>
              <a:gd name="adj1" fmla="val 50000"/>
              <a:gd name="adj2" fmla="val 4994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右矢印 8"/>
          <p:cNvSpPr/>
          <p:nvPr/>
        </p:nvSpPr>
        <p:spPr>
          <a:xfrm>
            <a:off x="428760" y="3728880"/>
            <a:ext cx="857160" cy="35748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8"/>
          <p:cNvSpPr/>
          <p:nvPr/>
        </p:nvSpPr>
        <p:spPr>
          <a:xfrm>
            <a:off x="1357200" y="4572000"/>
            <a:ext cx="7072560" cy="119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AEBS should be activated only in emergency situation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0" y="570240"/>
            <a:ext cx="9144000" cy="39888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Jus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12"/>
          <p:cNvSpPr/>
          <p:nvPr/>
        </p:nvSpPr>
        <p:spPr>
          <a:xfrm>
            <a:off x="1428840" y="58546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If the system is activated only in emergency situations, rarely happen, the over-reliance does not occur to a dr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テキスト ボックス 7"/>
          <p:cNvSpPr/>
          <p:nvPr/>
        </p:nvSpPr>
        <p:spPr>
          <a:xfrm>
            <a:off x="7451640" y="189000"/>
            <a:ext cx="139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AEBS/LDWS-10-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スライド番号プレースホルダ 5"/>
          <p:cNvSpPr/>
          <p:nvPr/>
        </p:nvSpPr>
        <p:spPr>
          <a:xfrm>
            <a:off x="6832440" y="6383160"/>
            <a:ext cx="2311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　　　</a:t>
            </a:r>
            <a:fld id="{98A60A94-1458-4F38-BD47-63EA982028C6}" type="slidenum"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角丸四角形 6"/>
          <p:cNvSpPr/>
          <p:nvPr/>
        </p:nvSpPr>
        <p:spPr>
          <a:xfrm>
            <a:off x="142920" y="1768320"/>
            <a:ext cx="8786880" cy="3732480"/>
          </a:xfrm>
          <a:prstGeom prst="roundRect">
            <a:avLst>
              <a:gd name="adj" fmla="val 3301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4000" y="191124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rivers’ 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&lt;In ordinary situations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 driver operates the avoiding maneuver while TTC is lo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 driver does not operate braking with a high deceler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&lt;In emergency situations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 driver operates the avoiding maneuver after TTC becomes short.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 driver operates braking with a high  deceleration to reduce the damage or to avoid a colli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0" y="570240"/>
            <a:ext cx="9144000" cy="39888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Jus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角丸四角形 28"/>
          <p:cNvSpPr/>
          <p:nvPr/>
        </p:nvSpPr>
        <p:spPr>
          <a:xfrm>
            <a:off x="0" y="690480"/>
            <a:ext cx="9144000" cy="6043680"/>
          </a:xfrm>
          <a:prstGeom prst="roundRect">
            <a:avLst>
              <a:gd name="adj" fmla="val 3301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25"/>
          <p:cNvSpPr/>
          <p:nvPr/>
        </p:nvSpPr>
        <p:spPr>
          <a:xfrm>
            <a:off x="376200" y="714240"/>
            <a:ext cx="8406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  <a:ea typeface="Tahoma"/>
              </a:rPr>
              <a:t>Most drivers</a:t>
            </a:r>
            <a:r>
              <a:rPr b="1" lang="ja-JP" sz="14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ahoma"/>
                <a:ea typeface="Tahoma"/>
              </a:rPr>
              <a:t>operate braking to avoid a collision at the earlier time than 1.6s at most of overlapping rat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here is no interference with drivers’ oper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he speed reduction of Japan proposal is based on 1.6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  <a:ea typeface="Tahoma"/>
              </a:rPr>
              <a:t>Most drivers operate braking to avoid a collision at the earlier time than 3.0s in conditions of overlapping ratio 10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t is the number which distinguishes an ordinary driving from an emergency operation to avoid a collis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214920"/>
            <a:ext cx="9144000" cy="39888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Jus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スライド番号プレースホルダ 5"/>
          <p:cNvSpPr/>
          <p:nvPr/>
        </p:nvSpPr>
        <p:spPr>
          <a:xfrm>
            <a:off x="6832440" y="6383160"/>
            <a:ext cx="2311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　　　</a:t>
            </a:r>
            <a:fld id="{078006F3-9B8C-4359-BC08-0D553AA6B2B1}" type="slidenum"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右矢印 31"/>
          <p:cNvSpPr/>
          <p:nvPr/>
        </p:nvSpPr>
        <p:spPr>
          <a:xfrm>
            <a:off x="914400" y="1243080"/>
            <a:ext cx="195120" cy="90360"/>
          </a:xfrm>
          <a:prstGeom prst="rightArrow">
            <a:avLst>
              <a:gd name="adj1" fmla="val 50000"/>
              <a:gd name="adj2" fmla="val 5003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右矢印 32"/>
          <p:cNvSpPr/>
          <p:nvPr/>
        </p:nvSpPr>
        <p:spPr>
          <a:xfrm>
            <a:off x="914400" y="1471680"/>
            <a:ext cx="195120" cy="90360"/>
          </a:xfrm>
          <a:prstGeom prst="rightArrow">
            <a:avLst>
              <a:gd name="adj1" fmla="val 50000"/>
              <a:gd name="adj2" fmla="val 5003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矢印 33"/>
          <p:cNvSpPr/>
          <p:nvPr/>
        </p:nvSpPr>
        <p:spPr>
          <a:xfrm>
            <a:off x="909720" y="2338560"/>
            <a:ext cx="195120" cy="90360"/>
          </a:xfrm>
          <a:prstGeom prst="rightArrow">
            <a:avLst>
              <a:gd name="adj1" fmla="val 50000"/>
              <a:gd name="adj2" fmla="val 5003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グループ化 40"/>
          <p:cNvGrpSpPr/>
          <p:nvPr/>
        </p:nvGrpSpPr>
        <p:grpSpPr>
          <a:xfrm>
            <a:off x="71280" y="2643120"/>
            <a:ext cx="8793360" cy="4000680"/>
            <a:chOff x="71280" y="2643120"/>
            <a:chExt cx="8793360" cy="4000680"/>
          </a:xfrm>
        </p:grpSpPr>
        <p:grpSp>
          <p:nvGrpSpPr>
            <p:cNvPr id="72" name="グループ化 26"/>
            <p:cNvGrpSpPr/>
            <p:nvPr/>
          </p:nvGrpSpPr>
          <p:grpSpPr>
            <a:xfrm>
              <a:off x="1244160" y="3000600"/>
              <a:ext cx="6649920" cy="3643200"/>
              <a:chOff x="1244160" y="3000600"/>
              <a:chExt cx="6649920" cy="3643200"/>
            </a:xfrm>
          </p:grpSpPr>
          <p:grpSp>
            <p:nvGrpSpPr>
              <p:cNvPr id="73" name="Group 26"/>
              <p:cNvGrpSpPr/>
              <p:nvPr/>
            </p:nvGrpSpPr>
            <p:grpSpPr>
              <a:xfrm>
                <a:off x="1244160" y="3000600"/>
                <a:ext cx="6175800" cy="3643200"/>
                <a:chOff x="1244160" y="3000600"/>
                <a:chExt cx="6175800" cy="3643200"/>
              </a:xfrm>
            </p:grpSpPr>
            <p:pic>
              <p:nvPicPr>
                <p:cNvPr id="74" name="Picture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44160" y="3149280"/>
                  <a:ext cx="6175800" cy="349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" name="Text Box 13"/>
                <p:cNvSpPr/>
                <p:nvPr/>
              </p:nvSpPr>
              <p:spPr>
                <a:xfrm rot="16200000">
                  <a:off x="1299960" y="4520160"/>
                  <a:ext cx="753120" cy="520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TTC </a:t>
                  </a: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sec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Text Box 14"/>
                <p:cNvSpPr/>
                <p:nvPr/>
              </p:nvSpPr>
              <p:spPr>
                <a:xfrm>
                  <a:off x="2157840" y="3427920"/>
                  <a:ext cx="1632960" cy="291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Calibri"/>
                    </a:rPr>
                    <a:t>Unladen, V = 60 km/h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Text Box 15"/>
                <p:cNvSpPr/>
                <p:nvPr/>
              </p:nvSpPr>
              <p:spPr>
                <a:xfrm>
                  <a:off x="3577320" y="6288480"/>
                  <a:ext cx="168336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Overlapping Ratio  </a:t>
                  </a: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%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Line 21"/>
                <p:cNvSpPr/>
                <p:nvPr/>
              </p:nvSpPr>
              <p:spPr>
                <a:xfrm flipV="1">
                  <a:off x="2626200" y="5357160"/>
                  <a:ext cx="3837240" cy="36072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Oval 38"/>
                <p:cNvSpPr/>
                <p:nvPr/>
              </p:nvSpPr>
              <p:spPr>
                <a:xfrm rot="20496600">
                  <a:off x="2615040" y="3912120"/>
                  <a:ext cx="3674160" cy="1679040"/>
                </a:xfrm>
                <a:prstGeom prst="ellipse">
                  <a:avLst/>
                </a:prstGeom>
                <a:blipFill rotWithShape="0">
                  <a:blip r:embed="rId2">
                    <a:alphaModFix amt="20000"/>
                  </a:blip>
                  <a:srcRect/>
                  <a:tile tx="0" ty="0" sx="100000" sy="100000" algn="ctr"/>
                </a:blipFill>
                <a:ln w="25560">
                  <a:solidFill>
                    <a:srgbClr val="ff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Text Box 42"/>
                <p:cNvSpPr/>
                <p:nvPr/>
              </p:nvSpPr>
              <p:spPr>
                <a:xfrm>
                  <a:off x="2113560" y="3774240"/>
                  <a:ext cx="1419840" cy="48996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Calibri"/>
                    </a:rPr>
                    <a:t>Experiments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Calibri"/>
                    </a:rPr>
                    <a:t>on proving ground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Text Box 45"/>
                <p:cNvSpPr/>
                <p:nvPr/>
              </p:nvSpPr>
              <p:spPr>
                <a:xfrm>
                  <a:off x="3932640" y="3286440"/>
                  <a:ext cx="893880" cy="291960"/>
                </a:xfrm>
                <a:prstGeom prst="rect">
                  <a:avLst/>
                </a:prstGeom>
                <a:solidFill>
                  <a:srgbClr val="ff99ff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Calibri"/>
                    </a:rPr>
                    <a:t>Real world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56"/>
                <p:cNvSpPr/>
                <p:nvPr/>
              </p:nvSpPr>
              <p:spPr>
                <a:xfrm>
                  <a:off x="1569960" y="5716800"/>
                  <a:ext cx="11196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Text Box 57"/>
                <p:cNvSpPr/>
                <p:nvPr/>
              </p:nvSpPr>
              <p:spPr>
                <a:xfrm>
                  <a:off x="2667240" y="5692680"/>
                  <a:ext cx="68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0000cc"/>
                      </a:solidFill>
                      <a:latin typeface="Calibri"/>
                    </a:rPr>
                    <a:t>1.6sec.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AutoShape 58"/>
                <p:cNvSpPr/>
                <p:nvPr/>
              </p:nvSpPr>
              <p:spPr>
                <a:xfrm>
                  <a:off x="2162160" y="5756400"/>
                  <a:ext cx="271800" cy="309600"/>
                </a:xfrm>
                <a:prstGeom prst="downArrow">
                  <a:avLst>
                    <a:gd name="adj1" fmla="val 49778"/>
                    <a:gd name="adj2" fmla="val 49676"/>
                  </a:avLst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Oval 61"/>
                <p:cNvSpPr/>
                <p:nvPr/>
              </p:nvSpPr>
              <p:spPr>
                <a:xfrm>
                  <a:off x="2221920" y="4318920"/>
                  <a:ext cx="979200" cy="1388880"/>
                </a:xfrm>
                <a:prstGeom prst="ellipse">
                  <a:avLst/>
                </a:prstGeom>
                <a:blipFill rotWithShape="0">
                  <a:blip r:embed="rId3">
                    <a:alphaModFix amt="20000"/>
                  </a:blip>
                  <a:srcRect/>
                  <a:tile tx="0" ty="0" sx="100000" sy="100000" algn="ctr"/>
                </a:blip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Oval 62"/>
                <p:cNvSpPr/>
                <p:nvPr/>
              </p:nvSpPr>
              <p:spPr>
                <a:xfrm rot="18802200">
                  <a:off x="3660480" y="4102920"/>
                  <a:ext cx="1191240" cy="1522080"/>
                </a:xfrm>
                <a:prstGeom prst="ellipse">
                  <a:avLst/>
                </a:prstGeom>
                <a:blipFill rotWithShape="0">
                  <a:blip r:embed="rId4">
                    <a:alphaModFix amt="20000"/>
                  </a:blip>
                  <a:srcRect/>
                  <a:tile tx="0" ty="0" sx="100000" sy="100000" algn="ctr"/>
                </a:blip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Oval 63"/>
                <p:cNvSpPr/>
                <p:nvPr/>
              </p:nvSpPr>
              <p:spPr>
                <a:xfrm rot="20365200">
                  <a:off x="5125320" y="3845160"/>
                  <a:ext cx="1334160" cy="1544040"/>
                </a:xfrm>
                <a:prstGeom prst="ellipse">
                  <a:avLst/>
                </a:prstGeom>
                <a:blipFill rotWithShape="0">
                  <a:blip r:embed="rId5">
                    <a:alphaModFix amt="20000"/>
                  </a:blip>
                  <a:srcRect/>
                  <a:tile tx="0" ty="0" sx="100000" sy="100000" algn="ctr"/>
                </a:blip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AutoShape 44"/>
                <p:cNvSpPr/>
                <p:nvPr/>
              </p:nvSpPr>
              <p:spPr>
                <a:xfrm rot="3562800">
                  <a:off x="4189320" y="3635280"/>
                  <a:ext cx="395640" cy="271800"/>
                </a:xfrm>
                <a:prstGeom prst="rightArrow">
                  <a:avLst>
                    <a:gd name="adj1" fmla="val 49685"/>
                    <a:gd name="adj2" fmla="val 64229"/>
                  </a:avLst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円/楕円 24"/>
                <p:cNvSpPr/>
                <p:nvPr/>
              </p:nvSpPr>
              <p:spPr>
                <a:xfrm>
                  <a:off x="4505760" y="3510000"/>
                  <a:ext cx="1941840" cy="2093040"/>
                </a:xfrm>
                <a:prstGeom prst="ellipse">
                  <a:avLst/>
                </a:prstGeom>
                <a:blipFill rotWithShape="0">
                  <a:blip r:embed="rId6">
                    <a:alphaModFix amt="20000"/>
                  </a:blip>
                  <a:srcRect/>
                  <a:tile tx="0" ty="0" sx="100000" sy="100000" algn="ctr"/>
                </a:blipFill>
                <a:ln w="255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テキスト ボックス 25"/>
                <p:cNvSpPr/>
                <p:nvPr/>
              </p:nvSpPr>
              <p:spPr>
                <a:xfrm>
                  <a:off x="5429880" y="3000600"/>
                  <a:ext cx="1250280" cy="4899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Calibri"/>
                    </a:rPr>
                    <a:t>Sampling on public roads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下矢印 26"/>
                <p:cNvSpPr/>
                <p:nvPr/>
              </p:nvSpPr>
              <p:spPr>
                <a:xfrm rot="2985600">
                  <a:off x="5879520" y="3424680"/>
                  <a:ext cx="256320" cy="323280"/>
                </a:xfrm>
                <a:prstGeom prst="downArrow">
                  <a:avLst>
                    <a:gd name="adj1" fmla="val 35269"/>
                    <a:gd name="adj2" fmla="val 59243"/>
                  </a:avLst>
                </a:prstGeom>
                <a:solidFill>
                  <a:srgbClr val="33cc33"/>
                </a:solidFill>
                <a:ln w="255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AutoShape 43"/>
                <p:cNvSpPr/>
                <p:nvPr/>
              </p:nvSpPr>
              <p:spPr>
                <a:xfrm rot="2149800">
                  <a:off x="3388320" y="4199400"/>
                  <a:ext cx="524880" cy="273240"/>
                </a:xfrm>
                <a:prstGeom prst="rightArrow">
                  <a:avLst>
                    <a:gd name="adj1" fmla="val 49685"/>
                    <a:gd name="adj2" fmla="val 71386"/>
                  </a:avLst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Line 56"/>
              <p:cNvSpPr/>
              <p:nvPr/>
            </p:nvSpPr>
            <p:spPr>
              <a:xfrm>
                <a:off x="5785920" y="5428080"/>
                <a:ext cx="2108160" cy="10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テキスト ボックス 28"/>
              <p:cNvSpPr/>
              <p:nvPr/>
            </p:nvSpPr>
            <p:spPr>
              <a:xfrm>
                <a:off x="5739840" y="5375520"/>
                <a:ext cx="968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Calibri"/>
                  </a:rPr>
                  <a:t>3se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Text Box 57"/>
            <p:cNvSpPr/>
            <p:nvPr/>
          </p:nvSpPr>
          <p:spPr>
            <a:xfrm>
              <a:off x="7023960" y="3660840"/>
              <a:ext cx="144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cc"/>
                  </a:solidFill>
                  <a:latin typeface="Tahoma"/>
                  <a:ea typeface="Tahoma"/>
                </a:rPr>
                <a:t>In ordinar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cc"/>
                  </a:solidFill>
                  <a:latin typeface="Tahoma"/>
                  <a:ea typeface="Tahoma"/>
                </a:rPr>
                <a:t>situ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57"/>
            <p:cNvSpPr/>
            <p:nvPr/>
          </p:nvSpPr>
          <p:spPr>
            <a:xfrm>
              <a:off x="7007760" y="5539320"/>
              <a:ext cx="171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In emergenc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situ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57"/>
            <p:cNvSpPr/>
            <p:nvPr/>
          </p:nvSpPr>
          <p:spPr>
            <a:xfrm>
              <a:off x="71280" y="5072040"/>
              <a:ext cx="16430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cc"/>
                  </a:solidFill>
                  <a:latin typeface="Tahoma"/>
                  <a:ea typeface="Tahoma"/>
                </a:rPr>
                <a:t>Requirements of AEBS’s deceleration are based on her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57"/>
            <p:cNvSpPr/>
            <p:nvPr/>
          </p:nvSpPr>
          <p:spPr>
            <a:xfrm>
              <a:off x="7237080" y="4365000"/>
              <a:ext cx="162756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Requirements of AEBS’s activ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上矢印 62"/>
            <p:cNvSpPr/>
            <p:nvPr/>
          </p:nvSpPr>
          <p:spPr>
            <a:xfrm>
              <a:off x="6707160" y="3408120"/>
              <a:ext cx="330120" cy="2538720"/>
            </a:xfrm>
            <a:prstGeom prst="upArrow">
              <a:avLst>
                <a:gd name="adj1" fmla="val 50000"/>
                <a:gd name="adj2" fmla="val 4820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上矢印 63"/>
            <p:cNvSpPr/>
            <p:nvPr/>
          </p:nvSpPr>
          <p:spPr>
            <a:xfrm flipV="1">
              <a:off x="6707160" y="5438880"/>
              <a:ext cx="330120" cy="635040"/>
            </a:xfrm>
            <a:prstGeom prst="upArrow">
              <a:avLst>
                <a:gd name="adj1" fmla="val 50000"/>
                <a:gd name="adj2" fmla="val 4820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正方形/長方形 64"/>
            <p:cNvSpPr/>
            <p:nvPr/>
          </p:nvSpPr>
          <p:spPr>
            <a:xfrm>
              <a:off x="2315520" y="2643120"/>
              <a:ext cx="549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rivers’ avoiding maneuver for forward obstac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2" name="直線矢印コネクタ 40"/>
          <p:cNvCxnSpPr>
            <a:stCxn id="98" idx="2"/>
          </p:cNvCxnSpPr>
          <p:nvPr/>
        </p:nvCxnSpPr>
        <p:spPr>
          <a:xfrm flipH="1">
            <a:off x="7092360" y="5195880"/>
            <a:ext cx="957960" cy="2498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角丸四角形 4"/>
          <p:cNvSpPr/>
          <p:nvPr/>
        </p:nvSpPr>
        <p:spPr>
          <a:xfrm>
            <a:off x="179280" y="1068480"/>
            <a:ext cx="8821800" cy="4952880"/>
          </a:xfrm>
          <a:prstGeom prst="roundRect">
            <a:avLst>
              <a:gd name="adj" fmla="val 3301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0" y="570240"/>
            <a:ext cx="9144000" cy="39888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Jus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正方形/長方形 3"/>
          <p:cNvSpPr/>
          <p:nvPr/>
        </p:nvSpPr>
        <p:spPr>
          <a:xfrm>
            <a:off x="428760" y="1143000"/>
            <a:ext cx="8135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f the system is activated only in emergency situations, the over-reliance does not occur to a dr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TC equal to or less than 3.0s is for a definition of the emergency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f AEBS is activated in other situations except emergency, it is a problem because it affects other traff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6:19:36Z</dcterms:created>
  <dc:creator>hirose</dc:creator>
  <dc:description/>
  <dc:language>en-US</dc:language>
  <cp:lastModifiedBy>ofontaine</cp:lastModifiedBy>
  <dcterms:modified xsi:type="dcterms:W3CDTF">2010-12-03T13:57:47Z</dcterms:modified>
  <cp:revision>85</cp:revision>
  <dc:subject/>
  <dc:title>スライド 1</dc:title>
</cp:coreProperties>
</file>