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2600" y="744480"/>
            <a:ext cx="4957560" cy="371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16BCBA-9312-45B3-AE04-B2C36D81CD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6BA1C5-6464-4E02-A6B7-088D3CAADA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4041E5-85DB-455F-9CB2-F965B3DC01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761C08-1BEF-4735-89E0-0CA95F9121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F0AE2D-B342-447A-B708-4402B0E33E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E06F3D-0F5E-4372-AB8F-0D74419059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57560" cy="3718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4AA-1AE8-4079-A7F9-35DF1A19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3B3-AF2C-4387-9F5B-BD0F88FE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17D-2098-4DDA-A829-39BAEB6F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0F5-1C21-4378-9446-F5BFFF98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5B8-6E02-4E28-807F-7C472410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861-02C6-4B63-BC21-3AEF286B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294-990E-4D8D-B565-B12F0C80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1103-FEB2-4A9D-83DC-058F05E3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CDC-F272-4A10-BB67-96AD2756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873E-065E-4816-8D1B-FD8AE25A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814-E87D-44C2-8FDC-1CFD0F98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E3C0-0FAB-4E4E-9D99-00118170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6208-EB3F-4403-B060-654BDE6727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2360" y="1844280"/>
            <a:ext cx="477072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Times New Roman"/>
              </a:rPr>
              <a:t>Driver Reaction Ti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7308720" y="404640"/>
            <a:ext cx="124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AEBS/LDWS-07-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201009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55"/>
          <p:cNvGrpSpPr/>
          <p:nvPr/>
        </p:nvGrpSpPr>
        <p:grpSpPr>
          <a:xfrm>
            <a:off x="1908000" y="2133720"/>
            <a:ext cx="432000" cy="2852640"/>
            <a:chOff x="1908000" y="2133720"/>
            <a:chExt cx="432000" cy="2852640"/>
          </a:xfrm>
        </p:grpSpPr>
        <p:sp>
          <p:nvSpPr>
            <p:cNvPr id="51" name="AutoShape 7"/>
            <p:cNvSpPr/>
            <p:nvPr/>
          </p:nvSpPr>
          <p:spPr>
            <a:xfrm>
              <a:off x="1908000" y="2133720"/>
              <a:ext cx="432000" cy="2852640"/>
            </a:xfrm>
            <a:prstGeom prst="downArrow">
              <a:avLst>
                <a:gd name="adj1" fmla="val 50000"/>
                <a:gd name="adj2" fmla="val 165083"/>
              </a:avLst>
            </a:prstGeom>
            <a:solidFill>
              <a:srgbClr val="99ccff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9"/>
            <p:cNvSpPr/>
            <p:nvPr/>
          </p:nvSpPr>
          <p:spPr>
            <a:xfrm rot="10800000">
              <a:off x="1934640" y="3070440"/>
              <a:ext cx="332640" cy="12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Event Recogni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Group 56"/>
          <p:cNvGrpSpPr/>
          <p:nvPr/>
        </p:nvGrpSpPr>
        <p:grpSpPr>
          <a:xfrm>
            <a:off x="2266920" y="2133720"/>
            <a:ext cx="1081080" cy="2852640"/>
            <a:chOff x="2266920" y="2133720"/>
            <a:chExt cx="1081080" cy="2852640"/>
          </a:xfrm>
        </p:grpSpPr>
        <p:sp>
          <p:nvSpPr>
            <p:cNvPr id="54" name="AutoShape 10"/>
            <p:cNvSpPr/>
            <p:nvPr/>
          </p:nvSpPr>
          <p:spPr>
            <a:xfrm>
              <a:off x="2266920" y="2421000"/>
              <a:ext cx="720720" cy="576360"/>
            </a:xfrm>
            <a:prstGeom prst="leftRightArrow">
              <a:avLst>
                <a:gd name="adj1" fmla="val 50000"/>
                <a:gd name="adj2" fmla="val 24893"/>
              </a:avLst>
            </a:prstGeom>
            <a:solidFill>
              <a:srgbClr val="8bff8b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ocus 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ev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AutoShape 12"/>
            <p:cNvSpPr/>
            <p:nvPr/>
          </p:nvSpPr>
          <p:spPr>
            <a:xfrm>
              <a:off x="2916360" y="2133720"/>
              <a:ext cx="431640" cy="2852640"/>
            </a:xfrm>
            <a:prstGeom prst="downArrow">
              <a:avLst>
                <a:gd name="adj1" fmla="val 50000"/>
                <a:gd name="adj2" fmla="val 165221"/>
              </a:avLst>
            </a:prstGeom>
            <a:solidFill>
              <a:srgbClr val="99ccff">
                <a:alpha val="7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3"/>
            <p:cNvSpPr/>
            <p:nvPr/>
          </p:nvSpPr>
          <p:spPr>
            <a:xfrm rot="10800000">
              <a:off x="2941200" y="3224160"/>
              <a:ext cx="332640" cy="10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Event analy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14"/>
            <p:cNvSpPr/>
            <p:nvPr/>
          </p:nvSpPr>
          <p:spPr>
            <a:xfrm>
              <a:off x="2325240" y="3616200"/>
              <a:ext cx="618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,48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57"/>
          <p:cNvGrpSpPr/>
          <p:nvPr/>
        </p:nvGrpSpPr>
        <p:grpSpPr>
          <a:xfrm>
            <a:off x="3276720" y="2133720"/>
            <a:ext cx="1081080" cy="3302640"/>
            <a:chOff x="3276720" y="2133720"/>
            <a:chExt cx="1081080" cy="3302640"/>
          </a:xfrm>
        </p:grpSpPr>
        <p:sp>
          <p:nvSpPr>
            <p:cNvPr id="59" name="Text Box 15"/>
            <p:cNvSpPr/>
            <p:nvPr/>
          </p:nvSpPr>
          <p:spPr>
            <a:xfrm>
              <a:off x="3330360" y="5129280"/>
              <a:ext cx="618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,93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6"/>
            <p:cNvSpPr/>
            <p:nvPr/>
          </p:nvSpPr>
          <p:spPr>
            <a:xfrm>
              <a:off x="3330360" y="3616200"/>
              <a:ext cx="618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,45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AutoShape 18"/>
            <p:cNvSpPr/>
            <p:nvPr/>
          </p:nvSpPr>
          <p:spPr>
            <a:xfrm>
              <a:off x="3276720" y="2421000"/>
              <a:ext cx="720720" cy="576360"/>
            </a:xfrm>
            <a:prstGeom prst="leftRightArrow">
              <a:avLst>
                <a:gd name="adj1" fmla="val 50000"/>
                <a:gd name="adj2" fmla="val 24893"/>
              </a:avLst>
            </a:prstGeom>
            <a:solidFill>
              <a:srgbClr val="8bff8b">
                <a:alpha val="7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Base re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action ti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AutoShape 19"/>
            <p:cNvSpPr/>
            <p:nvPr/>
          </p:nvSpPr>
          <p:spPr>
            <a:xfrm>
              <a:off x="3926160" y="2133720"/>
              <a:ext cx="431640" cy="2852640"/>
            </a:xfrm>
            <a:prstGeom prst="downArrow">
              <a:avLst>
                <a:gd name="adj1" fmla="val 50000"/>
                <a:gd name="adj2" fmla="val 165221"/>
              </a:avLst>
            </a:prstGeom>
            <a:solidFill>
              <a:srgbClr val="99ccff">
                <a:alpha val="6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20"/>
            <p:cNvSpPr/>
            <p:nvPr/>
          </p:nvSpPr>
          <p:spPr>
            <a:xfrm rot="10800000">
              <a:off x="3949560" y="2581560"/>
              <a:ext cx="332640" cy="16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tarting muscular rea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60"/>
          <p:cNvGrpSpPr/>
          <p:nvPr/>
        </p:nvGrpSpPr>
        <p:grpSpPr>
          <a:xfrm>
            <a:off x="3203640" y="2133720"/>
            <a:ext cx="2160360" cy="3427200"/>
            <a:chOff x="3203640" y="2133720"/>
            <a:chExt cx="2160360" cy="3427200"/>
          </a:xfrm>
        </p:grpSpPr>
        <p:sp>
          <p:nvSpPr>
            <p:cNvPr id="65" name="Text Box 23"/>
            <p:cNvSpPr/>
            <p:nvPr/>
          </p:nvSpPr>
          <p:spPr>
            <a:xfrm>
              <a:off x="4349160" y="3616200"/>
              <a:ext cx="618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,19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24"/>
            <p:cNvGrpSpPr/>
            <p:nvPr/>
          </p:nvGrpSpPr>
          <p:grpSpPr>
            <a:xfrm>
              <a:off x="3203640" y="5057640"/>
              <a:ext cx="1763640" cy="503280"/>
              <a:chOff x="3203640" y="5057640"/>
              <a:chExt cx="1763640" cy="503280"/>
            </a:xfrm>
          </p:grpSpPr>
          <p:sp>
            <p:nvSpPr>
              <p:cNvPr id="67" name="Text Box 25"/>
              <p:cNvSpPr/>
              <p:nvPr/>
            </p:nvSpPr>
            <p:spPr>
              <a:xfrm>
                <a:off x="4349160" y="5129280"/>
                <a:ext cx="618120" cy="30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1,12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Rectangle 26"/>
              <p:cNvSpPr/>
              <p:nvPr/>
            </p:nvSpPr>
            <p:spPr>
              <a:xfrm>
                <a:off x="3203640" y="5057640"/>
                <a:ext cx="107928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AutoShape 27"/>
            <p:cNvSpPr/>
            <p:nvPr/>
          </p:nvSpPr>
          <p:spPr>
            <a:xfrm>
              <a:off x="4282920" y="2421000"/>
              <a:ext cx="720720" cy="576360"/>
            </a:xfrm>
            <a:prstGeom prst="leftRightArrow">
              <a:avLst>
                <a:gd name="adj1" fmla="val 50000"/>
                <a:gd name="adj2" fmla="val 24893"/>
              </a:avLst>
            </a:prstGeom>
            <a:solidFill>
              <a:srgbClr val="8bff8b">
                <a:alpha val="6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Mov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oo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utoShape 28"/>
            <p:cNvSpPr/>
            <p:nvPr/>
          </p:nvSpPr>
          <p:spPr>
            <a:xfrm>
              <a:off x="4932360" y="2133720"/>
              <a:ext cx="431640" cy="2852640"/>
            </a:xfrm>
            <a:prstGeom prst="downArrow">
              <a:avLst>
                <a:gd name="adj1" fmla="val 50000"/>
                <a:gd name="adj2" fmla="val 165221"/>
              </a:avLst>
            </a:prstGeom>
            <a:solidFill>
              <a:srgbClr val="99ccff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29"/>
            <p:cNvSpPr/>
            <p:nvPr/>
          </p:nvSpPr>
          <p:spPr>
            <a:xfrm rot="10800000">
              <a:off x="4952520" y="3051000"/>
              <a:ext cx="33264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Touch brake ped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61"/>
          <p:cNvGrpSpPr/>
          <p:nvPr/>
        </p:nvGrpSpPr>
        <p:grpSpPr>
          <a:xfrm>
            <a:off x="5292720" y="2133720"/>
            <a:ext cx="1081080" cy="3302640"/>
            <a:chOff x="5292720" y="2133720"/>
            <a:chExt cx="1081080" cy="3302640"/>
          </a:xfrm>
        </p:grpSpPr>
        <p:sp>
          <p:nvSpPr>
            <p:cNvPr id="73" name="AutoShape 33"/>
            <p:cNvSpPr/>
            <p:nvPr/>
          </p:nvSpPr>
          <p:spPr>
            <a:xfrm>
              <a:off x="5292720" y="2421000"/>
              <a:ext cx="720720" cy="576360"/>
            </a:xfrm>
            <a:prstGeom prst="leftRightArrow">
              <a:avLst>
                <a:gd name="adj1" fmla="val 50000"/>
                <a:gd name="adj2" fmla="val 24893"/>
              </a:avLst>
            </a:prstGeom>
            <a:solidFill>
              <a:srgbClr val="8bff8b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Brake res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ponse ti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34"/>
            <p:cNvSpPr/>
            <p:nvPr/>
          </p:nvSpPr>
          <p:spPr>
            <a:xfrm>
              <a:off x="5942160" y="2133720"/>
              <a:ext cx="431640" cy="2852640"/>
            </a:xfrm>
            <a:prstGeom prst="downArrow">
              <a:avLst>
                <a:gd name="adj1" fmla="val 50000"/>
                <a:gd name="adj2" fmla="val 165221"/>
              </a:avLst>
            </a:prstGeom>
            <a:solidFill>
              <a:srgbClr val="99ccff">
                <a:alpha val="3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5"/>
            <p:cNvSpPr/>
            <p:nvPr/>
          </p:nvSpPr>
          <p:spPr>
            <a:xfrm rot="10800000">
              <a:off x="5960880" y="2691000"/>
              <a:ext cx="332640" cy="15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Brake pressure incr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36"/>
            <p:cNvSpPr/>
            <p:nvPr/>
          </p:nvSpPr>
          <p:spPr>
            <a:xfrm>
              <a:off x="5352840" y="3616200"/>
              <a:ext cx="618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,05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38"/>
            <p:cNvSpPr/>
            <p:nvPr/>
          </p:nvSpPr>
          <p:spPr>
            <a:xfrm>
              <a:off x="5352840" y="5129280"/>
              <a:ext cx="618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,17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Rectangle 39"/>
          <p:cNvSpPr/>
          <p:nvPr/>
        </p:nvSpPr>
        <p:spPr>
          <a:xfrm>
            <a:off x="4211640" y="5057640"/>
            <a:ext cx="10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63"/>
          <p:cNvGrpSpPr/>
          <p:nvPr/>
        </p:nvGrpSpPr>
        <p:grpSpPr>
          <a:xfrm>
            <a:off x="5200560" y="2133720"/>
            <a:ext cx="2179800" cy="3427200"/>
            <a:chOff x="5200560" y="2133720"/>
            <a:chExt cx="2179800" cy="3427200"/>
          </a:xfrm>
        </p:grpSpPr>
        <p:sp>
          <p:nvSpPr>
            <p:cNvPr id="80" name="Text Box 41"/>
            <p:cNvSpPr/>
            <p:nvPr/>
          </p:nvSpPr>
          <p:spPr>
            <a:xfrm>
              <a:off x="6346440" y="3616200"/>
              <a:ext cx="618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,17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AutoShape 44"/>
            <p:cNvSpPr/>
            <p:nvPr/>
          </p:nvSpPr>
          <p:spPr>
            <a:xfrm>
              <a:off x="6299280" y="2421000"/>
              <a:ext cx="720720" cy="576360"/>
            </a:xfrm>
            <a:prstGeom prst="leftRightArrow">
              <a:avLst>
                <a:gd name="adj1" fmla="val 50000"/>
                <a:gd name="adj2" fmla="val 24893"/>
              </a:avLst>
            </a:prstGeom>
            <a:solidFill>
              <a:srgbClr val="8bff8b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Press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Built 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utoShape 45"/>
            <p:cNvSpPr/>
            <p:nvPr/>
          </p:nvSpPr>
          <p:spPr>
            <a:xfrm>
              <a:off x="6948360" y="2133720"/>
              <a:ext cx="432000" cy="2852640"/>
            </a:xfrm>
            <a:prstGeom prst="downArrow">
              <a:avLst>
                <a:gd name="adj1" fmla="val 50000"/>
                <a:gd name="adj2" fmla="val 165083"/>
              </a:avLst>
            </a:prstGeom>
            <a:solidFill>
              <a:srgbClr val="99ccff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46"/>
            <p:cNvSpPr/>
            <p:nvPr/>
          </p:nvSpPr>
          <p:spPr>
            <a:xfrm rot="10800000">
              <a:off x="6965640" y="3072600"/>
              <a:ext cx="33264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tart ABS-Contr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Group 47"/>
            <p:cNvGrpSpPr/>
            <p:nvPr/>
          </p:nvGrpSpPr>
          <p:grpSpPr>
            <a:xfrm>
              <a:off x="5200560" y="5057640"/>
              <a:ext cx="1763640" cy="503280"/>
              <a:chOff x="5200560" y="5057640"/>
              <a:chExt cx="1763640" cy="503280"/>
            </a:xfrm>
          </p:grpSpPr>
          <p:sp>
            <p:nvSpPr>
              <p:cNvPr id="85" name="Text Box 48"/>
              <p:cNvSpPr/>
              <p:nvPr/>
            </p:nvSpPr>
            <p:spPr>
              <a:xfrm>
                <a:off x="6346080" y="5129280"/>
                <a:ext cx="6181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1,34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49"/>
              <p:cNvSpPr/>
              <p:nvPr/>
            </p:nvSpPr>
            <p:spPr>
              <a:xfrm>
                <a:off x="5200560" y="5057640"/>
                <a:ext cx="107928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Text Box 50"/>
          <p:cNvSpPr/>
          <p:nvPr/>
        </p:nvSpPr>
        <p:spPr>
          <a:xfrm>
            <a:off x="574560" y="1031760"/>
            <a:ext cx="80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„Kölner-Modell“ was defined in 1982 and is still today legal basis for the German legal practice for traffic jurisdiction for passenger cars. (Burkhard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68"/>
          <p:cNvGrpSpPr/>
          <p:nvPr/>
        </p:nvGrpSpPr>
        <p:grpSpPr>
          <a:xfrm>
            <a:off x="900000" y="2133720"/>
            <a:ext cx="1079640" cy="3501720"/>
            <a:chOff x="900000" y="2133720"/>
            <a:chExt cx="1079640" cy="3501720"/>
          </a:xfrm>
        </p:grpSpPr>
        <p:sp>
          <p:nvSpPr>
            <p:cNvPr id="89" name="AutoShape 4"/>
            <p:cNvSpPr/>
            <p:nvPr/>
          </p:nvSpPr>
          <p:spPr>
            <a:xfrm>
              <a:off x="1258920" y="2421000"/>
              <a:ext cx="720720" cy="576360"/>
            </a:xfrm>
            <a:prstGeom prst="leftRightArrow">
              <a:avLst>
                <a:gd name="adj1" fmla="val 50000"/>
                <a:gd name="adj2" fmla="val 24893"/>
              </a:avLst>
            </a:prstGeom>
            <a:solidFill>
              <a:srgbClr val="8bff8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Of warn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AutoShape 5"/>
            <p:cNvSpPr/>
            <p:nvPr/>
          </p:nvSpPr>
          <p:spPr>
            <a:xfrm>
              <a:off x="900000" y="2133720"/>
              <a:ext cx="432000" cy="2852640"/>
            </a:xfrm>
            <a:prstGeom prst="downArrow">
              <a:avLst>
                <a:gd name="adj1" fmla="val 50000"/>
                <a:gd name="adj2" fmla="val 16508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6"/>
            <p:cNvSpPr/>
            <p:nvPr/>
          </p:nvSpPr>
          <p:spPr>
            <a:xfrm rot="10800000">
              <a:off x="939960" y="2203560"/>
              <a:ext cx="332640" cy="20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EBS-warning (audible/haptical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8"/>
            <p:cNvSpPr/>
            <p:nvPr/>
          </p:nvSpPr>
          <p:spPr>
            <a:xfrm>
              <a:off x="998640" y="4992840"/>
              <a:ext cx="34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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54"/>
            <p:cNvSpPr/>
            <p:nvPr/>
          </p:nvSpPr>
          <p:spPr>
            <a:xfrm>
              <a:off x="1340640" y="3618000"/>
              <a:ext cx="560160" cy="368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??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71"/>
          <p:cNvGrpSpPr/>
          <p:nvPr/>
        </p:nvGrpSpPr>
        <p:grpSpPr>
          <a:xfrm>
            <a:off x="7307280" y="2133720"/>
            <a:ext cx="1081080" cy="2879640"/>
            <a:chOff x="7307280" y="2133720"/>
            <a:chExt cx="1081080" cy="2879640"/>
          </a:xfrm>
        </p:grpSpPr>
        <p:sp>
          <p:nvSpPr>
            <p:cNvPr id="95" name="AutoShape 65"/>
            <p:cNvSpPr/>
            <p:nvPr/>
          </p:nvSpPr>
          <p:spPr>
            <a:xfrm>
              <a:off x="7307280" y="2438280"/>
              <a:ext cx="720720" cy="576360"/>
            </a:xfrm>
            <a:prstGeom prst="leftRightArrow">
              <a:avLst>
                <a:gd name="adj1" fmla="val 50000"/>
                <a:gd name="adj2" fmla="val 24893"/>
              </a:avLst>
            </a:prstGeom>
            <a:solidFill>
              <a:srgbClr val="8bff8b">
                <a:alpha val="2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ABS brak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AutoShape 66"/>
            <p:cNvSpPr/>
            <p:nvPr/>
          </p:nvSpPr>
          <p:spPr>
            <a:xfrm>
              <a:off x="7956720" y="2133720"/>
              <a:ext cx="431640" cy="2879640"/>
            </a:xfrm>
            <a:prstGeom prst="downArrow">
              <a:avLst>
                <a:gd name="adj1" fmla="val 50000"/>
                <a:gd name="adj2" fmla="val 166785"/>
              </a:avLst>
            </a:prstGeom>
            <a:solidFill>
              <a:srgbClr val="99ccff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67"/>
            <p:cNvSpPr/>
            <p:nvPr/>
          </p:nvSpPr>
          <p:spPr>
            <a:xfrm rot="10800000">
              <a:off x="7973640" y="3382560"/>
              <a:ext cx="33264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ehicle sto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69"/>
          <p:cNvGrpSpPr/>
          <p:nvPr/>
        </p:nvGrpSpPr>
        <p:grpSpPr>
          <a:xfrm>
            <a:off x="1835280" y="1916280"/>
            <a:ext cx="6624360" cy="3962160"/>
            <a:chOff x="1835280" y="1916280"/>
            <a:chExt cx="6624360" cy="3962160"/>
          </a:xfrm>
        </p:grpSpPr>
        <p:sp>
          <p:nvSpPr>
            <p:cNvPr id="99" name="Rectangle 52"/>
            <p:cNvSpPr/>
            <p:nvPr/>
          </p:nvSpPr>
          <p:spPr>
            <a:xfrm>
              <a:off x="1835280" y="1916280"/>
              <a:ext cx="6624360" cy="3600360"/>
            </a:xfrm>
            <a:prstGeom prst="rect">
              <a:avLst/>
            </a:prstGeom>
            <a:noFill/>
            <a:ln w="2844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53"/>
            <p:cNvSpPr/>
            <p:nvPr/>
          </p:nvSpPr>
          <p:spPr>
            <a:xfrm>
              <a:off x="6699960" y="5510160"/>
              <a:ext cx="17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366"/>
                  </a:solidFill>
                  <a:latin typeface="Arial"/>
                </a:rPr>
                <a:t>„</a:t>
              </a:r>
              <a:r>
                <a:rPr b="0" lang="de-DE" sz="1800" spc="-1" strike="noStrike">
                  <a:solidFill>
                    <a:srgbClr val="003366"/>
                  </a:solidFill>
                  <a:latin typeface="Arial"/>
                </a:rPr>
                <a:t>Kölner-Modell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981000"/>
            <a:ext cx="30128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fluence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379440" y="1771560"/>
            <a:ext cx="583236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Bosch Office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osch Office Sans"/>
              </a:rPr>
              <a:t>Anticipation of a inc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Bosch Office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osch Office Sans"/>
              </a:rPr>
              <a:t>Age of the 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Bosch Office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osch Office Sans"/>
              </a:rPr>
              <a:t>Gender (fema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Bosch Office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osch Office Sans"/>
              </a:rPr>
              <a:t>Medicine, alcoh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Bosch Office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osch Office Sans"/>
              </a:rPr>
              <a:t>Wrong sh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Bosch Office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osch Office Sans"/>
              </a:rPr>
              <a:t>Imminent da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Bosch Office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osch Office Sans"/>
              </a:rPr>
              <a:t>More than one altern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Bosch Office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osch Office Sans"/>
              </a:rPr>
              <a:t>Visibility conditions (darkness, low sun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Bosch Office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osch Office Sans"/>
              </a:rPr>
              <a:t>Driver distraction (accident, fire, woman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6330960" y="12682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Bosch Office Sans"/>
              </a:rPr>
              <a:t>Shorter      Lon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6527880" y="1917720"/>
            <a:ext cx="2050920" cy="1429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df00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0"/>
          <p:cNvSpPr/>
          <p:nvPr/>
        </p:nvSpPr>
        <p:spPr>
          <a:xfrm>
            <a:off x="6527880" y="2347920"/>
            <a:ext cx="2050920" cy="1429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df00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1"/>
          <p:cNvSpPr/>
          <p:nvPr/>
        </p:nvSpPr>
        <p:spPr>
          <a:xfrm>
            <a:off x="6527880" y="2779560"/>
            <a:ext cx="2050920" cy="1429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df00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2"/>
          <p:cNvSpPr/>
          <p:nvPr/>
        </p:nvSpPr>
        <p:spPr>
          <a:xfrm>
            <a:off x="6527880" y="3143160"/>
            <a:ext cx="2050920" cy="1429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df00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3"/>
          <p:cNvSpPr/>
          <p:nvPr/>
        </p:nvSpPr>
        <p:spPr>
          <a:xfrm>
            <a:off x="6527880" y="3573360"/>
            <a:ext cx="2050920" cy="1429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df00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6527880" y="4005360"/>
            <a:ext cx="2050920" cy="1429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df00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6369120" y="2276640"/>
            <a:ext cx="11826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6291360" y="2708280"/>
            <a:ext cx="11826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6291360" y="3068640"/>
            <a:ext cx="11826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"/>
          <p:cNvSpPr/>
          <p:nvPr/>
        </p:nvSpPr>
        <p:spPr>
          <a:xfrm>
            <a:off x="6369120" y="3500280"/>
            <a:ext cx="11826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7711920" y="3932280"/>
            <a:ext cx="11811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6527880" y="4373640"/>
            <a:ext cx="2050920" cy="1429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df00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6372360" y="4302000"/>
            <a:ext cx="11808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6527880" y="4795920"/>
            <a:ext cx="2050920" cy="1429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df00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3"/>
          <p:cNvSpPr/>
          <p:nvPr/>
        </p:nvSpPr>
        <p:spPr>
          <a:xfrm>
            <a:off x="6369120" y="4724280"/>
            <a:ext cx="11826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4"/>
          <p:cNvSpPr/>
          <p:nvPr/>
        </p:nvSpPr>
        <p:spPr>
          <a:xfrm>
            <a:off x="6828840" y="565452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Bosch Office Sans"/>
              </a:rPr>
              <a:t>Subjectiv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5"/>
          <p:cNvSpPr/>
          <p:nvPr/>
        </p:nvSpPr>
        <p:spPr>
          <a:xfrm>
            <a:off x="6527880" y="5227560"/>
            <a:ext cx="2050920" cy="1429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df00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6"/>
          <p:cNvSpPr/>
          <p:nvPr/>
        </p:nvSpPr>
        <p:spPr>
          <a:xfrm>
            <a:off x="6369120" y="5156280"/>
            <a:ext cx="11826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7"/>
          <p:cNvSpPr/>
          <p:nvPr/>
        </p:nvSpPr>
        <p:spPr>
          <a:xfrm>
            <a:off x="7553160" y="1413000"/>
            <a:ext cx="0" cy="41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395280" y="2133720"/>
            <a:ext cx="8497800" cy="35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0"/>
          <p:cNvSpPr/>
          <p:nvPr/>
        </p:nvSpPr>
        <p:spPr>
          <a:xfrm>
            <a:off x="395280" y="2565360"/>
            <a:ext cx="8497800" cy="30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395280" y="3068640"/>
            <a:ext cx="849780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2"/>
          <p:cNvSpPr/>
          <p:nvPr/>
        </p:nvSpPr>
        <p:spPr>
          <a:xfrm>
            <a:off x="395280" y="3429000"/>
            <a:ext cx="84978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3"/>
          <p:cNvSpPr/>
          <p:nvPr/>
        </p:nvSpPr>
        <p:spPr>
          <a:xfrm>
            <a:off x="395280" y="3897360"/>
            <a:ext cx="8497800" cy="17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4"/>
          <p:cNvSpPr/>
          <p:nvPr/>
        </p:nvSpPr>
        <p:spPr>
          <a:xfrm>
            <a:off x="395280" y="4292640"/>
            <a:ext cx="849780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5"/>
          <p:cNvSpPr/>
          <p:nvPr/>
        </p:nvSpPr>
        <p:spPr>
          <a:xfrm>
            <a:off x="395280" y="4724280"/>
            <a:ext cx="84978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6"/>
          <p:cNvSpPr/>
          <p:nvPr/>
        </p:nvSpPr>
        <p:spPr>
          <a:xfrm>
            <a:off x="395280" y="5157720"/>
            <a:ext cx="84978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1" dur="1" fill="hold"/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7"/>
          <p:cNvSpPr/>
          <p:nvPr/>
        </p:nvSpPr>
        <p:spPr>
          <a:xfrm>
            <a:off x="468360" y="2462040"/>
            <a:ext cx="8424720" cy="895680"/>
          </a:xfrm>
          <a:prstGeom prst="rect">
            <a:avLst/>
          </a:prstGeom>
          <a:solidFill>
            <a:srgbClr val="aff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468360" y="4724280"/>
            <a:ext cx="8424720" cy="357480"/>
          </a:xfrm>
          <a:prstGeom prst="rect">
            <a:avLst/>
          </a:prstGeom>
          <a:solidFill>
            <a:srgbClr val="aec1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468360" y="1095480"/>
            <a:ext cx="731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verview of research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643040"/>
          <a:ext cx="8424720" cy="4894200"/>
        </p:xfrm>
        <a:graphic>
          <a:graphicData uri="http://schemas.openxmlformats.org/drawingml/2006/table">
            <a:tbl>
              <a:tblPr/>
              <a:tblGrid>
                <a:gridCol w="1458720"/>
                <a:gridCol w="2941920"/>
                <a:gridCol w="4024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ke reaction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mar, K. (197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prise situation in traff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. 0,9s, 75%: 1,2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lson, P.L. (200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ightforward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5% between 0,75s and 1,5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, M. (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ev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expected event (e.g. Brake ligh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5680" indent="-856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urprise intrusion event (e.g. objects moving suddenly into the drivers pat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.  = 0,75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.  = 1,20s to 1,35s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.  = 1,5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la (199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 driving: suddenly stationary ob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time between 0,86s and 1,39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hmood (20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ing simulator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nor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urprise cond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tationary ob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time between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2s und 1,94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time between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6s und 1,04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time between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8s und 0,94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ckhard (198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s and accident re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time between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s (2%) and 1,34s (9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 (200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 driving: Emergency braking of preceeding vehi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time between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1s ((5%) and 0,99s (9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ittenhelm (20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ing simulatior*: end of traffic jam, cut in of a vehi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. Reaction time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/o evasion manoeuvre): 0,95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. Reaction time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/ evasion manoeuvre): 1,12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ause et al. (200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 driving: suddenly critical object (bike coming from the righ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: 0,43-0,6s,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39880"/>
                          <a:tab algn="l" pos="1679400"/>
                          <a:tab algn="l" pos="2519280"/>
                          <a:tab algn="l" pos="3359160"/>
                          <a:tab algn="l" pos="4199040"/>
                          <a:tab algn="l" pos="5038560"/>
                          <a:tab algn="l" pos="5878440"/>
                          <a:tab algn="l" pos="6718320"/>
                          <a:tab algn="l" pos="7558200"/>
                          <a:tab algn="l" pos="8397720"/>
                          <a:tab algn="l" pos="9237600"/>
                          <a:tab algn="l" pos="10077480"/>
                          <a:tab algn="l" pos="10917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: 0,88s-1,13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826920" y="170028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Bosch Office Sans"/>
              </a:rPr>
              <a:t>CLEPA opinion: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Bosch Office Sans"/>
              </a:rPr>
              <a:t>to give the driver a realistic chance, to react on the warning, we propose a warning time of min. 2s before the system reacts with emergency br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09:48:14Z</dcterms:created>
  <dc:creator>reculez</dc:creator>
  <dc:description/>
  <dc:language>en-US</dc:language>
  <cp:lastModifiedBy>ofontaine</cp:lastModifiedBy>
  <dcterms:modified xsi:type="dcterms:W3CDTF">2010-09-13T10:04:54Z</dcterms:modified>
  <cp:revision>331</cp:revision>
  <dc:subject/>
  <dc:title>PowerPoint Presentation</dc:title>
</cp:coreProperties>
</file>