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DE6-FD9E-4C7D-810D-EE4C52F9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B33-8D69-4ECE-BAF4-0302E865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B9F-12D1-4398-A969-8927503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20A-42F1-4E9D-9461-461D12A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F88-D6CE-40B0-87DC-697DC937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28D-6556-4CA6-9053-AEAD2B5C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051-6FF6-4999-A073-6E99120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1A4-8C39-4531-9D21-535F99C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2D8-2784-4F52-BEF9-8299D12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5E1-D53F-4E26-9D8B-D02E0C9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D13-08C8-4F7C-AF53-2F396BE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A15-47FB-48E0-AFD9-0B3C75E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77A4-AE48-46E6-99AC-2CCFD76573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3213000"/>
            <a:ext cx="2303640" cy="1728720"/>
          </a:xfrm>
          <a:prstGeom prst="rect">
            <a:avLst/>
          </a:prstGeom>
          <a:solidFill>
            <a:srgbClr val="cc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187280" y="1484280"/>
            <a:ext cx="2303640" cy="1728720"/>
          </a:xfrm>
          <a:prstGeom prst="rect">
            <a:avLst/>
          </a:prstGeom>
          <a:solidFill>
            <a:srgbClr val="ffcc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490920" y="3213000"/>
            <a:ext cx="2303280" cy="1728720"/>
          </a:xfrm>
          <a:prstGeom prst="rect">
            <a:avLst/>
          </a:prstGeom>
          <a:solidFill>
            <a:srgbClr val="ffcc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492360" y="1484280"/>
            <a:ext cx="2303640" cy="1728720"/>
          </a:xfrm>
          <a:prstGeom prst="rect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6300720" y="148428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 1 – Mitigation of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6300720" y="2421000"/>
            <a:ext cx="23749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 2 – Mitigation of Stationary Targets and aim to Avoid (or significantly mitigate)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 flipV="1">
            <a:off x="1187280" y="1268280"/>
            <a:ext cx="4897440" cy="36734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556000" y="335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6300720" y="4149720"/>
            <a:ext cx="2448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 3 – Aim to Avoid or Significantly Mitigate all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356400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201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4843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201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258920" y="39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igate with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3635280" y="3716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 to Avoid / Significant Mitigation with  Moving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332000" y="17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igate with Stationary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564000" y="1557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 to Avoid / Significant Mitigation – with All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3564000" y="2781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2020?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 rot="19223400">
            <a:off x="395640" y="50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1835280" y="47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ggested phased implementation of A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1332000" y="5373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requirements decided at outset, manufacturers can fit systems that deliver better performance but it will not be mandated until dates set out in the Regulation (currently in square brack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0"/>
          <p:cNvSpPr/>
          <p:nvPr/>
        </p:nvSpPr>
        <p:spPr>
          <a:xfrm>
            <a:off x="7164360" y="2602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/LDWS-06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4:51:47Z</dcterms:created>
  <dc:creator>Claire Rees</dc:creator>
  <dc:description/>
  <dc:language>en-US</dc:language>
  <cp:lastModifiedBy>ofontaine</cp:lastModifiedBy>
  <dcterms:modified xsi:type="dcterms:W3CDTF">2010-06-15T18:46:44Z</dcterms:modified>
  <cp:revision>16</cp:revision>
  <dc:subject/>
  <dc:title>Slide 1</dc:title>
</cp:coreProperties>
</file>