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19913" cy="10047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B2D4-E99E-4903-B52E-6348DF00A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0141-D456-4DD6-BF42-E8CC40BB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AB8F-7B07-4A0B-9425-60BCAF9B5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9073-DB1B-42A0-AC9E-C908B8F30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8C54-C7E3-4B01-8951-75C5C592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FDCD-1CB9-4FA5-B424-A588F26A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727A-5EB8-4E46-8689-F6B6A095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F754-FBD8-436B-A9E9-E483EA22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19A1-3CD0-45D2-8190-5A5CBD35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DF24-F400-440E-B85D-5D7BB127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A87C-E00E-411D-B994-B0DB69FA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85D3-D2FA-41D1-A906-FA4E6F1E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E446-A525-4ABB-98E3-6DF68F7DF2B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187280" y="3213000"/>
            <a:ext cx="2303640" cy="1728720"/>
          </a:xfrm>
          <a:prstGeom prst="rect">
            <a:avLst/>
          </a:prstGeom>
          <a:solidFill>
            <a:srgbClr val="ccffcc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1187280" y="1484280"/>
            <a:ext cx="2303640" cy="1728720"/>
          </a:xfrm>
          <a:prstGeom prst="rect">
            <a:avLst/>
          </a:prstGeom>
          <a:solidFill>
            <a:srgbClr val="ffcc99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490920" y="3213000"/>
            <a:ext cx="2303280" cy="1728720"/>
          </a:xfrm>
          <a:prstGeom prst="rect">
            <a:avLst/>
          </a:prstGeom>
          <a:solidFill>
            <a:srgbClr val="ffcc99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3492360" y="1484280"/>
            <a:ext cx="2303640" cy="1728720"/>
          </a:xfrm>
          <a:prstGeom prst="rect">
            <a:avLst/>
          </a:prstGeom>
          <a:solidFill>
            <a:srgbClr val="ff99cc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6300720" y="1484280"/>
            <a:ext cx="2232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ge 1 – Mitigation of Moving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6300720" y="2421000"/>
            <a:ext cx="23749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ge 2 – Mitigation of Stationary Targets and aim to Avoid (or significantly mitigate) Moving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3"/>
          <p:cNvSpPr/>
          <p:nvPr/>
        </p:nvSpPr>
        <p:spPr>
          <a:xfrm flipV="1">
            <a:off x="1187280" y="1268280"/>
            <a:ext cx="4897440" cy="367344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2556000" y="3357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6"/>
          <p:cNvSpPr/>
          <p:nvPr/>
        </p:nvSpPr>
        <p:spPr>
          <a:xfrm>
            <a:off x="6300720" y="4149720"/>
            <a:ext cx="2448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ge 3 – Aim to Avoid or Significantly Mitigate all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3564000" y="3284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2016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2484360" y="2781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2016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9"/>
          <p:cNvSpPr/>
          <p:nvPr/>
        </p:nvSpPr>
        <p:spPr>
          <a:xfrm>
            <a:off x="1258920" y="39337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tigate with Moving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0"/>
          <p:cNvSpPr/>
          <p:nvPr/>
        </p:nvSpPr>
        <p:spPr>
          <a:xfrm>
            <a:off x="3635280" y="371628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m to Avoid / Significant Mitigation with  Moving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1332000" y="170028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tigate with Stationary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3564000" y="155736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m to Avoid / Significant Mitigation – with All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3"/>
          <p:cNvSpPr/>
          <p:nvPr/>
        </p:nvSpPr>
        <p:spPr>
          <a:xfrm>
            <a:off x="3564000" y="278136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2020?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 rot="19223400">
            <a:off x="395640" y="5084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5"/>
          <p:cNvSpPr/>
          <p:nvPr/>
        </p:nvSpPr>
        <p:spPr>
          <a:xfrm>
            <a:off x="1835280" y="47628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ggested phased implementation of A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6"/>
          <p:cNvSpPr/>
          <p:nvPr/>
        </p:nvSpPr>
        <p:spPr>
          <a:xfrm>
            <a:off x="1332000" y="537372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chnical requirements decided at outset, manufacturers can fit systems that deliver better performance but it will not be mandated until dates set out in the Regulation (currently in square bracke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20"/>
          <p:cNvSpPr/>
          <p:nvPr/>
        </p:nvSpPr>
        <p:spPr>
          <a:xfrm>
            <a:off x="7164360" y="26028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BS/LDWS-06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14:51:47Z</dcterms:created>
  <dc:creator>Claire Rees</dc:creator>
  <dc:description/>
  <dc:language>en-US</dc:language>
  <cp:lastModifiedBy>ofontaine</cp:lastModifiedBy>
  <dcterms:modified xsi:type="dcterms:W3CDTF">2010-06-15T18:46:44Z</dcterms:modified>
  <cp:revision>16</cp:revision>
  <dc:subject/>
  <dc:title>Slide 1</dc:title>
</cp:coreProperties>
</file>