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3DF5-C42F-46B8-9942-EA8BFF03D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D84C-A325-4D6E-8377-2AB175C3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2CCD-26B2-4D17-80AF-43810C1C9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C692-829C-49F7-A725-C99AABF8D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B2AE-C991-4C0E-A6C4-BFE29413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1D5B-642F-493F-8854-628E919A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AC08-B697-4531-97F6-FDF7E5E4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D808-1591-4BE8-8E2D-2DD27817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9A65-B75E-404C-B2E9-7A1F0DCB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7CAB-D7EB-4C81-B7FD-F4A55D9E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14DB-6799-44A7-B132-C2DC8E0C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E0DA-180C-4291-BE8D-2B20E83D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68E0-1969-4A44-83D8-B27932D23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877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09F0-F7B5-404B-8836-D407951543A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1433520" y="2765520"/>
            <a:ext cx="5961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s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바탕"/>
              </a:rPr>
              <a:t> of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바탕"/>
              </a:rPr>
              <a:t>Warning Timing for AE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929280" y="42876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EBS/LDWS-05-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721160" y="11592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Proposal of Warning Ti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24000" y="2765520"/>
            <a:ext cx="88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Since the warning timing is based on the 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 time, common value of warning ti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ll be us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208520" y="4361040"/>
            <a:ext cx="657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hicles in all 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moving and stationary tar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high speed and low spee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24000" y="126828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Warning for AEBS shall be given at least 0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before the activation of emergency br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187000" y="115920"/>
            <a:ext cx="44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Driver Reactio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4"/>
          <p:cNvSpPr/>
          <p:nvPr/>
        </p:nvSpPr>
        <p:spPr>
          <a:xfrm>
            <a:off x="1944720" y="1700280"/>
            <a:ext cx="492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s on driving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 pa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different sleepiness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71"/>
          <p:cNvGrpSpPr/>
          <p:nvPr/>
        </p:nvGrpSpPr>
        <p:grpSpPr>
          <a:xfrm>
            <a:off x="1305000" y="2997360"/>
            <a:ext cx="6218280" cy="1946160"/>
            <a:chOff x="1305000" y="2997360"/>
            <a:chExt cx="6218280" cy="1946160"/>
          </a:xfrm>
        </p:grpSpPr>
        <p:pic>
          <p:nvPicPr>
            <p:cNvPr id="51" name="Picture 65" descr=""/>
            <p:cNvPicPr/>
            <p:nvPr/>
          </p:nvPicPr>
          <p:blipFill>
            <a:blip r:embed="rId1"/>
            <a:stretch/>
          </p:blipFill>
          <p:spPr>
            <a:xfrm>
              <a:off x="1305000" y="2997360"/>
              <a:ext cx="6218280" cy="164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7"/>
            <p:cNvSpPr/>
            <p:nvPr/>
          </p:nvSpPr>
          <p:spPr>
            <a:xfrm>
              <a:off x="3045240" y="4544640"/>
              <a:ext cx="274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perimental Scenar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Picture 68" descr=""/>
          <p:cNvPicPr/>
          <p:nvPr/>
        </p:nvPicPr>
        <p:blipFill>
          <a:blip r:embed="rId2"/>
          <a:stretch/>
        </p:blipFill>
        <p:spPr>
          <a:xfrm>
            <a:off x="623880" y="5084640"/>
            <a:ext cx="7548480" cy="17431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2"/>
          <p:cNvSpPr/>
          <p:nvPr/>
        </p:nvSpPr>
        <p:spPr>
          <a:xfrm>
            <a:off x="112320" y="893880"/>
            <a:ext cx="88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n Driver Reaction Time in FVCWS (1999, JAR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187000" y="115920"/>
            <a:ext cx="44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Driver Reactio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50920" y="844560"/>
            <a:ext cx="864216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 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raking Time from Preceding Vehicle’s De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warnings, the braking time increases with the level of sleep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warnings, the braking time does not incr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7"/>
          <p:cNvGrpSpPr/>
          <p:nvPr/>
        </p:nvGrpSpPr>
        <p:grpSpPr>
          <a:xfrm>
            <a:off x="936720" y="2997360"/>
            <a:ext cx="7445520" cy="3597840"/>
            <a:chOff x="936720" y="2997360"/>
            <a:chExt cx="7445520" cy="3597840"/>
          </a:xfrm>
        </p:grpSpPr>
        <p:grpSp>
          <p:nvGrpSpPr>
            <p:cNvPr id="58" name="Group 34"/>
            <p:cNvGrpSpPr/>
            <p:nvPr/>
          </p:nvGrpSpPr>
          <p:grpSpPr>
            <a:xfrm>
              <a:off x="936720" y="2997360"/>
              <a:ext cx="5325840" cy="3597840"/>
              <a:chOff x="936720" y="2997360"/>
              <a:chExt cx="5325840" cy="3597840"/>
            </a:xfrm>
          </p:grpSpPr>
          <p:graphicFrame>
            <p:nvGraphicFramePr>
              <p:cNvPr id="59" name="Object 20"/>
              <p:cNvGraphicFramePr/>
              <p:nvPr/>
            </p:nvGraphicFramePr>
            <p:xfrm>
              <a:off x="1079640" y="2997360"/>
              <a:ext cx="5182920" cy="323532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60" name="Object 20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079640" y="2997360"/>
                        <a:ext cx="5182920" cy="3235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1" name="Text Box 13"/>
              <p:cNvSpPr/>
              <p:nvPr/>
            </p:nvSpPr>
            <p:spPr>
              <a:xfrm>
                <a:off x="3179160" y="6196320"/>
                <a:ext cx="238896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Level of Sleepines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14"/>
              <p:cNvSpPr/>
              <p:nvPr/>
            </p:nvSpPr>
            <p:spPr>
              <a:xfrm rot="16200000">
                <a:off x="-155520" y="4226760"/>
                <a:ext cx="31935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ifference of Braking Tim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rom Normal Awarenes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ituation  sec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 Box 16"/>
              <p:cNvSpPr/>
              <p:nvPr/>
            </p:nvSpPr>
            <p:spPr>
              <a:xfrm>
                <a:off x="2916000" y="58723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Text Box 17"/>
              <p:cNvSpPr/>
              <p:nvPr/>
            </p:nvSpPr>
            <p:spPr>
              <a:xfrm>
                <a:off x="3782880" y="58723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Text Box 18"/>
              <p:cNvSpPr/>
              <p:nvPr/>
            </p:nvSpPr>
            <p:spPr>
              <a:xfrm>
                <a:off x="4643280" y="58723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Text Box 19"/>
              <p:cNvSpPr/>
              <p:nvPr/>
            </p:nvSpPr>
            <p:spPr>
              <a:xfrm>
                <a:off x="5481360" y="58723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Group 36"/>
            <p:cNvGrpSpPr/>
            <p:nvPr/>
          </p:nvGrpSpPr>
          <p:grpSpPr>
            <a:xfrm>
              <a:off x="6408720" y="3534120"/>
              <a:ext cx="1973520" cy="1331280"/>
              <a:chOff x="6408720" y="3534120"/>
              <a:chExt cx="1973520" cy="1331280"/>
            </a:xfrm>
          </p:grpSpPr>
          <p:grpSp>
            <p:nvGrpSpPr>
              <p:cNvPr id="68" name="Group 25"/>
              <p:cNvGrpSpPr/>
              <p:nvPr/>
            </p:nvGrpSpPr>
            <p:grpSpPr>
              <a:xfrm>
                <a:off x="6418440" y="3534120"/>
                <a:ext cx="768240" cy="398880"/>
                <a:chOff x="6418440" y="3534120"/>
                <a:chExt cx="768240" cy="398880"/>
              </a:xfrm>
            </p:grpSpPr>
            <p:sp>
              <p:nvSpPr>
                <p:cNvPr id="69" name="Line 23"/>
                <p:cNvSpPr/>
                <p:nvPr/>
              </p:nvSpPr>
              <p:spPr>
                <a:xfrm>
                  <a:off x="6418440" y="3749760"/>
                  <a:ext cx="287280" cy="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Text Box 22"/>
                <p:cNvSpPr/>
                <p:nvPr/>
              </p:nvSpPr>
              <p:spPr>
                <a:xfrm>
                  <a:off x="6641280" y="353412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99"/>
                      </a:solidFill>
                      <a:latin typeface="Arial"/>
                    </a:rPr>
                    <a:t>○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24"/>
                <p:cNvSpPr/>
                <p:nvPr/>
              </p:nvSpPr>
              <p:spPr>
                <a:xfrm>
                  <a:off x="6899400" y="3749760"/>
                  <a:ext cx="287280" cy="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" name="Text Box 26"/>
              <p:cNvSpPr/>
              <p:nvPr/>
            </p:nvSpPr>
            <p:spPr>
              <a:xfrm>
                <a:off x="7238520" y="3565800"/>
                <a:ext cx="1143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Withou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Warning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" name="Group 32"/>
              <p:cNvGrpSpPr/>
              <p:nvPr/>
            </p:nvGrpSpPr>
            <p:grpSpPr>
              <a:xfrm>
                <a:off x="6408720" y="4176720"/>
                <a:ext cx="792360" cy="398880"/>
                <a:chOff x="6408720" y="4176720"/>
                <a:chExt cx="792360" cy="398880"/>
              </a:xfrm>
            </p:grpSpPr>
            <p:sp>
              <p:nvSpPr>
                <p:cNvPr id="74" name="Line 28"/>
                <p:cNvSpPr/>
                <p:nvPr/>
              </p:nvSpPr>
              <p:spPr>
                <a:xfrm>
                  <a:off x="6408720" y="4402080"/>
                  <a:ext cx="792360" cy="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Text Box 29"/>
                <p:cNvSpPr/>
                <p:nvPr/>
              </p:nvSpPr>
              <p:spPr>
                <a:xfrm>
                  <a:off x="6651000" y="417672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99"/>
                      </a:solidFill>
                      <a:latin typeface="Arial"/>
                    </a:rPr>
                    <a:t>●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" name="Text Box 31"/>
              <p:cNvSpPr/>
              <p:nvPr/>
            </p:nvSpPr>
            <p:spPr>
              <a:xfrm>
                <a:off x="7238520" y="4222800"/>
                <a:ext cx="1143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Wit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Warning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2187000" y="115920"/>
            <a:ext cx="44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Driver Reactio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40"/>
          <p:cNvGrpSpPr/>
          <p:nvPr/>
        </p:nvGrpSpPr>
        <p:grpSpPr>
          <a:xfrm>
            <a:off x="1689120" y="2704680"/>
            <a:ext cx="4970520" cy="3429720"/>
            <a:chOff x="1689120" y="2704680"/>
            <a:chExt cx="4970520" cy="3429720"/>
          </a:xfrm>
        </p:grpSpPr>
        <p:graphicFrame>
          <p:nvGraphicFramePr>
            <p:cNvPr id="79" name="Object 39"/>
            <p:cNvGraphicFramePr/>
            <p:nvPr/>
          </p:nvGraphicFramePr>
          <p:xfrm>
            <a:off x="2020680" y="2819520"/>
            <a:ext cx="4638960" cy="29145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Object 3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20680" y="2819520"/>
                      <a:ext cx="4638960" cy="291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1" name="Text Box 28"/>
            <p:cNvSpPr/>
            <p:nvPr/>
          </p:nvSpPr>
          <p:spPr>
            <a:xfrm>
              <a:off x="3344040" y="5735520"/>
              <a:ext cx="2388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evel of Sleepin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9"/>
            <p:cNvSpPr/>
            <p:nvPr/>
          </p:nvSpPr>
          <p:spPr>
            <a:xfrm rot="16200000">
              <a:off x="297720" y="4095720"/>
              <a:ext cx="31813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river Reaction Time  sec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Group 34"/>
            <p:cNvGrpSpPr/>
            <p:nvPr/>
          </p:nvGrpSpPr>
          <p:grpSpPr>
            <a:xfrm>
              <a:off x="2963520" y="5423040"/>
              <a:ext cx="3238920" cy="398880"/>
              <a:chOff x="2963520" y="5423040"/>
              <a:chExt cx="3238920" cy="398880"/>
            </a:xfrm>
          </p:grpSpPr>
          <p:sp>
            <p:nvSpPr>
              <p:cNvPr id="84" name="Text Box 30"/>
              <p:cNvSpPr/>
              <p:nvPr/>
            </p:nvSpPr>
            <p:spPr>
              <a:xfrm>
                <a:off x="3933360" y="54230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Text Box 31"/>
              <p:cNvSpPr/>
              <p:nvPr/>
            </p:nvSpPr>
            <p:spPr>
              <a:xfrm>
                <a:off x="2963520" y="54230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Text Box 32"/>
              <p:cNvSpPr/>
              <p:nvPr/>
            </p:nvSpPr>
            <p:spPr>
              <a:xfrm>
                <a:off x="4906800" y="54230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Text Box 33"/>
              <p:cNvSpPr/>
              <p:nvPr/>
            </p:nvSpPr>
            <p:spPr>
              <a:xfrm>
                <a:off x="5879880" y="54230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" name="Text Box 37"/>
          <p:cNvSpPr/>
          <p:nvPr/>
        </p:nvSpPr>
        <p:spPr>
          <a:xfrm>
            <a:off x="250920" y="86688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 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iver Reacti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drivers are sleepy (level 2 - 3), average reaction time is 0.75 sec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1:00:03Z</dcterms:created>
  <dc:creator>enomoto-hidehiko</dc:creator>
  <dc:description/>
  <dc:language>en-US</dc:language>
  <cp:lastModifiedBy>ofontaine</cp:lastModifiedBy>
  <dcterms:modified xsi:type="dcterms:W3CDTF">2010-04-09T09:52:19Z</dcterms:modified>
  <cp:revision>68</cp:revision>
  <dc:subject/>
  <dc:title>スライド 1</dc:title>
</cp:coreProperties>
</file>