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11C1B-6706-4658-90C2-1260FF6F4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52584-D082-49E3-A485-6A8E537E0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49C23-6B44-4B5C-B78C-53DF3A0D1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D8735-6D08-4E9A-953D-C27077D6E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4F53F-051B-428A-B569-E801BF390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6F9DB-57A2-40EE-A3B3-2B6DD70C4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51415-9CD9-40DC-A831-BB4AA56D6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13E94-C2BF-448D-8C0A-DFC027DDF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BBEB6-2A82-414D-A117-F8003C268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49AC8-2DB6-45A9-8812-0A0F39264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DD597-3F88-469F-812F-42A1DCFD0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BFD34-F4D1-40A5-B7E3-F58E32301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DD6DA-3A8C-45A5-84B7-9658C3633D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-152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LTP-DTP Subgroup Membershi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5800" y="1143000"/>
            <a:ext cx="7559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Subgroup Structu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mbership open to all contracting parties and to indus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subgroup to identify a lead and co-le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d and co-lead should be complimentary:  One from a contracting party and one from indust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osals for leadership have been receiv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dership will be responsible for establishing meetings, tracking progress and open issues, and reporting at the DTP working meeting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mbers must be experts in their respective subgroup assign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LTP-DTP-02-0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157DF-6A2F-4EB2-90A1-A3D811AD061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-152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LTP-DTP Subgroup Membershi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28600" y="1496880"/>
            <a:ext cx="8686800" cy="4751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LTP-DTP-02-0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C6750-E51E-47A0-A8ED-0D8CF1848AF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-22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LTP-DTP Subgroup Membershi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838080" y="793800"/>
            <a:ext cx="7467840" cy="5472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LTP-DTP-02-0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65766-B959-4503-A136-821C9ED8A06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LTP-DTP Subgroup Membershi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80880" y="1523880"/>
            <a:ext cx="8382240" cy="45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LTP-DTP-02-0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25A1F-DA3F-4937-824B-ECF5D344C2C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LTP-DTP Subgroup Membershi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09480" y="1066680"/>
            <a:ext cx="8001000" cy="5184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LTP-DTP-02-0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67666-9FCF-4490-90A4-069E4B3ECCF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LTP-DTP Subgroup Membershi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80880" y="1693800"/>
            <a:ext cx="8458200" cy="4116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LTP-DTP-02-0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1B7EC-A475-4BE8-8C35-897D56BB476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4T17:12:19Z</dcterms:created>
  <dc:creator>Michael Olechiw</dc:creator>
  <dc:description/>
  <dc:language>en-US</dc:language>
  <cp:lastModifiedBy>Michael Olechiw</cp:lastModifiedBy>
  <dcterms:modified xsi:type="dcterms:W3CDTF">2010-06-04T18:20:22Z</dcterms:modified>
  <cp:revision>10</cp:revision>
  <dc:subject/>
  <dc:title>Slide 1</dc:title>
</cp:coreProperties>
</file>