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8EF9-E8E6-408E-A86C-0BB72323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A17F-161F-472D-8594-0624025C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618E-5CD7-4458-A164-C1C93B85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3392-40EB-4538-A825-56C9691C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49F6-EA6B-4DBE-92F6-1BF0C5D3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3A7A-9E76-4EA3-AA8B-ED6A6142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5B35-CFB9-4103-85CB-6F80AF4E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0111-8834-4717-A3A9-F187C707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1485-853D-41CA-9283-3D8B905F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E260-C913-4052-B32A-5963D8EA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A569-8338-4002-8C1C-B2914D7E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5935-B4C1-4081-98D4-7DC22B46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4913-36DD-40E8-89AF-2E7E35DAA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-15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LTP-DTP Subgroup Memb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143000"/>
            <a:ext cx="7559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ubgroup 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hip open to all contracting parties and to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ubgroup to identify a lead and co-l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and co-lead should be complimentary:  One from a contracting party and one from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s for leadership have been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ership will be responsible for establishing meetings, tracking progress and open issues, and reporting at the DTP working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 must be experts in their respective subgroup assig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2-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B4C4-BB5E-48B0-8A08-24E908969F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-15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LTP-DTP Subgroup Memb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1496880"/>
            <a:ext cx="8686800" cy="475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2-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0DD0-5780-499E-9887-6366525F20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LTP-DTP Subgroup Memb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793800"/>
            <a:ext cx="7467840" cy="54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2-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3805-7647-4835-BA35-9F1FEC46FB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LTP-DTP Subgroup Memb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45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2-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95EF-9FCC-4ADB-B35F-2F3D886EA9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LTP-DTP Subgroup Memb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001000" cy="51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2-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CF4C-4492-420F-999B-E256302A6D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LTP-DTP Subgroup Memb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693800"/>
            <a:ext cx="8458200" cy="411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2-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FDDC-7060-4055-B857-854CC66876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17:12:19Z</dcterms:created>
  <dc:creator>Michael Olechiw</dc:creator>
  <dc:description/>
  <dc:language>en-US</dc:language>
  <cp:lastModifiedBy>Michael Olechiw</cp:lastModifiedBy>
  <dcterms:modified xsi:type="dcterms:W3CDTF">2010-06-04T18:20:22Z</dcterms:modified>
  <cp:revision>10</cp:revision>
  <dc:subject/>
  <dc:title>Slide 1</dc:title>
</cp:coreProperties>
</file>