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2A7B3-8B8A-477E-8337-88792308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C0AFE-FFEC-4CD0-8056-347805F2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F14A6-48D3-4242-A082-275181B4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7DB71-88A4-45BD-A08D-5D18B323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30839-D2DC-4856-A202-0A8F6AFC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FA111-7F38-485C-AF78-C5DF2FAB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44EE3-E986-4467-A437-BDFA30BDD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07F-40AA-4AEE-BB1A-E6318FE5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68B-08AA-44BA-A0A0-BD57898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08B-1DDE-4BF5-90A6-A781AE18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EDB-66D5-44CF-9C46-B8388A2F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E1EA-3D30-432F-BF68-A194B546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C23F-E0A9-4880-AE63-DF560EC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A3AD-67A2-4922-BB56-D744CE56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E1F7-7D0B-465A-B8EF-42E2DE0D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70A1-9B5B-4E87-803B-1FEE7998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C021-9161-4A82-B019-85C78BB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EFC-D9DF-4F8E-98BB-ECA4BC9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BEB-3B6D-4538-AC9D-F56F059D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CF7-561E-4EBA-967A-29155BA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B6A8-049C-4F9B-939E-70E226F1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CDE-0F82-450F-8B12-28F84A9B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0913-5A2F-4250-90A1-3214A977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4BA-E519-414C-B313-CFDC7604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4C8-44A6-4A3D-87A3-D100537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79B-DD7C-4BC4-94BD-5332DF6B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8EB-6F2C-4563-817A-B1FE62C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8E3-A90B-4B27-B5F0-87E8E4C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E31-B402-48C8-A26A-DE9BA110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6F1-D32C-43C6-BDC0-BE817BF7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FDD-1458-45F6-A9F3-5AB1ACE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7922-F43D-43D3-AC9C-14CE0B8A6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E63E-7804-4846-9A65-383C612BB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3545-50B0-4DC3-8EA2-509DE0194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90F-3FA7-45F4-B000-78BDA4180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FAFA-E07F-47E4-BB91-933AF7E41C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701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sults from DTP Session 1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LTP-DTP-02-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8160" y="533520"/>
            <a:ext cx="7769160" cy="91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rst Test Procedure Meeting Overview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1600200"/>
            <a:ext cx="73137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ted by USEPA in Ann Arbor on the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14th, and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April 20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1 participants from the Europe, Asia, Canada and USA, includ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9A39-45BA-40AB-9126-E47A2BDA9E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3166920"/>
          <a:ext cx="7315200" cy="3110040"/>
        </p:xfrm>
        <a:graphic>
          <a:graphicData uri="http://schemas.openxmlformats.org/drawingml/2006/table">
            <a:tbl>
              <a:tblPr/>
              <a:tblGrid>
                <a:gridCol w="2709720"/>
                <a:gridCol w="1963800"/>
                <a:gridCol w="2641680"/>
              </a:tblGrid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r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ver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w/ EPA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, Canada, EC, Japan, Sweden, The Netherlands, and 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 Manufact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di, Bajaj, Chrysler, Daimler, Ford, GM, Hyundai, Mahindra, Mazda, Nissan, Subaru, Tata, Toyota, Volkswagen, Volvo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 and Supplier Alli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 Alliance, AIAM, JAMA, JASIC, MECA, CLE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hicle Te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V, UTAC, AR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Equi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riba, AVL, M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ssions Control Equ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E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AFDE-5EBA-43F3-ADE2-6250252794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752480"/>
            <a:ext cx="7543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dia – Test Procedure Comparis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at endorsed by General Motors and 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ggestion by India that all parties should add comments to the last column of 131-page docu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untries are invited to add or correct their compari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EA – Overall test procedure considera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endorsed by JAMA at DTP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U Comment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2 – Data to be supplied by V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iated H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/P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V/E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EPA Draft Test Procedur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556-6743-470B-8520-787746CC37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TP1 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676520"/>
            <a:ext cx="81532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ed general considerations, methodology and tim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admap reviewed – all agree that the timing is aggressive but necessa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14 CY completion date driven by European regulato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ailed milestones are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erminology document needs to be completed by US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ggestion by India to use comparison as the terminology docu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ation of subgroups – all agreed to this metho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 Units to be used on all docume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ate final test procedure in the gtr format to allow seamless European applic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cisions must be documented to prevent ambiguity and repetition of discuss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36A-F23B-4CDD-BB61-3F00DDA24B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TP1 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8288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ated initial working subgroup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 subgroups created (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5 formal groups are now proposed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M/P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 H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ab Process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sible to create a working group on electrified vehicles – Japan has volunteered to lea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ison of mass vs. molar calcula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ference fu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groups should be steered by the proposals received and the comments from the first DTP meeting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ab process subgroup must work with the DHC group as the drive cycle and the test process are highly relat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ludes determination of Utility Factor and potentially an EV drive cyc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ested that members submit the names of potential leaders and member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al to have subgroups formed and to have at least one coordination meeting prior to GRP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0160" y="1676520"/>
            <a:ext cx="7316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names for subgroup particip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was to call initial subgroup meetings prior to GR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India’s test procedure comparison document and provide comments and up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eive JAMA’s concurrence to ACEA proposa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9FE-D65E-4D89-8A85-385EB69F50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34:47Z</dcterms:created>
  <dc:creator>TSherwood</dc:creator>
  <dc:description/>
  <dc:language>en-US</dc:language>
  <cp:lastModifiedBy>Michael Olechiw</cp:lastModifiedBy>
  <dcterms:modified xsi:type="dcterms:W3CDTF">2010-06-04T19:44:07Z</dcterms:modified>
  <cp:revision>128</cp:revision>
  <dc:subject/>
  <dc:title>WP29/GRPE Update Focus on Light Duty</dc:title>
</cp:coreProperties>
</file>