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295BD-DD89-458A-BB00-42515EED1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4BF33-0500-40A6-BDE3-167D2FCCD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A68D5-1C8B-42C0-B479-F373EFBEC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CEFD4-D049-4689-A022-3942A281B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B1FDC-A3F8-4935-BC9A-344C9F126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6FC96-FE7D-40C4-BFEC-76B5AB693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FA267-0B48-4A09-B747-F3140C969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D4A-D713-458C-90DA-43F1F551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861-DC56-40F1-9983-E638804C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DCD-39C2-42FB-85C9-E7C8577B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45F-F49E-4A20-B00A-DCBF1115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C3CE-C17D-4731-8E81-1E78513B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A812-6E80-46FA-9EE1-0C35AFA1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49CE-8562-4538-BD70-81B37192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A5B3-976D-41BA-9606-FCEFB47A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4B2D-FAC6-4692-9F56-9E7A5107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EB70-806E-4B60-AC43-A943CA82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C493-6343-467C-943E-41889A8C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47D-4916-4495-A085-C88A27BC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A12E-178E-4EFA-BCAA-4CAB5078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A765-8250-4E89-B1A0-65C105BA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AA86-4625-4F48-8B95-C7EF0023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FB46-46AA-4573-B1E1-7AA6BC7E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D74B-2AF4-4416-AF90-14E3B88A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B862-8715-4DAF-B204-B59CB382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8B6-5274-45A0-8660-6D177572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50B-CA7D-4D84-861A-A5916AC9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3DAD-AC29-45B2-977E-16D1A964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31D1-9AE9-4AC7-8C87-DBC17AD1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92D-7474-4D0D-83DF-69272F2A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AE3-E00E-4578-93FA-1EA6DD96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0ABB-1025-40C3-97E7-EE5AD1EDA3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58D0-0751-40E9-989E-B234E1A2E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B642-5C60-4FE4-8D82-5D6FCF591B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3EB6-81AB-4A73-9C0F-ADFDA550D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1EDF-F049-4178-9936-B1B6003961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880" y="985320"/>
            <a:ext cx="7701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Results from DTP Session 1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LTP-DTP-02-0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8160" y="533520"/>
            <a:ext cx="7769160" cy="91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irst Test Procedure Meeting Overview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66680" y="1600200"/>
            <a:ext cx="73137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sted by USEPA in Ann Arbor on the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14th, and 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April 201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1 participants from the Europe, Asia, Canada and USA, includ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D47F-0365-4413-9ABC-430024C7B5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43000" y="3166920"/>
          <a:ext cx="7315200" cy="3110040"/>
        </p:xfrm>
        <a:graphic>
          <a:graphicData uri="http://schemas.openxmlformats.org/drawingml/2006/table">
            <a:tbl>
              <a:tblPr/>
              <a:tblGrid>
                <a:gridCol w="2709720"/>
                <a:gridCol w="1963800"/>
                <a:gridCol w="2641680"/>
              </a:tblGrid>
              <a:tr h="28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resen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 of re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tai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ver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 w/ EPA Sta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stria, Canada, EC, Japan, Sweden, The Netherlands, and 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 Manufactur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di, Bajaj, Chrysler, Daimler, Ford, GM, Hyundai, Mahindra, Mazda, Nissan, Subaru, Tata, Toyota, Volkswagen, Volvo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 and Supplier Allia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 Alliance, AIAM, JAMA, JASIC, MECA, CLE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hicle Tes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V, UTAC, AR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Equip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riba, AVL, MA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issions Control Equ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E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56A3-D1D4-406A-BBAD-2FA306431B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pos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752480"/>
            <a:ext cx="7543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view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dia – Test Procedure Comparis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mat endorsed by General Motors and F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ggestion by India that all parties should add comments to the last column of 131-page docu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countries are invited to add or correct their comparis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CEA – Overall test procedure considera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 endorsed by JAMA at DTP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U Comment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2 – Data to be supplied by V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fferentiated H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M/P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V/E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EPA Draft Test Procedur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32AB-AD51-43B8-8CE2-A5500986C4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TP1 Resul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1676520"/>
            <a:ext cx="81532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viewed general considerations, methodology and tim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oadmap reviewed – all agree that the timing is aggressive but necessa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14 CY completion date driven by European regulatory requir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ailed milestones are requi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erminology document needs to be completed by US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ggestion by India to use comparison as the terminology docu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ation of subgroups – all agreed to this metho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 Units to be used on all docume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ate final test procedure in the gtr format to allow seamless European applic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cisions must be documented to prevent ambiguity and repetition of discuss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3735-38B5-4DDE-B864-A051FB5175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TP1 Resul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828800"/>
            <a:ext cx="8077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ated initial working subgroup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 subgroups created (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5 formal groups are now proposed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M/P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, 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, HC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ab Process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-380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ossible to create a working group on electrified vehicles – Japan has volunteered to lea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-380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ison of mass vs. molar calcula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ference fuel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groups should be steered by the proposals received and the comments from the first DTP meeting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ab process subgroup must work with the DHC group as the drive cycle and the test process are highly relate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cludes determination of Utility Factor and potentially an EV drive cycl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ested that members submit the names of potential leaders and member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oal to have subgroups formed and to have at least one coordination meeting prior to GRPE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tion Ite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70160" y="1676520"/>
            <a:ext cx="7316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names for subgroup particip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was to call initial subgroup meetings prior to GRP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India’s test procedure comparison document and provide comments and upd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eive JAMA’s concurrence to ACEA proposa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EC6B-B496-477D-A628-BF72F7A595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5:34:47Z</dcterms:created>
  <dc:creator>TSherwood</dc:creator>
  <dc:description/>
  <dc:language>en-US</dc:language>
  <cp:lastModifiedBy>Michael Olechiw</cp:lastModifiedBy>
  <dcterms:modified xsi:type="dcterms:W3CDTF">2010-06-04T19:44:07Z</dcterms:modified>
  <cp:revision>128</cp:revision>
  <dc:subject/>
  <dc:title>WP29/GRPE Update Focus on Light Duty</dc:title>
</cp:coreProperties>
</file>