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B93-5BCE-4503-B271-DDDC1877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B72-06E1-4C93-9C96-2CB7DB89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220-F24D-41B6-A48F-432645EC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1BB-8382-4C19-9FD6-27A41779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925-2657-4379-BA26-C96AB97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ED9-8E75-44C8-9DD9-0D11385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5F8-EF72-49C4-B6BC-9DE7265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10A-9B26-44B9-9480-41294BAA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F92-B1D5-427B-85FB-798107A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AA2-3DA7-4F9D-BD88-5E0C4DC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354-AC64-42D5-B20C-F2F2606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D89-978D-43E3-9A5D-D812DCA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30C-61A5-4A5A-8CF4-042EF848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~8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45~9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ing remarks from Ed N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rector - Light Duty On-road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00~9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Agen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 review of 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TP Secr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30~10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adm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TP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00~10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s of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~10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~1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Including EU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00~13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30~16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arison of test procedures – lead by 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HEV/EV Test Procedures - lead by Chris Nevers - USEP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ual lunch duration will be determined on the first day.  Meal options are limited at the EPA and most team members will most likely decide to take lunch off-si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 13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30~8: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entative) Remarks from Chris Gu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puty Office Director EPA Office of Transportation and 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45~10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ICA Presentation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Dr. Kummer – Audi 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00~10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 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Lead by Klaus Steininger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30~10: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45~12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draft test procedure review for liquid and gaseous fu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James Sanchez and Chris Laroo - USE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:00~13:3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:30~15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EPA draft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Review list of emissions constitu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Review terminology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Begin review of open issues and action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:30~16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:00~17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NVFEL Lab T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Tom Schrodt - USE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 14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:30~11: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 Meeting – Chai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. Hajime Ish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. Craig M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:00~11: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:15~12: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-up of DTP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:  15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31:00Z</dcterms:created>
  <dc:creator>Michael Olechiw</dc:creator>
  <dc:description/>
  <dc:language>en-US</dc:language>
  <cp:lastModifiedBy>Michael Olechiw</cp:lastModifiedBy>
  <dcterms:modified xsi:type="dcterms:W3CDTF">2010-05-03T12:41:56Z</dcterms:modified>
  <cp:revision>25</cp:revision>
  <dc:subject/>
  <dc:title>WLTP DTP Session 1 Agenda</dc:title>
</cp:coreProperties>
</file>