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FF5-77CC-4737-B25A-BC845988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C04-81E4-4314-BD5F-B4E0AD9A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5F7-AF2D-4788-B79F-979A07B5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C8E-58F6-488A-8327-D42D2980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637-2228-4198-9694-56B2C172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14F-E7F7-4F6E-9A69-9465B5E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9E2-DC5B-4C42-B2F7-EB644493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79A-7B19-41D8-95E6-518A0F8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510-FDFF-471D-8CC1-4E73C36A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B0B-FB37-4DAF-9021-D5C691C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A54-07D5-4FEA-8921-851C4FDE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93A-FAFD-49C3-B319-9F0FC7B6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A3DD-9EFF-46B5-B261-0E92F3E2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LTP DTP Session 1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00~8:3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~8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45~9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ing remarks from Ed N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rector - Light Duty On-road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00~9: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Agen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 review of propo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TP Secr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30~10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adm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TP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00~10: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s of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~10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45~12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Including EU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00~13: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30~16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arison of test procedures – lead by 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HEV/EV Test Procedures - lead by Chris Nevers - USEP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ual lunch duration will be determined on the first day.  Meal options are limited at the EPA and most team members will most likely decide to take lunch off-si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1840" y="1459080"/>
            <a:ext cx="255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 13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60520" y="152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P-DTP-0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LTP DTP Session 1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00~8:3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30~8:4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entative) Remarks from Chris Gu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puty Office Director EPA Office of Transportation and 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45~10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ICA Presentation 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ad by Dr. Kummer – Audi 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00~10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 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Lead by Klaus Steininger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30~10:4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:45~12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draft test procedure review for liquid and gaseous fu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ad by James Sanchez and Chris Laroo - USE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:00~13:3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:30~15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lete EPA draft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Review list of emissions constitu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Review terminology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Begin review of open issues and action 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:30~16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:00~17: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NVFEL Lab T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ad by Tom Schrodt - USE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11840" y="1459080"/>
            <a:ext cx="255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2:  14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60520" y="152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P-DTP-0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LTP DTP Session 1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:00~8:3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:30~11: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C Meeting – Chai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. Hajime Ish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. Craig M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:00~11: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:15~12: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-up of DTP M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11840" y="1459080"/>
            <a:ext cx="255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3:  15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0520" y="152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P-DTP-01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2:31:00Z</dcterms:created>
  <dc:creator>Michael Olechiw</dc:creator>
  <dc:description/>
  <dc:language>en-US</dc:language>
  <cp:lastModifiedBy>Michael Olechiw</cp:lastModifiedBy>
  <dcterms:modified xsi:type="dcterms:W3CDTF">2010-05-03T12:41:56Z</dcterms:modified>
  <cp:revision>25</cp:revision>
  <dc:subject/>
  <dc:title>WLTP DTP Session 1 Agenda</dc:title>
</cp:coreProperties>
</file>