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76A-88A8-4520-B082-9AC5377B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615D-B408-40CD-A5D3-6FC1D059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905-EADB-4EA2-892F-195A7AF3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38A4-8B06-4A18-82BE-414FEB07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177B-2B63-4F79-833E-F849AB53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84E7-2939-4C4A-93FE-8304A3D7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507-B6E4-42A5-81E3-6C5B7BB5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301A-8AA6-4DFE-A05A-954CC734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8E27-2DEE-4183-BC76-7F0E90D9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D50-1807-4263-80A0-79797EB2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44D6-FED6-4931-A44F-847588A3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DC3-05BB-403A-AA8A-945735E7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0AF4-7330-46B6-B549-8CB6900E7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TP Meeting 1 Wrap-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general considerations, methodology and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initial working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s for GR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TP Meeting 1 Wrap-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d general considerations, methodology and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dmap reviewed – all agree that the timing is aggressive but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4 CY completion date driven by European regulatory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ed milestones ar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ology document needs to be completed by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ion by India to use comparison as the terminology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on of subgroups – all agreed to this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Units to be used on all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final test procedure in the gtr format to allow seamless Europea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must be documented to prevent ambiguity and repetition of 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TP Meeting 1 Wrap-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d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 – Test Procedure Compa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endorsed by General Motors and F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ion by India that all parties should add comments to the last column of 131-pag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untries are invited to add or correct their compari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A – Overall test procedure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yet endorsed by JAMA – date for revie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 Com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2 – Data to be supplied by V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iated 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/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/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PA Draft Test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A will continue to propose this solution in the subgrou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TP Meeting 1 Wrap-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d initial working sub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subgroup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/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e to create a working group on electrified vehicles – Japan has volunteered to l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mass vs. molar cal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f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groups should be steered by the proposals received and the comments from the first DTP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b process subgroup must work with the DHC group as the drive cycle and the test process are highly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determination of Utility Factor and potentially an EV drive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ed that members submit the names of potential leaders and me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to have subgroups formed and to have at least one coordination meeting prior to GR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TP Meeting 1 Wrap-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ations for GR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DTP meeting will take place at the GRPE in Geneva in June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DTP working meeting date and location is TBD – September 2010 with DH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TP Meeting 1 Wrap-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of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CA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A Test Procedure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A HEV/EV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group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group member sugg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agenda w/ all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-up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TP Meeting 1 Wrap-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ttend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 – Mr. Chaudh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A/OICA – Dr. K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hensive test procedure conc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– Mr. Steinin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ing the web conference and audio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PA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 Laroo – Draft 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mes Sanchez – Draft TP and temporary 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 Nevers – HEV/EV 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 Schrodt – Lab input and t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 tour gu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0:45:35Z</dcterms:created>
  <dc:creator>Michael Olechiw</dc:creator>
  <dc:description/>
  <dc:language>en-US</dc:language>
  <cp:lastModifiedBy>Michael Olechiw</cp:lastModifiedBy>
  <dcterms:modified xsi:type="dcterms:W3CDTF">2010-05-03T12:46:46Z</dcterms:modified>
  <cp:revision>16</cp:revision>
  <dc:subject/>
  <dc:title>DTP Meeting 1 Wrap-up</dc:title>
</cp:coreProperties>
</file>