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683-B93A-400A-8401-CE698609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939-A24F-46BD-B36E-9BCDA1DF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423-DB2E-4C63-AC2F-44950D4B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3E8-BCB6-4F88-A6E2-84A2F4E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D21-E2C0-48E7-965D-858A0798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1EB-60A9-409E-B6F3-AFB9F6B8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B92-2200-48FD-AE8E-5D6126F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2E0-E0AF-4C56-AFD3-D1DB274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08B-6A3A-4DCB-A709-24BAC96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4AD-28FE-4B72-9864-8F2076D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E55-7C3A-4197-A02B-69F9ED4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BDB-74A5-4B1C-A943-FC08C59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70B-924B-460E-AB62-7D748210B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general considerations, methodology and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initial working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s for G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general considerations, methodology and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map reviewed – all agree that the timing is aggressive but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CY completion date driven by European regulator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milestone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 document needs to be completed by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 by India to use comparison as the terminology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subgroups – all agreed to this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to be used on al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final test procedure in the gtr format to allow seamless Europe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must be documented to prevent ambiguity and repetition of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 – Test Procedure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 endorsed by General Motors an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 by India that all parties should add comments to the last column of 131-pag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untries are invited to add or correct their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 – Overall test procedure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yet endorsed by JAMA – date for revie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2 – Data to be supplied by V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d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/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PA Draft Test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will continue to propose this solution in the subgro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initial working 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ubgroup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to create a working group on electrified vehicles – Japan has volunteered to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mass vs. molar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f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groups should be steered by the proposals received and the comments from the first DTP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 process subgroup must work with the DHC group as the drive cycle and the test process are highly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determination of Utility Factor and potentially an EV driv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that members submit the names of potential leaders and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to have subgroups formed and to have at least one coordination meeting prior to GR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s for GR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DTP meeting will take place at the GRPE in Geneva in Jun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DTP working meeting date and location is TBD – September 2010 with DH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CA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Test Procedur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HEV/EV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 member 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genda w/ al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-up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TP Meeting 1 Wrap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tend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– Mr. Chaud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A/OICA – Dr. K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test procedure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– Mr. Stein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the web conference and audio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PA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Laroo – Draft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Sanchez – Draft TP and temporary 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Nevers – HEV/EV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chrodt – Lab input and 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tour gu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LTP-DTP-01-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0:45:35Z</dcterms:created>
  <dc:creator>Michael Olechiw</dc:creator>
  <dc:description/>
  <dc:language>en-US</dc:language>
  <cp:lastModifiedBy>Michael Olechiw</cp:lastModifiedBy>
  <dcterms:modified xsi:type="dcterms:W3CDTF">2010-05-03T12:46:46Z</dcterms:modified>
  <cp:revision>16</cp:revision>
  <dc:subject/>
  <dc:title>DTP Meeting 1 Wrap-up</dc:title>
</cp:coreProperties>
</file>