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323-8373-439D-878F-757B87C1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4F7-FCAB-489A-855C-DCEEF5C0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DB5-3C90-4ECA-AD43-1CE88B55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AB5-F970-4A9A-AE53-186A1DA5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FC9-C79A-4AA6-8D37-7B45F5A7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370-8BE2-4340-820C-481662BC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2E9-2701-42CC-8E58-C1F5C6B3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6CE-52A0-4D7B-9331-757379D3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381-4AC4-455A-AF2E-3816ED1B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7AB-98F5-41A0-B2AF-FEC0CED7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FAB-EAFF-4DCF-80B8-75B3A018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A1A-C984-4912-9A59-C9804D5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B7F0-7C1B-4398-AFD2-E88C3558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228600"/>
            <a:ext cx="1219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n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1008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V/PHEV/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133720"/>
            <a:ext cx="12189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905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7524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914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18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3520" y="33480"/>
            <a:ext cx="24451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vision of sub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re working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regulatory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o WLTP informal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2873520"/>
            <a:ext cx="228744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monize US/ECE/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ECE re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ology and 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7760" y="2895480"/>
            <a:ext cx="1392120" cy="17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ology and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41640" y="2895480"/>
            <a:ext cx="207828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 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rtia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dyno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vs. single roller dyno – performance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WD/4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access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e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so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cooling durin</a:t>
            </a:r>
            <a:fld id="{2585C84F-5800-4E8E-AAF6-8EBD930D8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cell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s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option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 gas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2895480"/>
            <a:ext cx="1868400" cy="17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ty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s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ycl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down (unique to this technolog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neation of vehicles w/ electric power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5257800"/>
            <a:ext cx="14475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addi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ll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26668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038480" y="228600"/>
            <a:ext cx="1219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n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V/PHEV/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133720"/>
            <a:ext cx="12189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905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17524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9144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88480" y="33480"/>
            <a:ext cx="244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vision of sub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re working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regulatory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o WLTP informal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41640" y="2895480"/>
            <a:ext cx="2078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operation mode – worse case vs. best case vs. manufacturer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fuel consi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and fuel 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6:50:28Z</dcterms:created>
  <dc:creator>Michael Olechiw</dc:creator>
  <dc:description/>
  <dc:language>en-US</dc:language>
  <cp:lastModifiedBy>Michael Olechiw</cp:lastModifiedBy>
  <dcterms:modified xsi:type="dcterms:W3CDTF">2010-05-03T12:40:14Z</dcterms:modified>
  <cp:revision>13</cp:revision>
  <dc:subject/>
  <dc:title>Slide 1</dc:title>
</cp:coreProperties>
</file>