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1DB2-6DFF-420D-A453-270403E85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C927-E183-435F-A3AD-5E7B3AB64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F580-5C83-4385-A041-C3D9BBF17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E029-3F83-4901-AD91-C0601D30D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CF20-9806-4A57-862D-CF64418E1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4323-069C-400F-A784-D76B236DA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222E-EBA6-4E6D-A3BC-8BCAB5513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22E1-9ECF-4C48-BB16-33E92329D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0739-3F28-48DE-B511-3FFD8F7A7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6921-4E61-442C-834B-FA0797144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C14C-E7E6-4440-96AF-02DF48C4F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F7F5-93F4-4D5B-B44E-C3F284A91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B9878-6B80-4AA2-BFEE-ABB8DCC042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038480" y="228600"/>
            <a:ext cx="12193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057400" y="1219320"/>
            <a:ext cx="1219320" cy="5331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vention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g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772400" y="1219320"/>
            <a:ext cx="1219320" cy="5331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fer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410080" y="1219320"/>
            <a:ext cx="1219320" cy="5331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V/PHEV/E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2133720"/>
            <a:ext cx="121932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M/P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505320" y="2133720"/>
            <a:ext cx="121896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b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2133720"/>
            <a:ext cx="121932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NH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H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410080" y="2133720"/>
            <a:ext cx="121932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b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772400" y="2133720"/>
            <a:ext cx="121932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nim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209680" y="1752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066680" y="190512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066680" y="1905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19520" y="1905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48120" y="1752480"/>
            <a:ext cx="10666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648320" y="762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666880" y="91440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666880" y="914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381880" y="914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943600" y="914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943600" y="1752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381880" y="1752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93520" y="33480"/>
            <a:ext cx="244512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vision of subgrou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ure working interfa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ment of regulatory c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rt to WLTP informal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320" y="2873520"/>
            <a:ext cx="2287440" cy="222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rmonize US/ECE/Jap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letion of ECE regu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thodology and equip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417760" y="2895480"/>
            <a:ext cx="1392120" cy="1736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hod requi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H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hod requi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than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hodology and equi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066680" y="2666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19520" y="2666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941640" y="2895480"/>
            <a:ext cx="2078280" cy="392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ad lo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ertia cla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ift m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hicle dyno m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in vs. single roller dyno – performance requir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WD/4W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al accesso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re pres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hicle soa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hicle cooling durin</a:t>
            </a:r>
            <a:fld id="{709975FD-78C0-413E-AD97-2068983414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 cell op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issions measur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ch ag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hicle option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ibration gas specif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419720" y="2666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562720" y="2666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248520" y="2895480"/>
            <a:ext cx="1868400" cy="1736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al 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tility fa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issions C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rection fa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d cycle l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ast down (unique to this technology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ineation of vehicles w/ electric powertr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2666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620120" y="5257800"/>
            <a:ext cx="1447560" cy="641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lfur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 additiv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illation cur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381880" y="2666880"/>
            <a:ext cx="0" cy="259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LTP-DTP-01-1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4038480" y="228600"/>
            <a:ext cx="12193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057400" y="1219320"/>
            <a:ext cx="1219320" cy="5331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vention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g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86600" y="1219320"/>
            <a:ext cx="1219320" cy="5331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fer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10080" y="1219320"/>
            <a:ext cx="1219320" cy="5331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V/PHEV/E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09480" y="2133720"/>
            <a:ext cx="121932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M/P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505320" y="2133720"/>
            <a:ext cx="121896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b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057400" y="2133720"/>
            <a:ext cx="121932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NH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H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410080" y="2133720"/>
            <a:ext cx="121932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b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086600" y="2133720"/>
            <a:ext cx="121932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nim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209680" y="1752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066680" y="190512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066680" y="1905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819520" y="1905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1752480"/>
            <a:ext cx="10666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48320" y="762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666880" y="914400"/>
            <a:ext cx="4953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666880" y="914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20120" y="914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943600" y="914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43600" y="1752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96080" y="1752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388480" y="33480"/>
            <a:ext cx="2445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vision of subgrou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ure working interfa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ment of regulatory c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rt to WLTP informal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41640" y="2895480"/>
            <a:ext cx="207828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hicle operation mode – worse case vs. best case vs. manufacturer defa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 fuel conside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2 and fuel consum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419720" y="2666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15000" y="2666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LTP-DTP-01-1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4T16:50:28Z</dcterms:created>
  <dc:creator>Michael Olechiw</dc:creator>
  <dc:description/>
  <dc:language>en-US</dc:language>
  <cp:lastModifiedBy>Michael Olechiw</cp:lastModifiedBy>
  <dcterms:modified xsi:type="dcterms:W3CDTF">2010-05-03T12:40:14Z</dcterms:modified>
  <cp:revision>13</cp:revision>
  <dc:subject/>
  <dc:title>Slide 1</dc:title>
</cp:coreProperties>
</file>