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36E60-0751-4250-B2C2-F6F75D837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7791E-EC08-4E17-82D7-225B80F63B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B8E10-2C8E-48C0-84C4-5BA4489225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DA9E9-81D7-4B1E-A335-711D98B561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B7E87-3F90-4A07-95A7-4348465D2F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939DF-7752-43DF-AEA7-09C64EEA4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7A408-27AC-4D5C-95F9-E8615DDB84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CB8B3-0908-4832-88B8-9AB49B0B9C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28E90-B4F2-414D-B80C-5E5F3C89E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50551-F60B-4818-A7DB-E19FEF4E6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C224A-5A67-471E-93E9-2A2CE15620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6DCBA-1FB7-4E08-9C09-CDAFC5D34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1722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FEC8-28F4-47FA-B372-335CC166E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228600" y="5943600"/>
          <a:ext cx="1905120" cy="6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5943600"/>
                    <a:ext cx="190512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33720" y="2590920"/>
            <a:ext cx="5257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5867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afd00"/>
                </a:solidFill>
                <a:latin typeface="Times New Roman"/>
              </a:rPr>
              <a:t>WLTP Test Procedures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for Chassis Dynamometer Test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720" y="342900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hris Laroo - U.S. EP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Times New Roman"/>
              </a:rPr>
              <a:t>April 14, 2010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541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Times New Roman"/>
              </a:rPr>
              <a:t>WLTP-DTP-01-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12890-C6A3-4868-97E3-EBF5E453DF26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ighlighted Verific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303: Verification frequenc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inearity, response, leaks, interference, penetration, quench, conversion efficiency…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307: Linearit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erifies calibr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te 35-day gas analyzer linearity verific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308 and 309: signal update, response, and alignmen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or continuous gas analyze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00BF8-AE58-49B9-98E5-8296D261DB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500s: Performing an Emission Test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ＭＳ Ｐゴシック"/>
              </a:rPr>
              <a:t>510 Dynamometer procedur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ＭＳ Ｐゴシック"/>
              </a:rPr>
              <a:t>515 Pre-test check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ＭＳ Ｐゴシック"/>
              </a:rPr>
              <a:t>520 Emission Test Sequenc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ＭＳ Ｐゴシック"/>
              </a:rPr>
              <a:t>525 Vehicle starting and restartin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ＭＳ Ｐゴシック"/>
              </a:rPr>
              <a:t>550 Gas analyzer range validation, drift valida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ＭＳ Ｐゴシック"/>
              </a:rPr>
              <a:t>Validation of test driver power deman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ＭＳ Ｐゴシック"/>
              </a:rPr>
              <a:t>590 PM sampling media (e.g., filters)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ＭＳ Ｐゴシック"/>
              </a:rPr>
              <a:t>preconditioning and tare weighin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ＭＳ Ｐゴシック"/>
              </a:rPr>
              <a:t>595 PM sample post-conditioning and total weighing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78766-54A1-419B-8D0C-A7C26E2D82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600s: Calcul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eneral statistic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olar based emissions calculation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moved water correc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rift validation and correc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6FE37-598E-4623-A2C2-2ACACC7F73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600: Mass emission and background calculation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ass emission calcul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ere ndot is the dilute exhaust flow ra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or background determination, ndot is the dilution air flow ra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ackground mass calculation using chemical balan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048120" y="1676520"/>
          <a:ext cx="20365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20365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754360" y="4876920"/>
          <a:ext cx="310032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54360" y="4876920"/>
                    <a:ext cx="310032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43200" y="5562720"/>
          <a:ext cx="307656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5562720"/>
                    <a:ext cx="30765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7CFEF-8081-4E34-B885-84217C73C2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PA believes that one set of improved test procedures for labs should improve repeatabilit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One set of test procedures provides pathway for significant international harmonization across all testing platform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0 CFR 1065 should be used as a basis for international harmonization across all certification platforms (chassis and engine).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212FD-79F3-48FD-8A89-694FEFC61D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Overview of current US domestic test procedures, WHDC, and NRMM GT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Overview of proposed WLTP test procedur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828800"/>
            <a:ext cx="85341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01A7A-66A8-4B72-BA8B-B253C2A423D0}" type="slidenum">
              <a:t>2</a:t>
            </a:fld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" dur="1" fill="hold"/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urrent Test Procedur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e United States currently regulates passenger cars utilizing 40 CFR Part 86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or engine testing, we regulate to 40 CFR Part 1065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cently the NRMM GTR was finaliz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e test procedures in this document closely resemble 1065.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WHDC GTR also closely resembles 1065.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EPA believes that 40 CFR Part 1065 should be adapted to chassis testing to create a more robust test procedure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924E1-E395-4AF1-BBCC-61987861EB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Draft WLTP Test Procedure Organiz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afd00"/>
                </a:solidFill>
                <a:uFillTx/>
                <a:latin typeface="Times New Roman"/>
              </a:rPr>
              <a:t>Section and Title</a:t>
            </a:r>
            <a:r>
              <a:rPr b="0" lang="en-US" sz="1600" spc="-1" strike="noStrike" u="sng">
                <a:solidFill>
                  <a:srgbClr val="fafd00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fafd00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fafd00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fafd00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fafd00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fafd00"/>
                </a:solidFill>
                <a:uFillTx/>
                <a:latin typeface="Times New Roman"/>
              </a:rPr>
              <a:t>Intended Audienc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100s Dynamometer Laboratory Equipment Specifications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Lab Faciliti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200s Measurement Instruments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Instrument Procuremen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300s Calibrations and Performance Checks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Instrument Operator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500s Dynamometer Laboratory Test Protocols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Test Operator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600s Calculations and Required Data for Certification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Reporting Engineer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700s Analytical Gases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Supply Procuremen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800s  Testing with Oxygenated Fuels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Specialized Technician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1000s Definitions and Other Reference Information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All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9C416-9121-4A1E-8672-1BFC326AC3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ighligh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Uses International System of Units (SI) “metric”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easurement and control specifications scaled to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Emissions standard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pecified gas standard accuracy scaled as function of emissions standard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C0240-8EA2-4254-9122-D63AFD4754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ighligh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olar based emission calculation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Uses chemical balance, iteratively solved, to determin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Removed water correc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mount of dilution gas per mole of exhaust, 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Times New Roman"/>
              </a:rPr>
              <a:t>dil/ex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Requires only total dilute exhaust flow measure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rovides for a more robust emission calculation and background correction.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te, chemical balance is not necessary if you directly measure two of the following flow rate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ilution air flow – Used directly for background mass emission calcul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xhaust flow – Used to determine dilution air or CVS total flow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ilute exhaust total flow – Used directly in vehicle mass emission calcul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D6AA9-B79B-47EA-838F-9CAFE84D80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100s: Equip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ilution equipmen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bes, sample lines: heated as necessar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mple-conditioning equipmen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N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to NO convert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ryer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ump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M preclassifier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M sampling and stabilization conditi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7B966-73C0-49CA-8267-0894971F1E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200s and 300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1143000"/>
          <a:ext cx="7772400" cy="4386240"/>
        </p:xfrm>
        <a:graphic>
          <a:graphicData uri="http://schemas.openxmlformats.org/drawingml/2006/table">
            <a:tbl>
              <a:tblPr/>
              <a:tblGrid>
                <a:gridCol w="2971800"/>
                <a:gridCol w="2286000"/>
                <a:gridCol w="25146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Measurement Parame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200s: Instrument Specific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300s: Calibrations Verific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Update and Re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2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Press, Temp, Dewp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2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3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Diluted Exh. F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340, 3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Sample F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2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.3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Gas Divi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2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3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86B7B-6DDA-4C47-AA14-7DFC21F109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bparts C and 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62120" y="1143000"/>
          <a:ext cx="7772400" cy="5326200"/>
        </p:xfrm>
        <a:graphic>
          <a:graphicData uri="http://schemas.openxmlformats.org/drawingml/2006/table">
            <a:tbl>
              <a:tblPr/>
              <a:tblGrid>
                <a:gridCol w="2666880"/>
                <a:gridCol w="2590920"/>
                <a:gridCol w="25146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Measurement Parame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200s: Instrument Specific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300s: Performance Che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CO and CO</a:t>
                      </a:r>
                      <a:r>
                        <a:rPr b="0" lang="en-US" sz="2800" spc="-1" strike="noStrike" baseline="-25000">
                          <a:solidFill>
                            <a:srgbClr val="fafd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350, 3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NMH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260, 2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360, 362, 3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en-US" sz="2800" spc="-1" strike="noStrike" baseline="-25000">
                          <a:solidFill>
                            <a:srgbClr val="fafd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270, 2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370, 372, 376, 3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PM, gravimet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2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3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PM, inertial 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2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3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9CDE6-D9D6-455C-A356-FB4C47512E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6-07T10:35:26Z</dcterms:created>
  <dc:creator>Cantrell</dc:creator>
  <dc:description/>
  <cp:keywords/>
  <dc:language>en-US</dc:language>
  <cp:lastModifiedBy>Michael Olechiw</cp:lastModifiedBy>
  <cp:lastPrinted>1994-06-14T11:05:34Z</cp:lastPrinted>
  <dcterms:modified xsi:type="dcterms:W3CDTF">2010-05-03T12:45:37Z</dcterms:modified>
  <cp:revision>152</cp:revision>
  <dc:subject>SLIDES</dc:subject>
  <dc:title>NRC Dust Reduction</dc:title>
</cp:coreProperties>
</file>