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2D9B-3D05-49F0-AAA8-BB7353E6D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225EF-2E15-4AD1-8185-E37FB291B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7DFA-3979-4079-8657-6233F3FBB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DF71C-91DA-4691-B614-43B820CD03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315C-A3A5-4053-9938-DC7DE69CFE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B5BA4-36F6-4C16-A8B4-A9FD94027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65C3-B22A-4F44-9BD4-6B53926D1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1765-7544-4259-9789-3E326318E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4A33-2BB8-4E5D-8634-150882216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B3FC2-6C1C-4707-8B97-1CFF75684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CA43-F5BF-4469-827E-CB6FF13C1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7F00-068A-44D2-B475-2C30D9E23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172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D4DC-37F0-4B06-827D-AF2C9C929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228600" y="5943600"/>
          <a:ext cx="1905120" cy="6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943600"/>
                    <a:ext cx="19051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33720" y="2590920"/>
            <a:ext cx="52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867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afd00"/>
                </a:solidFill>
                <a:latin typeface="Times New Roman"/>
              </a:rPr>
              <a:t>WLTP Test Procedures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for Chassis Dynamometer Test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342900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hris Laroo - U.S. EP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Times New Roman"/>
              </a:rPr>
              <a:t>April 14, 2010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afd00"/>
                </a:solidFill>
                <a:latin typeface="Times New Roman"/>
              </a:rPr>
              <a:t>WLTP-DTP-01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D7D2-3D86-4284-9166-9C08F49B7AA6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ghlighted Verif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03: Verification frequenc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nearity, response, leaks, interference, penetration, quench, conversion efficiency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07: Linearit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erifies calib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te 35-day gas analyzer linearity verific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08 and 309: signal update, response, and alignmen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or continuous gas analyz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9040B-A625-449B-90EC-0219025855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500s: Performing an Emission Tes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510 Dynamometer procedur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515 Pre-test check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520 Emission Test Sequen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525 Vehicle starting and restartin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550 Gas analyzer range validation, drift valid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Validation of test driver power deman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590 PM sampling media (e.g., filters)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preconditioning and tare weighin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ＭＳ Ｐゴシック"/>
              </a:rPr>
              <a:t>595 PM sample post-conditioning and total weighing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21E33-B525-47B2-AF59-91F9EBCA57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600s: Calcul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eneral statistic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lar based emissions calculation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moved water correc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rift validation and correc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B02E-6B20-49D1-B877-3C283D75C5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600: Mass emission and background calculati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ss emission calcul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ere ndot is the dilute exhaust flow r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r background determination, ndot is the dilution air flow r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ackground mass calculation using chemical bal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048120" y="1676520"/>
          <a:ext cx="20365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20365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54360" y="4876920"/>
          <a:ext cx="310032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54360" y="4876920"/>
                    <a:ext cx="31003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43200" y="5562720"/>
          <a:ext cx="307656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5562720"/>
                    <a:ext cx="30765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08C42-D425-4313-A578-DA6F9C6B9A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PA believes that one set of improved test procedures for labs should improve repeatabilit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ne set of test procedures provides pathway for significant international harmonization across all testing platform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40 CFR 1065 should be used as a basis for international harmonization across all certification platforms (chassis and engine)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EBC0-50CC-4851-AAC9-E71816C015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verview of current US domestic test procedures, WHDC, and NRMM GT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Overview of proposed WLTP test procedu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828800"/>
            <a:ext cx="85341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2ED6-8A74-4A2A-B74F-B20066835A32}" type="slidenum">
              <a:t>2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urrent Test Proced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 United States currently regulates passenger cars utilizing 40 CFR Part 86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r engine testing, we regulate to 40 CFR Part 1065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cently the NRMM GTR was finaliz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e test procedures in this document closely resemble 1065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WHDC GTR also closely resembles 1065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PA believes that 40 CFR Part 1065 should be adapted to chassis testing to create a more robust test procedure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8E313-7B47-44D3-82DC-38F938BD1D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Draft WLTP Test Procedure Organiz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afd00"/>
                </a:solidFill>
                <a:uFillTx/>
                <a:latin typeface="Times New Roman"/>
              </a:rPr>
              <a:t>Section and Title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Times New Roman"/>
              </a:rPr>
              <a:t>Intended Audienc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100s Dynamometer Laboratory Equipment Specifications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Lab Faciliti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200s Measurement Instruments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Instrument Procureme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300s Calibrations and Performance Checks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Instrument Operato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500s Dynamometer Laboratory Test Protocols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Test Operato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600s Calculations and Required Data for Certification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Reporting Engineer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700s Analytical Gases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Supply Procurement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800s  Testing with Oxygenated Fuels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Specialized Technicia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1000s Definitions and Other Reference Information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Times New Roman"/>
              </a:rPr>
              <a:t>All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E910-BEAB-44EC-92A5-5647B4B7A1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ghligh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Uses International System of Units (SI) “metric”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asurement and control specifications scaled to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missions standar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pecified gas standard accuracy scaled as function of emissions standar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DB6E-71CA-4FC8-BD13-F92E479345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ghligh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lar based emission calculation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s chemical balance, iteratively solved, to determin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emoved water corre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mount of dilution gas per mole of exhaust, x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Times New Roman"/>
              </a:rPr>
              <a:t>dil/ex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equires only total dilute exhaust flow measure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rovides for a more robust emission calculation and background correction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te, chemical balance is not necessary if you directly measure two of the following flow rate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lution air flow – Used directly for background mass emission calcul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xhaust flow – Used to determine dilution air or CVS total flow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lute exhaust total flow – Used directly in vehicle mass emission calcul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A82FA-47D7-4048-BBB1-D805C30BF6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100s: Equip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lution equipme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bes, sample lines: heated as necessar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e-conditioning equipme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O</a:t>
            </a:r>
            <a:r>
              <a:rPr b="0" lang="en-US" sz="28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to NO convert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rye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ump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M preclassifie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M sampling and stabilization condi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0187-1120-46A5-96A2-BB260FE91B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200s and 300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143000"/>
          <a:ext cx="7772400" cy="4386240"/>
        </p:xfrm>
        <a:graphic>
          <a:graphicData uri="http://schemas.openxmlformats.org/drawingml/2006/table">
            <a:tbl>
              <a:tblPr/>
              <a:tblGrid>
                <a:gridCol w="2971800"/>
                <a:gridCol w="2286000"/>
                <a:gridCol w="25146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Measurement Parame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00s: Instrument Specific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00s: Calibrations Verific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Update and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ress, Temp, Dew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Diluted Exh. F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40, 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Sample F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.3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Gas Divi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C451-D642-4AB5-AE65-022C65C671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46464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bparts C and 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62120" y="1143000"/>
          <a:ext cx="7772400" cy="5326200"/>
        </p:xfrm>
        <a:graphic>
          <a:graphicData uri="http://schemas.openxmlformats.org/drawingml/2006/table">
            <a:tbl>
              <a:tblPr/>
              <a:tblGrid>
                <a:gridCol w="2666880"/>
                <a:gridCol w="2590920"/>
                <a:gridCol w="25146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Measurement Parame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00s: Instrument Specific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00s: Performance Che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CO and CO</a:t>
                      </a:r>
                      <a:r>
                        <a:rPr b="0" lang="en-US" sz="2800" spc="-1" strike="noStrike" baseline="-25000">
                          <a:solidFill>
                            <a:srgbClr val="fafd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50, 3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NMH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60, 2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60, 362, 3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fafd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70, 2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70, 372, 376, 3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M, gravimet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M, inertial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2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3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LTP-DTP-01-1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B7BC4-DBB3-4C8D-8697-0D9E8FD42E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6-07T10:35:26Z</dcterms:created>
  <dc:creator>Cantrell</dc:creator>
  <dc:description/>
  <cp:keywords/>
  <dc:language>en-US</dc:language>
  <cp:lastModifiedBy>Michael Olechiw</cp:lastModifiedBy>
  <cp:lastPrinted>1994-06-14T11:05:34Z</cp:lastPrinted>
  <dcterms:modified xsi:type="dcterms:W3CDTF">2010-05-03T12:45:37Z</dcterms:modified>
  <cp:revision>152</cp:revision>
  <dc:subject>SLIDES</dc:subject>
  <dc:title>NRC Dust Reduction</dc:title>
</cp:coreProperties>
</file>