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2ED9-15DF-44A3-9170-C7FAC5CEC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2379-EE8C-4E3F-A078-A5E674D84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6F53-BA3C-48A7-8EAC-0150DC660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7365-FDA9-4984-BFBF-A910F07C5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52C0-D2FA-445F-B3A9-A67CA8244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9B5F-F7FC-4875-86E2-4FA033BCD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49CE-19D6-46E6-8076-57E808168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C337-798B-45A0-A8CD-5FAC54FFE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E549-C25B-4116-AADE-5ED8A3A9B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940F-E950-41CC-9ED9-FCEB9B2D7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6320-F61E-4A3A-9FF4-FE9074F69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C245-9C79-4787-8DC1-9BDA1BAE7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172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B0BA-AF4D-4DC1-82F7-78FF8EDF5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28600" y="5943600"/>
          <a:ext cx="1905120" cy="6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43600"/>
                    <a:ext cx="1905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2590920"/>
            <a:ext cx="52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5943600"/>
          <a:ext cx="19051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943600"/>
                    <a:ext cx="1905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Times New Roman"/>
              </a:rPr>
              <a:t>WLTP Test Procedures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for Hybrid Electric Vehicle Test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hris Nevers - U.S. EP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Times New Roman"/>
              </a:rPr>
              <a:t>April 14, 2010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Times New Roman"/>
              </a:rPr>
              <a:t>WLTP-DTP-01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43E2-5B01-463A-8886-9450D5DCB2F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verview of current US domestic test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verview of test procedure opportuniti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Keys to hybrid electric test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828800"/>
            <a:ext cx="8534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0F7F-A84E-4A85-8D15-AFC4DFBAE1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urrent Test Proced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 United States currently regulates passenger cars utilizing 40 CFR Part 86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r Light Duty Hybrid Electric Vehicles, part 86 references California Exhaust Standards and Test Procedures for 2003 and Subsequent Model Zero-Emission Vehicles and 2001 and Subsequent Model Hybrid Electric Vehicl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om for improvement in end of test criteria, retest criteria/ testing variability, complexity reduc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94A4-28A7-4EFE-A5AE-DCE6B0A2A5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urrent HEV Proced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pling/ data collection additions to conventional vehic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Integrated Amp-hours (State of Charge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ull double UDDS (4 bag FTP), no stabilized substitu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vaporative worse case emissions still requires 3 bag FTP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nique Procedu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ynamometer Road Load Derivation (regenerative braking disabled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egenerative braking differences (on road versus dynamometer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ister load for non-integrated canist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AF1C-B544-41B0-818C-08747204A7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urrent PHEV Proced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/ data collection additions to conventional HEV vehic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charge Amp hou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Unique Procedures (add. to conv. HEV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sting throughout entire charge deplete ran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arge deplete end of test criter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72B6-5C13-4858-ACF1-BB6363C57E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cedure Opportuniti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nd of Test Criteria (PHEV/ HEV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llow maximum effort for driver trace without terminating tes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harge sustain operation could be ended before CS SOC is reach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test Criteria (PHEV/ HEV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tate of Charge correction fa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nergy Analysis, similar to Test Cycle Power Calcula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ll Electric Testing (EV/ PHEV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llow substitution for multiple vehicle applications of same battery using different vehicle loa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985B-26A6-467C-98B6-534F29DF5B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cedure Concer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uble Cold Jeopardy (PHEV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est on 4wd dynamometers where applicable (all rege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ast down Techniques without true mechanical neutral ( On-Roa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est Vehicle m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ystem Durability beyond criteria pollutant impa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8D38-8BAA-41A4-B9BC-F1588C197D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eys to HEV Test Proced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vide building blocks for array of possible CO2, criteria pollutant, and alternative fuel programs beyond worse case emiss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lectric range/ us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2 displace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zero emission” program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lternative fuel program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 Playing Fie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st procedures that are unique to HEV are needed to quantify HEV operation and are not designed to benefit one technology over anoth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A0FA-A856-4807-92EF-88010DB1D4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6-07T10:35:26Z</dcterms:created>
  <dc:creator>Cantrell</dc:creator>
  <dc:description/>
  <cp:keywords/>
  <dc:language>en-US</dc:language>
  <cp:lastModifiedBy>Michael Olechiw</cp:lastModifiedBy>
  <cp:lastPrinted>1994-06-14T11:05:34Z</cp:lastPrinted>
  <dcterms:modified xsi:type="dcterms:W3CDTF">2010-05-03T12:46:06Z</dcterms:modified>
  <cp:revision>156</cp:revision>
  <dc:subject>SLIDES</dc:subject>
  <dc:title>NRC Dust Reduction</dc:title>
</cp:coreProperties>
</file>