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7DD40-AC97-4A45-B50C-B6E3765C5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CF93E-5B33-48A2-9DD4-42A37D271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71F12-918A-4E9C-B2DF-EFFB2FA14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084CD-DF56-4F7A-AA29-2B57E335BE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4E6B6-553A-4B41-B23A-A7BBEDB18F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5433-48F9-46BB-95F9-8D8CD1E14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A6D2B-CEC0-4D34-A7F6-CDA4F0EA4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B9ACB-295D-4B4A-A89A-89296A314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EE20F-B975-407E-8BF8-6C4EB4FA1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6BACB-94B6-4D54-B0D1-5C7252BB0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E16A7-A371-477C-A2BF-2C1EFE0C3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57BE3-58E1-4D05-A346-2B4FBF265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1722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3A3A-22E7-4C56-BE8F-86CA85904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228600" y="5943600"/>
          <a:ext cx="1905120" cy="6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5943600"/>
                    <a:ext cx="19051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33720" y="2590920"/>
            <a:ext cx="525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867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5943600"/>
          <a:ext cx="190512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943600"/>
                    <a:ext cx="19051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afd00"/>
                </a:solidFill>
                <a:latin typeface="Times New Roman"/>
              </a:rPr>
              <a:t>WLTP Test Procedures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for Hybrid Electric Vehicle Test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342900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hris Nevers - U.S. EP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Times New Roman"/>
              </a:rPr>
              <a:t>April 14, 2010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Times New Roman"/>
              </a:rPr>
              <a:t>WLTP-DTP-01-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095D0-7496-470C-AE40-7F877FA1949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Overview of current US domestic test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Overview of test procedure opportuniti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Keys to hybrid electric testin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828800"/>
            <a:ext cx="8534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396EE-0892-40DB-B091-5152204AB5E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urrent Test Proced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e United States currently regulates passenger cars utilizing 40 CFR Part 86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or Light Duty Hybrid Electric Vehicles, part 86 references California Exhaust Standards and Test Procedures for 2003 and Subsequent Model Zero-Emission Vehicles and 2001 and Subsequent Model Hybrid Electric Vehicles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oom for improvement in end of test criteria, retest criteria/ testing variability, complexity reduc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69707-D6F4-41D0-AA7D-89928214BA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urrent HEV Proced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ampling/ data collection additions to conventional vehic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Integrated Amp-hours (State of Charge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ull double UDDS (4 bag FTP), no stabilized substit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vaporative worse case emissions still requires 3 bag FTP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Unique Procedur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ynamometer Road Load Derivation (regenerative braking disabled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egenerative braking differences (on road versus dynamometer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anister load for non-integrated canist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0D631-8AD7-46F4-8331-5C66434677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urrent PHEV Proced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/ data collection additions to conventional HEV vehic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charge Amp hou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Unique Procedures (add. to conv. HEV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esting throughout entire charge deplete rang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harge deplete end of test criteri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99189-2A03-4C55-93F6-B54F4EECBA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ocedure Opportuniti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nd of Test Criteria (PHEV/ HEV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llow maximum effort for driver trace without terminating tes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harge sustain operation could be ended before CS SOC is reac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etest Criteria (PHEV/ HEV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tate of Charge correction fact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nergy Analysis, similar to Test Cycle Power Calculat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ll Electric Testing (EV/ PHEV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llow substitution for multiple vehicle applications of same battery using different vehicle loa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0154C-C11B-4CB9-A29B-5908D2F542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ocedure Concer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ouble Cold Jeopardy (PHEV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est on 4wd dynamometers where applicable (all regen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ast down Techniques without true mechanical neutral ( On-Roa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est Vehicle mil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ystem Durability beyond criteria pollutant impac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C2710-8738-4364-A430-D0834E8C07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eys to HEV Test Proced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rovide building blocks for array of possible CO2, criteria pollutant, and alternative fuel programs beyond worse case emission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lectric range/ us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O2 displac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zero emission” progra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lternative fuel program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vel Playing Fiel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est procedures that are unique to HEV are needed to quantify HEV operation and are not designed to benefit one technology over anoth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AF650-963F-4197-B022-3647674936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6-07T10:35:26Z</dcterms:created>
  <dc:creator>Cantrell</dc:creator>
  <dc:description/>
  <cp:keywords/>
  <dc:language>en-US</dc:language>
  <cp:lastModifiedBy>Michael Olechiw</cp:lastModifiedBy>
  <cp:lastPrinted>1994-06-14T11:05:34Z</cp:lastPrinted>
  <dcterms:modified xsi:type="dcterms:W3CDTF">2010-05-03T12:46:06Z</dcterms:modified>
  <cp:revision>156</cp:revision>
  <dc:subject>SLIDES</dc:subject>
  <dc:title>NRC Dust Reduction</dc:title>
</cp:coreProperties>
</file>