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239-3901-44FE-A6B0-BA7421A3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821-5432-4666-93D5-4A77225A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78B-7FC1-4DD6-A548-5232ECCF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198-C666-4EE8-ABF2-04EA2011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4A0-D7B6-4DAC-A7EB-0A248ED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CF3-7F9D-4210-8E81-DC9AD3B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CFA-160C-4DE6-803E-D8A7B78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CAF-2893-4A47-B2B2-08B124BC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472-2AC4-40C1-8DC3-9C976E02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25F-542B-433A-92FD-40750030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455-CFF5-4B32-B3DA-31787B6C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6CA-EC63-4DE1-B5AF-667964A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A6CF-667E-4947-BA1F-008941D7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TP subgroup will undertake the following 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ise a methodology for the development of a worldwide harmonized light-duty test proced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nthesize input from all WLTP DTP subgroup memb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and validate a world harmonized light-duty test procedure (activities to include validation, confirmation and round-robin tests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of tasks between DHC and DTP is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subgroups will be required to address specific issues.  Subgroups will work independently and report to the main DTP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WLTP-DTP group will be responsible for overall coordination of the subgroups, consistent drafting of the procedures, and resolution of gener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07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erminology referenc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ssions constitu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emissions, CO2, and fuel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Develop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 the D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est procedures of the WLTP-GTR must be defined with sufficient accuracy that future European  legislation can refer to them in an editorially transparent and consistent manner. - per EU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TP-GTR will be an international document and as such should reflect ISO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48:15Z</dcterms:created>
  <dc:creator>Michael Olechiw</dc:creator>
  <dc:description/>
  <dc:language>en-US</dc:language>
  <cp:lastModifiedBy>Michael Olechiw</cp:lastModifiedBy>
  <dcterms:modified xsi:type="dcterms:W3CDTF">2010-05-03T12:41:28Z</dcterms:modified>
  <cp:revision>6</cp:revision>
  <dc:subject/>
  <dc:title>Test Procedure Development Methodology</dc:title>
</cp:coreProperties>
</file>