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2A6-2E11-43C2-9384-F22C5B87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31F-371D-456D-A7AF-2BE26E2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E53-E8B7-4678-BEEB-DFD115C1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8A5-45CA-4153-8BE0-43B73CD1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87B-B099-49C3-B159-FC6A58EC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61F-6C76-4945-949A-0BF8F68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CB8-BC43-449D-8DE5-431CEECD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7A1-BD7D-424A-9FEF-86D819A8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010-F96B-4B7A-8036-2BDFCDB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8FB-4474-41E1-8401-6A061C1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39B-A0CC-4A71-BEC8-4318869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98A-045D-49B3-9F5B-D682C72E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EC33-F4A0-4976-BE31-FE90C6EE6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TP subgroup will undertake the following t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ise a methodology for the development of a worldwide harmonized light-duty test proced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nthesize input from all WLTP DTP subgroup memb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and validate a world harmonized light-duty test procedure (activities to include validation, confirmation and round-robin tests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tasks between DHC and DTP is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subgroups will be required to address specific issues.  Subgroups will work independently and report to the main DTP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WLTP-DTP group will be responsible for overall coordination of the subgroups, consistent drafting of the procedures, and resolution of gener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erminology referenc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ssions constitu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emissions, CO2, and fuel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 the D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est procedures of the WLTP-GTR must be defined with sufficient accuracy that future European  legislation can refer to them in an editorially transparent and consistent manner. - per EU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TP-GTR will be an international document and as such should reflect ISO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48:15Z</dcterms:created>
  <dc:creator>Michael Olechiw</dc:creator>
  <dc:description/>
  <dc:language>en-US</dc:language>
  <cp:lastModifiedBy>Michael Olechiw</cp:lastModifiedBy>
  <dcterms:modified xsi:type="dcterms:W3CDTF">2010-05-03T12:41:28Z</dcterms:modified>
  <cp:revision>6</cp:revision>
  <dc:subject/>
  <dc:title>Test Procedure Development Methodology</dc:title>
</cp:coreProperties>
</file>