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F22E-EBE5-484C-AF4E-0756A35B6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7706-8116-4B8B-BA1E-76417CB7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C540-3BC2-4131-8EC9-0377831A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AD4D-B2C2-4ECD-96FA-97E719F07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9009-298F-4BCC-B57D-FCA71863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792E-486F-46A1-9469-350B9A26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6340-275C-4D10-8F87-1A9B2783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AD57-9335-4410-BB5C-D652C3EB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4FD1-D41E-4011-9EFA-BE12F19B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B5CF-77FD-46CA-8397-87E0A853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B97C-F982-491D-B682-DECA327E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2239-5020-4F89-850B-1847BB3E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DA47-17E2-4A80-AB77-115AF3EBE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t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 days – 13 April 2010 ~ 15 April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oc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 Arbor, Michigan –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vite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representatives from GRPE signa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gen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 1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M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s of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DTP goals and road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bmit to DTP chairs by 15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rch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 1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M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ing propo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of propo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 2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M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discussion regarding draft 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M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 t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 3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M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TP discussions and review of open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M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ap-up and schedule for next DTP working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447920" y="276120"/>
          <a:ext cx="5965560" cy="1095480"/>
        </p:xfrm>
        <a:graphic>
          <a:graphicData uri="http://schemas.openxmlformats.org/drawingml/2006/table">
            <a:tbl>
              <a:tblPr/>
              <a:tblGrid>
                <a:gridCol w="1896840"/>
                <a:gridCol w="4068720"/>
              </a:tblGrid>
              <a:tr h="2746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WLTP DTP subgro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Da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1/01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it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TP Subgroup 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eeting – Proposed Age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Working Paper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WLTP-DTP-01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f you plan on attending or if you have questions, please cont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hael Olechi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PA/OAR/OTAQ/A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0 Traverwood Dr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n Arbor, MI 481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1-734-214-42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lechiw.michael@epa.g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447920" y="276120"/>
          <a:ext cx="5965560" cy="1095480"/>
        </p:xfrm>
        <a:graphic>
          <a:graphicData uri="http://schemas.openxmlformats.org/drawingml/2006/table">
            <a:tbl>
              <a:tblPr/>
              <a:tblGrid>
                <a:gridCol w="1896840"/>
                <a:gridCol w="4068720"/>
              </a:tblGrid>
              <a:tr h="276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WLTP DTP subgro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Da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1/01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it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TP Subgroup 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eeting – Proposed Age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Working Paper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WLTP-DTP-01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8:59:51Z</dcterms:created>
  <dc:creator>Michael Olechiw</dc:creator>
  <dc:description/>
  <dc:language>en-US</dc:language>
  <cp:lastModifiedBy>Romain HUBERT</cp:lastModifiedBy>
  <dcterms:modified xsi:type="dcterms:W3CDTF">2010-03-08T20:55:36Z</dcterms:modified>
  <cp:revision>10</cp:revision>
  <dc:subject/>
  <dc:title>Proposed Agenda for 1st DTP Working meeting</dc:title>
</cp:coreProperties>
</file>