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AD9-30F8-4D68-8899-176155A3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D6E-BFE2-4803-9055-C4238A5E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D00-B23B-465A-98A6-66FD1437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9DE-E473-4027-AAF1-E8A8C653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1EA-F0B5-4C8E-AF20-7ECF411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269-4646-4A50-83DB-803D981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21E-9C9C-4F18-B719-31F58CF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3C0-12F9-4108-8276-797DECA6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533-724C-4E30-989F-3D0E03CA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1C9-CB1F-4F2F-87B1-8FB4054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8B2-26D4-41C5-A5B8-3EF8DD83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819-6618-4BF9-803E-0D5E6FB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9FC-085A-4696-BA06-BC4588C5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days – 13 April 2010 ~ 15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 Arbor, Michigan –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vite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representatives from GRPE sign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TP goals and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mit to DTP chairs by 15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h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iscussion regarding draft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TP discussions and review of ope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-up and schedule for next DTP workin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76120"/>
          <a:ext cx="5965560" cy="1095480"/>
        </p:xfrm>
        <a:graphic>
          <a:graphicData uri="http://schemas.openxmlformats.org/drawingml/2006/table">
            <a:tbl>
              <a:tblPr/>
              <a:tblGrid>
                <a:gridCol w="1896840"/>
                <a:gridCol w="4068720"/>
              </a:tblGrid>
              <a:tr h="27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 DTP sub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/0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it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Subgroup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 – Proposed Ag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ing Paper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-DTP-01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f you plan on attending or if you have questions, please cont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Olechi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PA/OAR/OTAQ/A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0 Traverwood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 Arbor, MI 48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1-734-214-42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echiw.michael@ep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47920" y="276120"/>
          <a:ext cx="5965560" cy="1095480"/>
        </p:xfrm>
        <a:graphic>
          <a:graphicData uri="http://schemas.openxmlformats.org/drawingml/2006/table">
            <a:tbl>
              <a:tblPr/>
              <a:tblGrid>
                <a:gridCol w="1896840"/>
                <a:gridCol w="4068720"/>
              </a:tblGrid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 DTP sub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/0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it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Subgroup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 – Proposed Ag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ing Paper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-DTP-01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8:59:51Z</dcterms:created>
  <dc:creator>Michael Olechiw</dc:creator>
  <dc:description/>
  <dc:language>en-US</dc:language>
  <cp:lastModifiedBy>Romain HUBERT</cp:lastModifiedBy>
  <dcterms:modified xsi:type="dcterms:W3CDTF">2010-03-08T20:55:36Z</dcterms:modified>
  <cp:revision>10</cp:revision>
  <dc:subject/>
  <dc:title>Proposed Agenda for 1st DTP Working meeting</dc:title>
</cp:coreProperties>
</file>