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12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wmf" ContentType="image/x-wmf"/>
  <Override PartName="/ppt/media/image6.png" ContentType="image/png"/>
  <Override PartName="/ppt/media/image14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5AA78-C4F5-4033-B8BA-B5315DB19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E13F-5DCA-4B00-A7B7-77EB6A540B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2791-8898-4EC8-9DD8-C276143F9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FC17-51BF-430D-8036-2D21BBFB1A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F1DD1-DFC5-4275-85EE-AA6F1E3D42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774C-F540-4046-8AEA-8E33F7D6B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294D7-68C7-4AB3-97A9-9AC09CA8C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8F11-6C49-4EF4-89B0-6A3BD197A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720" y="19080"/>
            <a:ext cx="9124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3976F-0F33-426E-84DA-47770013EC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F9878-B649-491C-876A-06E3993AA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5D28-C0B6-4135-A06E-974A34360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49E9-63D3-42E1-A8B1-07E9A027F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2BAE-9133-41CA-BB96-3653AFFE2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588000" y="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LTP-DHC-05-05e rev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LTC* Co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by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PE/WLTP-IG/ DHC sub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4952880"/>
            <a:ext cx="3733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Octo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1. 17 Octo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88800" y="6247440"/>
            <a:ext cx="513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 WLTC : Worldwide harmonized Light-duty driving Test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54068-6BAE-478F-9146-25F41DA138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ld/Hot Start We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/Hot Start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1. How to obtain real-world emiss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2. Average Emission per Tr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3. Cold Start Trip Rat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4. Calculation of Cold Weighting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.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6. Requir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14CF8-F15D-41EB-AD5C-8AB8C86B90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 How to obtain real-world emission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55640" y="1530360"/>
            <a:ext cx="316692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 that should be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48360" y="1511280"/>
            <a:ext cx="3004920" cy="825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emission per 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030560" y="17445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6560" y="765000"/>
            <a:ext cx="25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4735440"/>
            <a:ext cx="2303640" cy="719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emission per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59280" y="4078440"/>
            <a:ext cx="3238200" cy="71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 during cold start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59280" y="5662440"/>
            <a:ext cx="3238200" cy="719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 during hot start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300" idx="3"/>
            <a:endCxn id="301" idx="1"/>
          </p:cNvCxnSpPr>
          <p:nvPr/>
        </p:nvCxnSpPr>
        <p:spPr>
          <a:xfrm flipV="1">
            <a:off x="2698560" y="4438080"/>
            <a:ext cx="361080" cy="65772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4" name=""/>
          <p:cNvCxnSpPr>
            <a:stCxn id="300" idx="3"/>
            <a:endCxn id="302" idx="1"/>
          </p:cNvCxnSpPr>
          <p:nvPr/>
        </p:nvCxnSpPr>
        <p:spPr>
          <a:xfrm>
            <a:off x="2698560" y="5095440"/>
            <a:ext cx="361080" cy="92772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5" name=""/>
          <p:cNvSpPr/>
          <p:nvPr/>
        </p:nvSpPr>
        <p:spPr>
          <a:xfrm>
            <a:off x="6732720" y="3573360"/>
            <a:ext cx="1942920" cy="719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 under cold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732720" y="4618080"/>
            <a:ext cx="1942920" cy="71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 under hot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1" idx="3"/>
            <a:endCxn id="305" idx="1"/>
          </p:cNvCxnSpPr>
          <p:nvPr/>
        </p:nvCxnSpPr>
        <p:spPr>
          <a:xfrm flipV="1">
            <a:off x="6297120" y="3933000"/>
            <a:ext cx="435960" cy="505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301" idx="3"/>
            <a:endCxn id="306" idx="1"/>
          </p:cNvCxnSpPr>
          <p:nvPr/>
        </p:nvCxnSpPr>
        <p:spPr>
          <a:xfrm>
            <a:off x="6297120" y="4438440"/>
            <a:ext cx="435960" cy="540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9" name=""/>
          <p:cNvCxnSpPr>
            <a:stCxn id="302" idx="3"/>
          </p:cNvCxnSpPr>
          <p:nvPr/>
        </p:nvCxnSpPr>
        <p:spPr>
          <a:xfrm>
            <a:off x="6297120" y="6022440"/>
            <a:ext cx="435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0" name=""/>
          <p:cNvSpPr/>
          <p:nvPr/>
        </p:nvSpPr>
        <p:spPr>
          <a:xfrm>
            <a:off x="466560" y="2852640"/>
            <a:ext cx="73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tail of average emission per 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45320" y="5656320"/>
            <a:ext cx="1942920" cy="71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 under hot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B849-3EA7-42C4-B6B3-0B3EDB376D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4572000" y="2203560"/>
            <a:ext cx="3097080" cy="22334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9280" y="2203560"/>
            <a:ext cx="3097440" cy="21621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720" y="56880"/>
            <a:ext cx="9124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. Average Emission per Trip and Cold Weight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0920" y="765000"/>
            <a:ext cx="8677080" cy="1136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Emission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g/km) formula is as foll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6560" y="2362320"/>
            <a:ext cx="10810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start emission under cold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47640" y="2533680"/>
            <a:ext cx="136872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start emission under hot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3311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58920" y="3311640"/>
            <a:ext cx="79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56000" y="3311640"/>
            <a:ext cx="79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6560" y="2022480"/>
            <a:ext cx="194328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start tr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48000" y="2779560"/>
            <a:ext cx="129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ff6699"/>
                </a:solidFill>
                <a:latin typeface="Arial"/>
              </a:rPr>
              <a:t>cold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632720" y="2779560"/>
            <a:ext cx="151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(1 - R</a:t>
            </a:r>
            <a:r>
              <a:rPr b="0" lang="en-US" sz="2000" spc="-1" strike="noStrike" baseline="-25000">
                <a:solidFill>
                  <a:srgbClr val="ff6699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97440" y="2852640"/>
            <a:ext cx="24829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start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3311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948360" y="3311640"/>
            <a:ext cx="7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859280" y="2060640"/>
            <a:ext cx="1943280" cy="276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start tr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547640" y="31780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916360" y="31780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8360" y="31780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380360" y="31399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897440" y="31399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3251160"/>
            <a:ext cx="2448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8360" y="3251160"/>
            <a:ext cx="1079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13280" y="3213000"/>
            <a:ext cx="2448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84360" y="3213000"/>
            <a:ext cx="79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3333cc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(g/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835280" y="3213000"/>
            <a:ext cx="79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(g/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3880" y="3213000"/>
            <a:ext cx="79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(g/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332000" y="3860640"/>
            <a:ext cx="79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CT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 (g/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5400000">
            <a:off x="1584360" y="2528640"/>
            <a:ext cx="215640" cy="2448000"/>
          </a:xfrm>
          <a:custGeom>
            <a:avLst/>
            <a:gdLst>
              <a:gd name="textAreaLeft" fmla="*/ 0 w 215640"/>
              <a:gd name="textAreaRight" fmla="*/ 77760 w 21564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080" y="4411800"/>
            <a:ext cx="3778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(*) E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CT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 = (E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 * D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cycle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 + E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 * (D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trip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 – D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cycle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))/ D</a:t>
            </a:r>
            <a:r>
              <a:rPr b="0" lang="en-US" sz="1400" spc="-1" strike="noStrike" baseline="-25000">
                <a:solidFill>
                  <a:srgbClr val="008000"/>
                </a:solidFill>
                <a:latin typeface="Arial"/>
              </a:rPr>
              <a:t>t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2280" y="4979880"/>
            <a:ext cx="579132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(1 –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(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*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(1-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*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W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1 - W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*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8000" y="4797360"/>
            <a:ext cx="885672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724360" y="4854600"/>
            <a:ext cx="324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old start we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old start trip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Average one trip distance (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yc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Cycle distance (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Cold start trip emission (g/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Hot start trip emission (g/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  Cold start emission (g/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  Hot start emission (g/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324480" y="3213000"/>
            <a:ext cx="792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00ff"/>
                </a:solidFill>
                <a:latin typeface="Arial"/>
              </a:rPr>
              <a:t>HT</a:t>
            </a:r>
            <a:r>
              <a:rPr b="0" lang="en-US" sz="1400" spc="-1" strike="noStrike">
                <a:solidFill>
                  <a:srgbClr val="ff00ff"/>
                </a:solidFill>
                <a:latin typeface="Arial"/>
              </a:rPr>
              <a:t> (g/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791320" y="32767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3BB45-6A60-452D-83B5-0016964103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 Cold Start Trip Rat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260360" y="2925720"/>
            <a:ext cx="0" cy="12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60360" y="4149720"/>
            <a:ext cx="230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260360" y="3105000"/>
            <a:ext cx="2232000" cy="1044720"/>
          </a:xfrm>
          <a:custGeom>
            <a:avLst/>
            <a:gdLst/>
            <a:ahLst/>
            <a:rect l="l" t="t" r="r" b="b"/>
            <a:pathLst>
              <a:path w="1406" h="658">
                <a:moveTo>
                  <a:pt x="0" y="658"/>
                </a:moveTo>
                <a:cubicBezTo>
                  <a:pt x="15" y="603"/>
                  <a:pt x="44" y="432"/>
                  <a:pt x="89" y="330"/>
                </a:cubicBezTo>
                <a:cubicBezTo>
                  <a:pt x="134" y="228"/>
                  <a:pt x="213" y="90"/>
                  <a:pt x="273" y="45"/>
                </a:cubicBezTo>
                <a:cubicBezTo>
                  <a:pt x="333" y="0"/>
                  <a:pt x="395" y="21"/>
                  <a:pt x="451" y="62"/>
                </a:cubicBezTo>
                <a:cubicBezTo>
                  <a:pt x="507" y="103"/>
                  <a:pt x="565" y="234"/>
                  <a:pt x="611" y="294"/>
                </a:cubicBezTo>
                <a:cubicBezTo>
                  <a:pt x="657" y="354"/>
                  <a:pt x="673" y="379"/>
                  <a:pt x="730" y="425"/>
                </a:cubicBezTo>
                <a:cubicBezTo>
                  <a:pt x="787" y="471"/>
                  <a:pt x="840" y="537"/>
                  <a:pt x="953" y="568"/>
                </a:cubicBezTo>
                <a:cubicBezTo>
                  <a:pt x="1066" y="599"/>
                  <a:pt x="1236" y="613"/>
                  <a:pt x="1406" y="61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60360" y="4941720"/>
            <a:ext cx="0" cy="12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60360" y="6165720"/>
            <a:ext cx="230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44520" y="5129280"/>
            <a:ext cx="2127240" cy="817560"/>
          </a:xfrm>
          <a:custGeom>
            <a:avLst/>
            <a:gdLst/>
            <a:ahLst/>
            <a:rect l="l" t="t" r="r" b="b"/>
            <a:pathLst>
              <a:path w="1340" h="515">
                <a:moveTo>
                  <a:pt x="0" y="65"/>
                </a:moveTo>
                <a:cubicBezTo>
                  <a:pt x="17" y="56"/>
                  <a:pt x="65" y="0"/>
                  <a:pt x="107" y="11"/>
                </a:cubicBezTo>
                <a:cubicBezTo>
                  <a:pt x="149" y="22"/>
                  <a:pt x="200" y="74"/>
                  <a:pt x="253" y="129"/>
                </a:cubicBezTo>
                <a:cubicBezTo>
                  <a:pt x="306" y="184"/>
                  <a:pt x="366" y="290"/>
                  <a:pt x="425" y="343"/>
                </a:cubicBezTo>
                <a:cubicBezTo>
                  <a:pt x="484" y="396"/>
                  <a:pt x="550" y="428"/>
                  <a:pt x="609" y="450"/>
                </a:cubicBezTo>
                <a:cubicBezTo>
                  <a:pt x="668" y="472"/>
                  <a:pt x="712" y="465"/>
                  <a:pt x="782" y="474"/>
                </a:cubicBezTo>
                <a:cubicBezTo>
                  <a:pt x="852" y="483"/>
                  <a:pt x="938" y="497"/>
                  <a:pt x="1031" y="504"/>
                </a:cubicBezTo>
                <a:cubicBezTo>
                  <a:pt x="1124" y="511"/>
                  <a:pt x="1289" y="513"/>
                  <a:pt x="1340" y="515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60360" y="5950080"/>
            <a:ext cx="2160720" cy="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81280" y="590544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ff"/>
                </a:solidFill>
                <a:latin typeface="Arial"/>
              </a:rPr>
              <a:t>Ambient tem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137880" y="34711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413080" y="4149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ak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44720" y="256536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of soak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44720" y="452268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start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3240" y="5407920"/>
            <a:ext cx="20336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oolant temp. drop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oolant tem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260000" y="3430440"/>
            <a:ext cx="86364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24000" y="3430440"/>
            <a:ext cx="0" cy="27352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260360" y="5148360"/>
            <a:ext cx="2168640" cy="0"/>
          </a:xfrm>
          <a:prstGeom prst="line">
            <a:avLst/>
          </a:prstGeom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124000" y="525780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13080" y="61657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ak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31920" y="6165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645080" y="2997360"/>
            <a:ext cx="3240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d start trip ratio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o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Rectangle 5"/>
              <p:cNvSpPr txBox="1"/>
              <p:nvPr/>
            </p:nvSpPr>
            <p:spPr>
              <a:xfrm>
                <a:off x="5018040" y="3878280"/>
                <a:ext cx="32259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ld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a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l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4645080" y="4618080"/>
            <a:ext cx="411804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old start trip ratio (= Average cold start emission increment rat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oa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Frequency of soak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old start factor (Coolant temp. drop ratio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429080" y="2781360"/>
            <a:ext cx="4321080" cy="37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04920" y="888840"/>
            <a:ext cx="8640720" cy="1373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the cold start trip ratio by multiplying the soak time distribution and the coolant temperature drop ratio as the emission increase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263600" y="5165640"/>
            <a:ext cx="2025720" cy="990720"/>
          </a:xfrm>
          <a:custGeom>
            <a:avLst/>
            <a:gdLst/>
            <a:ahLst/>
            <a:rect l="l" t="t" r="r" b="b"/>
            <a:pathLst>
              <a:path w="1276" h="624">
                <a:moveTo>
                  <a:pt x="0" y="624"/>
                </a:moveTo>
                <a:cubicBezTo>
                  <a:pt x="29" y="595"/>
                  <a:pt x="124" y="512"/>
                  <a:pt x="172" y="451"/>
                </a:cubicBezTo>
                <a:cubicBezTo>
                  <a:pt x="220" y="390"/>
                  <a:pt x="245" y="323"/>
                  <a:pt x="291" y="261"/>
                </a:cubicBezTo>
                <a:cubicBezTo>
                  <a:pt x="337" y="199"/>
                  <a:pt x="361" y="117"/>
                  <a:pt x="451" y="77"/>
                </a:cubicBezTo>
                <a:cubicBezTo>
                  <a:pt x="541" y="37"/>
                  <a:pt x="694" y="31"/>
                  <a:pt x="831" y="18"/>
                </a:cubicBezTo>
                <a:cubicBezTo>
                  <a:pt x="968" y="5"/>
                  <a:pt x="1183" y="4"/>
                  <a:pt x="127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62320" y="342900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soak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(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62320" y="525780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cold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(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800600" y="3809880"/>
            <a:ext cx="3657600" cy="685800"/>
          </a:xfrm>
          <a:prstGeom prst="flowChartAlternateProcess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5169-D706-461F-85BE-DB44DC16CB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50920" y="1627200"/>
            <a:ext cx="8785080" cy="35305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.1. Calculation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38480" y="2057400"/>
            <a:ext cx="2286000" cy="30708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/Mid. H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62120" y="1447920"/>
            <a:ext cx="19429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 Start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733920" y="23590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05560" y="23590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33920" y="2430360"/>
            <a:ext cx="1871640" cy="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149560" y="2430360"/>
            <a:ext cx="158436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95280" y="765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/Mid. cold + Low/Mid hot + High 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324480" y="2057400"/>
            <a:ext cx="2270160" cy="30708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H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973920" y="23590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5605560" y="2430000"/>
            <a:ext cx="1368360" cy="18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685800" y="2387520"/>
          <a:ext cx="7924680" cy="2470320"/>
        </p:xfrm>
        <a:graphic>
          <a:graphicData uri="http://schemas.openxmlformats.org/drawingml/2006/table">
            <a:tbl>
              <a:tblPr/>
              <a:tblGrid>
                <a:gridCol w="1487520"/>
                <a:gridCol w="1865160"/>
                <a:gridCol w="2286000"/>
                <a:gridCol w="2286000"/>
              </a:tblGrid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24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(k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r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ri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* W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ri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* W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ja-JP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,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ja-JP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rip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* W</a:t>
                      </a:r>
                      <a:r>
                        <a:rPr b="0" lang="ja-JP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LM 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D</a:t>
                      </a:r>
                      <a:r>
                        <a:rPr b="0" lang="ja-JP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,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ssion (g/k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,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,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,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2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</a:t>
                      </a:r>
                      <a:r>
                        <a:rPr b="0" lang="ja-JP" sz="1400" spc="-1" strike="noStrike" baseline="-25000">
                          <a:solidFill>
                            <a:srgbClr val="3333cc"/>
                          </a:solidFill>
                          <a:latin typeface="Arial"/>
                        </a:rPr>
                        <a:t>c,LM</a:t>
                      </a:r>
                      <a:r>
                        <a:rPr b="0" lang="ja-JP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* E</a:t>
                      </a:r>
                      <a:r>
                        <a:rPr b="0" lang="ja-JP" sz="1400" spc="-1" strike="noStrike" baseline="-25000">
                          <a:solidFill>
                            <a:srgbClr val="3333cc"/>
                          </a:solidFill>
                          <a:latin typeface="Arial"/>
                        </a:rPr>
                        <a:t>C,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(D</a:t>
                      </a:r>
                      <a:r>
                        <a:rPr b="0" lang="ja-JP" sz="1400" spc="-1" strike="noStrike" baseline="-25000">
                          <a:solidFill>
                            <a:srgbClr val="800080"/>
                          </a:solidFill>
                          <a:latin typeface="Arial"/>
                        </a:rPr>
                        <a:t>T</a:t>
                      </a:r>
                      <a:r>
                        <a:rPr b="0" lang="ja-JP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* W</a:t>
                      </a:r>
                      <a:r>
                        <a:rPr b="0" lang="ja-JP" sz="1400" spc="-1" strike="noStrike" baseline="-25000">
                          <a:solidFill>
                            <a:srgbClr val="800080"/>
                          </a:solidFill>
                          <a:latin typeface="Arial"/>
                        </a:rPr>
                        <a:t>LM </a:t>
                      </a:r>
                      <a:r>
                        <a:rPr b="0" lang="ja-JP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– D</a:t>
                      </a:r>
                      <a:r>
                        <a:rPr b="0" lang="ja-JP" sz="1400" spc="-1" strike="noStrike" baseline="-25000">
                          <a:solidFill>
                            <a:srgbClr val="800080"/>
                          </a:solidFill>
                          <a:latin typeface="Arial"/>
                        </a:rPr>
                        <a:t>c,LM</a:t>
                      </a:r>
                      <a:r>
                        <a:rPr b="0" lang="ja-JP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) * E</a:t>
                      </a:r>
                      <a:r>
                        <a:rPr b="0" lang="ja-JP" sz="1400" spc="-1" strike="noStrike" baseline="-25000">
                          <a:solidFill>
                            <a:srgbClr val="800080"/>
                          </a:solidFill>
                          <a:latin typeface="Arial"/>
                        </a:rPr>
                        <a:t>H,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</a:t>
                      </a:r>
                      <a:r>
                        <a:rPr b="0" lang="en-US" sz="1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trip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* W</a:t>
                      </a:r>
                      <a:r>
                        <a:rPr b="0" lang="en-US" sz="1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) * E</a:t>
                      </a:r>
                      <a:r>
                        <a:rPr b="0" lang="en-US" sz="1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H,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9" name=""/>
          <p:cNvSpPr/>
          <p:nvPr/>
        </p:nvSpPr>
        <p:spPr>
          <a:xfrm>
            <a:off x="739800" y="5715000"/>
            <a:ext cx="79470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E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CT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 = M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C,T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 / D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= (D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c,LM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 * E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C,LM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 + (D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trip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 * W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LM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 – D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c,LM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) * E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H,LM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 + (D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trip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 * W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) * E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H,H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) / D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6200" y="5300640"/>
            <a:ext cx="85694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mission during cold start trip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CT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(g/k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79600" y="6461280"/>
            <a:ext cx="1339920" cy="0"/>
          </a:xfrm>
          <a:prstGeom prst="line">
            <a:avLst/>
          </a:prstGeom>
          <a:ln w="475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6477120"/>
            <a:ext cx="2362320" cy="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6477120"/>
            <a:ext cx="158436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772400" y="6477120"/>
            <a:ext cx="5047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154240" y="2057400"/>
            <a:ext cx="1884240" cy="30708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/Mid. C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4F74-4EA7-4742-984F-82D0FFC637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.2 Calculation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2600" y="2093760"/>
            <a:ext cx="53640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H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= W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LM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* E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H,LM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* E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H,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" y="1557360"/>
            <a:ext cx="56880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◆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mission during hot start trip E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H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(g/k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3276720"/>
            <a:ext cx="861048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1 –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,L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*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,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,L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*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,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,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WF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Arial"/>
              </a:rPr>
              <a:t>LM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,L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WF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Arial"/>
              </a:rPr>
              <a:t>LM,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,L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WF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Arial"/>
              </a:rPr>
              <a:t>H,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,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2706840"/>
            <a:ext cx="48960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emission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/k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52600" y="5270400"/>
            <a:ext cx="54370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WF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Arial"/>
              </a:rPr>
              <a:t>LM,C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 = D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Arial"/>
              </a:rPr>
              <a:t>c,LM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 * R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 / D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Arial"/>
              </a:rPr>
              <a:t>tr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WF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Arial"/>
              </a:rPr>
              <a:t>LM,H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 = W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Arial"/>
              </a:rPr>
              <a:t>LM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 – D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Arial"/>
              </a:rPr>
              <a:t>c,LM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 * R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 / D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Arial"/>
              </a:rPr>
              <a:t>tr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WF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Arial"/>
              </a:rPr>
              <a:t>H,H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 = W</a:t>
            </a:r>
            <a:r>
              <a:rPr b="0" lang="en-US" sz="2000" spc="-1" strike="noStrike" baseline="-25000">
                <a:solidFill>
                  <a:srgbClr val="ff00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" y="4886280"/>
            <a:ext cx="49687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◆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Cold/Hot weighting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95280" y="765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ow/Mid. cold + Low/Mid hot + High hot (conti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06920" y="1900080"/>
            <a:ext cx="1731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/Mid.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21826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506920" y="2187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22760" y="2260440"/>
            <a:ext cx="16401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989680" y="2265480"/>
            <a:ext cx="79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H,LM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(g/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238880" y="1900080"/>
            <a:ext cx="1676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772400" y="2265480"/>
            <a:ext cx="79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H,H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(g/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915400" y="22035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256520" y="2259000"/>
            <a:ext cx="16398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620120" y="1579680"/>
            <a:ext cx="99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* W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867280" y="1579680"/>
            <a:ext cx="99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r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* W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L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181480" y="1427040"/>
            <a:ext cx="3886200" cy="14479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316480" y="1295280"/>
            <a:ext cx="11606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start tr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842F1-B8BF-4B7D-9DD1-15A5DE8C3C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.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4000" y="3141720"/>
            <a:ext cx="8569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quired information/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e the following two items based on actual vehicle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stribution of soak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riving distance per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e the following based on engine bench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olant temperature drop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cycle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atio of traffic volume in each phase (L/M/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162920" y="4114800"/>
            <a:ext cx="215640" cy="1224000"/>
          </a:xfrm>
          <a:custGeom>
            <a:avLst/>
            <a:gdLst>
              <a:gd name="textAreaLeft" fmla="*/ 0 w 215640"/>
              <a:gd name="textAreaRight" fmla="*/ 7776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781680" y="5334120"/>
            <a:ext cx="21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 Japan, these figures are obtained based on survey and traffic sens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25520" y="851040"/>
            <a:ext cx="864216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◆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alcul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73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cold start trip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the cold start ratio by multiplying the soak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 and the  coolant temperature drop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73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cold start 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the cold start WF based on average one trip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d start trip ratio and test cycle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1BEFA-8068-4E08-9E98-5B07B28FBA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6. Required Data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9280" y="8366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istribution of soak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371600"/>
          <a:ext cx="4087800" cy="4803840"/>
        </p:xfrm>
        <a:graphic>
          <a:graphicData uri="http://schemas.openxmlformats.org/drawingml/2006/table">
            <a:tbl>
              <a:tblPr/>
              <a:tblGrid>
                <a:gridCol w="1382760"/>
                <a:gridCol w="1352520"/>
                <a:gridCol w="1352520"/>
              </a:tblGrid>
              <a:tr h="2606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k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nger C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 duty commercial veh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ou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60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– 0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 – 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– 0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 – 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 – 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 – 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 – 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 – 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 – 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 – 9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 – 1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 – 2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60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0 -48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0 -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58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500720" y="1052640"/>
            <a:ext cx="4570200" cy="48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D09EA-3159-4BA6-AC2A-B30CC5BB82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6. Required Data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6680" y="76212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◆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ld start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52280" y="1268280"/>
          <a:ext cx="4262040" cy="4903920"/>
        </p:xfrm>
        <a:graphic>
          <a:graphicData uri="http://schemas.openxmlformats.org/drawingml/2006/table">
            <a:tbl>
              <a:tblPr/>
              <a:tblGrid>
                <a:gridCol w="852120"/>
                <a:gridCol w="852480"/>
                <a:gridCol w="852480"/>
                <a:gridCol w="852480"/>
                <a:gridCol w="852480"/>
              </a:tblGrid>
              <a:tr h="4154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k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nger c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 duty commercial veh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lant tem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start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lant tem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start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4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ou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℃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℃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60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– 0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3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 – 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3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– 0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 – 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5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 – 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3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 – 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5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 – 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 – 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 – 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 – 9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 – 1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 – 2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0 -48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4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0 -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4932360" y="1962000"/>
            <a:ext cx="3438360" cy="326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12A2E-75C4-4A52-8091-6F8A983037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Gear Shift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ar Shift Poi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1. Analysi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2. How to define the gear posit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3. Definition of Shift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4. Factor Analysis / Frequency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5. Regress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6. Analysis Sample (JC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9D440-69D7-45CB-88B7-5DE1AEA9DD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9144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cl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/Hot Start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ar Shif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680" y="442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8F3F6-738F-4FE1-AFFD-C3FCFC5834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. Analysis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3" descr=""/>
          <p:cNvPicPr/>
          <p:nvPr/>
        </p:nvPicPr>
        <p:blipFill>
          <a:blip r:embed="rId1"/>
          <a:stretch/>
        </p:blipFill>
        <p:spPr>
          <a:xfrm>
            <a:off x="4568760" y="1803240"/>
            <a:ext cx="1500120" cy="11289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"/>
          <p:cNvPicPr/>
          <p:nvPr/>
        </p:nvPicPr>
        <p:blipFill>
          <a:blip r:embed="rId2"/>
          <a:stretch/>
        </p:blipFill>
        <p:spPr>
          <a:xfrm>
            <a:off x="6224760" y="1803240"/>
            <a:ext cx="1496880" cy="11322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"/>
          <p:cNvPicPr/>
          <p:nvPr/>
        </p:nvPicPr>
        <p:blipFill>
          <a:blip r:embed="rId3"/>
          <a:stretch/>
        </p:blipFill>
        <p:spPr>
          <a:xfrm>
            <a:off x="4497480" y="5530680"/>
            <a:ext cx="4038480" cy="100512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6"/>
          <p:cNvSpPr/>
          <p:nvPr/>
        </p:nvSpPr>
        <p:spPr>
          <a:xfrm>
            <a:off x="380880" y="1855800"/>
            <a:ext cx="359892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-use 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380880" y="3079800"/>
            <a:ext cx="3598920" cy="86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380880" y="4232160"/>
            <a:ext cx="35989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ression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Shift point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380880" y="5530680"/>
            <a:ext cx="3598920" cy="86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AutoShape 10"/>
          <p:cNvCxnSpPr>
            <a:stCxn id="436" idx="2"/>
            <a:endCxn id="437" idx="0"/>
          </p:cNvCxnSpPr>
          <p:nvPr/>
        </p:nvCxnSpPr>
        <p:spPr>
          <a:xfrm>
            <a:off x="2180880" y="2719080"/>
            <a:ext cx="1080" cy="36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1" name="AutoShape 11"/>
          <p:cNvCxnSpPr>
            <a:stCxn id="437" idx="2"/>
            <a:endCxn id="438" idx="0"/>
          </p:cNvCxnSpPr>
          <p:nvPr/>
        </p:nvCxnSpPr>
        <p:spPr>
          <a:xfrm>
            <a:off x="2180880" y="3943440"/>
            <a:ext cx="1080" cy="289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AutoShape 12"/>
          <p:cNvCxnSpPr>
            <a:stCxn id="438" idx="2"/>
            <a:endCxn id="439" idx="0"/>
          </p:cNvCxnSpPr>
          <p:nvPr/>
        </p:nvCxnSpPr>
        <p:spPr>
          <a:xfrm>
            <a:off x="2180880" y="5095800"/>
            <a:ext cx="1080" cy="435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Text Box 13"/>
          <p:cNvSpPr/>
          <p:nvPr/>
        </p:nvSpPr>
        <p:spPr>
          <a:xfrm>
            <a:off x="4347720" y="4629240"/>
            <a:ext cx="27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(x)=a*V+b*A+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4" descr=""/>
          <p:cNvPicPr/>
          <p:nvPr/>
        </p:nvPicPr>
        <p:blipFill>
          <a:blip r:embed="rId4"/>
          <a:stretch/>
        </p:blipFill>
        <p:spPr>
          <a:xfrm>
            <a:off x="4565520" y="3308400"/>
            <a:ext cx="1241640" cy="119844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15"/>
          <p:cNvSpPr/>
          <p:nvPr/>
        </p:nvSpPr>
        <p:spPr>
          <a:xfrm>
            <a:off x="380880" y="762120"/>
            <a:ext cx="8458200" cy="898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gear shift points based on in-use survey to represent the real driving behavi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3"/>
          <p:cNvSpPr/>
          <p:nvPr/>
        </p:nvSpPr>
        <p:spPr>
          <a:xfrm>
            <a:off x="4502520" y="3067200"/>
            <a:ext cx="160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ar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F5FB6-09AF-4C17-9CE3-83F8FAB46A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 How to define the gear posi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009800"/>
            <a:ext cx="83059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ase of manual gear shift, the formula for calculating vehicle speed would be the following if the clutch was engag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quently, gear position can be defined by calculating gear ratio during dr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Rectangle 5"/>
              <p:cNvSpPr txBox="1"/>
              <p:nvPr/>
            </p:nvSpPr>
            <p:spPr>
              <a:xfrm>
                <a:off x="1905120" y="3076560"/>
                <a:ext cx="17478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ς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πρ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Νε</m:t>
                        </m:r>
                      </m:num>
                      <m:den>
                        <m:sSub>
                          <m:e>
                            <m:r>
                              <m:t xml:space="preserve">ι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ι</m:t>
                            </m:r>
                          </m:e>
                          <m:sub>
                            <m:r>
                              <m:t xml:space="preserve">φ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0" name=""/>
          <p:cNvSpPr/>
          <p:nvPr/>
        </p:nvSpPr>
        <p:spPr>
          <a:xfrm>
            <a:off x="4648320" y="2514600"/>
            <a:ext cx="3352680" cy="22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: Vehicle speed (km/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: Engine speed (1/m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: radius of t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 baseline="-2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Gear rat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 baseline="-20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final reduction rat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169FA-7011-4C61-9EED-A6FBF0D432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 Definition of Shif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7960" y="863640"/>
            <a:ext cx="81532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up_1: Clutch release point for up-shif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up_2: Clutch engage point after putting in higher g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down_1: Clutch release point for down-shifting or 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Rectangle 5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607440" cy="449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CB5DD-3125-4836-ABBC-9C1BEC89AB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. Factor Analysis / Frequency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4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vehicle speed in each gear position (both up-shift and down-shift), then generate various frequency distribution by each vehicle category and analyze the factors that effect shift op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 speed frequency distribution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km/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km/h  ste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 acceleration frequency distribution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km/h/s, 1km/h/s ste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 speed frequency distribution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0 rpm, 100rpm ste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ed engine speed frequency distribution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%, 10 % ste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7D21E-37B6-45BC-AB6F-32B967304C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.1. Regress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6320" y="660240"/>
            <a:ext cx="8991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the shift point equation by Stepwise selection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69800" y="1109520"/>
          <a:ext cx="8229600" cy="5494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ent 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ory 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a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 rowSpan="17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 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speed (km/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 speed (1/mi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ized engine speed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ion (km/h/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 M1, 2: N1, 3: N2,,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l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 Petrol, 2: Diesel, 3: LPG,,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g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b weight (k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pay load (k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 vehicle weight (k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cement (c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power (k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torque (N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to mass ratio (kW/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rque to mass ratio (Nm/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ized vehicle weigh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n = Curb weight / GV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ve train coefficient (DT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 slide 3.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98AEA-916B-4D05-AD7E-6789128237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.2. Drive Train Coefficient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5219640" y="4950000"/>
            <a:ext cx="3529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C : Drive Train Co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395280" y="1268280"/>
            <a:ext cx="446400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6" descr=""/>
          <p:cNvPicPr/>
          <p:nvPr/>
        </p:nvPicPr>
        <p:blipFill>
          <a:blip r:embed="rId1"/>
          <a:stretch/>
        </p:blipFill>
        <p:spPr>
          <a:xfrm>
            <a:off x="538200" y="1413000"/>
            <a:ext cx="4038480" cy="223992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7"/>
          <p:cNvSpPr/>
          <p:nvPr/>
        </p:nvSpPr>
        <p:spPr>
          <a:xfrm>
            <a:off x="826920" y="4254480"/>
            <a:ext cx="3600720" cy="149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πr / (im * if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：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ning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er engine speed        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：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ire radiu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：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ar ratio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：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nal reduction gear rat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：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ehicle speed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m/h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：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ngine speed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pm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Object 8"/>
              <p:cNvSpPr txBox="1"/>
              <p:nvPr/>
            </p:nvSpPr>
            <p:spPr>
              <a:xfrm>
                <a:off x="1784520" y="3657600"/>
                <a:ext cx="15080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5" name="Rectangle 10"/>
          <p:cNvSpPr/>
          <p:nvPr/>
        </p:nvSpPr>
        <p:spPr>
          <a:xfrm>
            <a:off x="5219640" y="1247760"/>
            <a:ext cx="3600360" cy="3476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1" descr=""/>
          <p:cNvPicPr/>
          <p:nvPr/>
        </p:nvPicPr>
        <p:blipFill>
          <a:blip r:embed="rId2"/>
          <a:stretch/>
        </p:blipFill>
        <p:spPr>
          <a:xfrm>
            <a:off x="5435640" y="1674720"/>
            <a:ext cx="2951280" cy="290664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12"/>
          <p:cNvSpPr/>
          <p:nvPr/>
        </p:nvSpPr>
        <p:spPr>
          <a:xfrm>
            <a:off x="6559560" y="13525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y = DTC * G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7932600" y="427356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4"/>
          <p:cNvSpPr/>
          <p:nvPr/>
        </p:nvSpPr>
        <p:spPr>
          <a:xfrm>
            <a:off x="7451640" y="1700280"/>
            <a:ext cx="216000" cy="865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629160" y="2647800"/>
            <a:ext cx="1143000" cy="39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l reduction g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F83FA-161A-483B-AE64-5F827A68C38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.1. Analysis Sample (JC08) - shift up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Rectangle 5" descr=""/>
          <p:cNvPicPr/>
          <p:nvPr/>
        </p:nvPicPr>
        <p:blipFill>
          <a:blip r:embed="rId1"/>
          <a:stretch/>
        </p:blipFill>
        <p:spPr>
          <a:xfrm>
            <a:off x="876240" y="907920"/>
            <a:ext cx="7373880" cy="573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11511-D6EF-43AC-A6E3-5899A5DF88E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.2. Analysis Sample (JC08) - downshift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Rectangle 5" descr=""/>
          <p:cNvPicPr/>
          <p:nvPr/>
        </p:nvPicPr>
        <p:blipFill>
          <a:blip r:embed="rId1"/>
          <a:stretch/>
        </p:blipFill>
        <p:spPr>
          <a:xfrm>
            <a:off x="885960" y="836640"/>
            <a:ext cx="7359480" cy="58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39AD6-6495-46AD-B371-CF830B49D58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.3. Analysis Sample (JC08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anatory variable of shift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Rectangle 5" descr=""/>
          <p:cNvPicPr/>
          <p:nvPr/>
        </p:nvPicPr>
        <p:blipFill>
          <a:blip r:embed="rId1"/>
          <a:stretch/>
        </p:blipFill>
        <p:spPr>
          <a:xfrm>
            <a:off x="219240" y="1066680"/>
            <a:ext cx="8677080" cy="42753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457200" y="5638680"/>
            <a:ext cx="821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completion of all data acquisition, the explanatory variable will be determined based on stepwise selection metho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894E2-319C-4465-99AB-DB65CE1B890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.4. Analysis Sample (JC08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anatory variable of downshi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Rectangle 5" descr=""/>
          <p:cNvPicPr/>
          <p:nvPr/>
        </p:nvPicPr>
        <p:blipFill>
          <a:blip r:embed="rId1"/>
          <a:stretch/>
        </p:blipFill>
        <p:spPr>
          <a:xfrm>
            <a:off x="219240" y="990720"/>
            <a:ext cx="8677080" cy="42750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457200" y="5638680"/>
            <a:ext cx="821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2360" indent="-252360"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completion of all data acquisition, the explanatory variable will be determined based on stepwise selection metho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17CB0-7CAF-4EF2-B559-EB9150AF1E1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ycl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cl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1. Current Test Cycle in EU, US and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. Requirement on Test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3. Case Study of Cycle 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29BA2-A156-47F9-8958-47BCCFB085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.5. Analysis Sample (JC08) - Gearshift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84358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(x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Gearshift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Speed in 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Acceleration in km/h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Normalized vehicle weight (Curb weight / GV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Engine speed in r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Drive train co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Rectangle 5"/>
              <p:cNvSpPr txBox="1"/>
              <p:nvPr/>
            </p:nvSpPr>
            <p:spPr>
              <a:xfrm>
                <a:off x="826920" y="1440000"/>
                <a:ext cx="76327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76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781200" y="2451240"/>
                <a:ext cx="806580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ow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24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3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29</m:t>
                    </m:r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5" name=""/>
          <p:cNvSpPr/>
          <p:nvPr/>
        </p:nvSpPr>
        <p:spPr>
          <a:xfrm>
            <a:off x="482760" y="5549760"/>
            <a:ext cx="821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2360" indent="-252360"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completion of all data acquisition, the gearshift equation for WLTC will be develop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6174-EB5C-4DB4-B24A-EC7C34EF63E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.6. Analysis Sample (JC08) – Final Shift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6576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 Categ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enger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ht Du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rcial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Rectangle 5" descr=""/>
          <p:cNvPicPr/>
          <p:nvPr/>
        </p:nvPicPr>
        <p:blipFill>
          <a:blip r:embed="rId1"/>
          <a:stretch/>
        </p:blipFill>
        <p:spPr>
          <a:xfrm>
            <a:off x="3645000" y="1003320"/>
            <a:ext cx="5333760" cy="29718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7203960" y="2220840"/>
            <a:ext cx="254160" cy="238320"/>
          </a:xfrm>
          <a:prstGeom prst="star5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445000" y="2516040"/>
            <a:ext cx="252360" cy="238320"/>
          </a:xfrm>
          <a:prstGeom prst="star5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391520" y="2438280"/>
            <a:ext cx="533160" cy="1600200"/>
          </a:xfrm>
          <a:prstGeom prst="line">
            <a:avLst/>
          </a:prstGeom>
          <a:ln w="255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029200" y="2742840"/>
            <a:ext cx="533520" cy="121932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105600" y="1119240"/>
            <a:ext cx="1212840" cy="245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76320" y="5105520"/>
            <a:ext cx="4444920" cy="16272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4648320" y="5105520"/>
            <a:ext cx="4419360" cy="161748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457200" y="4724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assenger c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724280" y="47242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Light duty commercial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213680" y="4051440"/>
            <a:ext cx="17524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of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n=0.80, DTC=0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191120" y="3962520"/>
            <a:ext cx="1981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of LDC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n=0.58, DTC=0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95AD2-267B-4B79-8567-94B6E26BF43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. Current Cycl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3520" y="838080"/>
          <a:ext cx="815328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2389320"/>
                <a:gridCol w="1646280"/>
                <a:gridCol w="1536480"/>
                <a:gridCol w="159084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 / R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gressive 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 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29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start         Ho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50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29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star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1"/>
          <a:srcRect l="15890" t="41428" r="43224" b="23178"/>
          <a:stretch/>
        </p:blipFill>
        <p:spPr>
          <a:xfrm>
            <a:off x="3975120" y="2019240"/>
            <a:ext cx="1523880" cy="741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16108" t="28552" r="43283" b="37791"/>
          <a:stretch/>
        </p:blipFill>
        <p:spPr>
          <a:xfrm>
            <a:off x="7169040" y="2057400"/>
            <a:ext cx="1454400" cy="676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16258" t="26953" r="43468" b="38465"/>
          <a:stretch/>
        </p:blipFill>
        <p:spPr>
          <a:xfrm>
            <a:off x="5626080" y="2070000"/>
            <a:ext cx="1416240" cy="68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rcRect l="16197" t="30172" r="43429" b="35822"/>
          <a:stretch/>
        </p:blipFill>
        <p:spPr>
          <a:xfrm>
            <a:off x="1663560" y="1955880"/>
            <a:ext cx="1981440" cy="938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rcRect l="15948" t="27878" r="43675" b="37451"/>
          <a:stretch/>
        </p:blipFill>
        <p:spPr>
          <a:xfrm>
            <a:off x="2844720" y="3086280"/>
            <a:ext cx="2584440" cy="1247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16200000">
            <a:off x="2359080" y="220608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0 min.so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680" y="5892840"/>
            <a:ext cx="8076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rding to WLTP-DHC-05-04, Urban/Rural/Motorway phase will be converted to Low/Middle/High phase respe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rcRect l="24501" t="32815" r="7322" b="23788"/>
          <a:stretch/>
        </p:blipFill>
        <p:spPr>
          <a:xfrm>
            <a:off x="2997360" y="4572000"/>
            <a:ext cx="2412720" cy="1066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26400" y="5029200"/>
            <a:ext cx="140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independent 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 precondition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0574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37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57480" y="2038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50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2438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76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2438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60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001000" y="20574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60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320976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18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4572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20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9913-8106-495D-982C-F64CD180D9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4160" y="3340080"/>
            <a:ext cx="5029200" cy="32004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 test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ener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 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comm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power 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. Requirement on Test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838080"/>
            <a:ext cx="6019560" cy="365760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ing characte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 start (e.g. 6 or 12 hours soa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soak (e.g. 10 min. soa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 up (e.g. 15 min. drive @ 60kp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l consumption/G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01400" y="2463840"/>
            <a:ext cx="138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91120" y="3314880"/>
            <a:ext cx="4647960" cy="320040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 rest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ssis dynamo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 analysis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sample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724280" y="2819520"/>
            <a:ext cx="289584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AC7F-62F0-429D-84C0-018719C836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.1. Case Study of Cycl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40360" y="836640"/>
            <a:ext cx="4824360" cy="5716440"/>
          </a:xfrm>
          <a:custGeom>
            <a:avLst/>
            <a:gdLst>
              <a:gd name="textAreaLeft" fmla="*/ 51480 w 4824360"/>
              <a:gd name="textAreaRight" fmla="*/ 4772880 w 4824360"/>
              <a:gd name="textAreaTop" fmla="*/ 51480 h 5716440"/>
              <a:gd name="textAreaBottom" fmla="*/ 5664960 h 5716440"/>
            </a:gdLst>
            <a:ahLst/>
            <a:rect l="textAreaLeft" t="textAreaTop" r="textAreaRight" b="textAreaBottom"/>
            <a:pathLst>
              <a:path w="21600" h="25594">
                <a:moveTo>
                  <a:pt x="789" y="0"/>
                </a:moveTo>
                <a:arcTo wR="789" hR="789" stAng="16200000" swAng="-5400000"/>
                <a:lnTo>
                  <a:pt x="0" y="24805"/>
                </a:lnTo>
                <a:arcTo wR="789" hR="789" stAng="10800000" swAng="-5400000"/>
                <a:lnTo>
                  <a:pt x="20811" y="25594"/>
                </a:lnTo>
                <a:arcTo wR="789" hR="789" stAng="5400000" swAng="-5400000"/>
                <a:lnTo>
                  <a:pt x="21600" y="789"/>
                </a:lnTo>
                <a:arcTo wR="789" hR="789" stAng="0" swAng="-5400000"/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24000" y="907920"/>
            <a:ext cx="3743280" cy="2665440"/>
            <a:chOff x="324000" y="907920"/>
            <a:chExt cx="3743280" cy="2665440"/>
          </a:xfrm>
        </p:grpSpPr>
        <p:sp>
          <p:nvSpPr>
            <p:cNvPr id="78" name=""/>
            <p:cNvSpPr/>
            <p:nvPr/>
          </p:nvSpPr>
          <p:spPr>
            <a:xfrm>
              <a:off x="1116000" y="248760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on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640" y="2176560"/>
              <a:ext cx="338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23840" y="1806480"/>
              <a:ext cx="936720" cy="38124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05120" y="1654200"/>
              <a:ext cx="936360" cy="53352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190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19520" y="1273320"/>
              <a:ext cx="914400" cy="91440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62240" y="1832040"/>
              <a:ext cx="46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52800" y="181764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66920" y="1822320"/>
              <a:ext cx="4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08000" y="2254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52640" y="2259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28720" y="248760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08000" y="2487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52640" y="24876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01960" y="248760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on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38320" y="248760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on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36720" y="2990880"/>
              <a:ext cx="13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 = 1:1:1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4000" y="907920"/>
              <a:ext cx="3743280" cy="2665440"/>
            </a:xfrm>
            <a:prstGeom prst="roundRect">
              <a:avLst>
                <a:gd name="adj" fmla="val 9051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4000" y="907920"/>
              <a:ext cx="340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.  1:1:1 (≒WMT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140360" y="836640"/>
            <a:ext cx="4752720" cy="2841840"/>
            <a:chOff x="4140360" y="836640"/>
            <a:chExt cx="4752720" cy="2841840"/>
          </a:xfrm>
        </p:grpSpPr>
        <p:sp>
          <p:nvSpPr>
            <p:cNvPr id="97" name=""/>
            <p:cNvSpPr/>
            <p:nvPr/>
          </p:nvSpPr>
          <p:spPr>
            <a:xfrm>
              <a:off x="5435640" y="241920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72360" y="2419200"/>
              <a:ext cx="50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36000" y="241920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59280" y="2182680"/>
              <a:ext cx="338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81480" y="1828800"/>
              <a:ext cx="720720" cy="33804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3600" y="1655640"/>
              <a:ext cx="1224000" cy="53352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190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162920" y="1295280"/>
              <a:ext cx="446040" cy="91440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18288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00800" y="1838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38880" y="18288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40360" y="2260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72280" y="22654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48360" y="249408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40360" y="249408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72280" y="2494080"/>
              <a:ext cx="4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4800600" y="2894040"/>
                  <a:ext cx="3625920" cy="77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imeRatio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3" name=""/>
            <p:cNvSpPr/>
            <p:nvPr/>
          </p:nvSpPr>
          <p:spPr>
            <a:xfrm>
              <a:off x="5410080" y="340200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 = L,M,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40360" y="836640"/>
              <a:ext cx="475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. Based on statistical data (≒WHD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5" name="Rectangle 5"/>
              <p:cNvSpPr txBox="1"/>
              <p:nvPr/>
            </p:nvSpPr>
            <p:spPr>
              <a:xfrm>
                <a:off x="4876920" y="4191120"/>
                <a:ext cx="3504960" cy="20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6629400" y="61815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. WLTP-DHC-03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4038480"/>
            <a:ext cx="4114800" cy="24386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04920" y="3809880"/>
            <a:ext cx="3886200" cy="2819520"/>
            <a:chOff x="304920" y="3809880"/>
            <a:chExt cx="3886200" cy="2819520"/>
          </a:xfrm>
        </p:grpSpPr>
        <p:sp>
          <p:nvSpPr>
            <p:cNvPr id="119" name=""/>
            <p:cNvSpPr/>
            <p:nvPr/>
          </p:nvSpPr>
          <p:spPr>
            <a:xfrm>
              <a:off x="304920" y="3809880"/>
              <a:ext cx="3733560" cy="2819520"/>
            </a:xfrm>
            <a:prstGeom prst="roundRect">
              <a:avLst>
                <a:gd name="adj" fmla="val 9051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480" y="5105520"/>
              <a:ext cx="21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30560" y="510552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4640" y="4757760"/>
              <a:ext cx="720720" cy="33804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5880" y="4545000"/>
              <a:ext cx="1224000" cy="53352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190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30240" y="4724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62280" y="4724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00400" y="4218120"/>
              <a:ext cx="446040" cy="91440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89320" y="47293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880" y="3809880"/>
              <a:ext cx="350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. Compromised way (≒LA4+HW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96760" y="518796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33480" y="5187960"/>
              <a:ext cx="50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38280" y="6019920"/>
              <a:ext cx="1752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600~7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1840" y="5029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66880" y="5029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9480" y="526248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01840" y="526248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00400" y="5262480"/>
              <a:ext cx="42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00400" y="5029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57600" y="5029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1561680" y="4762440"/>
              <a:ext cx="228600" cy="19810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4920" y="5943600"/>
              <a:ext cx="22096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1200~137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5AF67-5D71-44B8-A344-FAC390EA61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.2. Repeat Drive Cycle – A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952880" y="3886200"/>
            <a:ext cx="3960720" cy="2590560"/>
            <a:chOff x="4952880" y="3886200"/>
            <a:chExt cx="3960720" cy="2590560"/>
          </a:xfrm>
        </p:grpSpPr>
        <p:sp>
          <p:nvSpPr>
            <p:cNvPr id="143" name=""/>
            <p:cNvSpPr/>
            <p:nvPr/>
          </p:nvSpPr>
          <p:spPr>
            <a:xfrm>
              <a:off x="5384520" y="4495680"/>
              <a:ext cx="371520" cy="28404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30600" y="4514760"/>
              <a:ext cx="32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46720" y="4952880"/>
              <a:ext cx="631800" cy="44928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89280" y="5102280"/>
              <a:ext cx="33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44880" y="4495680"/>
              <a:ext cx="371520" cy="28404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90960" y="4514760"/>
              <a:ext cx="32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05240" y="4495680"/>
              <a:ext cx="371520" cy="28404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51320" y="4514760"/>
              <a:ext cx="32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53000" y="4495680"/>
              <a:ext cx="371520" cy="28404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99080" y="4514760"/>
              <a:ext cx="32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78520" y="4952880"/>
              <a:ext cx="631800" cy="44928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21440" y="510228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26160" y="4952880"/>
              <a:ext cx="631800" cy="44928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69080" y="510228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13240" y="478296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57800" y="541008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68880" y="4638600"/>
              <a:ext cx="432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45080" y="5186160"/>
              <a:ext cx="432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52880" y="3886200"/>
              <a:ext cx="3960720" cy="2590560"/>
            </a:xfrm>
            <a:prstGeom prst="roundRect">
              <a:avLst>
                <a:gd name="adj" fmla="val 500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25960" y="3889080"/>
              <a:ext cx="3887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2080" indent="-262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2. Repeat each mode independently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 indent="-262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n combin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27560" y="631656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15200" y="609264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3760" y="5514840"/>
              <a:ext cx="876600" cy="787320"/>
            </a:xfrm>
            <a:custGeom>
              <a:avLst/>
              <a:gdLst/>
              <a:ahLst/>
              <a:rect l="l" t="t" r="r" b="b"/>
              <a:pathLst>
                <a:path w="552" h="496">
                  <a:moveTo>
                    <a:pt x="0" y="496"/>
                  </a:moveTo>
                  <a:cubicBezTo>
                    <a:pt x="14" y="425"/>
                    <a:pt x="41" y="144"/>
                    <a:pt x="85" y="72"/>
                  </a:cubicBezTo>
                  <a:cubicBezTo>
                    <a:pt x="129" y="0"/>
                    <a:pt x="208" y="63"/>
                    <a:pt x="264" y="65"/>
                  </a:cubicBezTo>
                  <a:cubicBezTo>
                    <a:pt x="320" y="67"/>
                    <a:pt x="376" y="15"/>
                    <a:pt x="424" y="84"/>
                  </a:cubicBezTo>
                  <a:cubicBezTo>
                    <a:pt x="472" y="153"/>
                    <a:pt x="525" y="398"/>
                    <a:pt x="552" y="48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70280" y="6019560"/>
              <a:ext cx="4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56080" y="5486400"/>
              <a:ext cx="876600" cy="787320"/>
            </a:xfrm>
            <a:custGeom>
              <a:avLst/>
              <a:gdLst/>
              <a:ahLst/>
              <a:rect l="l" t="t" r="r" b="b"/>
              <a:pathLst>
                <a:path w="552" h="496">
                  <a:moveTo>
                    <a:pt x="0" y="496"/>
                  </a:moveTo>
                  <a:cubicBezTo>
                    <a:pt x="14" y="425"/>
                    <a:pt x="41" y="144"/>
                    <a:pt x="85" y="72"/>
                  </a:cubicBezTo>
                  <a:cubicBezTo>
                    <a:pt x="129" y="0"/>
                    <a:pt x="208" y="63"/>
                    <a:pt x="264" y="65"/>
                  </a:cubicBezTo>
                  <a:cubicBezTo>
                    <a:pt x="320" y="67"/>
                    <a:pt x="376" y="15"/>
                    <a:pt x="424" y="84"/>
                  </a:cubicBezTo>
                  <a:cubicBezTo>
                    <a:pt x="472" y="153"/>
                    <a:pt x="525" y="398"/>
                    <a:pt x="552" y="48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92600" y="5991120"/>
              <a:ext cx="4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343400" y="259092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838080"/>
            <a:ext cx="4419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hen take into account of Ki determination of regeneration system and/or EV range measurement, repeated cycle procedure is one of key elements of cycle constr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32520" y="2082960"/>
            <a:ext cx="371520" cy="284040"/>
          </a:xfrm>
          <a:custGeom>
            <a:avLst/>
            <a:gdLst/>
            <a:ahLst/>
            <a:rect l="l" t="t" r="r" b="b"/>
            <a:pathLst>
              <a:path w="672" h="240">
                <a:moveTo>
                  <a:pt x="0" y="240"/>
                </a:moveTo>
                <a:cubicBezTo>
                  <a:pt x="136" y="120"/>
                  <a:pt x="272" y="0"/>
                  <a:pt x="384" y="0"/>
                </a:cubicBezTo>
                <a:cubicBezTo>
                  <a:pt x="496" y="0"/>
                  <a:pt x="584" y="120"/>
                  <a:pt x="672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78600" y="210168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48520" y="1925640"/>
            <a:ext cx="631800" cy="449280"/>
          </a:xfrm>
          <a:custGeom>
            <a:avLst/>
            <a:gdLst/>
            <a:ahLst/>
            <a:rect l="l" t="t" r="r" b="b"/>
            <a:pathLst>
              <a:path w="672" h="240">
                <a:moveTo>
                  <a:pt x="0" y="240"/>
                </a:moveTo>
                <a:cubicBezTo>
                  <a:pt x="136" y="120"/>
                  <a:pt x="272" y="0"/>
                  <a:pt x="384" y="0"/>
                </a:cubicBezTo>
                <a:cubicBezTo>
                  <a:pt x="496" y="0"/>
                  <a:pt x="584" y="120"/>
                  <a:pt x="672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91440" y="207504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92880" y="2082960"/>
            <a:ext cx="371520" cy="284040"/>
          </a:xfrm>
          <a:custGeom>
            <a:avLst/>
            <a:gdLst/>
            <a:ahLst/>
            <a:rect l="l" t="t" r="r" b="b"/>
            <a:pathLst>
              <a:path w="672" h="240">
                <a:moveTo>
                  <a:pt x="0" y="240"/>
                </a:moveTo>
                <a:cubicBezTo>
                  <a:pt x="136" y="120"/>
                  <a:pt x="272" y="0"/>
                  <a:pt x="384" y="0"/>
                </a:cubicBezTo>
                <a:cubicBezTo>
                  <a:pt x="496" y="0"/>
                  <a:pt x="584" y="120"/>
                  <a:pt x="672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38960" y="210168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60880" y="23702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31000" y="2225520"/>
            <a:ext cx="2412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75360" y="2192400"/>
            <a:ext cx="3398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41720" y="965160"/>
            <a:ext cx="3961080" cy="2590920"/>
          </a:xfrm>
          <a:prstGeom prst="roundRect">
            <a:avLst>
              <a:gd name="adj" fmla="val 500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14800" y="968400"/>
            <a:ext cx="38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1. Repeat “x” times of each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450280" y="2184480"/>
            <a:ext cx="299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91520" y="1577880"/>
            <a:ext cx="876240" cy="787320"/>
          </a:xfrm>
          <a:custGeom>
            <a:avLst/>
            <a:gdLst/>
            <a:ahLst/>
            <a:rect l="l" t="t" r="r" b="b"/>
            <a:pathLst>
              <a:path w="552" h="496">
                <a:moveTo>
                  <a:pt x="0" y="496"/>
                </a:moveTo>
                <a:cubicBezTo>
                  <a:pt x="14" y="425"/>
                  <a:pt x="41" y="144"/>
                  <a:pt x="85" y="72"/>
                </a:cubicBezTo>
                <a:cubicBezTo>
                  <a:pt x="129" y="0"/>
                  <a:pt x="208" y="63"/>
                  <a:pt x="264" y="65"/>
                </a:cubicBezTo>
                <a:cubicBezTo>
                  <a:pt x="320" y="67"/>
                  <a:pt x="376" y="15"/>
                  <a:pt x="424" y="84"/>
                </a:cubicBezTo>
                <a:cubicBezTo>
                  <a:pt x="472" y="153"/>
                  <a:pt x="525" y="398"/>
                  <a:pt x="552" y="4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8040" y="20829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17840" y="410220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54160" y="40957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7800" y="378468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2000" y="3414600"/>
            <a:ext cx="936720" cy="381240"/>
          </a:xfrm>
          <a:custGeom>
            <a:avLst/>
            <a:gdLst/>
            <a:ahLst/>
            <a:rect l="l" t="t" r="r" b="b"/>
            <a:pathLst>
              <a:path w="672" h="240">
                <a:moveTo>
                  <a:pt x="0" y="240"/>
                </a:moveTo>
                <a:cubicBezTo>
                  <a:pt x="136" y="120"/>
                  <a:pt x="272" y="0"/>
                  <a:pt x="384" y="0"/>
                </a:cubicBezTo>
                <a:cubicBezTo>
                  <a:pt x="496" y="0"/>
                  <a:pt x="584" y="120"/>
                  <a:pt x="672" y="24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43280" y="3262320"/>
            <a:ext cx="936360" cy="533520"/>
          </a:xfrm>
          <a:custGeom>
            <a:avLst/>
            <a:gdLst/>
            <a:ahLst/>
            <a:rect l="l" t="t" r="r" b="b"/>
            <a:pathLst>
              <a:path w="672" h="240">
                <a:moveTo>
                  <a:pt x="0" y="240"/>
                </a:moveTo>
                <a:cubicBezTo>
                  <a:pt x="136" y="120"/>
                  <a:pt x="272" y="0"/>
                  <a:pt x="384" y="0"/>
                </a:cubicBezTo>
                <a:cubicBezTo>
                  <a:pt x="496" y="0"/>
                  <a:pt x="584" y="120"/>
                  <a:pt x="672" y="240"/>
                </a:cubicBezTo>
              </a:path>
            </a:pathLst>
          </a:custGeom>
          <a:noFill/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57680" y="2881440"/>
            <a:ext cx="914400" cy="914400"/>
          </a:xfrm>
          <a:custGeom>
            <a:avLst/>
            <a:gdLst/>
            <a:ahLst/>
            <a:rect l="l" t="t" r="r" b="b"/>
            <a:pathLst>
              <a:path w="672" h="240">
                <a:moveTo>
                  <a:pt x="0" y="240"/>
                </a:moveTo>
                <a:cubicBezTo>
                  <a:pt x="136" y="120"/>
                  <a:pt x="272" y="0"/>
                  <a:pt x="384" y="0"/>
                </a:cubicBezTo>
                <a:cubicBezTo>
                  <a:pt x="496" y="0"/>
                  <a:pt x="584" y="120"/>
                  <a:pt x="672" y="24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00040" y="34401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90600" y="34257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05080" y="34304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46160" y="3862440"/>
            <a:ext cx="0" cy="9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82880" y="3816360"/>
            <a:ext cx="0" cy="9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66880" y="409572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46160" y="4095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90800" y="4095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39760" y="40957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76480" y="40957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7840" y="2516040"/>
            <a:ext cx="3743280" cy="2513160"/>
          </a:xfrm>
          <a:prstGeom prst="roundRect">
            <a:avLst>
              <a:gd name="adj" fmla="val 905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7840" y="2516040"/>
            <a:ext cx="340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1:1:1 (≒WMT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4600" y="44449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F :     a              b      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5575320" y="1994040"/>
            <a:ext cx="139680" cy="1054080"/>
          </a:xfrm>
          <a:custGeom>
            <a:avLst/>
            <a:gdLst>
              <a:gd name="textAreaLeft" fmla="*/ 89280 w 139680"/>
              <a:gd name="textAreaRight" fmla="*/ 140040 w 139680"/>
              <a:gd name="textAreaTop" fmla="*/ 27360 h 1054080"/>
              <a:gd name="textAreaBottom" fmla="*/ 1026720 h 105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6718320" y="1994040"/>
            <a:ext cx="139680" cy="1054080"/>
          </a:xfrm>
          <a:custGeom>
            <a:avLst/>
            <a:gdLst>
              <a:gd name="textAreaLeft" fmla="*/ 89280 w 139680"/>
              <a:gd name="textAreaRight" fmla="*/ 140040 w 139680"/>
              <a:gd name="textAreaTop" fmla="*/ 27360 h 1054080"/>
              <a:gd name="textAreaBottom" fmla="*/ 1026720 h 105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7861320" y="1994040"/>
            <a:ext cx="139680" cy="1054080"/>
          </a:xfrm>
          <a:custGeom>
            <a:avLst/>
            <a:gdLst>
              <a:gd name="textAreaLeft" fmla="*/ 89280 w 139680"/>
              <a:gd name="textAreaRight" fmla="*/ 140040 w 139680"/>
              <a:gd name="textAreaTop" fmla="*/ 27360 h 1054080"/>
              <a:gd name="textAreaBottom" fmla="*/ 1026720 h 105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67360" y="2527200"/>
            <a:ext cx="3543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” times    “b” times     “c” ti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7C8EC-AA0B-4DDF-A567-68E8898DBA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.3. Repeat Drive Cycle – B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97600" y="379260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29360" y="3486240"/>
            <a:ext cx="371520" cy="284040"/>
          </a:xfrm>
          <a:custGeom>
            <a:avLst/>
            <a:gdLst/>
            <a:ahLst/>
            <a:rect l="l" t="t" r="r" b="b"/>
            <a:pathLst>
              <a:path w="672" h="240">
                <a:moveTo>
                  <a:pt x="0" y="240"/>
                </a:moveTo>
                <a:cubicBezTo>
                  <a:pt x="136" y="120"/>
                  <a:pt x="272" y="0"/>
                  <a:pt x="384" y="0"/>
                </a:cubicBezTo>
                <a:cubicBezTo>
                  <a:pt x="496" y="0"/>
                  <a:pt x="584" y="120"/>
                  <a:pt x="672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602320" y="3300480"/>
            <a:ext cx="631800" cy="449280"/>
          </a:xfrm>
          <a:custGeom>
            <a:avLst/>
            <a:gdLst/>
            <a:ahLst/>
            <a:rect l="l" t="t" r="r" b="b"/>
            <a:pathLst>
              <a:path w="672" h="240">
                <a:moveTo>
                  <a:pt x="0" y="240"/>
                </a:moveTo>
                <a:cubicBezTo>
                  <a:pt x="136" y="120"/>
                  <a:pt x="272" y="0"/>
                  <a:pt x="384" y="0"/>
                </a:cubicBezTo>
                <a:cubicBezTo>
                  <a:pt x="496" y="0"/>
                  <a:pt x="584" y="120"/>
                  <a:pt x="672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48520" y="2971800"/>
            <a:ext cx="230040" cy="770040"/>
          </a:xfrm>
          <a:custGeom>
            <a:avLst/>
            <a:gdLst/>
            <a:ahLst/>
            <a:rect l="l" t="t" r="r" b="b"/>
            <a:pathLst>
              <a:path w="672" h="240">
                <a:moveTo>
                  <a:pt x="0" y="240"/>
                </a:moveTo>
                <a:cubicBezTo>
                  <a:pt x="136" y="120"/>
                  <a:pt x="272" y="0"/>
                  <a:pt x="384" y="0"/>
                </a:cubicBezTo>
                <a:cubicBezTo>
                  <a:pt x="496" y="0"/>
                  <a:pt x="584" y="120"/>
                  <a:pt x="672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75440" y="350532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45240" y="350532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49960" y="347652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24640" y="3486240"/>
            <a:ext cx="371520" cy="284040"/>
          </a:xfrm>
          <a:custGeom>
            <a:avLst/>
            <a:gdLst/>
            <a:ahLst/>
            <a:rect l="l" t="t" r="r" b="b"/>
            <a:pathLst>
              <a:path w="672" h="240">
                <a:moveTo>
                  <a:pt x="0" y="240"/>
                </a:moveTo>
                <a:cubicBezTo>
                  <a:pt x="136" y="120"/>
                  <a:pt x="272" y="0"/>
                  <a:pt x="384" y="0"/>
                </a:cubicBezTo>
                <a:cubicBezTo>
                  <a:pt x="496" y="0"/>
                  <a:pt x="584" y="120"/>
                  <a:pt x="672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97600" y="3300480"/>
            <a:ext cx="631800" cy="449280"/>
          </a:xfrm>
          <a:custGeom>
            <a:avLst/>
            <a:gdLst/>
            <a:ahLst/>
            <a:rect l="l" t="t" r="r" b="b"/>
            <a:pathLst>
              <a:path w="672" h="240">
                <a:moveTo>
                  <a:pt x="0" y="240"/>
                </a:moveTo>
                <a:cubicBezTo>
                  <a:pt x="136" y="120"/>
                  <a:pt x="272" y="0"/>
                  <a:pt x="384" y="0"/>
                </a:cubicBezTo>
                <a:cubicBezTo>
                  <a:pt x="496" y="0"/>
                  <a:pt x="584" y="120"/>
                  <a:pt x="672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45240" y="3000240"/>
            <a:ext cx="230400" cy="770040"/>
          </a:xfrm>
          <a:custGeom>
            <a:avLst/>
            <a:gdLst/>
            <a:ahLst/>
            <a:rect l="l" t="t" r="r" b="b"/>
            <a:pathLst>
              <a:path w="672" h="240">
                <a:moveTo>
                  <a:pt x="0" y="240"/>
                </a:moveTo>
                <a:cubicBezTo>
                  <a:pt x="136" y="120"/>
                  <a:pt x="272" y="0"/>
                  <a:pt x="384" y="0"/>
                </a:cubicBezTo>
                <a:cubicBezTo>
                  <a:pt x="496" y="0"/>
                  <a:pt x="584" y="120"/>
                  <a:pt x="672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70720" y="350532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40520" y="350532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45240" y="350532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905600" y="35942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1974960"/>
            <a:ext cx="3961080" cy="2520720"/>
          </a:xfrm>
          <a:prstGeom prst="roundRect">
            <a:avLst>
              <a:gd name="adj" fmla="val 905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25960" y="2057400"/>
            <a:ext cx="38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1. Repeat complete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14560" y="33908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50920" y="339084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14560" y="339084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8200" y="315432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60400" y="2800440"/>
            <a:ext cx="720720" cy="338040"/>
          </a:xfrm>
          <a:custGeom>
            <a:avLst/>
            <a:gdLst/>
            <a:ahLst/>
            <a:rect l="l" t="t" r="r" b="b"/>
            <a:pathLst>
              <a:path w="672" h="240">
                <a:moveTo>
                  <a:pt x="0" y="240"/>
                </a:moveTo>
                <a:cubicBezTo>
                  <a:pt x="136" y="120"/>
                  <a:pt x="272" y="0"/>
                  <a:pt x="384" y="0"/>
                </a:cubicBezTo>
                <a:cubicBezTo>
                  <a:pt x="496" y="0"/>
                  <a:pt x="584" y="120"/>
                  <a:pt x="672" y="24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22520" y="2627280"/>
            <a:ext cx="1224000" cy="533520"/>
          </a:xfrm>
          <a:custGeom>
            <a:avLst/>
            <a:gdLst/>
            <a:ahLst/>
            <a:rect l="l" t="t" r="r" b="b"/>
            <a:pathLst>
              <a:path w="672" h="240">
                <a:moveTo>
                  <a:pt x="0" y="240"/>
                </a:moveTo>
                <a:cubicBezTo>
                  <a:pt x="136" y="120"/>
                  <a:pt x="272" y="0"/>
                  <a:pt x="384" y="0"/>
                </a:cubicBezTo>
                <a:cubicBezTo>
                  <a:pt x="496" y="0"/>
                  <a:pt x="584" y="120"/>
                  <a:pt x="672" y="240"/>
                </a:cubicBezTo>
              </a:path>
            </a:pathLst>
          </a:custGeom>
          <a:noFill/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41480" y="2266920"/>
            <a:ext cx="446400" cy="914400"/>
          </a:xfrm>
          <a:custGeom>
            <a:avLst/>
            <a:gdLst/>
            <a:ahLst/>
            <a:rect l="l" t="t" r="r" b="b"/>
            <a:pathLst>
              <a:path w="672" h="240">
                <a:moveTo>
                  <a:pt x="0" y="240"/>
                </a:moveTo>
                <a:cubicBezTo>
                  <a:pt x="136" y="120"/>
                  <a:pt x="272" y="0"/>
                  <a:pt x="384" y="0"/>
                </a:cubicBezTo>
                <a:cubicBezTo>
                  <a:pt x="496" y="0"/>
                  <a:pt x="584" y="120"/>
                  <a:pt x="672" y="24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65320" y="2800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79720" y="2809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17800" y="2800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19280" y="323208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51200" y="3236760"/>
            <a:ext cx="0" cy="87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26920" y="3465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19280" y="3465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51200" y="3465360"/>
            <a:ext cx="42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66760" y="4267080"/>
                <a:ext cx="36259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meRatio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1041480" y="49276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L,M,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2440" y="1808280"/>
            <a:ext cx="376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. Based on statistical data (≒WHD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1676520"/>
            <a:ext cx="4073760" cy="3682800"/>
          </a:xfrm>
          <a:prstGeom prst="roundRect">
            <a:avLst>
              <a:gd name="adj" fmla="val 905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43400" y="28954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465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F :     1              1    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0BD7-DDA5-4823-8CDD-D248A58C7D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.3. Repeat Drive Cycle – C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876920" y="1447920"/>
            <a:ext cx="3960720" cy="2819160"/>
            <a:chOff x="4876920" y="1447920"/>
            <a:chExt cx="3960720" cy="2819160"/>
          </a:xfrm>
        </p:grpSpPr>
        <p:sp>
          <p:nvSpPr>
            <p:cNvPr id="248" name=""/>
            <p:cNvSpPr/>
            <p:nvPr/>
          </p:nvSpPr>
          <p:spPr>
            <a:xfrm>
              <a:off x="5638680" y="4114800"/>
              <a:ext cx="200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2725560"/>
              <a:ext cx="28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94480" y="2419200"/>
              <a:ext cx="371520" cy="28368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67440" y="2233440"/>
              <a:ext cx="631800" cy="44892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40560" y="2438280"/>
              <a:ext cx="32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10360" y="243828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00680" y="2419200"/>
              <a:ext cx="371520" cy="28368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74000" y="2233440"/>
              <a:ext cx="631800" cy="44892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46760" y="2438280"/>
              <a:ext cx="32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16920" y="243828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858080" y="2527200"/>
              <a:ext cx="432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32640" y="3341520"/>
              <a:ext cx="876240" cy="786960"/>
            </a:xfrm>
            <a:custGeom>
              <a:avLst/>
              <a:gdLst/>
              <a:ahLst/>
              <a:rect l="l" t="t" r="r" b="b"/>
              <a:pathLst>
                <a:path w="552" h="496">
                  <a:moveTo>
                    <a:pt x="0" y="496"/>
                  </a:moveTo>
                  <a:cubicBezTo>
                    <a:pt x="14" y="425"/>
                    <a:pt x="41" y="144"/>
                    <a:pt x="85" y="72"/>
                  </a:cubicBezTo>
                  <a:cubicBezTo>
                    <a:pt x="129" y="0"/>
                    <a:pt x="208" y="63"/>
                    <a:pt x="264" y="65"/>
                  </a:cubicBezTo>
                  <a:cubicBezTo>
                    <a:pt x="320" y="67"/>
                    <a:pt x="376" y="15"/>
                    <a:pt x="424" y="84"/>
                  </a:cubicBezTo>
                  <a:cubicBezTo>
                    <a:pt x="472" y="153"/>
                    <a:pt x="525" y="398"/>
                    <a:pt x="552" y="48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69160" y="3846240"/>
              <a:ext cx="43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721640" y="37908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54960" y="3313080"/>
              <a:ext cx="876240" cy="786960"/>
            </a:xfrm>
            <a:custGeom>
              <a:avLst/>
              <a:gdLst/>
              <a:ahLst/>
              <a:rect l="l" t="t" r="r" b="b"/>
              <a:pathLst>
                <a:path w="552" h="496">
                  <a:moveTo>
                    <a:pt x="0" y="496"/>
                  </a:moveTo>
                  <a:cubicBezTo>
                    <a:pt x="14" y="425"/>
                    <a:pt x="41" y="144"/>
                    <a:pt x="85" y="72"/>
                  </a:cubicBezTo>
                  <a:cubicBezTo>
                    <a:pt x="129" y="0"/>
                    <a:pt x="208" y="63"/>
                    <a:pt x="264" y="65"/>
                  </a:cubicBezTo>
                  <a:cubicBezTo>
                    <a:pt x="320" y="67"/>
                    <a:pt x="376" y="15"/>
                    <a:pt x="424" y="84"/>
                  </a:cubicBezTo>
                  <a:cubicBezTo>
                    <a:pt x="472" y="153"/>
                    <a:pt x="525" y="398"/>
                    <a:pt x="552" y="48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91480" y="3817800"/>
              <a:ext cx="43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53080" y="28033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876920" y="1447920"/>
              <a:ext cx="3960720" cy="2819160"/>
            </a:xfrm>
            <a:prstGeom prst="roundRect">
              <a:avLst>
                <a:gd name="adj" fmla="val 500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913280" y="1447920"/>
              <a:ext cx="3888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2080" indent="-262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.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peat combined L/M mode and H mo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 indent="-262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ependent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4267080" y="251460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28600" y="1447920"/>
            <a:ext cx="3936960" cy="3340080"/>
            <a:chOff x="228600" y="1447920"/>
            <a:chExt cx="3936960" cy="3340080"/>
          </a:xfrm>
        </p:grpSpPr>
        <p:sp>
          <p:nvSpPr>
            <p:cNvPr id="269" name=""/>
            <p:cNvSpPr/>
            <p:nvPr/>
          </p:nvSpPr>
          <p:spPr>
            <a:xfrm>
              <a:off x="228600" y="1447920"/>
              <a:ext cx="3809880" cy="3340080"/>
            </a:xfrm>
            <a:prstGeom prst="roundRect">
              <a:avLst>
                <a:gd name="adj" fmla="val 9051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74720" y="2743200"/>
              <a:ext cx="21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30560" y="274320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39880" y="2395440"/>
              <a:ext cx="720720" cy="33840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81120" y="2182680"/>
              <a:ext cx="1224000" cy="53352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190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95480" y="23623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27160" y="23623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00400" y="1855800"/>
              <a:ext cx="446040" cy="91440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240"/>
                  </a:moveTo>
                  <a:cubicBezTo>
                    <a:pt x="136" y="120"/>
                    <a:pt x="272" y="0"/>
                    <a:pt x="384" y="0"/>
                  </a:cubicBezTo>
                  <a:cubicBezTo>
                    <a:pt x="496" y="0"/>
                    <a:pt x="584" y="120"/>
                    <a:pt x="672" y="24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89320" y="236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0880" y="1447920"/>
              <a:ext cx="350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. Compromised way (≒LA4+HW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2000" y="28256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98720" y="2825640"/>
              <a:ext cx="50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13080" y="4178160"/>
              <a:ext cx="1752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XXX~7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66720" y="2666880"/>
              <a:ext cx="0" cy="8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32120" y="2666880"/>
              <a:ext cx="0" cy="12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74720" y="290052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66720" y="290052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00400" y="2900520"/>
              <a:ext cx="42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00400" y="2666880"/>
              <a:ext cx="0" cy="12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644640" y="2666880"/>
              <a:ext cx="12600" cy="13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400000">
              <a:off x="1576800" y="3126600"/>
              <a:ext cx="173160" cy="990360"/>
            </a:xfrm>
            <a:custGeom>
              <a:avLst/>
              <a:gdLst>
                <a:gd name="textAreaLeft" fmla="*/ 0 w 173160"/>
                <a:gd name="textAreaRight" fmla="*/ 62640 w 17316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0880" y="3975120"/>
              <a:ext cx="22100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XXX~137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00400" y="289548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6760" y="3213000"/>
              <a:ext cx="35812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F :     1           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                       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2115-4932-4FA4-8CAD-CAC750696C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RI</dc:creator>
  <dc:description/>
  <dc:language>en-US</dc:language>
  <cp:lastModifiedBy>トヨタ自動車株式会社</cp:lastModifiedBy>
  <dcterms:modified xsi:type="dcterms:W3CDTF">2010-10-17T01:51:18Z</dcterms:modified>
  <cp:revision>1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