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9685-8F14-4FC1-B347-97D4D3BD4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6070-7B90-4181-B841-8DD16D1F2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8768-FB12-476E-898F-380133F9B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2B53-14D6-4F8D-91C4-939B9CFA0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FE3F-459C-40A8-8C17-EE4FAD7ED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C2F8-BF86-4D89-A26A-13088AA4B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B555-BC19-4D38-862F-09139CC42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9772-AB0D-4130-873F-7778EA168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7EE2-D7BF-4E3F-A204-4C9A5A92B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657F-2E42-4547-B023-95D7E3097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6F84-293C-4A4C-B58D-63794370A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362B-0D55-4AC7-9C5B-53C7FF60A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5EF5-FF94-4AD0-9FE3-21E183AB9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952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8800" y="6247440"/>
            <a:ext cx="51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WLTC : Worldwide harmonized Light-duty driving 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E5E3-8EB9-4459-A700-419F166612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0" y="2203560"/>
            <a:ext cx="3097080" cy="2233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203560"/>
            <a:ext cx="3097440" cy="2162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20" y="5688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Average Emission per Trip and Col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765000"/>
            <a:ext cx="8677080" cy="113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/km) formula is as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6560" y="2362320"/>
            <a:ext cx="1081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cold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533680"/>
            <a:ext cx="13687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ho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560" y="2022480"/>
            <a:ext cx="1943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277956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2720" y="277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1 - 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7440" y="2852640"/>
            <a:ext cx="248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3311640"/>
            <a:ext cx="7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2060640"/>
            <a:ext cx="194328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9744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25116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25116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13280" y="321300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038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3860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584360" y="2528640"/>
            <a:ext cx="215640" cy="2448000"/>
          </a:xfrm>
          <a:custGeom>
            <a:avLst/>
            <a:gdLst>
              <a:gd name="textAreaLeft" fmla="*/ 0 w 215640"/>
              <a:gd name="textAreaRight" fmla="*/ 77760 w 215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0" y="4411800"/>
            <a:ext cx="3778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(*)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= (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+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(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–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)/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979880"/>
            <a:ext cx="5791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1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-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4797360"/>
            <a:ext cx="885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4854600"/>
            <a:ext cx="32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tri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Average one trip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ycle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old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Hot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Cold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Hot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321300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ff"/>
                </a:solidFill>
                <a:latin typeface="Arial"/>
              </a:rPr>
              <a:t>HT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276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7068-B91A-4044-B173-FC8817FA3E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60360" y="2925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0360" y="4149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60360" y="3105000"/>
            <a:ext cx="2232000" cy="1044720"/>
          </a:xfrm>
          <a:custGeom>
            <a:avLst/>
            <a:gdLst/>
            <a:ahLst/>
            <a:rect l="l" t="t" r="r" b="b"/>
            <a:pathLst>
              <a:path w="1406" h="658">
                <a:moveTo>
                  <a:pt x="0" y="658"/>
                </a:moveTo>
                <a:cubicBezTo>
                  <a:pt x="15" y="603"/>
                  <a:pt x="44" y="432"/>
                  <a:pt x="89" y="330"/>
                </a:cubicBezTo>
                <a:cubicBezTo>
                  <a:pt x="134" y="228"/>
                  <a:pt x="213" y="90"/>
                  <a:pt x="273" y="45"/>
                </a:cubicBezTo>
                <a:cubicBezTo>
                  <a:pt x="333" y="0"/>
                  <a:pt x="395" y="21"/>
                  <a:pt x="451" y="62"/>
                </a:cubicBezTo>
                <a:cubicBezTo>
                  <a:pt x="507" y="103"/>
                  <a:pt x="565" y="234"/>
                  <a:pt x="611" y="294"/>
                </a:cubicBezTo>
                <a:cubicBezTo>
                  <a:pt x="657" y="354"/>
                  <a:pt x="673" y="379"/>
                  <a:pt x="730" y="425"/>
                </a:cubicBezTo>
                <a:cubicBezTo>
                  <a:pt x="787" y="471"/>
                  <a:pt x="840" y="537"/>
                  <a:pt x="953" y="568"/>
                </a:cubicBezTo>
                <a:cubicBezTo>
                  <a:pt x="1066" y="599"/>
                  <a:pt x="1236" y="613"/>
                  <a:pt x="1406" y="61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60360" y="4941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0360" y="6165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44520" y="5129280"/>
            <a:ext cx="2127240" cy="817560"/>
          </a:xfrm>
          <a:custGeom>
            <a:avLst/>
            <a:gdLst/>
            <a:ahLst/>
            <a:rect l="l" t="t" r="r" b="b"/>
            <a:pathLst>
              <a:path w="1340" h="515">
                <a:moveTo>
                  <a:pt x="0" y="65"/>
                </a:moveTo>
                <a:cubicBezTo>
                  <a:pt x="17" y="56"/>
                  <a:pt x="65" y="0"/>
                  <a:pt x="107" y="11"/>
                </a:cubicBezTo>
                <a:cubicBezTo>
                  <a:pt x="149" y="22"/>
                  <a:pt x="200" y="74"/>
                  <a:pt x="253" y="129"/>
                </a:cubicBezTo>
                <a:cubicBezTo>
                  <a:pt x="306" y="184"/>
                  <a:pt x="366" y="290"/>
                  <a:pt x="425" y="343"/>
                </a:cubicBezTo>
                <a:cubicBezTo>
                  <a:pt x="484" y="396"/>
                  <a:pt x="550" y="428"/>
                  <a:pt x="609" y="450"/>
                </a:cubicBezTo>
                <a:cubicBezTo>
                  <a:pt x="668" y="472"/>
                  <a:pt x="712" y="465"/>
                  <a:pt x="782" y="474"/>
                </a:cubicBezTo>
                <a:cubicBezTo>
                  <a:pt x="852" y="483"/>
                  <a:pt x="938" y="497"/>
                  <a:pt x="1031" y="504"/>
                </a:cubicBezTo>
                <a:cubicBezTo>
                  <a:pt x="1124" y="511"/>
                  <a:pt x="1289" y="513"/>
                  <a:pt x="1340" y="515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60360" y="5950080"/>
            <a:ext cx="216072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81280" y="5905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Ambie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137880" y="34711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3080" y="4149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472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of 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4720" y="45226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3240" y="5407920"/>
            <a:ext cx="2033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olant temp. dro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ola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60000" y="343044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430440"/>
            <a:ext cx="0" cy="27352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260360" y="5148360"/>
            <a:ext cx="21686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3080" y="6165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31920" y="6165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299736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Rectangle 5"/>
              <p:cNvSpPr txBox="1"/>
              <p:nvPr/>
            </p:nvSpPr>
            <p:spPr>
              <a:xfrm>
                <a:off x="5018040" y="3878280"/>
                <a:ext cx="3225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a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l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645080" y="4618080"/>
            <a:ext cx="411804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trip ratio (= Average cold start emission increment rat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o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requency of soak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factor (Coolant temp. drop ratio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9080" y="2781360"/>
            <a:ext cx="43210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888840"/>
            <a:ext cx="864072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cold start trip ratio by multiplying the soak time distribution and the coolant temperature drop ratio as the emission increas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3600" y="5154480"/>
            <a:ext cx="2025720" cy="1001880"/>
          </a:xfrm>
          <a:custGeom>
            <a:avLst/>
            <a:gdLst/>
            <a:ahLst/>
            <a:rect l="l" t="t" r="r" b="b"/>
            <a:pathLst>
              <a:path w="1276" h="631">
                <a:moveTo>
                  <a:pt x="0" y="631"/>
                </a:moveTo>
                <a:cubicBezTo>
                  <a:pt x="19" y="586"/>
                  <a:pt x="72" y="431"/>
                  <a:pt x="113" y="363"/>
                </a:cubicBezTo>
                <a:cubicBezTo>
                  <a:pt x="154" y="295"/>
                  <a:pt x="195" y="263"/>
                  <a:pt x="249" y="221"/>
                </a:cubicBezTo>
                <a:cubicBezTo>
                  <a:pt x="303" y="179"/>
                  <a:pt x="325" y="142"/>
                  <a:pt x="439" y="108"/>
                </a:cubicBezTo>
                <a:cubicBezTo>
                  <a:pt x="553" y="74"/>
                  <a:pt x="793" y="34"/>
                  <a:pt x="932" y="17"/>
                </a:cubicBezTo>
                <a:cubicBezTo>
                  <a:pt x="1071" y="0"/>
                  <a:pt x="1204" y="9"/>
                  <a:pt x="1276" y="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4290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oa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2578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3809880"/>
            <a:ext cx="3657600" cy="6858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CE20-75B2-417F-8543-BDEC170A7D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0920" y="1627200"/>
            <a:ext cx="8785080" cy="35305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1.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2057400"/>
            <a:ext cx="228600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447920"/>
            <a:ext cx="1942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556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2430360"/>
            <a:ext cx="1871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49560" y="2430360"/>
            <a:ext cx="1584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76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/Mid. cold + Low/Mid hot + High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057400"/>
            <a:ext cx="2270160" cy="3070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7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05560" y="2430000"/>
            <a:ext cx="1368360" cy="18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387520"/>
          <a:ext cx="7924680" cy="2470320"/>
        </p:xfrm>
        <a:graphic>
          <a:graphicData uri="http://schemas.openxmlformats.org/drawingml/2006/table">
            <a:tbl>
              <a:tblPr/>
              <a:tblGrid>
                <a:gridCol w="1487520"/>
                <a:gridCol w="1865160"/>
                <a:gridCol w="2286000"/>
                <a:gridCol w="2286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(g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* E</a:t>
                      </a:r>
                      <a:r>
                        <a:rPr b="0" lang="en-US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LM 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– D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C,LM</a:t>
                      </a: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739800" y="5715000"/>
            <a:ext cx="79470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= M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–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,LM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,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 / D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200" y="5300640"/>
            <a:ext cx="85694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mission during cold start trip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9600" y="6461280"/>
            <a:ext cx="1339920" cy="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6477120"/>
            <a:ext cx="2362320" cy="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6477120"/>
            <a:ext cx="1584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6477120"/>
            <a:ext cx="504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4240" y="2057400"/>
            <a:ext cx="188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C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4548-530A-4D26-84DA-84202765FE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2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2600" y="2093760"/>
            <a:ext cx="5364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557360"/>
            <a:ext cx="5688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 during hot start trip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706840"/>
            <a:ext cx="4896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2600" y="5270400"/>
            <a:ext cx="5437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,C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,H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86280"/>
            <a:ext cx="4968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Cold/Hot weigh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76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ld + Low hot + Middle hot + High hot (cont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0960" y="1844640"/>
            <a:ext cx="173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12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30960" y="2131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46800" y="220500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13360" y="220968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L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1844640"/>
            <a:ext cx="1676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220968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H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839080" y="21477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80200" y="220356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52388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1320" y="1523880"/>
            <a:ext cx="99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295280"/>
            <a:ext cx="3886200" cy="1600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6B3-7483-4562-812D-AE4700011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3141720"/>
            <a:ext cx="8569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information/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two items based on actual vehic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iving distance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based on engine benc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lant temperature drop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yc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traffic volume in each phase (L/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411480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33412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Japan, these figures are obtained based on survey and traffic se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5520" y="85104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c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tri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ratio by multiplying the soak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and the  coolant temperature dro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WF based on average one trip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and test cycl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FD5E-91FC-485A-A7E2-696214FB27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371600"/>
          <a:ext cx="4087800" cy="4803840"/>
        </p:xfrm>
        <a:graphic>
          <a:graphicData uri="http://schemas.openxmlformats.org/drawingml/2006/table">
            <a:tbl>
              <a:tblPr/>
              <a:tblGrid>
                <a:gridCol w="1382760"/>
                <a:gridCol w="1352520"/>
                <a:gridCol w="1352520"/>
              </a:tblGrid>
              <a:tr h="260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5702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15BE-3111-45E5-9633-2DFC4EDE0F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6680" y="7621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d start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268280"/>
          <a:ext cx="4262040" cy="4903920"/>
        </p:xfrm>
        <a:graphic>
          <a:graphicData uri="http://schemas.openxmlformats.org/drawingml/2006/table">
            <a:tbl>
              <a:tblPr/>
              <a:tblGrid>
                <a:gridCol w="852120"/>
                <a:gridCol w="852480"/>
                <a:gridCol w="852480"/>
                <a:gridCol w="852480"/>
                <a:gridCol w="852480"/>
              </a:tblGrid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932360" y="1962000"/>
            <a:ext cx="3438360" cy="32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7A3C-F209-4F24-91CE-5AD072692B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ar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.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. Analysis Sample (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8100-7658-4395-AA76-8FC2C4C81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568760" y="1803240"/>
            <a:ext cx="1500120" cy="1128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6224760" y="1803240"/>
            <a:ext cx="1496880" cy="1132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4497480" y="5530680"/>
            <a:ext cx="4038480" cy="100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380880" y="1855800"/>
            <a:ext cx="359892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use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0880" y="3079800"/>
            <a:ext cx="35989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80880" y="4232160"/>
            <a:ext cx="35989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hift point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80880" y="5530680"/>
            <a:ext cx="359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AutoShape 10"/>
          <p:cNvCxnSpPr>
            <a:stCxn id="264" idx="2"/>
            <a:endCxn id="265" idx="0"/>
          </p:cNvCxnSpPr>
          <p:nvPr/>
        </p:nvCxnSpPr>
        <p:spPr>
          <a:xfrm>
            <a:off x="2180880" y="27190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1"/>
          <p:cNvCxnSpPr>
            <a:stCxn id="265" idx="2"/>
            <a:endCxn id="266" idx="0"/>
          </p:cNvCxnSpPr>
          <p:nvPr/>
        </p:nvCxnSpPr>
        <p:spPr>
          <a:xfrm>
            <a:off x="2180880" y="3943440"/>
            <a:ext cx="1080" cy="28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2"/>
          <p:cNvCxnSpPr>
            <a:stCxn id="266" idx="2"/>
            <a:endCxn id="267" idx="0"/>
          </p:cNvCxnSpPr>
          <p:nvPr/>
        </p:nvCxnSpPr>
        <p:spPr>
          <a:xfrm>
            <a:off x="2180880" y="5095800"/>
            <a:ext cx="108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ext Box 13"/>
          <p:cNvSpPr/>
          <p:nvPr/>
        </p:nvSpPr>
        <p:spPr>
          <a:xfrm>
            <a:off x="4347720" y="46292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x)=a*V+b*A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4"/>
          <a:stretch/>
        </p:blipFill>
        <p:spPr>
          <a:xfrm>
            <a:off x="4565520" y="3308400"/>
            <a:ext cx="1241640" cy="1198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5"/>
          <p:cNvSpPr/>
          <p:nvPr/>
        </p:nvSpPr>
        <p:spPr>
          <a:xfrm>
            <a:off x="380880" y="762120"/>
            <a:ext cx="8458200" cy="89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gear shift points based on in-use survey to represent the real driving behav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502520" y="306720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a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CD6F-4FAA-423F-ACEB-F12962408A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manual gear shift, the formula for calculating vehicle speed would be the following if the clutch was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gear position can be defined by calculating gear ratio during 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Rectangle 5"/>
              <p:cNvSpPr txBox="1"/>
              <p:nvPr/>
            </p:nvSpPr>
            <p:spPr>
              <a:xfrm>
                <a:off x="1905120" y="307656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Νε</m:t>
                        </m:r>
                      </m:num>
                      <m:den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648320" y="2514600"/>
            <a:ext cx="3352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Vehicle speed (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: Engine speed (1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us of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ar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l reduction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A20D-5EA2-494A-972B-2CCEB4E52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9144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442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2BDE-91EE-4A5D-8F0A-0ABE764715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960" y="863640"/>
            <a:ext cx="81532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1: Clutch release point for up-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2: Clutch engage point after putting in higher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down_1: Clutch release point for down-shifting or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5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60744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AF06-4635-4362-B910-B6F5C158A5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ehicle speed in each gear position (both up-shift and down-shift), then generate various frequency distribution by each vehicle category and analyze the factors that effect shift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speed frequency distribution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km/h 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acceleration frequency distribution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km/h/s, 1km/h/s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speed frequency distribution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0 rpm, 100rpm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engine speed frequency distribution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%, 10 %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08F9-300E-455C-B1EE-AE7D2BF46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1.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320" y="66024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hift point equation by Stepwise selec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9800" y="1109520"/>
          <a:ext cx="8229600" cy="5494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 rowSpan="17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ed (km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1/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engine spe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(km/h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M1, 2: N1, 3: N2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Petrol, 2: Diesel, 3: LPG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g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y load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(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ower (k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torque (N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que to mass ratio (Nm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vehicle we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 = Curb weight / GV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in coefficient (D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slide 3.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735E-8702-4C65-B251-E772834E19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2. Drive Train Coefficien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219640" y="4950000"/>
            <a:ext cx="352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: 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95280" y="1268280"/>
            <a:ext cx="446400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538200" y="1413000"/>
            <a:ext cx="4038480" cy="2239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826920" y="4254480"/>
            <a:ext cx="3600720" cy="14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πr / (im * if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ning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er engine speed        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ire radiu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nal reduction gear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m/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ngin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8"/>
              <p:cNvSpPr txBox="1"/>
              <p:nvPr/>
            </p:nvSpPr>
            <p:spPr>
              <a:xfrm>
                <a:off x="1784520" y="3657600"/>
                <a:ext cx="1508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10"/>
          <p:cNvSpPr/>
          <p:nvPr/>
        </p:nvSpPr>
        <p:spPr>
          <a:xfrm>
            <a:off x="5219640" y="1247760"/>
            <a:ext cx="3600360" cy="34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"/>
          <p:cNvPicPr/>
          <p:nvPr/>
        </p:nvPicPr>
        <p:blipFill>
          <a:blip r:embed="rId2"/>
          <a:stretch/>
        </p:blipFill>
        <p:spPr>
          <a:xfrm>
            <a:off x="5435640" y="1674720"/>
            <a:ext cx="2951280" cy="2906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2"/>
          <p:cNvSpPr/>
          <p:nvPr/>
        </p:nvSpPr>
        <p:spPr>
          <a:xfrm>
            <a:off x="6559560" y="135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y = DTC * 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7932600" y="4273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7451640" y="1700280"/>
            <a:ext cx="21600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29160" y="2647800"/>
            <a:ext cx="11430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reduction g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79D7-B7C3-43B0-8619-73581B282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1. Analysis Sample (JC08) - shift up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Rectangle 5" descr=""/>
          <p:cNvPicPr/>
          <p:nvPr/>
        </p:nvPicPr>
        <p:blipFill>
          <a:blip r:embed="rId1"/>
          <a:stretch/>
        </p:blipFill>
        <p:spPr>
          <a:xfrm>
            <a:off x="876240" y="907920"/>
            <a:ext cx="7373880" cy="573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ACD8-4C31-4987-8AFD-85E4950A1A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2. Analysis Sample (JC08) - downshif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Rectangle 5" descr=""/>
          <p:cNvPicPr/>
          <p:nvPr/>
        </p:nvPicPr>
        <p:blipFill>
          <a:blip r:embed="rId1"/>
          <a:stretch/>
        </p:blipFill>
        <p:spPr>
          <a:xfrm>
            <a:off x="885960" y="836640"/>
            <a:ext cx="7359480" cy="58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73EC-40C4-474C-8120-FB733E9400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3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shif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5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677080" cy="42753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BAE2-DC57-443D-B375-4CA1B6A563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4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down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Rectangle 5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677080" cy="4275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C638-111A-48D6-B24C-A670884CAC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5. Analysis Sample (JC08) - Gearshif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Gearshif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Speed in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Acceleration in km/h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Normalized vehicle weight (Curb weight / GV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Engine speed in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Rectangle 5"/>
              <p:cNvSpPr txBox="1"/>
              <p:nvPr/>
            </p:nvSpPr>
            <p:spPr>
              <a:xfrm>
                <a:off x="826920" y="1440000"/>
                <a:ext cx="763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76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81200" y="2451240"/>
                <a:ext cx="80658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w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24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29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82760" y="554976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letion of all data acquisition, the gearshift equation for WLTC will be develop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6984-1870-4D92-B8E6-4AF35A174D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6. Analysis Sample (JC08) – Final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657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u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5" descr=""/>
          <p:cNvPicPr/>
          <p:nvPr/>
        </p:nvPicPr>
        <p:blipFill>
          <a:blip r:embed="rId1"/>
          <a:stretch/>
        </p:blipFill>
        <p:spPr>
          <a:xfrm>
            <a:off x="3645000" y="100332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203960" y="2220840"/>
            <a:ext cx="254160" cy="2383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45000" y="2516040"/>
            <a:ext cx="252360" cy="23832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2438280"/>
            <a:ext cx="533160" cy="160020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029200" y="2742840"/>
            <a:ext cx="533520" cy="12193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05600" y="1119240"/>
            <a:ext cx="1212840" cy="24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6320" y="5105520"/>
            <a:ext cx="4444920" cy="1627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4419360" cy="1617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572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ssenger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7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ght duty commercia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13680" y="4051440"/>
            <a:ext cx="1752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80, DTC=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91120" y="3962520"/>
            <a:ext cx="19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LD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58, DTC=0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F08F-2C57-4C93-9B06-650277E42C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. Current Test Cycle in EU, US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 Proposed Cycl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. Jus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8EAC-A7AE-4FE5-8DCE-53AB2497F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Current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838080"/>
          <a:ext cx="815328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2389320"/>
                <a:gridCol w="1646280"/>
                <a:gridCol w="1536480"/>
                <a:gridCol w="15908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/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ssiv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        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rcRect l="15890" t="41428" r="43224" b="23178"/>
          <a:stretch/>
        </p:blipFill>
        <p:spPr>
          <a:xfrm>
            <a:off x="3975120" y="2019240"/>
            <a:ext cx="1523880" cy="7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108" t="28552" r="43283" b="37791"/>
          <a:stretch/>
        </p:blipFill>
        <p:spPr>
          <a:xfrm>
            <a:off x="7169040" y="2057400"/>
            <a:ext cx="14544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6258" t="26953" r="43468" b="38465"/>
          <a:stretch/>
        </p:blipFill>
        <p:spPr>
          <a:xfrm>
            <a:off x="5626080" y="2070000"/>
            <a:ext cx="1416240" cy="6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6197" t="30172" r="43429" b="35822"/>
          <a:stretch/>
        </p:blipFill>
        <p:spPr>
          <a:xfrm>
            <a:off x="1663560" y="1955880"/>
            <a:ext cx="1981440" cy="93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15948" t="27878" r="43675" b="37451"/>
          <a:stretch/>
        </p:blipFill>
        <p:spPr>
          <a:xfrm>
            <a:off x="2844720" y="3086280"/>
            <a:ext cx="258444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2359080" y="2206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in.so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589284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LTP-DHC-05-04, Urban/Rural/Motorway phase will be converted to Low/Middle/High phase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rcRect l="24501" t="32815" r="7322" b="23788"/>
          <a:stretch/>
        </p:blipFill>
        <p:spPr>
          <a:xfrm>
            <a:off x="2997360" y="4572000"/>
            <a:ext cx="24127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6400" y="5029200"/>
            <a:ext cx="14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dependent 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precondition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8F1F-D181-42E2-8E0B-2FC2428BB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4160" y="3340080"/>
            <a:ext cx="5029200" cy="32004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838080"/>
            <a:ext cx="6019560" cy="3657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(e.g. 6 or 12 hours s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(e.g. 10 min. soa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(e.g. 15 min. drive @ 60kp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01400" y="2463840"/>
            <a:ext cx="138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3314880"/>
            <a:ext cx="4647960" cy="32004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4280" y="2819520"/>
            <a:ext cx="28958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BADB-9E95-4C1F-90D4-158001291A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73200" y="3795840"/>
            <a:ext cx="1860480" cy="1434960"/>
            <a:chOff x="673200" y="3795840"/>
            <a:chExt cx="1860480" cy="1434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36605" t="41842" r="49099" b="38544"/>
            <a:stretch/>
          </p:blipFill>
          <p:spPr>
            <a:xfrm>
              <a:off x="673200" y="3795840"/>
              <a:ext cx="18604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94560" y="4697640"/>
              <a:ext cx="109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971800" y="3770280"/>
            <a:ext cx="1847880" cy="1434960"/>
            <a:chOff x="2971800" y="3770280"/>
            <a:chExt cx="1847880" cy="143496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52611" t="41842" r="33188" b="38544"/>
            <a:stretch/>
          </p:blipFill>
          <p:spPr>
            <a:xfrm>
              <a:off x="2971800" y="3770280"/>
              <a:ext cx="18478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77960" y="468468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ddle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575320" y="3732120"/>
            <a:ext cx="1949400" cy="1434960"/>
            <a:chOff x="5575320" y="3732120"/>
            <a:chExt cx="1949400" cy="1434960"/>
          </a:xfrm>
        </p:grpSpPr>
        <p:pic>
          <p:nvPicPr>
            <p:cNvPr id="75" name="" descr=""/>
            <p:cNvPicPr/>
            <p:nvPr/>
          </p:nvPicPr>
          <p:blipFill>
            <a:blip r:embed="rId3"/>
            <a:srcRect l="68523" t="41842" r="16496" b="38544"/>
            <a:stretch/>
          </p:blipFill>
          <p:spPr>
            <a:xfrm>
              <a:off x="5575320" y="3732120"/>
              <a:ext cx="194940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225840" y="464652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4280" y="31680"/>
            <a:ext cx="912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 Proposed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040" y="793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3717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16120" y="41767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54120" y="1162080"/>
            <a:ext cx="1860480" cy="1434960"/>
            <a:chOff x="654120" y="1162080"/>
            <a:chExt cx="1860480" cy="14349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rcRect l="36605" t="41842" r="49099" b="38544"/>
            <a:stretch/>
          </p:blipFill>
          <p:spPr>
            <a:xfrm>
              <a:off x="654120" y="1162080"/>
              <a:ext cx="18604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275480" y="2063880"/>
              <a:ext cx="109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w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63800" y="1162080"/>
            <a:ext cx="1847880" cy="1434960"/>
            <a:chOff x="2863800" y="1162080"/>
            <a:chExt cx="1847880" cy="143496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52611" t="41842" r="33188" b="38544"/>
            <a:stretch/>
          </p:blipFill>
          <p:spPr>
            <a:xfrm>
              <a:off x="2863800" y="1162080"/>
              <a:ext cx="184788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69960" y="207648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ddle 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02000" y="15937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60520" y="26859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26607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8400" y="2305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400" y="2685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440" y="2685960"/>
            <a:ext cx="197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2440" y="231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330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49840" y="1085760"/>
            <a:ext cx="4216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qual to or less than 1372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08560" y="1695600"/>
                <a:ext cx="3505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4749840" y="1413000"/>
            <a:ext cx="2438280" cy="405720"/>
            <a:chOff x="4749840" y="1413000"/>
            <a:chExt cx="2438280" cy="405720"/>
          </a:xfrm>
        </p:grpSpPr>
        <p:sp>
          <p:nvSpPr>
            <p:cNvPr id="98" name=""/>
            <p:cNvSpPr/>
            <p:nvPr/>
          </p:nvSpPr>
          <p:spPr>
            <a:xfrm>
              <a:off x="4749840" y="1413000"/>
              <a:ext cx="243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829120" y="1451160"/>
                  <a:ext cx="695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" name=""/>
          <p:cNvSpPr/>
          <p:nvPr/>
        </p:nvSpPr>
        <p:spPr>
          <a:xfrm>
            <a:off x="5638680" y="5192640"/>
            <a:ext cx="21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qual to or less than 765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48400" y="5243400"/>
            <a:ext cx="178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64240" y="50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16720" y="50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2760" y="3676680"/>
            <a:ext cx="76320" cy="1676520"/>
          </a:xfrm>
          <a:custGeom>
            <a:avLst/>
            <a:gdLst>
              <a:gd name="textAreaLeft" fmla="*/ 22320 w 76320"/>
              <a:gd name="textAreaRight" fmla="*/ 76320 w 763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9080" y="367668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81360" y="5264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kipped if same condition as cold start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3680" y="58611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hase test can be conducted after middle phase or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27C3-E197-403B-8410-A105D20E9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280" y="38160"/>
            <a:ext cx="912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. Jus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14400"/>
            <a:ext cx="35053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presenta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10 min. soa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15 min. drive @ 60k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86200"/>
            <a:ext cx="3505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07040" y="2590920"/>
            <a:ext cx="358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st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32120" y="5715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800" y="5805360"/>
            <a:ext cx="2831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hase should be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7800" y="490212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28920" y="4724280"/>
            <a:ext cx="43884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F in each phase is best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duration should be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ffic volume rat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5056200"/>
            <a:ext cx="78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39280" y="806400"/>
            <a:ext cx="4440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longest cycle duration is first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high phase test is inevi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38420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1523880"/>
            <a:ext cx="4775040" cy="87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ither condition is acceptable by adjust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ld/Hot weighting factor. The “warm up” condition is more effective for testing flexibilit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1943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831B-C29D-40C4-BD2D-6836EE57DF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ld/Hot Start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Average Emission per 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Calculation of Cold Weigh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. Requi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46E-8595-4768-89E8-A9A1E4E26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530360"/>
            <a:ext cx="316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that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1511280"/>
            <a:ext cx="300492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0560" y="1744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6560" y="76500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35440"/>
            <a:ext cx="230364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4078440"/>
            <a:ext cx="323820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5662440"/>
            <a:ext cx="32382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hot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2698560" y="4438080"/>
            <a:ext cx="361080" cy="65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9" idx="3"/>
            <a:endCxn id="131" idx="1"/>
          </p:cNvCxnSpPr>
          <p:nvPr/>
        </p:nvCxnSpPr>
        <p:spPr>
          <a:xfrm>
            <a:off x="2698560" y="5095440"/>
            <a:ext cx="361080" cy="92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732720" y="3573360"/>
            <a:ext cx="194292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col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461808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3"/>
            <a:endCxn id="134" idx="1"/>
          </p:cNvCxnSpPr>
          <p:nvPr/>
        </p:nvCxnSpPr>
        <p:spPr>
          <a:xfrm flipV="1">
            <a:off x="6297120" y="3933000"/>
            <a:ext cx="435960" cy="50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0" idx="3"/>
            <a:endCxn id="135" idx="1"/>
          </p:cNvCxnSpPr>
          <p:nvPr/>
        </p:nvCxnSpPr>
        <p:spPr>
          <a:xfrm>
            <a:off x="6297120" y="4438440"/>
            <a:ext cx="435960" cy="540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>
            <a:off x="6297120" y="60224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66560" y="285264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tail of average emission per vehicle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45320" y="565632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3CF2-E45E-4CF3-9395-D874773304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09-27T09:28:46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