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0609-E7AD-4C85-8BDA-47DEC8FCA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1E0F-E737-46B1-B0A4-EC9B955C3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8641-BA55-42FC-B351-FA15EC1CF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B9D3-31C6-42CE-B574-161DF5870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D550-DD7F-49DE-87A8-D288A62793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371C-D4C8-476D-9F27-B63B3B4C2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C5FC-CE61-4008-AC8D-B68B8FC1A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3D7E-5014-473C-B389-479B3DFCD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964E-9E3D-4A82-8947-6D3B3D250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50E8-225F-4B8F-ADD2-AA289FE8A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59A1-5BC1-4BB8-9CC7-B8C238F63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0E85-3DC3-43B5-8755-C9F05E2E7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5052-D50C-4BF6-80C9-72733815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5-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LTC* 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PE/WLTP-IG/ DHC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4952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88800" y="6247440"/>
            <a:ext cx="51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WLTC : Worldwide harmonized Light-duty driving Tes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DD78-5901-4E34-B688-3DCC858606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0" y="2203560"/>
            <a:ext cx="3097080" cy="22334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203560"/>
            <a:ext cx="3097440" cy="21621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20" y="56880"/>
            <a:ext cx="9124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Average Emission per Trip and Col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765000"/>
            <a:ext cx="8677080" cy="113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missio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/km) formula is as fol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6560" y="2362320"/>
            <a:ext cx="1081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emission under cold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533680"/>
            <a:ext cx="13687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emission under ho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31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3311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3311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560" y="2022480"/>
            <a:ext cx="194328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277956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col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32720" y="277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(1 - R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97440" y="2852640"/>
            <a:ext cx="248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31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3311640"/>
            <a:ext cx="7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2060640"/>
            <a:ext cx="194328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80360" y="3139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97440" y="3139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251160"/>
            <a:ext cx="2448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3251160"/>
            <a:ext cx="1079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13280" y="3213000"/>
            <a:ext cx="2448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0388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3860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T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1584360" y="2528640"/>
            <a:ext cx="215640" cy="2448000"/>
          </a:xfrm>
          <a:custGeom>
            <a:avLst/>
            <a:gdLst>
              <a:gd name="textAreaLeft" fmla="*/ 0 w 215640"/>
              <a:gd name="textAreaRight" fmla="*/ 77760 w 21564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0" y="4411800"/>
            <a:ext cx="3778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(*)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T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= (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*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ycle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+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* (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–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ycle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))/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4979880"/>
            <a:ext cx="579132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(1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1-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- 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4797360"/>
            <a:ext cx="885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4854600"/>
            <a:ext cx="32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ld start we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ld start trip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Average one trip distance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Cycle distance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Cold start trip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Hot start trip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 Cold start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 Hot start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321300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ff"/>
                </a:solidFill>
                <a:latin typeface="Arial"/>
              </a:rPr>
              <a:t>HT</a:t>
            </a: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276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E09D-AAFF-418B-9C44-6CB3BE4E2B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Cold Start Trip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60360" y="292572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60360" y="414972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60360" y="3105000"/>
            <a:ext cx="2232000" cy="1044720"/>
          </a:xfrm>
          <a:custGeom>
            <a:avLst/>
            <a:gdLst/>
            <a:ahLst/>
            <a:rect l="l" t="t" r="r" b="b"/>
            <a:pathLst>
              <a:path w="1406" h="658">
                <a:moveTo>
                  <a:pt x="0" y="658"/>
                </a:moveTo>
                <a:cubicBezTo>
                  <a:pt x="15" y="603"/>
                  <a:pt x="44" y="432"/>
                  <a:pt x="89" y="330"/>
                </a:cubicBezTo>
                <a:cubicBezTo>
                  <a:pt x="134" y="228"/>
                  <a:pt x="213" y="90"/>
                  <a:pt x="273" y="45"/>
                </a:cubicBezTo>
                <a:cubicBezTo>
                  <a:pt x="333" y="0"/>
                  <a:pt x="395" y="21"/>
                  <a:pt x="451" y="62"/>
                </a:cubicBezTo>
                <a:cubicBezTo>
                  <a:pt x="507" y="103"/>
                  <a:pt x="565" y="234"/>
                  <a:pt x="611" y="294"/>
                </a:cubicBezTo>
                <a:cubicBezTo>
                  <a:pt x="657" y="354"/>
                  <a:pt x="673" y="379"/>
                  <a:pt x="730" y="425"/>
                </a:cubicBezTo>
                <a:cubicBezTo>
                  <a:pt x="787" y="471"/>
                  <a:pt x="840" y="537"/>
                  <a:pt x="953" y="568"/>
                </a:cubicBezTo>
                <a:cubicBezTo>
                  <a:pt x="1066" y="599"/>
                  <a:pt x="1236" y="613"/>
                  <a:pt x="1406" y="61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60360" y="494172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60360" y="616572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44520" y="5129280"/>
            <a:ext cx="2127240" cy="817560"/>
          </a:xfrm>
          <a:custGeom>
            <a:avLst/>
            <a:gdLst/>
            <a:ahLst/>
            <a:rect l="l" t="t" r="r" b="b"/>
            <a:pathLst>
              <a:path w="1340" h="515">
                <a:moveTo>
                  <a:pt x="0" y="65"/>
                </a:moveTo>
                <a:cubicBezTo>
                  <a:pt x="17" y="56"/>
                  <a:pt x="65" y="0"/>
                  <a:pt x="107" y="11"/>
                </a:cubicBezTo>
                <a:cubicBezTo>
                  <a:pt x="149" y="22"/>
                  <a:pt x="200" y="74"/>
                  <a:pt x="253" y="129"/>
                </a:cubicBezTo>
                <a:cubicBezTo>
                  <a:pt x="306" y="184"/>
                  <a:pt x="366" y="290"/>
                  <a:pt x="425" y="343"/>
                </a:cubicBezTo>
                <a:cubicBezTo>
                  <a:pt x="484" y="396"/>
                  <a:pt x="550" y="428"/>
                  <a:pt x="609" y="450"/>
                </a:cubicBezTo>
                <a:cubicBezTo>
                  <a:pt x="668" y="472"/>
                  <a:pt x="712" y="465"/>
                  <a:pt x="782" y="474"/>
                </a:cubicBezTo>
                <a:cubicBezTo>
                  <a:pt x="852" y="483"/>
                  <a:pt x="938" y="497"/>
                  <a:pt x="1031" y="504"/>
                </a:cubicBezTo>
                <a:cubicBezTo>
                  <a:pt x="1124" y="511"/>
                  <a:pt x="1289" y="513"/>
                  <a:pt x="1340" y="515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60360" y="5950080"/>
            <a:ext cx="216072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81280" y="59054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Ambient te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37880" y="34711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3080" y="4149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4720" y="2565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of 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4720" y="45226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3240" y="5407920"/>
            <a:ext cx="20336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olant temp. drop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olant te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260000" y="343044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3430440"/>
            <a:ext cx="0" cy="27352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260360" y="5148360"/>
            <a:ext cx="21686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2400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3080" y="6165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31920" y="6165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2997360"/>
            <a:ext cx="32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rip ratio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Rectangle 5"/>
              <p:cNvSpPr txBox="1"/>
              <p:nvPr/>
            </p:nvSpPr>
            <p:spPr>
              <a:xfrm>
                <a:off x="5018040" y="3878280"/>
                <a:ext cx="3225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a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l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645080" y="4618080"/>
            <a:ext cx="411804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ld start trip ratio (= Average cold start emission increment rat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oa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requency of soak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ld start factor (Coolant temp. drop ratio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9080" y="2781360"/>
            <a:ext cx="4321080" cy="37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888840"/>
            <a:ext cx="864072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cold start trip ratio by multiplying the soak time distribution and the coolant temperature drop ratio as the emission increase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3600" y="5154480"/>
            <a:ext cx="2025720" cy="1001880"/>
          </a:xfrm>
          <a:custGeom>
            <a:avLst/>
            <a:gdLst/>
            <a:ahLst/>
            <a:rect l="l" t="t" r="r" b="b"/>
            <a:pathLst>
              <a:path w="1276" h="631">
                <a:moveTo>
                  <a:pt x="0" y="631"/>
                </a:moveTo>
                <a:cubicBezTo>
                  <a:pt x="19" y="586"/>
                  <a:pt x="72" y="431"/>
                  <a:pt x="113" y="363"/>
                </a:cubicBezTo>
                <a:cubicBezTo>
                  <a:pt x="154" y="295"/>
                  <a:pt x="195" y="263"/>
                  <a:pt x="249" y="221"/>
                </a:cubicBezTo>
                <a:cubicBezTo>
                  <a:pt x="303" y="179"/>
                  <a:pt x="325" y="142"/>
                  <a:pt x="439" y="108"/>
                </a:cubicBezTo>
                <a:cubicBezTo>
                  <a:pt x="553" y="74"/>
                  <a:pt x="793" y="34"/>
                  <a:pt x="932" y="17"/>
                </a:cubicBezTo>
                <a:cubicBezTo>
                  <a:pt x="1071" y="0"/>
                  <a:pt x="1204" y="9"/>
                  <a:pt x="1276" y="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4290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oak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52578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cold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3809880"/>
            <a:ext cx="3657600" cy="68580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B3B4-BF4F-455E-BFBA-9FC512EDF7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0920" y="1627200"/>
            <a:ext cx="8785080" cy="35305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1. Calculation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2057400"/>
            <a:ext cx="2286000" cy="30708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/Mid. H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447920"/>
            <a:ext cx="19429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0556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2430360"/>
            <a:ext cx="1871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49560" y="2430360"/>
            <a:ext cx="15843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76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/Mid. cold + Low/Mid hot + High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2057400"/>
            <a:ext cx="2270160" cy="3070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H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7392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605560" y="2430000"/>
            <a:ext cx="1368360" cy="18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2387520"/>
          <a:ext cx="7924680" cy="2470320"/>
        </p:xfrm>
        <a:graphic>
          <a:graphicData uri="http://schemas.openxmlformats.org/drawingml/2006/table">
            <a:tbl>
              <a:tblPr/>
              <a:tblGrid>
                <a:gridCol w="1487520"/>
                <a:gridCol w="1865160"/>
                <a:gridCol w="2286000"/>
                <a:gridCol w="22860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 (g/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,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Arial"/>
                        </a:rPr>
                        <a:t>C,LM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* E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(D</a:t>
                      </a:r>
                      <a:r>
                        <a:rPr b="0" lang="en-US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LM </a:t>
                      </a: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– D</a:t>
                      </a:r>
                      <a:r>
                        <a:rPr b="0" lang="en-US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C,LM</a:t>
                      </a: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) * E</a:t>
                      </a:r>
                      <a:r>
                        <a:rPr b="0" lang="en-US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H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 * E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,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739800" y="5715000"/>
            <a:ext cx="79470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T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= M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,T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/ 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 (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* E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+ (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* W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– 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,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+ (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* W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,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 / 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200" y="5300640"/>
            <a:ext cx="85694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mission during cold start trip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C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9600" y="6461280"/>
            <a:ext cx="1339920" cy="0"/>
          </a:xfrm>
          <a:prstGeom prst="line">
            <a:avLst/>
          </a:prstGeom>
          <a:ln w="47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6477120"/>
            <a:ext cx="2362320" cy="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6477120"/>
            <a:ext cx="158436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6477120"/>
            <a:ext cx="504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4240" y="2057400"/>
            <a:ext cx="1884240" cy="307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/Mid. C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52ED-AFB7-4EE0-9156-5BA9C9C6E6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2 Calculation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2600" y="2093760"/>
            <a:ext cx="5364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L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557360"/>
            <a:ext cx="5688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mission during hot start trip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7672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1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LM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LM,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706840"/>
            <a:ext cx="4896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missi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2600" y="5270400"/>
            <a:ext cx="5437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LM,C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LM,H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– D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H,H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4886280"/>
            <a:ext cx="4968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Cold/Hot weighting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765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ld + Low hot + Middle hot + High hot (cont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0960" y="1844640"/>
            <a:ext cx="1731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/Mid.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127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30960" y="2131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46800" y="2205000"/>
            <a:ext cx="1639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13360" y="220968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,LM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1844640"/>
            <a:ext cx="1676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220968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,H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839080" y="21477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80200" y="2203560"/>
            <a:ext cx="1639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152388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 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1320" y="1523880"/>
            <a:ext cx="99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 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295280"/>
            <a:ext cx="3886200" cy="1600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73DF-B08A-4E90-809F-AC62480120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.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3141720"/>
            <a:ext cx="8569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information/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following two items based on actual vehicl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tribution of soa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riving distance per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following based on engine benc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lant temperature drop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ycl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tio of traffic volume in each phase (L/M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411480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33412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Japan, these figures are obtained based on survey and traffic sen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5520" y="851040"/>
            <a:ext cx="86421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lc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cold start tri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old start ratio by multiplying the soak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and the  coolant temperature dro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cold start 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old start WF based on average one trip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rip ratio and test cycle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8B50-27BB-468B-82AD-70B21C690E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 Required Data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8366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tribution of soa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1371600"/>
          <a:ext cx="4087800" cy="4803840"/>
        </p:xfrm>
        <a:graphic>
          <a:graphicData uri="http://schemas.openxmlformats.org/drawingml/2006/table">
            <a:tbl>
              <a:tblPr/>
              <a:tblGrid>
                <a:gridCol w="1382760"/>
                <a:gridCol w="1352520"/>
                <a:gridCol w="1352520"/>
              </a:tblGrid>
              <a:tr h="2606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– 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 – 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– 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– 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– 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– 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– 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 – 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-4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 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57020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7C6E-C757-46AF-8F32-199710B51E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 Required Data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6680" y="76212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ld start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268280"/>
          <a:ext cx="4262040" cy="4903920"/>
        </p:xfrm>
        <a:graphic>
          <a:graphicData uri="http://schemas.openxmlformats.org/drawingml/2006/table">
            <a:tbl>
              <a:tblPr/>
              <a:tblGrid>
                <a:gridCol w="852120"/>
                <a:gridCol w="852480"/>
                <a:gridCol w="852480"/>
                <a:gridCol w="852480"/>
                <a:gridCol w="852480"/>
              </a:tblGrid>
              <a:tr h="415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ant tem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ant tem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– 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 – 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– 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– 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– 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– 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– 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 – 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-4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 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932360" y="1962000"/>
            <a:ext cx="3438360" cy="32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6B0F-461B-4993-915E-4D6D13BF15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ar Shif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Analys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 How to define the gear posi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 Definition of Shif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. Factor Analysis / Frequenc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5.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6. Analysis Sample (JC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A3B3-79B5-4515-B644-9F11CDFE05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568760" y="1803240"/>
            <a:ext cx="1500120" cy="1128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6224760" y="1803240"/>
            <a:ext cx="1496880" cy="1132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3"/>
          <a:stretch/>
        </p:blipFill>
        <p:spPr>
          <a:xfrm>
            <a:off x="4497480" y="5530680"/>
            <a:ext cx="4038480" cy="100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380880" y="1855800"/>
            <a:ext cx="359892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use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380880" y="3079800"/>
            <a:ext cx="359892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380880" y="4232160"/>
            <a:ext cx="35989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Shift point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80880" y="5530680"/>
            <a:ext cx="359892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AutoShape 10"/>
          <p:cNvCxnSpPr>
            <a:stCxn id="264" idx="2"/>
            <a:endCxn id="265" idx="0"/>
          </p:cNvCxnSpPr>
          <p:nvPr/>
        </p:nvCxnSpPr>
        <p:spPr>
          <a:xfrm>
            <a:off x="2180880" y="271908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11"/>
          <p:cNvCxnSpPr>
            <a:stCxn id="265" idx="2"/>
            <a:endCxn id="266" idx="0"/>
          </p:cNvCxnSpPr>
          <p:nvPr/>
        </p:nvCxnSpPr>
        <p:spPr>
          <a:xfrm>
            <a:off x="2180880" y="3943440"/>
            <a:ext cx="1080" cy="28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12"/>
          <p:cNvCxnSpPr>
            <a:stCxn id="266" idx="2"/>
            <a:endCxn id="267" idx="0"/>
          </p:cNvCxnSpPr>
          <p:nvPr/>
        </p:nvCxnSpPr>
        <p:spPr>
          <a:xfrm>
            <a:off x="2180880" y="5095800"/>
            <a:ext cx="1080" cy="435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ext Box 13"/>
          <p:cNvSpPr/>
          <p:nvPr/>
        </p:nvSpPr>
        <p:spPr>
          <a:xfrm>
            <a:off x="4347720" y="4629240"/>
            <a:ext cx="27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x)=a*V+b*A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4" descr=""/>
          <p:cNvPicPr/>
          <p:nvPr/>
        </p:nvPicPr>
        <p:blipFill>
          <a:blip r:embed="rId4"/>
          <a:stretch/>
        </p:blipFill>
        <p:spPr>
          <a:xfrm>
            <a:off x="4565520" y="3308400"/>
            <a:ext cx="1241640" cy="1198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5"/>
          <p:cNvSpPr/>
          <p:nvPr/>
        </p:nvSpPr>
        <p:spPr>
          <a:xfrm>
            <a:off x="380880" y="762120"/>
            <a:ext cx="8458200" cy="898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gear shift points based on in-use survey to represent the real driving behav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4502520" y="306720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a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CE5C-DC7B-420C-BF8F-03811211E7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How to define the gear posi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3059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se of manual gear shift, the formula for calculating vehicle speed would be the following if the clutch was eng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gear position can be defined by calculating gear ratio during 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Rectangle 5"/>
              <p:cNvSpPr txBox="1"/>
              <p:nvPr/>
            </p:nvSpPr>
            <p:spPr>
              <a:xfrm>
                <a:off x="1905120" y="3076560"/>
                <a:ext cx="1747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Νε</m:t>
                        </m:r>
                      </m:num>
                      <m:den>
                        <m:sSub>
                          <m:e>
                            <m:r>
                              <m:t xml:space="preserve">ι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ι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4648320" y="2514600"/>
            <a:ext cx="335268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: Vehicle speed (km/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: Engine speed (1/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adius of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ear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l reduction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2BEF-F5DF-4F4E-875F-08EDEC121C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9144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/Hot Start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680" y="442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95F9-808C-441C-8BD9-4BE6E81368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Definition of Shif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960" y="863640"/>
            <a:ext cx="81532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up_1: Clutch release point for up-shi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up_2: Clutch engage point after putting in higher 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down_1: Clutch release point for down-shifting or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Rectangle 5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607440" cy="44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6A6D-2B1B-43C6-8B30-2B49699005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Factor Analysis /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vehicle speed in each gear position (both up-shift and down-shift), then generate various frequency distribution by each vehicle category and analyze the factors that effect shift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speed frequency distribution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m/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km/h 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acceleration frequency distribution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km/h/s, 1km/h/s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 speed frequency distribution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0 rpm, 100rpm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engine speed frequency distribution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%, 10 %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F9FF-0AFF-4FE1-BCB9-3FA035D71F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1.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320" y="66024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shift point equation by Stepwise selec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9800" y="1109520"/>
          <a:ext cx="8229600" cy="5494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ory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 rowSpan="17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peed (km/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peed (1/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ed engine speed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 (km/h/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M1, 2: N1, 3: N2,,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Petrol, 2: Diesel, 3: LPG,,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g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b weight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ay load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vehicle weight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 (c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ower (k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torque (N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to mass ratio (kW/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que to mass ratio (Nm/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ed vehicle weigh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n = Curb weight / GV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 train coefficient (D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slide 3.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8D57-C60F-4A4A-BAC0-CB52ECA23B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2. Drive Train Coefficien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5219640" y="4950000"/>
            <a:ext cx="352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 : Drive Trai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95280" y="1268280"/>
            <a:ext cx="446400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538200" y="1413000"/>
            <a:ext cx="4038480" cy="22399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826920" y="4254480"/>
            <a:ext cx="3600720" cy="14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πr / (im * if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ning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er engine speed        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ire radiu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ar rati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nal reduction gear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icle spee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m/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ngine spee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8"/>
              <p:cNvSpPr txBox="1"/>
              <p:nvPr/>
            </p:nvSpPr>
            <p:spPr>
              <a:xfrm>
                <a:off x="1784520" y="3657600"/>
                <a:ext cx="1508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Rectangle 10"/>
          <p:cNvSpPr/>
          <p:nvPr/>
        </p:nvSpPr>
        <p:spPr>
          <a:xfrm>
            <a:off x="5219640" y="1247760"/>
            <a:ext cx="3600360" cy="34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"/>
          <p:cNvPicPr/>
          <p:nvPr/>
        </p:nvPicPr>
        <p:blipFill>
          <a:blip r:embed="rId2"/>
          <a:stretch/>
        </p:blipFill>
        <p:spPr>
          <a:xfrm>
            <a:off x="5435640" y="1674720"/>
            <a:ext cx="2951280" cy="2906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2"/>
          <p:cNvSpPr/>
          <p:nvPr/>
        </p:nvSpPr>
        <p:spPr>
          <a:xfrm>
            <a:off x="6559560" y="135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y = DTC * G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7932600" y="427356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7451640" y="1700280"/>
            <a:ext cx="21600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29160" y="2647800"/>
            <a:ext cx="11430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reduction g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25C5-6845-4BCD-997E-14E0511799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1. Analysis Sample (JC08) - shift up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Rectangle 5" descr=""/>
          <p:cNvPicPr/>
          <p:nvPr/>
        </p:nvPicPr>
        <p:blipFill>
          <a:blip r:embed="rId1"/>
          <a:stretch/>
        </p:blipFill>
        <p:spPr>
          <a:xfrm>
            <a:off x="876240" y="907920"/>
            <a:ext cx="7373880" cy="573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320C-7FBF-4A4C-B471-5971A34C2F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2. Analysis Sample (JC08) - downshift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Rectangle 5" descr=""/>
          <p:cNvPicPr/>
          <p:nvPr/>
        </p:nvPicPr>
        <p:blipFill>
          <a:blip r:embed="rId1"/>
          <a:stretch/>
        </p:blipFill>
        <p:spPr>
          <a:xfrm>
            <a:off x="885960" y="836640"/>
            <a:ext cx="7359480" cy="58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4485-290A-4CC5-B55A-42FDB06DB0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3. Analysis Sample (JC08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natory variable of shif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Rectangle 5" descr=""/>
          <p:cNvPicPr/>
          <p:nvPr/>
        </p:nvPicPr>
        <p:blipFill>
          <a:blip r:embed="rId1"/>
          <a:stretch/>
        </p:blipFill>
        <p:spPr>
          <a:xfrm>
            <a:off x="219240" y="1066680"/>
            <a:ext cx="8677080" cy="42753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200" y="56386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the explanatory variable will be determined based on stepwise selection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F443-8444-470C-A3B8-F8FF9DD297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4. Analysis Sample (JC08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natory variable of down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Rectangle 5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8677080" cy="4275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57200" y="56386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2360" indent="-25236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the explanatory variable will be determined based on stepwise selection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AB70-C8D6-4DE3-B6B3-94CB631601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5. Analysis Sample (JC08) - Gearshift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x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Gearshift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Speed in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Acceleration in km/h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Normalized vehicle weight (Curb weight / GV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Engine speed in r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Drive trai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Rectangle 5"/>
              <p:cNvSpPr txBox="1"/>
              <p:nvPr/>
            </p:nvSpPr>
            <p:spPr>
              <a:xfrm>
                <a:off x="826920" y="1440000"/>
                <a:ext cx="763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76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781200" y="2451240"/>
                <a:ext cx="80658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w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24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3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29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82760" y="554976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2360" indent="-252360"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mpletion of all data acquisition, the gearshift equation for WLTC will be develop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58CA-F130-46B9-9177-D038527EE2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6. Analysis Sample (JC08) – Final Shif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657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ger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Du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Rectangle 5" descr=""/>
          <p:cNvPicPr/>
          <p:nvPr/>
        </p:nvPicPr>
        <p:blipFill>
          <a:blip r:embed="rId1"/>
          <a:stretch/>
        </p:blipFill>
        <p:spPr>
          <a:xfrm>
            <a:off x="3645000" y="1003320"/>
            <a:ext cx="5333760" cy="2971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203960" y="2220840"/>
            <a:ext cx="254160" cy="23832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45000" y="2516040"/>
            <a:ext cx="252360" cy="23832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2438280"/>
            <a:ext cx="533160" cy="1600200"/>
          </a:xfrm>
          <a:prstGeom prst="line">
            <a:avLst/>
          </a:prstGeom>
          <a:ln w="255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029200" y="2742840"/>
            <a:ext cx="533520" cy="12193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05600" y="1119240"/>
            <a:ext cx="1212840" cy="245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6320" y="5105520"/>
            <a:ext cx="4444920" cy="1627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4419360" cy="1617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572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assenger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4724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ight duty commercial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13680" y="4051440"/>
            <a:ext cx="1752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n=0.80, DTC=0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91120" y="3962520"/>
            <a:ext cx="198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LD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n=0.58, DTC=0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F1ED-36AC-40E1-B59E-0B3F156F9A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. Current Test Cycle in EU, US and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. Requirement on Te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 Proposed Cycl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. Jus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946E-D4C5-4A27-BD45-EBD7CF98C9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Current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838080"/>
          <a:ext cx="815328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2389320"/>
                <a:gridCol w="1646280"/>
                <a:gridCol w="1536480"/>
                <a:gridCol w="159084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/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ssive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        Ho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rcRect l="15890" t="41428" r="43224" b="23178"/>
          <a:stretch/>
        </p:blipFill>
        <p:spPr>
          <a:xfrm>
            <a:off x="3975120" y="2019240"/>
            <a:ext cx="1523880" cy="74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6108" t="28552" r="43283" b="37791"/>
          <a:stretch/>
        </p:blipFill>
        <p:spPr>
          <a:xfrm>
            <a:off x="7169040" y="2057400"/>
            <a:ext cx="1454400" cy="67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6258" t="26953" r="43468" b="38465"/>
          <a:stretch/>
        </p:blipFill>
        <p:spPr>
          <a:xfrm>
            <a:off x="5626080" y="2070000"/>
            <a:ext cx="1416240" cy="68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16197" t="30172" r="43429" b="35822"/>
          <a:stretch/>
        </p:blipFill>
        <p:spPr>
          <a:xfrm>
            <a:off x="1663560" y="1955880"/>
            <a:ext cx="1981440" cy="938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15948" t="27878" r="43675" b="37451"/>
          <a:stretch/>
        </p:blipFill>
        <p:spPr>
          <a:xfrm>
            <a:off x="2844720" y="3086280"/>
            <a:ext cx="258444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200000">
            <a:off x="2359080" y="2206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min.so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680" y="589284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WLTP-DHC-05-04, Urban/Rural/Motorway phase will be converted to Low/Middle/High phase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rcRect l="24501" t="32815" r="7322" b="23788"/>
          <a:stretch/>
        </p:blipFill>
        <p:spPr>
          <a:xfrm>
            <a:off x="2997360" y="4572000"/>
            <a:ext cx="241272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6400" y="5029200"/>
            <a:ext cx="14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independent 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precondition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AE98-7FC8-4296-BC05-4E0474A68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4160" y="3340080"/>
            <a:ext cx="5029200" cy="32004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test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ner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comm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Requirement on Test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838080"/>
            <a:ext cx="6019560" cy="3657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 (e.g. 6 or 12 hours s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soak (e.g. 10 min. soa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up (e.g. 15 min. drive @ 60kp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onsumption/G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01400" y="2463840"/>
            <a:ext cx="138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3314880"/>
            <a:ext cx="4647960" cy="32004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ssis dyna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analysis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ampl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4280" y="2819520"/>
            <a:ext cx="28958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EA77-7D01-4D03-BE0E-3F5D1CECF9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673200" y="3795840"/>
            <a:ext cx="1860480" cy="1434960"/>
            <a:chOff x="673200" y="3795840"/>
            <a:chExt cx="1860480" cy="1434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36605" t="41842" r="49099" b="38544"/>
            <a:stretch/>
          </p:blipFill>
          <p:spPr>
            <a:xfrm>
              <a:off x="673200" y="3795840"/>
              <a:ext cx="186048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294560" y="4697640"/>
              <a:ext cx="109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971800" y="3770280"/>
            <a:ext cx="1847880" cy="1434960"/>
            <a:chOff x="2971800" y="3770280"/>
            <a:chExt cx="1847880" cy="143496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52611" t="41842" r="33188" b="38544"/>
            <a:stretch/>
          </p:blipFill>
          <p:spPr>
            <a:xfrm>
              <a:off x="2971800" y="3770280"/>
              <a:ext cx="184788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477960" y="4684680"/>
              <a:ext cx="130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ddle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575320" y="3732120"/>
            <a:ext cx="1949400" cy="1434960"/>
            <a:chOff x="5575320" y="3732120"/>
            <a:chExt cx="1949400" cy="1434960"/>
          </a:xfrm>
        </p:grpSpPr>
        <p:pic>
          <p:nvPicPr>
            <p:cNvPr id="75" name="" descr=""/>
            <p:cNvPicPr/>
            <p:nvPr/>
          </p:nvPicPr>
          <p:blipFill>
            <a:blip r:embed="rId3"/>
            <a:srcRect l="68523" t="41842" r="16496" b="38544"/>
            <a:stretch/>
          </p:blipFill>
          <p:spPr>
            <a:xfrm>
              <a:off x="5575320" y="3732120"/>
              <a:ext cx="194940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225840" y="464652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4280" y="31680"/>
            <a:ext cx="912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 Proposed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3040" y="7938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3717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16120" y="417672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54120" y="1162080"/>
            <a:ext cx="1860480" cy="1434960"/>
            <a:chOff x="654120" y="1162080"/>
            <a:chExt cx="1860480" cy="1434960"/>
          </a:xfrm>
        </p:grpSpPr>
        <p:pic>
          <p:nvPicPr>
            <p:cNvPr id="82" name="" descr=""/>
            <p:cNvPicPr/>
            <p:nvPr/>
          </p:nvPicPr>
          <p:blipFill>
            <a:blip r:embed="rId4"/>
            <a:srcRect l="36605" t="41842" r="49099" b="38544"/>
            <a:stretch/>
          </p:blipFill>
          <p:spPr>
            <a:xfrm>
              <a:off x="654120" y="1162080"/>
              <a:ext cx="186048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275480" y="2063880"/>
              <a:ext cx="109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63800" y="1162080"/>
            <a:ext cx="1847880" cy="1434960"/>
            <a:chOff x="2863800" y="1162080"/>
            <a:chExt cx="1847880" cy="143496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52611" t="41842" r="33188" b="38544"/>
            <a:stretch/>
          </p:blipFill>
          <p:spPr>
            <a:xfrm>
              <a:off x="2863800" y="1162080"/>
              <a:ext cx="184788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69960" y="2076480"/>
              <a:ext cx="130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ddle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02000" y="15937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60520" y="26859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26607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8400" y="2305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8400" y="26859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440" y="2685960"/>
            <a:ext cx="197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92440" y="231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330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49840" y="1085760"/>
            <a:ext cx="4216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qual to or less than 1372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08560" y="1695600"/>
                <a:ext cx="3505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4749840" y="1413000"/>
            <a:ext cx="2438280" cy="405720"/>
            <a:chOff x="4749840" y="1413000"/>
            <a:chExt cx="2438280" cy="405720"/>
          </a:xfrm>
        </p:grpSpPr>
        <p:sp>
          <p:nvSpPr>
            <p:cNvPr id="98" name=""/>
            <p:cNvSpPr/>
            <p:nvPr/>
          </p:nvSpPr>
          <p:spPr>
            <a:xfrm>
              <a:off x="4749840" y="1413000"/>
              <a:ext cx="243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829120" y="1451160"/>
                  <a:ext cx="695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0" name=""/>
          <p:cNvSpPr/>
          <p:nvPr/>
        </p:nvSpPr>
        <p:spPr>
          <a:xfrm>
            <a:off x="5638680" y="5192640"/>
            <a:ext cx="2133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equal to or less than 765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48400" y="5243400"/>
            <a:ext cx="178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64240" y="50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16720" y="50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2760" y="3676680"/>
            <a:ext cx="76320" cy="1676520"/>
          </a:xfrm>
          <a:custGeom>
            <a:avLst/>
            <a:gdLst>
              <a:gd name="textAreaLeft" fmla="*/ 22320 w 76320"/>
              <a:gd name="textAreaRight" fmla="*/ 76320 w 7632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9080" y="367668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81360" y="5264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kipped if same condition as cold start p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3680" y="58611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hase test can be conducted after middle phase or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3412-0ED1-4DB1-85A1-3781112606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280" y="38160"/>
            <a:ext cx="912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. Jus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914400"/>
            <a:ext cx="35053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presenta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soa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10 min. soa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u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15 min. drive @ 60k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onsumption/G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86200"/>
            <a:ext cx="3505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test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ner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comm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07040" y="2590920"/>
            <a:ext cx="35812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st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ssis dyna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analysis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ampl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32120" y="57150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800" y="5805360"/>
            <a:ext cx="2831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hase should be 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7800" y="490212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28920" y="4724280"/>
            <a:ext cx="43884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F in each phase is best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hase duration should be based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ffic volume rat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505620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39280" y="806400"/>
            <a:ext cx="44402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longest cycle duration is first st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high phase test is inevi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38420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1523880"/>
            <a:ext cx="4775040" cy="87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ither condition is acceptable by adjust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old/Hot weighting factor. The “warm up” condition is more effective for testing flexibilit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1280" y="1943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3BC6-2106-4485-A20C-4C0DC757B8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ld/Hot Start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/Hot Start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. How to obtain real-world emiss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. Average Emission per Tr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. Cold Start Trip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. Calculation of Cold Weight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. Requi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51EA-EDF8-4438-AD3F-5927142DDC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How to obtain real-world emissi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1530360"/>
            <a:ext cx="316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 that should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1511280"/>
            <a:ext cx="3004920" cy="825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emission per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0560" y="1744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6560" y="76500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735440"/>
            <a:ext cx="230364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ission per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4078440"/>
            <a:ext cx="323820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during cold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5662440"/>
            <a:ext cx="323820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during hot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9" idx="3"/>
            <a:endCxn id="130" idx="1"/>
          </p:cNvCxnSpPr>
          <p:nvPr/>
        </p:nvCxnSpPr>
        <p:spPr>
          <a:xfrm flipV="1">
            <a:off x="2698560" y="4438080"/>
            <a:ext cx="361080" cy="6577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9" idx="3"/>
            <a:endCxn id="131" idx="1"/>
          </p:cNvCxnSpPr>
          <p:nvPr/>
        </p:nvCxnSpPr>
        <p:spPr>
          <a:xfrm>
            <a:off x="2698560" y="5095440"/>
            <a:ext cx="361080" cy="9277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6732720" y="3573360"/>
            <a:ext cx="194292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cold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720" y="4618080"/>
            <a:ext cx="194292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ho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3"/>
            <a:endCxn id="134" idx="1"/>
          </p:cNvCxnSpPr>
          <p:nvPr/>
        </p:nvCxnSpPr>
        <p:spPr>
          <a:xfrm flipV="1">
            <a:off x="6297120" y="3933000"/>
            <a:ext cx="435960" cy="50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0" idx="3"/>
            <a:endCxn id="135" idx="1"/>
          </p:cNvCxnSpPr>
          <p:nvPr/>
        </p:nvCxnSpPr>
        <p:spPr>
          <a:xfrm>
            <a:off x="6297120" y="4438440"/>
            <a:ext cx="435960" cy="540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3"/>
          </p:cNvCxnSpPr>
          <p:nvPr/>
        </p:nvCxnSpPr>
        <p:spPr>
          <a:xfrm>
            <a:off x="6297120" y="6022440"/>
            <a:ext cx="4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66560" y="285264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tail of average emission per vehicle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45320" y="5656320"/>
            <a:ext cx="194292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ho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37B3-3799-44EE-9FA2-0603D75BAC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トヨタ自動車株式会社</cp:lastModifiedBy>
  <dcterms:modified xsi:type="dcterms:W3CDTF">2010-09-27T09:28:46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