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BC32-A015-49CE-9B2A-3BFFA19B2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0C31-F823-4AD8-B369-55FDD7ED8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E357-A652-4F71-AB0D-55C5C1836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72ED-2327-492D-AE11-926170263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6FC7-1E56-48D2-BFEA-35CDF5332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865B-525E-47BE-804D-9DF9DC07F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A08E-5E03-42B0-B862-89DCCCDD7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6A00-EF0B-4A2F-BE0F-408A64323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4C0E-766F-44C7-8B08-512EC397C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633C-12F0-4B6C-B0FE-69A1E6E6E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38A1-2033-41E2-AA47-71EF4960A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02AE-761B-40C2-9FD7-32FD225B1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E2D-3B78-4283-A190-895BDBA53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5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28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1.wmf"/><Relationship Id="rId9" Type="http://schemas.openxmlformats.org/officeDocument/2006/relationships/image" Target="../media/image28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1.wmf"/><Relationship Id="rId14" Type="http://schemas.openxmlformats.org/officeDocument/2006/relationships/image" Target="../media/image28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1.wmf"/><Relationship Id="rId19" Type="http://schemas.openxmlformats.org/officeDocument/2006/relationships/image" Target="../media/image28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image" Target="../media/image34.wmf"/><Relationship Id="rId23" Type="http://schemas.openxmlformats.org/officeDocument/2006/relationships/image" Target="../media/image30.wmf"/><Relationship Id="rId24" Type="http://schemas.openxmlformats.org/officeDocument/2006/relationships/image" Target="../media/image30.wmf"/><Relationship Id="rId25" Type="http://schemas.openxmlformats.org/officeDocument/2006/relationships/image" Target="../media/image30.wmf"/><Relationship Id="rId26" Type="http://schemas.openxmlformats.org/officeDocument/2006/relationships/image" Target="../media/image30.wmf"/><Relationship Id="rId27" Type="http://schemas.openxmlformats.org/officeDocument/2006/relationships/image" Target="../media/image30.wmf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9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0720" y="1447560"/>
            <a:ext cx="8762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LTC* Methodology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~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nitial Analysis Results &amp; Modification on proposed methodology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PE/WLTP-IG/ DHC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5105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62866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) WLTC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E0A3-BD18-4CF9-8DF1-7B10B87F9C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5" descr=""/>
          <p:cNvPicPr/>
          <p:nvPr/>
        </p:nvPicPr>
        <p:blipFill>
          <a:blip r:embed="rId1"/>
          <a:stretch/>
        </p:blipFill>
        <p:spPr>
          <a:xfrm>
            <a:off x="795240" y="1209600"/>
            <a:ext cx="7553520" cy="4705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. Parameter Compariso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C06D-2B40-492B-9947-2C3CC199B9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5" descr=""/>
          <p:cNvPicPr/>
          <p:nvPr/>
        </p:nvPicPr>
        <p:blipFill>
          <a:blip r:embed="rId1"/>
          <a:stretch/>
        </p:blipFill>
        <p:spPr>
          <a:xfrm>
            <a:off x="795240" y="1209600"/>
            <a:ext cx="7553520" cy="4705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. Parameter Compariso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3EB5-C29A-4969-A054-022A3C9E9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5" descr=""/>
          <p:cNvPicPr/>
          <p:nvPr/>
        </p:nvPicPr>
        <p:blipFill>
          <a:blip r:embed="rId1"/>
          <a:stretch/>
        </p:blipFill>
        <p:spPr>
          <a:xfrm>
            <a:off x="2320920" y="3863880"/>
            <a:ext cx="4479840" cy="290988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5" descr=""/>
          <p:cNvPicPr/>
          <p:nvPr/>
        </p:nvPicPr>
        <p:blipFill>
          <a:blip r:embed="rId2"/>
          <a:stretch/>
        </p:blipFill>
        <p:spPr>
          <a:xfrm>
            <a:off x="15840" y="838080"/>
            <a:ext cx="4479840" cy="290988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" descr=""/>
          <p:cNvPicPr/>
          <p:nvPr/>
        </p:nvPicPr>
        <p:blipFill>
          <a:blip r:embed="rId3"/>
          <a:stretch/>
        </p:blipFill>
        <p:spPr>
          <a:xfrm>
            <a:off x="4587840" y="838080"/>
            <a:ext cx="4479840" cy="290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. Parameter Comparison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7160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T d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38720" y="71604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IDLE d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733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 of 4 driving mo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BAB1-5114-4208-8EB2-BAB66CCB66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5" descr=""/>
          <p:cNvPicPr/>
          <p:nvPr/>
        </p:nvPicPr>
        <p:blipFill>
          <a:blip r:embed="rId1"/>
          <a:stretch/>
        </p:blipFill>
        <p:spPr>
          <a:xfrm>
            <a:off x="95400" y="676440"/>
            <a:ext cx="8928000" cy="6040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2.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33960" y="1114560"/>
            <a:ext cx="838080" cy="513396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33680" y="1114560"/>
            <a:ext cx="762120" cy="513396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34200" y="1114560"/>
            <a:ext cx="524160" cy="51339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283440"/>
            <a:ext cx="8839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screpancy in speed-acceleration distribution was observed in each road categ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A024-D15B-48B1-9B37-DD3921C97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3. Frequency of ST Maximum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axi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 of driving dura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222960"/>
            <a:ext cx="8839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repancy in ST maximum speed distribution was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04760" y="676440"/>
            <a:ext cx="7113600" cy="55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8431-886A-4DFF-AB97-9083617E93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4. Oth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943600"/>
            <a:ext cx="8839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crepancy in ST/IDLE duration distribution was ob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5" descr=""/>
          <p:cNvPicPr/>
          <p:nvPr/>
        </p:nvPicPr>
        <p:blipFill>
          <a:blip r:embed="rId1"/>
          <a:stretch/>
        </p:blipFill>
        <p:spPr>
          <a:xfrm>
            <a:off x="171360" y="676440"/>
            <a:ext cx="8788320" cy="36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DB67-230E-4588-9735-4E98062D40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Conclusion of Init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observed that speed-acceleration distribution/driving characteristics in each region have discrepancy in same road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iscrepancy may mislead the representativeness when developing the harmonized driving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is necessary to convert to another category where driving characteristics are similar in each region. L/M/H methods is one of counter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581280"/>
            <a:ext cx="2133720" cy="800280"/>
          </a:xfrm>
          <a:prstGeom prst="downArrow">
            <a:avLst>
              <a:gd name="adj1" fmla="val 51639"/>
              <a:gd name="adj2" fmla="val 413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E4A2-9843-4E1E-BD2D-A45986EF7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1. Modifi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" y="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Validity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AFC3-F4C7-4768-BEB6-F5BB988B04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Overview of WLTP-DHC-03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TP-DHC-03-02 described the technique to convert the in-use data into vehicle speed oriented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/Rural/Motorway -&gt; Low/Middle/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00" y="3352680"/>
            <a:ext cx="1513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5480" y="3352680"/>
            <a:ext cx="374472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0200" y="3352680"/>
            <a:ext cx="244800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52400" y="3986280"/>
            <a:ext cx="576360" cy="312840"/>
            <a:chOff x="752400" y="3986280"/>
            <a:chExt cx="576360" cy="312840"/>
          </a:xfrm>
        </p:grpSpPr>
        <p:sp>
          <p:nvSpPr>
            <p:cNvPr id="123" name=""/>
            <p:cNvSpPr/>
            <p:nvPr/>
          </p:nvSpPr>
          <p:spPr>
            <a:xfrm>
              <a:off x="752400" y="429912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39680" y="398628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89480" y="4148280"/>
            <a:ext cx="576360" cy="150840"/>
            <a:chOff x="5289480" y="4148280"/>
            <a:chExt cx="576360" cy="150840"/>
          </a:xfrm>
        </p:grpSpPr>
        <p:sp>
          <p:nvSpPr>
            <p:cNvPr id="126" name=""/>
            <p:cNvSpPr/>
            <p:nvPr/>
          </p:nvSpPr>
          <p:spPr>
            <a:xfrm>
              <a:off x="5289480" y="42991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41482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273480" y="4145040"/>
            <a:ext cx="431280" cy="153720"/>
            <a:chOff x="3273480" y="4145040"/>
            <a:chExt cx="431280" cy="153720"/>
          </a:xfrm>
        </p:grpSpPr>
        <p:sp>
          <p:nvSpPr>
            <p:cNvPr id="129" name=""/>
            <p:cNvSpPr/>
            <p:nvPr/>
          </p:nvSpPr>
          <p:spPr>
            <a:xfrm>
              <a:off x="3273480" y="4298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6040" y="4145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713120" y="4114800"/>
            <a:ext cx="576360" cy="183960"/>
            <a:chOff x="4713120" y="4114800"/>
            <a:chExt cx="576360" cy="183960"/>
          </a:xfrm>
        </p:grpSpPr>
        <p:sp>
          <p:nvSpPr>
            <p:cNvPr id="132" name=""/>
            <p:cNvSpPr/>
            <p:nvPr/>
          </p:nvSpPr>
          <p:spPr>
            <a:xfrm>
              <a:off x="4713120" y="42987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7480" y="41148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30200" y="4064040"/>
            <a:ext cx="696960" cy="235080"/>
            <a:chOff x="1330200" y="4064040"/>
            <a:chExt cx="696960" cy="235080"/>
          </a:xfrm>
        </p:grpSpPr>
        <p:sp>
          <p:nvSpPr>
            <p:cNvPr id="135" name=""/>
            <p:cNvSpPr/>
            <p:nvPr/>
          </p:nvSpPr>
          <p:spPr>
            <a:xfrm>
              <a:off x="1330200" y="428652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57280" y="406404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705120" y="3905280"/>
            <a:ext cx="1000080" cy="393840"/>
            <a:chOff x="3705120" y="3905280"/>
            <a:chExt cx="1000080" cy="393840"/>
          </a:xfrm>
        </p:grpSpPr>
        <p:sp>
          <p:nvSpPr>
            <p:cNvPr id="138" name=""/>
            <p:cNvSpPr/>
            <p:nvPr/>
          </p:nvSpPr>
          <p:spPr>
            <a:xfrm>
              <a:off x="3705120" y="429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30400" y="390528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68360" y="3952800"/>
            <a:ext cx="1000080" cy="345960"/>
            <a:chOff x="2268360" y="3952800"/>
            <a:chExt cx="1000080" cy="345960"/>
          </a:xfrm>
        </p:grpSpPr>
        <p:sp>
          <p:nvSpPr>
            <p:cNvPr id="141" name=""/>
            <p:cNvSpPr/>
            <p:nvPr/>
          </p:nvSpPr>
          <p:spPr>
            <a:xfrm>
              <a:off x="2268360" y="42987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94000" y="39528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81840" y="3886200"/>
            <a:ext cx="1000080" cy="412560"/>
            <a:chOff x="6081840" y="3886200"/>
            <a:chExt cx="1000080" cy="412560"/>
          </a:xfrm>
        </p:grpSpPr>
        <p:sp>
          <p:nvSpPr>
            <p:cNvPr id="144" name=""/>
            <p:cNvSpPr/>
            <p:nvPr/>
          </p:nvSpPr>
          <p:spPr>
            <a:xfrm>
              <a:off x="6081840" y="429876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07120" y="388620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089840" y="3573360"/>
            <a:ext cx="1226880" cy="725400"/>
            <a:chOff x="7089840" y="3573360"/>
            <a:chExt cx="1226880" cy="725400"/>
          </a:xfrm>
        </p:grpSpPr>
        <p:sp>
          <p:nvSpPr>
            <p:cNvPr id="147" name=""/>
            <p:cNvSpPr/>
            <p:nvPr/>
          </p:nvSpPr>
          <p:spPr>
            <a:xfrm>
              <a:off x="7089840" y="428292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5800" y="357336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54200" y="3352680"/>
            <a:ext cx="7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548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020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00" y="5240160"/>
            <a:ext cx="3025800" cy="1008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78200" y="5240160"/>
            <a:ext cx="3240000" cy="100836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240160"/>
            <a:ext cx="1440000" cy="1008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52400" y="5851440"/>
            <a:ext cx="576360" cy="312840"/>
            <a:chOff x="752400" y="5851440"/>
            <a:chExt cx="576360" cy="312840"/>
          </a:xfrm>
        </p:grpSpPr>
        <p:sp>
          <p:nvSpPr>
            <p:cNvPr id="156" name=""/>
            <p:cNvSpPr/>
            <p:nvPr/>
          </p:nvSpPr>
          <p:spPr>
            <a:xfrm>
              <a:off x="752400" y="616428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39680" y="585144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057480" y="6013440"/>
            <a:ext cx="576360" cy="150840"/>
            <a:chOff x="3057480" y="6013440"/>
            <a:chExt cx="576360" cy="150840"/>
          </a:xfrm>
        </p:grpSpPr>
        <p:sp>
          <p:nvSpPr>
            <p:cNvPr id="159" name=""/>
            <p:cNvSpPr/>
            <p:nvPr/>
          </p:nvSpPr>
          <p:spPr>
            <a:xfrm>
              <a:off x="3057480" y="616428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4760" y="601344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049480" y="6010200"/>
            <a:ext cx="431280" cy="153720"/>
            <a:chOff x="2049480" y="6010200"/>
            <a:chExt cx="431280" cy="153720"/>
          </a:xfrm>
        </p:grpSpPr>
        <p:sp>
          <p:nvSpPr>
            <p:cNvPr id="162" name=""/>
            <p:cNvSpPr/>
            <p:nvPr/>
          </p:nvSpPr>
          <p:spPr>
            <a:xfrm>
              <a:off x="2049480" y="616392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2040" y="601020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81120" y="5979960"/>
            <a:ext cx="576360" cy="183960"/>
            <a:chOff x="2481120" y="5979960"/>
            <a:chExt cx="576360" cy="183960"/>
          </a:xfrm>
        </p:grpSpPr>
        <p:sp>
          <p:nvSpPr>
            <p:cNvPr id="165" name=""/>
            <p:cNvSpPr/>
            <p:nvPr/>
          </p:nvSpPr>
          <p:spPr>
            <a:xfrm>
              <a:off x="2481120" y="616392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25480" y="597996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330200" y="5929200"/>
            <a:ext cx="696960" cy="235080"/>
            <a:chOff x="1330200" y="5929200"/>
            <a:chExt cx="696960" cy="235080"/>
          </a:xfrm>
        </p:grpSpPr>
        <p:sp>
          <p:nvSpPr>
            <p:cNvPr id="168" name=""/>
            <p:cNvSpPr/>
            <p:nvPr/>
          </p:nvSpPr>
          <p:spPr>
            <a:xfrm>
              <a:off x="1330200" y="615168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7280" y="592920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65760" y="5770440"/>
            <a:ext cx="1000080" cy="393840"/>
            <a:chOff x="4865760" y="5770440"/>
            <a:chExt cx="1000080" cy="393840"/>
          </a:xfrm>
        </p:grpSpPr>
        <p:sp>
          <p:nvSpPr>
            <p:cNvPr id="171" name=""/>
            <p:cNvSpPr/>
            <p:nvPr/>
          </p:nvSpPr>
          <p:spPr>
            <a:xfrm>
              <a:off x="4865760" y="61642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91040" y="577044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60640" y="5818320"/>
            <a:ext cx="1000080" cy="345960"/>
            <a:chOff x="3860640" y="5818320"/>
            <a:chExt cx="1000080" cy="345960"/>
          </a:xfrm>
        </p:grpSpPr>
        <p:sp>
          <p:nvSpPr>
            <p:cNvPr id="174" name=""/>
            <p:cNvSpPr/>
            <p:nvPr/>
          </p:nvSpPr>
          <p:spPr>
            <a:xfrm>
              <a:off x="3860640" y="61642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86280" y="581832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73760" y="5751360"/>
            <a:ext cx="1000080" cy="412560"/>
            <a:chOff x="5873760" y="5751360"/>
            <a:chExt cx="1000080" cy="412560"/>
          </a:xfrm>
        </p:grpSpPr>
        <p:sp>
          <p:nvSpPr>
            <p:cNvPr id="177" name=""/>
            <p:cNvSpPr/>
            <p:nvPr/>
          </p:nvSpPr>
          <p:spPr>
            <a:xfrm>
              <a:off x="5873760" y="616392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9040" y="575136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9840" y="5438880"/>
            <a:ext cx="1226880" cy="725400"/>
            <a:chOff x="7089840" y="5438880"/>
            <a:chExt cx="1226880" cy="725400"/>
          </a:xfrm>
        </p:grpSpPr>
        <p:sp>
          <p:nvSpPr>
            <p:cNvPr id="180" name=""/>
            <p:cNvSpPr/>
            <p:nvPr/>
          </p:nvSpPr>
          <p:spPr>
            <a:xfrm>
              <a:off x="7089840" y="614844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65800" y="543888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114300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75248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348080"/>
            <a:ext cx="13716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4348080"/>
            <a:ext cx="9144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324120" y="4348080"/>
            <a:ext cx="38124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61960" y="4348080"/>
            <a:ext cx="1143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71440" y="4348080"/>
            <a:ext cx="20574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580920" y="4348080"/>
            <a:ext cx="221004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4348080"/>
            <a:ext cx="0" cy="833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940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4200" y="52228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6760" y="522288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6760" y="52228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32448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gments that composed of ST and IDLE move into L/M/H categories with the compensated W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A2B3-130D-4451-B6D8-367A87FF74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Detail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reshold based on each countries’ traffic condition and driving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hreshold that shows similar VA distribution of eac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rive condition WF and total driv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n-use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R/M =&gt; 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VA distribution and driving characteristic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driving cycle in each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11EA-A447-4CAA-9D8F-6FA7CD706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ifi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4158-5316-4AD1-A56C-5188B9515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5" descr=""/>
          <p:cNvPicPr/>
          <p:nvPr/>
        </p:nvPicPr>
        <p:blipFill>
          <a:blip r:embed="rId1"/>
          <a:stretch/>
        </p:blipFill>
        <p:spPr>
          <a:xfrm>
            <a:off x="1600200" y="2530440"/>
            <a:ext cx="5808600" cy="4022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440" y="7239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1&gt; Based on similarity of V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51040" y="1181160"/>
            <a:ext cx="79246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reshold of Low/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 ≤ 40 ?, Vmax ≤ 50 ?, Vmax ≤ 60 ?, Vmax ≤ 70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reshold of 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70 ?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80 ?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90 ?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100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291B-C36C-43F9-8CD4-1DE13AA992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351000" y="1219320"/>
            <a:ext cx="8421480" cy="4921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1360" y="7239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2&gt; Based on paramet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9160" y="2523960"/>
            <a:ext cx="7734240" cy="524160"/>
          </a:xfrm>
          <a:prstGeom prst="rect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19160" y="5619600"/>
            <a:ext cx="774396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9160" y="4076640"/>
            <a:ext cx="7743960" cy="52380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560" y="6248520"/>
            <a:ext cx="8217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candidate threshold speed based on least discrepancy in each characterist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FA26-F854-497F-88B6-B501093EF6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5587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3&gt; Based on maximum spe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07040" y="1130400"/>
            <a:ext cx="2498760" cy="4686120"/>
            <a:chOff x="5207040" y="1130400"/>
            <a:chExt cx="2498760" cy="46861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5207040" y="113040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5207040" y="2567880"/>
              <a:ext cx="249876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207040" y="400572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flipV="1">
              <a:off x="61840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6844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524560" y="3086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295280" y="1219320"/>
            <a:ext cx="2708280" cy="4630320"/>
            <a:chOff x="1295280" y="1219320"/>
            <a:chExt cx="2708280" cy="4630320"/>
          </a:xfrm>
        </p:grpSpPr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1295280" y="121932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flipV="1">
              <a:off x="236196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6084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5"/>
            <a:stretch/>
          </p:blipFill>
          <p:spPr>
            <a:xfrm>
              <a:off x="1295280" y="2639880"/>
              <a:ext cx="270828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6"/>
            <a:stretch/>
          </p:blipFill>
          <p:spPr>
            <a:xfrm>
              <a:off x="1295280" y="406044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V="1">
              <a:off x="2459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73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53512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14496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663560" y="334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65 / 11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468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240" y="58672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280" indent="-20628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final threshold speed will be determined by taking into account of three method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1523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/ 8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765C-85C5-440A-B266-0796F81A2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5" descr=""/>
          <p:cNvPicPr/>
          <p:nvPr/>
        </p:nvPicPr>
        <p:blipFill>
          <a:blip r:embed="rId1"/>
          <a:stretch/>
        </p:blipFill>
        <p:spPr>
          <a:xfrm>
            <a:off x="95400" y="676440"/>
            <a:ext cx="8928000" cy="6040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Analysis Sample - V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248520"/>
            <a:ext cx="88394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It was confirmed that VA distribution is similar in L/M category but slight d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screpancy in H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igh category still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7F50-CE4D-47ED-A2F2-0881F6AF5F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Analysis Sample -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R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/M/H (threshold: 50/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9144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n examp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convert into L/M/H at 50/90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Rectangle 5" descr=""/>
          <p:cNvPicPr/>
          <p:nvPr/>
        </p:nvPicPr>
        <p:blipFill>
          <a:blip r:embed="rId1"/>
          <a:stretch/>
        </p:blipFill>
        <p:spPr>
          <a:xfrm>
            <a:off x="0" y="2057400"/>
            <a:ext cx="4479840" cy="29098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5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479840" cy="29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DFA4-EE69-44A4-BD15-17957BBBF1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3. Analysis Sample -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Rectangle 5" descr=""/>
          <p:cNvPicPr/>
          <p:nvPr/>
        </p:nvPicPr>
        <p:blipFill>
          <a:blip r:embed="rId1"/>
          <a:stretch/>
        </p:blipFill>
        <p:spPr>
          <a:xfrm>
            <a:off x="447840" y="676440"/>
            <a:ext cx="822960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433C-5DF5-4BEE-92EE-A44E892EB3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Summary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534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t was observed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iving characteristi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ions comparatively show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milarity by conve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Low/Middle/Hig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T max spee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appropriate threshold will be decided based on each countries’ traffic condition, driving characteristic and VA distribution after completion of all in-use data col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9341-DEA4-4795-934E-D61C5D851B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9080" y="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ification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8FF4-D355-4AF4-B4EF-5F286CC519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ification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initial in-use data analysis, it was observed that the following items need to be revised for improvement of driving cycle development and for effici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 for ST/IDL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 for cycle development of high speed m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 for ST selection combination in each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2B5-DF85-4D7D-98E3-50C817CAE3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Method for ST/IDL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2000" y="764640"/>
            <a:ext cx="532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Arial"/>
              </a:rPr>
              <a:t>Original (Bound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vide cumulative frequency distribution into “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, S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+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durations on each boundary (dividing)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Arial"/>
              </a:rPr>
              <a:t>Revised (Aver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ulative frequency distribution into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average duration in ea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正方形/長方形 6"/>
          <p:cNvSpPr/>
          <p:nvPr/>
        </p:nvSpPr>
        <p:spPr>
          <a:xfrm>
            <a:off x="6168960" y="765000"/>
            <a:ext cx="269892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8"/>
          <p:cNvSpPr/>
          <p:nvPr/>
        </p:nvSpPr>
        <p:spPr>
          <a:xfrm>
            <a:off x="6353280" y="27082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/I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9"/>
          <p:cNvSpPr/>
          <p:nvPr/>
        </p:nvSpPr>
        <p:spPr>
          <a:xfrm rot="16200000">
            <a:off x="4766040" y="152964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mulative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フリーフォーム 7"/>
          <p:cNvSpPr/>
          <p:nvPr/>
        </p:nvSpPr>
        <p:spPr>
          <a:xfrm>
            <a:off x="6161040" y="7873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7480" y="10638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9"/>
          <p:cNvSpPr/>
          <p:nvPr/>
        </p:nvSpPr>
        <p:spPr>
          <a:xfrm>
            <a:off x="6067440" y="255744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9"/>
          <p:cNvSpPr/>
          <p:nvPr/>
        </p:nvSpPr>
        <p:spPr>
          <a:xfrm>
            <a:off x="6348240" y="255276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9"/>
          <p:cNvSpPr/>
          <p:nvPr/>
        </p:nvSpPr>
        <p:spPr>
          <a:xfrm>
            <a:off x="7323120" y="2549520"/>
            <a:ext cx="536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9"/>
          <p:cNvSpPr/>
          <p:nvPr/>
        </p:nvSpPr>
        <p:spPr>
          <a:xfrm>
            <a:off x="6622920" y="2573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68960" y="1063800"/>
            <a:ext cx="1440000" cy="1501560"/>
          </a:xfrm>
          <a:custGeom>
            <a:avLst/>
            <a:gdLst/>
            <a:ahLst/>
            <a:rect l="l" t="t" r="r" b="b"/>
            <a:pathLst>
              <a:path w="907" h="952">
                <a:moveTo>
                  <a:pt x="0" y="0"/>
                </a:moveTo>
                <a:lnTo>
                  <a:pt x="907" y="0"/>
                </a:lnTo>
                <a:lnTo>
                  <a:pt x="907" y="952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68960" y="1362240"/>
            <a:ext cx="865080" cy="1203120"/>
          </a:xfrm>
          <a:custGeom>
            <a:avLst/>
            <a:gdLst/>
            <a:ahLst/>
            <a:rect l="l" t="t" r="r" b="b"/>
            <a:pathLst>
              <a:path w="545" h="726">
                <a:moveTo>
                  <a:pt x="0" y="0"/>
                </a:moveTo>
                <a:lnTo>
                  <a:pt x="545" y="0"/>
                </a:lnTo>
                <a:lnTo>
                  <a:pt x="545" y="72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68960" y="1662120"/>
            <a:ext cx="576360" cy="90324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0"/>
                </a:moveTo>
                <a:lnTo>
                  <a:pt x="363" y="0"/>
                </a:lnTo>
                <a:lnTo>
                  <a:pt x="363" y="59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68960" y="1947960"/>
            <a:ext cx="360360" cy="617400"/>
          </a:xfrm>
          <a:custGeom>
            <a:avLst/>
            <a:gdLst/>
            <a:ahLst/>
            <a:rect l="l" t="t" r="r" b="b"/>
            <a:pathLst>
              <a:path w="227" h="408">
                <a:moveTo>
                  <a:pt x="0" y="0"/>
                </a:moveTo>
                <a:lnTo>
                  <a:pt x="227" y="0"/>
                </a:lnTo>
                <a:lnTo>
                  <a:pt x="227" y="408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68960" y="2249640"/>
            <a:ext cx="125640" cy="31572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lnTo>
                  <a:pt x="136" y="0"/>
                </a:lnTo>
                <a:lnTo>
                  <a:pt x="136" y="227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正方形/長方形 6"/>
          <p:cNvSpPr/>
          <p:nvPr/>
        </p:nvSpPr>
        <p:spPr>
          <a:xfrm>
            <a:off x="6168960" y="3357720"/>
            <a:ext cx="2698920" cy="1800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8"/>
          <p:cNvSpPr/>
          <p:nvPr/>
        </p:nvSpPr>
        <p:spPr>
          <a:xfrm>
            <a:off x="6353280" y="536724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/I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9"/>
          <p:cNvSpPr/>
          <p:nvPr/>
        </p:nvSpPr>
        <p:spPr>
          <a:xfrm rot="16200000">
            <a:off x="4751640" y="419364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mulative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9"/>
          <p:cNvSpPr/>
          <p:nvPr/>
        </p:nvSpPr>
        <p:spPr>
          <a:xfrm>
            <a:off x="5979960" y="514980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9"/>
          <p:cNvSpPr/>
          <p:nvPr/>
        </p:nvSpPr>
        <p:spPr>
          <a:xfrm>
            <a:off x="6311880" y="514512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9"/>
          <p:cNvSpPr/>
          <p:nvPr/>
        </p:nvSpPr>
        <p:spPr>
          <a:xfrm>
            <a:off x="7524720" y="5157720"/>
            <a:ext cx="536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9"/>
          <p:cNvSpPr/>
          <p:nvPr/>
        </p:nvSpPr>
        <p:spPr>
          <a:xfrm>
            <a:off x="6622920" y="5165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正方形/長方形 6"/>
          <p:cNvSpPr/>
          <p:nvPr/>
        </p:nvSpPr>
        <p:spPr>
          <a:xfrm>
            <a:off x="6168960" y="3718080"/>
            <a:ext cx="122400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正方形/長方形 6"/>
          <p:cNvSpPr/>
          <p:nvPr/>
        </p:nvSpPr>
        <p:spPr>
          <a:xfrm>
            <a:off x="6168960" y="4076640"/>
            <a:ext cx="6876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正方形/長方形 6"/>
          <p:cNvSpPr/>
          <p:nvPr/>
        </p:nvSpPr>
        <p:spPr>
          <a:xfrm>
            <a:off x="6168960" y="4437000"/>
            <a:ext cx="39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正方形/長方形 6"/>
          <p:cNvSpPr/>
          <p:nvPr/>
        </p:nvSpPr>
        <p:spPr>
          <a:xfrm>
            <a:off x="6168960" y="479736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フリーフォーム 7"/>
          <p:cNvSpPr/>
          <p:nvPr/>
        </p:nvSpPr>
        <p:spPr>
          <a:xfrm>
            <a:off x="6168960" y="33577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377028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77080" y="357192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20000" y="393372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45320" y="422100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56240" y="458136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40600" y="501336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084720" y="1000080"/>
            <a:ext cx="771480" cy="398520"/>
            <a:chOff x="6084720" y="1000080"/>
            <a:chExt cx="771480" cy="398520"/>
          </a:xfrm>
        </p:grpSpPr>
        <p:sp>
          <p:nvSpPr>
            <p:cNvPr id="284" name="テキスト ボックス 9"/>
            <p:cNvSpPr/>
            <p:nvPr/>
          </p:nvSpPr>
          <p:spPr>
            <a:xfrm>
              <a:off x="6084720" y="1000080"/>
              <a:ext cx="77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+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17920" y="121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084720" y="3718080"/>
            <a:ext cx="771480" cy="398520"/>
            <a:chOff x="6084720" y="3718080"/>
            <a:chExt cx="771480" cy="398520"/>
          </a:xfrm>
        </p:grpSpPr>
        <p:sp>
          <p:nvSpPr>
            <p:cNvPr id="287" name="テキスト ボックス 9"/>
            <p:cNvSpPr/>
            <p:nvPr/>
          </p:nvSpPr>
          <p:spPr>
            <a:xfrm>
              <a:off x="6084720" y="3718080"/>
              <a:ext cx="77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7920" y="3930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8000" y="6093000"/>
            <a:ext cx="889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develop more representative cycle by applying revis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4913-49D5-4623-9E8B-12E8AD0C31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20" y="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7617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arl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and UK proposed the methodology to develop WLTC  (WLTP-DHC-02-04/05/06 as U/R/M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proposed the alternative technique to convert the in-use data to another categorization (WLTP-DHC-03-02 as L/M/H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ive technique was well recognized but need more clear 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it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clear whether there is discrepancy in same road category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rive the potential problem in the current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lidity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that the alternative technique (L/M/H method) is valid to obtain 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decision which methodology is mo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the methodology based on the initi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5D6C-BB6E-4703-A1D0-4B55F3AEFB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20" y="25200"/>
            <a:ext cx="9124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1. Concerns on High-speed Driving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96360" cy="160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nce most of ST dur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.g. 696sec, Jap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high-speed mode are longer than cycle duration, the number of potential STs will be dramatically reduced. This may lead the critical discrepancy in its representa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0720" y="29718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) Japan High phas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km/h &lt;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49200" y="3243240"/>
            <a:ext cx="4908600" cy="3014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1197000" y="3319560"/>
            <a:ext cx="0" cy="24192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657600"/>
            <a:ext cx="37335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verage ST duration: 696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verage Idling duration: 20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umber of ST: (600 - 20) / (696 + 20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dling ratio: 3.1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riving ratio: 96.9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9B98-D562-4D36-910C-D04EB34E61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2. Process of high-speed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5680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high-speed cycle duration (e.g. 60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ST duration based on average ST duration and idling duration ratio of in-use data, the divide the ST into 5 parts (take-off1, take-off2, cruise, slow-down1, slow-down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 configuration from the complete in-us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least chi-squared extracted driving data in each part, then combine the selected data to develop the complet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e) if the complete in-use data is less chi-squared value than combined cycle, this specific data can be used for high-speed cy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5DB6-9C06-4097-A604-69C738F191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3. Divide into 5 Parts of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00120" y="2057400"/>
            <a:ext cx="3438360" cy="2581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338120" y="2200320"/>
            <a:ext cx="1190880" cy="1981080"/>
          </a:xfrm>
          <a:prstGeom prst="rect">
            <a:avLst/>
          </a:prstGeom>
          <a:solidFill>
            <a:srgbClr val="ccffff">
              <a:alpha val="30000"/>
            </a:srgbClr>
          </a:solidFill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29000" y="2209680"/>
            <a:ext cx="247680" cy="1981440"/>
          </a:xfrm>
          <a:prstGeom prst="rect">
            <a:avLst/>
          </a:prstGeom>
          <a:solidFill>
            <a:srgbClr val="ffcc99">
              <a:alpha val="30000"/>
            </a:srgbClr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76680" y="2209680"/>
            <a:ext cx="1060200" cy="198144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419720" y="2124000"/>
          <a:ext cx="4495680" cy="2232000"/>
        </p:xfrm>
        <a:graphic>
          <a:graphicData uri="http://schemas.openxmlformats.org/drawingml/2006/table">
            <a:tbl>
              <a:tblPr/>
              <a:tblGrid>
                <a:gridCol w="1371600"/>
                <a:gridCol w="1041120"/>
                <a:gridCol w="1041480"/>
                <a:gridCol w="104148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, 75~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, 90~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6561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4849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7315200" y="5245200"/>
            <a:ext cx="1817640" cy="1460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52280" y="4970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~ 75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4940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90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940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90 km/h, 18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75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0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4038480"/>
            <a:ext cx="6476760" cy="901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038480"/>
            <a:ext cx="4572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038480"/>
            <a:ext cx="41148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038480"/>
            <a:ext cx="152388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62320" y="3736800"/>
            <a:ext cx="552240" cy="304920"/>
            <a:chOff x="2362320" y="3736800"/>
            <a:chExt cx="552240" cy="304920"/>
          </a:xfrm>
        </p:grpSpPr>
        <p:sp>
          <p:nvSpPr>
            <p:cNvPr id="319" name=""/>
            <p:cNvSpPr/>
            <p:nvPr/>
          </p:nvSpPr>
          <p:spPr>
            <a:xfrm>
              <a:off x="2362320" y="37368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81400" y="37558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124080" y="3736800"/>
            <a:ext cx="552600" cy="304920"/>
            <a:chOff x="3124080" y="3736800"/>
            <a:chExt cx="552600" cy="304920"/>
          </a:xfrm>
        </p:grpSpPr>
        <p:sp>
          <p:nvSpPr>
            <p:cNvPr id="322" name=""/>
            <p:cNvSpPr/>
            <p:nvPr/>
          </p:nvSpPr>
          <p:spPr>
            <a:xfrm>
              <a:off x="312408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4316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066680" y="495288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72520" y="492444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20040" y="494352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95288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495288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600200" y="3736800"/>
            <a:ext cx="552600" cy="304920"/>
            <a:chOff x="1600200" y="3736800"/>
            <a:chExt cx="552600" cy="304920"/>
          </a:xfrm>
        </p:grpSpPr>
        <p:sp>
          <p:nvSpPr>
            <p:cNvPr id="330" name=""/>
            <p:cNvSpPr/>
            <p:nvPr/>
          </p:nvSpPr>
          <p:spPr>
            <a:xfrm>
              <a:off x="160020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1928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876920" y="4743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djust 2 s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2517840"/>
            <a:ext cx="1524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600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14400" y="3051000"/>
            <a:ext cx="552600" cy="304920"/>
            <a:chOff x="914400" y="3051000"/>
            <a:chExt cx="552600" cy="304920"/>
          </a:xfrm>
        </p:grpSpPr>
        <p:sp>
          <p:nvSpPr>
            <p:cNvPr id="335" name=""/>
            <p:cNvSpPr/>
            <p:nvPr/>
          </p:nvSpPr>
          <p:spPr>
            <a:xfrm>
              <a:off x="914400" y="30510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33480" y="30700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3 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28600" y="68580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speed rang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3 speed range based on dividing frequenc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0~75 km/h, 75~90 km/h, 90 km/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de target duration in each range, then divide into two portions (take-off and slow-dow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0~75km/h: 36% =&gt; 217 sec =&gt; take-off part 108 s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-down 108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1828800" y="5245200"/>
            <a:ext cx="1814400" cy="1457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7200" y="59054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57640" y="590544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84920" y="534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06520" y="590544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56120" y="59054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052E-D393-4BE1-BEFE-ED522638E2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4. Extraction of Dr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69228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 definition* from complet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efinition &lt;Take-off 1 p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range : 0 ~ 75 km/h (with±0.5km/h), duration : 108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39640" y="277308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4073400"/>
            <a:ext cx="2016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0040" y="408924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4680" y="355284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92360" y="270972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-644760" y="33890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0800" y="2759040"/>
            <a:ext cx="1947960" cy="1312920"/>
          </a:xfrm>
          <a:custGeom>
            <a:avLst/>
            <a:gdLst/>
            <a:ahLst/>
            <a:rect l="l" t="t" r="r" b="b"/>
            <a:pathLst>
              <a:path w="1227" h="827">
                <a:moveTo>
                  <a:pt x="0" y="827"/>
                </a:moveTo>
                <a:cubicBezTo>
                  <a:pt x="7" y="801"/>
                  <a:pt x="17" y="696"/>
                  <a:pt x="40" y="668"/>
                </a:cubicBezTo>
                <a:cubicBezTo>
                  <a:pt x="63" y="640"/>
                  <a:pt x="110" y="674"/>
                  <a:pt x="136" y="662"/>
                </a:cubicBezTo>
                <a:cubicBezTo>
                  <a:pt x="162" y="650"/>
                  <a:pt x="177" y="619"/>
                  <a:pt x="195" y="597"/>
                </a:cubicBezTo>
                <a:cubicBezTo>
                  <a:pt x="213" y="575"/>
                  <a:pt x="215" y="548"/>
                  <a:pt x="242" y="532"/>
                </a:cubicBezTo>
                <a:cubicBezTo>
                  <a:pt x="269" y="516"/>
                  <a:pt x="324" y="517"/>
                  <a:pt x="355" y="502"/>
                </a:cubicBezTo>
                <a:cubicBezTo>
                  <a:pt x="386" y="487"/>
                  <a:pt x="404" y="478"/>
                  <a:pt x="426" y="443"/>
                </a:cubicBezTo>
                <a:cubicBezTo>
                  <a:pt x="448" y="408"/>
                  <a:pt x="461" y="311"/>
                  <a:pt x="486" y="294"/>
                </a:cubicBezTo>
                <a:cubicBezTo>
                  <a:pt x="511" y="277"/>
                  <a:pt x="543" y="354"/>
                  <a:pt x="575" y="342"/>
                </a:cubicBezTo>
                <a:cubicBezTo>
                  <a:pt x="607" y="330"/>
                  <a:pt x="636" y="267"/>
                  <a:pt x="676" y="223"/>
                </a:cubicBezTo>
                <a:cubicBezTo>
                  <a:pt x="716" y="179"/>
                  <a:pt x="780" y="98"/>
                  <a:pt x="816" y="79"/>
                </a:cubicBezTo>
                <a:cubicBezTo>
                  <a:pt x="852" y="60"/>
                  <a:pt x="869" y="113"/>
                  <a:pt x="892" y="110"/>
                </a:cubicBezTo>
                <a:cubicBezTo>
                  <a:pt x="915" y="107"/>
                  <a:pt x="924" y="63"/>
                  <a:pt x="953" y="61"/>
                </a:cubicBezTo>
                <a:cubicBezTo>
                  <a:pt x="982" y="59"/>
                  <a:pt x="1036" y="105"/>
                  <a:pt x="1066" y="97"/>
                </a:cubicBezTo>
                <a:cubicBezTo>
                  <a:pt x="1096" y="89"/>
                  <a:pt x="1104" y="0"/>
                  <a:pt x="1131" y="14"/>
                </a:cubicBezTo>
                <a:cubicBezTo>
                  <a:pt x="1158" y="28"/>
                  <a:pt x="1211" y="154"/>
                  <a:pt x="1227" y="18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0364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3640" y="40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3368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8320" y="3556080"/>
            <a:ext cx="57168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0" y="3071880"/>
            <a:ext cx="57600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rot="16200000">
            <a:off x="201852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14800" y="2743200"/>
            <a:ext cx="1939680" cy="1332000"/>
          </a:xfrm>
          <a:custGeom>
            <a:avLst/>
            <a:gdLst/>
            <a:ahLst/>
            <a:rect l="l" t="t" r="r" b="b"/>
            <a:pathLst>
              <a:path w="1222" h="839">
                <a:moveTo>
                  <a:pt x="0" y="839"/>
                </a:moveTo>
                <a:cubicBezTo>
                  <a:pt x="7" y="813"/>
                  <a:pt x="25" y="695"/>
                  <a:pt x="40" y="680"/>
                </a:cubicBezTo>
                <a:cubicBezTo>
                  <a:pt x="55" y="665"/>
                  <a:pt x="74" y="760"/>
                  <a:pt x="88" y="748"/>
                </a:cubicBezTo>
                <a:cubicBezTo>
                  <a:pt x="102" y="736"/>
                  <a:pt x="111" y="652"/>
                  <a:pt x="123" y="606"/>
                </a:cubicBezTo>
                <a:cubicBezTo>
                  <a:pt x="135" y="560"/>
                  <a:pt x="143" y="465"/>
                  <a:pt x="159" y="474"/>
                </a:cubicBezTo>
                <a:cubicBezTo>
                  <a:pt x="175" y="483"/>
                  <a:pt x="202" y="647"/>
                  <a:pt x="219" y="659"/>
                </a:cubicBezTo>
                <a:cubicBezTo>
                  <a:pt x="236" y="671"/>
                  <a:pt x="237" y="570"/>
                  <a:pt x="260" y="546"/>
                </a:cubicBezTo>
                <a:cubicBezTo>
                  <a:pt x="283" y="522"/>
                  <a:pt x="327" y="529"/>
                  <a:pt x="355" y="514"/>
                </a:cubicBezTo>
                <a:cubicBezTo>
                  <a:pt x="383" y="499"/>
                  <a:pt x="402" y="475"/>
                  <a:pt x="426" y="455"/>
                </a:cubicBezTo>
                <a:cubicBezTo>
                  <a:pt x="450" y="435"/>
                  <a:pt x="473" y="419"/>
                  <a:pt x="498" y="392"/>
                </a:cubicBezTo>
                <a:cubicBezTo>
                  <a:pt x="523" y="365"/>
                  <a:pt x="545" y="317"/>
                  <a:pt x="575" y="291"/>
                </a:cubicBezTo>
                <a:cubicBezTo>
                  <a:pt x="605" y="265"/>
                  <a:pt x="641" y="278"/>
                  <a:pt x="676" y="235"/>
                </a:cubicBezTo>
                <a:cubicBezTo>
                  <a:pt x="711" y="192"/>
                  <a:pt x="751" y="54"/>
                  <a:pt x="783" y="36"/>
                </a:cubicBezTo>
                <a:cubicBezTo>
                  <a:pt x="815" y="18"/>
                  <a:pt x="839" y="100"/>
                  <a:pt x="866" y="125"/>
                </a:cubicBezTo>
                <a:cubicBezTo>
                  <a:pt x="893" y="150"/>
                  <a:pt x="917" y="193"/>
                  <a:pt x="943" y="184"/>
                </a:cubicBezTo>
                <a:cubicBezTo>
                  <a:pt x="969" y="175"/>
                  <a:pt x="993" y="91"/>
                  <a:pt x="1020" y="71"/>
                </a:cubicBezTo>
                <a:cubicBezTo>
                  <a:pt x="1047" y="51"/>
                  <a:pt x="1078" y="61"/>
                  <a:pt x="1104" y="65"/>
                </a:cubicBezTo>
                <a:cubicBezTo>
                  <a:pt x="1130" y="69"/>
                  <a:pt x="1155" y="106"/>
                  <a:pt x="1175" y="95"/>
                </a:cubicBezTo>
                <a:cubicBezTo>
                  <a:pt x="1195" y="84"/>
                  <a:pt x="1212" y="20"/>
                  <a:pt x="122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94036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407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076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6720" y="2971800"/>
            <a:ext cx="57636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93080" y="260028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rot="16200000">
            <a:off x="475560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51520" y="2708280"/>
            <a:ext cx="2881440" cy="1366920"/>
          </a:xfrm>
          <a:custGeom>
            <a:avLst/>
            <a:gdLst/>
            <a:ahLst/>
            <a:rect l="l" t="t" r="r" b="b"/>
            <a:pathLst>
              <a:path w="1815" h="861">
                <a:moveTo>
                  <a:pt x="0" y="861"/>
                </a:moveTo>
                <a:cubicBezTo>
                  <a:pt x="13" y="846"/>
                  <a:pt x="57" y="798"/>
                  <a:pt x="80" y="770"/>
                </a:cubicBezTo>
                <a:cubicBezTo>
                  <a:pt x="103" y="742"/>
                  <a:pt x="117" y="719"/>
                  <a:pt x="136" y="696"/>
                </a:cubicBezTo>
                <a:cubicBezTo>
                  <a:pt x="155" y="673"/>
                  <a:pt x="177" y="653"/>
                  <a:pt x="195" y="631"/>
                </a:cubicBezTo>
                <a:cubicBezTo>
                  <a:pt x="213" y="609"/>
                  <a:pt x="216" y="588"/>
                  <a:pt x="242" y="566"/>
                </a:cubicBezTo>
                <a:cubicBezTo>
                  <a:pt x="268" y="544"/>
                  <a:pt x="320" y="579"/>
                  <a:pt x="353" y="496"/>
                </a:cubicBezTo>
                <a:cubicBezTo>
                  <a:pt x="386" y="413"/>
                  <a:pt x="408" y="103"/>
                  <a:pt x="439" y="70"/>
                </a:cubicBezTo>
                <a:cubicBezTo>
                  <a:pt x="470" y="37"/>
                  <a:pt x="509" y="210"/>
                  <a:pt x="541" y="298"/>
                </a:cubicBezTo>
                <a:cubicBezTo>
                  <a:pt x="573" y="386"/>
                  <a:pt x="609" y="605"/>
                  <a:pt x="631" y="598"/>
                </a:cubicBezTo>
                <a:cubicBezTo>
                  <a:pt x="653" y="591"/>
                  <a:pt x="651" y="340"/>
                  <a:pt x="676" y="257"/>
                </a:cubicBezTo>
                <a:cubicBezTo>
                  <a:pt x="701" y="174"/>
                  <a:pt x="754" y="141"/>
                  <a:pt x="781" y="99"/>
                </a:cubicBezTo>
                <a:cubicBezTo>
                  <a:pt x="808" y="57"/>
                  <a:pt x="803" y="0"/>
                  <a:pt x="840" y="3"/>
                </a:cubicBezTo>
                <a:cubicBezTo>
                  <a:pt x="877" y="6"/>
                  <a:pt x="958" y="113"/>
                  <a:pt x="1001" y="117"/>
                </a:cubicBezTo>
                <a:cubicBezTo>
                  <a:pt x="1044" y="121"/>
                  <a:pt x="1062" y="27"/>
                  <a:pt x="1096" y="28"/>
                </a:cubicBezTo>
                <a:cubicBezTo>
                  <a:pt x="1130" y="29"/>
                  <a:pt x="1167" y="107"/>
                  <a:pt x="1203" y="123"/>
                </a:cubicBezTo>
                <a:cubicBezTo>
                  <a:pt x="1239" y="139"/>
                  <a:pt x="1282" y="85"/>
                  <a:pt x="1310" y="123"/>
                </a:cubicBezTo>
                <a:cubicBezTo>
                  <a:pt x="1338" y="161"/>
                  <a:pt x="1346" y="278"/>
                  <a:pt x="1370" y="349"/>
                </a:cubicBezTo>
                <a:cubicBezTo>
                  <a:pt x="1394" y="420"/>
                  <a:pt x="1413" y="504"/>
                  <a:pt x="1453" y="550"/>
                </a:cubicBezTo>
                <a:cubicBezTo>
                  <a:pt x="1493" y="596"/>
                  <a:pt x="1558" y="601"/>
                  <a:pt x="1607" y="628"/>
                </a:cubicBezTo>
                <a:cubicBezTo>
                  <a:pt x="1656" y="655"/>
                  <a:pt x="1709" y="673"/>
                  <a:pt x="1744" y="711"/>
                </a:cubicBezTo>
                <a:cubicBezTo>
                  <a:pt x="1779" y="749"/>
                  <a:pt x="1800" y="828"/>
                  <a:pt x="1815" y="8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57200" y="4508640"/>
          <a:ext cx="8291520" cy="207648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900000" y="3860640"/>
            <a:ext cx="21600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5640" y="3860640"/>
            <a:ext cx="230364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87640" y="3429000"/>
            <a:ext cx="1152720" cy="172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895480" y="3429000"/>
            <a:ext cx="3743280" cy="2087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95640" y="2997360"/>
            <a:ext cx="237636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72000" y="2997360"/>
            <a:ext cx="295272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357336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956720" y="3933720"/>
            <a:ext cx="57600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58840" y="356400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727920" y="3139200"/>
            <a:ext cx="217440" cy="594000"/>
          </a:xfrm>
          <a:custGeom>
            <a:avLst/>
            <a:gdLst>
              <a:gd name="textAreaLeft" fmla="*/ 0 w 217440"/>
              <a:gd name="textAreaRight" fmla="*/ 78480 w 217440"/>
              <a:gd name="textAreaTop" fmla="*/ 15480 h 594000"/>
              <a:gd name="textAreaBottom" fmla="*/ 57852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3701880"/>
            <a:ext cx="104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6600" y="3035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440" y="359712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3377160" y="3172320"/>
            <a:ext cx="217800" cy="593640"/>
          </a:xfrm>
          <a:custGeom>
            <a:avLst/>
            <a:gdLst>
              <a:gd name="textAreaLeft" fmla="*/ 0 w 217800"/>
              <a:gd name="textAreaRight" fmla="*/ 78480 w 2178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8560" y="373536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2740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402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53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6800" y="2990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300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62240" y="4067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3514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95880" y="3038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77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4844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10520" y="354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772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0F20-FFA7-49B7-B492-6F2E3AF8AC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5. Method to Develop High-Speed Driving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553000" y="3606840"/>
            <a:ext cx="3438720" cy="25812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447920" y="483552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4000" y="1219320"/>
            <a:ext cx="9036000" cy="1726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6200" y="124128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82920" y="124128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5640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953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2276640" y="192420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40575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583884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7621560" y="1924200"/>
            <a:ext cx="1324080" cy="1063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432160" y="12412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24200" y="83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driv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0200" y="3149640"/>
            <a:ext cx="2362320" cy="533520"/>
          </a:xfrm>
          <a:prstGeom prst="downArrow">
            <a:avLst>
              <a:gd name="adj1" fmla="val 62102"/>
              <a:gd name="adj2" fmla="val 318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3149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86640" y="5248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chi-squar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0176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218268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3963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574524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2"/>
          <a:stretch/>
        </p:blipFill>
        <p:spPr>
          <a:xfrm>
            <a:off x="7527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3"/>
          <a:stretch/>
        </p:blipFill>
        <p:spPr>
          <a:xfrm>
            <a:off x="30780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4"/>
          <a:stretch/>
        </p:blipFill>
        <p:spPr>
          <a:xfrm>
            <a:off x="208908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5"/>
          <a:stretch/>
        </p:blipFill>
        <p:spPr>
          <a:xfrm>
            <a:off x="387036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6"/>
          <a:stretch/>
        </p:blipFill>
        <p:spPr>
          <a:xfrm>
            <a:off x="565164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7"/>
          <a:stretch/>
        </p:blipFill>
        <p:spPr>
          <a:xfrm>
            <a:off x="743436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8"/>
          <a:stretch/>
        </p:blipFill>
        <p:spPr>
          <a:xfrm>
            <a:off x="21420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9"/>
          <a:stretch/>
        </p:blipFill>
        <p:spPr>
          <a:xfrm>
            <a:off x="19954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0"/>
          <a:stretch/>
        </p:blipFill>
        <p:spPr>
          <a:xfrm>
            <a:off x="3776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1"/>
          <a:stretch/>
        </p:blipFill>
        <p:spPr>
          <a:xfrm>
            <a:off x="55576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2"/>
          <a:stretch/>
        </p:blipFill>
        <p:spPr>
          <a:xfrm>
            <a:off x="7340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3"/>
          <a:stretch/>
        </p:blipFill>
        <p:spPr>
          <a:xfrm>
            <a:off x="1270080" y="466884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4"/>
          <a:stretch/>
        </p:blipFill>
        <p:spPr>
          <a:xfrm>
            <a:off x="1092240" y="450216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5"/>
          <a:stretch/>
        </p:blipFill>
        <p:spPr>
          <a:xfrm>
            <a:off x="914400" y="433548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6"/>
          <a:stretch/>
        </p:blipFill>
        <p:spPr>
          <a:xfrm>
            <a:off x="736560" y="416880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7"/>
          <a:stretch/>
        </p:blipFill>
        <p:spPr>
          <a:xfrm>
            <a:off x="558720" y="400212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8"/>
          <a:stretch/>
        </p:blipFill>
        <p:spPr>
          <a:xfrm>
            <a:off x="380880" y="383544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V="1">
            <a:off x="4546440" y="4140360"/>
            <a:ext cx="1016280" cy="26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3920" y="6172200"/>
            <a:ext cx="85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he combination cycle with least chi-square value compared with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50D2-C98D-44D7-BD33-7113291815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5" descr=""/>
          <p:cNvPicPr/>
          <p:nvPr/>
        </p:nvPicPr>
        <p:blipFill>
          <a:blip r:embed="rId1"/>
          <a:stretch/>
        </p:blipFill>
        <p:spPr>
          <a:xfrm>
            <a:off x="1143000" y="1230480"/>
            <a:ext cx="6248520" cy="20462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6. Selection of Complete Short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59120" y="3733920"/>
            <a:ext cx="26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hort trip -1  (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.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3733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hort trip -2 (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280" y="6019920"/>
            <a:ext cx="8839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possibility to find the complete in-use data to represent the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64960" y="4006800"/>
            <a:ext cx="2579760" cy="19368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895480" y="4572000"/>
            <a:ext cx="685800" cy="533520"/>
          </a:xfrm>
          <a:prstGeom prst="leftRightArrow">
            <a:avLst>
              <a:gd name="adj1" fmla="val 50000"/>
              <a:gd name="adj2" fmla="val 255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160" y="3733920"/>
            <a:ext cx="26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VA distribution (90&l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There is only a few complete STs with target duration in Japa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32446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mparison of VA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3745080" y="4006800"/>
            <a:ext cx="2579400" cy="1936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411960" y="4006800"/>
            <a:ext cx="2579760" cy="19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FF46-146D-43AF-954F-74BD76E78F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1. Method for the ST Combi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1030320"/>
            <a:ext cx="38876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Japan referen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Average ST duration: 42.7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Average Idling duration: 26.5 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568440" y="3933720"/>
          <a:ext cx="6162480" cy="1079640"/>
        </p:xfrm>
        <a:graphic>
          <a:graphicData uri="http://schemas.openxmlformats.org/drawingml/2006/table">
            <a:tbl>
              <a:tblPr/>
              <a:tblGrid>
                <a:gridCol w="684000"/>
                <a:gridCol w="685800"/>
                <a:gridCol w="684360"/>
                <a:gridCol w="684000"/>
                <a:gridCol w="690840"/>
                <a:gridCol w="679320"/>
                <a:gridCol w="684360"/>
                <a:gridCol w="685800"/>
                <a:gridCol w="684000"/>
              </a:tblGrid>
              <a:tr h="5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4788000" y="981000"/>
            <a:ext cx="4038480" cy="2530440"/>
            <a:chOff x="4788000" y="981000"/>
            <a:chExt cx="4038480" cy="2530440"/>
          </a:xfrm>
        </p:grpSpPr>
        <p:pic>
          <p:nvPicPr>
            <p:cNvPr id="453" name="Rectangle 5" descr=""/>
            <p:cNvPicPr/>
            <p:nvPr/>
          </p:nvPicPr>
          <p:blipFill>
            <a:blip r:embed="rId1"/>
            <a:stretch/>
          </p:blipFill>
          <p:spPr>
            <a:xfrm>
              <a:off x="4788000" y="981000"/>
              <a:ext cx="40384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349960" y="2709720"/>
              <a:ext cx="16344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56080" y="2268360"/>
              <a:ext cx="37620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56080" y="1815840"/>
              <a:ext cx="61920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56080" y="1360440"/>
              <a:ext cx="109404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62480" y="1566720"/>
              <a:ext cx="287640" cy="136836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26240" y="1998720"/>
              <a:ext cx="144360" cy="93636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86480" y="2503440"/>
              <a:ext cx="144360" cy="43164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61120" y="1144440"/>
              <a:ext cx="109368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0120" y="1135080"/>
              <a:ext cx="1800000" cy="1800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61120" y="1585800"/>
              <a:ext cx="61884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8520" y="1576440"/>
              <a:ext cx="183960" cy="135864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0480" y="2043000"/>
              <a:ext cx="37620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49920" y="2071440"/>
              <a:ext cx="85680" cy="79236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70480" y="2503440"/>
              <a:ext cx="21600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26400" y="121752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05400" y="149544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60960" y="1711080"/>
              <a:ext cx="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92840" y="192708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73680" y="214308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39640" y="5048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bination number = 1.5 ×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(Only Japan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5551560"/>
            <a:ext cx="86421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takes 0.1 sec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-squar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lc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one combination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all possi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 (only Japanese dat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ecessary to reduce number of combinatio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practical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3573360"/>
            <a:ext cx="829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andidates for each short trip duration for the total combination numbers and short trip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692280"/>
            <a:ext cx="56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rip duration in Low pha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reshol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/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1280" y="1916280"/>
            <a:ext cx="38876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s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ired cycle duration: 600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= (600 - 26.5) / (42.7 + 26.5) = 8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umber of short trips N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8, 15, 22, 30, 39, 51, 67, 111 = 34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verage ST duration: 42.9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19640" y="1413000"/>
            <a:ext cx="1223640" cy="2016000"/>
          </a:xfrm>
          <a:custGeom>
            <a:avLst/>
            <a:gdLst/>
            <a:ahLst/>
            <a:rect l="l" t="t" r="r" b="b"/>
            <a:pathLst>
              <a:path w="771" h="1270">
                <a:moveTo>
                  <a:pt x="0" y="0"/>
                </a:moveTo>
                <a:lnTo>
                  <a:pt x="771" y="0"/>
                </a:lnTo>
                <a:lnTo>
                  <a:pt x="771" y="1270"/>
                </a:lnTo>
                <a:lnTo>
                  <a:pt x="0" y="1270"/>
                </a:lnTo>
              </a:path>
            </a:pathLst>
          </a:custGeom>
          <a:noFill/>
          <a:ln w="19080">
            <a:solidFill>
              <a:srgbClr val="ff00ff"/>
            </a:solidFill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472C-3D69-44EA-BF23-0673CBA857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2. Selection of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 within average ±1σ in each S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erag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er chi-squared value is higher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e number of potential STs in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nger ST has more potential STs since it has bigger influence on chi-squar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tal number of combinations is less than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roximately 3 days on Xeon X5492 (Quad core, 3.4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0" descr=""/>
          <p:cNvPicPr/>
          <p:nvPr/>
        </p:nvPicPr>
        <p:blipFill>
          <a:blip r:embed="rId1"/>
          <a:stretch/>
        </p:blipFill>
        <p:spPr>
          <a:xfrm>
            <a:off x="1461960" y="4429080"/>
            <a:ext cx="6205680" cy="1914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765680" y="6012000"/>
            <a:ext cx="188136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1680" y="6012000"/>
            <a:ext cx="1224000" cy="0"/>
          </a:xfrm>
          <a:prstGeom prst="line">
            <a:avLst/>
          </a:prstGeom>
          <a:ln w="1584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87760" y="6012000"/>
            <a:ext cx="8636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73320" y="6002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76320" y="6012000"/>
            <a:ext cx="287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51040" y="601812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96880" y="56865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66cc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1756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8268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30680" y="569592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5695920"/>
            <a:ext cx="804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07040" y="569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4688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2436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87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4000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79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9236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6407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 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/Y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71760" y="6431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cc99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94D4-56DE-4DE1-B8C9-0502EBEA43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1. Modifi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" y="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itial Analysi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B4E6-7D30-423C-952C-E988EA06E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1. Definition of Roa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752480"/>
          <a:ext cx="8282160" cy="4878360"/>
        </p:xfrm>
        <a:graphic>
          <a:graphicData uri="http://schemas.openxmlformats.org/drawingml/2006/table">
            <a:tbl>
              <a:tblPr/>
              <a:tblGrid>
                <a:gridCol w="865440"/>
                <a:gridCol w="2447640"/>
                <a:gridCol w="2519640"/>
                <a:gridCol w="2449440"/>
              </a:tblGrid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d roads in urban areas with a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ed limit ≤40 km/hou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xclude mountain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d non-motorways outside and inside urban areas with a speed limit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tween 40 and 6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d motorways (multi-lane roads specifically constructed and controlled for fast traffic) with a  speed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to 8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rterial, collector and local road inside and/or near central business district (CBD)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Speed limit is from 40 to 80 km/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depends on road type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rterial, collector and local road inside non-urban area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Speed limit is from 50 to 80 km/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depends on roa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orway which is designed, constructed and controlled for faster traffic in urban and rural area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peed limit is from 100 to 120 km/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depends 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nsely Inhabited District (DI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Speed limit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6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n-Densely Inhabited Distri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n 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･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Speed limit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6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(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ithin City and between Cit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･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Speed limit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10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finition depends on EU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finition depends on EU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finition depends on EU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14480" y="68580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was agreed that each CP has its own unique definition of each road type (urban/rural/motorway) during 1st DHC meeting. This may lead the discrepancy on speed-acceleration distribution among CPs in same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87BD-EF92-47F2-8785-B9B28244B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2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838080"/>
          <a:ext cx="8763120" cy="5361120"/>
        </p:xfrm>
        <a:graphic>
          <a:graphicData uri="http://schemas.openxmlformats.org/drawingml/2006/table">
            <a:tbl>
              <a:tblPr/>
              <a:tblGrid>
                <a:gridCol w="1422360"/>
                <a:gridCol w="2235240"/>
                <a:gridCol w="1105200"/>
                <a:gridCol w="1104840"/>
                <a:gridCol w="1409760"/>
                <a:gridCol w="1485720"/>
              </a:tblGrid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veh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riving duratio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riving distance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)on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, Italy, Slovenia, France, Belgium, 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2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prefectur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yo, Osaka , Kyoto, Nagoya, Shizuoka, 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1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5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1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3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52280" y="622944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Exclude 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*) Korea: Not exist Weekend data in Urban and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CFD3-73C6-4A45-BEDC-023EFFA21A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3. Traffic Volume Weighting in Dr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5" descr=""/>
          <p:cNvPicPr/>
          <p:nvPr/>
        </p:nvPicPr>
        <p:blipFill>
          <a:blip r:embed="rId1"/>
          <a:stretch/>
        </p:blipFill>
        <p:spPr>
          <a:xfrm>
            <a:off x="1152360" y="711360"/>
            <a:ext cx="6797880" cy="5946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25800" y="4749840"/>
            <a:ext cx="30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orary weighting for initi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965160"/>
            <a:ext cx="1371600" cy="38354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835440"/>
              <a:gd name="textAreaBottom" fmla="*/ 3768480 h 3835440"/>
            </a:gdLst>
            <a:ahLst/>
            <a:rect l="textAreaLeft" t="textAreaTop" r="textAreaRight" b="textAreaBottom"/>
            <a:pathLst>
              <a:path w="21600" h="60390">
                <a:moveTo>
                  <a:pt x="3600" y="0"/>
                </a:moveTo>
                <a:arcTo wR="3600" hR="3600" stAng="16200000" swAng="-5400000"/>
                <a:lnTo>
                  <a:pt x="0" y="56790"/>
                </a:lnTo>
                <a:arcTo wR="3600" hR="3600" stAng="10800000" swAng="-5400000"/>
                <a:lnTo>
                  <a:pt x="18000" y="603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A3F1-3573-43D6-802F-0B621E5CD4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2.1. Preparation for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Comm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move the noise by filtering process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4253H fil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ind the acceleration by applying differential equati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/ (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nerate the Speed-acceleration distribution, 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km/h intervals, α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km/h/s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liminate the ST with max speed 250km/h or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Japane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 incomplete ST that transfer to High phase (e.g. Vmax≧80, 90k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ee the next slide for more details on incomplete S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EU data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Pre-check methodology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 is set “true”, when failures or inconsistencies were found during data preprocessing and when the following indicators are set “tru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_dv is set “true”, when the difference between the original vehicle speed v and the smoothed speed vg is &lt; -7 km/h or &gt; 7 km/h. This is typically the case, when there are gaps or jumps in the speed patt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_v_start_end is set to “true”, when v_start and/or v_end of a short trip is higher than 12.6 km/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_a_min_max is set to “true”, when the acceleration exceeds 4 m/s² or is less then -4.5 m/s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atasets and short trips, indicated with those not_ok indicators should be excluded from the further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Kore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ply same method as Japane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C644-CBF1-407F-ADC8-6C078A5778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2. Incomplete Short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838080"/>
            <a:ext cx="8569080" cy="21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oth complete and incomplete in-use data that transfer to High phase are analy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73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cause of long driving duration at high speed, including the STs with no start acceleration phase or braking phase does not i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73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data is excluded, the few remaining data might not represent  actual driv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4920" y="3624120"/>
            <a:ext cx="2377080" cy="1514520"/>
            <a:chOff x="754920" y="3624120"/>
            <a:chExt cx="2377080" cy="1514520"/>
          </a:xfrm>
        </p:grpSpPr>
        <p:sp>
          <p:nvSpPr>
            <p:cNvPr id="67" name=""/>
            <p:cNvSpPr/>
            <p:nvPr/>
          </p:nvSpPr>
          <p:spPr>
            <a:xfrm flipV="1">
              <a:off x="1042920" y="38415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2920" y="48495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50840" y="4030560"/>
              <a:ext cx="1838160" cy="817560"/>
            </a:xfrm>
            <a:custGeom>
              <a:avLst/>
              <a:gdLst/>
              <a:ahLst/>
              <a:rect l="l" t="t" r="r" b="b"/>
              <a:pathLst>
                <a:path w="1158" h="515">
                  <a:moveTo>
                    <a:pt x="0" y="515"/>
                  </a:moveTo>
                  <a:cubicBezTo>
                    <a:pt x="19" y="449"/>
                    <a:pt x="75" y="178"/>
                    <a:pt x="112" y="117"/>
                  </a:cubicBezTo>
                  <a:cubicBezTo>
                    <a:pt x="149" y="56"/>
                    <a:pt x="180" y="157"/>
                    <a:pt x="223" y="150"/>
                  </a:cubicBezTo>
                  <a:cubicBezTo>
                    <a:pt x="266" y="143"/>
                    <a:pt x="329" y="80"/>
                    <a:pt x="369" y="77"/>
                  </a:cubicBezTo>
                  <a:cubicBezTo>
                    <a:pt x="409" y="74"/>
                    <a:pt x="422" y="134"/>
                    <a:pt x="466" y="131"/>
                  </a:cubicBezTo>
                  <a:cubicBezTo>
                    <a:pt x="510" y="128"/>
                    <a:pt x="570" y="61"/>
                    <a:pt x="636" y="59"/>
                  </a:cubicBezTo>
                  <a:cubicBezTo>
                    <a:pt x="702" y="57"/>
                    <a:pt x="794" y="118"/>
                    <a:pt x="860" y="119"/>
                  </a:cubicBezTo>
                  <a:cubicBezTo>
                    <a:pt x="926" y="120"/>
                    <a:pt x="980" y="0"/>
                    <a:pt x="1030" y="65"/>
                  </a:cubicBezTo>
                  <a:cubicBezTo>
                    <a:pt x="1080" y="130"/>
                    <a:pt x="1131" y="417"/>
                    <a:pt x="1158" y="509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0560" y="486216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173160" y="4205520"/>
              <a:ext cx="14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Veh. sp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042920" y="5409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64184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50840" y="5688000"/>
            <a:ext cx="1781280" cy="728640"/>
          </a:xfrm>
          <a:custGeom>
            <a:avLst/>
            <a:gdLst/>
            <a:ahLst/>
            <a:rect l="l" t="t" r="r" b="b"/>
            <a:pathLst>
              <a:path w="1122" h="459">
                <a:moveTo>
                  <a:pt x="0" y="459"/>
                </a:moveTo>
                <a:cubicBezTo>
                  <a:pt x="19" y="393"/>
                  <a:pt x="75" y="122"/>
                  <a:pt x="112" y="61"/>
                </a:cubicBezTo>
                <a:cubicBezTo>
                  <a:pt x="149" y="0"/>
                  <a:pt x="180" y="101"/>
                  <a:pt x="223" y="94"/>
                </a:cubicBezTo>
                <a:cubicBezTo>
                  <a:pt x="266" y="87"/>
                  <a:pt x="329" y="24"/>
                  <a:pt x="369" y="21"/>
                </a:cubicBezTo>
                <a:cubicBezTo>
                  <a:pt x="409" y="18"/>
                  <a:pt x="422" y="78"/>
                  <a:pt x="466" y="75"/>
                </a:cubicBezTo>
                <a:cubicBezTo>
                  <a:pt x="510" y="72"/>
                  <a:pt x="570" y="5"/>
                  <a:pt x="636" y="3"/>
                </a:cubicBezTo>
                <a:cubicBezTo>
                  <a:pt x="702" y="1"/>
                  <a:pt x="794" y="62"/>
                  <a:pt x="860" y="63"/>
                </a:cubicBezTo>
                <a:cubicBezTo>
                  <a:pt x="926" y="64"/>
                  <a:pt x="986" y="10"/>
                  <a:pt x="1030" y="9"/>
                </a:cubicBezTo>
                <a:cubicBezTo>
                  <a:pt x="1074" y="8"/>
                  <a:pt x="1103" y="46"/>
                  <a:pt x="1122" y="5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0560" y="64310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rot="16200000">
            <a:off x="173160" y="57362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06920" y="5442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6920" y="64501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10160" y="5630760"/>
            <a:ext cx="1846080" cy="812880"/>
          </a:xfrm>
          <a:custGeom>
            <a:avLst/>
            <a:gdLst/>
            <a:ahLst/>
            <a:rect l="l" t="t" r="r" b="b"/>
            <a:pathLst>
              <a:path w="1163" h="512">
                <a:moveTo>
                  <a:pt x="0" y="168"/>
                </a:moveTo>
                <a:cubicBezTo>
                  <a:pt x="20" y="159"/>
                  <a:pt x="77" y="120"/>
                  <a:pt x="115" y="117"/>
                </a:cubicBezTo>
                <a:cubicBezTo>
                  <a:pt x="153" y="114"/>
                  <a:pt x="183" y="157"/>
                  <a:pt x="226" y="150"/>
                </a:cubicBezTo>
                <a:cubicBezTo>
                  <a:pt x="269" y="143"/>
                  <a:pt x="332" y="80"/>
                  <a:pt x="372" y="77"/>
                </a:cubicBezTo>
                <a:cubicBezTo>
                  <a:pt x="412" y="74"/>
                  <a:pt x="425" y="134"/>
                  <a:pt x="469" y="131"/>
                </a:cubicBezTo>
                <a:cubicBezTo>
                  <a:pt x="513" y="128"/>
                  <a:pt x="573" y="61"/>
                  <a:pt x="639" y="59"/>
                </a:cubicBezTo>
                <a:cubicBezTo>
                  <a:pt x="705" y="57"/>
                  <a:pt x="797" y="118"/>
                  <a:pt x="863" y="119"/>
                </a:cubicBezTo>
                <a:cubicBezTo>
                  <a:pt x="929" y="120"/>
                  <a:pt x="983" y="0"/>
                  <a:pt x="1033" y="65"/>
                </a:cubicBezTo>
                <a:cubicBezTo>
                  <a:pt x="1083" y="130"/>
                  <a:pt x="1136" y="419"/>
                  <a:pt x="1163" y="51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4560" y="6462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299280" y="5442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9280" y="64501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2520" y="5721480"/>
            <a:ext cx="1800000" cy="176040"/>
          </a:xfrm>
          <a:custGeom>
            <a:avLst/>
            <a:gdLst/>
            <a:ahLst/>
            <a:rect l="l" t="t" r="r" b="b"/>
            <a:pathLst>
              <a:path w="1134" h="111">
                <a:moveTo>
                  <a:pt x="0" y="111"/>
                </a:moveTo>
                <a:cubicBezTo>
                  <a:pt x="20" y="102"/>
                  <a:pt x="77" y="63"/>
                  <a:pt x="115" y="60"/>
                </a:cubicBezTo>
                <a:cubicBezTo>
                  <a:pt x="153" y="57"/>
                  <a:pt x="183" y="100"/>
                  <a:pt x="226" y="93"/>
                </a:cubicBezTo>
                <a:cubicBezTo>
                  <a:pt x="269" y="86"/>
                  <a:pt x="332" y="23"/>
                  <a:pt x="372" y="20"/>
                </a:cubicBezTo>
                <a:cubicBezTo>
                  <a:pt x="412" y="17"/>
                  <a:pt x="425" y="77"/>
                  <a:pt x="469" y="74"/>
                </a:cubicBezTo>
                <a:cubicBezTo>
                  <a:pt x="513" y="71"/>
                  <a:pt x="573" y="4"/>
                  <a:pt x="639" y="2"/>
                </a:cubicBezTo>
                <a:cubicBezTo>
                  <a:pt x="705" y="0"/>
                  <a:pt x="797" y="61"/>
                  <a:pt x="863" y="62"/>
                </a:cubicBezTo>
                <a:cubicBezTo>
                  <a:pt x="929" y="63"/>
                  <a:pt x="988" y="3"/>
                  <a:pt x="1033" y="8"/>
                </a:cubicBezTo>
                <a:cubicBezTo>
                  <a:pt x="1078" y="13"/>
                  <a:pt x="1113" y="75"/>
                  <a:pt x="1134" y="9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6920" y="6462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342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①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mplete 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560" y="50292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complete 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8A96-97BE-43DF-B030-582257A8B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0-09-27T07:09:06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