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7F513-50B6-46FC-B092-5A4210DD7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38F12-D16C-427C-B109-6900E9A3E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430B-9B89-4C80-A5D6-7363603B0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B68A-965D-4EAF-B6EA-33AE8E8426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7F1F-6CEE-477B-8906-5450A1C9FF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3264F-4287-4AC6-9815-ECEEC0FB4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B31C-73AA-4650-8DBC-AB7DA2469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0597-47E8-4A78-8E5A-E04EB0DF8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F495B-B842-4AA7-8BB9-8B00FC246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BDC2-AE93-4977-BB79-D33C7BE83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E25F-EE8B-4E5F-9472-6A9DCF050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19F3-D001-4885-A0F8-3965BB316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9D44-A8F6-4EF6-A843-EF7992830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588000" y="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LTP-DHC-05-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28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1.wmf"/><Relationship Id="rId9" Type="http://schemas.openxmlformats.org/officeDocument/2006/relationships/image" Target="../media/image28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1.wmf"/><Relationship Id="rId14" Type="http://schemas.openxmlformats.org/officeDocument/2006/relationships/image" Target="../media/image28.wmf"/><Relationship Id="rId15" Type="http://schemas.openxmlformats.org/officeDocument/2006/relationships/image" Target="../media/image32.wmf"/><Relationship Id="rId16" Type="http://schemas.openxmlformats.org/officeDocument/2006/relationships/image" Target="../media/image33.wmf"/><Relationship Id="rId17" Type="http://schemas.openxmlformats.org/officeDocument/2006/relationships/image" Target="../media/image34.wmf"/><Relationship Id="rId18" Type="http://schemas.openxmlformats.org/officeDocument/2006/relationships/image" Target="../media/image31.wmf"/><Relationship Id="rId19" Type="http://schemas.openxmlformats.org/officeDocument/2006/relationships/image" Target="../media/image28.wmf"/><Relationship Id="rId20" Type="http://schemas.openxmlformats.org/officeDocument/2006/relationships/image" Target="../media/image32.wmf"/><Relationship Id="rId21" Type="http://schemas.openxmlformats.org/officeDocument/2006/relationships/image" Target="../media/image33.wmf"/><Relationship Id="rId22" Type="http://schemas.openxmlformats.org/officeDocument/2006/relationships/image" Target="../media/image34.wmf"/><Relationship Id="rId23" Type="http://schemas.openxmlformats.org/officeDocument/2006/relationships/image" Target="../media/image30.wmf"/><Relationship Id="rId24" Type="http://schemas.openxmlformats.org/officeDocument/2006/relationships/image" Target="../media/image30.wmf"/><Relationship Id="rId25" Type="http://schemas.openxmlformats.org/officeDocument/2006/relationships/image" Target="../media/image30.wmf"/><Relationship Id="rId26" Type="http://schemas.openxmlformats.org/officeDocument/2006/relationships/image" Target="../media/image30.wmf"/><Relationship Id="rId27" Type="http://schemas.openxmlformats.org/officeDocument/2006/relationships/image" Target="../media/image30.wmf"/><Relationship Id="rId28" Type="http://schemas.openxmlformats.org/officeDocument/2006/relationships/image" Target="../media/image30.wmf"/><Relationship Id="rId2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29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0720" y="1447560"/>
            <a:ext cx="8762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LTC* Methodology</a:t>
            </a:r>
            <a:br>
              <a:rPr sz="36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~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Initial Analysis Results &amp; Modification on proposed methodology 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PE/WLTP-IG/ DHC sub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51055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Octo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62866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) WLTC: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ldwide harmonized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ght duty driving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9147-5988-4001-91B4-9C32ACDE01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5" descr=""/>
          <p:cNvPicPr/>
          <p:nvPr/>
        </p:nvPicPr>
        <p:blipFill>
          <a:blip r:embed="rId1"/>
          <a:stretch/>
        </p:blipFill>
        <p:spPr>
          <a:xfrm>
            <a:off x="795240" y="1209600"/>
            <a:ext cx="7553520" cy="4705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1. Parameter Compariso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9144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ing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AD12-A0FB-4C99-8628-C853E80C2A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5" descr=""/>
          <p:cNvPicPr/>
          <p:nvPr/>
        </p:nvPicPr>
        <p:blipFill>
          <a:blip r:embed="rId1"/>
          <a:stretch/>
        </p:blipFill>
        <p:spPr>
          <a:xfrm>
            <a:off x="795240" y="1209600"/>
            <a:ext cx="7553520" cy="4705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1. Parameter Compariso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9144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DF499-EB95-43A6-B499-F8AB5D4ECE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5" descr=""/>
          <p:cNvPicPr/>
          <p:nvPr/>
        </p:nvPicPr>
        <p:blipFill>
          <a:blip r:embed="rId1"/>
          <a:stretch/>
        </p:blipFill>
        <p:spPr>
          <a:xfrm>
            <a:off x="2320920" y="3863880"/>
            <a:ext cx="4479840" cy="290988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5" descr=""/>
          <p:cNvPicPr/>
          <p:nvPr/>
        </p:nvPicPr>
        <p:blipFill>
          <a:blip r:embed="rId2"/>
          <a:stretch/>
        </p:blipFill>
        <p:spPr>
          <a:xfrm>
            <a:off x="15840" y="838080"/>
            <a:ext cx="4479840" cy="290988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5" descr=""/>
          <p:cNvPicPr/>
          <p:nvPr/>
        </p:nvPicPr>
        <p:blipFill>
          <a:blip r:embed="rId3"/>
          <a:stretch/>
        </p:blipFill>
        <p:spPr>
          <a:xfrm>
            <a:off x="4587840" y="838080"/>
            <a:ext cx="4479840" cy="2909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1. Parameter Comparison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0400" y="716040"/>
            <a:ext cx="21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ST d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38720" y="716040"/>
            <a:ext cx="253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IDLE d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37339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 of 4 driving mo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855DE-D112-42D8-AB5B-66E46536A7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5" descr=""/>
          <p:cNvPicPr/>
          <p:nvPr/>
        </p:nvPicPr>
        <p:blipFill>
          <a:blip r:embed="rId1"/>
          <a:stretch/>
        </p:blipFill>
        <p:spPr>
          <a:xfrm>
            <a:off x="95400" y="676440"/>
            <a:ext cx="8928000" cy="60404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2. Speed Acceleratio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33960" y="1114560"/>
            <a:ext cx="838080" cy="5133960"/>
          </a:xfrm>
          <a:prstGeom prst="rect">
            <a:avLst/>
          </a:prstGeom>
          <a:solidFill>
            <a:srgbClr val="ffcc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33680" y="1114560"/>
            <a:ext cx="762120" cy="5133960"/>
          </a:xfrm>
          <a:prstGeom prst="rect">
            <a:avLst/>
          </a:prstGeom>
          <a:solidFill>
            <a:srgbClr val="cc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34200" y="1114560"/>
            <a:ext cx="524160" cy="513396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6283440"/>
            <a:ext cx="88390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iscrepancy in speed-acceleration distribution was observed in each road categ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81C2-6CE1-4E3E-B78A-D4E67AB040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3. Frequency of ST Maximum Sp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axis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quency of driving duratio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6222960"/>
            <a:ext cx="88394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repancy in ST maximum speed distribution was obse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04760" y="676440"/>
            <a:ext cx="7113600" cy="55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8FEC-DBAB-4BB7-9E22-109B0AEBBE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4. Other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5943600"/>
            <a:ext cx="8839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crepancy in ST/IDLE duration distribution was obser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Rectangle 5" descr=""/>
          <p:cNvPicPr/>
          <p:nvPr/>
        </p:nvPicPr>
        <p:blipFill>
          <a:blip r:embed="rId1"/>
          <a:stretch/>
        </p:blipFill>
        <p:spPr>
          <a:xfrm>
            <a:off x="171360" y="676440"/>
            <a:ext cx="8788320" cy="36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E776-BA3D-4D88-939B-CEE6C5E7D7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. Conclusion of Initi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observed that speed-acceleration distribution/driving characteristics in each region have discrepancy in same road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iscrepancy may mislead the representativeness when developing the harmonized driving cy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t is necessary to convert to another category where driving characteristics are similar in each region. L/M/H methods is one of countermea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3581280"/>
            <a:ext cx="2133720" cy="800280"/>
          </a:xfrm>
          <a:prstGeom prst="downArrow">
            <a:avLst>
              <a:gd name="adj1" fmla="val 51639"/>
              <a:gd name="adj2" fmla="val 4131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6970-9F88-4806-95CE-166E83D9B7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Initial analysi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2.1. Overview of collected in-u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2.2. Data analysis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2.3. Result of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2.4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alidity of L/M/H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. Overview of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 Consideration of threshold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 Analyzed example of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Modification on proposed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4.1. Modification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4.2. Modification on proposed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" y="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Validity of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8B82-611B-4870-9E2A-2ADA44F8BA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. Overview of WLTP-DHC-03-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TP-DHC-03-02 described the technique to convert the in-use data into vehicle speed oriented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ban/Rural/Motorway -&gt; Low/Middle/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2400" y="3352680"/>
            <a:ext cx="151308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65480" y="3352680"/>
            <a:ext cx="374472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0200" y="3352680"/>
            <a:ext cx="244800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52400" y="3986280"/>
            <a:ext cx="576360" cy="312840"/>
            <a:chOff x="752400" y="3986280"/>
            <a:chExt cx="576360" cy="312840"/>
          </a:xfrm>
        </p:grpSpPr>
        <p:sp>
          <p:nvSpPr>
            <p:cNvPr id="123" name=""/>
            <p:cNvSpPr/>
            <p:nvPr/>
          </p:nvSpPr>
          <p:spPr>
            <a:xfrm>
              <a:off x="752400" y="4299120"/>
              <a:ext cx="28728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39680" y="3986280"/>
              <a:ext cx="289080" cy="312840"/>
            </a:xfrm>
            <a:custGeom>
              <a:avLst/>
              <a:gdLst/>
              <a:ahLst/>
              <a:rect l="l" t="t" r="r" b="b"/>
              <a:pathLst>
                <a:path w="182" h="197">
                  <a:moveTo>
                    <a:pt x="0" y="197"/>
                  </a:moveTo>
                  <a:cubicBezTo>
                    <a:pt x="15" y="166"/>
                    <a:pt x="31" y="136"/>
                    <a:pt x="46" y="106"/>
                  </a:cubicBezTo>
                  <a:cubicBezTo>
                    <a:pt x="61" y="76"/>
                    <a:pt x="68" y="0"/>
                    <a:pt x="91" y="15"/>
                  </a:cubicBezTo>
                  <a:cubicBezTo>
                    <a:pt x="114" y="30"/>
                    <a:pt x="148" y="113"/>
                    <a:pt x="182" y="197"/>
                  </a:cubicBezTo>
                </a:path>
              </a:pathLst>
            </a:custGeom>
            <a:noFill/>
            <a:ln w="22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289480" y="4148280"/>
            <a:ext cx="576360" cy="150840"/>
            <a:chOff x="5289480" y="4148280"/>
            <a:chExt cx="576360" cy="150840"/>
          </a:xfrm>
        </p:grpSpPr>
        <p:sp>
          <p:nvSpPr>
            <p:cNvPr id="126" name=""/>
            <p:cNvSpPr/>
            <p:nvPr/>
          </p:nvSpPr>
          <p:spPr>
            <a:xfrm>
              <a:off x="5289480" y="4299120"/>
              <a:ext cx="28728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76760" y="4148280"/>
              <a:ext cx="289080" cy="150840"/>
            </a:xfrm>
            <a:custGeom>
              <a:avLst/>
              <a:gdLst/>
              <a:ahLst/>
              <a:rect l="l" t="t" r="r" b="b"/>
              <a:pathLst>
                <a:path w="182" h="95">
                  <a:moveTo>
                    <a:pt x="0" y="95"/>
                  </a:moveTo>
                  <a:cubicBezTo>
                    <a:pt x="7" y="83"/>
                    <a:pt x="23" y="33"/>
                    <a:pt x="45" y="19"/>
                  </a:cubicBezTo>
                  <a:cubicBezTo>
                    <a:pt x="67" y="5"/>
                    <a:pt x="111" y="0"/>
                    <a:pt x="134" y="13"/>
                  </a:cubicBezTo>
                  <a:cubicBezTo>
                    <a:pt x="157" y="26"/>
                    <a:pt x="172" y="78"/>
                    <a:pt x="182" y="95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273480" y="4145040"/>
            <a:ext cx="431280" cy="153720"/>
            <a:chOff x="3273480" y="4145040"/>
            <a:chExt cx="431280" cy="153720"/>
          </a:xfrm>
        </p:grpSpPr>
        <p:sp>
          <p:nvSpPr>
            <p:cNvPr id="129" name=""/>
            <p:cNvSpPr/>
            <p:nvPr/>
          </p:nvSpPr>
          <p:spPr>
            <a:xfrm>
              <a:off x="3273480" y="4298760"/>
              <a:ext cx="1425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16040" y="4145040"/>
              <a:ext cx="288720" cy="153720"/>
            </a:xfrm>
            <a:custGeom>
              <a:avLst/>
              <a:gdLst/>
              <a:ahLst/>
              <a:rect l="l" t="t" r="r" b="b"/>
              <a:pathLst>
                <a:path w="182" h="97">
                  <a:moveTo>
                    <a:pt x="0" y="97"/>
                  </a:moveTo>
                  <a:cubicBezTo>
                    <a:pt x="15" y="66"/>
                    <a:pt x="28" y="12"/>
                    <a:pt x="46" y="6"/>
                  </a:cubicBezTo>
                  <a:cubicBezTo>
                    <a:pt x="64" y="0"/>
                    <a:pt x="88" y="48"/>
                    <a:pt x="111" y="63"/>
                  </a:cubicBezTo>
                  <a:cubicBezTo>
                    <a:pt x="134" y="78"/>
                    <a:pt x="167" y="90"/>
                    <a:pt x="182" y="97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713120" y="4114800"/>
            <a:ext cx="576360" cy="183960"/>
            <a:chOff x="4713120" y="4114800"/>
            <a:chExt cx="576360" cy="183960"/>
          </a:xfrm>
        </p:grpSpPr>
        <p:sp>
          <p:nvSpPr>
            <p:cNvPr id="132" name=""/>
            <p:cNvSpPr/>
            <p:nvPr/>
          </p:nvSpPr>
          <p:spPr>
            <a:xfrm>
              <a:off x="4713120" y="4298760"/>
              <a:ext cx="1443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7480" y="4114800"/>
              <a:ext cx="432000" cy="183960"/>
            </a:xfrm>
            <a:custGeom>
              <a:avLst/>
              <a:gdLst/>
              <a:ahLst/>
              <a:rect l="l" t="t" r="r" b="b"/>
              <a:pathLst>
                <a:path w="272" h="116">
                  <a:moveTo>
                    <a:pt x="0" y="112"/>
                  </a:moveTo>
                  <a:cubicBezTo>
                    <a:pt x="8" y="100"/>
                    <a:pt x="24" y="53"/>
                    <a:pt x="51" y="37"/>
                  </a:cubicBezTo>
                  <a:cubicBezTo>
                    <a:pt x="78" y="21"/>
                    <a:pt x="128" y="0"/>
                    <a:pt x="165" y="13"/>
                  </a:cubicBezTo>
                  <a:cubicBezTo>
                    <a:pt x="202" y="26"/>
                    <a:pt x="250" y="95"/>
                    <a:pt x="272" y="116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330200" y="4064040"/>
            <a:ext cx="696960" cy="235080"/>
            <a:chOff x="1330200" y="4064040"/>
            <a:chExt cx="696960" cy="235080"/>
          </a:xfrm>
        </p:grpSpPr>
        <p:sp>
          <p:nvSpPr>
            <p:cNvPr id="135" name=""/>
            <p:cNvSpPr/>
            <p:nvPr/>
          </p:nvSpPr>
          <p:spPr>
            <a:xfrm>
              <a:off x="1330200" y="4286520"/>
              <a:ext cx="14292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57280" y="4064040"/>
              <a:ext cx="569880" cy="235080"/>
            </a:xfrm>
            <a:custGeom>
              <a:avLst/>
              <a:gdLst/>
              <a:ahLst/>
              <a:rect l="l" t="t" r="r" b="b"/>
              <a:pathLst>
                <a:path w="359" h="148">
                  <a:moveTo>
                    <a:pt x="0" y="141"/>
                  </a:moveTo>
                  <a:cubicBezTo>
                    <a:pt x="10" y="129"/>
                    <a:pt x="41" y="76"/>
                    <a:pt x="62" y="70"/>
                  </a:cubicBezTo>
                  <a:cubicBezTo>
                    <a:pt x="83" y="64"/>
                    <a:pt x="109" y="101"/>
                    <a:pt x="129" y="102"/>
                  </a:cubicBezTo>
                  <a:cubicBezTo>
                    <a:pt x="149" y="103"/>
                    <a:pt x="159" y="90"/>
                    <a:pt x="183" y="75"/>
                  </a:cubicBezTo>
                  <a:cubicBezTo>
                    <a:pt x="207" y="60"/>
                    <a:pt x="244" y="0"/>
                    <a:pt x="273" y="12"/>
                  </a:cubicBezTo>
                  <a:cubicBezTo>
                    <a:pt x="302" y="24"/>
                    <a:pt x="341" y="120"/>
                    <a:pt x="359" y="148"/>
                  </a:cubicBezTo>
                </a:path>
              </a:pathLst>
            </a:custGeom>
            <a:noFill/>
            <a:ln w="22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705120" y="3905280"/>
            <a:ext cx="1000080" cy="393840"/>
            <a:chOff x="3705120" y="3905280"/>
            <a:chExt cx="1000080" cy="393840"/>
          </a:xfrm>
        </p:grpSpPr>
        <p:sp>
          <p:nvSpPr>
            <p:cNvPr id="138" name=""/>
            <p:cNvSpPr/>
            <p:nvPr/>
          </p:nvSpPr>
          <p:spPr>
            <a:xfrm>
              <a:off x="3705120" y="429912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30400" y="3905280"/>
              <a:ext cx="874800" cy="390600"/>
            </a:xfrm>
            <a:custGeom>
              <a:avLst/>
              <a:gdLst/>
              <a:ahLst/>
              <a:rect l="l" t="t" r="r" b="b"/>
              <a:pathLst>
                <a:path w="551" h="246">
                  <a:moveTo>
                    <a:pt x="0" y="246"/>
                  </a:moveTo>
                  <a:cubicBezTo>
                    <a:pt x="17" y="223"/>
                    <a:pt x="71" y="139"/>
                    <a:pt x="101" y="103"/>
                  </a:cubicBezTo>
                  <a:cubicBezTo>
                    <a:pt x="131" y="67"/>
                    <a:pt x="143" y="44"/>
                    <a:pt x="178" y="29"/>
                  </a:cubicBezTo>
                  <a:cubicBezTo>
                    <a:pt x="213" y="14"/>
                    <a:pt x="274" y="0"/>
                    <a:pt x="310" y="11"/>
                  </a:cubicBezTo>
                  <a:cubicBezTo>
                    <a:pt x="346" y="22"/>
                    <a:pt x="366" y="66"/>
                    <a:pt x="394" y="95"/>
                  </a:cubicBezTo>
                  <a:cubicBezTo>
                    <a:pt x="422" y="124"/>
                    <a:pt x="452" y="161"/>
                    <a:pt x="478" y="185"/>
                  </a:cubicBezTo>
                  <a:cubicBezTo>
                    <a:pt x="504" y="209"/>
                    <a:pt x="536" y="229"/>
                    <a:pt x="551" y="24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268360" y="3952800"/>
            <a:ext cx="1000080" cy="345960"/>
            <a:chOff x="2268360" y="3952800"/>
            <a:chExt cx="1000080" cy="345960"/>
          </a:xfrm>
        </p:grpSpPr>
        <p:sp>
          <p:nvSpPr>
            <p:cNvPr id="141" name=""/>
            <p:cNvSpPr/>
            <p:nvPr/>
          </p:nvSpPr>
          <p:spPr>
            <a:xfrm>
              <a:off x="2268360" y="429876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94000" y="3952800"/>
              <a:ext cx="874440" cy="342720"/>
            </a:xfrm>
            <a:custGeom>
              <a:avLst/>
              <a:gdLst/>
              <a:ahLst/>
              <a:rect l="l" t="t" r="r" b="b"/>
              <a:pathLst>
                <a:path w="551" h="216">
                  <a:moveTo>
                    <a:pt x="0" y="216"/>
                  </a:moveTo>
                  <a:cubicBezTo>
                    <a:pt x="12" y="204"/>
                    <a:pt x="46" y="173"/>
                    <a:pt x="72" y="143"/>
                  </a:cubicBezTo>
                  <a:cubicBezTo>
                    <a:pt x="98" y="113"/>
                    <a:pt x="120" y="47"/>
                    <a:pt x="156" y="35"/>
                  </a:cubicBezTo>
                  <a:cubicBezTo>
                    <a:pt x="192" y="23"/>
                    <a:pt x="253" y="75"/>
                    <a:pt x="291" y="70"/>
                  </a:cubicBezTo>
                  <a:cubicBezTo>
                    <a:pt x="329" y="65"/>
                    <a:pt x="355" y="0"/>
                    <a:pt x="384" y="5"/>
                  </a:cubicBezTo>
                  <a:cubicBezTo>
                    <a:pt x="413" y="10"/>
                    <a:pt x="434" y="67"/>
                    <a:pt x="462" y="101"/>
                  </a:cubicBezTo>
                  <a:cubicBezTo>
                    <a:pt x="490" y="135"/>
                    <a:pt x="532" y="188"/>
                    <a:pt x="551" y="21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081840" y="3886200"/>
            <a:ext cx="1000080" cy="412560"/>
            <a:chOff x="6081840" y="3886200"/>
            <a:chExt cx="1000080" cy="412560"/>
          </a:xfrm>
        </p:grpSpPr>
        <p:sp>
          <p:nvSpPr>
            <p:cNvPr id="144" name=""/>
            <p:cNvSpPr/>
            <p:nvPr/>
          </p:nvSpPr>
          <p:spPr>
            <a:xfrm>
              <a:off x="6081840" y="4298760"/>
              <a:ext cx="142920" cy="0"/>
            </a:xfrm>
            <a:prstGeom prst="line">
              <a:avLst/>
            </a:prstGeom>
            <a:ln w="22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07120" y="3886200"/>
              <a:ext cx="874800" cy="409680"/>
            </a:xfrm>
            <a:custGeom>
              <a:avLst/>
              <a:gdLst/>
              <a:ahLst/>
              <a:rect l="l" t="t" r="r" b="b"/>
              <a:pathLst>
                <a:path w="551" h="258">
                  <a:moveTo>
                    <a:pt x="0" y="258"/>
                  </a:moveTo>
                  <a:cubicBezTo>
                    <a:pt x="12" y="246"/>
                    <a:pt x="46" y="228"/>
                    <a:pt x="72" y="185"/>
                  </a:cubicBezTo>
                  <a:cubicBezTo>
                    <a:pt x="98" y="142"/>
                    <a:pt x="119" y="0"/>
                    <a:pt x="159" y="0"/>
                  </a:cubicBezTo>
                  <a:cubicBezTo>
                    <a:pt x="199" y="0"/>
                    <a:pt x="273" y="163"/>
                    <a:pt x="315" y="186"/>
                  </a:cubicBezTo>
                  <a:cubicBezTo>
                    <a:pt x="357" y="209"/>
                    <a:pt x="387" y="145"/>
                    <a:pt x="411" y="138"/>
                  </a:cubicBezTo>
                  <a:cubicBezTo>
                    <a:pt x="435" y="131"/>
                    <a:pt x="439" y="124"/>
                    <a:pt x="462" y="143"/>
                  </a:cubicBezTo>
                  <a:cubicBezTo>
                    <a:pt x="485" y="162"/>
                    <a:pt x="532" y="230"/>
                    <a:pt x="551" y="253"/>
                  </a:cubicBezTo>
                </a:path>
              </a:pathLst>
            </a:custGeom>
            <a:noFill/>
            <a:ln w="22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089840" y="3573360"/>
            <a:ext cx="1226880" cy="725400"/>
            <a:chOff x="7089840" y="3573360"/>
            <a:chExt cx="1226880" cy="725400"/>
          </a:xfrm>
        </p:grpSpPr>
        <p:sp>
          <p:nvSpPr>
            <p:cNvPr id="147" name=""/>
            <p:cNvSpPr/>
            <p:nvPr/>
          </p:nvSpPr>
          <p:spPr>
            <a:xfrm>
              <a:off x="7089840" y="4282920"/>
              <a:ext cx="867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65800" y="3573360"/>
              <a:ext cx="1150920" cy="725400"/>
            </a:xfrm>
            <a:custGeom>
              <a:avLst/>
              <a:gdLst/>
              <a:ahLst/>
              <a:rect l="l" t="t" r="r" b="b"/>
              <a:pathLst>
                <a:path w="1193" h="457">
                  <a:moveTo>
                    <a:pt x="0" y="445"/>
                  </a:moveTo>
                  <a:cubicBezTo>
                    <a:pt x="17" y="419"/>
                    <a:pt x="64" y="308"/>
                    <a:pt x="101" y="289"/>
                  </a:cubicBezTo>
                  <a:cubicBezTo>
                    <a:pt x="138" y="270"/>
                    <a:pt x="174" y="352"/>
                    <a:pt x="221" y="331"/>
                  </a:cubicBezTo>
                  <a:cubicBezTo>
                    <a:pt x="268" y="310"/>
                    <a:pt x="340" y="209"/>
                    <a:pt x="383" y="163"/>
                  </a:cubicBezTo>
                  <a:cubicBezTo>
                    <a:pt x="426" y="117"/>
                    <a:pt x="438" y="76"/>
                    <a:pt x="479" y="55"/>
                  </a:cubicBezTo>
                  <a:cubicBezTo>
                    <a:pt x="520" y="34"/>
                    <a:pt x="580" y="39"/>
                    <a:pt x="629" y="37"/>
                  </a:cubicBezTo>
                  <a:cubicBezTo>
                    <a:pt x="678" y="35"/>
                    <a:pt x="711" y="0"/>
                    <a:pt x="773" y="43"/>
                  </a:cubicBezTo>
                  <a:cubicBezTo>
                    <a:pt x="835" y="86"/>
                    <a:pt x="931" y="226"/>
                    <a:pt x="1001" y="295"/>
                  </a:cubicBezTo>
                  <a:cubicBezTo>
                    <a:pt x="1071" y="364"/>
                    <a:pt x="1153" y="423"/>
                    <a:pt x="1193" y="457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54200" y="3352680"/>
            <a:ext cx="76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65480" y="33526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0200" y="33526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2400" y="5240160"/>
            <a:ext cx="3025800" cy="1008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78200" y="5240160"/>
            <a:ext cx="3240000" cy="100836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18200" y="5240160"/>
            <a:ext cx="1440000" cy="1008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752400" y="5851440"/>
            <a:ext cx="576360" cy="312840"/>
            <a:chOff x="752400" y="5851440"/>
            <a:chExt cx="576360" cy="312840"/>
          </a:xfrm>
        </p:grpSpPr>
        <p:sp>
          <p:nvSpPr>
            <p:cNvPr id="156" name=""/>
            <p:cNvSpPr/>
            <p:nvPr/>
          </p:nvSpPr>
          <p:spPr>
            <a:xfrm>
              <a:off x="752400" y="6164280"/>
              <a:ext cx="28728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39680" y="5851440"/>
              <a:ext cx="289080" cy="312840"/>
            </a:xfrm>
            <a:custGeom>
              <a:avLst/>
              <a:gdLst/>
              <a:ahLst/>
              <a:rect l="l" t="t" r="r" b="b"/>
              <a:pathLst>
                <a:path w="182" h="197">
                  <a:moveTo>
                    <a:pt x="0" y="197"/>
                  </a:moveTo>
                  <a:cubicBezTo>
                    <a:pt x="15" y="166"/>
                    <a:pt x="31" y="136"/>
                    <a:pt x="46" y="106"/>
                  </a:cubicBezTo>
                  <a:cubicBezTo>
                    <a:pt x="61" y="76"/>
                    <a:pt x="68" y="0"/>
                    <a:pt x="91" y="15"/>
                  </a:cubicBezTo>
                  <a:cubicBezTo>
                    <a:pt x="114" y="30"/>
                    <a:pt x="148" y="113"/>
                    <a:pt x="182" y="197"/>
                  </a:cubicBezTo>
                </a:path>
              </a:pathLst>
            </a:custGeom>
            <a:noFill/>
            <a:ln w="22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057480" y="6013440"/>
            <a:ext cx="576360" cy="150840"/>
            <a:chOff x="3057480" y="6013440"/>
            <a:chExt cx="576360" cy="150840"/>
          </a:xfrm>
        </p:grpSpPr>
        <p:sp>
          <p:nvSpPr>
            <p:cNvPr id="159" name=""/>
            <p:cNvSpPr/>
            <p:nvPr/>
          </p:nvSpPr>
          <p:spPr>
            <a:xfrm>
              <a:off x="3057480" y="6164280"/>
              <a:ext cx="28728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44760" y="6013440"/>
              <a:ext cx="289080" cy="150840"/>
            </a:xfrm>
            <a:custGeom>
              <a:avLst/>
              <a:gdLst/>
              <a:ahLst/>
              <a:rect l="l" t="t" r="r" b="b"/>
              <a:pathLst>
                <a:path w="182" h="95">
                  <a:moveTo>
                    <a:pt x="0" y="95"/>
                  </a:moveTo>
                  <a:cubicBezTo>
                    <a:pt x="7" y="83"/>
                    <a:pt x="23" y="33"/>
                    <a:pt x="45" y="19"/>
                  </a:cubicBezTo>
                  <a:cubicBezTo>
                    <a:pt x="67" y="5"/>
                    <a:pt x="111" y="0"/>
                    <a:pt x="134" y="13"/>
                  </a:cubicBezTo>
                  <a:cubicBezTo>
                    <a:pt x="157" y="26"/>
                    <a:pt x="172" y="78"/>
                    <a:pt x="182" y="95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049480" y="6010200"/>
            <a:ext cx="431280" cy="153720"/>
            <a:chOff x="2049480" y="6010200"/>
            <a:chExt cx="431280" cy="153720"/>
          </a:xfrm>
        </p:grpSpPr>
        <p:sp>
          <p:nvSpPr>
            <p:cNvPr id="162" name=""/>
            <p:cNvSpPr/>
            <p:nvPr/>
          </p:nvSpPr>
          <p:spPr>
            <a:xfrm>
              <a:off x="2049480" y="6163920"/>
              <a:ext cx="1425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92040" y="6010200"/>
              <a:ext cx="288720" cy="153720"/>
            </a:xfrm>
            <a:custGeom>
              <a:avLst/>
              <a:gdLst/>
              <a:ahLst/>
              <a:rect l="l" t="t" r="r" b="b"/>
              <a:pathLst>
                <a:path w="182" h="97">
                  <a:moveTo>
                    <a:pt x="0" y="97"/>
                  </a:moveTo>
                  <a:cubicBezTo>
                    <a:pt x="15" y="66"/>
                    <a:pt x="28" y="12"/>
                    <a:pt x="46" y="6"/>
                  </a:cubicBezTo>
                  <a:cubicBezTo>
                    <a:pt x="64" y="0"/>
                    <a:pt x="88" y="48"/>
                    <a:pt x="111" y="63"/>
                  </a:cubicBezTo>
                  <a:cubicBezTo>
                    <a:pt x="134" y="78"/>
                    <a:pt x="167" y="90"/>
                    <a:pt x="182" y="97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481120" y="5979960"/>
            <a:ext cx="576360" cy="183960"/>
            <a:chOff x="2481120" y="5979960"/>
            <a:chExt cx="576360" cy="183960"/>
          </a:xfrm>
        </p:grpSpPr>
        <p:sp>
          <p:nvSpPr>
            <p:cNvPr id="165" name=""/>
            <p:cNvSpPr/>
            <p:nvPr/>
          </p:nvSpPr>
          <p:spPr>
            <a:xfrm>
              <a:off x="2481120" y="6163920"/>
              <a:ext cx="1443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25480" y="5979960"/>
              <a:ext cx="432000" cy="183960"/>
            </a:xfrm>
            <a:custGeom>
              <a:avLst/>
              <a:gdLst/>
              <a:ahLst/>
              <a:rect l="l" t="t" r="r" b="b"/>
              <a:pathLst>
                <a:path w="272" h="116">
                  <a:moveTo>
                    <a:pt x="0" y="112"/>
                  </a:moveTo>
                  <a:cubicBezTo>
                    <a:pt x="8" y="100"/>
                    <a:pt x="24" y="53"/>
                    <a:pt x="51" y="37"/>
                  </a:cubicBezTo>
                  <a:cubicBezTo>
                    <a:pt x="78" y="21"/>
                    <a:pt x="128" y="0"/>
                    <a:pt x="165" y="13"/>
                  </a:cubicBezTo>
                  <a:cubicBezTo>
                    <a:pt x="202" y="26"/>
                    <a:pt x="250" y="95"/>
                    <a:pt x="272" y="116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330200" y="5929200"/>
            <a:ext cx="696960" cy="235080"/>
            <a:chOff x="1330200" y="5929200"/>
            <a:chExt cx="696960" cy="235080"/>
          </a:xfrm>
        </p:grpSpPr>
        <p:sp>
          <p:nvSpPr>
            <p:cNvPr id="168" name=""/>
            <p:cNvSpPr/>
            <p:nvPr/>
          </p:nvSpPr>
          <p:spPr>
            <a:xfrm>
              <a:off x="1330200" y="6151680"/>
              <a:ext cx="14292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57280" y="5929200"/>
              <a:ext cx="569880" cy="235080"/>
            </a:xfrm>
            <a:custGeom>
              <a:avLst/>
              <a:gdLst/>
              <a:ahLst/>
              <a:rect l="l" t="t" r="r" b="b"/>
              <a:pathLst>
                <a:path w="359" h="148">
                  <a:moveTo>
                    <a:pt x="0" y="141"/>
                  </a:moveTo>
                  <a:cubicBezTo>
                    <a:pt x="10" y="129"/>
                    <a:pt x="41" y="76"/>
                    <a:pt x="62" y="70"/>
                  </a:cubicBezTo>
                  <a:cubicBezTo>
                    <a:pt x="83" y="64"/>
                    <a:pt x="109" y="101"/>
                    <a:pt x="129" y="102"/>
                  </a:cubicBezTo>
                  <a:cubicBezTo>
                    <a:pt x="149" y="103"/>
                    <a:pt x="159" y="90"/>
                    <a:pt x="183" y="75"/>
                  </a:cubicBezTo>
                  <a:cubicBezTo>
                    <a:pt x="207" y="60"/>
                    <a:pt x="244" y="0"/>
                    <a:pt x="273" y="12"/>
                  </a:cubicBezTo>
                  <a:cubicBezTo>
                    <a:pt x="302" y="24"/>
                    <a:pt x="341" y="120"/>
                    <a:pt x="359" y="148"/>
                  </a:cubicBezTo>
                </a:path>
              </a:pathLst>
            </a:custGeom>
            <a:noFill/>
            <a:ln w="22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865760" y="5770440"/>
            <a:ext cx="1000080" cy="393840"/>
            <a:chOff x="4865760" y="5770440"/>
            <a:chExt cx="1000080" cy="393840"/>
          </a:xfrm>
        </p:grpSpPr>
        <p:sp>
          <p:nvSpPr>
            <p:cNvPr id="171" name=""/>
            <p:cNvSpPr/>
            <p:nvPr/>
          </p:nvSpPr>
          <p:spPr>
            <a:xfrm>
              <a:off x="4865760" y="616428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91040" y="5770440"/>
              <a:ext cx="874800" cy="390600"/>
            </a:xfrm>
            <a:custGeom>
              <a:avLst/>
              <a:gdLst/>
              <a:ahLst/>
              <a:rect l="l" t="t" r="r" b="b"/>
              <a:pathLst>
                <a:path w="551" h="246">
                  <a:moveTo>
                    <a:pt x="0" y="246"/>
                  </a:moveTo>
                  <a:cubicBezTo>
                    <a:pt x="17" y="223"/>
                    <a:pt x="71" y="139"/>
                    <a:pt x="101" y="103"/>
                  </a:cubicBezTo>
                  <a:cubicBezTo>
                    <a:pt x="131" y="67"/>
                    <a:pt x="143" y="44"/>
                    <a:pt x="178" y="29"/>
                  </a:cubicBezTo>
                  <a:cubicBezTo>
                    <a:pt x="213" y="14"/>
                    <a:pt x="274" y="0"/>
                    <a:pt x="310" y="11"/>
                  </a:cubicBezTo>
                  <a:cubicBezTo>
                    <a:pt x="346" y="22"/>
                    <a:pt x="366" y="66"/>
                    <a:pt x="394" y="95"/>
                  </a:cubicBezTo>
                  <a:cubicBezTo>
                    <a:pt x="422" y="124"/>
                    <a:pt x="452" y="161"/>
                    <a:pt x="478" y="185"/>
                  </a:cubicBezTo>
                  <a:cubicBezTo>
                    <a:pt x="504" y="209"/>
                    <a:pt x="536" y="229"/>
                    <a:pt x="551" y="24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860640" y="5818320"/>
            <a:ext cx="1000080" cy="345960"/>
            <a:chOff x="3860640" y="5818320"/>
            <a:chExt cx="1000080" cy="345960"/>
          </a:xfrm>
        </p:grpSpPr>
        <p:sp>
          <p:nvSpPr>
            <p:cNvPr id="174" name=""/>
            <p:cNvSpPr/>
            <p:nvPr/>
          </p:nvSpPr>
          <p:spPr>
            <a:xfrm>
              <a:off x="3860640" y="616428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86280" y="5818320"/>
              <a:ext cx="874440" cy="342720"/>
            </a:xfrm>
            <a:custGeom>
              <a:avLst/>
              <a:gdLst/>
              <a:ahLst/>
              <a:rect l="l" t="t" r="r" b="b"/>
              <a:pathLst>
                <a:path w="551" h="216">
                  <a:moveTo>
                    <a:pt x="0" y="216"/>
                  </a:moveTo>
                  <a:cubicBezTo>
                    <a:pt x="12" y="204"/>
                    <a:pt x="46" y="173"/>
                    <a:pt x="72" y="143"/>
                  </a:cubicBezTo>
                  <a:cubicBezTo>
                    <a:pt x="98" y="113"/>
                    <a:pt x="120" y="47"/>
                    <a:pt x="156" y="35"/>
                  </a:cubicBezTo>
                  <a:cubicBezTo>
                    <a:pt x="192" y="23"/>
                    <a:pt x="253" y="75"/>
                    <a:pt x="291" y="70"/>
                  </a:cubicBezTo>
                  <a:cubicBezTo>
                    <a:pt x="329" y="65"/>
                    <a:pt x="355" y="0"/>
                    <a:pt x="384" y="5"/>
                  </a:cubicBezTo>
                  <a:cubicBezTo>
                    <a:pt x="413" y="10"/>
                    <a:pt x="434" y="67"/>
                    <a:pt x="462" y="101"/>
                  </a:cubicBezTo>
                  <a:cubicBezTo>
                    <a:pt x="490" y="135"/>
                    <a:pt x="532" y="188"/>
                    <a:pt x="551" y="21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873760" y="5751360"/>
            <a:ext cx="1000080" cy="412560"/>
            <a:chOff x="5873760" y="5751360"/>
            <a:chExt cx="1000080" cy="412560"/>
          </a:xfrm>
        </p:grpSpPr>
        <p:sp>
          <p:nvSpPr>
            <p:cNvPr id="177" name=""/>
            <p:cNvSpPr/>
            <p:nvPr/>
          </p:nvSpPr>
          <p:spPr>
            <a:xfrm>
              <a:off x="5873760" y="6163920"/>
              <a:ext cx="142920" cy="0"/>
            </a:xfrm>
            <a:prstGeom prst="line">
              <a:avLst/>
            </a:prstGeom>
            <a:ln w="22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99040" y="5751360"/>
              <a:ext cx="874800" cy="409680"/>
            </a:xfrm>
            <a:custGeom>
              <a:avLst/>
              <a:gdLst/>
              <a:ahLst/>
              <a:rect l="l" t="t" r="r" b="b"/>
              <a:pathLst>
                <a:path w="551" h="258">
                  <a:moveTo>
                    <a:pt x="0" y="258"/>
                  </a:moveTo>
                  <a:cubicBezTo>
                    <a:pt x="12" y="246"/>
                    <a:pt x="46" y="228"/>
                    <a:pt x="72" y="185"/>
                  </a:cubicBezTo>
                  <a:cubicBezTo>
                    <a:pt x="98" y="142"/>
                    <a:pt x="119" y="0"/>
                    <a:pt x="159" y="0"/>
                  </a:cubicBezTo>
                  <a:cubicBezTo>
                    <a:pt x="199" y="0"/>
                    <a:pt x="273" y="163"/>
                    <a:pt x="315" y="186"/>
                  </a:cubicBezTo>
                  <a:cubicBezTo>
                    <a:pt x="357" y="209"/>
                    <a:pt x="387" y="145"/>
                    <a:pt x="411" y="138"/>
                  </a:cubicBezTo>
                  <a:cubicBezTo>
                    <a:pt x="435" y="131"/>
                    <a:pt x="439" y="124"/>
                    <a:pt x="462" y="143"/>
                  </a:cubicBezTo>
                  <a:cubicBezTo>
                    <a:pt x="485" y="162"/>
                    <a:pt x="532" y="230"/>
                    <a:pt x="551" y="253"/>
                  </a:cubicBezTo>
                </a:path>
              </a:pathLst>
            </a:custGeom>
            <a:noFill/>
            <a:ln w="22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089840" y="5438880"/>
            <a:ext cx="1226880" cy="725400"/>
            <a:chOff x="7089840" y="5438880"/>
            <a:chExt cx="1226880" cy="725400"/>
          </a:xfrm>
        </p:grpSpPr>
        <p:sp>
          <p:nvSpPr>
            <p:cNvPr id="180" name=""/>
            <p:cNvSpPr/>
            <p:nvPr/>
          </p:nvSpPr>
          <p:spPr>
            <a:xfrm>
              <a:off x="7089840" y="6148440"/>
              <a:ext cx="867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65800" y="5438880"/>
              <a:ext cx="1150920" cy="725400"/>
            </a:xfrm>
            <a:custGeom>
              <a:avLst/>
              <a:gdLst/>
              <a:ahLst/>
              <a:rect l="l" t="t" r="r" b="b"/>
              <a:pathLst>
                <a:path w="1193" h="457">
                  <a:moveTo>
                    <a:pt x="0" y="445"/>
                  </a:moveTo>
                  <a:cubicBezTo>
                    <a:pt x="17" y="419"/>
                    <a:pt x="64" y="308"/>
                    <a:pt x="101" y="289"/>
                  </a:cubicBezTo>
                  <a:cubicBezTo>
                    <a:pt x="138" y="270"/>
                    <a:pt x="174" y="352"/>
                    <a:pt x="221" y="331"/>
                  </a:cubicBezTo>
                  <a:cubicBezTo>
                    <a:pt x="268" y="310"/>
                    <a:pt x="340" y="209"/>
                    <a:pt x="383" y="163"/>
                  </a:cubicBezTo>
                  <a:cubicBezTo>
                    <a:pt x="426" y="117"/>
                    <a:pt x="438" y="76"/>
                    <a:pt x="479" y="55"/>
                  </a:cubicBezTo>
                  <a:cubicBezTo>
                    <a:pt x="520" y="34"/>
                    <a:pt x="580" y="39"/>
                    <a:pt x="629" y="37"/>
                  </a:cubicBezTo>
                  <a:cubicBezTo>
                    <a:pt x="678" y="35"/>
                    <a:pt x="711" y="0"/>
                    <a:pt x="773" y="43"/>
                  </a:cubicBezTo>
                  <a:cubicBezTo>
                    <a:pt x="835" y="86"/>
                    <a:pt x="931" y="226"/>
                    <a:pt x="1001" y="295"/>
                  </a:cubicBezTo>
                  <a:cubicBezTo>
                    <a:pt x="1071" y="364"/>
                    <a:pt x="1153" y="423"/>
                    <a:pt x="1193" y="457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 flipH="1">
            <a:off x="1143000" y="4348080"/>
            <a:ext cx="7632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752480" y="4348080"/>
            <a:ext cx="7632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4348080"/>
            <a:ext cx="1371600" cy="792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4348080"/>
            <a:ext cx="914400" cy="792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324120" y="4348080"/>
            <a:ext cx="381240" cy="792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361960" y="4348080"/>
            <a:ext cx="114300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971440" y="4348080"/>
            <a:ext cx="205740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580920" y="4348080"/>
            <a:ext cx="221004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72400" y="4348080"/>
            <a:ext cx="0" cy="833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9401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4200" y="522288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76760" y="5222880"/>
            <a:ext cx="65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16760" y="52228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632448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gments that composed of ST and IDLE move into L/M/H categories with the compensated W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0FC4-DED7-4373-9C82-FBA65F272C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1. Detail of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ing the threshold vehicle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reshold based on each countries’ traffic condition and driving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threshold that shows similar VA distribution of each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compensated W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Drive condition WF and total driving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in-use dat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R/M =&gt; L/M/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VA distribution and driving characteristic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/M/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the driving cycle in each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75AA-616B-406C-BF44-334BC4EED4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itial analysi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Overview of collected in-u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 Data analysis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 Result of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alidity of L/M/H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. Overview of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 Consideration of threshold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 Analyzed example of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dification on proposed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 Modification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 Modification on proposed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26A0-02BD-4560-96BC-5363675F26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Rectangle 5" descr=""/>
          <p:cNvPicPr/>
          <p:nvPr/>
        </p:nvPicPr>
        <p:blipFill>
          <a:blip r:embed="rId1"/>
          <a:stretch/>
        </p:blipFill>
        <p:spPr>
          <a:xfrm>
            <a:off x="1600200" y="2530440"/>
            <a:ext cx="5808600" cy="40226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2. Consideration of Threshold Speed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440" y="72396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Method1&gt; Based on similarity of VA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51040" y="1181160"/>
            <a:ext cx="79246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hreshold of Low/Mid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max ≤ 40 ?, Vmax ≤ 50 ?, Vmax ≤ 60 ?, Vmax ≤ 70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hreshold of 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L/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lt; Vmax ≤70 ?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L/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lt; Vmax ≤80 ?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L/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lt; Vmax ≤90 ?,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L/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lt; Vmax ≤100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939F-5357-4C17-A11A-669FFB17C1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351000" y="1219320"/>
            <a:ext cx="8421480" cy="4921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2. Consideration of threshold speed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1360" y="72396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Method2&gt; Based on paramete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19160" y="2523960"/>
            <a:ext cx="7734240" cy="524160"/>
          </a:xfrm>
          <a:prstGeom prst="rect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19160" y="5619600"/>
            <a:ext cx="7743960" cy="247680"/>
          </a:xfrm>
          <a:prstGeom prst="rect">
            <a:avLst/>
          </a:prstGeom>
          <a:solidFill>
            <a:srgbClr val="ff99cc">
              <a:alpha val="30000"/>
            </a:srgbClr>
          </a:solidFill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19160" y="4076640"/>
            <a:ext cx="7743960" cy="523800"/>
          </a:xfrm>
          <a:prstGeom prst="rect">
            <a:avLst/>
          </a:prstGeom>
          <a:solidFill>
            <a:srgbClr val="ffcc99">
              <a:alpha val="30000"/>
            </a:srgbClr>
          </a:solidFill>
          <a:ln w="255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0560" y="6248520"/>
            <a:ext cx="8217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candidate threshold speed based on least discrepancy in each characterist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973D-E374-4422-A6EA-5FCE8365B3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2. Consideration of threshold speed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55872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Method3&gt; Based on maximum speed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207040" y="1130400"/>
            <a:ext cx="2498760" cy="4686120"/>
            <a:chOff x="5207040" y="1130400"/>
            <a:chExt cx="2498760" cy="468612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5207040" y="1130400"/>
              <a:ext cx="2498760" cy="18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5207040" y="2567880"/>
              <a:ext cx="2498760" cy="18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3"/>
            <a:stretch/>
          </p:blipFill>
          <p:spPr>
            <a:xfrm>
              <a:off x="5207040" y="4005720"/>
              <a:ext cx="2498760" cy="181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 flipV="1">
              <a:off x="6184080" y="1240200"/>
              <a:ext cx="0" cy="416196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684480" y="1240200"/>
              <a:ext cx="0" cy="416196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524560" y="3086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50 / 9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295280" y="1219320"/>
            <a:ext cx="2708280" cy="4630320"/>
            <a:chOff x="1295280" y="1219320"/>
            <a:chExt cx="2708280" cy="4630320"/>
          </a:xfrm>
        </p:grpSpPr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>
              <a:off x="1295280" y="1219320"/>
              <a:ext cx="2708280" cy="17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 flipV="1">
              <a:off x="2361960" y="1339920"/>
              <a:ext cx="0" cy="12200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760840" y="1339920"/>
              <a:ext cx="0" cy="12200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5"/>
            <a:stretch/>
          </p:blipFill>
          <p:spPr>
            <a:xfrm>
              <a:off x="1295280" y="2639880"/>
              <a:ext cx="270828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6"/>
            <a:stretch/>
          </p:blipFill>
          <p:spPr>
            <a:xfrm>
              <a:off x="1295280" y="4060440"/>
              <a:ext cx="2708280" cy="17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flipV="1">
              <a:off x="2459880" y="4169520"/>
              <a:ext cx="0" cy="122688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873880" y="4169520"/>
              <a:ext cx="0" cy="122688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535120" y="2761920"/>
              <a:ext cx="0" cy="1220040"/>
            </a:xfrm>
            <a:prstGeom prst="line">
              <a:avLst/>
            </a:prstGeom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3144960" y="2761920"/>
              <a:ext cx="0" cy="1220040"/>
            </a:xfrm>
            <a:prstGeom prst="line">
              <a:avLst/>
            </a:prstGeom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663560" y="3340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Arial"/>
              </a:rPr>
              <a:t>65 / 11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4680" y="43560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60 / 9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0240" y="5867280"/>
            <a:ext cx="821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280" indent="-206280"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completion of all data acquisition, final threshold speed will be determined by taking into account of three method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1523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50 / 8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47B5-684D-4EEF-9AAC-A83A5D9AD9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5" descr=""/>
          <p:cNvPicPr/>
          <p:nvPr/>
        </p:nvPicPr>
        <p:blipFill>
          <a:blip r:embed="rId1"/>
          <a:stretch/>
        </p:blipFill>
        <p:spPr>
          <a:xfrm>
            <a:off x="95400" y="676440"/>
            <a:ext cx="8928000" cy="60404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1. Analysis Sample - VA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6248520"/>
            <a:ext cx="88394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It was confirmed that VA distribution is similar in L/M category but slight d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screpancy in H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igh category still ex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3BEBD-76D6-4366-A915-4E0E8E1C10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2. Analysis Sample - Averag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1752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R/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055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/M/H (threshold: 50/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9144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an exampl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, convert into L/M/H at 50/90km/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Rectangle 5" descr=""/>
          <p:cNvPicPr/>
          <p:nvPr/>
        </p:nvPicPr>
        <p:blipFill>
          <a:blip r:embed="rId1"/>
          <a:stretch/>
        </p:blipFill>
        <p:spPr>
          <a:xfrm>
            <a:off x="0" y="2057400"/>
            <a:ext cx="4479840" cy="2909880"/>
          </a:xfrm>
          <a:prstGeom prst="rect">
            <a:avLst/>
          </a:prstGeom>
          <a:ln w="0">
            <a:noFill/>
          </a:ln>
        </p:spPr>
      </p:pic>
      <p:pic>
        <p:nvPicPr>
          <p:cNvPr id="240" name="Rectangle 5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4479840" cy="29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3EF56-E3A2-4546-A964-84396DBA01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3. Analysis Sample -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Rectangle 5" descr=""/>
          <p:cNvPicPr/>
          <p:nvPr/>
        </p:nvPicPr>
        <p:blipFill>
          <a:blip r:embed="rId1"/>
          <a:stretch/>
        </p:blipFill>
        <p:spPr>
          <a:xfrm>
            <a:off x="447840" y="676440"/>
            <a:ext cx="8229600" cy="504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72AA-4B24-449A-A8F7-6C3A1DF84C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. Summary of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980640"/>
            <a:ext cx="8534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t was observed t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g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riving characteristic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tributions comparatively show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milarity by conver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Low/Middle/High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pe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ST max spee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appropriate threshold will be decided based on each countries’ traffic condition, driving characteristic and VA distribution after completion of all in-use data col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978B-CA80-4794-82AB-3CB8C0F86A4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9080" y="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Modification on Proposed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Initial analysi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2.1. Overview of collected in-u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2.2. Data analysis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2.3. Result of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2.4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Validity of L/M/H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3.1. Overview of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3.2. Consideration of threshold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3.3. Analyzed example of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3.4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dification on Proposed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 Modification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 Modification on proposed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B3D6-30CE-435B-BFF4-E53E968394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 Modification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the initial in-use data analysis, it was observed that the following items need to be revised for improvement of driving cycle development and for efficien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hod for ST/IDL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hod for cycle development of high speed m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hod for ST selection combination in each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0FC6-5CD7-42F0-B70B-0038E626EAB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 Method for ST/IDL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2000" y="764640"/>
            <a:ext cx="5327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cc"/>
                </a:solidFill>
                <a:latin typeface="Arial"/>
              </a:rPr>
              <a:t>Original (Bound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vide cumulative frequency distribution into “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i, S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+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ect the durations on each boundary (dividing)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cc"/>
                </a:solidFill>
                <a:latin typeface="Arial"/>
              </a:rPr>
              <a:t>Revised (Aver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ulative frequency distribution into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i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ect the average duration in each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正方形/長方形 6"/>
          <p:cNvSpPr/>
          <p:nvPr/>
        </p:nvSpPr>
        <p:spPr>
          <a:xfrm>
            <a:off x="6168960" y="765000"/>
            <a:ext cx="2698920" cy="18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テキスト ボックス 8"/>
          <p:cNvSpPr/>
          <p:nvPr/>
        </p:nvSpPr>
        <p:spPr>
          <a:xfrm>
            <a:off x="6353280" y="270828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T/ID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テキスト ボックス 9"/>
          <p:cNvSpPr/>
          <p:nvPr/>
        </p:nvSpPr>
        <p:spPr>
          <a:xfrm rot="16200000">
            <a:off x="4766040" y="1529640"/>
            <a:ext cx="21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umulative frequ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フリーフォーム 7"/>
          <p:cNvSpPr/>
          <p:nvPr/>
        </p:nvSpPr>
        <p:spPr>
          <a:xfrm>
            <a:off x="6161040" y="787320"/>
            <a:ext cx="2706840" cy="1793880"/>
          </a:xfrm>
          <a:custGeom>
            <a:avLst/>
            <a:gdLst>
              <a:gd name="textAreaLeft" fmla="*/ 0 w 2706840"/>
              <a:gd name="textAreaRight" fmla="*/ 2638371960 w 2706840"/>
              <a:gd name="textAreaTop" fmla="*/ 0 h 1793880"/>
              <a:gd name="textAreaBottom" fmla="*/ 1779755760 h 1793880"/>
            </a:gdLst>
            <a:ahLst/>
            <a:rect l="textAreaLeft" t="textAreaTop" r="textAreaRight" b="textAreaBottom"/>
            <a:pathLst>
              <a:path w="1705" h="1130">
                <a:moveTo>
                  <a:pt x="0" y="1130"/>
                </a:moveTo>
                <a:cubicBezTo>
                  <a:pt x="28" y="1076"/>
                  <a:pt x="104" y="910"/>
                  <a:pt x="167" y="808"/>
                </a:cubicBezTo>
                <a:cubicBezTo>
                  <a:pt x="230" y="706"/>
                  <a:pt x="293" y="606"/>
                  <a:pt x="375" y="517"/>
                </a:cubicBezTo>
                <a:cubicBezTo>
                  <a:pt x="457" y="428"/>
                  <a:pt x="533" y="340"/>
                  <a:pt x="660" y="273"/>
                </a:cubicBezTo>
                <a:cubicBezTo>
                  <a:pt x="787" y="206"/>
                  <a:pt x="961" y="158"/>
                  <a:pt x="1135" y="113"/>
                </a:cubicBezTo>
                <a:cubicBezTo>
                  <a:pt x="1309" y="68"/>
                  <a:pt x="1586" y="24"/>
                  <a:pt x="170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37480" y="106380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テキスト ボックス 9"/>
          <p:cNvSpPr/>
          <p:nvPr/>
        </p:nvSpPr>
        <p:spPr>
          <a:xfrm>
            <a:off x="6067440" y="2557440"/>
            <a:ext cx="476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STD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テキスト ボックス 9"/>
          <p:cNvSpPr/>
          <p:nvPr/>
        </p:nvSpPr>
        <p:spPr>
          <a:xfrm>
            <a:off x="6348240" y="2552760"/>
            <a:ext cx="476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STD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テキスト ボックス 9"/>
          <p:cNvSpPr/>
          <p:nvPr/>
        </p:nvSpPr>
        <p:spPr>
          <a:xfrm>
            <a:off x="7323120" y="2549520"/>
            <a:ext cx="5367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STD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テキスト ボックス 9"/>
          <p:cNvSpPr/>
          <p:nvPr/>
        </p:nvSpPr>
        <p:spPr>
          <a:xfrm>
            <a:off x="6622920" y="2573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・・・・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68960" y="1063800"/>
            <a:ext cx="1440000" cy="1501560"/>
          </a:xfrm>
          <a:custGeom>
            <a:avLst/>
            <a:gdLst/>
            <a:ahLst/>
            <a:rect l="l" t="t" r="r" b="b"/>
            <a:pathLst>
              <a:path w="907" h="952">
                <a:moveTo>
                  <a:pt x="0" y="0"/>
                </a:moveTo>
                <a:lnTo>
                  <a:pt x="907" y="0"/>
                </a:lnTo>
                <a:lnTo>
                  <a:pt x="907" y="952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68960" y="1362240"/>
            <a:ext cx="865080" cy="1203120"/>
          </a:xfrm>
          <a:custGeom>
            <a:avLst/>
            <a:gdLst/>
            <a:ahLst/>
            <a:rect l="l" t="t" r="r" b="b"/>
            <a:pathLst>
              <a:path w="545" h="726">
                <a:moveTo>
                  <a:pt x="0" y="0"/>
                </a:moveTo>
                <a:lnTo>
                  <a:pt x="545" y="0"/>
                </a:lnTo>
                <a:lnTo>
                  <a:pt x="545" y="726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68960" y="1662120"/>
            <a:ext cx="576360" cy="903240"/>
          </a:xfrm>
          <a:custGeom>
            <a:avLst/>
            <a:gdLst/>
            <a:ahLst/>
            <a:rect l="l" t="t" r="r" b="b"/>
            <a:pathLst>
              <a:path w="363" h="590">
                <a:moveTo>
                  <a:pt x="0" y="0"/>
                </a:moveTo>
                <a:lnTo>
                  <a:pt x="363" y="0"/>
                </a:lnTo>
                <a:lnTo>
                  <a:pt x="363" y="59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68960" y="1947960"/>
            <a:ext cx="360360" cy="617400"/>
          </a:xfrm>
          <a:custGeom>
            <a:avLst/>
            <a:gdLst/>
            <a:ahLst/>
            <a:rect l="l" t="t" r="r" b="b"/>
            <a:pathLst>
              <a:path w="227" h="408">
                <a:moveTo>
                  <a:pt x="0" y="0"/>
                </a:moveTo>
                <a:lnTo>
                  <a:pt x="227" y="0"/>
                </a:lnTo>
                <a:lnTo>
                  <a:pt x="227" y="408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68960" y="2249640"/>
            <a:ext cx="125640" cy="315720"/>
          </a:xfrm>
          <a:custGeom>
            <a:avLst/>
            <a:gdLst/>
            <a:ahLst/>
            <a:rect l="l" t="t" r="r" b="b"/>
            <a:pathLst>
              <a:path w="136" h="227">
                <a:moveTo>
                  <a:pt x="0" y="0"/>
                </a:moveTo>
                <a:lnTo>
                  <a:pt x="136" y="0"/>
                </a:lnTo>
                <a:lnTo>
                  <a:pt x="136" y="227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正方形/長方形 6"/>
          <p:cNvSpPr/>
          <p:nvPr/>
        </p:nvSpPr>
        <p:spPr>
          <a:xfrm>
            <a:off x="6168960" y="3357720"/>
            <a:ext cx="2698920" cy="1800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テキスト ボックス 8"/>
          <p:cNvSpPr/>
          <p:nvPr/>
        </p:nvSpPr>
        <p:spPr>
          <a:xfrm>
            <a:off x="6353280" y="536724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T/ID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テキスト ボックス 9"/>
          <p:cNvSpPr/>
          <p:nvPr/>
        </p:nvSpPr>
        <p:spPr>
          <a:xfrm rot="16200000">
            <a:off x="4751640" y="4193640"/>
            <a:ext cx="215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umulative frequ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テキスト ボックス 9"/>
          <p:cNvSpPr/>
          <p:nvPr/>
        </p:nvSpPr>
        <p:spPr>
          <a:xfrm>
            <a:off x="5979960" y="5149800"/>
            <a:ext cx="476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STD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テキスト ボックス 9"/>
          <p:cNvSpPr/>
          <p:nvPr/>
        </p:nvSpPr>
        <p:spPr>
          <a:xfrm>
            <a:off x="6311880" y="5145120"/>
            <a:ext cx="476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STD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テキスト ボックス 9"/>
          <p:cNvSpPr/>
          <p:nvPr/>
        </p:nvSpPr>
        <p:spPr>
          <a:xfrm>
            <a:off x="7524720" y="5157720"/>
            <a:ext cx="5367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STD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テキスト ボックス 9"/>
          <p:cNvSpPr/>
          <p:nvPr/>
        </p:nvSpPr>
        <p:spPr>
          <a:xfrm>
            <a:off x="6622920" y="51656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・・・・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正方形/長方形 6"/>
          <p:cNvSpPr/>
          <p:nvPr/>
        </p:nvSpPr>
        <p:spPr>
          <a:xfrm>
            <a:off x="6168960" y="3718080"/>
            <a:ext cx="1224000" cy="143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正方形/長方形 6"/>
          <p:cNvSpPr/>
          <p:nvPr/>
        </p:nvSpPr>
        <p:spPr>
          <a:xfrm>
            <a:off x="6168960" y="4076640"/>
            <a:ext cx="687600" cy="10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正方形/長方形 6"/>
          <p:cNvSpPr/>
          <p:nvPr/>
        </p:nvSpPr>
        <p:spPr>
          <a:xfrm>
            <a:off x="6168960" y="4437000"/>
            <a:ext cx="39708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正方形/長方形 6"/>
          <p:cNvSpPr/>
          <p:nvPr/>
        </p:nvSpPr>
        <p:spPr>
          <a:xfrm>
            <a:off x="6168960" y="4797360"/>
            <a:ext cx="1857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フリーフォーム 7"/>
          <p:cNvSpPr/>
          <p:nvPr/>
        </p:nvSpPr>
        <p:spPr>
          <a:xfrm>
            <a:off x="6168960" y="3357720"/>
            <a:ext cx="2706840" cy="1793880"/>
          </a:xfrm>
          <a:custGeom>
            <a:avLst/>
            <a:gdLst>
              <a:gd name="textAreaLeft" fmla="*/ 0 w 2706840"/>
              <a:gd name="textAreaRight" fmla="*/ 2638371960 w 2706840"/>
              <a:gd name="textAreaTop" fmla="*/ 0 h 1793880"/>
              <a:gd name="textAreaBottom" fmla="*/ 1779755760 h 1793880"/>
            </a:gdLst>
            <a:ahLst/>
            <a:rect l="textAreaLeft" t="textAreaTop" r="textAreaRight" b="textAreaBottom"/>
            <a:pathLst>
              <a:path w="1705" h="1130">
                <a:moveTo>
                  <a:pt x="0" y="1130"/>
                </a:moveTo>
                <a:cubicBezTo>
                  <a:pt x="28" y="1076"/>
                  <a:pt x="104" y="910"/>
                  <a:pt x="167" y="808"/>
                </a:cubicBezTo>
                <a:cubicBezTo>
                  <a:pt x="230" y="706"/>
                  <a:pt x="293" y="606"/>
                  <a:pt x="375" y="517"/>
                </a:cubicBezTo>
                <a:cubicBezTo>
                  <a:pt x="457" y="428"/>
                  <a:pt x="533" y="340"/>
                  <a:pt x="660" y="273"/>
                </a:cubicBezTo>
                <a:cubicBezTo>
                  <a:pt x="787" y="206"/>
                  <a:pt x="961" y="158"/>
                  <a:pt x="1135" y="113"/>
                </a:cubicBezTo>
                <a:cubicBezTo>
                  <a:pt x="1309" y="68"/>
                  <a:pt x="1586" y="24"/>
                  <a:pt x="170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32720" y="377028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777080" y="3571920"/>
            <a:ext cx="0" cy="15858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020000" y="3933720"/>
            <a:ext cx="0" cy="12240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45320" y="4221000"/>
            <a:ext cx="0" cy="9367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56240" y="4581360"/>
            <a:ext cx="0" cy="5763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40600" y="5013360"/>
            <a:ext cx="0" cy="1443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084720" y="1000080"/>
            <a:ext cx="771480" cy="398520"/>
            <a:chOff x="6084720" y="1000080"/>
            <a:chExt cx="771480" cy="398520"/>
          </a:xfrm>
        </p:grpSpPr>
        <p:sp>
          <p:nvSpPr>
            <p:cNvPr id="284" name="テキスト ボックス 9"/>
            <p:cNvSpPr/>
            <p:nvPr/>
          </p:nvSpPr>
          <p:spPr>
            <a:xfrm>
              <a:off x="6084720" y="1000080"/>
              <a:ext cx="771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+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17920" y="121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084720" y="3718080"/>
            <a:ext cx="771480" cy="398520"/>
            <a:chOff x="6084720" y="3718080"/>
            <a:chExt cx="771480" cy="398520"/>
          </a:xfrm>
        </p:grpSpPr>
        <p:sp>
          <p:nvSpPr>
            <p:cNvPr id="287" name="テキスト ボックス 9"/>
            <p:cNvSpPr/>
            <p:nvPr/>
          </p:nvSpPr>
          <p:spPr>
            <a:xfrm>
              <a:off x="6084720" y="3718080"/>
              <a:ext cx="771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7920" y="3930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08000" y="6093000"/>
            <a:ext cx="88930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possible to develop more representative cycle by applying revised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E42A4-34C9-418C-97CA-3D76CBD9773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720" y="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4240" y="76176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arly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pan and UK proposed the methodology to develop WLTC  (WLTP-DHC-02-04/05/06 as U/R/M meth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pan proposed the alternative technique to convert the in-use data to another categorization (WLTP-DHC-03-02 as L/M/H meth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lternative technique was well recognized but need more clear expla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iti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clear whether there is discrepancy in same road category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rive the potential problem in the current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lidity of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firm that the alternative technique (L/M/H method) is valid to obtain simi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a decision which methodology is more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odification on proposed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mprove the methodology based on the initi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0D0D-21E4-40CE-81A0-B9F0971E31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720" y="25200"/>
            <a:ext cx="9124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.1. Concerns on High-speed Driving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96360" cy="1606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ince most of ST dura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.g. 696sec, Jap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high-speed mode are longer than cycle duration, the number of potential STs will be dramatically reduced. This may lead the critical discrepancy in its representative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0720" y="2971800"/>
            <a:ext cx="33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) Japan High phas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km/h &lt;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49200" y="3243240"/>
            <a:ext cx="4908600" cy="30146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 flipV="1">
            <a:off x="1197000" y="3319560"/>
            <a:ext cx="0" cy="241920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3657600"/>
            <a:ext cx="373356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876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Average ST duration: 696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Average Idling duration: 20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Number of ST: (600 - 20) / (696 + 20)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Idling ratio: 3.1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Driving ratio: 96.9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0018-6523-45B0-87C5-9765F259DF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.2. Process of high-speed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600" y="85680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high-speed cycle duration (e.g. 600 se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ST duration based on average ST duration and idling duration ratio of in-use data, the divide the ST into 5 parts (take-off1, take-off2, cruise, slow-down1, slow-down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 the driving data which meet each part configuration from the complete in-use 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least chi-squared extracted driving data in each part, then combine the selected data to develop the complet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te) if the complete in-use data is less chi-squared value than combined cycle, this specific data can be used for high-speed cyc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D476-1D3C-40BA-A53E-17B19EFC3D5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.3. Divide into 5 Parts of High-Speed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00120" y="2057400"/>
            <a:ext cx="3438360" cy="25812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338120" y="2200320"/>
            <a:ext cx="1190880" cy="1981080"/>
          </a:xfrm>
          <a:prstGeom prst="rect">
            <a:avLst/>
          </a:prstGeom>
          <a:solidFill>
            <a:srgbClr val="ccffff">
              <a:alpha val="30000"/>
            </a:srgbClr>
          </a:solidFill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29000" y="2209680"/>
            <a:ext cx="247680" cy="1981440"/>
          </a:xfrm>
          <a:prstGeom prst="rect">
            <a:avLst/>
          </a:prstGeom>
          <a:solidFill>
            <a:srgbClr val="ffcc99">
              <a:alpha val="30000"/>
            </a:srgbClr>
          </a:solidFill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76680" y="2209680"/>
            <a:ext cx="1060200" cy="1981440"/>
          </a:xfrm>
          <a:prstGeom prst="rect">
            <a:avLst/>
          </a:prstGeom>
          <a:solidFill>
            <a:srgbClr val="ff99cc">
              <a:alpha val="30000"/>
            </a:srgbClr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419720" y="2124000"/>
          <a:ext cx="4495680" cy="2232000"/>
        </p:xfrm>
        <a:graphic>
          <a:graphicData uri="http://schemas.openxmlformats.org/drawingml/2006/table">
            <a:tbl>
              <a:tblPr/>
              <a:tblGrid>
                <a:gridCol w="1371600"/>
                <a:gridCol w="1041120"/>
                <a:gridCol w="1041480"/>
                <a:gridCol w="1041480"/>
              </a:tblGrid>
              <a:tr h="49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d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~75, 75~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~90, 90~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5245200"/>
            <a:ext cx="1817640" cy="1460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3656160" y="5245200"/>
            <a:ext cx="1817640" cy="14605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5484960" y="5245200"/>
            <a:ext cx="1817640" cy="14605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7315200" y="5245200"/>
            <a:ext cx="1817640" cy="14605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52280" y="49705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~ 75 km/h, 108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05120" y="49402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 ~ 90 km/h, 89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33920" y="49402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~ 90 km/h, 188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4940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~ 75 km/h, 89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67480" y="4940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 ~ 0 km/h, 108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05120" y="4038480"/>
            <a:ext cx="6476760" cy="9018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666880" y="4038480"/>
            <a:ext cx="457200" cy="91440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4038480"/>
            <a:ext cx="4114800" cy="91440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038480"/>
            <a:ext cx="1523880" cy="914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362320" y="3736800"/>
            <a:ext cx="552240" cy="304920"/>
            <a:chOff x="2362320" y="3736800"/>
            <a:chExt cx="552240" cy="304920"/>
          </a:xfrm>
        </p:grpSpPr>
        <p:sp>
          <p:nvSpPr>
            <p:cNvPr id="319" name=""/>
            <p:cNvSpPr/>
            <p:nvPr/>
          </p:nvSpPr>
          <p:spPr>
            <a:xfrm>
              <a:off x="2362320" y="3736800"/>
              <a:ext cx="5331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381400" y="3755880"/>
              <a:ext cx="5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33"/>
                  </a:solidFill>
                  <a:latin typeface="Arial"/>
                </a:rPr>
                <a:t>3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124080" y="3736800"/>
            <a:ext cx="552600" cy="304920"/>
            <a:chOff x="3124080" y="3736800"/>
            <a:chExt cx="552600" cy="304920"/>
          </a:xfrm>
        </p:grpSpPr>
        <p:sp>
          <p:nvSpPr>
            <p:cNvPr id="322" name=""/>
            <p:cNvSpPr/>
            <p:nvPr/>
          </p:nvSpPr>
          <p:spPr>
            <a:xfrm>
              <a:off x="3124080" y="3736800"/>
              <a:ext cx="5335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43160" y="37558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3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066680" y="4952880"/>
            <a:ext cx="685800" cy="3049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372520" y="4924440"/>
            <a:ext cx="685800" cy="3049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620040" y="4943520"/>
            <a:ext cx="685800" cy="30492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4952880"/>
            <a:ext cx="685800" cy="30492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24280" y="495288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600200" y="3736800"/>
            <a:ext cx="552600" cy="304920"/>
            <a:chOff x="1600200" y="3736800"/>
            <a:chExt cx="552600" cy="304920"/>
          </a:xfrm>
        </p:grpSpPr>
        <p:sp>
          <p:nvSpPr>
            <p:cNvPr id="330" name=""/>
            <p:cNvSpPr/>
            <p:nvPr/>
          </p:nvSpPr>
          <p:spPr>
            <a:xfrm>
              <a:off x="1600200" y="3736800"/>
              <a:ext cx="5335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19280" y="37558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3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876920" y="47433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Adjust 2 s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52480" y="2517840"/>
            <a:ext cx="1524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％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600 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914400" y="3051000"/>
            <a:ext cx="552600" cy="304920"/>
            <a:chOff x="914400" y="3051000"/>
            <a:chExt cx="552600" cy="304920"/>
          </a:xfrm>
        </p:grpSpPr>
        <p:sp>
          <p:nvSpPr>
            <p:cNvPr id="335" name=""/>
            <p:cNvSpPr/>
            <p:nvPr/>
          </p:nvSpPr>
          <p:spPr>
            <a:xfrm>
              <a:off x="914400" y="3051000"/>
              <a:ext cx="5335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33480" y="30700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3 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28600" y="685800"/>
            <a:ext cx="86868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speed range and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072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de into 3 speed range based on dividing frequency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14240" indent="-17136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: 0~75 km/h, 75~90 km/h, 90 km/h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072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ide target duration in each range, then divide into two portions (take-off and slow-dow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14240" indent="-17136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of 0~75km/h: 36% =&gt; 217 sec =&gt; take-off part 108 s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ow-down 108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6"/>
          <a:stretch/>
        </p:blipFill>
        <p:spPr>
          <a:xfrm>
            <a:off x="1828800" y="5245200"/>
            <a:ext cx="1814400" cy="1457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57200" y="590544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ake-off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57640" y="5905440"/>
            <a:ext cx="8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rui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684920" y="5346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low-down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306520" y="590544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ake-off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56120" y="590544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low-down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EA94-E74C-4E9B-AD87-6C01E3ADD05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.4. Extraction of Driv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9280" y="692280"/>
            <a:ext cx="8713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 the driving data which meet each part definition* from complete 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definition &lt;Take-off 1 par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range : 0 ~ 75 km/h (with±0.5km/h), duration : 108se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39640" y="2773080"/>
            <a:ext cx="0" cy="12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39640" y="4073400"/>
            <a:ext cx="2016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70040" y="4089240"/>
            <a:ext cx="14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44680" y="3552840"/>
            <a:ext cx="571320" cy="5158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692360" y="2709720"/>
            <a:ext cx="792000" cy="3589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rot="16200000">
            <a:off x="-644760" y="3389040"/>
            <a:ext cx="17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.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50800" y="2759040"/>
            <a:ext cx="1947960" cy="1312920"/>
          </a:xfrm>
          <a:custGeom>
            <a:avLst/>
            <a:gdLst/>
            <a:ahLst/>
            <a:rect l="l" t="t" r="r" b="b"/>
            <a:pathLst>
              <a:path w="1227" h="827">
                <a:moveTo>
                  <a:pt x="0" y="827"/>
                </a:moveTo>
                <a:cubicBezTo>
                  <a:pt x="7" y="801"/>
                  <a:pt x="17" y="696"/>
                  <a:pt x="40" y="668"/>
                </a:cubicBezTo>
                <a:cubicBezTo>
                  <a:pt x="63" y="640"/>
                  <a:pt x="110" y="674"/>
                  <a:pt x="136" y="662"/>
                </a:cubicBezTo>
                <a:cubicBezTo>
                  <a:pt x="162" y="650"/>
                  <a:pt x="177" y="619"/>
                  <a:pt x="195" y="597"/>
                </a:cubicBezTo>
                <a:cubicBezTo>
                  <a:pt x="213" y="575"/>
                  <a:pt x="215" y="548"/>
                  <a:pt x="242" y="532"/>
                </a:cubicBezTo>
                <a:cubicBezTo>
                  <a:pt x="269" y="516"/>
                  <a:pt x="324" y="517"/>
                  <a:pt x="355" y="502"/>
                </a:cubicBezTo>
                <a:cubicBezTo>
                  <a:pt x="386" y="487"/>
                  <a:pt x="404" y="478"/>
                  <a:pt x="426" y="443"/>
                </a:cubicBezTo>
                <a:cubicBezTo>
                  <a:pt x="448" y="408"/>
                  <a:pt x="461" y="311"/>
                  <a:pt x="486" y="294"/>
                </a:cubicBezTo>
                <a:cubicBezTo>
                  <a:pt x="511" y="277"/>
                  <a:pt x="543" y="354"/>
                  <a:pt x="575" y="342"/>
                </a:cubicBezTo>
                <a:cubicBezTo>
                  <a:pt x="607" y="330"/>
                  <a:pt x="636" y="267"/>
                  <a:pt x="676" y="223"/>
                </a:cubicBezTo>
                <a:cubicBezTo>
                  <a:pt x="716" y="179"/>
                  <a:pt x="780" y="98"/>
                  <a:pt x="816" y="79"/>
                </a:cubicBezTo>
                <a:cubicBezTo>
                  <a:pt x="852" y="60"/>
                  <a:pt x="869" y="113"/>
                  <a:pt x="892" y="110"/>
                </a:cubicBezTo>
                <a:cubicBezTo>
                  <a:pt x="915" y="107"/>
                  <a:pt x="924" y="63"/>
                  <a:pt x="953" y="61"/>
                </a:cubicBezTo>
                <a:cubicBezTo>
                  <a:pt x="982" y="59"/>
                  <a:pt x="1036" y="105"/>
                  <a:pt x="1066" y="97"/>
                </a:cubicBezTo>
                <a:cubicBezTo>
                  <a:pt x="1096" y="89"/>
                  <a:pt x="1104" y="0"/>
                  <a:pt x="1131" y="14"/>
                </a:cubicBezTo>
                <a:cubicBezTo>
                  <a:pt x="1158" y="28"/>
                  <a:pt x="1211" y="154"/>
                  <a:pt x="1227" y="18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203640" y="2776320"/>
            <a:ext cx="0" cy="12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3640" y="4076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433680" y="4092480"/>
            <a:ext cx="14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08320" y="3556080"/>
            <a:ext cx="571680" cy="5158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80000" y="3071880"/>
            <a:ext cx="576000" cy="503280"/>
          </a:xfrm>
          <a:prstGeom prst="rect">
            <a:avLst/>
          </a:prstGeom>
          <a:solidFill>
            <a:srgbClr val="ffcc99">
              <a:alpha val="30000"/>
            </a:srgbClr>
          </a:solidFill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rot="16200000">
            <a:off x="2018520" y="3392280"/>
            <a:ext cx="17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.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14800" y="2743200"/>
            <a:ext cx="1939680" cy="1332000"/>
          </a:xfrm>
          <a:custGeom>
            <a:avLst/>
            <a:gdLst/>
            <a:ahLst/>
            <a:rect l="l" t="t" r="r" b="b"/>
            <a:pathLst>
              <a:path w="1222" h="839">
                <a:moveTo>
                  <a:pt x="0" y="839"/>
                </a:moveTo>
                <a:cubicBezTo>
                  <a:pt x="7" y="813"/>
                  <a:pt x="25" y="695"/>
                  <a:pt x="40" y="680"/>
                </a:cubicBezTo>
                <a:cubicBezTo>
                  <a:pt x="55" y="665"/>
                  <a:pt x="74" y="760"/>
                  <a:pt x="88" y="748"/>
                </a:cubicBezTo>
                <a:cubicBezTo>
                  <a:pt x="102" y="736"/>
                  <a:pt x="111" y="652"/>
                  <a:pt x="123" y="606"/>
                </a:cubicBezTo>
                <a:cubicBezTo>
                  <a:pt x="135" y="560"/>
                  <a:pt x="143" y="465"/>
                  <a:pt x="159" y="474"/>
                </a:cubicBezTo>
                <a:cubicBezTo>
                  <a:pt x="175" y="483"/>
                  <a:pt x="202" y="647"/>
                  <a:pt x="219" y="659"/>
                </a:cubicBezTo>
                <a:cubicBezTo>
                  <a:pt x="236" y="671"/>
                  <a:pt x="237" y="570"/>
                  <a:pt x="260" y="546"/>
                </a:cubicBezTo>
                <a:cubicBezTo>
                  <a:pt x="283" y="522"/>
                  <a:pt x="327" y="529"/>
                  <a:pt x="355" y="514"/>
                </a:cubicBezTo>
                <a:cubicBezTo>
                  <a:pt x="383" y="499"/>
                  <a:pt x="402" y="475"/>
                  <a:pt x="426" y="455"/>
                </a:cubicBezTo>
                <a:cubicBezTo>
                  <a:pt x="450" y="435"/>
                  <a:pt x="473" y="419"/>
                  <a:pt x="498" y="392"/>
                </a:cubicBezTo>
                <a:cubicBezTo>
                  <a:pt x="523" y="365"/>
                  <a:pt x="545" y="317"/>
                  <a:pt x="575" y="291"/>
                </a:cubicBezTo>
                <a:cubicBezTo>
                  <a:pt x="605" y="265"/>
                  <a:pt x="641" y="278"/>
                  <a:pt x="676" y="235"/>
                </a:cubicBezTo>
                <a:cubicBezTo>
                  <a:pt x="711" y="192"/>
                  <a:pt x="751" y="54"/>
                  <a:pt x="783" y="36"/>
                </a:cubicBezTo>
                <a:cubicBezTo>
                  <a:pt x="815" y="18"/>
                  <a:pt x="839" y="100"/>
                  <a:pt x="866" y="125"/>
                </a:cubicBezTo>
                <a:cubicBezTo>
                  <a:pt x="893" y="150"/>
                  <a:pt x="917" y="193"/>
                  <a:pt x="943" y="184"/>
                </a:cubicBezTo>
                <a:cubicBezTo>
                  <a:pt x="969" y="175"/>
                  <a:pt x="993" y="91"/>
                  <a:pt x="1020" y="71"/>
                </a:cubicBezTo>
                <a:cubicBezTo>
                  <a:pt x="1047" y="51"/>
                  <a:pt x="1078" y="61"/>
                  <a:pt x="1104" y="65"/>
                </a:cubicBezTo>
                <a:cubicBezTo>
                  <a:pt x="1130" y="69"/>
                  <a:pt x="1155" y="106"/>
                  <a:pt x="1175" y="95"/>
                </a:cubicBezTo>
                <a:cubicBezTo>
                  <a:pt x="1195" y="84"/>
                  <a:pt x="1212" y="20"/>
                  <a:pt x="122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940360" y="2776320"/>
            <a:ext cx="0" cy="12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407664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70760" y="4092480"/>
            <a:ext cx="14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16720" y="2971800"/>
            <a:ext cx="576360" cy="503280"/>
          </a:xfrm>
          <a:prstGeom prst="rect">
            <a:avLst/>
          </a:prstGeom>
          <a:solidFill>
            <a:srgbClr val="ffcc99">
              <a:alpha val="30000"/>
            </a:srgbClr>
          </a:solidFill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093080" y="2600280"/>
            <a:ext cx="792000" cy="3589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rot="16200000">
            <a:off x="4755600" y="3392280"/>
            <a:ext cx="17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.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951520" y="2708280"/>
            <a:ext cx="2881440" cy="1366920"/>
          </a:xfrm>
          <a:custGeom>
            <a:avLst/>
            <a:gdLst/>
            <a:ahLst/>
            <a:rect l="l" t="t" r="r" b="b"/>
            <a:pathLst>
              <a:path w="1815" h="861">
                <a:moveTo>
                  <a:pt x="0" y="861"/>
                </a:moveTo>
                <a:cubicBezTo>
                  <a:pt x="13" y="846"/>
                  <a:pt x="57" y="798"/>
                  <a:pt x="80" y="770"/>
                </a:cubicBezTo>
                <a:cubicBezTo>
                  <a:pt x="103" y="742"/>
                  <a:pt x="117" y="719"/>
                  <a:pt x="136" y="696"/>
                </a:cubicBezTo>
                <a:cubicBezTo>
                  <a:pt x="155" y="673"/>
                  <a:pt x="177" y="653"/>
                  <a:pt x="195" y="631"/>
                </a:cubicBezTo>
                <a:cubicBezTo>
                  <a:pt x="213" y="609"/>
                  <a:pt x="216" y="588"/>
                  <a:pt x="242" y="566"/>
                </a:cubicBezTo>
                <a:cubicBezTo>
                  <a:pt x="268" y="544"/>
                  <a:pt x="320" y="579"/>
                  <a:pt x="353" y="496"/>
                </a:cubicBezTo>
                <a:cubicBezTo>
                  <a:pt x="386" y="413"/>
                  <a:pt x="408" y="103"/>
                  <a:pt x="439" y="70"/>
                </a:cubicBezTo>
                <a:cubicBezTo>
                  <a:pt x="470" y="37"/>
                  <a:pt x="509" y="210"/>
                  <a:pt x="541" y="298"/>
                </a:cubicBezTo>
                <a:cubicBezTo>
                  <a:pt x="573" y="386"/>
                  <a:pt x="609" y="605"/>
                  <a:pt x="631" y="598"/>
                </a:cubicBezTo>
                <a:cubicBezTo>
                  <a:pt x="653" y="591"/>
                  <a:pt x="651" y="340"/>
                  <a:pt x="676" y="257"/>
                </a:cubicBezTo>
                <a:cubicBezTo>
                  <a:pt x="701" y="174"/>
                  <a:pt x="754" y="141"/>
                  <a:pt x="781" y="99"/>
                </a:cubicBezTo>
                <a:cubicBezTo>
                  <a:pt x="808" y="57"/>
                  <a:pt x="803" y="0"/>
                  <a:pt x="840" y="3"/>
                </a:cubicBezTo>
                <a:cubicBezTo>
                  <a:pt x="877" y="6"/>
                  <a:pt x="958" y="113"/>
                  <a:pt x="1001" y="117"/>
                </a:cubicBezTo>
                <a:cubicBezTo>
                  <a:pt x="1044" y="121"/>
                  <a:pt x="1062" y="27"/>
                  <a:pt x="1096" y="28"/>
                </a:cubicBezTo>
                <a:cubicBezTo>
                  <a:pt x="1130" y="29"/>
                  <a:pt x="1167" y="107"/>
                  <a:pt x="1203" y="123"/>
                </a:cubicBezTo>
                <a:cubicBezTo>
                  <a:pt x="1239" y="139"/>
                  <a:pt x="1282" y="85"/>
                  <a:pt x="1310" y="123"/>
                </a:cubicBezTo>
                <a:cubicBezTo>
                  <a:pt x="1338" y="161"/>
                  <a:pt x="1346" y="278"/>
                  <a:pt x="1370" y="349"/>
                </a:cubicBezTo>
                <a:cubicBezTo>
                  <a:pt x="1394" y="420"/>
                  <a:pt x="1413" y="504"/>
                  <a:pt x="1453" y="550"/>
                </a:cubicBezTo>
                <a:cubicBezTo>
                  <a:pt x="1493" y="596"/>
                  <a:pt x="1558" y="601"/>
                  <a:pt x="1607" y="628"/>
                </a:cubicBezTo>
                <a:cubicBezTo>
                  <a:pt x="1656" y="655"/>
                  <a:pt x="1709" y="673"/>
                  <a:pt x="1744" y="711"/>
                </a:cubicBezTo>
                <a:cubicBezTo>
                  <a:pt x="1779" y="749"/>
                  <a:pt x="1800" y="828"/>
                  <a:pt x="1815" y="85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457200" y="4508640"/>
          <a:ext cx="8291520" cy="2076480"/>
        </p:xfrm>
        <a:graphic>
          <a:graphicData uri="http://schemas.openxmlformats.org/drawingml/2006/table">
            <a:tbl>
              <a:tblPr/>
              <a:tblGrid>
                <a:gridCol w="1658880"/>
                <a:gridCol w="1657440"/>
                <a:gridCol w="1658880"/>
                <a:gridCol w="1657440"/>
                <a:gridCol w="16588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~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~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~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900000" y="3860640"/>
            <a:ext cx="216000" cy="1297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115640" y="3860640"/>
            <a:ext cx="2303640" cy="165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87640" y="3429000"/>
            <a:ext cx="1152720" cy="17287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2895480" y="3429000"/>
            <a:ext cx="3743280" cy="20876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195640" y="2997360"/>
            <a:ext cx="2376360" cy="21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572000" y="2997360"/>
            <a:ext cx="2952720" cy="251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244000" y="3573360"/>
            <a:ext cx="571320" cy="5158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956720" y="3933720"/>
            <a:ext cx="576000" cy="1150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58840" y="3564000"/>
            <a:ext cx="117360" cy="503280"/>
          </a:xfrm>
          <a:custGeom>
            <a:avLst/>
            <a:gdLst>
              <a:gd name="textAreaLeft" fmla="*/ 0 w 117360"/>
              <a:gd name="textAreaRight" fmla="*/ 42480 w 11736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16200000">
            <a:off x="727920" y="3139200"/>
            <a:ext cx="217440" cy="594000"/>
          </a:xfrm>
          <a:custGeom>
            <a:avLst/>
            <a:gdLst>
              <a:gd name="textAreaLeft" fmla="*/ 0 w 217440"/>
              <a:gd name="textAreaRight" fmla="*/ 78480 w 217440"/>
              <a:gd name="textAreaTop" fmla="*/ 15480 h 594000"/>
              <a:gd name="textAreaBottom" fmla="*/ 578520 h 59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3701880"/>
            <a:ext cx="104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7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6600" y="30351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10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08440" y="3597120"/>
            <a:ext cx="117360" cy="503280"/>
          </a:xfrm>
          <a:custGeom>
            <a:avLst/>
            <a:gdLst>
              <a:gd name="textAreaLeft" fmla="*/ 0 w 117360"/>
              <a:gd name="textAreaRight" fmla="*/ 42480 w 11736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6200000">
            <a:off x="3377160" y="3172320"/>
            <a:ext cx="217800" cy="593640"/>
          </a:xfrm>
          <a:custGeom>
            <a:avLst/>
            <a:gdLst>
              <a:gd name="textAreaLeft" fmla="*/ 0 w 217800"/>
              <a:gd name="textAreaRight" fmla="*/ 78480 w 217800"/>
              <a:gd name="textAreaTop" fmla="*/ 15480 h 593640"/>
              <a:gd name="textAreaBottom" fmla="*/ 578160 h 59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68560" y="373536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7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27400" y="30686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10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5640" y="40291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35337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66800" y="2990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48000" y="30002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62240" y="40672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733920" y="3514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295880" y="3038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477120" y="3429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04844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87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210520" y="3543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77248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E553-C849-43CB-B8CE-56D016FFFEA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.5. Method to Develop High-Speed Driving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553000" y="3606840"/>
            <a:ext cx="3438720" cy="25812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1447920" y="4835520"/>
            <a:ext cx="3703680" cy="14889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54000" y="1219320"/>
            <a:ext cx="9036000" cy="17269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46200" y="1241280"/>
            <a:ext cx="10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ake-off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82920" y="1241280"/>
            <a:ext cx="8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rui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556400" y="1241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low-down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495360" y="192420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>
            <a:off x="2276640" y="192420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5"/>
          <a:stretch/>
        </p:blipFill>
        <p:spPr>
          <a:xfrm>
            <a:off x="4057560" y="192420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6"/>
          <a:stretch/>
        </p:blipFill>
        <p:spPr>
          <a:xfrm>
            <a:off x="5838840" y="192420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7"/>
          <a:stretch/>
        </p:blipFill>
        <p:spPr>
          <a:xfrm>
            <a:off x="7621560" y="1924200"/>
            <a:ext cx="1324080" cy="10634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2432160" y="124128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ake-off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867280" y="1241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low-down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24200" y="8380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 driv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00200" y="3149640"/>
            <a:ext cx="2362320" cy="533520"/>
          </a:xfrm>
          <a:prstGeom prst="downArrow">
            <a:avLst>
              <a:gd name="adj1" fmla="val 62102"/>
              <a:gd name="adj2" fmla="val 3184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31496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86640" y="524844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st chi-squared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8"/>
          <a:stretch/>
        </p:blipFill>
        <p:spPr>
          <a:xfrm>
            <a:off x="401760" y="181944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9"/>
          <a:stretch/>
        </p:blipFill>
        <p:spPr>
          <a:xfrm>
            <a:off x="2182680" y="181944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0"/>
          <a:stretch/>
        </p:blipFill>
        <p:spPr>
          <a:xfrm>
            <a:off x="3963960" y="181944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1"/>
          <a:stretch/>
        </p:blipFill>
        <p:spPr>
          <a:xfrm>
            <a:off x="5745240" y="181944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12"/>
          <a:stretch/>
        </p:blipFill>
        <p:spPr>
          <a:xfrm>
            <a:off x="7527960" y="181944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13"/>
          <a:stretch/>
        </p:blipFill>
        <p:spPr>
          <a:xfrm>
            <a:off x="307800" y="171468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14"/>
          <a:stretch/>
        </p:blipFill>
        <p:spPr>
          <a:xfrm>
            <a:off x="2089080" y="171468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15"/>
          <a:stretch/>
        </p:blipFill>
        <p:spPr>
          <a:xfrm>
            <a:off x="3870360" y="171468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16"/>
          <a:stretch/>
        </p:blipFill>
        <p:spPr>
          <a:xfrm>
            <a:off x="5651640" y="171468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17"/>
          <a:stretch/>
        </p:blipFill>
        <p:spPr>
          <a:xfrm>
            <a:off x="7434360" y="171468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18"/>
          <a:stretch/>
        </p:blipFill>
        <p:spPr>
          <a:xfrm>
            <a:off x="214200" y="1609560"/>
            <a:ext cx="1324080" cy="10638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19"/>
          <a:stretch/>
        </p:blipFill>
        <p:spPr>
          <a:xfrm>
            <a:off x="1995480" y="1609560"/>
            <a:ext cx="1324080" cy="10638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0"/>
          <a:stretch/>
        </p:blipFill>
        <p:spPr>
          <a:xfrm>
            <a:off x="3776760" y="1609560"/>
            <a:ext cx="1323720" cy="10638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1"/>
          <a:stretch/>
        </p:blipFill>
        <p:spPr>
          <a:xfrm>
            <a:off x="5557680" y="1609560"/>
            <a:ext cx="1324080" cy="10638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2"/>
          <a:stretch/>
        </p:blipFill>
        <p:spPr>
          <a:xfrm>
            <a:off x="7340760" y="1609560"/>
            <a:ext cx="1323720" cy="10638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3"/>
          <a:stretch/>
        </p:blipFill>
        <p:spPr>
          <a:xfrm>
            <a:off x="1270080" y="466884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4"/>
          <a:stretch/>
        </p:blipFill>
        <p:spPr>
          <a:xfrm>
            <a:off x="1092240" y="450216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5"/>
          <a:stretch/>
        </p:blipFill>
        <p:spPr>
          <a:xfrm>
            <a:off x="914400" y="433548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6"/>
          <a:stretch/>
        </p:blipFill>
        <p:spPr>
          <a:xfrm>
            <a:off x="736560" y="416880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7"/>
          <a:stretch/>
        </p:blipFill>
        <p:spPr>
          <a:xfrm>
            <a:off x="558720" y="400212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8"/>
          <a:stretch/>
        </p:blipFill>
        <p:spPr>
          <a:xfrm>
            <a:off x="380880" y="3835440"/>
            <a:ext cx="3703680" cy="14889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 flipV="1">
            <a:off x="4546440" y="4140360"/>
            <a:ext cx="1016280" cy="266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13920" y="6172200"/>
            <a:ext cx="85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 the combination cycle with least chi-square value compared with unified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D8A65-62AB-46C6-B6C5-74C8665410E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5" descr=""/>
          <p:cNvPicPr/>
          <p:nvPr/>
        </p:nvPicPr>
        <p:blipFill>
          <a:blip r:embed="rId1"/>
          <a:stretch/>
        </p:blipFill>
        <p:spPr>
          <a:xfrm>
            <a:off x="1143000" y="1230480"/>
            <a:ext cx="6248520" cy="204624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.6. Selection of Complete Short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759120" y="3733920"/>
            <a:ext cx="264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hort trip -1  (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.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37339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hort trip -2 (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.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52280" y="6019920"/>
            <a:ext cx="88394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possibility to find the complete in-use data to represent the unified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264960" y="4006800"/>
            <a:ext cx="2579760" cy="19368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2895480" y="4572000"/>
            <a:ext cx="685800" cy="533520"/>
          </a:xfrm>
          <a:prstGeom prst="leftRightArrow">
            <a:avLst>
              <a:gd name="adj1" fmla="val 50000"/>
              <a:gd name="adj2" fmla="val 2558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4160" y="3733920"/>
            <a:ext cx="264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VA distribution (90&lt;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04920" y="7621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There is only a few complete STs with target duration in Japan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04920" y="32446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mparison of VA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3745080" y="4006800"/>
            <a:ext cx="2579400" cy="19368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6411960" y="4006800"/>
            <a:ext cx="2579760" cy="193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7885-1282-4F84-948F-2B6F056F207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4.1. Method for the ST Combin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1280" y="1030320"/>
            <a:ext cx="388764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Japan referen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Average ST duration: 42.7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Average Idling duration: 26.5 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568440" y="3933720"/>
          <a:ext cx="6162480" cy="1079640"/>
        </p:xfrm>
        <a:graphic>
          <a:graphicData uri="http://schemas.openxmlformats.org/drawingml/2006/table">
            <a:tbl>
              <a:tblPr/>
              <a:tblGrid>
                <a:gridCol w="684000"/>
                <a:gridCol w="685800"/>
                <a:gridCol w="684360"/>
                <a:gridCol w="684000"/>
                <a:gridCol w="690840"/>
                <a:gridCol w="679320"/>
                <a:gridCol w="684360"/>
                <a:gridCol w="685800"/>
                <a:gridCol w="684000"/>
              </a:tblGrid>
              <a:tr h="54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2" name=""/>
          <p:cNvGrpSpPr/>
          <p:nvPr/>
        </p:nvGrpSpPr>
        <p:grpSpPr>
          <a:xfrm>
            <a:off x="4788000" y="981000"/>
            <a:ext cx="4038480" cy="2530440"/>
            <a:chOff x="4788000" y="981000"/>
            <a:chExt cx="4038480" cy="2530440"/>
          </a:xfrm>
        </p:grpSpPr>
        <p:pic>
          <p:nvPicPr>
            <p:cNvPr id="453" name="Rectangle 5" descr=""/>
            <p:cNvPicPr/>
            <p:nvPr/>
          </p:nvPicPr>
          <p:blipFill>
            <a:blip r:embed="rId1"/>
            <a:stretch/>
          </p:blipFill>
          <p:spPr>
            <a:xfrm>
              <a:off x="4788000" y="981000"/>
              <a:ext cx="403848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349960" y="2709720"/>
              <a:ext cx="163440" cy="21600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56080" y="2268360"/>
              <a:ext cx="376200" cy="21600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356080" y="1815840"/>
              <a:ext cx="619200" cy="21600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356080" y="1360440"/>
              <a:ext cx="1094040" cy="21600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62480" y="1566720"/>
              <a:ext cx="287640" cy="136836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826240" y="1998720"/>
              <a:ext cx="144360" cy="93636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86480" y="2503440"/>
              <a:ext cx="144360" cy="43164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361120" y="1144440"/>
              <a:ext cx="1093680" cy="216000"/>
            </a:xfrm>
            <a:prstGeom prst="rect">
              <a:avLst/>
            </a:prstGeom>
            <a:solidFill>
              <a:srgbClr val="ff99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50120" y="1135080"/>
              <a:ext cx="1800000" cy="1800000"/>
            </a:xfrm>
            <a:prstGeom prst="rect">
              <a:avLst/>
            </a:prstGeom>
            <a:solidFill>
              <a:srgbClr val="ff99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361120" y="1585800"/>
              <a:ext cx="618840" cy="216000"/>
            </a:xfrm>
            <a:prstGeom prst="rect">
              <a:avLst/>
            </a:prstGeom>
            <a:solidFill>
              <a:srgbClr val="ff99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78520" y="1576440"/>
              <a:ext cx="183960" cy="1358640"/>
            </a:xfrm>
            <a:prstGeom prst="rect">
              <a:avLst/>
            </a:prstGeom>
            <a:solidFill>
              <a:srgbClr val="ff99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70480" y="2043000"/>
              <a:ext cx="376200" cy="216000"/>
            </a:xfrm>
            <a:prstGeom prst="rect">
              <a:avLst/>
            </a:prstGeom>
            <a:solidFill>
              <a:srgbClr val="ff99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749920" y="2071440"/>
              <a:ext cx="85680" cy="792360"/>
            </a:xfrm>
            <a:prstGeom prst="rect">
              <a:avLst/>
            </a:prstGeom>
            <a:solidFill>
              <a:srgbClr val="ff99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370480" y="2503440"/>
              <a:ext cx="216000" cy="216000"/>
            </a:xfrm>
            <a:prstGeom prst="rect">
              <a:avLst/>
            </a:prstGeom>
            <a:solidFill>
              <a:srgbClr val="ff99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926400" y="1217520"/>
              <a:ext cx="0" cy="15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05400" y="1495440"/>
              <a:ext cx="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60960" y="1711080"/>
              <a:ext cx="0" cy="7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92840" y="1927080"/>
              <a:ext cx="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73680" y="2143080"/>
              <a:ext cx="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539640" y="504828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mbination number = 1.5 × 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(Only Japan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0920" y="5551560"/>
            <a:ext cx="864216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takes 0.1 sec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i-squar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alcu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one combination,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8×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×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or all possi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 (only Japanese dat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necessary to reduce number of combination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for practical 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39640" y="3573360"/>
            <a:ext cx="829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andidates for each short trip duration for the total combination numbers and short trip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68360" y="692280"/>
            <a:ext cx="56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trip duration in Low phas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hreshold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/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1280" y="1916280"/>
            <a:ext cx="3887640" cy="17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◆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est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sired cycle duration: 600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= (600 - 26.5) / (42.7 + 26.5) = 8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Number of short trips N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: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: 8, 15, 22, 30, 39, 51, 67, 111 = 343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verage ST duration: 42.9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19640" y="1413000"/>
            <a:ext cx="1223640" cy="2016000"/>
          </a:xfrm>
          <a:custGeom>
            <a:avLst/>
            <a:gdLst/>
            <a:ahLst/>
            <a:rect l="l" t="t" r="r" b="b"/>
            <a:pathLst>
              <a:path w="771" h="1270">
                <a:moveTo>
                  <a:pt x="0" y="0"/>
                </a:moveTo>
                <a:lnTo>
                  <a:pt x="771" y="0"/>
                </a:lnTo>
                <a:lnTo>
                  <a:pt x="771" y="1270"/>
                </a:lnTo>
                <a:lnTo>
                  <a:pt x="0" y="1270"/>
                </a:lnTo>
              </a:path>
            </a:pathLst>
          </a:custGeom>
          <a:noFill/>
          <a:ln w="19080">
            <a:solidFill>
              <a:srgbClr val="ff00ff"/>
            </a:solidFill>
            <a:round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C288-37B7-4ABE-B50B-92EBF091220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4.2. Selection of each S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362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ST selec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 within average ±1σ in each ST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verage vehicle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cceleration duration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eceleration duration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maller chi-squared value is higher prio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The number of potential STs in each S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nger ST has more potential STs since it has bigger influence on chi-squar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tal number of combinations is less than 10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8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pproximately 3 days on Xeon X5492 (Quad core, 3.4G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10" descr=""/>
          <p:cNvPicPr/>
          <p:nvPr/>
        </p:nvPicPr>
        <p:blipFill>
          <a:blip r:embed="rId1"/>
          <a:stretch/>
        </p:blipFill>
        <p:spPr>
          <a:xfrm>
            <a:off x="1461960" y="4429080"/>
            <a:ext cx="6205680" cy="19144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4765680" y="6012000"/>
            <a:ext cx="1881360" cy="0"/>
          </a:xfrm>
          <a:prstGeom prst="line">
            <a:avLst/>
          </a:prstGeom>
          <a:ln w="158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41680" y="6012000"/>
            <a:ext cx="1224000" cy="0"/>
          </a:xfrm>
          <a:prstGeom prst="line">
            <a:avLst/>
          </a:prstGeom>
          <a:ln w="15840">
            <a:solidFill>
              <a:srgbClr val="ff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687760" y="6012000"/>
            <a:ext cx="863640" cy="0"/>
          </a:xfrm>
          <a:prstGeom prst="line">
            <a:avLst/>
          </a:prstGeom>
          <a:ln w="15840">
            <a:solidFill>
              <a:srgbClr val="ff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173320" y="6002280"/>
            <a:ext cx="5047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876320" y="6012000"/>
            <a:ext cx="2872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751040" y="6018120"/>
            <a:ext cx="14436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496880" y="5686560"/>
            <a:ext cx="576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cff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66cc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717560" y="5695920"/>
            <a:ext cx="576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182680" y="5695920"/>
            <a:ext cx="576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00cc99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30680" y="5695920"/>
            <a:ext cx="576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ff66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57600" y="5695920"/>
            <a:ext cx="804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5 </a:t>
            </a: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207040" y="5695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Y 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546880" y="611352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924360" y="611352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987640" y="611352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40000" y="611352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979640" y="611352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92360" y="611352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364000" y="6407280"/>
            <a:ext cx="103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 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657600" y="6407280"/>
            <a:ext cx="1150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N * X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5</a:t>
            </a: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/Y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90920" y="6407280"/>
            <a:ext cx="1150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N * X</a:t>
            </a:r>
            <a:r>
              <a:rPr b="1" lang="en-US" sz="1200" spc="-1" strike="noStrike" baseline="-25000">
                <a:solidFill>
                  <a:srgbClr val="ff66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71760" y="643104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cc99"/>
                </a:solidFill>
                <a:latin typeface="Times New Roman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AB7D-1E5A-4DF1-A0CD-897341E6715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itial Analysi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Overview of collected in-u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 Data analysis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 Result of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Validity of L/M/H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3.1. Overview of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3.2. Consideration of threshold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3.3. Analyzed example of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3.4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Modification on proposed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4.1. Modification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4.2. Modification on proposed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" y="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itial Analysis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2CFFE-A14D-4E8F-8600-6877F01BAE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1. Definition of Road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1752480"/>
          <a:ext cx="8282160" cy="4878360"/>
        </p:xfrm>
        <a:graphic>
          <a:graphicData uri="http://schemas.openxmlformats.org/drawingml/2006/table">
            <a:tbl>
              <a:tblPr/>
              <a:tblGrid>
                <a:gridCol w="865440"/>
                <a:gridCol w="2447640"/>
                <a:gridCol w="2519640"/>
                <a:gridCol w="2449440"/>
              </a:tblGrid>
              <a:tr h="52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d roads in urban areas with a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eed limit ≤40 km/hou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exclude mountain are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d non-motorways outside and inside urban areas with a speed limit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etween 40 and 60 km/h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d motorways (multi-lane roads specifically constructed and controlled for fast traffic) with a  speed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 to 80 km/h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rterial, collector and local road inside and/or near central business district (CBD).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바탕"/>
                        </a:rPr>
                        <a:t>Speed limit is from 40 to 80 km/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, depends on road type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rterial, collector and local road inside non-urban area.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바탕"/>
                        </a:rPr>
                        <a:t>Speed limit is from 50 to 80 km/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, depends on road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torway which is designed, constructed and controlled for faster traffic in urban and rural area.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peed limit is from 100 to 120 km/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depends on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ensely Inhabited District (DI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･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Speed limit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≤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60km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･ 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xclude mountain are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･ 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on-Densely Inhabited Distric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･ 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on motor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･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Speed limit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≤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60km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･ 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xclude mountain are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otor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(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ithin City and between Citi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･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Speed limit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≤</a:t>
                      </a: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r>
                        <a:rPr b="1" lang="ja-JP" sz="12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100km/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･ 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xclude mountain are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efinition depends on EU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efinition depends on EU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efinition depends on EU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14480" y="68580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t was agreed that each CP has its own unique definition of each road type (urban/rural/motorway) during 1st DHC meeting. This may lead the discrepancy on speed-acceleration distribution among CPs in same road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79EC0-949F-45ED-AB67-DBED5EB9C7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2. Overview of Collected In-u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280" y="838080"/>
          <a:ext cx="8763120" cy="5361120"/>
        </p:xfrm>
        <a:graphic>
          <a:graphicData uri="http://schemas.openxmlformats.org/drawingml/2006/table">
            <a:tbl>
              <a:tblPr/>
              <a:tblGrid>
                <a:gridCol w="1422360"/>
                <a:gridCol w="2235240"/>
                <a:gridCol w="1105200"/>
                <a:gridCol w="1104840"/>
                <a:gridCol w="1409760"/>
                <a:gridCol w="1485720"/>
              </a:tblGrid>
              <a:tr h="77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/ R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vehic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driving duration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driving distance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nger c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 duty commercial vehi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*)ongo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y, Italy, Slovenia, France, Belgium, Switzer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x. 2,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prefectur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yo, Osaka , Kyoto, Nagoya, Shizuoka, et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x. 1,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x. 5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e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(*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o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x. 1,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x. 3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152280" y="6229440"/>
            <a:ext cx="3886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) Exclude 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*) Korea: Not exist Weekend data in Urban and 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75D9-08D4-4B7A-B68B-92CAFAB2CF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3. Traffic Volume Weighting in Driv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tangle 5" descr=""/>
          <p:cNvPicPr/>
          <p:nvPr/>
        </p:nvPicPr>
        <p:blipFill>
          <a:blip r:embed="rId1"/>
          <a:stretch/>
        </p:blipFill>
        <p:spPr>
          <a:xfrm>
            <a:off x="1152360" y="711360"/>
            <a:ext cx="6797880" cy="5946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825800" y="4749840"/>
            <a:ext cx="3059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porary weighting for initial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965160"/>
            <a:ext cx="1371600" cy="383544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3835440"/>
              <a:gd name="textAreaBottom" fmla="*/ 3768480 h 3835440"/>
            </a:gdLst>
            <a:ahLst/>
            <a:rect l="textAreaLeft" t="textAreaTop" r="textAreaRight" b="textAreaBottom"/>
            <a:pathLst>
              <a:path w="21600" h="60390">
                <a:moveTo>
                  <a:pt x="3600" y="0"/>
                </a:moveTo>
                <a:arcTo wR="3600" hR="3600" stAng="16200000" swAng="-5400000"/>
                <a:lnTo>
                  <a:pt x="0" y="56790"/>
                </a:lnTo>
                <a:arcTo wR="3600" hR="3600" stAng="10800000" swAng="-5400000"/>
                <a:lnTo>
                  <a:pt x="18000" y="603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4AF1A-9BAE-44F3-B2C9-AB2E07F6C0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.2.1. Preparation for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Comm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move the noise by filtering process.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4253H filt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ind the acceleration by applying differential equatio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 V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 / (T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- T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enerate the Speed-acceleration distribution, V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5km/h intervals, α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km/h/s interv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liminate the ST with max speed 250km/h or 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Japanes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clude incomplete ST that transfer to High phase (e.g. Vmax≧80, 90km/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See the next slide for more details on incomplete S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EU data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Pre-check methodology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ot_ok is set “true”, when failures or inconsistencies were found during data preprocessing and when the following indicators are set “true”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ot_ok_dv is set “true”, when the difference between the original vehicle speed v and the smoothed speed vg is &lt; -7 km/h or &gt; 7 km/h. This is typically the case, when there are gaps or jumps in the speed patt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ot_ok_v_start_end is set to “true”, when v_start and/or v_end of a short trip is higher than 12.6 km/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ot_ok_a_min_max is set to “true”, when the acceleration exceeds 4 m/s² or is less then -4.5 m/s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atasets and short trips, indicated with those not_ok indicators should be excluded from the further analy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Korea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pply same method as Japanes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5323-65E4-4B56-8E37-06E29D16D5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2. Incomplete Short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838080"/>
            <a:ext cx="8569080" cy="21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oth complete and incomplete in-use data that transfer to High phase are analy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73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cause of long driving duration at high speed, including the STs with no start acceleration phase or braking phase does not imp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73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the data is excluded, the few remaining data might not represent  actual driving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54920" y="3624120"/>
            <a:ext cx="2377080" cy="1514520"/>
            <a:chOff x="754920" y="3624120"/>
            <a:chExt cx="2377080" cy="1514520"/>
          </a:xfrm>
        </p:grpSpPr>
        <p:sp>
          <p:nvSpPr>
            <p:cNvPr id="67" name=""/>
            <p:cNvSpPr/>
            <p:nvPr/>
          </p:nvSpPr>
          <p:spPr>
            <a:xfrm flipV="1">
              <a:off x="1042920" y="38415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42920" y="484956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50840" y="4030560"/>
              <a:ext cx="1838160" cy="817560"/>
            </a:xfrm>
            <a:custGeom>
              <a:avLst/>
              <a:gdLst/>
              <a:ahLst/>
              <a:rect l="l" t="t" r="r" b="b"/>
              <a:pathLst>
                <a:path w="1158" h="515">
                  <a:moveTo>
                    <a:pt x="0" y="515"/>
                  </a:moveTo>
                  <a:cubicBezTo>
                    <a:pt x="19" y="449"/>
                    <a:pt x="75" y="178"/>
                    <a:pt x="112" y="117"/>
                  </a:cubicBezTo>
                  <a:cubicBezTo>
                    <a:pt x="149" y="56"/>
                    <a:pt x="180" y="157"/>
                    <a:pt x="223" y="150"/>
                  </a:cubicBezTo>
                  <a:cubicBezTo>
                    <a:pt x="266" y="143"/>
                    <a:pt x="329" y="80"/>
                    <a:pt x="369" y="77"/>
                  </a:cubicBezTo>
                  <a:cubicBezTo>
                    <a:pt x="409" y="74"/>
                    <a:pt x="422" y="134"/>
                    <a:pt x="466" y="131"/>
                  </a:cubicBezTo>
                  <a:cubicBezTo>
                    <a:pt x="510" y="128"/>
                    <a:pt x="570" y="61"/>
                    <a:pt x="636" y="59"/>
                  </a:cubicBezTo>
                  <a:cubicBezTo>
                    <a:pt x="702" y="57"/>
                    <a:pt x="794" y="118"/>
                    <a:pt x="860" y="119"/>
                  </a:cubicBezTo>
                  <a:cubicBezTo>
                    <a:pt x="926" y="120"/>
                    <a:pt x="980" y="0"/>
                    <a:pt x="1030" y="65"/>
                  </a:cubicBezTo>
                  <a:cubicBezTo>
                    <a:pt x="1080" y="130"/>
                    <a:pt x="1131" y="417"/>
                    <a:pt x="1158" y="509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90560" y="486216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6200000">
              <a:off x="173160" y="4205520"/>
              <a:ext cx="143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Veh. spe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flipV="1">
            <a:off x="1042920" y="54097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641844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50840" y="5688000"/>
            <a:ext cx="1781280" cy="728640"/>
          </a:xfrm>
          <a:custGeom>
            <a:avLst/>
            <a:gdLst/>
            <a:ahLst/>
            <a:rect l="l" t="t" r="r" b="b"/>
            <a:pathLst>
              <a:path w="1122" h="459">
                <a:moveTo>
                  <a:pt x="0" y="459"/>
                </a:moveTo>
                <a:cubicBezTo>
                  <a:pt x="19" y="393"/>
                  <a:pt x="75" y="122"/>
                  <a:pt x="112" y="61"/>
                </a:cubicBezTo>
                <a:cubicBezTo>
                  <a:pt x="149" y="0"/>
                  <a:pt x="180" y="101"/>
                  <a:pt x="223" y="94"/>
                </a:cubicBezTo>
                <a:cubicBezTo>
                  <a:pt x="266" y="87"/>
                  <a:pt x="329" y="24"/>
                  <a:pt x="369" y="21"/>
                </a:cubicBezTo>
                <a:cubicBezTo>
                  <a:pt x="409" y="18"/>
                  <a:pt x="422" y="78"/>
                  <a:pt x="466" y="75"/>
                </a:cubicBezTo>
                <a:cubicBezTo>
                  <a:pt x="510" y="72"/>
                  <a:pt x="570" y="5"/>
                  <a:pt x="636" y="3"/>
                </a:cubicBezTo>
                <a:cubicBezTo>
                  <a:pt x="702" y="1"/>
                  <a:pt x="794" y="62"/>
                  <a:pt x="860" y="63"/>
                </a:cubicBezTo>
                <a:cubicBezTo>
                  <a:pt x="926" y="64"/>
                  <a:pt x="986" y="10"/>
                  <a:pt x="1030" y="9"/>
                </a:cubicBezTo>
                <a:cubicBezTo>
                  <a:pt x="1074" y="8"/>
                  <a:pt x="1103" y="46"/>
                  <a:pt x="1122" y="55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90560" y="64310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rot="16200000">
            <a:off x="173160" y="57362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.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06920" y="54421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06920" y="645012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10160" y="5630760"/>
            <a:ext cx="1846080" cy="812880"/>
          </a:xfrm>
          <a:custGeom>
            <a:avLst/>
            <a:gdLst/>
            <a:ahLst/>
            <a:rect l="l" t="t" r="r" b="b"/>
            <a:pathLst>
              <a:path w="1163" h="512">
                <a:moveTo>
                  <a:pt x="0" y="168"/>
                </a:moveTo>
                <a:cubicBezTo>
                  <a:pt x="20" y="159"/>
                  <a:pt x="77" y="120"/>
                  <a:pt x="115" y="117"/>
                </a:cubicBezTo>
                <a:cubicBezTo>
                  <a:pt x="153" y="114"/>
                  <a:pt x="183" y="157"/>
                  <a:pt x="226" y="150"/>
                </a:cubicBezTo>
                <a:cubicBezTo>
                  <a:pt x="269" y="143"/>
                  <a:pt x="332" y="80"/>
                  <a:pt x="372" y="77"/>
                </a:cubicBezTo>
                <a:cubicBezTo>
                  <a:pt x="412" y="74"/>
                  <a:pt x="425" y="134"/>
                  <a:pt x="469" y="131"/>
                </a:cubicBezTo>
                <a:cubicBezTo>
                  <a:pt x="513" y="128"/>
                  <a:pt x="573" y="61"/>
                  <a:pt x="639" y="59"/>
                </a:cubicBezTo>
                <a:cubicBezTo>
                  <a:pt x="705" y="57"/>
                  <a:pt x="797" y="118"/>
                  <a:pt x="863" y="119"/>
                </a:cubicBezTo>
                <a:cubicBezTo>
                  <a:pt x="929" y="120"/>
                  <a:pt x="983" y="0"/>
                  <a:pt x="1033" y="65"/>
                </a:cubicBezTo>
                <a:cubicBezTo>
                  <a:pt x="1083" y="130"/>
                  <a:pt x="1136" y="419"/>
                  <a:pt x="1163" y="51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54560" y="64627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299280" y="54421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99280" y="645012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02520" y="5721480"/>
            <a:ext cx="1800000" cy="176040"/>
          </a:xfrm>
          <a:custGeom>
            <a:avLst/>
            <a:gdLst/>
            <a:ahLst/>
            <a:rect l="l" t="t" r="r" b="b"/>
            <a:pathLst>
              <a:path w="1134" h="111">
                <a:moveTo>
                  <a:pt x="0" y="111"/>
                </a:moveTo>
                <a:cubicBezTo>
                  <a:pt x="20" y="102"/>
                  <a:pt x="77" y="63"/>
                  <a:pt x="115" y="60"/>
                </a:cubicBezTo>
                <a:cubicBezTo>
                  <a:pt x="153" y="57"/>
                  <a:pt x="183" y="100"/>
                  <a:pt x="226" y="93"/>
                </a:cubicBezTo>
                <a:cubicBezTo>
                  <a:pt x="269" y="86"/>
                  <a:pt x="332" y="23"/>
                  <a:pt x="372" y="20"/>
                </a:cubicBezTo>
                <a:cubicBezTo>
                  <a:pt x="412" y="17"/>
                  <a:pt x="425" y="77"/>
                  <a:pt x="469" y="74"/>
                </a:cubicBezTo>
                <a:cubicBezTo>
                  <a:pt x="513" y="71"/>
                  <a:pt x="573" y="4"/>
                  <a:pt x="639" y="2"/>
                </a:cubicBezTo>
                <a:cubicBezTo>
                  <a:pt x="705" y="0"/>
                  <a:pt x="797" y="61"/>
                  <a:pt x="863" y="62"/>
                </a:cubicBezTo>
                <a:cubicBezTo>
                  <a:pt x="929" y="63"/>
                  <a:pt x="988" y="3"/>
                  <a:pt x="1033" y="8"/>
                </a:cubicBezTo>
                <a:cubicBezTo>
                  <a:pt x="1078" y="13"/>
                  <a:pt x="1113" y="75"/>
                  <a:pt x="1134" y="9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46920" y="64627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2560" y="342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①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omplete S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2560" y="50292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complete 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229F-D824-4B08-A1B9-D59AA3D5A9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RI</dc:creator>
  <dc:description/>
  <dc:language>en-US</dc:language>
  <cp:lastModifiedBy>トヨタ自動車株式会社</cp:lastModifiedBy>
  <dcterms:modified xsi:type="dcterms:W3CDTF">2010-09-27T07:09:06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