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BA21-6140-47B3-BAEB-738A455EE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EBB-3D6C-4698-8B72-A8E698D68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85D-5886-44EB-979A-B26D7A747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FC94-8FD9-4BEC-8AED-1138B413FD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8661-7C00-4085-8B81-EE67E281D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0815-8F05-472E-8051-AA1F4587E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EC8F-A7C7-4E43-B0BE-F38DEDCB1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6482-0AF6-48F0-81EC-2515FA33C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21DC-A84F-4C21-A083-2FE2D80DA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8E61-B099-41C9-9FBA-DA405AAB5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747D-6AE5-49F3-899A-0F695007E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F58F-DEDB-49C7-8F4D-7DD959DAB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54F-4633-4463-8C86-98FDEB376BF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TP-DHC-03-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457200" y="1484280"/>
            <a:ext cx="82296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-use Data Conversion Techni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Re-Categorization of in-use data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008600" y="5729400"/>
            <a:ext cx="51051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*) WLTC 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ldwide harmon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ht dut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743200" y="50133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 1 : 22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3568680"/>
            <a:ext cx="82296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y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H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GRPE/WLTP inform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B68F-2C35-49AE-B6A9-11BF8420C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 –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odification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15803" t="18620" r="13869" b="13043"/>
          <a:stretch/>
        </p:blipFill>
        <p:spPr>
          <a:xfrm>
            <a:off x="4859280" y="739800"/>
            <a:ext cx="4051440" cy="2952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5120" y="3517920"/>
            <a:ext cx="1440000" cy="91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58640" y="4572000"/>
            <a:ext cx="1471680" cy="9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"/>
          <p:cNvSpPr/>
          <p:nvPr/>
        </p:nvSpPr>
        <p:spPr>
          <a:xfrm>
            <a:off x="1039680" y="5651640"/>
            <a:ext cx="5050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49480" y="3660840"/>
            <a:ext cx="431640" cy="576360"/>
          </a:xfrm>
          <a:prstGeom prst="rightArrow">
            <a:avLst>
              <a:gd name="adj1" fmla="val 49861"/>
              <a:gd name="adj2" fmla="val 51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49480" y="4741920"/>
            <a:ext cx="431640" cy="576360"/>
          </a:xfrm>
          <a:prstGeom prst="rightArrow">
            <a:avLst>
              <a:gd name="adj1" fmla="val 49861"/>
              <a:gd name="adj2" fmla="val 514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2544840" y="3170160"/>
            <a:ext cx="1376280" cy="1362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2529000" y="4559400"/>
            <a:ext cx="1376280" cy="1361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32200" y="35384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98720" y="47419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06720" y="5970600"/>
            <a:ext cx="504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0560" y="5749920"/>
            <a:ext cx="504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3716280"/>
            <a:ext cx="717480" cy="2305080"/>
          </a:xfrm>
          <a:custGeom>
            <a:avLst/>
            <a:gdLst>
              <a:gd name="textAreaLeft" fmla="*/ 0 w 717480"/>
              <a:gd name="textAreaRight" fmla="*/ 259200 w 7174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23"/>
                </a:lnTo>
                <a:cubicBezTo>
                  <a:pt x="10800" y="10123"/>
                  <a:pt x="16200" y="11023"/>
                  <a:pt x="21600" y="11023"/>
                </a:cubicBezTo>
                <a:cubicBezTo>
                  <a:pt x="16200" y="11023"/>
                  <a:pt x="10800" y="11923"/>
                  <a:pt x="10800" y="1282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36600" y="34923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65400" y="45338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55920" y="3546360"/>
            <a:ext cx="136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1480" y="4722840"/>
            <a:ext cx="136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3500280"/>
            <a:ext cx="1800360" cy="1584360"/>
          </a:xfrm>
          <a:custGeom>
            <a:avLst/>
            <a:gdLst>
              <a:gd name="textAreaLeft" fmla="*/ 613440 w 1800360"/>
              <a:gd name="textAreaRight" fmla="*/ 1484280 w 1800360"/>
              <a:gd name="textAreaTop" fmla="*/ 963360 h 1584360"/>
              <a:gd name="textAreaBottom" fmla="*/ 1306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926"/>
                </a:moveTo>
                <a:lnTo>
                  <a:pt x="13133" y="16926"/>
                </a:lnTo>
                <a:lnTo>
                  <a:pt x="13133" y="7359"/>
                </a:lnTo>
                <a:lnTo>
                  <a:pt x="9340" y="7359"/>
                </a:lnTo>
                <a:lnTo>
                  <a:pt x="15470" y="0"/>
                </a:lnTo>
                <a:lnTo>
                  <a:pt x="21600" y="7359"/>
                </a:lnTo>
                <a:lnTo>
                  <a:pt x="17807" y="7359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1052640"/>
            <a:ext cx="4465440" cy="156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-Acceleration distribution of each short trip should be multiplied by the compensated weighting factors (w’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5156-6C39-4EC4-9A43-2016EF4D7A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 –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odificatio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907920"/>
            <a:ext cx="784836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stribution for idling &amp; short trip duration also should be multiplied by the compensated weighting factors (w’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5560" t="18620" r="14242" b="13609"/>
          <a:stretch/>
        </p:blipFill>
        <p:spPr>
          <a:xfrm>
            <a:off x="395280" y="2349360"/>
            <a:ext cx="5761080" cy="4172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940360" y="3281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0360" y="458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5320" y="3440160"/>
            <a:ext cx="17334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Ax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ensated weighting 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96360" y="4057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5CC1-2EEB-4BA3-A6CD-E3438BDBC8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981000"/>
            <a:ext cx="864216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move 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6. Test Cycle Development – Step6 – in WLTP-DHC-02-0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more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04FF-7612-45BB-B3A7-CB1F760FA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5960" y="1066680"/>
            <a:ext cx="8569440" cy="4654800"/>
          </a:xfrm>
          <a:prstGeom prst="roundRect">
            <a:avLst>
              <a:gd name="adj" fmla="val 896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urp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9520" y="12096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It was agreed that each CP has its own unique definition of each road typ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urban/rural/motorway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during its 1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DHC meeting. This may lead the discrepancy on speed-acceleration distribution among CPs in same road categ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is document describes the technique to convert the in-use data into vehicle speed oriented categ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rban/rural/motorway -&gt; low/middle/high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is technique can be used for other re-categorization including more than three (3)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8A48-18D3-413B-859F-A902B2FB7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finition of Roa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981000"/>
          <a:ext cx="8281800" cy="5256360"/>
        </p:xfrm>
        <a:graphic>
          <a:graphicData uri="http://schemas.openxmlformats.org/drawingml/2006/table">
            <a:tbl>
              <a:tblPr/>
              <a:tblGrid>
                <a:gridCol w="865080"/>
                <a:gridCol w="2448000"/>
                <a:gridCol w="2519280"/>
                <a:gridCol w="2449440"/>
              </a:tblGrid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roads in urban areas with a speed limit ≤40 km/hour (exclude                  mountain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non-motorways outside and inside urban areas with a speed limit                  between 40 and 6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ved motorways (multi-lane roads specifically constructed and controlled for fast traffic) with a  speed 60 to 8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rterial, collector and local road inside and/or near central business district (CBD). Speed limit is from 40 to 80 km/h, depends on road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rterial, collector and local road inside non-urban area. Speed limit is from 50 to 80 km/h, depends on roa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way which is designed, constructed and controlled for faster traffic in urban and rural area. Speed limit is from 100 to 120 km/h, depends 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ensely Inhabited District (D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eed limi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≦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n-Densely Inhabited Distri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n 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(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within City and between C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・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D894-9E91-4E96-90FD-BF99E25C3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. Data analysis process - Step A-1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9720"/>
            <a:ext cx="822960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ze the collected data into original matrix                 with weight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Matrix : road type/vehicle category/time period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the collected data duration in each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033720"/>
          <a:ext cx="8636040" cy="3203640"/>
        </p:xfrm>
        <a:graphic>
          <a:graphicData uri="http://schemas.openxmlformats.org/drawingml/2006/table">
            <a:tbl>
              <a:tblPr/>
              <a:tblGrid>
                <a:gridCol w="1235160"/>
                <a:gridCol w="822240"/>
                <a:gridCol w="822240"/>
                <a:gridCol w="822240"/>
                <a:gridCol w="822240"/>
                <a:gridCol w="822600"/>
                <a:gridCol w="822240"/>
                <a:gridCol w="822240"/>
                <a:gridCol w="822240"/>
                <a:gridCol w="8226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-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p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enger 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ht Duty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hic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531800" y="4545000"/>
            <a:ext cx="744480" cy="618840"/>
            <a:chOff x="1531800" y="4545000"/>
            <a:chExt cx="744480" cy="618840"/>
          </a:xfrm>
        </p:grpSpPr>
        <p:sp>
          <p:nvSpPr>
            <p:cNvPr id="55" name=""/>
            <p:cNvSpPr/>
            <p:nvPr/>
          </p:nvSpPr>
          <p:spPr>
            <a:xfrm>
              <a:off x="17002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14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09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034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667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318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1546200" y="5424480"/>
            <a:ext cx="709560" cy="588960"/>
            <a:chOff x="1546200" y="5424480"/>
            <a:chExt cx="709560" cy="588960"/>
          </a:xfrm>
        </p:grpSpPr>
        <p:sp>
          <p:nvSpPr>
            <p:cNvPr id="62" name=""/>
            <p:cNvSpPr/>
            <p:nvPr/>
          </p:nvSpPr>
          <p:spPr>
            <a:xfrm>
              <a:off x="16794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509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04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825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15508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352600" y="4545000"/>
            <a:ext cx="744480" cy="618840"/>
            <a:chOff x="2352600" y="4545000"/>
            <a:chExt cx="744480" cy="618840"/>
          </a:xfrm>
        </p:grpSpPr>
        <p:sp>
          <p:nvSpPr>
            <p:cNvPr id="69" name=""/>
            <p:cNvSpPr/>
            <p:nvPr/>
          </p:nvSpPr>
          <p:spPr>
            <a:xfrm>
              <a:off x="25210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922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717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242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75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23526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367000" y="5424480"/>
            <a:ext cx="709560" cy="588960"/>
            <a:chOff x="2367000" y="5424480"/>
            <a:chExt cx="709560" cy="588960"/>
          </a:xfrm>
        </p:grpSpPr>
        <p:sp>
          <p:nvSpPr>
            <p:cNvPr id="76" name=""/>
            <p:cNvSpPr/>
            <p:nvPr/>
          </p:nvSpPr>
          <p:spPr>
            <a:xfrm>
              <a:off x="25002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17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12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033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70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23716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3173400" y="4545000"/>
            <a:ext cx="744480" cy="618840"/>
            <a:chOff x="3173400" y="4545000"/>
            <a:chExt cx="744480" cy="618840"/>
          </a:xfrm>
        </p:grpSpPr>
        <p:sp>
          <p:nvSpPr>
            <p:cNvPr id="83" name=""/>
            <p:cNvSpPr/>
            <p:nvPr/>
          </p:nvSpPr>
          <p:spPr>
            <a:xfrm>
              <a:off x="33418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130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925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50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83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1734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187800" y="5424480"/>
            <a:ext cx="709560" cy="588960"/>
            <a:chOff x="3187800" y="5424480"/>
            <a:chExt cx="709560" cy="588960"/>
          </a:xfrm>
        </p:grpSpPr>
        <p:sp>
          <p:nvSpPr>
            <p:cNvPr id="90" name=""/>
            <p:cNvSpPr/>
            <p:nvPr/>
          </p:nvSpPr>
          <p:spPr>
            <a:xfrm>
              <a:off x="33210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25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720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241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78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31924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3994200" y="4545000"/>
            <a:ext cx="744480" cy="618840"/>
            <a:chOff x="3994200" y="4545000"/>
            <a:chExt cx="744480" cy="618840"/>
          </a:xfrm>
        </p:grpSpPr>
        <p:sp>
          <p:nvSpPr>
            <p:cNvPr id="97" name=""/>
            <p:cNvSpPr/>
            <p:nvPr/>
          </p:nvSpPr>
          <p:spPr>
            <a:xfrm>
              <a:off x="41626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338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33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658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291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39942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008600" y="5424480"/>
            <a:ext cx="709560" cy="588960"/>
            <a:chOff x="4008600" y="5424480"/>
            <a:chExt cx="709560" cy="588960"/>
          </a:xfrm>
        </p:grpSpPr>
        <p:sp>
          <p:nvSpPr>
            <p:cNvPr id="104" name=""/>
            <p:cNvSpPr/>
            <p:nvPr/>
          </p:nvSpPr>
          <p:spPr>
            <a:xfrm>
              <a:off x="414180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336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9284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4496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0860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01328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4815000" y="4545000"/>
            <a:ext cx="744480" cy="618840"/>
            <a:chOff x="4815000" y="4545000"/>
            <a:chExt cx="744480" cy="618840"/>
          </a:xfrm>
        </p:grpSpPr>
        <p:sp>
          <p:nvSpPr>
            <p:cNvPr id="111" name=""/>
            <p:cNvSpPr/>
            <p:nvPr/>
          </p:nvSpPr>
          <p:spPr>
            <a:xfrm>
              <a:off x="49834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46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341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66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99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9"/>
            <a:stretch/>
          </p:blipFill>
          <p:spPr>
            <a:xfrm>
              <a:off x="48150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4829040" y="5424480"/>
            <a:ext cx="709560" cy="588960"/>
            <a:chOff x="4829040" y="5424480"/>
            <a:chExt cx="709560" cy="588960"/>
          </a:xfrm>
        </p:grpSpPr>
        <p:sp>
          <p:nvSpPr>
            <p:cNvPr id="118" name=""/>
            <p:cNvSpPr/>
            <p:nvPr/>
          </p:nvSpPr>
          <p:spPr>
            <a:xfrm>
              <a:off x="49622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338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132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54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90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48337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5635800" y="4545000"/>
            <a:ext cx="744480" cy="618840"/>
            <a:chOff x="5635800" y="4545000"/>
            <a:chExt cx="744480" cy="618840"/>
          </a:xfrm>
        </p:grpSpPr>
        <p:sp>
          <p:nvSpPr>
            <p:cNvPr id="125" name=""/>
            <p:cNvSpPr/>
            <p:nvPr/>
          </p:nvSpPr>
          <p:spPr>
            <a:xfrm>
              <a:off x="580428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548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5496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0744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072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563580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5649840" y="5424480"/>
            <a:ext cx="709560" cy="588960"/>
            <a:chOff x="5649840" y="5424480"/>
            <a:chExt cx="709560" cy="588960"/>
          </a:xfrm>
        </p:grpSpPr>
        <p:sp>
          <p:nvSpPr>
            <p:cNvPr id="132" name=""/>
            <p:cNvSpPr/>
            <p:nvPr/>
          </p:nvSpPr>
          <p:spPr>
            <a:xfrm>
              <a:off x="57830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46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862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98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2"/>
            <a:stretch/>
          </p:blipFill>
          <p:spPr>
            <a:xfrm>
              <a:off x="56545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456240" y="4545000"/>
            <a:ext cx="744480" cy="618840"/>
            <a:chOff x="6456240" y="4545000"/>
            <a:chExt cx="744480" cy="618840"/>
          </a:xfrm>
        </p:grpSpPr>
        <p:sp>
          <p:nvSpPr>
            <p:cNvPr id="139" name=""/>
            <p:cNvSpPr/>
            <p:nvPr/>
          </p:nvSpPr>
          <p:spPr>
            <a:xfrm>
              <a:off x="662472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9592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540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2788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9116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645624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6470640" y="5424480"/>
            <a:ext cx="709560" cy="588960"/>
            <a:chOff x="6470640" y="5424480"/>
            <a:chExt cx="709560" cy="588960"/>
          </a:xfrm>
        </p:grpSpPr>
        <p:sp>
          <p:nvSpPr>
            <p:cNvPr id="146" name=""/>
            <p:cNvSpPr/>
            <p:nvPr/>
          </p:nvSpPr>
          <p:spPr>
            <a:xfrm>
              <a:off x="66038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754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48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70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06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4"/>
            <a:stretch/>
          </p:blipFill>
          <p:spPr>
            <a:xfrm>
              <a:off x="64753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277040" y="4545000"/>
            <a:ext cx="744480" cy="618840"/>
            <a:chOff x="7277040" y="4545000"/>
            <a:chExt cx="744480" cy="618840"/>
          </a:xfrm>
        </p:grpSpPr>
        <p:sp>
          <p:nvSpPr>
            <p:cNvPr id="153" name=""/>
            <p:cNvSpPr/>
            <p:nvPr/>
          </p:nvSpPr>
          <p:spPr>
            <a:xfrm>
              <a:off x="744552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1672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9620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868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196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5"/>
            <a:stretch/>
          </p:blipFill>
          <p:spPr>
            <a:xfrm>
              <a:off x="727704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7291440" y="5424480"/>
            <a:ext cx="709560" cy="588960"/>
            <a:chOff x="7291440" y="5424480"/>
            <a:chExt cx="709560" cy="588960"/>
          </a:xfrm>
        </p:grpSpPr>
        <p:sp>
          <p:nvSpPr>
            <p:cNvPr id="160" name=""/>
            <p:cNvSpPr/>
            <p:nvPr/>
          </p:nvSpPr>
          <p:spPr>
            <a:xfrm>
              <a:off x="742464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620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7568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2780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9144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6"/>
            <a:stretch/>
          </p:blipFill>
          <p:spPr>
            <a:xfrm>
              <a:off x="729612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8099280" y="4545000"/>
            <a:ext cx="744480" cy="618840"/>
            <a:chOff x="8099280" y="4545000"/>
            <a:chExt cx="744480" cy="618840"/>
          </a:xfrm>
        </p:grpSpPr>
        <p:sp>
          <p:nvSpPr>
            <p:cNvPr id="167" name=""/>
            <p:cNvSpPr/>
            <p:nvPr/>
          </p:nvSpPr>
          <p:spPr>
            <a:xfrm>
              <a:off x="8267760" y="4545000"/>
              <a:ext cx="57600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38960" y="4606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18440" y="46670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0920" y="472896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34200" y="478944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7"/>
            <a:stretch/>
          </p:blipFill>
          <p:spPr>
            <a:xfrm>
              <a:off x="8099280" y="4849560"/>
              <a:ext cx="57168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8113680" y="5424480"/>
            <a:ext cx="709560" cy="588960"/>
            <a:chOff x="8113680" y="5424480"/>
            <a:chExt cx="709560" cy="588960"/>
          </a:xfrm>
        </p:grpSpPr>
        <p:sp>
          <p:nvSpPr>
            <p:cNvPr id="174" name=""/>
            <p:cNvSpPr/>
            <p:nvPr/>
          </p:nvSpPr>
          <p:spPr>
            <a:xfrm>
              <a:off x="8246880" y="542448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8440" y="548640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97920" y="5546520"/>
              <a:ext cx="57600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0040" y="5608440"/>
              <a:ext cx="57636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13680" y="5668920"/>
              <a:ext cx="57636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8"/>
            <a:stretch/>
          </p:blipFill>
          <p:spPr>
            <a:xfrm>
              <a:off x="8118360" y="5732280"/>
              <a:ext cx="50796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250920" y="2602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E986-8368-4A4A-9A12-6BAB89BACE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. Data analysis process - Step A-2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7080" y="83664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9240" y="5445000"/>
            <a:ext cx="746784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5" descr=""/>
          <p:cNvPicPr/>
          <p:nvPr/>
        </p:nvPicPr>
        <p:blipFill>
          <a:blip r:embed="rId1"/>
          <a:stretch/>
        </p:blipFill>
        <p:spPr>
          <a:xfrm>
            <a:off x="37476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5" descr=""/>
          <p:cNvPicPr/>
          <p:nvPr/>
        </p:nvPicPr>
        <p:blipFill>
          <a:blip r:embed="rId2"/>
          <a:stretch/>
        </p:blipFill>
        <p:spPr>
          <a:xfrm>
            <a:off x="478800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B6D1-BD40-4434-A4E1-AADC14C5D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20500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2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872600" y="58672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2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2924280"/>
            <a:ext cx="144720" cy="503280"/>
          </a:xfrm>
          <a:custGeom>
            <a:avLst/>
            <a:gdLst>
              <a:gd name="textAreaLeft" fmla="*/ 0 w 144720"/>
              <a:gd name="textAreaRight" fmla="*/ 52200 w 14472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F539-B36C-48C4-B8B1-13600716E8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216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he each short trip data including the previous idling portion into new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/Middle/Hi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origi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rban/Rural/Motorwa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tegories with the compensated WF (w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: maximum vehicle speed of each short tr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905120" y="3638520"/>
          <a:ext cx="5040360" cy="2016000"/>
        </p:xfrm>
        <a:graphic>
          <a:graphicData uri="http://schemas.openxmlformats.org/drawingml/2006/table">
            <a:tbl>
              <a:tblPr/>
              <a:tblGrid>
                <a:gridCol w="1871640"/>
                <a:gridCol w="3168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speed of each 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 40* km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* ~ 80* km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* km/h ~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95280" y="3124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Crite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43280" y="56484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) the specific vehicle speed subject to change based on the collected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B86E-3295-49B2-AC9D-06A99E939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Data analysis process 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C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000" y="100476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95280" y="12207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0040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5280" y="33080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3876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5280" y="5325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6405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5280" y="1987560"/>
            <a:ext cx="576360" cy="312840"/>
            <a:chOff x="395280" y="1987560"/>
            <a:chExt cx="576360" cy="312840"/>
          </a:xfrm>
        </p:grpSpPr>
        <p:sp>
          <p:nvSpPr>
            <p:cNvPr id="247" name=""/>
            <p:cNvSpPr/>
            <p:nvPr/>
          </p:nvSpPr>
          <p:spPr>
            <a:xfrm>
              <a:off x="395280" y="23004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2560" y="19875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5280" y="4235400"/>
            <a:ext cx="576360" cy="150840"/>
            <a:chOff x="395280" y="4235400"/>
            <a:chExt cx="576360" cy="150840"/>
          </a:xfrm>
        </p:grpSpPr>
        <p:sp>
          <p:nvSpPr>
            <p:cNvPr id="250" name=""/>
            <p:cNvSpPr/>
            <p:nvPr/>
          </p:nvSpPr>
          <p:spPr>
            <a:xfrm>
              <a:off x="395280" y="438624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2560" y="423540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63880" y="4226040"/>
            <a:ext cx="431280" cy="153720"/>
            <a:chOff x="2963880" y="4226040"/>
            <a:chExt cx="431280" cy="153720"/>
          </a:xfrm>
        </p:grpSpPr>
        <p:sp>
          <p:nvSpPr>
            <p:cNvPr id="253" name=""/>
            <p:cNvSpPr/>
            <p:nvPr/>
          </p:nvSpPr>
          <p:spPr>
            <a:xfrm>
              <a:off x="2963880" y="4379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6440" y="4226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643120" y="2112840"/>
            <a:ext cx="576360" cy="183960"/>
            <a:chOff x="2643120" y="2112840"/>
            <a:chExt cx="576360" cy="183960"/>
          </a:xfrm>
        </p:grpSpPr>
        <p:sp>
          <p:nvSpPr>
            <p:cNvPr id="256" name=""/>
            <p:cNvSpPr/>
            <p:nvPr/>
          </p:nvSpPr>
          <p:spPr>
            <a:xfrm>
              <a:off x="2643120" y="229680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87480" y="211284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71640" y="2075040"/>
            <a:ext cx="696960" cy="234720"/>
            <a:chOff x="971640" y="2075040"/>
            <a:chExt cx="696960" cy="234720"/>
          </a:xfrm>
        </p:grpSpPr>
        <p:sp>
          <p:nvSpPr>
            <p:cNvPr id="259" name=""/>
            <p:cNvSpPr/>
            <p:nvPr/>
          </p:nvSpPr>
          <p:spPr>
            <a:xfrm>
              <a:off x="971640" y="229716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8720" y="2075040"/>
              <a:ext cx="569880" cy="23472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79640" y="3995640"/>
            <a:ext cx="1000080" cy="393840"/>
            <a:chOff x="1979640" y="3995640"/>
            <a:chExt cx="1000080" cy="393840"/>
          </a:xfrm>
        </p:grpSpPr>
        <p:sp>
          <p:nvSpPr>
            <p:cNvPr id="262" name=""/>
            <p:cNvSpPr/>
            <p:nvPr/>
          </p:nvSpPr>
          <p:spPr>
            <a:xfrm>
              <a:off x="1979640" y="43894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399564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638360" y="1949400"/>
            <a:ext cx="1000080" cy="345960"/>
            <a:chOff x="1638360" y="1949400"/>
            <a:chExt cx="1000080" cy="345960"/>
          </a:xfrm>
        </p:grpSpPr>
        <p:sp>
          <p:nvSpPr>
            <p:cNvPr id="265" name=""/>
            <p:cNvSpPr/>
            <p:nvPr/>
          </p:nvSpPr>
          <p:spPr>
            <a:xfrm>
              <a:off x="1638360" y="22953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64000" y="19494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61920" y="3976560"/>
            <a:ext cx="1000080" cy="412560"/>
            <a:chOff x="961920" y="3976560"/>
            <a:chExt cx="1000080" cy="412560"/>
          </a:xfrm>
        </p:grpSpPr>
        <p:sp>
          <p:nvSpPr>
            <p:cNvPr id="268" name=""/>
            <p:cNvSpPr/>
            <p:nvPr/>
          </p:nvSpPr>
          <p:spPr>
            <a:xfrm>
              <a:off x="961920" y="438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7200" y="397656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92040" y="6002280"/>
            <a:ext cx="1000080" cy="401400"/>
            <a:chOff x="392040" y="6002280"/>
            <a:chExt cx="1000080" cy="401400"/>
          </a:xfrm>
        </p:grpSpPr>
        <p:sp>
          <p:nvSpPr>
            <p:cNvPr id="271" name=""/>
            <p:cNvSpPr/>
            <p:nvPr/>
          </p:nvSpPr>
          <p:spPr>
            <a:xfrm>
              <a:off x="392040" y="6403680"/>
              <a:ext cx="14256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320" y="6002280"/>
              <a:ext cx="874800" cy="398160"/>
            </a:xfrm>
            <a:custGeom>
              <a:avLst/>
              <a:gdLst/>
              <a:ahLst/>
              <a:rect l="l" t="t" r="r" b="b"/>
              <a:pathLst>
                <a:path w="551" h="251">
                  <a:moveTo>
                    <a:pt x="0" y="251"/>
                  </a:moveTo>
                  <a:cubicBezTo>
                    <a:pt x="12" y="239"/>
                    <a:pt x="38" y="213"/>
                    <a:pt x="72" y="178"/>
                  </a:cubicBezTo>
                  <a:cubicBezTo>
                    <a:pt x="106" y="143"/>
                    <a:pt x="162" y="63"/>
                    <a:pt x="204" y="38"/>
                  </a:cubicBezTo>
                  <a:cubicBezTo>
                    <a:pt x="246" y="13"/>
                    <a:pt x="284" y="0"/>
                    <a:pt x="324" y="26"/>
                  </a:cubicBezTo>
                  <a:cubicBezTo>
                    <a:pt x="364" y="52"/>
                    <a:pt x="412" y="169"/>
                    <a:pt x="444" y="194"/>
                  </a:cubicBezTo>
                  <a:cubicBezTo>
                    <a:pt x="476" y="219"/>
                    <a:pt x="498" y="167"/>
                    <a:pt x="516" y="176"/>
                  </a:cubicBezTo>
                  <a:cubicBezTo>
                    <a:pt x="534" y="185"/>
                    <a:pt x="544" y="232"/>
                    <a:pt x="551" y="246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97160" y="5684760"/>
            <a:ext cx="2019240" cy="725400"/>
            <a:chOff x="1397160" y="5684760"/>
            <a:chExt cx="2019240" cy="725400"/>
          </a:xfrm>
        </p:grpSpPr>
        <p:sp>
          <p:nvSpPr>
            <p:cNvPr id="274" name=""/>
            <p:cNvSpPr/>
            <p:nvPr/>
          </p:nvSpPr>
          <p:spPr>
            <a:xfrm>
              <a:off x="1397160" y="63943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2440" y="5684760"/>
              <a:ext cx="189396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8000" y="309240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5108400"/>
            <a:ext cx="381636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2300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-401040" y="1658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3876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-401400" y="37458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76360" y="6394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-401400" y="57524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592520" y="765000"/>
            <a:ext cx="576360" cy="312840"/>
            <a:chOff x="4592520" y="765000"/>
            <a:chExt cx="576360" cy="312840"/>
          </a:xfrm>
        </p:grpSpPr>
        <p:sp>
          <p:nvSpPr>
            <p:cNvPr id="285" name=""/>
            <p:cNvSpPr/>
            <p:nvPr/>
          </p:nvSpPr>
          <p:spPr>
            <a:xfrm>
              <a:off x="4592520" y="107784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79800" y="76500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92520" y="1332000"/>
            <a:ext cx="696960" cy="234720"/>
            <a:chOff x="4592520" y="1332000"/>
            <a:chExt cx="696960" cy="234720"/>
          </a:xfrm>
        </p:grpSpPr>
        <p:sp>
          <p:nvSpPr>
            <p:cNvPr id="288" name=""/>
            <p:cNvSpPr/>
            <p:nvPr/>
          </p:nvSpPr>
          <p:spPr>
            <a:xfrm>
              <a:off x="4592520" y="155412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19600" y="1332000"/>
              <a:ext cx="569880" cy="23472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92520" y="1820880"/>
            <a:ext cx="1000080" cy="345960"/>
            <a:chOff x="4592520" y="1820880"/>
            <a:chExt cx="1000080" cy="345960"/>
          </a:xfrm>
        </p:grpSpPr>
        <p:sp>
          <p:nvSpPr>
            <p:cNvPr id="291" name=""/>
            <p:cNvSpPr/>
            <p:nvPr/>
          </p:nvSpPr>
          <p:spPr>
            <a:xfrm>
              <a:off x="4592520" y="216684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8160" y="182088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92520" y="2421000"/>
            <a:ext cx="576360" cy="183960"/>
            <a:chOff x="4592520" y="2421000"/>
            <a:chExt cx="576360" cy="183960"/>
          </a:xfrm>
        </p:grpSpPr>
        <p:sp>
          <p:nvSpPr>
            <p:cNvPr id="294" name=""/>
            <p:cNvSpPr/>
            <p:nvPr/>
          </p:nvSpPr>
          <p:spPr>
            <a:xfrm>
              <a:off x="4592520" y="26049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36880" y="24210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2520" y="2949480"/>
            <a:ext cx="576360" cy="150840"/>
            <a:chOff x="4592520" y="2949480"/>
            <a:chExt cx="576360" cy="150840"/>
          </a:xfrm>
        </p:grpSpPr>
        <p:sp>
          <p:nvSpPr>
            <p:cNvPr id="297" name=""/>
            <p:cNvSpPr/>
            <p:nvPr/>
          </p:nvSpPr>
          <p:spPr>
            <a:xfrm>
              <a:off x="4592520" y="31003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9800" y="29494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592520" y="3303720"/>
            <a:ext cx="1000080" cy="412560"/>
            <a:chOff x="4592520" y="3303720"/>
            <a:chExt cx="1000080" cy="412560"/>
          </a:xfrm>
        </p:grpSpPr>
        <p:sp>
          <p:nvSpPr>
            <p:cNvPr id="300" name=""/>
            <p:cNvSpPr/>
            <p:nvPr/>
          </p:nvSpPr>
          <p:spPr>
            <a:xfrm>
              <a:off x="4592520" y="3716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17800" y="330372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592520" y="4014720"/>
            <a:ext cx="1000080" cy="393840"/>
            <a:chOff x="4592520" y="4014720"/>
            <a:chExt cx="1000080" cy="393840"/>
          </a:xfrm>
        </p:grpSpPr>
        <p:sp>
          <p:nvSpPr>
            <p:cNvPr id="303" name=""/>
            <p:cNvSpPr/>
            <p:nvPr/>
          </p:nvSpPr>
          <p:spPr>
            <a:xfrm>
              <a:off x="4592520" y="44085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7800" y="401472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592520" y="4691160"/>
            <a:ext cx="432000" cy="153720"/>
            <a:chOff x="4592520" y="4691160"/>
            <a:chExt cx="432000" cy="153720"/>
          </a:xfrm>
        </p:grpSpPr>
        <p:sp>
          <p:nvSpPr>
            <p:cNvPr id="306" name=""/>
            <p:cNvSpPr/>
            <p:nvPr/>
          </p:nvSpPr>
          <p:spPr>
            <a:xfrm>
              <a:off x="4592520" y="4844880"/>
              <a:ext cx="14292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35440" y="4691160"/>
              <a:ext cx="28908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92520" y="5156280"/>
            <a:ext cx="1000080" cy="401400"/>
            <a:chOff x="4592520" y="5156280"/>
            <a:chExt cx="1000080" cy="401400"/>
          </a:xfrm>
        </p:grpSpPr>
        <p:sp>
          <p:nvSpPr>
            <p:cNvPr id="309" name=""/>
            <p:cNvSpPr/>
            <p:nvPr/>
          </p:nvSpPr>
          <p:spPr>
            <a:xfrm>
              <a:off x="4592520" y="5557680"/>
              <a:ext cx="14256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7800" y="5156280"/>
              <a:ext cx="874800" cy="398160"/>
            </a:xfrm>
            <a:custGeom>
              <a:avLst/>
              <a:gdLst/>
              <a:ahLst/>
              <a:rect l="l" t="t" r="r" b="b"/>
              <a:pathLst>
                <a:path w="551" h="251">
                  <a:moveTo>
                    <a:pt x="0" y="251"/>
                  </a:moveTo>
                  <a:cubicBezTo>
                    <a:pt x="12" y="239"/>
                    <a:pt x="38" y="213"/>
                    <a:pt x="72" y="178"/>
                  </a:cubicBezTo>
                  <a:cubicBezTo>
                    <a:pt x="106" y="143"/>
                    <a:pt x="162" y="63"/>
                    <a:pt x="204" y="38"/>
                  </a:cubicBezTo>
                  <a:cubicBezTo>
                    <a:pt x="246" y="13"/>
                    <a:pt x="284" y="0"/>
                    <a:pt x="324" y="26"/>
                  </a:cubicBezTo>
                  <a:cubicBezTo>
                    <a:pt x="364" y="52"/>
                    <a:pt x="412" y="169"/>
                    <a:pt x="444" y="194"/>
                  </a:cubicBezTo>
                  <a:cubicBezTo>
                    <a:pt x="476" y="219"/>
                    <a:pt x="498" y="167"/>
                    <a:pt x="516" y="176"/>
                  </a:cubicBezTo>
                  <a:cubicBezTo>
                    <a:pt x="534" y="185"/>
                    <a:pt x="544" y="232"/>
                    <a:pt x="551" y="246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592520" y="5780160"/>
            <a:ext cx="2019240" cy="725400"/>
            <a:chOff x="4592520" y="5780160"/>
            <a:chExt cx="2019240" cy="725400"/>
          </a:xfrm>
        </p:grpSpPr>
        <p:sp>
          <p:nvSpPr>
            <p:cNvPr id="312" name=""/>
            <p:cNvSpPr/>
            <p:nvPr/>
          </p:nvSpPr>
          <p:spPr>
            <a:xfrm>
              <a:off x="4592520" y="64897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7800" y="5780160"/>
              <a:ext cx="189396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924360" y="765000"/>
            <a:ext cx="504720" cy="19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2852640"/>
            <a:ext cx="504720" cy="1943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5084640"/>
            <a:ext cx="504720" cy="1511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9080" y="692280"/>
            <a:ext cx="863640" cy="43308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29080" y="1211400"/>
            <a:ext cx="936720" cy="43308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9080" y="1771560"/>
            <a:ext cx="1295280" cy="43344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29080" y="2276640"/>
            <a:ext cx="863640" cy="43164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9080" y="2805120"/>
            <a:ext cx="863640" cy="3603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9080" y="3255840"/>
            <a:ext cx="1295280" cy="5763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9080" y="3908520"/>
            <a:ext cx="1295280" cy="57600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29080" y="4546440"/>
            <a:ext cx="720720" cy="3603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5084640"/>
            <a:ext cx="1295280" cy="5763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080" y="5734080"/>
            <a:ext cx="2376360" cy="792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1125360"/>
            <a:ext cx="14396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3068640"/>
            <a:ext cx="143964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iddle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6360" y="5157720"/>
            <a:ext cx="1439640" cy="1191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gh spe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16720" y="907920"/>
            <a:ext cx="1008000" cy="7923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16720" y="1557360"/>
            <a:ext cx="1008000" cy="142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16720" y="1773360"/>
            <a:ext cx="934920" cy="792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516720" y="1844280"/>
            <a:ext cx="934920" cy="2879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1989000"/>
            <a:ext cx="1008000" cy="1584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16720" y="3645000"/>
            <a:ext cx="934920" cy="71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88000" y="3860280"/>
            <a:ext cx="863640" cy="289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88000" y="4005000"/>
            <a:ext cx="936720" cy="1368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948360" y="5949720"/>
            <a:ext cx="503280" cy="215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69228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– ON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2781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– Off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 - Week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69228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24360" y="119700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4360" y="177336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4360" y="227664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24360" y="273852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24360" y="342900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4360" y="450864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L,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24360" y="515772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83280" y="5734080"/>
            <a:ext cx="8650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H,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24360" y="4005360"/>
            <a:ext cx="865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,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U,PC,OF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D982-4B2C-44C8-B2C8-ECFE23A15A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（修正版）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-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process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ep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857160"/>
            <a:ext cx="8642160" cy="574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e collected data was converted into new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ew weighting factor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re calculated as follows.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is process will be done in each data collection 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hen, move 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2.2.3. Test Cycle Development - Step3 – in WLTP-DHC-02-04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ith slight mod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311560" y="2057400"/>
                <a:ext cx="4421160" cy="25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C31-39BA-462A-B605-3C3CA654C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1:13:19Z</dcterms:created>
  <dc:creator>JARI</dc:creator>
  <dc:description/>
  <dc:language>en-US</dc:language>
  <cp:lastModifiedBy>NICK</cp:lastModifiedBy>
  <dcterms:modified xsi:type="dcterms:W3CDTF">2010-03-20T14:24:19Z</dcterms:modified>
  <cp:revision>49</cp:revision>
  <dc:subject/>
  <dc:title>Methodology to convert Low/Middle/High ph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80811074</vt:r8>
  </property>
  <property fmtid="{D5CDD505-2E9C-101B-9397-08002B2CF9AE}" pid="3" name="_AuthorEmail">
    <vt:lpwstr>Craig.Mills@dft.gsi.gov.uk</vt:lpwstr>
  </property>
  <property fmtid="{D5CDD505-2E9C-101B-9397-08002B2CF9AE}" pid="4" name="_AuthorEmailDisplayName">
    <vt:lpwstr>Craig Mills</vt:lpwstr>
  </property>
  <property fmtid="{D5CDD505-2E9C-101B-9397-08002B2CF9AE}" pid="5" name="_EmailSubject">
    <vt:lpwstr>Papers for 3rd DHC meeting</vt:lpwstr>
  </property>
  <property fmtid="{D5CDD505-2E9C-101B-9397-08002B2CF9AE}" pid="6" name="_NewReviewCycle">
    <vt:lpwstr/>
  </property>
</Properties>
</file>