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CC7EF-2C93-4CE1-8468-D1814ECB5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408B1-5C97-4513-9BDD-4FF496235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54EDC-EBB4-4059-A174-8E828DC4D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408B2-3DFF-48CA-9EFE-A9850852D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7324C-B44D-4FBE-8806-9FC8482B0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32AF0-21E6-4B7D-8166-3442DDF91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6AE1A-6BA0-4002-A14F-FF47FB170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E4CED-08A0-478B-A292-3CFD73688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275B2-F552-400E-8134-5E8BE82D8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BB7C-7716-494B-AAA8-A5AECA493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72ED0-394B-41D8-A7BE-D3CB7F9D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81D0-7A5D-4EB9-A4EB-469867446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18E1-7309-4AF7-8FCB-F2C794F208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LTP Strawman Proposal for DHC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States Delegati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PE meeting in Geneva</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15, 2010</a:t>
            </a:r>
            <a:endParaRPr b="0" lang="en-US" sz="2800" spc="-1" strike="noStrike">
              <a:solidFill>
                <a:srgbClr val="000000"/>
              </a:solidFill>
              <a:latin typeface="Arial"/>
            </a:endParaRPr>
          </a:p>
        </p:txBody>
      </p:sp>
      <p:sp>
        <p:nvSpPr>
          <p:cNvPr id="43" name=""/>
          <p:cNvSpPr/>
          <p:nvPr/>
        </p:nvSpPr>
        <p:spPr>
          <a:xfrm>
            <a:off x="6629400" y="228600"/>
            <a:ext cx="2286000" cy="380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LTP-DHC-02-1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deas for DHC</a:t>
            </a: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e that harmonization is the goal</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is the concern averaging and combining disparate driving traces from different nations (and road types) could be problematic for some contracting parties</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concern with averaging “apples with oranges”</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ly separate similar driving patterns from different countries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N “</a:t>
            </a:r>
            <a:r>
              <a:rPr b="0" i="1" lang="en-US" sz="2400" spc="-1" strike="noStrike">
                <a:solidFill>
                  <a:srgbClr val="000000"/>
                </a:solidFill>
                <a:latin typeface="Arial"/>
              </a:rPr>
              <a:t>phases</a:t>
            </a:r>
            <a:r>
              <a:rPr b="0" lang="en-US" sz="2400" spc="-1" strike="noStrike">
                <a:solidFill>
                  <a:srgbClr val="000000"/>
                </a:solidFill>
                <a:latin typeface="Arial"/>
              </a:rPr>
              <a:t>” (or “</a:t>
            </a:r>
            <a:r>
              <a:rPr b="0" i="1" lang="en-US" sz="2400" spc="-1" strike="noStrike">
                <a:solidFill>
                  <a:srgbClr val="000000"/>
                </a:solidFill>
                <a:latin typeface="Arial"/>
              </a:rPr>
              <a:t>bags</a:t>
            </a:r>
            <a:r>
              <a:rPr b="0" lang="en-US" sz="2400" spc="-1" strike="noStrike">
                <a:solidFill>
                  <a:srgbClr val="000000"/>
                </a:solidFill>
                <a:latin typeface="Arial"/>
              </a:rPr>
              <a:t>”) of driving that captures these differenc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nation could average the N Phases, using weights appropriate for their reg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Separate similar driving patterns from different countries </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nceivable that peak driving in one country or region could be statistically similar to off-peak driving in an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also turn out that (Similarly,) “urban” driving in one city could be similar to “rural” driving in an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osal is to do a statistical analysis of the data before it is “</a:t>
            </a:r>
            <a:r>
              <a:rPr b="0" i="1" lang="en-US" sz="2800" spc="-1" strike="noStrike">
                <a:solidFill>
                  <a:srgbClr val="000000"/>
                </a:solidFill>
                <a:latin typeface="Arial"/>
              </a:rPr>
              <a:t>classified</a:t>
            </a:r>
            <a:r>
              <a:rPr b="0" lang="en-US" sz="2800" spc="-1" strike="noStrike">
                <a:solidFill>
                  <a:srgbClr val="000000"/>
                </a:solidFill>
                <a:latin typeface="Arial"/>
              </a:rPr>
              <a:t>” or “</a:t>
            </a:r>
            <a:r>
              <a:rPr b="0" i="1" lang="en-US" sz="2800" spc="-1" strike="noStrike">
                <a:solidFill>
                  <a:srgbClr val="000000"/>
                </a:solidFill>
                <a:latin typeface="Arial"/>
              </a:rPr>
              <a:t>binned</a:t>
            </a:r>
            <a:r>
              <a:rPr b="0" lang="en-US" sz="2800" spc="-1" strike="noStrike">
                <a:solidFill>
                  <a:srgbClr val="000000"/>
                </a:solidFill>
                <a:latin typeface="Arial"/>
              </a:rPr>
              <a:t>” and combin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nalysis would look for patterns of similar driving around the world and group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ilarit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ing parties would submit second-by-second driving data by certain criteri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k vs off pea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s arterial vs motorway (other road typ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tatistically for differenc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Square test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to histograms (one-way, two-way, etc.)</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too sensitiv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mogorov-Smirnov?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to cumulative frequency distribution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way, two-way</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1" name="PlaceHolder 2"/>
          <p:cNvSpPr>
            <a:spLocks noGrp="1"/>
          </p:cNvSpPr>
          <p:nvPr>
            <p:ph/>
          </p:nvPr>
        </p:nvSpPr>
        <p:spPr>
          <a:xfrm>
            <a:off x="1523520" y="1828440"/>
            <a:ext cx="297180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 rural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urban off peak …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urban pea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urban off-peak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3</a:t>
            </a:r>
            <a:endParaRPr b="0" lang="en-US" sz="2800" spc="-1" strike="noStrike">
              <a:solidFill>
                <a:srgbClr val="000000"/>
              </a:solidFill>
              <a:latin typeface="Arial"/>
            </a:endParaRPr>
          </a:p>
        </p:txBody>
      </p:sp>
      <p:grpSp>
        <p:nvGrpSpPr>
          <p:cNvPr id="53" name=""/>
          <p:cNvGrpSpPr/>
          <p:nvPr/>
        </p:nvGrpSpPr>
        <p:grpSpPr>
          <a:xfrm>
            <a:off x="685800" y="1905120"/>
            <a:ext cx="684360" cy="457200"/>
            <a:chOff x="685800" y="1905120"/>
            <a:chExt cx="684360" cy="457200"/>
          </a:xfrm>
        </p:grpSpPr>
        <p:sp>
          <p:nvSpPr>
            <p:cNvPr id="54" name=""/>
            <p:cNvSpPr/>
            <p:nvPr/>
          </p:nvSpPr>
          <p:spPr>
            <a:xfrm>
              <a:off x="685800" y="1905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5800" y="2362320"/>
              <a:ext cx="6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22880" y="2056320"/>
              <a:ext cx="615600" cy="302760"/>
            </a:xfrm>
            <a:custGeom>
              <a:avLst/>
              <a:gdLst/>
              <a:ahLst/>
              <a:rect l="l" t="t" r="r" b="b"/>
              <a:pathLst>
                <a:path w="972" h="478">
                  <a:moveTo>
                    <a:pt x="0" y="478"/>
                  </a:moveTo>
                  <a:cubicBezTo>
                    <a:pt x="11" y="462"/>
                    <a:pt x="36" y="451"/>
                    <a:pt x="51" y="436"/>
                  </a:cubicBezTo>
                  <a:cubicBezTo>
                    <a:pt x="67" y="387"/>
                    <a:pt x="98" y="349"/>
                    <a:pt x="123" y="304"/>
                  </a:cubicBezTo>
                  <a:cubicBezTo>
                    <a:pt x="146" y="263"/>
                    <a:pt x="163" y="217"/>
                    <a:pt x="189" y="178"/>
                  </a:cubicBezTo>
                  <a:cubicBezTo>
                    <a:pt x="193" y="159"/>
                    <a:pt x="202" y="142"/>
                    <a:pt x="210" y="124"/>
                  </a:cubicBezTo>
                  <a:cubicBezTo>
                    <a:pt x="214" y="115"/>
                    <a:pt x="225" y="97"/>
                    <a:pt x="225" y="97"/>
                  </a:cubicBezTo>
                  <a:cubicBezTo>
                    <a:pt x="231" y="71"/>
                    <a:pt x="257" y="29"/>
                    <a:pt x="276" y="10"/>
                  </a:cubicBezTo>
                  <a:cubicBezTo>
                    <a:pt x="277" y="7"/>
                    <a:pt x="276" y="1"/>
                    <a:pt x="279" y="1"/>
                  </a:cubicBezTo>
                  <a:cubicBezTo>
                    <a:pt x="285" y="0"/>
                    <a:pt x="297" y="7"/>
                    <a:pt x="297" y="7"/>
                  </a:cubicBezTo>
                  <a:cubicBezTo>
                    <a:pt x="303" y="16"/>
                    <a:pt x="309" y="25"/>
                    <a:pt x="315" y="34"/>
                  </a:cubicBezTo>
                  <a:cubicBezTo>
                    <a:pt x="319" y="39"/>
                    <a:pt x="321" y="52"/>
                    <a:pt x="321" y="52"/>
                  </a:cubicBezTo>
                  <a:cubicBezTo>
                    <a:pt x="322" y="60"/>
                    <a:pt x="323" y="68"/>
                    <a:pt x="324" y="76"/>
                  </a:cubicBezTo>
                  <a:cubicBezTo>
                    <a:pt x="325" y="79"/>
                    <a:pt x="324" y="87"/>
                    <a:pt x="327" y="85"/>
                  </a:cubicBezTo>
                  <a:cubicBezTo>
                    <a:pt x="350" y="71"/>
                    <a:pt x="328" y="68"/>
                    <a:pt x="357" y="58"/>
                  </a:cubicBezTo>
                  <a:cubicBezTo>
                    <a:pt x="358" y="62"/>
                    <a:pt x="358" y="66"/>
                    <a:pt x="360" y="70"/>
                  </a:cubicBezTo>
                  <a:cubicBezTo>
                    <a:pt x="361" y="73"/>
                    <a:pt x="365" y="76"/>
                    <a:pt x="366" y="79"/>
                  </a:cubicBezTo>
                  <a:cubicBezTo>
                    <a:pt x="375" y="107"/>
                    <a:pt x="377" y="136"/>
                    <a:pt x="390" y="163"/>
                  </a:cubicBezTo>
                  <a:cubicBezTo>
                    <a:pt x="396" y="176"/>
                    <a:pt x="399" y="188"/>
                    <a:pt x="411" y="196"/>
                  </a:cubicBezTo>
                  <a:cubicBezTo>
                    <a:pt x="415" y="207"/>
                    <a:pt x="422" y="210"/>
                    <a:pt x="429" y="220"/>
                  </a:cubicBezTo>
                  <a:cubicBezTo>
                    <a:pt x="433" y="248"/>
                    <a:pt x="440" y="289"/>
                    <a:pt x="456" y="313"/>
                  </a:cubicBezTo>
                  <a:cubicBezTo>
                    <a:pt x="461" y="331"/>
                    <a:pt x="458" y="321"/>
                    <a:pt x="465" y="343"/>
                  </a:cubicBezTo>
                  <a:cubicBezTo>
                    <a:pt x="467" y="349"/>
                    <a:pt x="471" y="361"/>
                    <a:pt x="471" y="361"/>
                  </a:cubicBezTo>
                  <a:cubicBezTo>
                    <a:pt x="474" y="384"/>
                    <a:pt x="476" y="402"/>
                    <a:pt x="495" y="415"/>
                  </a:cubicBezTo>
                  <a:cubicBezTo>
                    <a:pt x="500" y="429"/>
                    <a:pt x="512" y="438"/>
                    <a:pt x="516" y="451"/>
                  </a:cubicBezTo>
                  <a:cubicBezTo>
                    <a:pt x="518" y="457"/>
                    <a:pt x="516" y="467"/>
                    <a:pt x="522" y="469"/>
                  </a:cubicBezTo>
                  <a:cubicBezTo>
                    <a:pt x="528" y="471"/>
                    <a:pt x="540" y="475"/>
                    <a:pt x="540" y="475"/>
                  </a:cubicBezTo>
                  <a:cubicBezTo>
                    <a:pt x="555" y="471"/>
                    <a:pt x="570" y="471"/>
                    <a:pt x="585" y="466"/>
                  </a:cubicBezTo>
                  <a:cubicBezTo>
                    <a:pt x="589" y="451"/>
                    <a:pt x="592" y="436"/>
                    <a:pt x="597" y="421"/>
                  </a:cubicBezTo>
                  <a:cubicBezTo>
                    <a:pt x="603" y="404"/>
                    <a:pt x="599" y="384"/>
                    <a:pt x="606" y="367"/>
                  </a:cubicBezTo>
                  <a:cubicBezTo>
                    <a:pt x="611" y="355"/>
                    <a:pt x="620" y="342"/>
                    <a:pt x="627" y="331"/>
                  </a:cubicBezTo>
                  <a:cubicBezTo>
                    <a:pt x="629" y="328"/>
                    <a:pt x="633" y="322"/>
                    <a:pt x="633" y="322"/>
                  </a:cubicBezTo>
                  <a:cubicBezTo>
                    <a:pt x="654" y="336"/>
                    <a:pt x="644" y="368"/>
                    <a:pt x="669" y="376"/>
                  </a:cubicBezTo>
                  <a:cubicBezTo>
                    <a:pt x="701" y="344"/>
                    <a:pt x="684" y="271"/>
                    <a:pt x="720" y="247"/>
                  </a:cubicBezTo>
                  <a:cubicBezTo>
                    <a:pt x="736" y="252"/>
                    <a:pt x="735" y="273"/>
                    <a:pt x="744" y="286"/>
                  </a:cubicBezTo>
                  <a:cubicBezTo>
                    <a:pt x="750" y="322"/>
                    <a:pt x="748" y="360"/>
                    <a:pt x="759" y="394"/>
                  </a:cubicBezTo>
                  <a:cubicBezTo>
                    <a:pt x="775" y="391"/>
                    <a:pt x="778" y="384"/>
                    <a:pt x="792" y="379"/>
                  </a:cubicBezTo>
                  <a:cubicBezTo>
                    <a:pt x="799" y="406"/>
                    <a:pt x="790" y="429"/>
                    <a:pt x="819" y="439"/>
                  </a:cubicBezTo>
                  <a:cubicBezTo>
                    <a:pt x="831" y="451"/>
                    <a:pt x="845" y="470"/>
                    <a:pt x="861" y="475"/>
                  </a:cubicBezTo>
                  <a:cubicBezTo>
                    <a:pt x="882" y="470"/>
                    <a:pt x="873" y="456"/>
                    <a:pt x="882" y="439"/>
                  </a:cubicBezTo>
                  <a:cubicBezTo>
                    <a:pt x="889" y="425"/>
                    <a:pt x="897" y="413"/>
                    <a:pt x="906" y="400"/>
                  </a:cubicBezTo>
                  <a:cubicBezTo>
                    <a:pt x="909" y="387"/>
                    <a:pt x="908" y="380"/>
                    <a:pt x="921" y="376"/>
                  </a:cubicBezTo>
                  <a:cubicBezTo>
                    <a:pt x="929" y="389"/>
                    <a:pt x="934" y="403"/>
                    <a:pt x="942" y="415"/>
                  </a:cubicBezTo>
                  <a:cubicBezTo>
                    <a:pt x="936" y="432"/>
                    <a:pt x="955" y="467"/>
                    <a:pt x="972" y="47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 name=""/>
          <p:cNvGrpSpPr/>
          <p:nvPr/>
        </p:nvGrpSpPr>
        <p:grpSpPr>
          <a:xfrm>
            <a:off x="685800" y="2590920"/>
            <a:ext cx="684360" cy="457200"/>
            <a:chOff x="685800" y="2590920"/>
            <a:chExt cx="684360" cy="457200"/>
          </a:xfrm>
        </p:grpSpPr>
        <p:sp>
          <p:nvSpPr>
            <p:cNvPr id="58" name=""/>
            <p:cNvSpPr/>
            <p:nvPr/>
          </p:nvSpPr>
          <p:spPr>
            <a:xfrm>
              <a:off x="685800" y="2590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85800" y="3048120"/>
              <a:ext cx="6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22880" y="2742120"/>
              <a:ext cx="615600" cy="302760"/>
            </a:xfrm>
            <a:custGeom>
              <a:avLst/>
              <a:gdLst/>
              <a:ahLst/>
              <a:rect l="l" t="t" r="r" b="b"/>
              <a:pathLst>
                <a:path w="972" h="478">
                  <a:moveTo>
                    <a:pt x="0" y="478"/>
                  </a:moveTo>
                  <a:cubicBezTo>
                    <a:pt x="11" y="462"/>
                    <a:pt x="36" y="451"/>
                    <a:pt x="51" y="436"/>
                  </a:cubicBezTo>
                  <a:cubicBezTo>
                    <a:pt x="67" y="387"/>
                    <a:pt x="98" y="349"/>
                    <a:pt x="123" y="304"/>
                  </a:cubicBezTo>
                  <a:cubicBezTo>
                    <a:pt x="146" y="263"/>
                    <a:pt x="163" y="217"/>
                    <a:pt x="189" y="178"/>
                  </a:cubicBezTo>
                  <a:cubicBezTo>
                    <a:pt x="193" y="159"/>
                    <a:pt x="202" y="142"/>
                    <a:pt x="210" y="124"/>
                  </a:cubicBezTo>
                  <a:cubicBezTo>
                    <a:pt x="214" y="115"/>
                    <a:pt x="225" y="97"/>
                    <a:pt x="225" y="97"/>
                  </a:cubicBezTo>
                  <a:cubicBezTo>
                    <a:pt x="231" y="71"/>
                    <a:pt x="257" y="29"/>
                    <a:pt x="276" y="10"/>
                  </a:cubicBezTo>
                  <a:cubicBezTo>
                    <a:pt x="277" y="7"/>
                    <a:pt x="276" y="1"/>
                    <a:pt x="279" y="1"/>
                  </a:cubicBezTo>
                  <a:cubicBezTo>
                    <a:pt x="285" y="0"/>
                    <a:pt x="297" y="7"/>
                    <a:pt x="297" y="7"/>
                  </a:cubicBezTo>
                  <a:cubicBezTo>
                    <a:pt x="303" y="16"/>
                    <a:pt x="309" y="25"/>
                    <a:pt x="315" y="34"/>
                  </a:cubicBezTo>
                  <a:cubicBezTo>
                    <a:pt x="319" y="39"/>
                    <a:pt x="321" y="52"/>
                    <a:pt x="321" y="52"/>
                  </a:cubicBezTo>
                  <a:cubicBezTo>
                    <a:pt x="322" y="60"/>
                    <a:pt x="323" y="68"/>
                    <a:pt x="324" y="76"/>
                  </a:cubicBezTo>
                  <a:cubicBezTo>
                    <a:pt x="325" y="79"/>
                    <a:pt x="324" y="87"/>
                    <a:pt x="327" y="85"/>
                  </a:cubicBezTo>
                  <a:cubicBezTo>
                    <a:pt x="350" y="71"/>
                    <a:pt x="328" y="68"/>
                    <a:pt x="357" y="58"/>
                  </a:cubicBezTo>
                  <a:cubicBezTo>
                    <a:pt x="358" y="62"/>
                    <a:pt x="358" y="66"/>
                    <a:pt x="360" y="70"/>
                  </a:cubicBezTo>
                  <a:cubicBezTo>
                    <a:pt x="361" y="73"/>
                    <a:pt x="365" y="76"/>
                    <a:pt x="366" y="79"/>
                  </a:cubicBezTo>
                  <a:cubicBezTo>
                    <a:pt x="375" y="107"/>
                    <a:pt x="377" y="136"/>
                    <a:pt x="390" y="163"/>
                  </a:cubicBezTo>
                  <a:cubicBezTo>
                    <a:pt x="396" y="176"/>
                    <a:pt x="399" y="188"/>
                    <a:pt x="411" y="196"/>
                  </a:cubicBezTo>
                  <a:cubicBezTo>
                    <a:pt x="415" y="207"/>
                    <a:pt x="422" y="210"/>
                    <a:pt x="429" y="220"/>
                  </a:cubicBezTo>
                  <a:cubicBezTo>
                    <a:pt x="433" y="248"/>
                    <a:pt x="440" y="289"/>
                    <a:pt x="456" y="313"/>
                  </a:cubicBezTo>
                  <a:cubicBezTo>
                    <a:pt x="461" y="331"/>
                    <a:pt x="458" y="321"/>
                    <a:pt x="465" y="343"/>
                  </a:cubicBezTo>
                  <a:cubicBezTo>
                    <a:pt x="467" y="349"/>
                    <a:pt x="471" y="361"/>
                    <a:pt x="471" y="361"/>
                  </a:cubicBezTo>
                  <a:cubicBezTo>
                    <a:pt x="474" y="384"/>
                    <a:pt x="476" y="402"/>
                    <a:pt x="495" y="415"/>
                  </a:cubicBezTo>
                  <a:cubicBezTo>
                    <a:pt x="500" y="429"/>
                    <a:pt x="512" y="438"/>
                    <a:pt x="516" y="451"/>
                  </a:cubicBezTo>
                  <a:cubicBezTo>
                    <a:pt x="518" y="457"/>
                    <a:pt x="516" y="467"/>
                    <a:pt x="522" y="469"/>
                  </a:cubicBezTo>
                  <a:cubicBezTo>
                    <a:pt x="528" y="471"/>
                    <a:pt x="540" y="475"/>
                    <a:pt x="540" y="475"/>
                  </a:cubicBezTo>
                  <a:cubicBezTo>
                    <a:pt x="555" y="471"/>
                    <a:pt x="570" y="471"/>
                    <a:pt x="585" y="466"/>
                  </a:cubicBezTo>
                  <a:cubicBezTo>
                    <a:pt x="589" y="451"/>
                    <a:pt x="592" y="436"/>
                    <a:pt x="597" y="421"/>
                  </a:cubicBezTo>
                  <a:cubicBezTo>
                    <a:pt x="603" y="404"/>
                    <a:pt x="599" y="384"/>
                    <a:pt x="606" y="367"/>
                  </a:cubicBezTo>
                  <a:cubicBezTo>
                    <a:pt x="611" y="355"/>
                    <a:pt x="620" y="342"/>
                    <a:pt x="627" y="331"/>
                  </a:cubicBezTo>
                  <a:cubicBezTo>
                    <a:pt x="629" y="328"/>
                    <a:pt x="633" y="322"/>
                    <a:pt x="633" y="322"/>
                  </a:cubicBezTo>
                  <a:cubicBezTo>
                    <a:pt x="654" y="336"/>
                    <a:pt x="644" y="368"/>
                    <a:pt x="669" y="376"/>
                  </a:cubicBezTo>
                  <a:cubicBezTo>
                    <a:pt x="701" y="344"/>
                    <a:pt x="684" y="271"/>
                    <a:pt x="720" y="247"/>
                  </a:cubicBezTo>
                  <a:cubicBezTo>
                    <a:pt x="736" y="252"/>
                    <a:pt x="735" y="273"/>
                    <a:pt x="744" y="286"/>
                  </a:cubicBezTo>
                  <a:cubicBezTo>
                    <a:pt x="750" y="322"/>
                    <a:pt x="748" y="360"/>
                    <a:pt x="759" y="394"/>
                  </a:cubicBezTo>
                  <a:cubicBezTo>
                    <a:pt x="775" y="391"/>
                    <a:pt x="778" y="384"/>
                    <a:pt x="792" y="379"/>
                  </a:cubicBezTo>
                  <a:cubicBezTo>
                    <a:pt x="799" y="406"/>
                    <a:pt x="790" y="429"/>
                    <a:pt x="819" y="439"/>
                  </a:cubicBezTo>
                  <a:cubicBezTo>
                    <a:pt x="831" y="451"/>
                    <a:pt x="845" y="470"/>
                    <a:pt x="861" y="475"/>
                  </a:cubicBezTo>
                  <a:cubicBezTo>
                    <a:pt x="882" y="470"/>
                    <a:pt x="873" y="456"/>
                    <a:pt x="882" y="439"/>
                  </a:cubicBezTo>
                  <a:cubicBezTo>
                    <a:pt x="889" y="425"/>
                    <a:pt x="897" y="413"/>
                    <a:pt x="906" y="400"/>
                  </a:cubicBezTo>
                  <a:cubicBezTo>
                    <a:pt x="909" y="387"/>
                    <a:pt x="908" y="380"/>
                    <a:pt x="921" y="376"/>
                  </a:cubicBezTo>
                  <a:cubicBezTo>
                    <a:pt x="929" y="389"/>
                    <a:pt x="934" y="403"/>
                    <a:pt x="942" y="415"/>
                  </a:cubicBezTo>
                  <a:cubicBezTo>
                    <a:pt x="936" y="432"/>
                    <a:pt x="955" y="467"/>
                    <a:pt x="972" y="47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
          <p:cNvSpPr/>
          <p:nvPr/>
        </p:nvSpPr>
        <p:spPr>
          <a:xfrm>
            <a:off x="671400" y="36752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71400" y="4132440"/>
            <a:ext cx="6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5800" y="3962520"/>
            <a:ext cx="641520" cy="172800"/>
          </a:xfrm>
          <a:custGeom>
            <a:avLst/>
            <a:gdLst/>
            <a:ahLst/>
            <a:rect l="l" t="t" r="r" b="b"/>
            <a:pathLst>
              <a:path w="1011" h="273">
                <a:moveTo>
                  <a:pt x="0" y="264"/>
                </a:moveTo>
                <a:cubicBezTo>
                  <a:pt x="42" y="250"/>
                  <a:pt x="76" y="210"/>
                  <a:pt x="93" y="171"/>
                </a:cubicBezTo>
                <a:cubicBezTo>
                  <a:pt x="97" y="162"/>
                  <a:pt x="99" y="144"/>
                  <a:pt x="105" y="135"/>
                </a:cubicBezTo>
                <a:cubicBezTo>
                  <a:pt x="122" y="110"/>
                  <a:pt x="137" y="83"/>
                  <a:pt x="147" y="54"/>
                </a:cubicBezTo>
                <a:cubicBezTo>
                  <a:pt x="149" y="33"/>
                  <a:pt x="144" y="12"/>
                  <a:pt x="162" y="0"/>
                </a:cubicBezTo>
                <a:cubicBezTo>
                  <a:pt x="169" y="10"/>
                  <a:pt x="186" y="27"/>
                  <a:pt x="186" y="27"/>
                </a:cubicBezTo>
                <a:cubicBezTo>
                  <a:pt x="194" y="50"/>
                  <a:pt x="183" y="27"/>
                  <a:pt x="228" y="39"/>
                </a:cubicBezTo>
                <a:cubicBezTo>
                  <a:pt x="233" y="40"/>
                  <a:pt x="235" y="54"/>
                  <a:pt x="237" y="57"/>
                </a:cubicBezTo>
                <a:cubicBezTo>
                  <a:pt x="245" y="74"/>
                  <a:pt x="248" y="88"/>
                  <a:pt x="264" y="99"/>
                </a:cubicBezTo>
                <a:cubicBezTo>
                  <a:pt x="302" y="90"/>
                  <a:pt x="294" y="106"/>
                  <a:pt x="309" y="129"/>
                </a:cubicBezTo>
                <a:cubicBezTo>
                  <a:pt x="313" y="151"/>
                  <a:pt x="314" y="178"/>
                  <a:pt x="324" y="198"/>
                </a:cubicBezTo>
                <a:cubicBezTo>
                  <a:pt x="337" y="224"/>
                  <a:pt x="360" y="245"/>
                  <a:pt x="369" y="273"/>
                </a:cubicBezTo>
                <a:cubicBezTo>
                  <a:pt x="408" y="263"/>
                  <a:pt x="426" y="243"/>
                  <a:pt x="453" y="216"/>
                </a:cubicBezTo>
                <a:cubicBezTo>
                  <a:pt x="457" y="205"/>
                  <a:pt x="464" y="197"/>
                  <a:pt x="468" y="186"/>
                </a:cubicBezTo>
                <a:cubicBezTo>
                  <a:pt x="479" y="158"/>
                  <a:pt x="489" y="132"/>
                  <a:pt x="516" y="114"/>
                </a:cubicBezTo>
                <a:cubicBezTo>
                  <a:pt x="529" y="123"/>
                  <a:pt x="529" y="130"/>
                  <a:pt x="540" y="141"/>
                </a:cubicBezTo>
                <a:cubicBezTo>
                  <a:pt x="546" y="160"/>
                  <a:pt x="556" y="181"/>
                  <a:pt x="567" y="198"/>
                </a:cubicBezTo>
                <a:cubicBezTo>
                  <a:pt x="568" y="202"/>
                  <a:pt x="566" y="210"/>
                  <a:pt x="570" y="210"/>
                </a:cubicBezTo>
                <a:cubicBezTo>
                  <a:pt x="587" y="210"/>
                  <a:pt x="614" y="166"/>
                  <a:pt x="630" y="156"/>
                </a:cubicBezTo>
                <a:cubicBezTo>
                  <a:pt x="638" y="167"/>
                  <a:pt x="642" y="178"/>
                  <a:pt x="654" y="186"/>
                </a:cubicBezTo>
                <a:cubicBezTo>
                  <a:pt x="676" y="171"/>
                  <a:pt x="668" y="168"/>
                  <a:pt x="681" y="186"/>
                </a:cubicBezTo>
                <a:cubicBezTo>
                  <a:pt x="687" y="205"/>
                  <a:pt x="694" y="217"/>
                  <a:pt x="708" y="231"/>
                </a:cubicBezTo>
                <a:cubicBezTo>
                  <a:pt x="712" y="243"/>
                  <a:pt x="718" y="242"/>
                  <a:pt x="729" y="249"/>
                </a:cubicBezTo>
                <a:cubicBezTo>
                  <a:pt x="734" y="269"/>
                  <a:pt x="743" y="263"/>
                  <a:pt x="753" y="249"/>
                </a:cubicBezTo>
                <a:cubicBezTo>
                  <a:pt x="759" y="241"/>
                  <a:pt x="762" y="227"/>
                  <a:pt x="765" y="219"/>
                </a:cubicBezTo>
                <a:cubicBezTo>
                  <a:pt x="767" y="213"/>
                  <a:pt x="771" y="201"/>
                  <a:pt x="771" y="201"/>
                </a:cubicBezTo>
                <a:cubicBezTo>
                  <a:pt x="775" y="165"/>
                  <a:pt x="780" y="131"/>
                  <a:pt x="789" y="96"/>
                </a:cubicBezTo>
                <a:cubicBezTo>
                  <a:pt x="801" y="112"/>
                  <a:pt x="805" y="126"/>
                  <a:pt x="816" y="141"/>
                </a:cubicBezTo>
                <a:cubicBezTo>
                  <a:pt x="821" y="156"/>
                  <a:pt x="828" y="170"/>
                  <a:pt x="837" y="183"/>
                </a:cubicBezTo>
                <a:cubicBezTo>
                  <a:pt x="841" y="199"/>
                  <a:pt x="844" y="215"/>
                  <a:pt x="849" y="231"/>
                </a:cubicBezTo>
                <a:cubicBezTo>
                  <a:pt x="863" y="222"/>
                  <a:pt x="873" y="207"/>
                  <a:pt x="885" y="195"/>
                </a:cubicBezTo>
                <a:cubicBezTo>
                  <a:pt x="888" y="192"/>
                  <a:pt x="894" y="186"/>
                  <a:pt x="894" y="186"/>
                </a:cubicBezTo>
                <a:cubicBezTo>
                  <a:pt x="909" y="201"/>
                  <a:pt x="919" y="221"/>
                  <a:pt x="927" y="240"/>
                </a:cubicBezTo>
                <a:cubicBezTo>
                  <a:pt x="931" y="249"/>
                  <a:pt x="936" y="267"/>
                  <a:pt x="936" y="267"/>
                </a:cubicBezTo>
                <a:cubicBezTo>
                  <a:pt x="966" y="263"/>
                  <a:pt x="963" y="264"/>
                  <a:pt x="972" y="237"/>
                </a:cubicBezTo>
                <a:cubicBezTo>
                  <a:pt x="975" y="228"/>
                  <a:pt x="981" y="210"/>
                  <a:pt x="981" y="210"/>
                </a:cubicBezTo>
                <a:cubicBezTo>
                  <a:pt x="1002" y="224"/>
                  <a:pt x="996" y="249"/>
                  <a:pt x="1011" y="264"/>
                </a:cubicBezTo>
              </a:path>
            </a:pathLst>
          </a:custGeom>
          <a:noFill/>
          <a:ln w="93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71400" y="4513320"/>
            <a:ext cx="1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1400" y="4970520"/>
            <a:ext cx="684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
          <p:cNvSpPr/>
          <p:nvPr/>
        </p:nvSpPr>
        <p:spPr>
          <a:xfrm>
            <a:off x="685800" y="4800600"/>
            <a:ext cx="641520" cy="173160"/>
          </a:xfrm>
          <a:custGeom>
            <a:avLst/>
            <a:gdLst/>
            <a:ahLst/>
            <a:rect l="l" t="t" r="r" b="b"/>
            <a:pathLst>
              <a:path w="1011" h="273">
                <a:moveTo>
                  <a:pt x="0" y="264"/>
                </a:moveTo>
                <a:cubicBezTo>
                  <a:pt x="42" y="250"/>
                  <a:pt x="76" y="210"/>
                  <a:pt x="93" y="171"/>
                </a:cubicBezTo>
                <a:cubicBezTo>
                  <a:pt x="97" y="162"/>
                  <a:pt x="99" y="144"/>
                  <a:pt x="105" y="135"/>
                </a:cubicBezTo>
                <a:cubicBezTo>
                  <a:pt x="122" y="110"/>
                  <a:pt x="137" y="83"/>
                  <a:pt x="147" y="54"/>
                </a:cubicBezTo>
                <a:cubicBezTo>
                  <a:pt x="149" y="33"/>
                  <a:pt x="144" y="12"/>
                  <a:pt x="162" y="0"/>
                </a:cubicBezTo>
                <a:cubicBezTo>
                  <a:pt x="169" y="10"/>
                  <a:pt x="186" y="27"/>
                  <a:pt x="186" y="27"/>
                </a:cubicBezTo>
                <a:cubicBezTo>
                  <a:pt x="194" y="50"/>
                  <a:pt x="183" y="27"/>
                  <a:pt x="228" y="39"/>
                </a:cubicBezTo>
                <a:cubicBezTo>
                  <a:pt x="233" y="40"/>
                  <a:pt x="235" y="54"/>
                  <a:pt x="237" y="57"/>
                </a:cubicBezTo>
                <a:cubicBezTo>
                  <a:pt x="245" y="74"/>
                  <a:pt x="248" y="88"/>
                  <a:pt x="264" y="99"/>
                </a:cubicBezTo>
                <a:cubicBezTo>
                  <a:pt x="302" y="90"/>
                  <a:pt x="294" y="106"/>
                  <a:pt x="309" y="129"/>
                </a:cubicBezTo>
                <a:cubicBezTo>
                  <a:pt x="313" y="151"/>
                  <a:pt x="314" y="178"/>
                  <a:pt x="324" y="198"/>
                </a:cubicBezTo>
                <a:cubicBezTo>
                  <a:pt x="337" y="224"/>
                  <a:pt x="360" y="245"/>
                  <a:pt x="369" y="273"/>
                </a:cubicBezTo>
                <a:cubicBezTo>
                  <a:pt x="408" y="263"/>
                  <a:pt x="426" y="243"/>
                  <a:pt x="453" y="216"/>
                </a:cubicBezTo>
                <a:cubicBezTo>
                  <a:pt x="457" y="205"/>
                  <a:pt x="464" y="197"/>
                  <a:pt x="468" y="186"/>
                </a:cubicBezTo>
                <a:cubicBezTo>
                  <a:pt x="479" y="158"/>
                  <a:pt x="489" y="132"/>
                  <a:pt x="516" y="114"/>
                </a:cubicBezTo>
                <a:cubicBezTo>
                  <a:pt x="529" y="123"/>
                  <a:pt x="529" y="130"/>
                  <a:pt x="540" y="141"/>
                </a:cubicBezTo>
                <a:cubicBezTo>
                  <a:pt x="546" y="160"/>
                  <a:pt x="556" y="181"/>
                  <a:pt x="567" y="198"/>
                </a:cubicBezTo>
                <a:cubicBezTo>
                  <a:pt x="568" y="202"/>
                  <a:pt x="566" y="210"/>
                  <a:pt x="570" y="210"/>
                </a:cubicBezTo>
                <a:cubicBezTo>
                  <a:pt x="587" y="210"/>
                  <a:pt x="614" y="166"/>
                  <a:pt x="630" y="156"/>
                </a:cubicBezTo>
                <a:cubicBezTo>
                  <a:pt x="638" y="167"/>
                  <a:pt x="642" y="178"/>
                  <a:pt x="654" y="186"/>
                </a:cubicBezTo>
                <a:cubicBezTo>
                  <a:pt x="676" y="171"/>
                  <a:pt x="668" y="168"/>
                  <a:pt x="681" y="186"/>
                </a:cubicBezTo>
                <a:cubicBezTo>
                  <a:pt x="687" y="205"/>
                  <a:pt x="694" y="217"/>
                  <a:pt x="708" y="231"/>
                </a:cubicBezTo>
                <a:cubicBezTo>
                  <a:pt x="712" y="243"/>
                  <a:pt x="718" y="242"/>
                  <a:pt x="729" y="249"/>
                </a:cubicBezTo>
                <a:cubicBezTo>
                  <a:pt x="734" y="269"/>
                  <a:pt x="743" y="263"/>
                  <a:pt x="753" y="249"/>
                </a:cubicBezTo>
                <a:cubicBezTo>
                  <a:pt x="759" y="241"/>
                  <a:pt x="762" y="227"/>
                  <a:pt x="765" y="219"/>
                </a:cubicBezTo>
                <a:cubicBezTo>
                  <a:pt x="767" y="213"/>
                  <a:pt x="771" y="201"/>
                  <a:pt x="771" y="201"/>
                </a:cubicBezTo>
                <a:cubicBezTo>
                  <a:pt x="775" y="165"/>
                  <a:pt x="780" y="131"/>
                  <a:pt x="789" y="96"/>
                </a:cubicBezTo>
                <a:cubicBezTo>
                  <a:pt x="801" y="112"/>
                  <a:pt x="805" y="126"/>
                  <a:pt x="816" y="141"/>
                </a:cubicBezTo>
                <a:cubicBezTo>
                  <a:pt x="821" y="156"/>
                  <a:pt x="828" y="170"/>
                  <a:pt x="837" y="183"/>
                </a:cubicBezTo>
                <a:cubicBezTo>
                  <a:pt x="841" y="199"/>
                  <a:pt x="844" y="215"/>
                  <a:pt x="849" y="231"/>
                </a:cubicBezTo>
                <a:cubicBezTo>
                  <a:pt x="863" y="222"/>
                  <a:pt x="873" y="207"/>
                  <a:pt x="885" y="195"/>
                </a:cubicBezTo>
                <a:cubicBezTo>
                  <a:pt x="888" y="192"/>
                  <a:pt x="894" y="186"/>
                  <a:pt x="894" y="186"/>
                </a:cubicBezTo>
                <a:cubicBezTo>
                  <a:pt x="909" y="201"/>
                  <a:pt x="919" y="221"/>
                  <a:pt x="927" y="240"/>
                </a:cubicBezTo>
                <a:cubicBezTo>
                  <a:pt x="931" y="249"/>
                  <a:pt x="936" y="267"/>
                  <a:pt x="936" y="267"/>
                </a:cubicBezTo>
                <a:cubicBezTo>
                  <a:pt x="966" y="263"/>
                  <a:pt x="963" y="264"/>
                  <a:pt x="972" y="237"/>
                </a:cubicBezTo>
                <a:cubicBezTo>
                  <a:pt x="975" y="228"/>
                  <a:pt x="981" y="210"/>
                  <a:pt x="981" y="210"/>
                </a:cubicBezTo>
                <a:cubicBezTo>
                  <a:pt x="1002" y="224"/>
                  <a:pt x="996" y="249"/>
                  <a:pt x="1011" y="264"/>
                </a:cubicBezTo>
              </a:path>
            </a:pathLst>
          </a:custGeom>
          <a:noFill/>
          <a:ln w="93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962520" y="2057400"/>
            <a:ext cx="7617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4038480" y="23623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038480" y="40384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4191120" y="4419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Define N phases of driving that captures these differenc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llustrative example</a:t>
            </a:r>
            <a:endParaRPr b="0" lang="en-US" sz="2400" spc="-1" strike="noStrike">
              <a:solidFill>
                <a:srgbClr val="000000"/>
              </a:solidFill>
              <a:latin typeface="Arial"/>
            </a:endParaRPr>
          </a:p>
        </p:txBody>
      </p:sp>
      <p:pic>
        <p:nvPicPr>
          <p:cNvPr id="73" name="" descr=""/>
          <p:cNvPicPr/>
          <p:nvPr/>
        </p:nvPicPr>
        <p:blipFill>
          <a:blip r:embed="rId1"/>
          <a:stretch/>
        </p:blipFill>
        <p:spPr>
          <a:xfrm>
            <a:off x="0" y="1905120"/>
            <a:ext cx="9144000" cy="4952880"/>
          </a:xfrm>
          <a:prstGeom prst="rect">
            <a:avLst/>
          </a:prstGeom>
          <a:ln w="0">
            <a:noFill/>
          </a:ln>
        </p:spPr>
      </p:pic>
      <p:sp>
        <p:nvSpPr>
          <p:cNvPr id="74" name=""/>
          <p:cNvSpPr/>
          <p:nvPr/>
        </p:nvSpPr>
        <p:spPr>
          <a:xfrm>
            <a:off x="3200400" y="4419720"/>
            <a:ext cx="9907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62120" y="3276720"/>
            <a:ext cx="12952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057400" y="4191120"/>
            <a:ext cx="11430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486400" y="2971800"/>
            <a:ext cx="198108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543800" y="2057400"/>
            <a:ext cx="137160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4280" y="28954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a:t>
            </a:r>
            <a:endParaRPr b="0" lang="en-US" sz="1800" spc="-1" strike="noStrike">
              <a:solidFill>
                <a:srgbClr val="000000"/>
              </a:solidFill>
              <a:latin typeface="Arial"/>
            </a:endParaRPr>
          </a:p>
        </p:txBody>
      </p:sp>
      <p:sp>
        <p:nvSpPr>
          <p:cNvPr id="80" name=""/>
          <p:cNvSpPr/>
          <p:nvPr/>
        </p:nvSpPr>
        <p:spPr>
          <a:xfrm>
            <a:off x="2059560" y="373392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1" name=""/>
          <p:cNvSpPr/>
          <p:nvPr/>
        </p:nvSpPr>
        <p:spPr>
          <a:xfrm>
            <a:off x="3126240" y="380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82" name=""/>
          <p:cNvSpPr/>
          <p:nvPr/>
        </p:nvSpPr>
        <p:spPr>
          <a:xfrm>
            <a:off x="4269240" y="259092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a:t>
            </a:r>
            <a:endParaRPr b="0" lang="en-US" sz="1800" spc="-1" strike="noStrike">
              <a:solidFill>
                <a:srgbClr val="000000"/>
              </a:solidFill>
              <a:latin typeface="Arial"/>
            </a:endParaRPr>
          </a:p>
        </p:txBody>
      </p:sp>
      <p:sp>
        <p:nvSpPr>
          <p:cNvPr id="83" name=""/>
          <p:cNvSpPr/>
          <p:nvPr/>
        </p:nvSpPr>
        <p:spPr>
          <a:xfrm>
            <a:off x="5869440" y="25146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84" name=""/>
          <p:cNvSpPr/>
          <p:nvPr/>
        </p:nvSpPr>
        <p:spPr>
          <a:xfrm>
            <a:off x="7698240" y="167652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85" name=""/>
          <p:cNvSpPr/>
          <p:nvPr/>
        </p:nvSpPr>
        <p:spPr>
          <a:xfrm>
            <a:off x="4191120" y="3276720"/>
            <a:ext cx="12952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902880" y="2246400"/>
            <a:ext cx="354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 should be &gt;250 sec e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ach nation could average the </a:t>
            </a:r>
            <a:r>
              <a:rPr b="0" i="1" lang="en-US" sz="3200" spc="-1" strike="noStrike">
                <a:solidFill>
                  <a:srgbClr val="000000"/>
                </a:solidFill>
                <a:latin typeface="Arial"/>
              </a:rPr>
              <a:t>N</a:t>
            </a:r>
            <a:r>
              <a:rPr b="0" lang="en-US" sz="3200" spc="-1" strike="noStrike">
                <a:solidFill>
                  <a:srgbClr val="000000"/>
                </a:solidFill>
                <a:latin typeface="Arial"/>
              </a:rPr>
              <a:t> Phases, using weights appropriate for their regions</a:t>
            </a:r>
            <a:endParaRPr b="0" lang="en-US" sz="3200" spc="-1" strike="noStrike">
              <a:solidFill>
                <a:srgbClr val="000000"/>
              </a:solidFill>
              <a:latin typeface="Arial"/>
            </a:endParaRPr>
          </a:p>
        </p:txBody>
      </p:sp>
      <p:pic>
        <p:nvPicPr>
          <p:cNvPr id="88" name="" descr=""/>
          <p:cNvPicPr/>
          <p:nvPr/>
        </p:nvPicPr>
        <p:blipFill>
          <a:blip r:embed="rId1"/>
          <a:stretch/>
        </p:blipFill>
        <p:spPr>
          <a:xfrm>
            <a:off x="457200" y="2840040"/>
            <a:ext cx="7848720" cy="4017960"/>
          </a:xfrm>
          <a:prstGeom prst="rect">
            <a:avLst/>
          </a:prstGeom>
          <a:ln w="0">
            <a:noFill/>
          </a:ln>
        </p:spPr>
      </p:pic>
      <mc:AlternateContent>
        <mc:Choice xmlns:a14="http://schemas.microsoft.com/office/drawing/2010/main" Requires="a14">
          <p:sp>
            <p:nvSpPr>
              <p:cNvPr id="89" name=""/>
              <p:cNvSpPr txBox="1"/>
              <p:nvPr/>
            </p:nvSpPr>
            <p:spPr>
              <a:xfrm>
                <a:off x="990720" y="1731960"/>
                <a:ext cx="6095880" cy="982800"/>
              </a:xfrm>
              <a:prstGeom prst="rect">
                <a:avLst/>
              </a:prstGeom>
            </p:spPr>
            <p:txBody>
              <a:bodyPr/>
              <a:p>
                <a14:m>
                  <m:oMath xmlns:m="http://schemas.openxmlformats.org/officeDocument/2006/math">
                    <m:eqArr>
                      <m:e>
                        <m:sSub>
                          <m:e>
                            <m:r>
                              <m:t xml:space="preserve">E</m:t>
                            </m:r>
                          </m:e>
                          <m:sub>
                            <m:r>
                              <m:rPr>
                                <m:lit/>
                                <m:nor/>
                              </m:rPr>
                              <m:t xml:space="preserve">cycle</m:t>
                            </m:r>
                          </m:sub>
                        </m:sSub>
                        <m:r>
                          <m:t xml:space="preserve">(</m:t>
                        </m:r>
                        <m:r>
                          <m:rPr>
                            <m:lit/>
                            <m:nor/>
                          </m:rPr>
                          <m:t xml:space="preserve">g/km</m:t>
                        </m:r>
                        <m:r>
                          <m:t xml:space="preserve">)</m:t>
                        </m:r>
                        <m:r>
                          <m:t xml:space="preserve">=</m:t>
                        </m:r>
                        <m:sSub>
                          <m:e>
                            <m:r>
                              <m:t xml:space="preserve">W</m:t>
                            </m:r>
                          </m:e>
                          <m:sub>
                            <m:r>
                              <m:t xml:space="preserve">1</m:t>
                            </m:r>
                          </m:sub>
                        </m:sSub>
                        <m:sSub>
                          <m:e>
                            <m:r>
                              <m:t xml:space="preserve">E</m:t>
                            </m:r>
                          </m:e>
                          <m:sub>
                            <m:r>
                              <m:t xml:space="preserve">1</m:t>
                            </m:r>
                          </m:sub>
                        </m:sSub>
                        <m:r>
                          <m:t xml:space="preserve">+</m:t>
                        </m:r>
                        <m:sSub>
                          <m:e>
                            <m:r>
                              <m:t xml:space="preserve">W</m:t>
                            </m:r>
                          </m:e>
                          <m:sub>
                            <m:r>
                              <m:t xml:space="preserve">2</m:t>
                            </m:r>
                          </m:sub>
                        </m:sSub>
                        <m:sSub>
                          <m:e>
                            <m:r>
                              <m:t xml:space="preserve">E</m:t>
                            </m:r>
                          </m:e>
                          <m:sub>
                            <m:r>
                              <m:t xml:space="preserve">2</m:t>
                            </m:r>
                          </m:sub>
                        </m:sSub>
                        <m:r>
                          <m:t xml:space="preserve">+</m:t>
                        </m:r>
                        <m:sSub>
                          <m:e>
                            <m:r>
                              <m:t xml:space="preserve">W</m:t>
                            </m:r>
                          </m:e>
                          <m:sub>
                            <m:r>
                              <m:t xml:space="preserve">3</m:t>
                            </m:r>
                          </m:sub>
                        </m:sSub>
                        <m:sSub>
                          <m:e>
                            <m:r>
                              <m:t xml:space="preserve">E</m:t>
                            </m:r>
                          </m:e>
                          <m:sub>
                            <m:r>
                              <m:t xml:space="preserve">3</m:t>
                            </m:r>
                          </m:sub>
                        </m:sSub>
                        <m:r>
                          <m:t xml:space="preserve">+</m:t>
                        </m:r>
                        <m:r>
                          <m:t xml:space="preserve">⋅</m:t>
                        </m:r>
                        <m:r>
                          <m:t xml:space="preserve"> </m:t>
                        </m:r>
                        <m:r>
                          <m:t xml:space="preserve">+</m:t>
                        </m:r>
                        <m:sSub>
                          <m:e>
                            <m:r>
                              <m:t xml:space="preserve">W</m:t>
                            </m:r>
                          </m:e>
                          <m:sub>
                            <m:r>
                              <m:t xml:space="preserve">N</m:t>
                            </m:r>
                          </m:sub>
                        </m:sSub>
                        <m:sSub>
                          <m:e>
                            <m:r>
                              <m:t xml:space="preserve">E</m:t>
                            </m:r>
                          </m:e>
                          <m:sub>
                            <m:r>
                              <m:t xml:space="preserve">N</m:t>
                            </m:r>
                          </m:sub>
                        </m:sSub>
                      </m:e>
                      <m:e>
                        <m:nary>
                          <m:naryPr>
                            <m:chr m:val="∑"/>
                            <m:subHide m:val="1"/>
                            <m:supHide m:val="1"/>
                          </m:naryPr>
                          <m:sub/>
                          <m:sup/>
                          <m:e>
                            <m:sSub>
                              <m:e>
                                <m:r>
                                  <m:t xml:space="preserve">W</m:t>
                                </m:r>
                              </m:e>
                              <m:sub>
                                <m:r>
                                  <m:t xml:space="preserve">N</m:t>
                                </m:r>
                              </m:sub>
                            </m:sSub>
                            <m:r>
                              <m:t xml:space="preserve">=</m:t>
                            </m:r>
                            <m:r>
                              <m:t xml:space="preserve">1</m:t>
                            </m:r>
                            <m:r>
                              <m:rPr>
                                <m:lit/>
                                <m:nor/>
                              </m:rPr>
                              <m:t xml:space="preserve">.</m:t>
                            </m:r>
                            <m:r>
                              <m:t xml:space="preserve">0</m:t>
                            </m:r>
                          </m:e>
                        </m:nary>
                      </m:e>
                    </m:eqArr>
                  </m:oMath>
                </a14:m>
              </a:p>
            </p:txBody>
          </p:sp>
        </mc:Choice>
        <mc:Fallback/>
      </mc:AlternateContent>
      <p:sp>
        <p:nvSpPr>
          <p:cNvPr id="90" name=""/>
          <p:cNvSpPr/>
          <p:nvPr/>
        </p:nvSpPr>
        <p:spPr>
          <a:xfrm>
            <a:off x="382320" y="1752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is harmonization</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y specific weighting factors should be used in the event that a single cycle cannot satisfy all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manufacturers use different engine calibrations for each region? (especially on hybrid electric vehicl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nventional gasoline (petrol) vehicles, calibrations will probably not differ much – if emissions standards are simil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drivers (who drive mostly on highways) are still buying many Toyota Priuses (which were originally calibrated largely for urban driv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manufacturers need to have separate calibration for India than U.S. (for example), perhaps that could be the best option for the consumers of those two natio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5 US consumers demanded that labels (on hybrids especially) be more representative of real world fuel economy, so EPA added extra (off cycle) phases to the FTP cycle and weighted them specifically for US driving activ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roach provides an alternative way to combine disparate data by first looking for similarities in the data before avera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ternative methodology would still provide a harmonized drive cycle based on common speed  trac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common sets of weights would allow comparison across reg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ntracting party could have different emission rates via regional weigh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harmonization as well as regional specificity or uniqueness - Very flexi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 calibrations not expected to vary widely (with similar emissions standa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variations occur, then customers will likely demand it</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23:38:46Z</dcterms:created>
  <dc:creator>Ed Nam</dc:creator>
  <dc:description/>
  <dc:language>en-US</dc:language>
  <cp:lastModifiedBy>Romain HUBERT</cp:lastModifiedBy>
  <dcterms:modified xsi:type="dcterms:W3CDTF">2010-01-05T08:27:40Z</dcterms:modified>
  <cp:revision>1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