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86878-FFC7-43B3-BE2A-49A73944B7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622E1EB-E721-4967-B59D-7294155889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23"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6F2EC-2B8D-4F3A-88ED-539F1CDD6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70B3A-340C-45B5-815E-396522936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F17BAE-9F69-402C-8087-1B513BCA3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2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96F27-3A33-4B40-A495-9335C3A62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3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0B7AF-09A8-446C-8E11-ACB2E0413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3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40086-3568-4928-86D4-3750D8726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40"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C101B-75CD-49E2-B24C-A59DF2B18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43"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861C83-FD1A-4F30-96B2-466106A8C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48"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F353DB-CEA5-4088-8E7A-085E0B3F9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087F672-4217-40EF-B70C-CF5B09F057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3"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BAF0FC3-10B9-4694-9172-32817F01A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2"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4"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6"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51"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2233F7E-809B-4EC9-AD81-DACB75EC02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55"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59"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63"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6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71"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1615A8-FE0C-4294-870B-8ED0D333A4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1"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4D0440-A89B-49AF-B092-CFDC7CDA3B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3"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F5C5CF-43A7-41F6-B5FE-81BF2EC32D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5"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1B3BF9-9848-4CDA-922E-E3ED3F6D28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2"/>
          </p:nvPr>
        </p:nvSpPr>
        <p:spPr/>
        <p:txBody>
          <a:bodyPr/>
          <a:p>
            <a:fld id="{36383C21-ADE5-4746-B6D8-8F88EE0078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6"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A57702-DAB5-4108-B7AE-461B506A7A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837598E-5000-410C-B46B-97C7F29392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90"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5273F1-ABBE-4F67-8A64-B663DC46C1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94"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017A8F-1C27-459B-B318-4D575EF858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9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EDE35E-72ED-4C5E-89B2-E84333111D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02"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6C40C1-10BF-4BEC-A3A2-9FDD0F8B16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05"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7471D2D-82F9-4E8E-B49E-2DA3309AC3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10"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DF0CE88-8BD6-4683-9759-C7FDECB37D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F258DC-31BD-497A-AC75-83F286A888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0"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B39F2E-7F79-4D69-AFBB-E851C33ABAE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2"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EE2BEE5-3E62-4FB1-A669-DC27B11DE6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EA0CA3-181A-413D-A745-B7A1FD84A1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4"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68236BC-2551-477C-B658-C67FE7C428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3"/>
          </p:nvPr>
        </p:nvSpPr>
        <p:spPr/>
        <p:txBody>
          <a:bodyPr/>
          <a:p>
            <a:fld id="{753FAFB5-65F8-464C-8C97-07D1072DF35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60993B6-55A5-4647-815C-C78618D0ABC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9"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68A556-0C50-4499-BB20-630AF94036F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33"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7084FD-04EC-4893-B550-B7A0CB34D7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37"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72E62D-A350-4349-93E9-198B8A06A7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41"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18CE43A-C43D-484A-82CE-10634206EF8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44"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06078C8-7297-4488-8D1D-98692095E0E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49"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0545A42-2DF3-4721-8702-20D2325AFA2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588A7B-D258-4ADC-970D-6139029A7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1"/>
          </p:nvPr>
        </p:nvSpPr>
        <p:spPr/>
        <p:txBody>
          <a:bodyPr/>
          <a:p>
            <a:fld id="{37BF7A0E-3E9E-4BF7-AB54-8E091CE70D8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59"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58ABD6-4FF9-4E20-A102-A673AB8765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61"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C302733-D859-47F0-BEB8-BD7D2836BF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63"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08E6A2-0059-4C74-85C8-663C916130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4"/>
          </p:nvPr>
        </p:nvSpPr>
        <p:spPr/>
        <p:txBody>
          <a:bodyPr/>
          <a:p>
            <a:fld id="{05EC9A1F-6387-4E48-995B-8D52A730BB9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BC28B3-FF99-4EC7-888B-D4D4442C0FF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6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284122-6ABB-4183-9297-5AF7EDD54F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7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9AF8C3-EF19-4DCE-A926-CFC022E710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7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AA23CD-332D-4D3A-A514-68042F16F6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80"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DEABFE-C99F-466C-9BFD-6556207C02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83"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1D69A5D-D33C-45DE-AF71-97ED26A3B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CF11F91-B961-4721-8512-88476AA0E69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88"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F751806-D820-4D44-9C49-B2F9A61ECF9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0A4828-A639-4827-B7A6-40338BEB49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98"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6B27CE5-DD8E-40F2-85FC-620E46DE12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00"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C3214FC-0E16-4E22-9939-A47B49B075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0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F0F7CD2-1A3B-43F5-ABEA-48F6CE493B5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5"/>
          </p:nvPr>
        </p:nvSpPr>
        <p:spPr/>
        <p:txBody>
          <a:bodyPr/>
          <a:p>
            <a:fld id="{4E5999E0-8C4D-4786-BEC2-B89D8FF7230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C4D4FD5-8939-4499-8C2A-AC9002F51D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07"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DDB466-5CDA-4FB5-8999-BF6C645CDF2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1"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465532-4A30-4929-952D-E35554EB21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5"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F53990-C0F4-4076-9A3E-4FE5F1945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3"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162A51E-D5D3-4F28-9C19-B5E5639640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9"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895BE2-33EF-4D66-90FB-C1330080A17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22"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6786C2C-22F9-492B-8611-8CCAF6FED65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27"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66E4582-305E-49EA-839D-3316649ECE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907F0E-C551-452E-98C9-B660D2CD96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37"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B51D31-48EA-407F-A0CD-AFC620943A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39"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8C5CF4-3CC7-44BF-AD8E-5189CDCDEB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41"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803B4C6-4CF8-4748-8A1E-AD9A70B739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6"/>
          </p:nvPr>
        </p:nvSpPr>
        <p:spPr/>
        <p:txBody>
          <a:bodyPr/>
          <a:p>
            <a:fld id="{A7DE15FB-90B5-4088-BD36-EA5B45F64E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17D0FB7-CEDA-4703-9267-925E1F0C709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4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A76AF2-3320-4580-89A4-876A39B19C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7"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65DEF5-1EFB-47D2-BB78-57D38E53862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0"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4E55BF-5235-4230-8049-3F9E71CE40A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4"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5EB2D2-A8B2-45A8-ACD5-07EC2E6F8EB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8"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B65526-29D1-400A-85C0-4BC24C32B7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61"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E008EE2-5856-4159-834C-A3C39DB40D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66"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2795A6F-494F-45C9-99FA-0EFDCCC0CF3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3BC7E0-A633-4DE5-AF58-6F78633257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78"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89494-CFEC-4101-A075-2AAB65B28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0"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15949-F41D-45E9-8041-CC96519AE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78554-C84C-4B0B-8EE1-D86F32AFE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5261F-67FD-4542-AA6C-A942A34DF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79A4E0-9E09-4149-868E-12C2C6ACD8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EDDC3-7DE9-4B75-A2C7-F45BF63DE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7"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25C7C-525B-4368-A19F-3A3DF4F87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91"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53A6A-B29B-409B-9255-D72F857CD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95"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9B898-47DC-468E-9056-07DA07A5B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99"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998BC-5D62-432A-B9AB-9F12E38CE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02"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E75F5E-2DA0-44E1-87E0-23A5B4F71E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07"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8681E-61A8-4843-BADD-817AE667E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376F65-25D4-400D-A6E2-0D4CBAFDF3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19"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585CB-A26F-45BC-AF1D-23277E427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21"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7B6D7-AE1A-43FA-9EEF-33973AE0D3D0}"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1CE5-D2C3-46AB-9D19-8ECF2E96657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40"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78"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3C36-7BB8-4C18-8728-17C9182C22B9}"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17"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9AD6-AA70-4B35-98D6-CC9DEE003E01}"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56"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43BB-61B9-436A-94E3-D48DA3144D52}"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95"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9BF8-1A79-4D87-A285-6AA6FA5FEC60}"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234"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DB37-E98B-4E09-8379-4936FC44BA96}"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273"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8E97-D92F-4F9E-8622-DCF930AD041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314"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B645-640F-4A2F-8CBC-CFDEF8E43EB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1714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20295e"/>
                </a:solidFill>
                <a:latin typeface="Calibri"/>
              </a:rPr>
              <a:t>Presentation to GRPE </a:t>
            </a:r>
            <a:br>
              <a:rPr sz="4000"/>
            </a:br>
            <a:br>
              <a:rPr sz="4000"/>
            </a:br>
            <a:r>
              <a:rPr b="1" lang="en-US" sz="4000" spc="-1" strike="noStrike">
                <a:solidFill>
                  <a:srgbClr val="20295e"/>
                </a:solidFill>
                <a:latin typeface="Calibri"/>
              </a:rPr>
              <a:t>January 2010</a:t>
            </a:r>
            <a:endParaRPr b="1" lang="en-US" sz="4000" spc="-1" strike="noStrike">
              <a:solidFill>
                <a:srgbClr val="20295e"/>
              </a:solidFill>
              <a:latin typeface="Calibri"/>
            </a:endParaRPr>
          </a:p>
        </p:txBody>
      </p:sp>
      <p:sp>
        <p:nvSpPr>
          <p:cNvPr id="355" name="PlaceHolder 2"/>
          <p:cNvSpPr>
            <a:spLocks noGrp="1"/>
          </p:cNvSpPr>
          <p:nvPr>
            <p:ph type="subTitle"/>
          </p:nvPr>
        </p:nvSpPr>
        <p:spPr>
          <a:xfrm>
            <a:off x="1357200" y="40006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b Cox (IPIECA)</a:t>
            </a:r>
            <a:endParaRPr b="0" lang="en-US" sz="3200" spc="-1" strike="noStrike">
              <a:solidFill>
                <a:srgbClr val="000000"/>
              </a:solidFill>
              <a:latin typeface="Calibri"/>
            </a:endParaRPr>
          </a:p>
        </p:txBody>
      </p:sp>
      <p:sp>
        <p:nvSpPr>
          <p:cNvPr id="356" name=""/>
          <p:cNvSpPr/>
          <p:nvPr/>
        </p:nvSpPr>
        <p:spPr>
          <a:xfrm>
            <a:off x="4932360" y="333360"/>
            <a:ext cx="3600360" cy="1045800"/>
          </a:xfrm>
          <a:prstGeom prst="rect">
            <a:avLst/>
          </a:prstGeom>
          <a:solidFill>
            <a:srgbClr val="ffffff"/>
          </a:solidFill>
          <a:ln w="0">
            <a:noFill/>
          </a:ln>
        </p:spPr>
        <p:style>
          <a:lnRef idx="0"/>
          <a:fillRef idx="0"/>
          <a:effectRef idx="0"/>
          <a:fontRef idx="minor"/>
        </p:style>
        <p:txBody>
          <a:bodyPr lIns="18000" rIns="18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ea typeface="MS PGothic"/>
              </a:rPr>
              <a:t>Working paper No</a:t>
            </a:r>
            <a:r>
              <a:rPr b="0" lang="en-GB" sz="1600" spc="-1" strike="noStrike">
                <a:solidFill>
                  <a:srgbClr val="000000"/>
                </a:solidFill>
                <a:latin typeface="Arial"/>
                <a:ea typeface="MS PGothic"/>
              </a:rPr>
              <a:t>. </a:t>
            </a:r>
            <a:r>
              <a:rPr b="1" lang="en-GB" sz="1600" spc="-1" strike="noStrike">
                <a:solidFill>
                  <a:srgbClr val="000000"/>
                </a:solidFill>
                <a:latin typeface="Arial"/>
                <a:ea typeface="MS PGothic"/>
              </a:rPr>
              <a:t>FQ-05-0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5th informal meeting on Fuel Quality, Geneva, 12 January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genda item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Rationale to review terms of reference </a:t>
            </a:r>
            <a:endParaRPr b="1" lang="en-US" sz="3800" spc="-1" strike="noStrike">
              <a:solidFill>
                <a:srgbClr val="20295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4694-30BB-4B8A-B5E5-899C89078A42}"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pic>
        <p:nvPicPr>
          <p:cNvPr id="380" name="" descr=""/>
          <p:cNvPicPr/>
          <p:nvPr/>
        </p:nvPicPr>
        <p:blipFill>
          <a:blip r:embed="rId2"/>
          <a:stretch/>
        </p:blipFill>
        <p:spPr>
          <a:xfrm>
            <a:off x="457200" y="1285560"/>
            <a:ext cx="822960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Harmonization – what we believe</a:t>
            </a:r>
            <a:endParaRPr b="1" lang="en-US" sz="3800" spc="-1" strike="noStrike">
              <a:solidFill>
                <a:srgbClr val="20295e"/>
              </a:solidFill>
              <a:latin typeface="Calibri"/>
            </a:endParaRPr>
          </a:p>
        </p:txBody>
      </p:sp>
      <p:sp>
        <p:nvSpPr>
          <p:cNvPr id="358" name=""/>
          <p:cNvSpPr txBox="1"/>
          <p:nvPr/>
        </p:nvSpPr>
        <p:spPr>
          <a:xfrm>
            <a:off x="457200" y="1285560"/>
            <a:ext cx="8229600" cy="47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with Autos that fuels should be ‘fit for purpo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support importation of vehicles into areas where the fuel supply is inappropriate for the technology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is to supply fuels that enable OEM emission control devices to work prope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air quality, not just tailpipe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9EE3-48F0-4E83-8794-D362F2636F87}"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20295e"/>
                </a:solidFill>
                <a:latin typeface="Calibri"/>
              </a:rPr>
              <a:t>IPIECA’s understanding of OICA premise</a:t>
            </a:r>
            <a:endParaRPr b="1" lang="en-US" sz="3800" spc="-1" strike="noStrike">
              <a:solidFill>
                <a:srgbClr val="20295e"/>
              </a:solidFill>
              <a:latin typeface="Calibri"/>
            </a:endParaRPr>
          </a:p>
        </p:txBody>
      </p:sp>
      <p:sp>
        <p:nvSpPr>
          <p:cNvPr id="361" name=""/>
          <p:cNvSpPr txBox="1"/>
          <p:nvPr/>
        </p:nvSpPr>
        <p:spPr>
          <a:xfrm>
            <a:off x="3571560" y="1214280"/>
            <a:ext cx="4900680" cy="4786560"/>
          </a:xfrm>
          <a:prstGeom prst="rect">
            <a:avLst/>
          </a:prstGeom>
          <a:noFill/>
          <a:ln w="0">
            <a:noFill/>
          </a:ln>
        </p:spPr>
        <p:txBody>
          <a:bodyPr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the serious issue of the limitation placed on the effectiveness of vehicle pollution control equipment by the quality of  the fuel used and available in the marketplace....”</a:t>
            </a:r>
            <a:endParaRPr b="0" lang="en-US" sz="2000" spc="-1" strike="noStrike">
              <a:solidFill>
                <a:srgbClr val="000000"/>
              </a:solidFill>
              <a:latin typeface="Calibri"/>
            </a:endParaRPr>
          </a:p>
          <a:p>
            <a:pPr lvl="1" marL="72072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295e"/>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it is clear that market fuel quality has to follow more closely the development in engine and exhaust after-treatment technology...”</a:t>
            </a:r>
            <a:endParaRPr b="0" lang="en-US" sz="20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even in developed countries, regulation of  market fuel is unharmonized and not always fully aligned with the vehicle technology necessary to meet emissions regulations...”</a:t>
            </a:r>
            <a:endParaRPr b="0" lang="en-US" sz="2000" spc="-1" strike="noStrike">
              <a:solidFill>
                <a:srgbClr val="000000"/>
              </a:solidFill>
              <a:latin typeface="Calibri"/>
            </a:endParaRPr>
          </a:p>
        </p:txBody>
      </p:sp>
      <p:sp>
        <p:nvSpPr>
          <p:cNvPr id="3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87F2-5BA3-4184-81FC-2B2301EF255C}"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pic>
        <p:nvPicPr>
          <p:cNvPr id="363" name="Picture 2" descr=""/>
          <p:cNvPicPr/>
          <p:nvPr/>
        </p:nvPicPr>
        <p:blipFill>
          <a:blip r:embed="rId2"/>
          <a:stretch/>
        </p:blipFill>
        <p:spPr>
          <a:xfrm>
            <a:off x="500040" y="1214280"/>
            <a:ext cx="3071880" cy="482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20295e"/>
                </a:solidFill>
                <a:latin typeface="Calibri"/>
              </a:rPr>
              <a:t>ToR</a:t>
            </a:r>
            <a:endParaRPr b="1" lang="en-US" sz="3800" spc="-1" strike="noStrike">
              <a:solidFill>
                <a:srgbClr val="20295e"/>
              </a:solidFill>
              <a:latin typeface="Calibri"/>
            </a:endParaRPr>
          </a:p>
        </p:txBody>
      </p:sp>
      <p:sp>
        <p:nvSpPr>
          <p:cNvPr id="365" name=""/>
          <p:cNvSpPr txBox="1"/>
          <p:nvPr/>
        </p:nvSpPr>
        <p:spPr>
          <a:xfrm>
            <a:off x="500040" y="2143080"/>
            <a:ext cx="8229600" cy="2857680"/>
          </a:xfrm>
          <a:prstGeom prst="rect">
            <a:avLst/>
          </a:prstGeom>
          <a:noFill/>
          <a:ln w="0">
            <a:noFill/>
          </a:ln>
        </p:spPr>
        <p:txBody>
          <a:bodyPr anchor="t">
            <a:normAutofit/>
          </a:bodyPr>
          <a:p>
            <a:pPr marL="343080" indent="20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informal group shall develop …. recommendations on market fuel quality to ensure that vehicles….use in their daily service fuels with specific characteristics relating to the vehicle emission levels and technology type”</a:t>
            </a:r>
            <a:endParaRPr b="0" lang="en-US" sz="2800" spc="-1" strike="noStrike">
              <a:solidFill>
                <a:srgbClr val="000000"/>
              </a:solidFill>
              <a:latin typeface="Calibri"/>
            </a:endParaRPr>
          </a:p>
          <a:p>
            <a:pPr marL="343080" indent="20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8327-B58D-4E3D-B251-31F5609A6BF1}"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OICA &amp; IPIECA discussions</a:t>
            </a:r>
            <a:endParaRPr b="1" lang="en-US" sz="3800" spc="-1" strike="noStrike">
              <a:solidFill>
                <a:srgbClr val="20295e"/>
              </a:solidFill>
              <a:latin typeface="Calibri"/>
            </a:endParaRPr>
          </a:p>
        </p:txBody>
      </p:sp>
      <p:sp>
        <p:nvSpPr>
          <p:cNvPr id="368" name=""/>
          <p:cNvSpPr txBox="1"/>
          <p:nvPr/>
        </p:nvSpPr>
        <p:spPr>
          <a:xfrm>
            <a:off x="457200" y="150012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ized in working paper No. FQ-03-02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greement on basic param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difference of opinion on wider scope and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IECA: specify fuel parameters that could degrade emissions control equip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CA: specify any parameter that affects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50C4-5945-429C-8670-998D752C3D59}"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FQ-02 minutes</a:t>
            </a:r>
            <a:endParaRPr b="1" lang="en-US" sz="3800" spc="-1" strike="noStrike">
              <a:solidFill>
                <a:srgbClr val="20295e"/>
              </a:solidFill>
              <a:latin typeface="Calibri"/>
            </a:endParaRPr>
          </a:p>
        </p:txBody>
      </p:sp>
      <p:sp>
        <p:nvSpPr>
          <p:cNvPr id="371" name=""/>
          <p:cNvSpPr txBox="1"/>
          <p:nvPr/>
        </p:nvSpPr>
        <p:spPr>
          <a:xfrm>
            <a:off x="428760" y="1142640"/>
            <a:ext cx="8229600" cy="4786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USA: </a:t>
            </a:r>
            <a:r>
              <a:rPr b="0" i="1" lang="en-GB" sz="2400" spc="-1" strike="noStrike">
                <a:solidFill>
                  <a:srgbClr val="000000"/>
                </a:solidFill>
                <a:latin typeface="Calibri"/>
              </a:rPr>
              <a:t>“..suggested that the fuel </a:t>
            </a:r>
            <a:r>
              <a:rPr b="0" i="1" lang="en-US" sz="2400" spc="-1" strike="noStrike">
                <a:solidFill>
                  <a:srgbClr val="000000"/>
                </a:solidFill>
                <a:latin typeface="Calibri"/>
              </a:rPr>
              <a:t>quality parameters should be limited to those fuel controls deemed necessary to enable the corresponding emission limits of the motor vehicle engines (e.g. sulphur, lead).”</a:t>
            </a:r>
            <a:r>
              <a:rPr b="0" lang="en-US" sz="2400" spc="-1" strike="noStrike">
                <a:solidFill>
                  <a:srgbClr val="000000"/>
                </a:solidFill>
                <a:latin typeface="Calibri"/>
              </a:rPr>
              <a:t>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C:  </a:t>
            </a:r>
            <a:r>
              <a:rPr b="0" lang="en-US" sz="2400" spc="-1" strike="noStrike">
                <a:solidFill>
                  <a:srgbClr val="000000"/>
                </a:solidFill>
                <a:latin typeface="Calibri"/>
              </a:rPr>
              <a:t>“…</a:t>
            </a:r>
            <a:r>
              <a:rPr b="0" i="1" lang="en-US" sz="2400" spc="-1" strike="noStrike">
                <a:solidFill>
                  <a:srgbClr val="000000"/>
                </a:solidFill>
                <a:latin typeface="Calibri"/>
              </a:rPr>
              <a:t>suggested considering, in a first step, a reduced number of fuel parameters which have a direct influence on the engine emissions, such as lead and sulphur”</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na, Canada, India: </a:t>
            </a:r>
            <a:r>
              <a:rPr b="0" lang="en-US" sz="2400" spc="-1" strike="noStrike">
                <a:solidFill>
                  <a:srgbClr val="000000"/>
                </a:solidFill>
                <a:latin typeface="Calibri"/>
              </a:rPr>
              <a:t>“…</a:t>
            </a:r>
            <a:r>
              <a:rPr b="0" i="1" lang="en-US" sz="2400" spc="-1" strike="noStrike">
                <a:solidFill>
                  <a:srgbClr val="000000"/>
                </a:solidFill>
                <a:latin typeface="Calibri"/>
              </a:rPr>
              <a:t>confirmed to go forward with a first set of fuel parameters in relation with engine emission technology type, as suggested by the EC expert”</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Romania, the Netherlands, Belgium, Czech Republic, France, Germany, Hungary and Italy </a:t>
            </a:r>
            <a:r>
              <a:rPr b="0" i="1" lang="en-US" sz="2400" spc="-1" strike="noStrike">
                <a:solidFill>
                  <a:srgbClr val="000000"/>
                </a:solidFill>
                <a:latin typeface="Calibri"/>
              </a:rPr>
              <a:t>also supported the position of the EC</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1341-C7C0-488B-95ED-B69980C47682}"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TextBox 11"/>
          <p:cNvSpPr/>
          <p:nvPr/>
        </p:nvSpPr>
        <p:spPr>
          <a:xfrm>
            <a:off x="466560" y="1125360"/>
            <a:ext cx="820908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PIECA and OICA discussions on  harmonization of Gasoline and Diesel paramet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RO II – EURO IV</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 back to FQ informal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4" name="Object 10"/>
          <p:cNvGraphicFramePr/>
          <p:nvPr/>
        </p:nvGraphicFramePr>
        <p:xfrm>
          <a:off x="900000" y="189000"/>
          <a:ext cx="5904000" cy="8886600"/>
        </p:xfrm>
        <a:graphic>
          <a:graphicData uri="http://schemas.openxmlformats.org/presentationml/2006/ole">
            <p:oleObj r:id="rId2" spid="">
              <p:embed/>
              <p:pic>
                <p:nvPicPr>
                  <p:cNvPr id="375" name="Object 10" descr=""/>
                  <p:cNvPicPr/>
                  <p:nvPr/>
                </p:nvPicPr>
                <p:blipFill>
                  <a:blip r:embed="rId3"/>
                  <a:stretch/>
                </p:blipFill>
                <p:spPr>
                  <a:xfrm>
                    <a:off x="900000" y="189000"/>
                    <a:ext cx="5904000" cy="88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6" name="Object 1"/>
          <p:cNvGraphicFramePr/>
          <p:nvPr/>
        </p:nvGraphicFramePr>
        <p:xfrm>
          <a:off x="1116000" y="404640"/>
          <a:ext cx="6443640" cy="9145800"/>
        </p:xfrm>
        <a:graphic>
          <a:graphicData uri="http://schemas.openxmlformats.org/presentationml/2006/ole">
            <p:oleObj r:id="rId2" spid="">
              <p:embed/>
              <p:pic>
                <p:nvPicPr>
                  <p:cNvPr id="377" name="Object 1" descr=""/>
                  <p:cNvPicPr/>
                  <p:nvPr/>
                </p:nvPicPr>
                <p:blipFill>
                  <a:blip r:embed="rId3"/>
                  <a:stretch/>
                </p:blipFill>
                <p:spPr>
                  <a:xfrm>
                    <a:off x="1116000" y="404640"/>
                    <a:ext cx="6443640" cy="914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1:39:52Z</dcterms:created>
  <dc:creator>Rob</dc:creator>
  <dc:description/>
  <dc:language>en-US</dc:language>
  <cp:lastModifiedBy>Romain HUBERT</cp:lastModifiedBy>
  <dcterms:modified xsi:type="dcterms:W3CDTF">2010-01-14T19:02:27Z</dcterms:modified>
  <cp:revision>10</cp:revision>
  <dc:subject/>
  <dc:title>Presentation to GRPE  Informal Group FQ – 03 January 2009</dc:title>
</cp:coreProperties>
</file>