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E44-30C7-4C9B-8764-3D936D3C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8EA-E42D-414D-9A63-DC9000AF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B12-7FDC-4ABF-880C-B201FBEA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AF3-FF47-4405-97BE-4BB8D2E7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2B2-A817-47F3-B8AD-7F1DEDD9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692-F278-4005-8FB4-EC3BFDC0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B02-79E4-49A2-96FD-CBB74F01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553-1FD6-4120-AD68-277D0EB6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D50-4698-4BCB-AEDC-BD07137F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C4A-AF55-46B2-B7C7-8E835DAD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08D-439C-4F4E-BC11-8581F4D0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976-2857-4DAA-BA55-C7ED83B2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6EB9-4025-4CD1-8A57-476CDA4A0A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/>
          <p:cNvSpPr/>
          <p:nvPr/>
        </p:nvSpPr>
        <p:spPr>
          <a:xfrm>
            <a:off x="466560" y="1125360"/>
            <a:ext cx="820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PIECA and OICA discussions on  harmonization of Gasoline and Diesel para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URO II – EURO I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port back to FQ informal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5364000" y="115920"/>
            <a:ext cx="3600720" cy="104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Working paper N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FQ-05-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(5th informal meeting on Fuel Quality, Geneva, 12 January 2010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s 2 and 3.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10"/>
          <p:cNvGraphicFramePr/>
          <p:nvPr/>
        </p:nvGraphicFramePr>
        <p:xfrm>
          <a:off x="900000" y="189000"/>
          <a:ext cx="5904000" cy="88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9000"/>
                    <a:ext cx="5904000" cy="88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1"/>
          <p:cNvGraphicFramePr/>
          <p:nvPr/>
        </p:nvGraphicFramePr>
        <p:xfrm>
          <a:off x="1116000" y="404640"/>
          <a:ext cx="6443640" cy="914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4640"/>
                    <a:ext cx="6443640" cy="9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0:06:49Z</dcterms:created>
  <dc:creator>Rob</dc:creator>
  <dc:description/>
  <dc:language>en-US</dc:language>
  <cp:lastModifiedBy>Romain HUBERT</cp:lastModifiedBy>
  <dcterms:modified xsi:type="dcterms:W3CDTF">2010-01-14T19:00:57Z</dcterms:modified>
  <cp:revision>5</cp:revision>
  <dc:subject/>
  <dc:title>PowerPoint Presentation</dc:title>
</cp:coreProperties>
</file>