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6520-89BE-4E3F-9129-4768A8AA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1EE0-7CA4-45E6-A5B8-B2DB8163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636C-63AC-4A18-A037-F2B381E1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E0A6-4820-4BCF-BCEF-0B80DF8D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DED6-12B8-4F20-9E2B-2D8CA9CF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B344-E95C-44FF-97C2-E8238D6F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12A2-304A-46CB-90BE-86F391B4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5FAE-9AA9-4668-90DF-A433BCF6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32CE-0DA2-4BB0-85AB-6B58193F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6711-5D3C-4EFA-B759-53ECA8BB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CAB9-E68B-4440-AE9E-FDAD91F5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B1C2-1DF1-40BA-A519-0A36B642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E850-6CB1-4F2A-8A31-94A029FC8A4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1"/>
          <p:cNvSpPr/>
          <p:nvPr/>
        </p:nvSpPr>
        <p:spPr>
          <a:xfrm>
            <a:off x="466560" y="1125360"/>
            <a:ext cx="8209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PIECA and OICA discussions on  harmonization of Gasoline and Diesel parame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URO II – EURO I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Report back to FQ informal gro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5364000" y="115920"/>
            <a:ext cx="3600720" cy="104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Working paper N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.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FQ-05-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(5th informal meeting on Fuel Quality, Geneva, 12 January 2010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PGothic"/>
              </a:rPr>
              <a:t>agenda items 2 and 3.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Object 10"/>
          <p:cNvGraphicFramePr/>
          <p:nvPr/>
        </p:nvGraphicFramePr>
        <p:xfrm>
          <a:off x="900000" y="189000"/>
          <a:ext cx="5904000" cy="88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89000"/>
                    <a:ext cx="5904000" cy="88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1"/>
          <p:cNvGraphicFramePr/>
          <p:nvPr/>
        </p:nvGraphicFramePr>
        <p:xfrm>
          <a:off x="1116000" y="404640"/>
          <a:ext cx="6443640" cy="914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04640"/>
                    <a:ext cx="6443640" cy="914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0:06:49Z</dcterms:created>
  <dc:creator>Rob</dc:creator>
  <dc:description/>
  <dc:language>en-US</dc:language>
  <cp:lastModifiedBy>Romain HUBERT</cp:lastModifiedBy>
  <dcterms:modified xsi:type="dcterms:W3CDTF">2010-01-14T19:00:57Z</dcterms:modified>
  <cp:revision>5</cp:revision>
  <dc:subject/>
  <dc:title>PowerPoint Presentation</dc:title>
</cp:coreProperties>
</file>