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9CA-AD30-43ED-B7AC-5059EF26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F9D-5648-4895-83CD-B29217A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F40-BEE1-4C38-AC93-1BF52678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2FB-9858-439B-8E67-A4706AD4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DE91-513C-41CD-89A5-E1B5F92A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A95-99B4-46C9-9808-ADD7B9D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91AD-9B48-421A-ABD1-C9D533D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89DE-8300-4D17-8A98-2BB21BA3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3BE8-972A-48D2-AC76-F4C52A2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5EE-8615-4A86-AF9B-6DAF0D33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C9A8-D9AC-4685-8782-4C3E2E3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714-21D9-4193-8CDE-F05F56C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ABDB-1159-4139-92DF-954CC1B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DE00-7899-4203-8F4C-432FA3B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7E4D-6BDD-404C-B44D-A551757D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58D-95C9-4616-B75A-E0948B91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40F-8BFC-4FFD-970F-58A6670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8ED-27F9-438A-9A86-60817C0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EE0-7F3F-4359-AA43-E3248C23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9F1-1A50-4FDC-8BAD-6394BDE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6AA-3B4C-4F51-B321-8EC7611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CE6-DDF6-437D-B8B7-3C6C34C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AC3-BDED-4758-97B7-70136A0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0A9-C718-4607-BD52-08A1C088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4A5-DFAD-4618-9F12-6955A05FD52B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A47-D905-4500-9E2B-871FF5F37C42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nl-NL" sz="4800" spc="-1" strike="noStrike">
                <a:solidFill>
                  <a:srgbClr val="336666"/>
                </a:solidFill>
                <a:latin typeface="Arial"/>
              </a:rPr>
              <a:t>Informal Group on Gaseous Fuelled Vehicles (GFV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666699"/>
                </a:solidFill>
                <a:latin typeface="Arial"/>
              </a:rPr>
              <a:t>Report to 60th GRPE June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189000"/>
            <a:ext cx="3200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6666"/>
                </a:solidFill>
                <a:uFillTx/>
                <a:latin typeface="Times New Roman"/>
                <a:ea typeface="ＭＳ Ｐゴシック"/>
              </a:rPr>
              <a:t>Informal document No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GRPE-60-20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(60th GRPE, 7-11 June 2010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genda item 6.2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Meetings GFV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9th GFV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66699"/>
                </a:solidFill>
                <a:latin typeface="Arial"/>
              </a:rPr>
              <a:t>28 April 2010 Brussels (CLE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0th GFV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66699"/>
                </a:solidFill>
                <a:latin typeface="Arial"/>
              </a:rPr>
              <a:t>08 June 2010 Gene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6666"/>
                </a:solidFill>
                <a:latin typeface="Arial"/>
              </a:rPr>
              <a:t>Agenda items GF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NMHC + CH4 versus THC in R.1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ofitted NG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Dual-fuel (diesel-gas) HD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est requirements R.49 (O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quirement R115 (retro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Mixed-fuel (petrol-gas) LD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Improvements of R.1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6666"/>
                </a:solidFill>
                <a:latin typeface="Arial"/>
              </a:rPr>
              <a:t>NMHC + CH4 versus THC</a:t>
            </a:r>
            <a:br>
              <a:rPr sz="3600"/>
            </a:br>
            <a:r>
              <a:rPr b="0" lang="nl-NL" sz="3600" spc="-1" strike="noStrike">
                <a:solidFill>
                  <a:srgbClr val="336666"/>
                </a:solidFill>
                <a:latin typeface="Arial"/>
              </a:rPr>
              <a:t>Retrofitted NG veh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H4 correction factor for Retrofit NGV justifi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 small evaluation studies performed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NO: 4 vehicles – JRC: 2 veh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 determine the CH4 convers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methane optimized cataly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petrol optimized cat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Result test program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4 efficiency Methane Catalyst: ~ 9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4 efficiency Petrol Catalyst: ~9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verage K factor = ~0.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pplicablility under consid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al aspects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70484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Dual-Fuel (diesel-gas) HD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rowing interest for Dual-Fuel HD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shop 30-31 March 2010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OEM  requirements </a:t>
            </a:r>
            <a:r>
              <a:rPr b="1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 R.4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Retrofit provisions </a:t>
            </a:r>
            <a:r>
              <a:rPr b="1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 R.115 and R.4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Dual Fuel approaches for NR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Proposed actions in GFV group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stigation of the different Dual-Fuel types and test-procedur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99"/>
                </a:solidFill>
                <a:latin typeface="Arial"/>
              </a:rPr>
              <a:t>Task-force for HD-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66699"/>
                </a:solidFill>
                <a:latin typeface="Arial"/>
              </a:rPr>
              <a:t>starting with R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66699"/>
                </a:solidFill>
                <a:latin typeface="Arial"/>
              </a:rPr>
              <a:t>Parallel provisions for R.115 will be investigated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Mixed-fuel (petrol-gas) LD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o emission requirements for petrol-gas (bi-fuel) vehicles who can use gas and petrol not only separately but also at the same time: “mixed fuel types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rst proposal for the calculation of THC and CO2 emis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666699"/>
                </a:solidFill>
                <a:latin typeface="Arial"/>
              </a:rPr>
              <a:t>A special task-force will investigate technologies and test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Improvements R11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Ongoing activity in the GFV group to update and improve the R.115 tex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A separate proposal for clarification in R115 concerning the applicability of Euro 5 TA vehicles was tabled in the 10th GF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existing situation will R.115  suppl. 4 (retrofit) be applicable for Euro 5 from august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proposal for more clarification resulted in a fundamental discussion on retrofit versus OEM gas vehicle solutions of Euro 5 veh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scussion will continue in GFV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336666"/>
                </a:solidFill>
                <a:latin typeface="Arial"/>
              </a:rPr>
              <a:t>Next GFV-meetin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FV meeting planned in October 2010 (no date/place confirmed y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quest for a half-day meeting in conjuncting with 61th GRP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00:33Z</dcterms:created>
  <dc:creator>rijnders</dc:creator>
  <dc:description/>
  <dc:language>en-US</dc:language>
  <cp:lastModifiedBy>Romain HUBERT</cp:lastModifiedBy>
  <dcterms:modified xsi:type="dcterms:W3CDTF">2010-06-10T16:35:16Z</dcterms:modified>
  <cp:revision>8</cp:revision>
  <dc:subject/>
  <dc:title> Informal Group on Gaseous Fuelled Vehicles (GFV)</dc:title>
</cp:coreProperties>
</file>