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7D8-5257-4894-9DC9-20EA9EBC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0E7-B438-4EAD-8630-E119ED36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BD7-81A2-41FC-8BA5-9C8A9547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695-C39F-4D68-A62D-BECAC935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0A7-F389-445E-93BC-499FDDF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390-02B5-4A0B-A1A1-AF74A8DB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0E4-FBD9-431D-ABD1-52130CB3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FAD-3739-4B17-93AB-76738B2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E5B-F736-473A-97F0-1DDC00CC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E23-8B0D-4DC4-A3F0-A66047D6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1CA-B78B-4B6D-8265-9748F96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194-21C4-4094-9D35-3D8B69A9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F70-6986-4F9D-AD55-C7A88E41D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sahi-net.or.jp/~yq3t-hruc/flag_NI_Japan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asahi-net.or.jp/~yq3t-hruc/flag_I_India.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asahi-net.or.jp/~yq3t-hruc/flag_NI_Japan.html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17560" y="1844640"/>
            <a:ext cx="75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nformal Group on WL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827000" y="4191120"/>
            <a:ext cx="546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Jun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lais des Nations, Gen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28600"/>
            <a:ext cx="35906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nformal document No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RPE-60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6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GRPE, 7-11 June 2010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genda item 6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62800" y="1255680"/>
            <a:ext cx="2340000" cy="3672000"/>
          </a:xfrm>
          <a:prstGeom prst="flowChartProcess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6120" y="216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Nex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255680"/>
            <a:ext cx="2303280" cy="3600360"/>
          </a:xfrm>
          <a:prstGeom prst="flowChartProcess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14360" y="1670040"/>
            <a:ext cx="1224000" cy="576360"/>
          </a:xfrm>
          <a:prstGeom prst="flowChartProcess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WL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88080" y="1631880"/>
            <a:ext cx="1224000" cy="576360"/>
          </a:xfrm>
          <a:prstGeom prst="flowChartProcess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WL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n. 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708280"/>
            <a:ext cx="1152360" cy="57636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Oct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0880" y="1603440"/>
            <a:ext cx="1596960" cy="117756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indent="-1364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mlete data coll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36440" indent="-1364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nalize the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960" y="5899320"/>
            <a:ext cx="84582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nt should be sent to Mr. ICHIKAW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Secretariat;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ick@ichikawa.tec.toyota.co.j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33840" y="1666800"/>
            <a:ext cx="1647720" cy="117756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840" indent="-123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3840" indent="-123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ilot analysi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3840" indent="-123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rush up the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79520" y="4653000"/>
            <a:ext cx="1584360" cy="64692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rt sub group 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7400" y="2708280"/>
            <a:ext cx="1224000" cy="57636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an. 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08280"/>
            <a:ext cx="1224000" cy="57636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4154400"/>
            <a:ext cx="1141200" cy="576360"/>
          </a:xfrm>
          <a:prstGeom prst="flowChartProcess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Oct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40640" y="4149720"/>
            <a:ext cx="1224000" cy="576360"/>
          </a:xfrm>
          <a:prstGeom prst="flowChartProcess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an. 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3"/>
            <a:endCxn id="81" idx="1"/>
          </p:cNvCxnSpPr>
          <p:nvPr/>
        </p:nvCxnSpPr>
        <p:spPr>
          <a:xfrm>
            <a:off x="1701720" y="2997000"/>
            <a:ext cx="2356560" cy="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91" name=""/>
          <p:cNvCxnSpPr>
            <a:stCxn id="81" idx="3"/>
            <a:endCxn id="86" idx="1"/>
          </p:cNvCxnSpPr>
          <p:nvPr/>
        </p:nvCxnSpPr>
        <p:spPr>
          <a:xfrm>
            <a:off x="5229360" y="2997000"/>
            <a:ext cx="1499040" cy="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92" name=""/>
          <p:cNvCxnSpPr>
            <a:stCxn id="88" idx="3"/>
            <a:endCxn id="89" idx="1"/>
          </p:cNvCxnSpPr>
          <p:nvPr/>
        </p:nvCxnSpPr>
        <p:spPr>
          <a:xfrm flipV="1">
            <a:off x="5218200" y="4438080"/>
            <a:ext cx="1513440" cy="54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93" name=""/>
          <p:cNvCxnSpPr>
            <a:stCxn id="86" idx="3"/>
            <a:endCxn id="80" idx="2"/>
          </p:cNvCxnSpPr>
          <p:nvPr/>
        </p:nvCxnSpPr>
        <p:spPr>
          <a:xfrm flipV="1">
            <a:off x="7970760" y="2217240"/>
            <a:ext cx="231120" cy="78048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94" name=""/>
          <p:cNvCxnSpPr>
            <a:stCxn id="89" idx="3"/>
            <a:endCxn id="80" idx="2"/>
          </p:cNvCxnSpPr>
          <p:nvPr/>
        </p:nvCxnSpPr>
        <p:spPr>
          <a:xfrm flipV="1">
            <a:off x="7973640" y="2217600"/>
            <a:ext cx="227880" cy="222156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cxnSp>
        <p:nvCxnSpPr>
          <p:cNvPr id="95" name=""/>
          <p:cNvCxnSpPr>
            <a:stCxn id="87" idx="3"/>
            <a:endCxn id="79" idx="2"/>
          </p:cNvCxnSpPr>
          <p:nvPr/>
        </p:nvCxnSpPr>
        <p:spPr>
          <a:xfrm flipV="1">
            <a:off x="1701720" y="2255400"/>
            <a:ext cx="226080" cy="74232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96" name=""/>
          <p:cNvSpPr/>
          <p:nvPr/>
        </p:nvSpPr>
        <p:spPr>
          <a:xfrm>
            <a:off x="5364000" y="4800600"/>
            <a:ext cx="1584360" cy="64692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mplete initial test 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3475080"/>
            <a:ext cx="2664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conjunc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HC and DTP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137120"/>
            <a:ext cx="1668600" cy="576000"/>
          </a:xfrm>
          <a:prstGeom prst="flowChartProcess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8" idx="3"/>
            <a:endCxn id="88" idx="1"/>
          </p:cNvCxnSpPr>
          <p:nvPr/>
        </p:nvCxnSpPr>
        <p:spPr>
          <a:xfrm>
            <a:off x="2073240" y="4425480"/>
            <a:ext cx="1985040" cy="1836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3"/>
          <p:cNvSpPr/>
          <p:nvPr/>
        </p:nvSpPr>
        <p:spPr>
          <a:xfrm>
            <a:off x="682560" y="480960"/>
            <a:ext cx="7777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rogress since last GRP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January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ganization during Phase I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Report from DHC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fer to WLTP-DHC-03-01 ~ 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LTP-DHC-04-01 ~ 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port from DTP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fer to WLTP-DHC-01-01 ~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LTP-DHC-02-01 ~ 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Nex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Nex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4040" y="171360"/>
            <a:ext cx="75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rogress since last GRP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January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1015920"/>
            <a:ext cx="828036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1. Started DTP Meeting (April 20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ly started its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TP meeting co-chaired by India and United States @ US-E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admap provided by US was reviewed and all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eed that the timing is aggressive but necessary. (2) Documents prepared by India (comparison of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equirement ) will be start 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) It was agreed to set up 5 sub-group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 Exhaust emission : PN/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Exhaust emission : Gaseous constituents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ing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,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) Lab. Process for conventional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) Lab. Process for EV/HEV/PHEV/F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) Reference fu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1960" y="62373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92280"/>
            <a:ext cx="828036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2. 3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rd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DHC Meeting (Apr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pan proposed the alternative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que to convert the in-use data to another categor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was agreed to pursue the analysis methodology as described in WLTP-DHC-02-04/05/06 and that the alternative approach could be used if WLTP-DHC-02-04 proves unsuccess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3556080"/>
            <a:ext cx="3657600" cy="108720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HC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          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52560" y="4122720"/>
            <a:ext cx="501840" cy="336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3556080"/>
            <a:ext cx="3657600" cy="108720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TP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      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英国国旗"/>
          <p:cNvPicPr/>
          <p:nvPr/>
        </p:nvPicPr>
        <p:blipFill>
          <a:blip r:embed="rId3"/>
          <a:stretch/>
        </p:blipFill>
        <p:spPr>
          <a:xfrm>
            <a:off x="3425760" y="4135320"/>
            <a:ext cx="501840" cy="33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11400" y="306864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Sub-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55600" y="163440"/>
            <a:ext cx="73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ganization during Phase I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4148280"/>
            <a:ext cx="501480" cy="336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472752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date : develop worldwide harmonized light duty driv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15080" y="4695840"/>
            <a:ext cx="36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date : develop worldwide harmonized light duty test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9" idx="0"/>
            <a:endCxn id="51" idx="0"/>
          </p:cNvCxnSpPr>
          <p:nvPr/>
        </p:nvCxnSpPr>
        <p:spPr>
          <a:xfrm flipH="1" rot="16200000">
            <a:off x="5149800" y="1999800"/>
            <a:ext cx="965880" cy="21470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60" name=""/>
          <p:cNvCxnSpPr>
            <a:stCxn id="59" idx="1"/>
            <a:endCxn id="49" idx="0"/>
          </p:cNvCxnSpPr>
          <p:nvPr/>
        </p:nvCxnSpPr>
        <p:spPr>
          <a:xfrm rot="5400000">
            <a:off x="3016440" y="2013480"/>
            <a:ext cx="965880" cy="21200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2235240" y="1066680"/>
            <a:ext cx="4648320" cy="152424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WLTP Inform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TBD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Secretary : N. ICHIKAWA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89840" y="2090880"/>
            <a:ext cx="501480" cy="33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アメリカ合衆国（米国）国旗"/>
          <p:cNvPicPr/>
          <p:nvPr/>
        </p:nvPicPr>
        <p:blipFill>
          <a:blip r:embed="rId8"/>
          <a:stretch/>
        </p:blipFill>
        <p:spPr>
          <a:xfrm>
            <a:off x="7680240" y="4140360"/>
            <a:ext cx="505080" cy="33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03280" y="5881680"/>
            <a:ext cx="6408720" cy="703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under the consideration that both chairperson also have a responsibility for “gtr TEX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341360"/>
            <a:ext cx="84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collection : on going as planned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sharing : will be ready by the middle of June 2010 @ JRC FTP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a analysis methodology : alternative technique was well recognized but need more clear explan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9560" y="33660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Report from DHC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54480" y="18900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port from DTP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2360" y="880920"/>
            <a:ext cx="84963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TP organization : OICA voluntary dispatched the secretary for DTP group. Contracting parties who co-lead each sub group were decided (refer next pag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tr drafting : it is under the consideration that DHC/DTP chair will have a responsibility for drafting gtr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ICA presentation : 3 precise and detailed documents (DTP structure/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/N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 were presented and these documents will be start point for upcoming work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01600" y="30312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TP Sub-Group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5760" y="942840"/>
          <a:ext cx="8076960" cy="5112000"/>
        </p:xfrm>
        <a:graphic>
          <a:graphicData uri="http://schemas.openxmlformats.org/drawingml/2006/table">
            <a:tbl>
              <a:tblPr/>
              <a:tblGrid>
                <a:gridCol w="2292120"/>
                <a:gridCol w="3192480"/>
                <a:gridCol w="2592360"/>
              </a:tblGrid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Lea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N/P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 Parkin (UK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line Hosier (OIC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eous constitu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iver Moersch (OIC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D (EC/JR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. Process 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C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han Redmann (Germ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ner Kummer (OIC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. Pro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V/HEV/PHEV/FCV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zuki Kobayashi (JAP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Ohlund (Swede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utaka Sawada (OIC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 Coleman (OIC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D (E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10120" y="6114960"/>
            <a:ext cx="74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) Due to heavy work load,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eader may b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26800" y="22536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Nex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281240"/>
            <a:ext cx="8137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-use data collection and submission    (China, EU, India, Japan, Korea, U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pilot analysis by using currently available data to derive the potential problem and improve the methodolo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7858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DHC 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960" y="38736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DTP 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7520" y="4440240"/>
            <a:ext cx="7656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practical work in each sub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the text structure of the test proced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5:02:39Z</dcterms:created>
  <dc:creator>エンジン企画部　企画・総括室</dc:creator>
  <dc:description/>
  <dc:language>en-US</dc:language>
  <cp:lastModifiedBy>Romain HUBERT</cp:lastModifiedBy>
  <dcterms:modified xsi:type="dcterms:W3CDTF">2010-06-10T11:21:41Z</dcterms:modified>
  <cp:revision>208</cp:revision>
  <dc:subject/>
  <dc:title>PowerPoint プレゼンテーション</dc:title>
</cp:coreProperties>
</file>