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455840"/>
          </a:xfrm>
          <a:prstGeom prst="rect">
            <a:avLst/>
          </a:prstGeom>
          <a:solidFill>
            <a:srgbClr val="016e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531200" y="0"/>
            <a:ext cx="1612800" cy="747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P Heavy Duty Validation Exerc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-laboratory exercise at 5 labs: JRC(x2), AVL-MTC, Ricardo, UTAC, EM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nuary 2008 – November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PF equipped Golden En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Golden Systems (CVS &amp; PF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lden Engin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fuel &amp; lubric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matrix included multiple repeat WHTC (cold and hot), WHSC, ETC and ESC cy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443640" y="2924280"/>
            <a:ext cx="2481120" cy="2170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435640" y="0"/>
            <a:ext cx="3708360" cy="55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ＭＳ Ｐゴシック"/>
              </a:rPr>
              <a:t>Informal document N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.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RPE-60-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(60th GRPE, 7-11 June 2010, agenda item 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commend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s should monitor and manage tunnel background e.g. via use and cleaning of PFDS, test scheduling, tunnel pre-conditi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er variability on WHSC (due to passive regeneration) needs to be allowed for in setting of PN limit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N sample flow extraction should be corrected for in PFDS control &amp; PM measurement (total sampling ty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M Observ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ly well below 10mg/kW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al cycle depend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high results due to high tunnel background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0" t="0" r="2251" b="0"/>
          <a:stretch/>
        </p:blipFill>
        <p:spPr>
          <a:xfrm>
            <a:off x="611280" y="2637000"/>
            <a:ext cx="7296120" cy="3744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699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N Emissions Lev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87280" y="2492280"/>
            <a:ext cx="6624720" cy="4160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21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st emissions highest over cold start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temperature operation in WHSC and ESC showed some increased emissions due to passive re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N Repeat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.20% WHTC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col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50% WHTC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ho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c.20% WHTC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combine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60-70% WH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milar repeatability CVS and P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7128000" cy="43689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N Reproduci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26920" y="2349360"/>
            <a:ext cx="6985080" cy="4291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0-50% WHTC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col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50-80% WHTC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ho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c.50% WHTC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combine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c.80% WH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ution System Background Influ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24000" y="2060640"/>
            <a:ext cx="5256000" cy="2541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39640" y="1557360"/>
            <a:ext cx="8064720" cy="19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some labs’ CVS dilution systems, background levels were significant over low emission cy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780000" y="4226040"/>
            <a:ext cx="5364000" cy="26082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SC Passive Regeneration Imp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65% of cycle in temperature window in which passive regeneration can occ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emissions and vari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71640" y="2637000"/>
            <a:ext cx="6985080" cy="3965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720072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greement of Different PN Measurement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873612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ibrated systems generally agreed well with Golden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system background on some uncalibrated systems gave higher offsets at lower emissions le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0" t="8502" r="0" b="0"/>
          <a:stretch/>
        </p:blipFill>
        <p:spPr>
          <a:xfrm>
            <a:off x="971640" y="2637000"/>
            <a:ext cx="6337080" cy="4100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792324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566720"/>
            <a:ext cx="874872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N Measurement System performed reliably with no significant fail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N emission levels over cold WHTC were ~4×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#/kWh. At these emission levels, dilution system background is insignific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N emission levels over hot start WHTC and ETC cycles were &lt;2×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#/kW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ive regeneration occurring over the WHSC and ESC cycles results in an increase of the emissions, up to 6×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#/kWh, and in variability due to influence of initial DPF fill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ground in some labs CVS dilution systems was a substantial influence on their hot start cycle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ernative systems correlated closely with the GP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ability and reproducibility levels were similar for Full and Partial Flow Dilution Systems, ranging fro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20% and ~40%, respectively, over cold WHTC ;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70% and ~80%, respectively, over WHSC, due to passive regeneration related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12:56:46Z</dcterms:created>
  <dc:creator>Chris Parkin</dc:creator>
  <dc:description/>
  <dc:language>en-US</dc:language>
  <cp:lastModifiedBy>Romain HUBERT</cp:lastModifiedBy>
  <dcterms:modified xsi:type="dcterms:W3CDTF">2010-06-10T11:17:42Z</dcterms:modified>
  <cp:revision>4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