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E7D-3AC3-4033-A771-0ABF51A4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20E-8A7B-4EF3-B0BA-6871FC6F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7C3-99DB-4018-BEC5-D3567C0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3D2-1B78-42EF-869B-83931F4C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8A6-A78D-4F0B-8B24-708F464E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B5A-4EEA-4934-BE22-1ACC14C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7EB-C56F-488B-B220-183FDBA4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0EC-25D2-4FA6-B296-F6C8B69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C30-C4CE-4720-80F2-755FD2E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872-197C-476C-90EF-719F3BD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341-061A-4B4A-AD00-76DF9A0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781-DC26-4FEA-A300-A01039E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6B47-B580-48E6-AC82-A21CCA9A3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sahi-net.or.jp/~yq3t-hruc/flag_NI_Japan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sahi-net.or.jp/~yq3t-hruc/flag_NI_Japan.html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asahi-net.or.jp/~yq3t-hruc/flag_A_America.html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asahi-net.or.jp/~yq3t-hruc/flag_I_India.html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17560" y="1844640"/>
            <a:ext cx="75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Informal Group on WL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827000" y="4191120"/>
            <a:ext cx="546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 Januar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lais des Nations, Gen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28600"/>
            <a:ext cx="35906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Informal document No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RPE-59-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59th GRPE, 11-15 January 2010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genda item 6(a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54480" y="33660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port from DTP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268280"/>
            <a:ext cx="82072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a and USA presented the proposed roadmap of DTP subgroup activities and requested Contracting Parties to make comments and/or presentati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was proposed to hold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TP mee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13 April 2010 to 15 April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13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USEPA (Ann Arbor, Michigan U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26800" y="22536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Nex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84582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a concrete plan for in-use data collection and submit to Chairman                 by 19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ebruary 2010. (China, EU, FIA, U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in-use data collection based on each region’s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DTP work chaired by India and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e the alternative and/or backup methodology, if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62800" y="1052640"/>
            <a:ext cx="2340000" cy="3671640"/>
          </a:xfrm>
          <a:prstGeom prst="flowChartProcess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0th GR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6120" y="2160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Nex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052640"/>
            <a:ext cx="2340000" cy="2147760"/>
          </a:xfrm>
          <a:prstGeom prst="flowChartProcess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59th GR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0160" y="1467000"/>
            <a:ext cx="1223640" cy="576000"/>
          </a:xfrm>
          <a:prstGeom prst="flowChartProcess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WL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 Ja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88080" y="1428840"/>
            <a:ext cx="1224000" cy="576000"/>
          </a:xfrm>
          <a:prstGeom prst="flowChartProcess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WL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2440" y="4048200"/>
            <a:ext cx="922320" cy="457200"/>
          </a:xfrm>
          <a:prstGeom prst="rightArrow">
            <a:avLst>
              <a:gd name="adj1" fmla="val 50000"/>
              <a:gd name="adj2" fmla="val 50433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2238480"/>
            <a:ext cx="1224000" cy="57600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5 Apr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6600" y="2903400"/>
            <a:ext cx="1474560" cy="64692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gress of data coll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00" y="5965920"/>
            <a:ext cx="84582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ent should be sent to Mr. ICHIKAW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Secretariat;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ick@ichikawa.tec.toyota.co.j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2890800"/>
            <a:ext cx="1749240" cy="91224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alternative methodology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3933720"/>
            <a:ext cx="1379880" cy="64692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if availab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7400" y="2238480"/>
            <a:ext cx="1224000" cy="57600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238480"/>
            <a:ext cx="1224000" cy="576000"/>
          </a:xfrm>
          <a:prstGeom prst="flowChartProcess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H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3 Ja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98800" y="3951360"/>
            <a:ext cx="1668600" cy="576360"/>
          </a:xfrm>
          <a:prstGeom prst="flowChartProcess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3~15 Apr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3946680"/>
            <a:ext cx="1224000" cy="576000"/>
          </a:xfrm>
          <a:prstGeom prst="flowChartProcess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de-DE" sz="1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D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9 Jun.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3"/>
            <a:endCxn id="90" idx="1"/>
          </p:cNvCxnSpPr>
          <p:nvPr/>
        </p:nvCxnSpPr>
        <p:spPr>
          <a:xfrm>
            <a:off x="1701360" y="2526840"/>
            <a:ext cx="2645640" cy="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3"/>
            <a:endCxn id="95" idx="1"/>
          </p:cNvCxnSpPr>
          <p:nvPr/>
        </p:nvCxnSpPr>
        <p:spPr>
          <a:xfrm>
            <a:off x="5589360" y="2526840"/>
            <a:ext cx="1138680" cy="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7" idx="3"/>
            <a:endCxn id="98" idx="1"/>
          </p:cNvCxnSpPr>
          <p:nvPr/>
        </p:nvCxnSpPr>
        <p:spPr>
          <a:xfrm flipV="1">
            <a:off x="5576760" y="4234680"/>
            <a:ext cx="1154880" cy="54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88" idx="2"/>
          </p:cNvCxnSpPr>
          <p:nvPr/>
        </p:nvCxnSpPr>
        <p:spPr>
          <a:xfrm flipV="1">
            <a:off x="7970760" y="2014200"/>
            <a:ext cx="231120" cy="51336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8" idx="3"/>
            <a:endCxn id="88" idx="2"/>
          </p:cNvCxnSpPr>
          <p:nvPr/>
        </p:nvCxnSpPr>
        <p:spPr>
          <a:xfrm flipV="1">
            <a:off x="7973640" y="2013840"/>
            <a:ext cx="227880" cy="222156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3"/>
            <a:endCxn id="87" idx="2"/>
          </p:cNvCxnSpPr>
          <p:nvPr/>
        </p:nvCxnSpPr>
        <p:spPr>
          <a:xfrm flipV="1">
            <a:off x="1701360" y="2052360"/>
            <a:ext cx="281880" cy="475200"/>
          </a:xfrm>
          <a:prstGeom prst="bentConnector2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4284720" y="4641840"/>
            <a:ext cx="1871640" cy="1177560"/>
          </a:xfrm>
          <a:prstGeom prst="flowChartDocumen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DTP goals and roadm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cussion on draft test 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1357200"/>
            <a:ext cx="2376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conjunc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TP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f necessa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3"/>
          <p:cNvSpPr/>
          <p:nvPr/>
        </p:nvSpPr>
        <p:spPr>
          <a:xfrm>
            <a:off x="682560" y="480960"/>
            <a:ext cx="777708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rogress since last GRP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June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fer to WLTP-04-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ganization during Phase I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Report from DHC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fer to WLTP-DHC-01-01 ~ 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LTP-DHC-02-01 ~ 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port from DTP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fer to WLTP-04-03, -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Nex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Nex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3760" y="336600"/>
            <a:ext cx="71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rogress since last GRP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June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268280"/>
            <a:ext cx="8424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1. During 14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WP.29 (June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uropean Community, Japan and the United States of America committed to ensure the technical co-sponsorship of WLTP and were invited to submit to the AC.3 the their joint proposal to develop the gtr at 149th WP.2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.3 agreed, in phase I, to limit the gtr programme to the DHC and to DTP, but also agreed to work MAC/OCE in parallel with phase I in an open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.3 agreed that DHC should start, as soon as possible, its work under the chairmanship of Japan and the Vice-chairmanship of United Kingdom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240" y="6093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3680" y="401760"/>
            <a:ext cx="828036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2. Started DHC Meeting (September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rding to AC.3 agreement, started its 1st DHC meeting prior to WP.29/AC.3 adoption to disc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 Proposed methodology of harmonized driving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) Guideline of in-use data coll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th Korea committed to participate in the in-use data collection program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3. During the 149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WP.29 (November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.3 adopted the proposal for the development of a gtr on WLTP (submitted by the European Community, Japan and United States of America) with slight mod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.3 agreed that India and United States of America should co-chair DTP subgrou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84840" y="2746440"/>
            <a:ext cx="3657600" cy="91908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gtr TEXT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TB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370400"/>
            <a:ext cx="3657600" cy="108756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HC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          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52560" y="4937040"/>
            <a:ext cx="501840" cy="33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4370400"/>
            <a:ext cx="3657600" cy="1087560"/>
          </a:xfrm>
          <a:prstGeom prst="bevel">
            <a:avLst>
              <a:gd name="adj" fmla="val 9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TP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haired by            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英国国旗"/>
          <p:cNvPicPr/>
          <p:nvPr/>
        </p:nvPicPr>
        <p:blipFill>
          <a:blip r:embed="rId3"/>
          <a:stretch/>
        </p:blipFill>
        <p:spPr>
          <a:xfrm>
            <a:off x="3425760" y="4950000"/>
            <a:ext cx="501840" cy="336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235240" y="1066680"/>
            <a:ext cx="4648320" cy="1523880"/>
            <a:chOff x="2235240" y="1066680"/>
            <a:chExt cx="4648320" cy="1523880"/>
          </a:xfrm>
        </p:grpSpPr>
        <p:sp>
          <p:nvSpPr>
            <p:cNvPr id="55" name=""/>
            <p:cNvSpPr/>
            <p:nvPr/>
          </p:nvSpPr>
          <p:spPr>
            <a:xfrm>
              <a:off x="2235240" y="1066680"/>
              <a:ext cx="4648320" cy="1523880"/>
            </a:xfrm>
            <a:prstGeom prst="bevel">
              <a:avLst>
                <a:gd name="adj" fmla="val 91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f497d"/>
                  </a:solidFill>
                  <a:latin typeface="Arial"/>
                </a:rPr>
                <a:t>WLTP Informal Grou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Chaired by Mr. GAUVIN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Secretary : N. ICHIKAWA</a:t>
              </a: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" name="" descr="フランス国旗"/>
            <p:cNvPicPr/>
            <p:nvPr/>
          </p:nvPicPr>
          <p:blipFill>
            <a:blip r:embed="rId4"/>
            <a:stretch/>
          </p:blipFill>
          <p:spPr>
            <a:xfrm>
              <a:off x="6189840" y="1722240"/>
              <a:ext cx="5014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89840" y="2090520"/>
              <a:ext cx="501480" cy="3366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8" name=""/>
          <p:cNvCxnSpPr>
            <a:stCxn id="55" idx="0"/>
            <a:endCxn id="49" idx="0"/>
          </p:cNvCxnSpPr>
          <p:nvPr/>
        </p:nvCxnSpPr>
        <p:spPr>
          <a:xfrm flipH="1" rot="16200000">
            <a:off x="4413960" y="2735640"/>
            <a:ext cx="616680" cy="3261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3011400" y="388296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Sub-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5600" y="163440"/>
            <a:ext cx="73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ganization during Phase I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67640" y="4962600"/>
            <a:ext cx="50148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962600"/>
            <a:ext cx="501480" cy="336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554040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date : develop worldwide harmonized light duty driv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15080" y="5508720"/>
            <a:ext cx="36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date : develop worldwide harmonized light duty test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1"/>
            <a:endCxn id="52" idx="0"/>
          </p:cNvCxnSpPr>
          <p:nvPr/>
        </p:nvCxnSpPr>
        <p:spPr>
          <a:xfrm flipH="1" rot="16200000">
            <a:off x="4742640" y="2406960"/>
            <a:ext cx="1780200" cy="2147040"/>
          </a:xfrm>
          <a:prstGeom prst="bentConnector3">
            <a:avLst>
              <a:gd name="adj1" fmla="val 70368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66" name=""/>
          <p:cNvCxnSpPr>
            <a:stCxn id="55" idx="2"/>
            <a:endCxn id="50" idx="0"/>
          </p:cNvCxnSpPr>
          <p:nvPr/>
        </p:nvCxnSpPr>
        <p:spPr>
          <a:xfrm rot="5400000">
            <a:off x="2609280" y="2420640"/>
            <a:ext cx="1780200" cy="2120040"/>
          </a:xfrm>
          <a:prstGeom prst="bentConnector3">
            <a:avLst>
              <a:gd name="adj1" fmla="val 70469"/>
            </a:avLst>
          </a:prstGeom>
          <a:ln w="2844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テキスト ボックス 3"/>
          <p:cNvSpPr/>
          <p:nvPr/>
        </p:nvSpPr>
        <p:spPr>
          <a:xfrm>
            <a:off x="506520" y="1090440"/>
            <a:ext cx="2519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-1. 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6600" y="174780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ise a methodology for the development of a worldwide harmonized light-duty driving test cyc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 guidelines for in-use data collec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451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 and validate a world harmonized light-duty driving test cycle (activities to include validation, confirmation and round-robin test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19560" y="33660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Report from DHC sub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テキスト ボックス 3"/>
          <p:cNvSpPr/>
          <p:nvPr/>
        </p:nvSpPr>
        <p:spPr>
          <a:xfrm>
            <a:off x="304920" y="328680"/>
            <a:ext cx="860400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-2. Meeting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636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s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eeting : 7 ~ 9, Sept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@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 Commission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u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636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Meeting : 13 Jan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@ Palais des Nations, Gene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　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280" y="346248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-3. Summary of 1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and 2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477720" y="4119480"/>
            <a:ext cx="8487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440" indent="-3794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hodology for the development of a  harmonized light-duty driving test cyc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8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558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Proposed methodology has been agreed, with possibility of revision at a later st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9240" y="6165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テキスト ボックス 3"/>
          <p:cNvSpPr/>
          <p:nvPr/>
        </p:nvSpPr>
        <p:spPr>
          <a:xfrm>
            <a:off x="250920" y="692280"/>
            <a:ext cx="86421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Although a concern on regional weighting factor was raised, data collection and analysis will begin using the proposed data analysis methodology and in-use data collection guidelines – it is important to begin data collection now and assess the suitability of the analysis methodology once data are available for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85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Weighting factor would be discussed at a later stage, as data are collected and reported to DH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テキスト ボックス 3"/>
          <p:cNvSpPr/>
          <p:nvPr/>
        </p:nvSpPr>
        <p:spPr>
          <a:xfrm>
            <a:off x="395280" y="371520"/>
            <a:ext cx="8064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uidelines for in-use data collec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2388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ed guideline was approved with modification on data submission deadline as follow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22400" y="2637000"/>
          <a:ext cx="6294240" cy="3821040"/>
        </p:xfrm>
        <a:graphic>
          <a:graphicData uri="http://schemas.openxmlformats.org/drawingml/2006/table">
            <a:tbl>
              <a:tblPr/>
              <a:tblGrid>
                <a:gridCol w="2557440"/>
                <a:gridCol w="373680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least CP 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ssible Japa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ssible Japan &amp; Kore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7283520" y="4064040"/>
            <a:ext cx="1150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83400" y="2708280"/>
            <a:ext cx="0" cy="1297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7653600" y="3718800"/>
            <a:ext cx="91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5:02:39Z</dcterms:created>
  <dc:creator>エンジン企画部　企画・総括室</dc:creator>
  <dc:description/>
  <dc:language>en-US</dc:language>
  <cp:lastModifiedBy>csd</cp:lastModifiedBy>
  <dcterms:modified xsi:type="dcterms:W3CDTF">2010-01-14T08:37:31Z</dcterms:modified>
  <cp:revision>159</cp:revision>
  <dc:subject/>
  <dc:title>PowerPoint プレゼンテーション</dc:title>
</cp:coreProperties>
</file>