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E6F-9321-4561-8A17-587CC721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EE0B-1365-4F7B-A15A-35D3A87F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0C98-13A1-49AB-8A89-A33E98A0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A0B6-EE23-4C09-9918-95BC36FA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DD2D-75FB-49A3-A371-F016BD57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3BBE-85C8-4A72-9167-0D0CFAB9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99A2-DBB7-4E35-A5BE-A308B4BA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E953-1859-414E-AE74-72808A4D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7C0-D401-42B9-B251-BCD80A08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FF7D-94E0-48A4-8D8D-6C2D0471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0D07-53AC-4565-BD5D-7E177224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4AC1-D816-4438-8CDE-B02288CA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D021-D12D-4FBE-879C-F60863480B5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SI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0000"/>
                </a:solidFill>
                <a:uFillTx/>
                <a:latin typeface="Times New Roman"/>
              </a:rPr>
              <a:t>JASIC’s  Proposal for changes to draft 04 series of amendments to Regulation No.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0000"/>
                </a:solidFill>
                <a:uFillTx/>
                <a:latin typeface="Times New Roman"/>
              </a:rPr>
              <a:t>Submitted by the experts from J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360" y="380520"/>
            <a:ext cx="5018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E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295280"/>
            <a:ext cx="48704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quest a tolerance of 1dB(A) for C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04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a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3581280"/>
            <a:ext cx="822960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3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conformity of production, the manufacturer shall make a renewed declaration that the type still fulfills the requirements of paragraphs 6.3.1. and 6.3.2. of this Regulation.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f tested, the requirements of Annex 7 shall be met with a tolerance of 1dB(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2362320"/>
            <a:ext cx="3351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Change of para. 8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ＭＳ 明朝"/>
              </a:rPr>
              <a:t>The non-controversial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91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・　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standard points + 1 optional point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　　　　　　　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 3+1 points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ft propo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standard points + 3 optional points as required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 3+3 points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man propo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standard points + 2 optional points as required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 3+2 points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man proposal 50G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keep 2 optional points which Germany proposes and to restrain testing work load, we propose 2 standard poin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standard points consists of maximum point and reference point+ 2 optional point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2+2 point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380880"/>
            <a:ext cx="5018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E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04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al</a:t>
            </a: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type approval authority as well as the technical service may request tests to check the compliance of the motorcycle with the requirements of section 2 above.  To avoid undue work load testing is restricted to the reference points defined in paragraph 3.2. below and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one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up to two</a:t>
            </a:r>
            <a:r>
              <a:rPr b="1" lang="en-GB" sz="16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additional operating condition</a:t>
            </a:r>
            <a:r>
              <a:rPr b="1" lang="en-GB" sz="16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other than the reference points but inside the ASEP control range.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2.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peed and gear 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ehicle shall be tested at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II.)</a:t>
            </a:r>
            <a:r>
              <a:rPr b="1" lang="ja-JP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III.)</a:t>
            </a:r>
            <a:r>
              <a:rPr b="1" lang="ja-JP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the following operating conditions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.)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 condition shall be treated as additional operating condi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A’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0 km/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A’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1 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f the corresponding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A’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20 km/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ed gear shall be 4th. If stable driving cannot be achieved using 4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ar, 3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ar shall be chosen. If stable driving cannot be achieved using 3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ar, 2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ar shall be cho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A’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all be at least 0.1 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049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380880"/>
            <a:ext cx="5018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E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480" y="2514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1.1.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information shall be provided on the motor cycle in an easily accessible but not necessarily immediately visible loc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nufacturer’s 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arget engine speed and the final result of the stationary test as defined in paragraph 2. of annex 3. to this Regulatio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tes: Until </a:t>
            </a:r>
            <a:r>
              <a:rPr b="1" lang="ja-JP" sz="2000" spc="-1" strike="noStrike">
                <a:solidFill>
                  <a:srgbClr val="ff0000"/>
                </a:solidFill>
                <a:latin typeface="Times New Roman"/>
              </a:rPr>
              <a:t>UN/ECE type approval database has been put in plac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, for class 3 vehicles the in-use compliance reference data as defined in paragraph 3. of annex 3 to this Reg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04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al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09320" y="60948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anufacturer’s pl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295280"/>
            <a:ext cx="7772400" cy="838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we request WP29 to construct the information system as U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0:18:25Z</dcterms:created>
  <dc:creator>MC事業本部技術統括部技術管理部</dc:creator>
  <dc:description/>
  <dc:language>en-US</dc:language>
  <cp:lastModifiedBy>Administrator</cp:lastModifiedBy>
  <dcterms:modified xsi:type="dcterms:W3CDTF">2010-04-16T06:30:07Z</dcterms:modified>
  <cp:revision>41</cp:revision>
  <dc:subject/>
  <dc:title>提案</dc:title>
</cp:coreProperties>
</file>