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613-D307-4198-9452-536761DA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C65-A14D-4D1C-A2A5-C00475AD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474-E0A1-4C1A-B007-BA728224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5A0-BA09-4C6A-A4B3-C741878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5A5-92E7-4460-BCA2-65F5CE7C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8D6-CC44-43E6-9F48-0B2B8E2C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388-EC97-4632-91D3-278E7BF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12A-4DEB-4A19-A52F-D205CD3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8FE-7A58-430D-9BB0-9281B8A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DDA-9D44-462B-AABF-DE0D2AF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38C-903C-4889-BDC7-150FB07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0E3-DB0C-4B45-B97A-31FA59D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1B46-27DC-4040-BA07-6C51987190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JASIC’s  Proposal for changes to draft 04 series of amendments to Regulation No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Submitted by the experts from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5018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295280"/>
            <a:ext cx="4870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est a tolerance of 1dB(A) for C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81280"/>
            <a:ext cx="82296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3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nformity of production, the manufacturer shall make a renewed declaration that the type still fulfills the requirements of paragraphs 6.3.1. and 6.3.2. of this Regulation.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f tested, the requirements of Annex 7 shall be met with a tolerance of 1dB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362320"/>
            <a:ext cx="335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Change of para. 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ＭＳ 明朝"/>
              </a:rPr>
              <a:t>The non-controversia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standard points + 1 optional point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3+1 point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standard points + 3 optional points as require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3+3 point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standard points + 2 optional points as require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3+2 point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 proposal 50G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keep 2 optional points which Germany proposes and to restrain testing work load, we propose 2 standard poi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standard points consists of maximum point and reference point+ 2 optional point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2+2 point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80880"/>
            <a:ext cx="5018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l</a:t>
            </a: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type approval authority as well as the technical service may request tests to check the compliance of the motorcycle with the requirements of section 2 above.  To avoid undue work load testing is restricted to the reference points defined in paragraph 3.2. below and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one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up to two</a:t>
            </a: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dditional operating condition</a:t>
            </a: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other than the reference points but inside the ASEP control range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2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peed and gear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hicle shall be tested at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II.)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III.)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e following operating conditions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 condition shall be treated as additional operating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 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1 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the correspond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0 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ed gear shall be 4th. If stable driving cannot be achieved using 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, 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 shall be chosen. If stable driving cannot be achieved using 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,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 shall be cho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ll be at least 0.1 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80880"/>
            <a:ext cx="5018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.1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nformation shall be provided on the motor cycle in an easily accessible but not necessarily immediately visible lo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nufacturer’s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rget engine speed and the final result of the stationary test as defined in paragraph 2. of annex 3. to this Regula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es: Until 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UN/ECE type approval database has been put in plac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, for class 3 vehicles the in-use compliance reference data as defined in paragraph 3. of annex 3 to this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09320" y="6094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anufacturer’s pl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 request WP29 to construct the information system as U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0:18:25Z</dcterms:created>
  <dc:creator>MC事業本部技術統括部技術管理部</dc:creator>
  <dc:description/>
  <dc:language>en-US</dc:language>
  <cp:lastModifiedBy>Administrator</cp:lastModifiedBy>
  <dcterms:modified xsi:type="dcterms:W3CDTF">2010-04-16T06:30:07Z</dcterms:modified>
  <cp:revision>41</cp:revision>
  <dc:subject/>
  <dc:title>提案</dc:title>
</cp:coreProperties>
</file>