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14504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31520" y="455904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68720" cy="478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68720" cy="478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F3EC8C-43B6-411F-B3CA-13DFB2F6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4145040" y="9121680"/>
            <a:ext cx="3168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7A0519-DCC4-49B0-943F-D8BEB65B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520" y="455904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520" y="455904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5040" y="9121680"/>
            <a:ext cx="3168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C176E3-AA36-47A9-8D5D-7C8EFAAB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4A6F-12E2-4EE3-AB05-6457A5902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647E-49D6-4F93-AACE-267F776F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8983-916D-43B3-8CF2-BB798243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8216-9C2B-442B-98E8-34A862007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363A-3A23-4F79-8389-6C580851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E7D2-25D1-4020-A168-D9BDD47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5D95-F17A-49D1-AD77-1F7679FD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4F49-2D1E-425F-A977-E0C5CC95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B03B-E6DC-4E42-B85A-62C464F4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679D-BCCC-41D2-B2CB-19536FEA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D97D-5A3C-4DCB-9FF3-53474AE1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C5BE-D87A-4012-9FFC-E2404B4B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9593-51A8-48D1-B843-92623D3CABF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764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12D-F0C4-44F9-BD7D-C05F7BB0B8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htsa.gov/fuel-economy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7848360" cy="197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Garamond"/>
              </a:rPr>
              <a:t>Final Rulemaking to Establish 2012-2016 Light-Duty Vehicle CAFE and GHG Standards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3270240"/>
            <a:ext cx="91440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932200" y="3657600"/>
            <a:ext cx="343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Joint Briefing for WP2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June 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4" descr="epa_logo.jpg"/>
          <p:cNvPicPr/>
          <p:nvPr/>
        </p:nvPicPr>
        <p:blipFill>
          <a:blip r:embed="rId1"/>
          <a:stretch/>
        </p:blipFill>
        <p:spPr>
          <a:xfrm>
            <a:off x="7467480" y="51814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152280" y="5257800"/>
            <a:ext cx="2667240" cy="1509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5410080" y="3049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Verdana"/>
              </a:rPr>
              <a:t>Informal document No.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WP.29-151-05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genda item 6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onsumer Impact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 finding – payback period for MY 2016 vehi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than 3 years for buyers who pay c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thly fuel savings greater than loan payment increase by $11 to $15 per month for typical 5-year lo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feti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avings of more than $3,000 using a 3% discount rat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total fuel savings of ~$4,000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C0B-4A31-4166-B6B9-FA83D7A5BF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1676520"/>
            <a:ext cx="77724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Garamond"/>
                <a:hlinkClick r:id="rId1"/>
              </a:rPr>
              <a:t>HTTP://WWW.NHTSA.GOV/FUEL-ECONOMY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6699"/>
                </a:solidFill>
                <a:latin typeface="Garamond"/>
              </a:rPr>
              <a:t>HTTP://WWW.EPA.GOV/OTAQ/CLIMATE/REGULATIONS.HTM</a:t>
            </a:r>
            <a:endParaRPr b="0" lang="en-US" sz="1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38052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making Documents and Addition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C1E-C0E9-4CAA-A15A-97F0BF98DF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2666520"/>
            <a:ext cx="4114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Garamond"/>
              </a:rPr>
              <a:t>Appendix</a:t>
            </a:r>
            <a:endParaRPr b="0" lang="en-US" sz="72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1981080" y="64771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41E-FC53-43C3-853F-FD312B00E2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Standards are Footprint Attribute-based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manufacturer’s standard based on the footprint of vehicles produced - actual standards are curves which equate a vehicle size to its specific CO2 or MPG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NHTSA Car and Truck Standard Curv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5486400" y="3287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ck standard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10666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 standard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402912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029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1981080" y="64771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170-0296-41DC-964A-1F5AD1E703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981080" y="6858000"/>
            <a:ext cx="51818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EPA Standard Curv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EPA CO2 Standard Curv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5715000" y="22208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ck standard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3172-C595-430F-9283-C2DC62CC40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Chart 10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343400" cy="3386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1295280" y="21337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 standard cur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Chart 12" descr=""/>
          <p:cNvPicPr/>
          <p:nvPr/>
        </p:nvPicPr>
        <p:blipFill>
          <a:blip r:embed="rId2"/>
          <a:stretch/>
        </p:blipFill>
        <p:spPr>
          <a:xfrm>
            <a:off x="4800600" y="25909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F792-5854-4AD2-9FF6-D4DBDB73DC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Garamond"/>
              </a:rPr>
              <a:t>Overview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Rule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Elements of Joint National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d Costs and Imp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177-588F-469A-B4AE-C23F178F1B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Final Rule Overview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A and NHTSA have issued a joint Final Rule for closely-related standards that together comprise the “National Program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le finalizes strong and coordinated federal GHG and CAF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stent with President Obama’s May 19, 2009 Announcement and the EPA-NHTSA Joint Notice of In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rdinated national standards which provide regulatory certainty and consistency for the auto indus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oids separate NHTSA, EPA, and state regu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akers can meet NHTSA, EPA, and California requirements with a single national fle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Program will achieve substantial reductions in fuel consumption and GHG emi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EC7E-3B7A-4F9E-8323-0173F1664A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EPA CO</a:t>
            </a:r>
            <a:r>
              <a:rPr b="0" lang="en-US" sz="4000" spc="-1" strike="noStrike" baseline="-25000">
                <a:solidFill>
                  <a:srgbClr val="666699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Standards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A’s standards estimated to achieve a fleet-wide level of 250 grams/mile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model year 20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ndards phase in beginning in model year 20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etwid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ard can be met partially through credits from improved air conditioner (A/C)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/C credits includ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&amp; hydrofluorocarbon (HFC) refrigerant red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FC refrigerant is a powerful GH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250 gram/mi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ard corresponds to 35.5 mpg “equivalent” if all reductions resulted from fuel economy improv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381-6DAD-464A-ACBE-083F1B8123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NHTSA CAFE Standard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HTSA’s final CAFE standards require vehicles to meet an estimated combined average fuel economy level of 34.1 in 2016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ce between the EPA and NHTSA stand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e in part to statutory differences, A/C improvements are not credited toward compliance with the NHTSA CAFE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B059-98A3-4C8F-9AE0-0D091FAAE1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Standards are Footprint Attribute-based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manufacturer’s standard based on the footprint of vehicles produced - actual standards are curves which equate a vehicle size to its specific CO2 or MPG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pany’s “standard” is footprint curve (see Appendi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2882880"/>
          <a:ext cx="7696080" cy="3294000"/>
        </p:xfrm>
        <a:graphic>
          <a:graphicData uri="http://schemas.openxmlformats.org/drawingml/2006/table">
            <a:tbl>
              <a:tblPr/>
              <a:tblGrid>
                <a:gridCol w="1190520"/>
                <a:gridCol w="1524240"/>
                <a:gridCol w="1779480"/>
                <a:gridCol w="1649520"/>
                <a:gridCol w="155232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hicl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Model Footprint (sq. f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missions Target (g/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l Economy Target (mp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Passenger 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ct 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a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size 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d Fu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size 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ysler 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Light-duty Tru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SU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WD Ford Esc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size cross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san Mur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yota Sien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pickup tru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vy Silv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E865-11CA-4967-82EA-875D391C59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EPA Program Flexibilitie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ission banking and trading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ex-fuel vehicle (FFV) cre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2012 – 2015 credits similar to CAFE, MY2016+ credits based on actual E85 fuel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conditioning HFC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related reduction cre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credit opportunities for doing better than California or CAF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novative technology cre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ce technology cred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sions for medium &amp; small sales volume compan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443-4C75-4878-9DC8-AA05016E66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NHTSA Program Flexibilitie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CA/EISA limit ability to offer flex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t bank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-year carry-forw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year carry-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t trading and transferring, starting with credits earned in MY 2011, and with some EISA restri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ing -- between manufactur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ring– between a manufacturer’s car and light truck fle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 fueled vehicle credits allowed per EISA (e.g., the FFV credi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Summary of Costs and Benefit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lifetime of 2012-2016 vehic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8 billion barrels of oil re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60 million metric tons of CO2 eq.  re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16 per-vehicle costs of approximately $9,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iance costs for the industry of &lt;$52 bill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benefits of $240 billion &amp; net benefits of $190 bill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$21/ton CO2 valuation and 3% discount 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 present value of net benefits through 2050 with a 3% discount rate = $1.6 trill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Slide Number Placeholder 7"/>
          <p:cNvSpPr/>
          <p:nvPr/>
        </p:nvSpPr>
        <p:spPr>
          <a:xfrm>
            <a:off x="6858000" y="647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189B-9A7A-47AD-AAF9-8D4CCD2143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22:30:07Z</dcterms:created>
  <dc:creator>SFROMAN</dc:creator>
  <dc:description/>
  <dc:language>en-US</dc:language>
  <cp:lastModifiedBy>Corr.3 to Revision 6</cp:lastModifiedBy>
  <dcterms:modified xsi:type="dcterms:W3CDTF">2010-06-15T12:27:49Z</dcterms:modified>
  <cp:revision>736</cp:revision>
  <dc:subject/>
  <dc:title>The U.S. Path to  Clean Fuels and Vehicles</dc:title>
</cp:coreProperties>
</file>