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776160"/>
            <a:ext cx="899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160" y="5796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8920" y="6462720"/>
            <a:ext cx="73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ETA ppt 09.03.20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1720" y="6400800"/>
            <a:ext cx="899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48520" y="6407280"/>
            <a:ext cx="1393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ETA chair Mr. Wrobel, 09 Mar-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8667720" y="198360"/>
            <a:ext cx="86364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4880" y="1916280"/>
            <a:ext cx="8394840" cy="1922400"/>
          </a:xfrm>
          <a:prstGeom prst="rect">
            <a:avLst/>
          </a:prstGeom>
          <a:solidFill>
            <a:srgbClr val="ffcc00">
              <a:alpha val="4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3333cc"/>
                </a:solidFill>
                <a:latin typeface="Arial"/>
              </a:rPr>
              <a:t>First page of the Data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Arial"/>
              </a:rPr>
              <a:t>To be used by e.g. Police or other governmental Organis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520" y="1011240"/>
            <a:ext cx="23050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320840"/>
            <a:ext cx="218124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21240" y="1320840"/>
            <a:ext cx="3311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ufacture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14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924280"/>
            <a:ext cx="7726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st of covered approva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48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12345y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103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/apprN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E1*R103*01234+0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 Exhaus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20880" y="4149720"/>
          <a:ext cx="147636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149720"/>
                    <a:ext cx="1476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792520" y="4149720"/>
            <a:ext cx="40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cifications and Identifi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e drawing next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13440" y="4149720"/>
            <a:ext cx="3116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4402080" y="2602080"/>
            <a:ext cx="4494240" cy="3282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0" y="2060640"/>
            <a:ext cx="439272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rking on lights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4CA5-DFDA-4339-8C2D-4FA0EFD9F9E3}" type="slidenum">
              <a:rPr b="0" lang="ja-JP" sz="1400" spc="-1" strike="noStrike">
                <a:solidFill>
                  <a:srgbClr val="000000"/>
                </a:solidFill>
                <a:latin typeface="CorpoS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95080" y="5924520"/>
            <a:ext cx="8312760" cy="3070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rpoS"/>
                <a:ea typeface="Arial"/>
              </a:rPr>
              <a:t>00DC/R 27,5 PL 05051 05052 00DC/R 30 PL 05049 05050 00HCR 17,5 PL 05047 05048 E2 01 1 0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 flipV="1">
            <a:off x="6710040" y="4917960"/>
            <a:ext cx="2058840" cy="100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0"/>
          <p:cNvSpPr/>
          <p:nvPr/>
        </p:nvSpPr>
        <p:spPr>
          <a:xfrm rot="21273600">
            <a:off x="6129000" y="4916160"/>
            <a:ext cx="1382760" cy="171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6600" y="990720"/>
            <a:ext cx="33112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ufacture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y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yo 0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nt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lla0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9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6600" y="4368960"/>
            <a:ext cx="3051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hic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yot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ss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ing Cab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ua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6600" y="2997360"/>
            <a:ext cx="3051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vered Approv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6,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3600" y="990720"/>
            <a:ext cx="2754360" cy="707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ifi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UN-ISO-01234xy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5:59:25Z</dcterms:created>
  <dc:creator>FWrobel</dc:creator>
  <dc:description/>
  <dc:language>en-US</dc:language>
  <cp:lastModifiedBy>jongenel</cp:lastModifiedBy>
  <cp:lastPrinted>2000-12-06T13:58:37Z</cp:lastPrinted>
  <dcterms:modified xsi:type="dcterms:W3CDTF">2010-11-09T19:26:15Z</dcterms:modified>
  <cp:revision>49</cp:revision>
  <dc:subject/>
  <dc:title>Kein Folientitel</dc:title>
</cp:coreProperties>
</file>