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8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0.wmf" ContentType="image/x-wmf"/>
  <Override PartName="/ppt/media/image21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3240" y="770040"/>
            <a:ext cx="5115240" cy="383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lstStyle>
            <a:lvl1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11129443-1364-442B-854A-AA877ECCF6A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4E041326-08E7-4686-AFDE-6DFE2D370D1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ernal market: Reduction of admin barriers, safey standard, interoperability of inland water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frastructure: smart (RIS)/sustainable/integr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novation: concentration of resources/strategic technology initiative/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imate: technologigal solution/retrofitting concepts7decarbonisation/environmental impact (noise,…), reduction of dependency on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itizen: security/safety/human captial/sociala agenda/life long caree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mpetitiveness: global competitiveness/Danube strategy/cooperation CC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022640" y="972180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fld id="{3C23FD3D-68EB-4843-A77E-33359134D1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022640" y="0"/>
            <a:ext cx="3075120" cy="51120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82800"/>
                <a:tab algn="l" pos="1965240"/>
                <a:tab algn="l" pos="2948040"/>
                <a:tab algn="l" pos="3930480"/>
                <a:tab algn="l" pos="4913280"/>
                <a:tab algn="l" pos="5896080"/>
                <a:tab algn="l" pos="6878520"/>
                <a:tab algn="l" pos="7861320"/>
                <a:tab algn="l" pos="8844120"/>
                <a:tab algn="l" pos="9826560"/>
                <a:tab algn="l" pos="108093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8280" rIns="98280" tIns="48960" bIns="4896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ternal market: Reduction of admin barriers, safey standard, interoperability of inland waterwa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frastructure: smart (RIS)/sustainable/integr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Innovation: concentration of resources/strategic technology initiative/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limate: technologigal solution/retrofitting concepts7decarbonisation/environmental impact (noise,…), reduction of dependency on fossil fu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itizen: security/safety/human captial/sociala agenda/life long caree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Arial"/>
              </a:rPr>
              <a:t>Competitiveness: global competitiveness/Danube strategy/cooperation CCN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3D610-6B18-4FA6-B931-009942A069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580C6-1231-4E70-A1E4-1892A46C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AF4A4-FB07-4306-9CF0-5F46EDC4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296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468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296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468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5682-17AE-4122-A9D1-A632A0C02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1DBEBF-1F63-40AE-AD79-8C54942B8F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99D7D2-E246-4580-AAAB-E678A4C4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42885-138C-4C19-99E4-D6A98A4B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98B0E-339C-4213-8155-A7F8238A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15DCC-9C3F-4285-AF1A-9EE9D967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1611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13BBE-5436-4BE9-A884-E1B8DA4C9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A6136-5DE3-4E4A-B589-993FAA8B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3D4A7-35A9-4C4E-B377-A6782945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38A15-1AF1-4302-A649-E38117C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E3B3D-493A-45B5-8541-F5F7B2E5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BD8E96-1F89-460D-AA77-52561E323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2378B-2179-46EF-A25D-B4233A5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9296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4680" y="388620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9296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4680" y="4802040"/>
            <a:ext cx="2305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92C306-D4CE-4F29-9398-0E56549172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22B02-E28E-4556-98C4-58BAFACD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05EE7-8533-410B-A8A8-D6296A98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D5E2-0F86-4792-891B-8FC341A1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600" y="2133360"/>
            <a:ext cx="716112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C4776-B80B-4A4E-B49F-95D64EB34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9CEEB-0A45-4D41-9C65-D3BE34F70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1080" y="480204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1D95-32FC-4A24-BA19-79600E74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1080" y="3886200"/>
            <a:ext cx="34945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7161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8EF4E-35AD-45A0-9E51-81FF8AD8F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564000" y="623700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5614-0DB6-42DC-85D7-2A85EF62F6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164360" y="6165720"/>
            <a:ext cx="1908360" cy="641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5931000" y="3719520"/>
            <a:ext cx="3213000" cy="3138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0EA5-8DCD-41FC-A1F3-DB3E9DCE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115920"/>
            <a:ext cx="3780000" cy="12700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332000" y="1197000"/>
            <a:ext cx="7812000" cy="0"/>
          </a:xfrm>
          <a:prstGeom prst="line">
            <a:avLst/>
          </a:prstGeom>
          <a:ln w="12600">
            <a:solidFill>
              <a:srgbClr val="004e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1268280"/>
            <a:ext cx="496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500" spc="-1" strike="noStrike">
                <a:solidFill>
                  <a:srgbClr val="004e62"/>
                </a:solidFill>
                <a:latin typeface="Arial"/>
              </a:rPr>
              <a:t>platform for the implementation of NAIAD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4c6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4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aiades.info/" TargetMode="External"/><Relationship Id="rId2" Type="http://schemas.openxmlformats.org/officeDocument/2006/relationships/hyperlink" Target="http://www.naiades.info/funding" TargetMode="External"/><Relationship Id="rId3" Type="http://schemas.openxmlformats.org/officeDocument/2006/relationships/hyperlink" Target="http://www.naiades.info/funding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828720" y="-1035000"/>
            <a:ext cx="11395080" cy="1512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616720" y="6021360"/>
            <a:ext cx="54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4c63"/>
                </a:solidFill>
                <a:latin typeface="Wingdings"/>
                <a:ea typeface="Wingdings"/>
              </a:rPr>
              <a:t></a:t>
            </a:r>
            <a:r>
              <a:rPr b="1" lang="de-DE" sz="2500" spc="-1" strike="noStrike">
                <a:solidFill>
                  <a:srgbClr val="004c63"/>
                </a:solidFill>
                <a:latin typeface="AvantGarde"/>
              </a:rPr>
              <a:t> </a:t>
            </a:r>
            <a:r>
              <a:rPr b="1" lang="de-DE" sz="2000" spc="-1" strike="noStrike">
                <a:solidFill>
                  <a:srgbClr val="004c63"/>
                </a:solidFill>
                <a:latin typeface="AvantGarde"/>
              </a:rPr>
              <a:t>www.naiades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4C773-8A2D-407B-8095-4C981880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634F-73EC-4631-9CC4-B329D8A457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FC08-3141-492B-9736-AEB40ADF5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47584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Main Objectives of European Hull Database</a:t>
            </a:r>
            <a:endParaRPr b="0" lang="en-US" sz="28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24000" y="1484280"/>
            <a:ext cx="8135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Implement and operate pilot service to facilitate hull data exchange as indicated by Directive 2006/87/EC, RheinSchuO and Commission Regulation for Electronic Repor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repare scenarios for full scale operation (2012 onwa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CCAD1-78A6-4333-95C1-C3761CE4546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4e62"/>
                </a:solidFill>
                <a:latin typeface="Arial"/>
              </a:rPr>
              <a:t>Data to be processed (1/2)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All crafts (according to 2008/87/EC and RheinSch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Unique European Vessel Identification Num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me of the craft/ves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e of craf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Length over 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readth over 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ra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ource of data (= Community Certific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eadweight for cargo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Displacement for vessels other than cargo ve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Opera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ssuing Author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umber of Community Inland Navigation Certif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Expiration d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reator of data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B61CC-5A93-48F0-886A-EB47F63CDD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4e62"/>
                </a:solidFill>
                <a:latin typeface="Arial"/>
              </a:rPr>
              <a:t>Data to be processed (2/2)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de-AT" sz="2000" spc="-1" strike="noStrike">
                <a:solidFill>
                  <a:srgbClr val="000000"/>
                </a:solidFill>
                <a:latin typeface="Arial"/>
              </a:rPr>
              <a:t>Where available (according to 2008/87/EC and RheinSchu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Nation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e of craft in accordance with the Technical Specification for Electronic Ship Reporting in inland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Single or double hull in accordance with ADN/ADN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Height as defined in Article 1.01 No 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Gross tonnage (for maritime vess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IMO number (for maritime vess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Call sign (for maritime vesse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MMSI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ATI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Arial"/>
              </a:rPr>
              <a:t>Type, number, issuing authority and expiration date of other certificat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53D0-F4A4-4280-BAFC-A90317EF40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4A9-DC80-422C-9CC0-2EEC49068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e62"/>
                </a:solidFill>
                <a:latin typeface="Arial"/>
              </a:rPr>
              <a:t>Schematic overview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36000" cy="489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042920" cy="8510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80360" y="5157720"/>
            <a:ext cx="129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Arial"/>
              </a:rPr>
              <a:t>(Reserved for future purpo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492280"/>
            <a:ext cx="6840360" cy="352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AAD05-7F23-4BB5-BB17-12FDAFBBD55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4e62"/>
                </a:solidFill>
                <a:latin typeface="Arial"/>
              </a:rPr>
              <a:t>Two ENIs for one craft?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4103640" cy="307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716360" y="1628640"/>
            <a:ext cx="4103640" cy="30765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92360" y="5084640"/>
            <a:ext cx="6624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to JWG (10) 5 from 25.1.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eanwhile solved thanks to effective cooperation of auth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71640" y="2852640"/>
            <a:ext cx="6985080" cy="1297080"/>
            <a:chOff x="971640" y="2852640"/>
            <a:chExt cx="6985080" cy="1297080"/>
          </a:xfrm>
        </p:grpSpPr>
        <p:sp>
          <p:nvSpPr>
            <p:cNvPr id="137" name=""/>
            <p:cNvSpPr/>
            <p:nvPr/>
          </p:nvSpPr>
          <p:spPr>
            <a:xfrm>
              <a:off x="5364000" y="2852640"/>
              <a:ext cx="2592720" cy="71928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71640" y="3573360"/>
              <a:ext cx="1800000" cy="57636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E58F-A442-4546-93D1-4A7C6787D1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8BD-848E-4D59-875B-E1F5AA88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ementation and operation of the European Hull Datab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1: Requirements Spec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2: Implementation of a functional proto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3: Implementation of complete pilot system and execution of the Factory Acceptance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4: Functional Tes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5: Interconnection of the European Hull Database pilot system with vessel certification authorities and RIS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hase 6: Execution of the stability tests of the pilot system (finalized in Apri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7: Pilot operation of the system (starting as of 2nd quarter of 2010 for 2 years), in which the contractor hosts the database, provides 1st and 2nd level (telephone) support during office hours and software mainten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hase 8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ll-scale implementation of the system (after PLATI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1478A-3EEB-4A18-A54C-69DE1ED8EA4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4DD6-DD90-4DA6-82E7-1730ACD76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705800" cy="5227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5" name=""/>
          <p:cNvSpPr/>
          <p:nvPr/>
        </p:nvSpPr>
        <p:spPr>
          <a:xfrm>
            <a:off x="1547640" y="2708280"/>
            <a:ext cx="59770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Technical implem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Arial"/>
              </a:rPr>
              <a:t>finalized in April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EBEC1-6E1B-44F6-B954-6E6C2CD65E0F}" type="slidenum">
              <a:t>17</a:t>
            </a:fld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DA25-464D-4F8E-BC27-076E6BAF5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324000" y="1268280"/>
            <a:ext cx="8640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p 1: Exchange of letters for data exchange of authorities issuing EN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lg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lga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zech Republ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r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therlan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4e62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lovak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tep 2: Conclusion of a service agreement for full scale data exchange (including use for RIS service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Ensuring Data Protection  </a:t>
            </a:r>
            <a:endParaRPr b="0" lang="en-US" sz="28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FDBAD-CE7E-47D6-8F57-0503F2725F5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8CCC-1F89-4F6B-8713-336E4BA8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0144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CD584-91F8-4CA3-983C-53887C2DC74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1611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e62"/>
                </a:solidFill>
                <a:latin typeface="Arial"/>
              </a:rPr>
              <a:t>European Hull Database 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7161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reas Bä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uty Project Coordinator of PLAT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B601-9828-45C8-80F1-18BA7D8CE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0144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6C935-E569-4582-9F99-E64B522C7512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3825-9A6A-48E5-B8E7-591AD0BB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01440" cy="7313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4EA66-2156-4A92-92E5-7967E689D16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CC6F3-C138-4D85-B09D-ED38C2716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85440" cy="7178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5A172-5B02-48E1-8277-18D92B45D484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B3942-C14B-4596-B028-D49F91FA8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57080" cy="722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B0B22-84F6-4300-BE6A-B4FB2CE48CAE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66B3C-E119-4FAE-84C3-38EF696E92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324000" y="981000"/>
            <a:ext cx="86868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395280" y="333360"/>
            <a:ext cx="847584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4e62"/>
                </a:solidFill>
                <a:latin typeface="Arial"/>
              </a:rPr>
              <a:t>System Implementation – Outline GUI Layout (4/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773080" cy="7358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A3469-E3FC-4008-B298-D3BFBDD213A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69F-AA10-4055-A6BE-A5DAD7951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324000" y="981000"/>
            <a:ext cx="86868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quential data up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of ENIs issued after 30.4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pload of additional data and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ion of additional countries, functional amendments of the EH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clusion of service agreement for hull data e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 of operator of the EHDB for the time after PLA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758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e62"/>
                </a:solidFill>
                <a:latin typeface="Arial"/>
              </a:rPr>
              <a:t>Next Steps</a:t>
            </a:r>
            <a:r>
              <a:rPr b="0" lang="fr-FR" sz="2800" spc="-1" strike="noStrike">
                <a:solidFill>
                  <a:srgbClr val="004e6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2DE57-B7F5-44D3-9374-4D7E5154B7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29C-1E76-44D6-BEFB-B7DD524D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324000" y="981000"/>
            <a:ext cx="864072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 in the pilot phase is an opportunity to collect experiences without operational risks and disturban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 in the pilot phase allows for active involvement in the system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ticipation in the pilot phase allows for gradual and smooth implementation in the respective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475840" cy="4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e62"/>
                </a:solidFill>
                <a:latin typeface="Arial"/>
              </a:rPr>
              <a:t>Why authorities support the European Hull Database</a:t>
            </a:r>
            <a:endParaRPr b="0" lang="en-US" sz="2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AEB44-5528-4D4E-B38C-E53FD12AA8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9F7F-926C-40CC-900C-E61AD2AA5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D19A9-0A21-461E-8F3B-FC929EA9218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12720" y="409320"/>
            <a:ext cx="9647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NAIADES II ? </a:t>
            </a:r>
            <a:br>
              <a:rPr sz="3600"/>
            </a:b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– Reflection group on inland navigation</a:t>
            </a:r>
            <a:endParaRPr b="0" lang="en-US" sz="36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82560" y="1341360"/>
            <a:ext cx="3097440" cy="16812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68360" y="3789360"/>
            <a:ext cx="7969320" cy="21002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3708360" y="1628640"/>
            <a:ext cx="2519280" cy="18907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6443640" y="1628640"/>
            <a:ext cx="2521080" cy="188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8464-3D5F-481A-8DD2-0ABB1D9676E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12360" y="409320"/>
            <a:ext cx="950436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NAIADES II ? </a:t>
            </a:r>
            <a:br>
              <a:rPr sz="3600"/>
            </a:br>
            <a:r>
              <a:rPr b="0" lang="de-DE" sz="3600" spc="-1" strike="noStrike">
                <a:solidFill>
                  <a:srgbClr val="004e62"/>
                </a:solidFill>
                <a:latin typeface="Arial"/>
              </a:rPr>
              <a:t>– Reflection group on inland navigation</a:t>
            </a:r>
            <a:endParaRPr b="0" lang="en-US" sz="36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82960" y="1268280"/>
            <a:ext cx="3789720" cy="46958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015000" cy="50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81A8E-C289-4F1E-A186-E2DF866413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0069-D17C-4654-88B8-A7901799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B5471-FCC8-4072-A977-0B50D18CEEF6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133360"/>
            <a:ext cx="79232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4e62"/>
                </a:solidFill>
                <a:latin typeface="Arial"/>
              </a:rPr>
              <a:t>Thank you for your attention !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4000" y="3860280"/>
            <a:ext cx="78483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Andreas Bä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via donau – Österreichische Wasserstraßen-Gesellschaft mb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PLATINA Project Office Bruss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phone +43-664-80842-16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4e62"/>
                </a:solidFill>
                <a:latin typeface="Arial"/>
              </a:rPr>
              <a:t>andreas.baeck@via-donau.org, www.via-donau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0D374-B1F7-47E5-A9B7-593923BAAA9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-828720" y="-1035000"/>
            <a:ext cx="11395080" cy="151272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5616720" y="6021360"/>
            <a:ext cx="54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4c63"/>
                </a:solidFill>
                <a:latin typeface="Wingdings"/>
                <a:ea typeface="Wingdings"/>
              </a:rPr>
              <a:t></a:t>
            </a:r>
            <a:r>
              <a:rPr b="1" lang="de-DE" sz="2500" spc="-1" strike="noStrike">
                <a:solidFill>
                  <a:srgbClr val="004c63"/>
                </a:solidFill>
                <a:latin typeface="AvantGarde"/>
              </a:rPr>
              <a:t> </a:t>
            </a:r>
            <a:r>
              <a:rPr b="1" lang="de-DE" sz="2000" spc="-1" strike="noStrike">
                <a:solidFill>
                  <a:srgbClr val="004c63"/>
                </a:solidFill>
                <a:latin typeface="AvantGarde"/>
              </a:rPr>
              <a:t>www.naiades.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3564000" y="623736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4DB47-7ED6-4D29-9A50-B8D26741E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 of PLATI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Overview of European Hull Data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Arial"/>
              </a:rPr>
              <a:t>Reflection group on inland navig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28766-EFE2-47D5-8A5C-36DD0B936C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9760" y="404640"/>
            <a:ext cx="79167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e62"/>
                </a:solidFill>
                <a:latin typeface="Arial"/>
              </a:rPr>
              <a:t>PLATINA …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9760" y="1268280"/>
            <a:ext cx="79167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project within the 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amework Programme for Research, Technology Development and Demon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imed at coordinating and supporting research activities and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from 06/2008 to 05/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22 partners from 9 different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organised around the five NAIADES actio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strategically guided by key industrial stakeholders, associations and Member States administ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3594A-C45C-49DB-A0CC-AA2A7259E62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1280" y="83664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35280" y="83664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61080" y="836640"/>
            <a:ext cx="122364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12000" y="83664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35080" y="898560"/>
            <a:ext cx="1224000" cy="48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79280" y="127080"/>
            <a:ext cx="7561440" cy="66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8024-B5E2-49AD-8900-3401B6961F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6154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4e62"/>
                </a:solidFill>
                <a:latin typeface="Arial"/>
              </a:rPr>
              <a:t>Work package leaders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11280" y="1341360"/>
          <a:ext cx="8061120" cy="4437000"/>
        </p:xfrm>
        <a:graphic>
          <a:graphicData uri="http://schemas.openxmlformats.org/drawingml/2006/table">
            <a:tbl>
              <a:tblPr/>
              <a:tblGrid>
                <a:gridCol w="3673440"/>
                <a:gridCol w="43876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Pack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 Lea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1 Marke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donau (Austr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2 Flee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es navigables de France (France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3 Jobs &amp; Skill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ndesverband der Deutschen Binnenschiffahrt (Germany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4 Im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ie Binnenvaart Vlaanderen (Belgium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5 Infrastructur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st Verkeer and Scheepvaart  (Netherlands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P6 Technical Secretaria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a donau (Austr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B30B6-E0AB-416E-9EB0-72CEEED8DA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e62"/>
                </a:solidFill>
                <a:latin typeface="Arial"/>
              </a:rPr>
              <a:t>Achievements until 06/2010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of European IWT information portal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iades.inf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version of the IWT Funding Guide in EN, FR, NL, DE (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iades.info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fund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practice report I+II for the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of an IWT innovation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T strategic research agenda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WT education and training institutes and curricu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tion of organisational structure and support for the foundation of a European IWT educational network (EDIN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the reputation of IWT and definition of the desired ima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essence summ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 on integrated waterway plan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Specification for the Inland Electronic Navigational Chart (IENC) Register and digital parts of IENC standa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ase of RIS community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8F0D9-7A37-4A57-A848-02EE0AA306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4e62"/>
                </a:solidFill>
                <a:latin typeface="Arial"/>
              </a:rPr>
              <a:t>Further activities in 2010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907920"/>
            <a:ext cx="8362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and update of the IWT information por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ft strategy for harmonised IWT education and training standards in inland navigation (ST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programme for the European IWT educational network (EDI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WT lead event on 30.11/1.12.2010 in Bruss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ategic positioning of IWT’s re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programme of promotion &amp; development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of a strategic communication 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ory of strategic inland waterway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 reference data management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blication of a best practice manual on waterway infrastructure planning following the Joint Stat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9047-CABE-4368-B44B-7137BA21C4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41:27Z</dcterms:created>
  <dc:creator>rudolf.stefanich</dc:creator>
  <dc:description/>
  <dc:language>en-US</dc:language>
  <cp:lastModifiedBy>Andreas_lokal</cp:lastModifiedBy>
  <dcterms:modified xsi:type="dcterms:W3CDTF">2010-06-18T05:35:41Z</dcterms:modified>
  <cp:revision>235</cp:revision>
  <dc:subject/>
  <dc:title>Titel</dc:title>
</cp:coreProperties>
</file>