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20.wmf" ContentType="image/x-wmf"/>
  <Override PartName="/ppt/media/image21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lstStyle>
            <a:lvl1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3240" y="770040"/>
            <a:ext cx="51152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lstStyle>
            <a:lvl1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lstStyle>
            <a:lvl1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62BA554D-7BFB-4D58-8F2C-81E401C10BD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5D8A93A1-7FFF-41D5-B2FC-93D755C428D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ernal market: Reduction of admin barriers, safey standard, interoperability of inland water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frastructure: smart (RIS)/sustainable/integr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novation: concentration of resources/strategic technology initiative/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limate: technologigal solution/retrofitting concepts7decarbonisation/environmental impact (noise,…), reduction of dependency on 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itizen: security/safety/human captial/sociala agenda/life long caree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ompetitiveness: global competitiveness/Danube strategy/cooperation CC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FD229C61-57D0-4FCB-AEA1-4E51099A2DD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ernal market: Reduction of admin barriers, safey standard, interoperability of inland water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frastructure: smart (RIS)/sustainable/integr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novation: concentration of resources/strategic technology initiative/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limate: technologigal solution/retrofitting concepts7decarbonisation/environmental impact (noise,…), reduction of dependency on 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itizen: security/safety/human captial/sociala agenda/life long caree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ompetitiveness: global competitiveness/Danube strategy/cooperation CC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257CB-5F29-42DC-A575-6AC2178010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7161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7161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8A8F-FBDA-498E-9E66-A4245084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1080" y="480204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E87C-4E16-4A58-8992-18417E46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2960" y="388620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4680" y="388620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2960" y="480204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4680" y="480204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9B169-8759-4EDB-95A8-227EF08771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E67CD-9517-4CBD-B2D7-5EE9D8B2D9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6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B4D7F-6C77-4C0D-A6C5-7B6B8FB5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71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B43AA-72ED-44E8-858D-A306AE84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98D3E-1F9C-4355-861F-DDE6F91C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FCC1B-605D-4090-81DB-4266BF89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716112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0DAF5-6D7D-4504-A60C-6B94B210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947C4-32D2-43B8-8C38-5B7D327A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6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3FA88-E4CD-49A3-8E49-E816A8ED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1080" y="480204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75411-1519-4118-9F16-2BAC7A76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7161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10B33-D7EA-438F-AE7C-392C6C66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7161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7161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DEF13-D026-4832-A279-560DAF46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41080" y="480204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FB432-8612-4AEA-BAD5-85E26495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92960" y="388620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4680" y="388620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92960" y="480204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4680" y="480204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09A20-534E-42BD-9EAD-36A66436AD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71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05D62-5865-424C-B5F6-E45D98AB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F6DCA-A760-44B0-8CE3-9E8C7F0D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725E3-2C73-4248-82B2-5F30DE75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716112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A8117-46CA-48EF-802F-575C1168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FED4-E72A-4DF3-B73E-C4B150C0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1080" y="480204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C68D4-2A92-4058-B912-BF1657AB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7161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6FBE0-F85F-4C7D-B0F0-D310CDDE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c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56400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5F0E-4F9C-4301-B0BD-FFFEADE38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164360" y="6165720"/>
            <a:ext cx="1908360" cy="64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931000" y="3719520"/>
            <a:ext cx="3213000" cy="3138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74D7-8327-4F26-999B-00048F827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115920"/>
            <a:ext cx="3780000" cy="127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32000" y="1197000"/>
            <a:ext cx="7812000" cy="0"/>
          </a:xfrm>
          <a:prstGeom prst="line">
            <a:avLst/>
          </a:prstGeom>
          <a:ln w="12600">
            <a:solidFill>
              <a:srgbClr val="004e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1268280"/>
            <a:ext cx="496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4e62"/>
                </a:solidFill>
                <a:latin typeface="Arial"/>
              </a:rPr>
              <a:t>platform for the implementation of NAI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4c6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aiades.info/" TargetMode="External"/><Relationship Id="rId2" Type="http://schemas.openxmlformats.org/officeDocument/2006/relationships/hyperlink" Target="http://www.naiades.info/funding" TargetMode="External"/><Relationship Id="rId3" Type="http://schemas.openxmlformats.org/officeDocument/2006/relationships/hyperlink" Target="http://www.naiades.info/funding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828720" y="-1035000"/>
            <a:ext cx="11395080" cy="15127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616720" y="6021360"/>
            <a:ext cx="54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4c63"/>
                </a:solidFill>
                <a:latin typeface="Wingdings"/>
                <a:ea typeface="Wingdings"/>
              </a:rPr>
              <a:t></a:t>
            </a:r>
            <a:r>
              <a:rPr b="1" lang="de-DE" sz="2500" spc="-1" strike="noStrike">
                <a:solidFill>
                  <a:srgbClr val="004c63"/>
                </a:solidFill>
                <a:latin typeface="AvantGarde"/>
              </a:rPr>
              <a:t> </a:t>
            </a:r>
            <a:r>
              <a:rPr b="1" lang="de-DE" sz="2000" spc="-1" strike="noStrike">
                <a:solidFill>
                  <a:srgbClr val="004c63"/>
                </a:solidFill>
                <a:latin typeface="AvantGarde"/>
              </a:rPr>
              <a:t>www.naiades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0AF5-72F3-4323-A825-8E119E875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Overview of PLATI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European Hull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flection group on inland nav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3B717-CC04-474B-815D-93BE1D2EE5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F212-CB4F-42D7-AB0B-80DE2EBD4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475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Main Objectives of European Hull Database</a:t>
            </a:r>
            <a:endParaRPr b="0" lang="en-US" sz="28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4000" y="1484280"/>
            <a:ext cx="8135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and operate pilot service to facilitate hull data exchange as indicated by Directive 2006/87/EC, RheinSchuO and Commission Regulation for Electronic Repor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scenarios for full scale operation (2012 onw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2E14-214C-42E9-B13D-0158D388EF4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4e62"/>
                </a:solidFill>
                <a:latin typeface="Arial"/>
              </a:rPr>
              <a:t>Data to be processed (1/2)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All crafts (according to 2008/87/EC and RheinSchu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Unique European Vessel Identification Nu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ame of the craft/ves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ype of cra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ngth ove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readth over 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ra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ource of data (= Community Certific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eadweight for cargo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splacement for vessels other than cargo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era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ssuing Auth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umber of Community Inland Navigation Certific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xpiration d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Creator of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F38B-2DB2-4D25-A401-0DAFF722E2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4e62"/>
                </a:solidFill>
                <a:latin typeface="Arial"/>
              </a:rPr>
              <a:t>Data to be processed (2/2)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Where available (according to 2008/87/EC and RheinSchu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ation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ype of craft in accordance with the Technical Specification for Electronic Ship Reporting in inland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ingle or double hull in accordance with ADN/AD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ight as defined in Article 1.01 No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Gross tonnage (for maritime vess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O number (for maritime vess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Call sign (for maritime vess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MSI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TI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ype, number, issuing authority and expiration date of other certificate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83AD9-220A-4F95-98A8-DA60A04079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B68E-55C0-403F-89E5-AECCAFF38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e62"/>
                </a:solidFill>
                <a:latin typeface="Arial"/>
              </a:rPr>
              <a:t>Schematic overview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36000" cy="489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1042920" cy="851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380360" y="5157720"/>
            <a:ext cx="129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(Reserved for future purpo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492280"/>
            <a:ext cx="68403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7D87-053E-4A70-BAD3-400FEB558A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4e62"/>
                </a:solidFill>
                <a:latin typeface="Arial"/>
              </a:rPr>
              <a:t>Two ENIs for one craft?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103640" cy="3076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92360" y="508464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to JWG (10) 5 from 25.1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nwhile solved thanks to effective cooperation of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71640" y="2852640"/>
            <a:ext cx="6985080" cy="1297080"/>
            <a:chOff x="971640" y="2852640"/>
            <a:chExt cx="6985080" cy="1297080"/>
          </a:xfrm>
        </p:grpSpPr>
        <p:sp>
          <p:nvSpPr>
            <p:cNvPr id="137" name=""/>
            <p:cNvSpPr/>
            <p:nvPr/>
          </p:nvSpPr>
          <p:spPr>
            <a:xfrm>
              <a:off x="5364000" y="2852640"/>
              <a:ext cx="2592720" cy="71928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71640" y="3573360"/>
              <a:ext cx="1800000" cy="5763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95EED-CD59-4639-B03F-02EB1086D3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088A-5262-4520-B35C-F343B2787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324000" y="981000"/>
            <a:ext cx="8686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tion and operation of the European Hull Datab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hase 1: Requirements Spec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hase 2: Implementation of a functional 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hase 3: Implementation of complete pilot system and execution of the Factory Acceptance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hase 4: Functional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hase 5: Interconnection of the European Hull Database pilot system with vessel certification authorities and RIS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hase 6: Execution of the stability tests of the pilot system (finalized in April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ase 7: Pilot operation of the system (starting as of 2nd quarter of 2010 for 2 years), in which the contractor hosts the database, provides 1st and 2nd level (telephone) support during office hours and software mainte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ase 8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ll-scale implementation of the system (after PLAT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95280" y="333360"/>
            <a:ext cx="8475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System Implementation 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334B-CA92-4072-8088-9893EB85857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F063-FC30-4C2B-BFAA-3A1620F8B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95280" y="333360"/>
            <a:ext cx="8475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System Implementation (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705800" cy="522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1547640" y="2708280"/>
            <a:ext cx="5977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Technical imple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finalized in April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EB34-38BD-4B3B-86E8-DD29542EC0BB}" type="slidenum">
              <a:t>17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10CE-2BDA-4340-9D81-CFC3B7BB4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1268280"/>
            <a:ext cx="864072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p 1: Exchange of letters for data exchange of authorities issuing E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lg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lg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zech Repub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r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therl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vak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Conclusion of a service agreement for full scale data exchange (including use for RIS servic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Ensuring Data Protection  </a:t>
            </a:r>
            <a:endParaRPr b="0" lang="en-US" sz="28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6F77B-7701-46D0-AED4-2C291CF667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0430-D0EB-40AC-A1BF-428BDD839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24000" y="981000"/>
            <a:ext cx="8686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95280" y="333360"/>
            <a:ext cx="8475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System Implementation – Outline GUI Layout (4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701440" cy="731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8644-6729-45C0-81F5-917E0E5F52C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e62"/>
                </a:solidFill>
                <a:latin typeface="Arial"/>
              </a:rPr>
              <a:t>European Hull Database 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6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as Bä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uty Project Coordinator of PL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A81F-E04D-4DCF-B95D-69E2CEF98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24000" y="981000"/>
            <a:ext cx="8686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95280" y="333360"/>
            <a:ext cx="8475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System Implementation – Outline GUI Layout (4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701440" cy="731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C1230-8C6A-4BD8-B3CE-9924CD4D4BA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FE72-4A05-4EB6-8951-0991C5AEF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981000"/>
            <a:ext cx="8686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95280" y="333360"/>
            <a:ext cx="8475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System Implementation – Outline GUI Layout (4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701440" cy="731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24A1-2B50-473D-90D8-496D4D1E981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22A5-99F6-41C9-98CA-A468E2D1B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324000" y="981000"/>
            <a:ext cx="8686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95280" y="333360"/>
            <a:ext cx="8475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System Implementation – Outline GUI Layout (4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85440" cy="717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F7B6A-5D67-428F-BDCA-18540A1E2CC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84F9-DF1F-4245-AC10-5DA388237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981000"/>
            <a:ext cx="8686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95280" y="333360"/>
            <a:ext cx="8475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System Implementation – Outline GUI Layout (4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57080" cy="722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D9C7E-99FD-4B1A-BAD5-F6AA7B34C91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90DD-8D33-4B8D-B152-A6D90F761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981000"/>
            <a:ext cx="8686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95280" y="333360"/>
            <a:ext cx="8475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System Implementation – Outline GUI Layout (4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773080" cy="735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2C7C-C446-45C4-B6A3-73C53E494F2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D73B-32ED-4E1B-B4E6-8A831210C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981000"/>
            <a:ext cx="86868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tial data up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load of ENIs issued after 30.4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load of additional data and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additional countries, functional amendments of the EH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clusion of service agreement for hull data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tion of operator of the EHDB for the time after PLA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75840" cy="4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e62"/>
                </a:solidFill>
                <a:latin typeface="Arial"/>
              </a:rPr>
              <a:t>Next Steps</a:t>
            </a:r>
            <a:r>
              <a:rPr b="0" lang="fr-FR" sz="2800" spc="-1" strike="noStrike">
                <a:solidFill>
                  <a:srgbClr val="004e6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3ED60-3BAA-47A6-9097-D04DFD5B07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1AF6-AB2A-49C0-85E9-2B721AA1B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981000"/>
            <a:ext cx="8640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tion in the pilot phase is an opportunity to collect experiences without operational risks and disturba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tion in the pilot phase allows for active involvement in the system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tion in the pilot phase allows for gradual and smooth implementation in the respective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75840" cy="4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2"/>
                </a:solidFill>
                <a:latin typeface="Arial"/>
              </a:rPr>
              <a:t>Why authorities support the European Hull Database</a:t>
            </a:r>
            <a:endParaRPr b="0" lang="en-US" sz="2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0280-7040-41AE-8243-85FE19D79D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F3DB-2ED9-48D4-862A-ED65C39E1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Overview of PLATI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Overview of European Hull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ion group on inland nav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07250-4F38-47F0-9710-675262A8BFA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2720" y="409320"/>
            <a:ext cx="964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4e62"/>
                </a:solidFill>
                <a:latin typeface="Arial"/>
              </a:rPr>
              <a:t>NAIADES II ? </a:t>
            </a:r>
            <a:br>
              <a:rPr sz="3600"/>
            </a:br>
            <a:r>
              <a:rPr b="0" lang="de-DE" sz="3600" spc="-1" strike="noStrike">
                <a:solidFill>
                  <a:srgbClr val="004e62"/>
                </a:solidFill>
                <a:latin typeface="Arial"/>
              </a:rPr>
              <a:t>– Reflection group on inland navigation</a:t>
            </a:r>
            <a:endParaRPr b="0" lang="en-US" sz="3600" spc="-1" strike="noStrike">
              <a:solidFill>
                <a:srgbClr val="004e62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2560" y="1341360"/>
            <a:ext cx="3097440" cy="1681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7969320" cy="2100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708360" y="162864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443640" y="1628640"/>
            <a:ext cx="2521080" cy="18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E038-8D5F-4161-A304-5D85C03F76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2360" y="409320"/>
            <a:ext cx="950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4e62"/>
                </a:solidFill>
                <a:latin typeface="Arial"/>
              </a:rPr>
              <a:t>NAIADES II ? </a:t>
            </a:r>
            <a:br>
              <a:rPr sz="3600"/>
            </a:br>
            <a:r>
              <a:rPr b="0" lang="de-DE" sz="3600" spc="-1" strike="noStrike">
                <a:solidFill>
                  <a:srgbClr val="004e62"/>
                </a:solidFill>
                <a:latin typeface="Arial"/>
              </a:rPr>
              <a:t>– Reflection group on inland navigation</a:t>
            </a:r>
            <a:endParaRPr b="0" lang="en-US" sz="3600" spc="-1" strike="noStrike">
              <a:solidFill>
                <a:srgbClr val="004e62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82960" y="1268280"/>
            <a:ext cx="3789720" cy="4695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3015000" cy="50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A5C80-05F5-4F96-921B-147CB2AD23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6F7B-8C1A-4250-8F46-616D7ADC2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PLATI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European Hull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ion group on inland nav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E10B-E0C5-439B-A666-108311CD9D2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79232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e62"/>
                </a:solidFill>
                <a:latin typeface="Arial"/>
              </a:rPr>
              <a:t>Thank you for your attention !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4000" y="3860280"/>
            <a:ext cx="7848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4e62"/>
                </a:solidFill>
                <a:latin typeface="Arial"/>
              </a:rPr>
              <a:t>Andreas Bä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4e62"/>
                </a:solidFill>
                <a:latin typeface="Arial"/>
              </a:rPr>
              <a:t>via donau – Österreichische Wasserstraßen-Gesellschaft 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4e62"/>
                </a:solidFill>
                <a:latin typeface="Arial"/>
              </a:rPr>
              <a:t>PLATINA Project Office Bru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4e62"/>
                </a:solidFill>
                <a:latin typeface="Arial"/>
              </a:rPr>
              <a:t>phone +43-664-80842-16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4e62"/>
                </a:solidFill>
                <a:latin typeface="Arial"/>
              </a:rPr>
              <a:t>andreas.baeck@via-donau.org, www.via-donau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6CDF-DFD5-4A83-927D-AD11195B39C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828720" y="-1035000"/>
            <a:ext cx="11395080" cy="15127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616720" y="6021360"/>
            <a:ext cx="54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4c63"/>
                </a:solidFill>
                <a:latin typeface="Wingdings"/>
                <a:ea typeface="Wingdings"/>
              </a:rPr>
              <a:t></a:t>
            </a:r>
            <a:r>
              <a:rPr b="1" lang="de-DE" sz="2500" spc="-1" strike="noStrike">
                <a:solidFill>
                  <a:srgbClr val="004c63"/>
                </a:solidFill>
                <a:latin typeface="AvantGarde"/>
              </a:rPr>
              <a:t> </a:t>
            </a:r>
            <a:r>
              <a:rPr b="1" lang="de-DE" sz="2000" spc="-1" strike="noStrike">
                <a:solidFill>
                  <a:srgbClr val="004c63"/>
                </a:solidFill>
                <a:latin typeface="AvantGarde"/>
              </a:rPr>
              <a:t>www.naiades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A030-F86D-4D6D-85AE-D52735655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PLATI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Overview of European Hull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flection group on inland nav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699C-9F44-4B01-A1E8-CAA71254141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9760" y="404640"/>
            <a:ext cx="79167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e62"/>
                </a:solidFill>
                <a:latin typeface="Arial"/>
              </a:rPr>
              <a:t>PLATINA …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9760" y="1268280"/>
            <a:ext cx="79167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roject within th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amework Programme for Research, Technology Development and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imed at coordinating and supporting research activities and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from 06/2008 to 05/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22 partners from 9 different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rganised around the five NAIADES actio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trategically guided by key industrial stakeholders, associations and Member States admini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B343-FA42-4D21-9512-6A01E3736F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11280" y="836640"/>
            <a:ext cx="12240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836640"/>
            <a:ext cx="12240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836640"/>
            <a:ext cx="122364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836640"/>
            <a:ext cx="12240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35080" y="898560"/>
            <a:ext cx="12240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127080"/>
            <a:ext cx="756144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B93D9-7CF2-49A4-ACC2-6B6CCD25A6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61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e62"/>
                </a:solidFill>
                <a:latin typeface="Arial"/>
              </a:rPr>
              <a:t>Work package leaders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341360"/>
          <a:ext cx="8061120" cy="4437000"/>
        </p:xfrm>
        <a:graphic>
          <a:graphicData uri="http://schemas.openxmlformats.org/drawingml/2006/table">
            <a:tbl>
              <a:tblPr/>
              <a:tblGrid>
                <a:gridCol w="3673440"/>
                <a:gridCol w="4387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Pack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P Lea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P1 Marke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a donau (Austri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P2 Fle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es navigables de France (Franc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P3 Jobs &amp; Skil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desverband der Deutschen Binnenschiffahrt (Germany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P4 Im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ie Binnenvaart Vlaanderen (Belgium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P5 Infrastructur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nst Verkeer and Scheepvaart  (Netherland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P6 Technical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a donau (Austri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5A86-B74A-4CCA-8638-7ADE64E818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e62"/>
                </a:solidFill>
                <a:latin typeface="Arial"/>
              </a:rPr>
              <a:t>Achievements until 06/2010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of European IWT information portal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iades.inf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version of the IWT Funding Guide in EN, FR, NL, DE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iades.info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fu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ractice report I+II for th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of an IWT innov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T strategic research agenda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T education and training institutes and curric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tion of organisational structure and support for the foundation of a European IWT educational network (EDIN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the reputation of IWT and definition of the desired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d essence summ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 on integrated waterway pla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Specification for the Inland Electronic Navigational Chart (IENC) Register and digital parts of IENC stand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of RIS community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CD2A4-F52B-4688-A82A-42E56DA5F5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e62"/>
                </a:solidFill>
                <a:latin typeface="Arial"/>
              </a:rPr>
              <a:t>Further activities in 2010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and update of the IWT information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 strategy for harmonised IWT education and training standards in inland navigation (ST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programme for the European IWT educational network (EDIN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WT lead event on 30.11/1.12.2010 in 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positioning of IWT’s re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programme of promotion &amp; development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of a strategic communication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ory of strategic inland waterway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 reference data management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ation of a best practice manual on waterway infrastructure planning following the Joint Stat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6455-6986-4219-9B32-125B856328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41:27Z</dcterms:created>
  <dc:creator>rudolf.stefanich</dc:creator>
  <dc:description/>
  <dc:language>en-US</dc:language>
  <cp:lastModifiedBy>Andreas_lokal</cp:lastModifiedBy>
  <dcterms:modified xsi:type="dcterms:W3CDTF">2010-06-18T05:35:41Z</dcterms:modified>
  <cp:revision>235</cp:revision>
  <dc:subject/>
  <dc:title>Titel</dc:title>
</cp:coreProperties>
</file>