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397-A4D2-4139-A174-7275EC79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C58-5AAA-4834-A743-AA51503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019-9BC2-4146-A003-D1C1386E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B27-DE31-4EC6-A3CF-5F5B3AFD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541-DB2B-4712-BB94-AD869AF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FDC-25EF-4C1F-A984-8CF4E87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6D2-A577-4BD4-BFE4-1558402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373-0E52-4290-8D9C-145ADA62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E14-8DF9-4A88-8DFD-7A23010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914-3125-486E-B619-6DFBD19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1AA-4C36-4E44-8930-E082F32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C21-DF82-4808-8249-62F99550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9F8B-69CE-45CA-99AF-F308528547E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4160" y="5229360"/>
            <a:ext cx="361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 Black"/>
              </a:rPr>
              <a:t>Geneva, 26 March 2010</a:t>
            </a:r>
            <a:r>
              <a:rPr b="0" lang="pl-PL" sz="24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341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 Black"/>
              </a:rPr>
              <a:t>The</a:t>
            </a:r>
            <a:r>
              <a:rPr b="0" lang="pl-PL" sz="3200" spc="-1" strike="noStrike">
                <a:solidFill>
                  <a:srgbClr val="000099"/>
                </a:solidFill>
                <a:latin typeface="Arial Black"/>
              </a:rPr>
              <a:t> system </a:t>
            </a:r>
            <a:r>
              <a:rPr b="0" lang="en-GB" sz="3200" spc="-1" strike="noStrike">
                <a:solidFill>
                  <a:srgbClr val="000099"/>
                </a:solidFill>
                <a:latin typeface="Arial Black"/>
              </a:rPr>
              <a:t>SUW 2000 -</a:t>
            </a:r>
            <a:br>
              <a:rPr sz="3200"/>
            </a:br>
            <a:r>
              <a:rPr b="0" lang="en-GB" sz="3200" spc="-1" strike="noStrike">
                <a:solidFill>
                  <a:srgbClr val="000099"/>
                </a:solidFill>
                <a:latin typeface="Arial Black"/>
              </a:rPr>
              <a:t>an opportunity for railway networks having different track gau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3500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 Black"/>
              </a:rPr>
              <a:t>First session of the informal </a:t>
            </a:r>
            <a:br>
              <a:rPr sz="2400"/>
            </a:br>
            <a:r>
              <a:rPr b="0" lang="en-GB" sz="2400" spc="-1" strike="noStrike">
                <a:solidFill>
                  <a:srgbClr val="008000"/>
                </a:solidFill>
                <a:latin typeface="Arial Black"/>
              </a:rPr>
              <a:t>UNECE Expert Group on Unified Railway Law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9280" y="18576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5588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Use of a many-years experience of PKP with the system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UW 2000 is highly advis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One  should  arrange a close co-operation between railways and industry in favour of the system SUW 2000 implementation in both passenger and freight services in the Euro-Asian transport corridors (including PECT I, II and III situated as on the Northern and Central Axis of TEN-T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)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2920" y="1700280"/>
            <a:ext cx="7416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               </a:t>
            </a: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for y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pl-PL" sz="40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atten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462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INTRODUCTION</a:t>
            </a: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938240"/>
            <a:ext cx="410544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rolling stock element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– i.e. freight bogie (type P-053/BK)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with gauge-changing wheel sets, passenger bogie (type P-057/BK) with gauge-changing wheel set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infrastructure element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– i.e.  track gauge-changing st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9874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system SUW 2000 consists of two basic components: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321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Polish system SUW 2000 for automatic track gauge-changing was designed by Eng. Ryszard Maria Suwalski, D.Sc.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925640"/>
            <a:ext cx="2224080" cy="22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255600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08720" y="4435560"/>
            <a:ext cx="86364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2720" y="2462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CERTIFICATI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Certificates of conformity issued in Russia by the Certification Register on Federal Railway Transport (RC FTK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924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freight bogie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4RS/N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was considered in th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UIC/OSZhD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Leaflet No.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 516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nd in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Technical  Specifications of Interoperability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for freight wagons (appendix Y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421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cceptances in the area of the E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1484280"/>
            <a:ext cx="79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for a passenger coach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306 A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for a bogie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25 AN/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995640"/>
            <a:ext cx="792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bogie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25 AN/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will be considered in the  </a:t>
            </a:r>
            <a:r>
              <a:rPr b="1" lang="en-GB" sz="1800" spc="-1" strike="noStrike">
                <a:solidFill>
                  <a:srgbClr val="ff3300"/>
                </a:solidFill>
                <a:latin typeface="Arial Black"/>
              </a:rPr>
              <a:t>UIC/OSŻD Leaflet</a:t>
            </a: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Black"/>
              </a:rPr>
              <a:t>No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524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nd in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Technical Specifications of Interoperability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– passenger coa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516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Plans for the time to come: to obtain a certificate issued by the German Federal Railway Office (EB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491000" cy="215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025720" cy="2530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156360" y="3933720"/>
            <a:ext cx="2093760" cy="251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2462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COACH TYPE 306A 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–</a:t>
            </a: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 COMFORT TO CUSTOM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884160"/>
            <a:ext cx="547236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passenger coaches type 306A are sleeping cars having the EURONIGHT standard equipped with, among oth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ir-condition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vacuum toilets (closed circulation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WC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business-class compart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oundproofed interior of c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uspension system provi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 fully smooth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836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Connections </a:t>
            </a:r>
            <a:r>
              <a:rPr b="0" lang="en-GB" sz="1800" spc="-1" strike="noStrike">
                <a:solidFill>
                  <a:srgbClr val="33cc33"/>
                </a:solidFill>
                <a:latin typeface="Arial Black"/>
              </a:rPr>
              <a:t>with Lithuania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(PECT I)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during 2000 - 2005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2000" y="246240"/>
            <a:ext cx="88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OPERATION TO DAT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68600"/>
            <a:ext cx="792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6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coache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mounted to from </a:t>
            </a:r>
            <a:br>
              <a:rPr sz="1800"/>
            </a:b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488 400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625 200 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5 754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2560" y="3559320"/>
            <a:ext cx="792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4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freight wagon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mounted to from </a:t>
            </a:r>
            <a:br>
              <a:rPr sz="1800"/>
            </a:b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00 055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01 137 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850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836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Connections </a:t>
            </a:r>
            <a:r>
              <a:rPr b="0" lang="en-GB" sz="1800" spc="-1" strike="noStrike">
                <a:solidFill>
                  <a:srgbClr val="33cc33"/>
                </a:solidFill>
                <a:latin typeface="Arial Black"/>
              </a:rPr>
              <a:t>with Ukraine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(PECT III)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during 2003 – 2006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nd since 31/05/20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2462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OPERATION TO DAT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595520"/>
            <a:ext cx="792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4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coache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belonging to PKP Intercity amounted to from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36 085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407 760 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892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3036960"/>
            <a:ext cx="792180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4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coache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belonging to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UZ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mounted to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135 369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381 480 km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850</a:t>
            </a:r>
            <a:r>
              <a:rPr b="0" lang="en-GB" sz="1800" spc="-1" strike="noStrike">
                <a:solidFill>
                  <a:srgbClr val="0000ff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55958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ervices were performed with temperatures from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35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-32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 Black"/>
              </a:rPr>
              <a:t>O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52916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planned summing-up of stage 1 operation after its reopening since 31 May 2009 is to follow in November this year – after reaching the average mileage of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00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000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 km</a:t>
            </a:r>
            <a:r>
              <a:rPr b="0" lang="en-GB" sz="18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127160"/>
            <a:ext cx="80010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030320"/>
            <a:ext cx="6123240" cy="398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3031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 Black"/>
              </a:rPr>
              <a:t>POTENTIAL APPLICATION </a:t>
            </a:r>
            <a:r>
              <a:rPr b="0" lang="pl-PL" sz="2400" spc="-1" strike="noStrike">
                <a:solidFill>
                  <a:srgbClr val="cc3300"/>
                </a:solidFill>
                <a:latin typeface="Arial Black"/>
              </a:rPr>
              <a:t>– </a:t>
            </a:r>
            <a:br>
              <a:rPr sz="2400"/>
            </a:br>
            <a:r>
              <a:rPr b="0" lang="en-GB" sz="2400" spc="-1" strike="noStrike">
                <a:solidFill>
                  <a:srgbClr val="cc3300"/>
                </a:solidFill>
                <a:latin typeface="Arial Black"/>
              </a:rPr>
              <a:t>EURO-ASIAN </a:t>
            </a:r>
            <a:r>
              <a:rPr b="0" lang="pl-PL" sz="2400" spc="-1" strike="noStrike">
                <a:solidFill>
                  <a:srgbClr val="cc3300"/>
                </a:solidFill>
                <a:latin typeface="Arial Black"/>
              </a:rPr>
              <a:t>TRANSPORT CORRI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-8023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24360" y="2852640"/>
            <a:ext cx="2843280" cy="143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508464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Interfaces of railway systems with different gauge of track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in Euro-Asian transport corridors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– as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n effective tool for  gaining interoperability in railway mode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153640" cy="4876920"/>
          </a:xfrm>
          <a:prstGeom prst="rect">
            <a:avLst/>
          </a:prstGeom>
          <a:ln w="57240">
            <a:solidFill>
              <a:srgbClr val="8dd9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2666880" y="3886200"/>
            <a:ext cx="1371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3124080"/>
            <a:ext cx="685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MIŃ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98108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MOSK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1911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2362320"/>
            <a:ext cx="0" cy="2590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2361960"/>
            <a:ext cx="2819520" cy="1143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505320"/>
            <a:ext cx="1905120" cy="761760"/>
          </a:xfrm>
          <a:custGeom>
            <a:avLst/>
            <a:gdLst/>
            <a:ahLst/>
            <a:rect l="l" t="t" r="r" b="b"/>
            <a:pathLst>
              <a:path w="1200" h="480">
                <a:moveTo>
                  <a:pt x="0" y="480"/>
                </a:moveTo>
                <a:lnTo>
                  <a:pt x="579" y="453"/>
                </a:lnTo>
                <a:lnTo>
                  <a:pt x="618" y="429"/>
                </a:lnTo>
                <a:lnTo>
                  <a:pt x="1200" y="0"/>
                </a:ln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618080"/>
            <a:ext cx="19051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2372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46483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570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313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809880"/>
            <a:ext cx="762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BER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342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63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9614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5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114800"/>
            <a:ext cx="2114280" cy="152280"/>
          </a:xfrm>
          <a:custGeom>
            <a:avLst/>
            <a:gdLst/>
            <a:ahLst/>
            <a:rect l="l" t="t" r="r" b="b"/>
            <a:pathLst>
              <a:path w="1332" h="96">
                <a:moveTo>
                  <a:pt x="0" y="0"/>
                </a:moveTo>
                <a:lnTo>
                  <a:pt x="1332" y="96"/>
                </a:lnTo>
              </a:path>
            </a:pathLst>
          </a:custGeom>
          <a:noFill/>
          <a:ln w="7632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809880"/>
            <a:ext cx="1066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 Black"/>
              </a:rPr>
              <a:t>SUW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4191120"/>
            <a:ext cx="75960" cy="7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1148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038480"/>
            <a:ext cx="53316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Black"/>
              </a:rPr>
              <a:t>Teresp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4191120"/>
            <a:ext cx="3045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808080"/>
                </a:solidFill>
                <a:latin typeface="Arial Black"/>
              </a:rPr>
              <a:t>Br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268280"/>
          <a:ext cx="5256000" cy="113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525600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9480" y="4797360"/>
          <a:ext cx="5207040" cy="139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797360"/>
                    <a:ext cx="52070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360" y="1484280"/>
            <a:ext cx="15840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130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 Black"/>
                <a:ea typeface="Arial"/>
              </a:rPr>
              <a:t>Existing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414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227664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031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POTENTIAL APPLICATION –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PANEUROPEAN TRANSPORT CORRIDOR I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6915240" cy="5186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1280" y="2350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WORK SIMULATION OF THE SYSTEM SUW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52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7:37:51Z</dcterms:created>
  <dc:creator>awolek</dc:creator>
  <dc:description/>
  <dc:language>en-US</dc:language>
  <cp:lastModifiedBy>Marilley</cp:lastModifiedBy>
  <dcterms:modified xsi:type="dcterms:W3CDTF">2010-04-09T08:22:58Z</dcterms:modified>
  <cp:revision>535</cp:revision>
  <dc:subject/>
  <dc:title>TYTUŁ SLAJDU</dc:title>
</cp:coreProperties>
</file>