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wmf" ContentType="image/x-wmf"/>
  <Override PartName="/ppt/media/image8.jpeg" ContentType="image/jpeg"/>
  <Override PartName="/ppt/media/image9.jpeg" ContentType="image/jpeg"/>
  <Override PartName="/ppt/media/image10.wmf" ContentType="image/x-wmf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55ED-5772-4FD0-B966-AB013435A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7C1C-75CF-42F1-B6B6-5DEA4BDD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96E4-10D7-43EC-8293-9427CC203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85EC-6138-4CB6-AA51-AD4ECFF96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74FA-D531-4C89-8ABE-20162CAD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3201-AABC-42EA-B57D-BF744DDC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D973-D23D-4E20-83DD-110BEF51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0045-E6A0-4E09-AB94-F71E7CAE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92B1-BBAC-4E5F-8ADA-F0DFC640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7B81-80BC-47FF-A9BB-9F77E5FD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16D1-FF75-4C35-89AF-6F614A8E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A419-3DE2-4915-A08A-42C4F6E0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5A21-6D9A-449D-BE55-ECEC2910C520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4160" y="5229360"/>
            <a:ext cx="3612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 Black"/>
              </a:rPr>
              <a:t>Geneva, 26 March 2010</a:t>
            </a:r>
            <a:r>
              <a:rPr b="0" lang="pl-PL" sz="2400" spc="-1" strike="noStrike">
                <a:solidFill>
                  <a:srgbClr val="cc33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134136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 Black"/>
              </a:rPr>
              <a:t>The</a:t>
            </a:r>
            <a:r>
              <a:rPr b="0" lang="pl-PL" sz="3200" spc="-1" strike="noStrike">
                <a:solidFill>
                  <a:srgbClr val="000099"/>
                </a:solidFill>
                <a:latin typeface="Arial Black"/>
              </a:rPr>
              <a:t> system </a:t>
            </a:r>
            <a:r>
              <a:rPr b="0" lang="en-GB" sz="3200" spc="-1" strike="noStrike">
                <a:solidFill>
                  <a:srgbClr val="000099"/>
                </a:solidFill>
                <a:latin typeface="Arial Black"/>
              </a:rPr>
              <a:t>SUW 2000 -</a:t>
            </a:r>
            <a:br>
              <a:rPr sz="3200"/>
            </a:br>
            <a:r>
              <a:rPr b="0" lang="en-GB" sz="3200" spc="-1" strike="noStrike">
                <a:solidFill>
                  <a:srgbClr val="000099"/>
                </a:solidFill>
                <a:latin typeface="Arial Black"/>
              </a:rPr>
              <a:t>an opportunity for railway networks having different track gau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00000" y="350028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Arial Black"/>
              </a:rPr>
              <a:t>First session of the informal </a:t>
            </a:r>
            <a:br>
              <a:rPr sz="2400"/>
            </a:br>
            <a:r>
              <a:rPr b="0" lang="en-GB" sz="2400" spc="-1" strike="noStrike">
                <a:solidFill>
                  <a:srgbClr val="008000"/>
                </a:solidFill>
                <a:latin typeface="Arial Black"/>
              </a:rPr>
              <a:t>UNECE Expert Group on Unified Railway Law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19280" y="185760"/>
            <a:ext cx="82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Black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155880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lnSpc>
                <a:spcPct val="100000"/>
              </a:lnSpc>
              <a:buClr>
                <a:srgbClr val="ff3300"/>
              </a:buClr>
              <a:buSzPct val="12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Use of a many-years experience of PKP with the system </a:t>
            </a:r>
            <a:br>
              <a:rPr sz="1800"/>
            </a:b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SUW 2000 is highly advisab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buClr>
                <a:srgbClr val="ff3300"/>
              </a:buClr>
              <a:buSzPct val="12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One  should  arrange a close co-operation between railways and industry in favour of the system SUW 2000 implementation in both passenger and freight services in the Euro-Asian transport corridors (including PECT I, II and III situated as on the Northern and Central Axis of TEN-T</a:t>
            </a:r>
            <a:r>
              <a:rPr b="0" lang="pl-PL" sz="1800" spc="-1" strike="noStrike">
                <a:solidFill>
                  <a:srgbClr val="000099"/>
                </a:solidFill>
                <a:latin typeface="Arial Black"/>
              </a:rPr>
              <a:t>)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42920" y="1700280"/>
            <a:ext cx="7416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 Black"/>
              </a:rPr>
              <a:t>Thank you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 Black"/>
              </a:rPr>
              <a:t>               </a:t>
            </a:r>
            <a:r>
              <a:rPr b="0" lang="en-GB" sz="4000" spc="-1" strike="noStrike">
                <a:solidFill>
                  <a:srgbClr val="0000ff"/>
                </a:solidFill>
                <a:latin typeface="Arial Black"/>
              </a:rPr>
              <a:t>for you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 Black"/>
              </a:rPr>
              <a:t>                 </a:t>
            </a:r>
            <a:r>
              <a:rPr b="0" lang="pl-PL" sz="4000" spc="-1" strike="noStrike">
                <a:solidFill>
                  <a:srgbClr val="0000ff"/>
                </a:solidFill>
                <a:latin typeface="Arial Black"/>
              </a:rPr>
              <a:t>         </a:t>
            </a:r>
            <a:r>
              <a:rPr b="0" lang="en-GB" sz="4000" spc="-1" strike="noStrike">
                <a:solidFill>
                  <a:srgbClr val="0000ff"/>
                </a:solidFill>
                <a:latin typeface="Arial Black"/>
              </a:rPr>
              <a:t>atten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" dur="7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" dur="75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" dur="750" fill="hold">
                                          <p:stCondLst>
                                            <p:cond delay="22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4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" dur="7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" dur="75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7" dur="750" fill="hold">
                                          <p:stCondLst>
                                            <p:cond delay="22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2462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Black"/>
              </a:rPr>
              <a:t>INTRODUCTION</a:t>
            </a:r>
            <a:r>
              <a:rPr b="0" lang="en-US" sz="2800" spc="-1" strike="noStrike">
                <a:solidFill>
                  <a:srgbClr val="ff33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11280" y="1938240"/>
            <a:ext cx="4105440" cy="29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rolling stock element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– i.e. freight bogie (type P-053/BK) </a:t>
            </a:r>
            <a:br>
              <a:rPr sz="1800"/>
            </a:b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with gauge-changing wheel sets, passenger bogie (type P-057/BK) with gauge-changing wheel set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infrastructure element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– i.e.  track gauge-changing sta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98748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12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The system SUW 2000 consists of two basic components:</a:t>
            </a:r>
            <a:r>
              <a:rPr b="0" lang="pl-PL" sz="1800" spc="-1" strike="noStrike">
                <a:solidFill>
                  <a:srgbClr val="000099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53211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12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The Polish system SUW 2000 for automatic track gauge-changing was designed by Eng. Ryszard Maria Suwalski, D.Sc.</a:t>
            </a:r>
            <a:r>
              <a:rPr b="0" lang="pl-PL" sz="1800" spc="-1" strike="noStrike">
                <a:solidFill>
                  <a:srgbClr val="000099"/>
                </a:solidFill>
                <a:latin typeface="Arial Black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9280" y="1925640"/>
            <a:ext cx="2224080" cy="2224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516720" y="249228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H="1">
            <a:off x="2556000" y="2133720"/>
            <a:ext cx="792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508720" y="4435560"/>
            <a:ext cx="86364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2720" y="24624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Black"/>
              </a:rPr>
              <a:t>CERTIFICATION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7650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 algn="just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12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Certificates of conformity issued in Russia by the Certification Register on Federal Railway Transport (RC FTK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292428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buClr>
                <a:srgbClr val="ff330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99"/>
                </a:solidFill>
                <a:uFillTx/>
                <a:latin typeface="Arial Black"/>
              </a:rPr>
              <a:t>freight bogie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type </a:t>
            </a: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4RS/N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was considered in the </a:t>
            </a: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UIC/OSZhD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GB" sz="1800" spc="-1" strike="noStrike">
                <a:solidFill>
                  <a:srgbClr val="ff0000"/>
                </a:solidFill>
                <a:latin typeface="Arial Black"/>
              </a:rPr>
              <a:t>Leaflet No.</a:t>
            </a: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 516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and in</a:t>
            </a:r>
            <a:r>
              <a:rPr b="0" lang="pl-PL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the </a:t>
            </a: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Technical  Specifications of Interoperability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for freight wagons (appendix Y),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421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buClr>
                <a:srgbClr val="ff3300"/>
              </a:buClr>
              <a:buSzPct val="12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Acceptances in the area of the E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98560" y="1484280"/>
            <a:ext cx="7921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for a passenger coach type </a:t>
            </a: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306 A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for a bogie type </a:t>
            </a: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25 AN/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3995640"/>
            <a:ext cx="7921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99"/>
                </a:solidFill>
                <a:uFillTx/>
                <a:latin typeface="Arial Black"/>
              </a:rPr>
              <a:t>passenger bogie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type </a:t>
            </a: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25 AN/S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will be considered in the  </a:t>
            </a:r>
            <a:r>
              <a:rPr b="1" lang="en-GB" sz="1800" spc="-1" strike="noStrike">
                <a:solidFill>
                  <a:srgbClr val="ff3300"/>
                </a:solidFill>
                <a:latin typeface="Arial Black"/>
              </a:rPr>
              <a:t>UIC/OSŻD Leaflet</a:t>
            </a:r>
            <a:r>
              <a:rPr b="1" lang="en-GB" sz="20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Arial Black"/>
              </a:rPr>
              <a:t>No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524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and in</a:t>
            </a:r>
            <a:r>
              <a:rPr b="0" lang="pl-PL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the </a:t>
            </a: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Technical Specifications of Interoperability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– passenger coach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516420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just">
              <a:lnSpc>
                <a:spcPct val="100000"/>
              </a:lnSpc>
              <a:buClr>
                <a:srgbClr val="ff3300"/>
              </a:buClr>
              <a:buSzPct val="12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Plans for the time to come: to obtain a certificate issued by the German Federal Railway Office (EBA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4000" y="3933720"/>
            <a:ext cx="4491000" cy="2156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516720" y="1125360"/>
            <a:ext cx="2025720" cy="2530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156360" y="3933720"/>
            <a:ext cx="2093760" cy="2519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55640" y="246240"/>
            <a:ext cx="91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 Black"/>
              </a:rPr>
              <a:t>COACH TYPE 306A </a:t>
            </a:r>
            <a:r>
              <a:rPr b="1" lang="en-US" sz="2400" spc="-1" strike="noStrike">
                <a:solidFill>
                  <a:srgbClr val="cc3300"/>
                </a:solidFill>
                <a:latin typeface="Arial Black"/>
              </a:rPr>
              <a:t>–</a:t>
            </a:r>
            <a:r>
              <a:rPr b="0" lang="en-US" sz="2400" spc="-1" strike="noStrike">
                <a:solidFill>
                  <a:srgbClr val="cc3300"/>
                </a:solidFill>
                <a:latin typeface="Arial Black"/>
              </a:rPr>
              <a:t> COMFORT TO CUSTOM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884160"/>
            <a:ext cx="5472360" cy="29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The passenger coaches type 306A are sleeping cars having the EURONIGHT standard equipped with, among othe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air-conditionin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vacuum toilets (closed circulation </a:t>
            </a:r>
            <a:r>
              <a:rPr b="0" lang="pl-PL" sz="1800" spc="-1" strike="noStrike">
                <a:solidFill>
                  <a:srgbClr val="000099"/>
                </a:solidFill>
                <a:latin typeface="Arial Black"/>
              </a:rPr>
              <a:t>WC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business-class compartmen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soundproofed interior of ca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suspension system provi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 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a fully smooth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11280" y="83664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 algn="just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Connections </a:t>
            </a:r>
            <a:r>
              <a:rPr b="0" lang="en-GB" sz="1800" spc="-1" strike="noStrike">
                <a:solidFill>
                  <a:srgbClr val="33cc33"/>
                </a:solidFill>
                <a:latin typeface="Arial Black"/>
              </a:rPr>
              <a:t>with Lithuania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pl-PL" sz="1800" spc="-1" strike="noStrike">
                <a:solidFill>
                  <a:srgbClr val="000099"/>
                </a:solidFill>
                <a:latin typeface="Arial Black"/>
              </a:rPr>
              <a:t>(PECT I) 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during 2000 - 2005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92000" y="246240"/>
            <a:ext cx="88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Black"/>
              </a:rPr>
              <a:t>OPERATION TO DAT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1668600"/>
            <a:ext cx="7921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mileage of 6 </a:t>
            </a:r>
            <a:r>
              <a:rPr b="0" lang="en-GB" sz="1800" spc="-1" strike="noStrike" u="sng">
                <a:solidFill>
                  <a:srgbClr val="000099"/>
                </a:solidFill>
                <a:uFillTx/>
                <a:latin typeface="Arial Black"/>
              </a:rPr>
              <a:t>passenger coaches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amounted to from </a:t>
            </a:r>
            <a:br>
              <a:rPr sz="1800"/>
            </a:b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488 400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km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to </a:t>
            </a: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625 200 km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total number of car gauge-changing operations on the track  gauge-changing stand – </a:t>
            </a: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5 754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2560" y="3559320"/>
            <a:ext cx="792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mileage of 4 </a:t>
            </a:r>
            <a:r>
              <a:rPr b="0" lang="en-GB" sz="1800" spc="-1" strike="noStrike" u="sng">
                <a:solidFill>
                  <a:srgbClr val="000099"/>
                </a:solidFill>
                <a:uFillTx/>
                <a:latin typeface="Arial Black"/>
              </a:rPr>
              <a:t>freight wagons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amounted to from </a:t>
            </a:r>
            <a:br>
              <a:rPr sz="1800"/>
            </a:b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100 055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km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to </a:t>
            </a: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101 137 km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total number of car gauge-changing operations on the track  gauge-changing stand – </a:t>
            </a: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850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11280" y="83664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Connections </a:t>
            </a:r>
            <a:r>
              <a:rPr b="0" lang="en-GB" sz="1800" spc="-1" strike="noStrike">
                <a:solidFill>
                  <a:srgbClr val="33cc33"/>
                </a:solidFill>
                <a:latin typeface="Arial Black"/>
              </a:rPr>
              <a:t>with Ukraine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pl-PL" sz="1800" spc="-1" strike="noStrike">
                <a:solidFill>
                  <a:srgbClr val="000099"/>
                </a:solidFill>
                <a:latin typeface="Arial Black"/>
              </a:rPr>
              <a:t>(PECT III) 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during 2003 – 2006 </a:t>
            </a:r>
            <a:br>
              <a:rPr sz="1800"/>
            </a:b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and since 31/05/200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9280" y="24624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Black"/>
              </a:rPr>
              <a:t>OPERATION TO DAT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1595520"/>
            <a:ext cx="7921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mileage of 4 </a:t>
            </a:r>
            <a:r>
              <a:rPr b="0" lang="en-GB" sz="1800" spc="-1" strike="noStrike" u="sng">
                <a:solidFill>
                  <a:srgbClr val="000099"/>
                </a:solidFill>
                <a:uFillTx/>
                <a:latin typeface="Arial Black"/>
              </a:rPr>
              <a:t>passenger coaches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belonging to PKP Intercity amounted to from </a:t>
            </a: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136 085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km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to </a:t>
            </a: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407 760 km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total number of car gauge-changing operations on the track gauge-changing stand – </a:t>
            </a: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892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2560" y="3036960"/>
            <a:ext cx="7921800" cy="13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mileage of 4 </a:t>
            </a:r>
            <a:r>
              <a:rPr b="0" lang="en-GB" sz="1800" spc="-1" strike="noStrike" u="sng">
                <a:solidFill>
                  <a:srgbClr val="000099"/>
                </a:solidFill>
                <a:uFillTx/>
                <a:latin typeface="Arial Black"/>
              </a:rPr>
              <a:t>passenger coaches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belonging to </a:t>
            </a:r>
            <a:r>
              <a:rPr b="0" lang="pl-PL" sz="1800" spc="-1" strike="noStrike">
                <a:solidFill>
                  <a:srgbClr val="000099"/>
                </a:solidFill>
                <a:latin typeface="Arial Black"/>
              </a:rPr>
              <a:t>UZ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 amounted to fr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3300"/>
                </a:solidFill>
                <a:latin typeface="Arial Black"/>
              </a:rPr>
              <a:t>135 369</a:t>
            </a:r>
            <a:r>
              <a:rPr b="0" lang="pl-PL" sz="18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0" lang="pl-PL" sz="1800" spc="-1" strike="noStrike">
                <a:solidFill>
                  <a:srgbClr val="ff3300"/>
                </a:solidFill>
                <a:latin typeface="Arial Black"/>
              </a:rPr>
              <a:t>km</a:t>
            </a:r>
            <a:r>
              <a:rPr b="0" lang="pl-PL" sz="1800" spc="-1" strike="noStrike">
                <a:solidFill>
                  <a:srgbClr val="000099"/>
                </a:solidFill>
                <a:latin typeface="Arial Black"/>
              </a:rPr>
              <a:t> to </a:t>
            </a:r>
            <a:r>
              <a:rPr b="0" lang="pl-PL" sz="1800" spc="-1" strike="noStrike">
                <a:solidFill>
                  <a:srgbClr val="ff3300"/>
                </a:solidFill>
                <a:latin typeface="Arial Black"/>
              </a:rPr>
              <a:t>381 480 km</a:t>
            </a:r>
            <a:r>
              <a:rPr b="0" lang="pl-PL" sz="1800" spc="-1" strike="noStrike">
                <a:solidFill>
                  <a:srgbClr val="000099"/>
                </a:solidFill>
                <a:latin typeface="Arial Black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total number of car gauge-changing operations on the track gauge-changing stand – </a:t>
            </a: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850</a:t>
            </a:r>
            <a:r>
              <a:rPr b="0" lang="en-GB" sz="1800" spc="-1" strike="noStrike">
                <a:solidFill>
                  <a:srgbClr val="0000ff"/>
                </a:solidFill>
                <a:latin typeface="Arial Black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559584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 algn="just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Services were performed with temperatures from </a:t>
            </a: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35 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to</a:t>
            </a: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-32</a:t>
            </a:r>
            <a:r>
              <a:rPr b="0" lang="en-GB" sz="1800" spc="-1" strike="noStrike" baseline="30000">
                <a:solidFill>
                  <a:srgbClr val="ff3300"/>
                </a:solidFill>
                <a:latin typeface="Arial Black"/>
              </a:rPr>
              <a:t>O</a:t>
            </a: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4360" y="4529160"/>
            <a:ext cx="79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planned summing-up of stage 1 operation after its reopening since 31 May 2009 is to follow in November this year – after reaching the average mileage of </a:t>
            </a: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100 </a:t>
            </a:r>
            <a:r>
              <a:rPr b="0" lang="pl-PL" sz="1800" spc="-1" strike="noStrike">
                <a:solidFill>
                  <a:srgbClr val="ff3300"/>
                </a:solidFill>
                <a:latin typeface="Arial Black"/>
              </a:rPr>
              <a:t>000</a:t>
            </a:r>
            <a:r>
              <a:rPr b="0" lang="en-GB" sz="1800" spc="-1" strike="noStrike">
                <a:solidFill>
                  <a:srgbClr val="ff3300"/>
                </a:solidFill>
                <a:latin typeface="Arial Black"/>
              </a:rPr>
              <a:t> km</a:t>
            </a:r>
            <a:r>
              <a:rPr b="0" lang="en-GB" sz="1800" spc="-1" strike="noStrike">
                <a:solidFill>
                  <a:srgbClr val="0000ff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09480" y="1127160"/>
            <a:ext cx="8001000" cy="58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39640" y="1030320"/>
            <a:ext cx="6123240" cy="3983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55640" y="30312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3300"/>
                </a:solidFill>
                <a:latin typeface="Arial Black"/>
              </a:rPr>
              <a:t>POTENTIAL APPLICATION </a:t>
            </a:r>
            <a:r>
              <a:rPr b="0" lang="pl-PL" sz="2400" spc="-1" strike="noStrike">
                <a:solidFill>
                  <a:srgbClr val="cc3300"/>
                </a:solidFill>
                <a:latin typeface="Arial Black"/>
              </a:rPr>
              <a:t>– </a:t>
            </a:r>
            <a:br>
              <a:rPr sz="2400"/>
            </a:br>
            <a:r>
              <a:rPr b="0" lang="en-GB" sz="2400" spc="-1" strike="noStrike">
                <a:solidFill>
                  <a:srgbClr val="cc3300"/>
                </a:solidFill>
                <a:latin typeface="Arial Black"/>
              </a:rPr>
              <a:t>EURO-ASIAN </a:t>
            </a:r>
            <a:r>
              <a:rPr b="0" lang="pl-PL" sz="2400" spc="-1" strike="noStrike">
                <a:solidFill>
                  <a:srgbClr val="cc3300"/>
                </a:solidFill>
                <a:latin typeface="Arial Black"/>
              </a:rPr>
              <a:t>TRANSPORT CORRID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-80233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724360" y="2852640"/>
            <a:ext cx="2843280" cy="1430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4360" y="5084640"/>
            <a:ext cx="799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Interfaces of railway systems with different gauge of track </a:t>
            </a:r>
            <a:br>
              <a:rPr sz="1800"/>
            </a:b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in Euro-Asian transport corridors</a:t>
            </a:r>
            <a:r>
              <a:rPr b="0" lang="pl-PL" sz="1800" spc="-1" strike="noStrike">
                <a:solidFill>
                  <a:srgbClr val="000099"/>
                </a:solidFill>
                <a:latin typeface="Arial Black"/>
              </a:rPr>
              <a:t> – as </a:t>
            </a:r>
            <a:r>
              <a:rPr b="0" lang="en-GB" sz="1800" spc="-1" strike="noStrike">
                <a:solidFill>
                  <a:srgbClr val="000099"/>
                </a:solidFill>
                <a:latin typeface="Arial Black"/>
              </a:rPr>
              <a:t>an effective tool for  gaining interoperability in railway mode syste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09480" y="1295280"/>
            <a:ext cx="8153640" cy="4876920"/>
          </a:xfrm>
          <a:prstGeom prst="rect">
            <a:avLst/>
          </a:prstGeom>
          <a:ln w="57240">
            <a:solidFill>
              <a:srgbClr val="8dd9ff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2666880" y="3886200"/>
            <a:ext cx="13716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WARSZAW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52880" y="3124080"/>
            <a:ext cx="6858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MIŃ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91520" y="1981080"/>
            <a:ext cx="9144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MOSKW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4191120"/>
            <a:ext cx="0" cy="761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6400" y="3429000"/>
            <a:ext cx="0" cy="12193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229600" y="2362320"/>
            <a:ext cx="0" cy="25905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486400" y="2361960"/>
            <a:ext cx="2819520" cy="11430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3505320"/>
            <a:ext cx="1905120" cy="761760"/>
          </a:xfrm>
          <a:custGeom>
            <a:avLst/>
            <a:gdLst/>
            <a:ahLst/>
            <a:rect l="l" t="t" r="r" b="b"/>
            <a:pathLst>
              <a:path w="1200" h="480">
                <a:moveTo>
                  <a:pt x="0" y="480"/>
                </a:moveTo>
                <a:lnTo>
                  <a:pt x="579" y="453"/>
                </a:lnTo>
                <a:lnTo>
                  <a:pt x="618" y="429"/>
                </a:lnTo>
                <a:lnTo>
                  <a:pt x="1200" y="0"/>
                </a:ln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3352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4618080"/>
            <a:ext cx="190512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237200"/>
            <a:ext cx="274320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81280" y="4876920"/>
            <a:ext cx="464832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1320" y="45709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313 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3809880"/>
            <a:ext cx="76212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 Black"/>
              </a:rPr>
              <a:t>BERL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3352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43423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63 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48520" y="396144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50 k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4114800"/>
            <a:ext cx="2114280" cy="152280"/>
          </a:xfrm>
          <a:custGeom>
            <a:avLst/>
            <a:gdLst/>
            <a:ahLst/>
            <a:rect l="l" t="t" r="r" b="b"/>
            <a:pathLst>
              <a:path w="1332" h="96">
                <a:moveTo>
                  <a:pt x="0" y="0"/>
                </a:moveTo>
                <a:lnTo>
                  <a:pt x="1332" y="96"/>
                </a:lnTo>
              </a:path>
            </a:pathLst>
          </a:custGeom>
          <a:noFill/>
          <a:ln w="7632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19320" y="4038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6200" y="3809880"/>
            <a:ext cx="10666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66"/>
                </a:solidFill>
                <a:latin typeface="Arial Black"/>
              </a:rPr>
              <a:t>SUW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19720" y="4191120"/>
            <a:ext cx="75960" cy="75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4114800"/>
            <a:ext cx="76320" cy="76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4038480"/>
            <a:ext cx="533160" cy="1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 Black"/>
              </a:rPr>
              <a:t>Teresp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4191120"/>
            <a:ext cx="30456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808080"/>
                </a:solidFill>
                <a:latin typeface="Arial Black"/>
              </a:rPr>
              <a:t>Br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11280" y="1268280"/>
          <a:ext cx="5256000" cy="1132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1268280"/>
                    <a:ext cx="5256000" cy="11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09480" y="4797360"/>
          <a:ext cx="5207040" cy="1397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4797360"/>
                    <a:ext cx="52070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4360" y="1484280"/>
            <a:ext cx="1584000" cy="43200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141300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Arial Black"/>
                <a:ea typeface="Arial"/>
              </a:rPr>
              <a:t>Existing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92360" y="4149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172360" y="2276640"/>
            <a:ext cx="228600" cy="2286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30312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Black"/>
              </a:rPr>
              <a:t>POTENTIAL APPLICATION –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 Black"/>
              </a:rPr>
              <a:t>PANEUROPEAN TRANSPORT CORRIDOR II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900000" y="765000"/>
            <a:ext cx="6915240" cy="51865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11280" y="23508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 Black"/>
              </a:rPr>
              <a:t>WORK SIMULATION OF THE SYSTEM SUW 2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052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6T07:37:51Z</dcterms:created>
  <dc:creator>awolek</dc:creator>
  <dc:description/>
  <dc:language>en-US</dc:language>
  <cp:lastModifiedBy>Marilley</cp:lastModifiedBy>
  <dcterms:modified xsi:type="dcterms:W3CDTF">2010-04-09T08:22:58Z</dcterms:modified>
  <cp:revision>535</cp:revision>
  <dc:subject/>
  <dc:title>TYTUŁ SLAJDU</dc:title>
</cp:coreProperties>
</file>