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8973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896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2377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4768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38F4D6-D2B7-46FC-866A-5975C771E0C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804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A3A23E-C06E-47D8-A47C-265B781AE0B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804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258866-72EF-49A6-8367-74DB9EB8A63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8040" y="9434520"/>
            <a:ext cx="2941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5F28C1-E68D-4450-9B77-CA30BBA30F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95DAD-46ED-4D3F-ADD7-F67209B282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19CC-71CE-4469-9949-8B881C0E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2563-1E41-4F4B-B1ED-4995F3AE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C6043-DDFD-4BAE-A310-079FC7C89D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1F51F-8090-4AF9-96A9-8F30E0C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BF5E-D290-448B-87B7-BB2B7303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22A89-68E8-42F7-A778-8BEED0B4F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2054-42CF-4D70-AD31-1E262088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4BF67-E003-46F5-9151-D2E53AB7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27938-49EE-40C1-A52D-70080EB9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12D3-CB43-4EBC-94D3-2940D618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0CE2-D4EA-4059-9141-4163E297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86920" y="659736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0F76-D359-45EB-93EE-1F2E08BD9C88}" type="datetime">
              <a:rPr b="0" lang="de-DE" sz="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210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9548-DA26-4B64-A104-7429CDB364C0}" type="slidenum">
              <a:rPr b="0" lang="de-CH" sz="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5" name="Line 7"/>
          <p:cNvSpPr/>
          <p:nvPr/>
        </p:nvSpPr>
        <p:spPr>
          <a:xfrm>
            <a:off x="1187280" y="657864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5"/>
          <p:cNvSpPr/>
          <p:nvPr/>
        </p:nvSpPr>
        <p:spPr>
          <a:xfrm>
            <a:off x="1981080" y="6477120"/>
            <a:ext cx="6782040" cy="0"/>
          </a:xfrm>
          <a:prstGeom prst="line">
            <a:avLst/>
          </a:prstGeom>
          <a:ln w="2880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297000" y="304920"/>
            <a:ext cx="6713280" cy="758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1981080" y="655272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1CBE-D8BE-4D45-B08D-42644FBC7F29}" type="datetime"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981080" y="655308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6F2E-55AA-4E7F-9592-BEF55939EDCD}" type="datetime5">
              <a:rPr b="0" lang="de-DE" sz="800" spc="-1" strike="noStrike">
                <a:solidFill>
                  <a:srgbClr val="000000"/>
                </a:solidFill>
                <a:latin typeface="Arial"/>
              </a:rPr>
              <a:t>28. Jul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1979640" y="1876320"/>
            <a:ext cx="626256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gal interoperability CIM/SM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979640" y="3933720"/>
            <a:ext cx="604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ing Party on Rail Transport (SC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 of Experts on Unified Railway La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26 March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Erik Evtim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nior Legal Advisor &amp; Project Coordin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C8EF-FC34-4C42-9B8A-B2DA036D498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BDEA-F669-4B21-9068-1BF659752B5E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1720" y="446040"/>
            <a:ext cx="844380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Common CIM/SMGS consignment note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31560" y="1410840"/>
            <a:ext cx="478764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m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CIM- and SMGS-consignment n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n the United Nations Layout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 for Trade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gni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tter of cr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5292720" y="1154160"/>
            <a:ext cx="354636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9D10-BF45-42E2-99A1-178F70666CF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2A35-CF7D-4C0A-9A77-1ACF3DA7A8B2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2320" y="891720"/>
            <a:ext cx="8443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Electronic consignment note CIM/SMG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68200" y="1841040"/>
            <a:ext cx="8444160" cy="39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al basis for the electronic exchange of consignment note da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icle 6 § 9 CIM: based on functional equiva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ticle 7 § 14 SMGS: based on an agreement between the carrier and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ectronic consignment note CIM/SMG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a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Times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gal specific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actical Implementation – the participating railways (support Raildata / OSJD / C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514B-F74B-49FD-B7D8-DC17F5EC7212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16AE-0E8F-4324-94B7-58437FF7C1AE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9640" y="482760"/>
            <a:ext cx="84438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Common CIM/SMGS formal report, legal presumption</a:t>
            </a:r>
            <a:r>
              <a:rPr b="0" lang="fr-CH" sz="2600" spc="-1" strike="noStrike">
                <a:solidFill>
                  <a:srgbClr val="032377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and claims handling rule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4840" y="1579320"/>
            <a:ext cx="55818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IM/SMGS formal repor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nnex 8, 8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d by the RU when it sees loss or 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gal presumption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8 § 3 CIM / 23 § 10 SMG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there is no formal report of loss 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vantage for the consignee: the la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rie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st handle his cl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laims handling rul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Point 12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yment of compensation rul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Point 12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5950080" y="1546200"/>
            <a:ext cx="2889000" cy="408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5E0C-5B54-4755-90EC-747FA9C9541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3221-FDFB-4C2E-84F4-E59320370CDE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>
            <a:lum bright="20000"/>
          </a:blip>
          <a:srcRect l="0" t="0" r="0" b="7402"/>
          <a:stretch/>
        </p:blipFill>
        <p:spPr>
          <a:xfrm>
            <a:off x="324000" y="1125360"/>
            <a:ext cx="8659800" cy="520416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8040" y="365040"/>
            <a:ext cx="63374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Phase 3: Two legal areas one single law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611280" y="1773360"/>
            <a:ext cx="4321080" cy="4103640"/>
          </a:xfrm>
          <a:prstGeom prst="ellipse">
            <a:avLst/>
          </a:prstGeom>
          <a:solidFill>
            <a:srgbClr val="ffff00">
              <a:alpha val="7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3941640" y="1125360"/>
            <a:ext cx="5202360" cy="5051520"/>
          </a:xfrm>
          <a:prstGeom prst="ellipse">
            <a:avLst/>
          </a:prstGeom>
          <a:solidFill>
            <a:srgbClr val="3366ff">
              <a:alpha val="5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219640" y="2276640"/>
            <a:ext cx="2411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SMGS/SMP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476360" y="4797360"/>
            <a:ext cx="2454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Arial"/>
              </a:rPr>
              <a:t>CO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12680" y="3164040"/>
            <a:ext cx="7380360" cy="1170000"/>
          </a:xfrm>
          <a:prstGeom prst="leftRightArrow">
            <a:avLst>
              <a:gd name="adj1" fmla="val 50000"/>
              <a:gd name="adj2" fmla="val 1255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233440" y="3575160"/>
            <a:ext cx="479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Eurasian Rail Transport La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A464-6CD1-42E5-A467-AECFF4289656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51C7-F41E-4FD6-AA02-4BB122BAB44E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9640" y="48384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The next steps in the third stage:</a:t>
            </a:r>
            <a:r>
              <a:rPr b="1" lang="de-CH" sz="2600" spc="-1" strike="noStrike">
                <a:solidFill>
                  <a:srgbClr val="032377"/>
                </a:solidFill>
                <a:latin typeface="Arial"/>
              </a:rPr>
              <a:t> „STC-Eurasia“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3760" y="1549080"/>
            <a:ext cx="844380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pecial Terms and Condition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CIM/SMGS traffic (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C-CIM/SM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pired by CIM and SMGS princ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ntract of carriag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refer to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 som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ranscontinental ax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paper consignment note and/or only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lectronic recor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iers taking part accept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j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ability to the customer limited to the value of th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onal: Compensation up to the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value decl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lie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rom liability in accordance with the CIM and/or SM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s against whom can be taken action (contractual and last carr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ensation between the carrier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ha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proportion to tariff kilometres or carriage char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D7D-30AD-4066-AB66-1B8839668AF5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D0E-50D4-4917-AFB9-06E916809DF7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0800" y="429840"/>
            <a:ext cx="84438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Uniform law for CIM/SMGS traffic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5908680" y="3262320"/>
            <a:ext cx="622440" cy="20480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4025880" y="2833560"/>
            <a:ext cx="1044360" cy="2460600"/>
            <a:chOff x="4025880" y="2833560"/>
            <a:chExt cx="1044360" cy="2460600"/>
          </a:xfrm>
        </p:grpSpPr>
        <p:grpSp>
          <p:nvGrpSpPr>
            <p:cNvPr id="164" name="Group 5"/>
            <p:cNvGrpSpPr/>
            <p:nvPr/>
          </p:nvGrpSpPr>
          <p:grpSpPr>
            <a:xfrm>
              <a:off x="4025880" y="2833560"/>
              <a:ext cx="1044360" cy="2460600"/>
              <a:chOff x="4025880" y="2833560"/>
              <a:chExt cx="1044360" cy="2460600"/>
            </a:xfrm>
          </p:grpSpPr>
          <p:sp>
            <p:nvSpPr>
              <p:cNvPr id="165" name="Rectangle 6"/>
              <p:cNvSpPr/>
              <p:nvPr/>
            </p:nvSpPr>
            <p:spPr>
              <a:xfrm>
                <a:off x="4025880" y="2833560"/>
                <a:ext cx="1044360" cy="40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7"/>
              <p:cNvSpPr/>
              <p:nvPr/>
            </p:nvSpPr>
            <p:spPr>
              <a:xfrm>
                <a:off x="4238640" y="3246480"/>
                <a:ext cx="622080" cy="2047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Rectangle 8"/>
            <p:cNvSpPr/>
            <p:nvPr/>
          </p:nvSpPr>
          <p:spPr>
            <a:xfrm>
              <a:off x="4251240" y="3220920"/>
              <a:ext cx="59688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9"/>
          <p:cNvGrpSpPr/>
          <p:nvPr/>
        </p:nvGrpSpPr>
        <p:grpSpPr>
          <a:xfrm>
            <a:off x="2276640" y="2836800"/>
            <a:ext cx="1044360" cy="2460600"/>
            <a:chOff x="2276640" y="2836800"/>
            <a:chExt cx="1044360" cy="2460600"/>
          </a:xfrm>
        </p:grpSpPr>
        <p:grpSp>
          <p:nvGrpSpPr>
            <p:cNvPr id="169" name="Group 10"/>
            <p:cNvGrpSpPr/>
            <p:nvPr/>
          </p:nvGrpSpPr>
          <p:grpSpPr>
            <a:xfrm>
              <a:off x="2276640" y="2836800"/>
              <a:ext cx="1044360" cy="2460600"/>
              <a:chOff x="2276640" y="2836800"/>
              <a:chExt cx="1044360" cy="2460600"/>
            </a:xfrm>
          </p:grpSpPr>
          <p:sp>
            <p:nvSpPr>
              <p:cNvPr id="170" name="Rectangle 11"/>
              <p:cNvSpPr/>
              <p:nvPr/>
            </p:nvSpPr>
            <p:spPr>
              <a:xfrm>
                <a:off x="2276640" y="2836800"/>
                <a:ext cx="1044360" cy="409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12"/>
              <p:cNvSpPr/>
              <p:nvPr/>
            </p:nvSpPr>
            <p:spPr>
              <a:xfrm>
                <a:off x="2489400" y="3249720"/>
                <a:ext cx="622080" cy="20476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3"/>
            <p:cNvSpPr/>
            <p:nvPr/>
          </p:nvSpPr>
          <p:spPr>
            <a:xfrm>
              <a:off x="2512800" y="3219480"/>
              <a:ext cx="59688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14"/>
          <p:cNvSpPr/>
          <p:nvPr/>
        </p:nvSpPr>
        <p:spPr>
          <a:xfrm>
            <a:off x="5908680" y="3262320"/>
            <a:ext cx="622440" cy="20480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5"/>
          <p:cNvGrpSpPr/>
          <p:nvPr/>
        </p:nvGrpSpPr>
        <p:grpSpPr>
          <a:xfrm>
            <a:off x="5695920" y="2849400"/>
            <a:ext cx="1044720" cy="433440"/>
            <a:chOff x="5695920" y="2849400"/>
            <a:chExt cx="1044720" cy="433440"/>
          </a:xfrm>
        </p:grpSpPr>
        <p:sp>
          <p:nvSpPr>
            <p:cNvPr id="175" name="Rectangle 16"/>
            <p:cNvSpPr/>
            <p:nvPr/>
          </p:nvSpPr>
          <p:spPr>
            <a:xfrm>
              <a:off x="5695920" y="2849400"/>
              <a:ext cx="1044720" cy="4096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7"/>
            <p:cNvSpPr/>
            <p:nvPr/>
          </p:nvSpPr>
          <p:spPr>
            <a:xfrm>
              <a:off x="5921280" y="3240000"/>
              <a:ext cx="596880" cy="428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Freeform 18"/>
          <p:cNvSpPr/>
          <p:nvPr/>
        </p:nvSpPr>
        <p:spPr>
          <a:xfrm>
            <a:off x="1612800" y="5297400"/>
            <a:ext cx="5686560" cy="611280"/>
          </a:xfrm>
          <a:custGeom>
            <a:avLst/>
            <a:gdLst>
              <a:gd name="textAreaLeft" fmla="*/ 0 w 5686560"/>
              <a:gd name="textAreaRight" fmla="*/ 5686920 w 5686560"/>
              <a:gd name="textAreaTop" fmla="*/ 0 h 611280"/>
              <a:gd name="textAreaBottom" fmla="*/ 611640 h 611280"/>
            </a:gdLst>
            <a:ahLst/>
            <a:rect l="textAreaLeft" t="textAreaTop" r="textAreaRight" b="textAreaBottom"/>
            <a:pathLst>
              <a:path w="4961" h="1261">
                <a:moveTo>
                  <a:pt x="0" y="1216"/>
                </a:moveTo>
                <a:lnTo>
                  <a:pt x="204" y="620"/>
                </a:lnTo>
                <a:lnTo>
                  <a:pt x="549" y="610"/>
                </a:lnTo>
                <a:lnTo>
                  <a:pt x="722" y="0"/>
                </a:lnTo>
                <a:lnTo>
                  <a:pt x="4339" y="4"/>
                </a:lnTo>
                <a:lnTo>
                  <a:pt x="4427" y="596"/>
                </a:lnTo>
                <a:lnTo>
                  <a:pt x="4771" y="606"/>
                </a:lnTo>
                <a:lnTo>
                  <a:pt x="4961" y="1254"/>
                </a:lnTo>
                <a:lnTo>
                  <a:pt x="2528" y="1261"/>
                </a:lnTo>
                <a:lnTo>
                  <a:pt x="0" y="1216"/>
                </a:lnTo>
                <a:close/>
              </a:path>
            </a:pathLst>
          </a:custGeom>
          <a:solidFill>
            <a:srgbClr val="c0c0c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9"/>
          <p:cNvSpPr/>
          <p:nvPr/>
        </p:nvSpPr>
        <p:spPr>
          <a:xfrm>
            <a:off x="1771560" y="1395360"/>
            <a:ext cx="5430960" cy="1451160"/>
          </a:xfrm>
          <a:custGeom>
            <a:avLst/>
            <a:gdLst>
              <a:gd name="textAreaLeft" fmla="*/ 0 w 5430960"/>
              <a:gd name="textAreaRight" fmla="*/ 5431320 w 543096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4738" h="1656">
                <a:moveTo>
                  <a:pt x="0" y="1630"/>
                </a:moveTo>
                <a:lnTo>
                  <a:pt x="2416" y="0"/>
                </a:lnTo>
                <a:lnTo>
                  <a:pt x="4738" y="1656"/>
                </a:lnTo>
                <a:lnTo>
                  <a:pt x="0" y="1630"/>
                </a:lnTo>
                <a:close/>
              </a:path>
            </a:pathLst>
          </a:custGeom>
          <a:solidFill>
            <a:srgbClr val="f8f8f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0"/>
          <p:cNvSpPr/>
          <p:nvPr/>
        </p:nvSpPr>
        <p:spPr>
          <a:xfrm>
            <a:off x="3201840" y="5402160"/>
            <a:ext cx="266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CIM 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 SM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1"/>
          <p:cNvSpPr/>
          <p:nvPr/>
        </p:nvSpPr>
        <p:spPr>
          <a:xfrm rot="16200000">
            <a:off x="1655640" y="3792240"/>
            <a:ext cx="2281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on CIM/SMGS consignmen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2"/>
          <p:cNvSpPr/>
          <p:nvPr/>
        </p:nvSpPr>
        <p:spPr>
          <a:xfrm rot="16200000">
            <a:off x="3663720" y="3875400"/>
            <a:ext cx="1770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M/SMGS clai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ndling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3"/>
          <p:cNvSpPr/>
          <p:nvPr/>
        </p:nvSpPr>
        <p:spPr>
          <a:xfrm rot="16200000">
            <a:off x="5333760" y="4135320"/>
            <a:ext cx="178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IM/SMGS li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4"/>
          <p:cNvSpPr/>
          <p:nvPr/>
        </p:nvSpPr>
        <p:spPr>
          <a:xfrm>
            <a:off x="2989440" y="2222640"/>
            <a:ext cx="2941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niform CIM/SMGS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Agreement for through passenger traffic between SMPS and CIV area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-West Tariff since 1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mutually recognise SMPS- and CIV-through tick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change of tariff data on the basis of an UIC-leaf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ability provisions for personal injuries not harmon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nded and developed on an yearly basis by a Steering Committee under UIC/OSJD umbrella by railway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51BB-C1B0-4068-849C-E6E9B6D913D9}" type="datetime">
              <a:rPr b="0" lang="de-DE" sz="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liennummer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26C7-61D1-40D1-8F04-128632020D23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4F6A-383B-4F4B-8869-4FA98FE13AAF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86DB-DA14-4A6B-AF41-AC9CCD5B1F5B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Demands for customs facilit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4438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customs procedure for transcontinental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customs declaration based on single transport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fety and security transportation on a long di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interconnection with the up-coming customs security obligation of the 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ing the comparative advantages of the railway on a glob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sol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of the existing UN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-grading the existing UN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t in place a new UN Convention on simplified rail custom transit procedure for Eurasian rail corri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role of the UN Bodies in the proc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CFD4-AAE9-42E9-BD07-0376122CEAED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99AF-C148-487C-99D7-571CFA79F705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1720" y="360000"/>
            <a:ext cx="8443800" cy="5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Scope of the CIM and SMGS</a:t>
            </a:r>
            <a:br>
              <a:rPr sz="2200"/>
            </a:br>
            <a:br>
              <a:rPr sz="10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 of 1 February 2010</a:t>
            </a:r>
            <a:endParaRPr b="0" lang="en-US" sz="1400" spc="-1" strike="noStrike">
              <a:solidFill>
                <a:srgbClr val="032377"/>
              </a:solidFill>
              <a:latin typeface="Arial"/>
            </a:endParaRPr>
          </a:p>
        </p:txBody>
      </p:sp>
      <p:pic>
        <p:nvPicPr>
          <p:cNvPr id="96" name="Picture 8" descr="fright_traffic_CIM-SMGS_2009-01-01"/>
          <p:cNvPicPr/>
          <p:nvPr/>
        </p:nvPicPr>
        <p:blipFill>
          <a:blip r:embed="rId1"/>
          <a:stretch/>
        </p:blipFill>
        <p:spPr>
          <a:xfrm>
            <a:off x="2106720" y="1251000"/>
            <a:ext cx="546264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9506-B5C4-4C6F-86D0-3BC41882C948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A069-5084-43E0-BD90-C8FD5B158BC0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320" y="383760"/>
            <a:ext cx="844380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Legal duality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9360" y="1568160"/>
            <a:ext cx="4245120" cy="4498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CIM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form Rules concerning the Contract of International Carriage of Goods by Rail - Appendix B to COTIF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ex to the main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al contr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actual freed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gnment note design within the competence of RU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int and several liabilit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00080" y="1568160"/>
            <a:ext cx="4162680" cy="4498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MGS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greement on International Goods Transport by Rail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con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mal contrac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ligation to set and publish tariffs and to carr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ignment note defined in SMGS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F0D7-5153-49D2-89B1-09CD25E24A89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3FA3-89D8-4850-B3DB-295D7B3A388F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000" y="318960"/>
            <a:ext cx="844380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Differences in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3640" y="1615680"/>
            <a:ext cx="4144680" cy="43275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TIF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governmental Organisation for International Carriage by Rail)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1985 (Central Office 189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4 Member Stat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ember States with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jor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/French/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2240" y="1615680"/>
            <a:ext cx="4146480" cy="4327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SJD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sation for Cooperation between Railways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s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ce 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7 Member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s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rai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ani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ussian and Chin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9B27-AFD2-4774-A6B9-10C7503AD3D1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1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2400" y="1380600"/>
            <a:ext cx="818172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Road transport: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tion on the Contract for the international carriage of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goods</a:t>
            </a:r>
            <a:br>
              <a:rPr sz="1800"/>
            </a:b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road (19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1141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ltilateral Protocol to the Convention on the contract for the international carriage of goods by road (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9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Protocol to the Convention on the contract for the international carriage of goods by road concerning the electronic consignment note (2008, not in effec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1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Agreement concerning the international carriag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ngerous goods by road (195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V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vention on the Contract for the international carria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asseng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road (197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ECE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ransport division (Gene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IRU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road transport union (Gene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D1C9-040C-450C-A1AF-6EE410C2E364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2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360" y="1439640"/>
            <a:ext cx="806148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ir transport: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rsaw Convention:  Convention for the unification of certain rules rel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ternational carriage by air (192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protocol No. 1 to amend the Convention for the unification of certain rules relating to international carriage by air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protocol No. 2 to amend the Convention for the unification of certain rules relating to international carriage by air (19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cago Convention:  Convention on Civil Aviation (19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treal Convention:  Convention for the unification of certain rules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carriage by air (199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A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Civil Aviation Organisation (Montre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ATA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ir Transport Association (Montre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C652-21E1-421B-BD45-2580124A99B5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3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land waterway: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NI:  Convention on the Contract for the carriage of goods by inland waterway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N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uropean Agreement concerning the international carriag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ngerous goods by inland waterway (1997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NR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ulation for the carriage of dangerous substances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hine 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nube Commission (Budap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Commission for Rhine Navigation (Strasbo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ther River Commissions (for Mosel or M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umsplatzhalter 3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" spc="-1" strike="noStrike">
                <a:solidFill>
                  <a:srgbClr val="000000"/>
                </a:solidFill>
                <a:latin typeface="Arial"/>
              </a:rPr>
              <a:t>08.03.2010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ußzeilenplatzhalter 4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" spc="-1" strike="noStrike">
                <a:solidFill>
                  <a:srgbClr val="000000"/>
                </a:solidFill>
                <a:latin typeface="Arial"/>
              </a:rPr>
              <a:t>European and International Rail Transport Law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5"/>
          <p:cNvSpPr/>
          <p:nvPr/>
        </p:nvSpPr>
        <p:spPr>
          <a:xfrm>
            <a:off x="8686800" y="654840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460-729F-4004-AE85-C4A5FCECC030}" type="slidenum">
              <a:rPr b="0" lang="de-CH" sz="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(4) Relevant international transport conventions and International transport organisation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ea transport:</a:t>
            </a:r>
            <a:br>
              <a:rPr sz="10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gue rule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Convention for the unification of certain rul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w relating to bills of lading (Brussels, 19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by rules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tocol to amend the International Convention for th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fication of certain rules of law relating to bills of lading (Brussels, 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mburg rul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ed Nations Convention on the carriage of goods by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Hamburg, 19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tterdam rule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ed Nations Convention on contracts for the international carriage of goods wholly or partly by sea (Rotterdam,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Maritime Organisation (Lond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5568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MI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Maritime Committee (Antwerp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umsplatzhalter 1"/>
          <p:cNvSpPr/>
          <p:nvPr/>
        </p:nvSpPr>
        <p:spPr>
          <a:xfrm>
            <a:off x="1187280" y="659772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C1A6-D62C-4C16-A69C-77D6F774066B}" type="datetime">
              <a:rPr b="0" lang="de-DE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2"/>
          <p:cNvSpPr/>
          <p:nvPr/>
        </p:nvSpPr>
        <p:spPr>
          <a:xfrm>
            <a:off x="6553080" y="65530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2729-2F9A-499F-BDAD-B87F50A927EA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1200" y="423720"/>
            <a:ext cx="844416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032377"/>
                </a:solidFill>
                <a:latin typeface="Arial"/>
              </a:rPr>
              <a:t>CIT/OSJD Project: Legal </a:t>
            </a:r>
            <a:r>
              <a:rPr b="1" lang="en-GB" sz="2600" spc="-1" strike="noStrike">
                <a:solidFill>
                  <a:srgbClr val="032377"/>
                </a:solidFill>
                <a:latin typeface="Arial"/>
              </a:rPr>
              <a:t>Interoperability CIM/SMGS</a:t>
            </a:r>
            <a:endParaRPr b="0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912680"/>
            <a:ext cx="8443800" cy="35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hase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on CIM/SMGS consignment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hase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claims handling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hase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ngle Eurasian Rail Transport Law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0:35:36Z</dcterms:created>
  <dc:creator>Dr. Erik Evtimov</dc:creator>
  <dc:description/>
  <dc:language>en-US</dc:language>
  <cp:lastModifiedBy>Marilley</cp:lastModifiedBy>
  <dcterms:modified xsi:type="dcterms:W3CDTF">2010-03-22T09:05:54Z</dcterms:modified>
  <cp:revision>180</cp:revision>
  <dc:subject/>
  <dc:title>UNECE Expert Group</dc:title>
</cp:coreProperties>
</file>