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8973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896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47680" y="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32377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76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943452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47680" y="943452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D10712-B3B8-4BB4-9715-020AFC37E32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76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48040" y="943452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3AE1A1-EEC5-4769-A3CB-90E9966D20C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76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48040" y="943452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E4403A-07BC-4FCA-8825-DA2F2F67C53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76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8040" y="943452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16DA69-42F9-4435-9DBC-4436CA20C14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2A893-61B4-4899-8E10-0795B6EC1E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82304-9438-49C6-B6DB-70B322E2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133AD-CE93-4417-9DDA-B77B902F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DA8DE-BB39-48B8-BB3A-9353B5DBEF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6C358-93A7-435E-9DA6-B31C02F2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89783-81B3-4E6C-A6A5-439F649B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D8208-D248-49DD-9890-0D449B5C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40618-A098-45FB-AA3D-AADAADE8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A88F9-40DB-44FF-9877-62F8314F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EE909-5AFF-452D-A915-E95CAF6B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D0838-75A7-4288-93F1-C7B4E1CA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2F826-46F2-4BCF-AC6E-7F378783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597360"/>
            <a:ext cx="16002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EFBA-BC94-49B7-B19D-5F358204E0AC}" type="datetime">
              <a:rPr b="0" lang="de-DE" sz="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552720"/>
            <a:ext cx="2210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11AE-2734-4BC0-835E-06E58532C635}" type="slidenum">
              <a:rPr b="0" lang="de-CH" sz="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Line 7"/>
          <p:cNvSpPr/>
          <p:nvPr/>
        </p:nvSpPr>
        <p:spPr>
          <a:xfrm>
            <a:off x="1187280" y="657864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1981080" y="6477120"/>
            <a:ext cx="6782040" cy="0"/>
          </a:xfrm>
          <a:prstGeom prst="line">
            <a:avLst/>
          </a:prstGeom>
          <a:ln w="2880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297000" y="304920"/>
            <a:ext cx="6713280" cy="758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1981080" y="655272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B3F6-B6E5-41AE-956E-A596ABED6659}" type="datetime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1981080" y="6553080"/>
            <a:ext cx="215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2890-8079-4DEC-B5C8-E6B7AD6C071A}" type="datetime5">
              <a:rPr b="0" lang="de-DE" sz="800" spc="-1" strike="noStrike">
                <a:solidFill>
                  <a:srgbClr val="000000"/>
                </a:solidFill>
                <a:latin typeface="Arial"/>
              </a:rPr>
              <a:t>29. Jul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979640" y="1876320"/>
            <a:ext cx="626256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gal interoperability CIM/SM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979640" y="3933720"/>
            <a:ext cx="6048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ing Party on Rail Transport (SC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 of Experts on Unified Railway La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va, 26 March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. Erik Evtim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nior Legal Advisor &amp; Project Coordinat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umsplatzhalter 1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8656-5B3A-4602-87E0-81B4B8BBB376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liennummernplatzhalter 2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8E86-B88D-49CD-A879-6BDF1D121658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61720" y="446040"/>
            <a:ext cx="8443800" cy="5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Common CIM/SMGS consignment note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1560" y="1410840"/>
            <a:ext cx="47876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m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CIM- and SMGS-consignment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s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n the United Nations Layout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 for Trad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gni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s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tter of cre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5292720" y="1154160"/>
            <a:ext cx="354636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umsplatzhalter 3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0BB2-751D-44D8-95A2-BD1464B4F303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liennummernplatzhalter 4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CC4A-6C13-4722-885F-3142A4791C2D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2320" y="891720"/>
            <a:ext cx="8443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Electronic consignment note CIM/SMGS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8200" y="1841040"/>
            <a:ext cx="844416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gal basis for the electronic exchange of consignment note dat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ticle 6 § 9 CIM: based on functional equiva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ticle 7 § 14 SMGS: based on an agreement between the carrier and the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ectronic consignment note CIM/SMG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al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egal specific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actical Implementation – the participating railways (support Raildata / OSJD / C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umsplatzhalter 1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D632-246F-445F-8577-D687E6882CAB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liennummernplatzhalter 2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D450-AAF1-4DEC-9A7B-B162D120CEDC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9640" y="482760"/>
            <a:ext cx="84438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Common CIM/SMGS formal report, legal presumption</a:t>
            </a:r>
            <a:r>
              <a:rPr b="0" lang="fr-CH" sz="2600" spc="-1" strike="noStrike">
                <a:solidFill>
                  <a:srgbClr val="032377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and claims handling rules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94840" y="1579320"/>
            <a:ext cx="558180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IM/SMGS formal repor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nnex 8, 8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d by the RU when it sees loss or da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gal presumpti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8 § 3 CIM / 23 § 10 SM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there is no formal report of loss o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antage for the consignee: the las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rie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st handle his 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ims handling rul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Point 12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yment of compensation rul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Point 12.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5950080" y="1546200"/>
            <a:ext cx="2889000" cy="40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umsplatzhalter 1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7B46-F27F-48F2-B07B-2FFD2D8021C8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liennummernplatzhalter 2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15EC-66E1-410B-9C4A-87EC7F6CC374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>
            <a:lum bright="20000"/>
          </a:blip>
          <a:srcRect l="0" t="0" r="0" b="7402"/>
          <a:stretch/>
        </p:blipFill>
        <p:spPr>
          <a:xfrm>
            <a:off x="324000" y="1125360"/>
            <a:ext cx="8659800" cy="52041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8040" y="365040"/>
            <a:ext cx="63374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Phase 3: Two legal areas one single law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611280" y="1773360"/>
            <a:ext cx="4321080" cy="4103640"/>
          </a:xfrm>
          <a:prstGeom prst="ellipse">
            <a:avLst/>
          </a:prstGeom>
          <a:solidFill>
            <a:srgbClr val="ffff00">
              <a:alpha val="79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3941640" y="1125360"/>
            <a:ext cx="5202360" cy="5051520"/>
          </a:xfrm>
          <a:prstGeom prst="ellipse">
            <a:avLst/>
          </a:prstGeom>
          <a:solidFill>
            <a:srgbClr val="3366ff">
              <a:alpha val="56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219640" y="2276640"/>
            <a:ext cx="2411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Arial"/>
              </a:rPr>
              <a:t>SMGS/SM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476360" y="4797360"/>
            <a:ext cx="2454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Arial"/>
              </a:rPr>
              <a:t>COTI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12680" y="3164040"/>
            <a:ext cx="7380360" cy="1170000"/>
          </a:xfrm>
          <a:prstGeom prst="leftRightArrow">
            <a:avLst>
              <a:gd name="adj1" fmla="val 50000"/>
              <a:gd name="adj2" fmla="val 1255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2233440" y="3575160"/>
            <a:ext cx="479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Eurasian Rail Transport La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umsplatzhalter 1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3C14-412D-43B4-9BDC-57C21CBBE4F3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liennummernplatzhalter 2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5F84-DB81-4881-B303-863EE5F4C023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9640" y="48384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The next steps in the third stage:</a:t>
            </a:r>
            <a:r>
              <a:rPr b="1" lang="de-CH" sz="2600" spc="-1" strike="noStrike">
                <a:solidFill>
                  <a:srgbClr val="032377"/>
                </a:solidFill>
                <a:latin typeface="Arial"/>
              </a:rPr>
              <a:t> „STC-Eurasia“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3760" y="1549080"/>
            <a:ext cx="844380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pecial Terms and Condition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CIM/SMGS traffic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C-CIM/SMG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pired by CIM and SMGS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ntract of carriag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refer to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som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ranscontinental ax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le paper consignment note and/or onl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lectronic recor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iers taking part accep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jo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ability to the customer limited to the value of the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onal: Compensation up to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alue decl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rom liability in accordance with the CIM and/or SM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s against whom can be taken action (contractual and last carri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ensation between the carrier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ha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proportion to tariff kilometres or carriage charg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umsplatzhalter 1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B389-CA2C-433F-8416-14CAE72EE516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liennummernplatzhalter 2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D7DA-D7C3-404B-97CE-934428B0728D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0800" y="429840"/>
            <a:ext cx="84438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Uniform law for CIM/SMGS traffics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908680" y="3262320"/>
            <a:ext cx="622440" cy="20480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4025880" y="2833560"/>
            <a:ext cx="1044360" cy="2460600"/>
            <a:chOff x="4025880" y="2833560"/>
            <a:chExt cx="1044360" cy="2460600"/>
          </a:xfrm>
        </p:grpSpPr>
        <p:grpSp>
          <p:nvGrpSpPr>
            <p:cNvPr id="164" name="Group 5"/>
            <p:cNvGrpSpPr/>
            <p:nvPr/>
          </p:nvGrpSpPr>
          <p:grpSpPr>
            <a:xfrm>
              <a:off x="4025880" y="2833560"/>
              <a:ext cx="1044360" cy="2460600"/>
              <a:chOff x="4025880" y="2833560"/>
              <a:chExt cx="1044360" cy="2460600"/>
            </a:xfrm>
          </p:grpSpPr>
          <p:sp>
            <p:nvSpPr>
              <p:cNvPr id="165" name="Rectangle 6"/>
              <p:cNvSpPr/>
              <p:nvPr/>
            </p:nvSpPr>
            <p:spPr>
              <a:xfrm>
                <a:off x="4025880" y="2833560"/>
                <a:ext cx="1044360" cy="4096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7"/>
              <p:cNvSpPr/>
              <p:nvPr/>
            </p:nvSpPr>
            <p:spPr>
              <a:xfrm>
                <a:off x="4238640" y="3246480"/>
                <a:ext cx="622080" cy="20476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Rectangle 8"/>
            <p:cNvSpPr/>
            <p:nvPr/>
          </p:nvSpPr>
          <p:spPr>
            <a:xfrm>
              <a:off x="4251240" y="3220920"/>
              <a:ext cx="596880" cy="42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9"/>
          <p:cNvGrpSpPr/>
          <p:nvPr/>
        </p:nvGrpSpPr>
        <p:grpSpPr>
          <a:xfrm>
            <a:off x="2276640" y="2836800"/>
            <a:ext cx="1044360" cy="2460600"/>
            <a:chOff x="2276640" y="2836800"/>
            <a:chExt cx="1044360" cy="2460600"/>
          </a:xfrm>
        </p:grpSpPr>
        <p:grpSp>
          <p:nvGrpSpPr>
            <p:cNvPr id="169" name="Group 10"/>
            <p:cNvGrpSpPr/>
            <p:nvPr/>
          </p:nvGrpSpPr>
          <p:grpSpPr>
            <a:xfrm>
              <a:off x="2276640" y="2836800"/>
              <a:ext cx="1044360" cy="2460600"/>
              <a:chOff x="2276640" y="2836800"/>
              <a:chExt cx="1044360" cy="2460600"/>
            </a:xfrm>
          </p:grpSpPr>
          <p:sp>
            <p:nvSpPr>
              <p:cNvPr id="170" name="Rectangle 11"/>
              <p:cNvSpPr/>
              <p:nvPr/>
            </p:nvSpPr>
            <p:spPr>
              <a:xfrm>
                <a:off x="2276640" y="2836800"/>
                <a:ext cx="1044360" cy="4096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12"/>
              <p:cNvSpPr/>
              <p:nvPr/>
            </p:nvSpPr>
            <p:spPr>
              <a:xfrm>
                <a:off x="2489400" y="3249720"/>
                <a:ext cx="622080" cy="20476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Rectangle 13"/>
            <p:cNvSpPr/>
            <p:nvPr/>
          </p:nvSpPr>
          <p:spPr>
            <a:xfrm>
              <a:off x="2512800" y="3219480"/>
              <a:ext cx="596880" cy="42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14"/>
          <p:cNvSpPr/>
          <p:nvPr/>
        </p:nvSpPr>
        <p:spPr>
          <a:xfrm>
            <a:off x="5908680" y="3262320"/>
            <a:ext cx="622440" cy="20480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5"/>
          <p:cNvGrpSpPr/>
          <p:nvPr/>
        </p:nvGrpSpPr>
        <p:grpSpPr>
          <a:xfrm>
            <a:off x="5695920" y="2849400"/>
            <a:ext cx="1044720" cy="433440"/>
            <a:chOff x="5695920" y="2849400"/>
            <a:chExt cx="1044720" cy="433440"/>
          </a:xfrm>
        </p:grpSpPr>
        <p:sp>
          <p:nvSpPr>
            <p:cNvPr id="175" name="Rectangle 16"/>
            <p:cNvSpPr/>
            <p:nvPr/>
          </p:nvSpPr>
          <p:spPr>
            <a:xfrm>
              <a:off x="5695920" y="2849400"/>
              <a:ext cx="1044720" cy="4096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7"/>
            <p:cNvSpPr/>
            <p:nvPr/>
          </p:nvSpPr>
          <p:spPr>
            <a:xfrm>
              <a:off x="5921280" y="3240000"/>
              <a:ext cx="596880" cy="42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Freeform 18"/>
          <p:cNvSpPr/>
          <p:nvPr/>
        </p:nvSpPr>
        <p:spPr>
          <a:xfrm>
            <a:off x="1612800" y="5297400"/>
            <a:ext cx="5686560" cy="611280"/>
          </a:xfrm>
          <a:custGeom>
            <a:avLst/>
            <a:gdLst>
              <a:gd name="textAreaLeft" fmla="*/ 0 w 5686560"/>
              <a:gd name="textAreaRight" fmla="*/ 5686920 w 568656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4961" h="1261">
                <a:moveTo>
                  <a:pt x="0" y="1216"/>
                </a:moveTo>
                <a:lnTo>
                  <a:pt x="204" y="620"/>
                </a:lnTo>
                <a:lnTo>
                  <a:pt x="549" y="610"/>
                </a:lnTo>
                <a:lnTo>
                  <a:pt x="722" y="0"/>
                </a:lnTo>
                <a:lnTo>
                  <a:pt x="4339" y="4"/>
                </a:lnTo>
                <a:lnTo>
                  <a:pt x="4427" y="596"/>
                </a:lnTo>
                <a:lnTo>
                  <a:pt x="4771" y="606"/>
                </a:lnTo>
                <a:lnTo>
                  <a:pt x="4961" y="1254"/>
                </a:lnTo>
                <a:lnTo>
                  <a:pt x="2528" y="1261"/>
                </a:lnTo>
                <a:lnTo>
                  <a:pt x="0" y="1216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9"/>
          <p:cNvSpPr/>
          <p:nvPr/>
        </p:nvSpPr>
        <p:spPr>
          <a:xfrm>
            <a:off x="1771560" y="1395360"/>
            <a:ext cx="5430960" cy="1451160"/>
          </a:xfrm>
          <a:custGeom>
            <a:avLst/>
            <a:gdLst>
              <a:gd name="textAreaLeft" fmla="*/ 0 w 5430960"/>
              <a:gd name="textAreaRight" fmla="*/ 5431320 w 543096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4738" h="1656">
                <a:moveTo>
                  <a:pt x="0" y="1630"/>
                </a:moveTo>
                <a:lnTo>
                  <a:pt x="2416" y="0"/>
                </a:lnTo>
                <a:lnTo>
                  <a:pt x="4738" y="1656"/>
                </a:lnTo>
                <a:lnTo>
                  <a:pt x="0" y="1630"/>
                </a:lnTo>
                <a:close/>
              </a:path>
            </a:pathLst>
          </a:custGeom>
          <a:solidFill>
            <a:srgbClr val="f8f8f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0"/>
          <p:cNvSpPr/>
          <p:nvPr/>
        </p:nvSpPr>
        <p:spPr>
          <a:xfrm>
            <a:off x="3201840" y="5402160"/>
            <a:ext cx="266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CIM 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 SM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1"/>
          <p:cNvSpPr/>
          <p:nvPr/>
        </p:nvSpPr>
        <p:spPr>
          <a:xfrm rot="16200000">
            <a:off x="1655640" y="3792240"/>
            <a:ext cx="2281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mon CIM/SMGS consignment n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2"/>
          <p:cNvSpPr/>
          <p:nvPr/>
        </p:nvSpPr>
        <p:spPr>
          <a:xfrm rot="16200000">
            <a:off x="3663720" y="3875400"/>
            <a:ext cx="1770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IM/SMGS clai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ndling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3"/>
          <p:cNvSpPr/>
          <p:nvPr/>
        </p:nvSpPr>
        <p:spPr>
          <a:xfrm rot="16200000">
            <a:off x="5333760" y="4135320"/>
            <a:ext cx="1780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IM/SMGS l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4"/>
          <p:cNvSpPr/>
          <p:nvPr/>
        </p:nvSpPr>
        <p:spPr>
          <a:xfrm>
            <a:off x="2989440" y="2222640"/>
            <a:ext cx="2941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niform CIM/SMGS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Agreement for through passenger traffic between SMPS and CIV area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-West Tariff since 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to mutually recognise SMPS- and CIV-through tick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change of tariff data on the basis of an UIC-leaf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ability provisions for personal injuries not harmon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nded and developed on an yearly basis by a Steering Committee under UIC/OSJD umbrella by railway represent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atumsplatzhalter 3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5D53-25CA-45A9-9389-9A7E66F7B056}" type="datetime">
              <a:rPr b="0" lang="de-DE" sz="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liennummernplatzhalter 4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A27D-CC9E-469A-B833-C0D644689BA6}" type="slidenum">
              <a:rPr b="0" lang="de-CH" sz="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umsplatzhalter 3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DFF5-8427-4356-A302-06478292D331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4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99C0-C1C5-451C-9F7C-2938533EF370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Demands for customs facilitations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4438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on customs procedure for transcontinental transpor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le customs declaration based on single transport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fety and security transportation on a long d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interconnection with the up-coming customs security obligation of the European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ing the comparative advantages of the railway on a glob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le solu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ation of the existing UN 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-grading the existing UN 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t in place a new UN Convention on simplified rail custom transit procedure for Eurasian rail corri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ole of the UN Bodies in the proc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umsplatzhalter 1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6BBC-BC71-4BA8-BD9D-D5BA7E76FE33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liennummernplatzhalter 2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CAE4-BF9E-41FE-A506-32506875CD1A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1720" y="360000"/>
            <a:ext cx="844380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Scope of the CIM and SMGS</a:t>
            </a:r>
            <a:br>
              <a:rPr sz="2200"/>
            </a:br>
            <a:br>
              <a:rPr sz="10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te of 1 February 2010</a:t>
            </a:r>
            <a:endParaRPr b="0" lang="en-US" sz="1400" spc="-1" strike="noStrike">
              <a:solidFill>
                <a:srgbClr val="032377"/>
              </a:solidFill>
              <a:latin typeface="Arial"/>
            </a:endParaRPr>
          </a:p>
        </p:txBody>
      </p:sp>
      <p:pic>
        <p:nvPicPr>
          <p:cNvPr id="96" name="Picture 8" descr="fright_traffic_CIM-SMGS_2009-01-01"/>
          <p:cNvPicPr/>
          <p:nvPr/>
        </p:nvPicPr>
        <p:blipFill>
          <a:blip r:embed="rId1"/>
          <a:stretch/>
        </p:blipFill>
        <p:spPr>
          <a:xfrm>
            <a:off x="2106720" y="1251000"/>
            <a:ext cx="5462640" cy="51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1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A4E1-E3E4-4B38-B5EA-F02347DF8818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liennummernplatzhalter 2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9FAC-95D5-4BBA-BFAE-5F6C298989EA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7320" y="383760"/>
            <a:ext cx="844380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Legal duality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79360" y="1568160"/>
            <a:ext cx="4245120" cy="4498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CIM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iform Rules concerning the Contract of International Carriage of Goods by Rail - Appendix B to COTIF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nex to the main co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ensual contrac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actual freed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ignment note design within the competence of RU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int and several liability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00080" y="1568160"/>
            <a:ext cx="4162680" cy="4498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SMGS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greement on International Goods Transport by Rail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in co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mal contrac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ligation to set and publish tariffs and to carr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ignment note defined in SMGS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 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umsplatzhalter 1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D35B-B7B2-4A73-937C-7ABCE6A0EA94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liennummernplatzhalter 2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20AE-BDA5-4BA3-A77A-90EB831D7358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318960"/>
            <a:ext cx="8443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Differences in organisations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1615680"/>
            <a:ext cx="4144680" cy="43275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OTIF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governmental Organisation for International Carriage by Rail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ce 1985 (Central Office 189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4 Member Stat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ember States with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jor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rman/French/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2240" y="1615680"/>
            <a:ext cx="4146480" cy="4327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OSJD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ganisation for Cooperation between Railways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s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ce 1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7 Membe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ai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anim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ssian and Chin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umsplatzhalter 3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" spc="-1" strike="noStrike">
                <a:solidFill>
                  <a:srgbClr val="000000"/>
                </a:solidFill>
                <a:latin typeface="Arial"/>
              </a:rPr>
              <a:t>08.03.2010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ußzeilenplatzhalter 4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" spc="-1" strike="noStrike">
                <a:solidFill>
                  <a:srgbClr val="000000"/>
                </a:solidFill>
                <a:latin typeface="Arial"/>
              </a:rPr>
              <a:t>European and International Rail Transport Law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liennummernplatzhalter 5"/>
          <p:cNvSpPr/>
          <p:nvPr/>
        </p:nvSpPr>
        <p:spPr>
          <a:xfrm>
            <a:off x="8686800" y="654840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4C39-CFFD-4027-B652-8CCB1A4EE040}" type="slidenum">
              <a:rPr b="0" lang="de-CH" sz="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(1) Relevant international transport conventions and International transport organisations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2400" y="1380600"/>
            <a:ext cx="8181720" cy="48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oad transport: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R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vention on the Contract for the international carriage of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goods</a:t>
            </a:r>
            <a:br>
              <a:rPr sz="1800"/>
            </a:b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road (19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11419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lateral Protocol to the Convention on the contract for the international carriage of goods by road (19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Protocol to the Convention on the contract for the international carriage of goods by road concerning the electronic consignment note (2008, not in effec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92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R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Agreement concerning the international carriag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ngerous goods by road (19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VR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vention on the Contract for the international carriag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sseng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y road (19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ECE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ransport division (Gene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IRU 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road transport union (Gene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umsplatzhalter 3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" spc="-1" strike="noStrike">
                <a:solidFill>
                  <a:srgbClr val="000000"/>
                </a:solidFill>
                <a:latin typeface="Arial"/>
              </a:rPr>
              <a:t>08.03.2010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ußzeilenplatzhalter 4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" spc="-1" strike="noStrike">
                <a:solidFill>
                  <a:srgbClr val="000000"/>
                </a:solidFill>
                <a:latin typeface="Arial"/>
              </a:rPr>
              <a:t>European and International Rail Transport Law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liennummernplatzhalter 5"/>
          <p:cNvSpPr/>
          <p:nvPr/>
        </p:nvSpPr>
        <p:spPr>
          <a:xfrm>
            <a:off x="8686800" y="654840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D7A5-1B96-497C-9157-798E691AC931}" type="slidenum">
              <a:rPr b="0" lang="de-CH" sz="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(2) Relevant international transport conventions and International transport organisations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8360" y="14396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ir transport: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saw Convention:  Convention for the unification of certain rules rel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nternational carriage by air 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protocol No. 1 to amend the Convention for the unification of certain rules relating to international carriage by air (19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protocol No. 2 to amend the Convention for the unification of certain rules relating to international carriage by air (19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icago Convention:  Convention on Civil Aviation (19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ntreal Convention:  Convention for the unification of certain rules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carriage by air (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AO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Civil Aviation Organisation (Montre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ATA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Air Transport Association (Montre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umsplatzhalter 3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" spc="-1" strike="noStrike">
                <a:solidFill>
                  <a:srgbClr val="000000"/>
                </a:solidFill>
                <a:latin typeface="Arial"/>
              </a:rPr>
              <a:t>08.03.2010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ußzeilenplatzhalter 4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" spc="-1" strike="noStrike">
                <a:solidFill>
                  <a:srgbClr val="000000"/>
                </a:solidFill>
                <a:latin typeface="Arial"/>
              </a:rPr>
              <a:t>European and International Rail Transport Law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liennummernplatzhalter 5"/>
          <p:cNvSpPr/>
          <p:nvPr/>
        </p:nvSpPr>
        <p:spPr>
          <a:xfrm>
            <a:off x="8686800" y="654840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D88A-693C-4935-AB83-E4B3AA21D5E2}" type="slidenum">
              <a:rPr b="0" lang="de-CH" sz="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(3) Relevant international transport conventions and International transport organisations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land waterway: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NI:  Convention on the Contract for the carriage of goods by inland waterway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N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Agreement concerning the international carriag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ngerous goods by inland waterway (1997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NR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ulation for the carriage of dangerous substance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hine (19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nube Commission (Budap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tral Commission for Rhine Navigation (Strasbo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 River Commissions (for Mosel or M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umsplatzhalter 3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" spc="-1" strike="noStrike">
                <a:solidFill>
                  <a:srgbClr val="000000"/>
                </a:solidFill>
                <a:latin typeface="Arial"/>
              </a:rPr>
              <a:t>08.03.2010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ußzeilenplatzhalter 4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" spc="-1" strike="noStrike">
                <a:solidFill>
                  <a:srgbClr val="000000"/>
                </a:solidFill>
                <a:latin typeface="Arial"/>
              </a:rPr>
              <a:t>European and International Rail Transport Law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liennummernplatzhalter 5"/>
          <p:cNvSpPr/>
          <p:nvPr/>
        </p:nvSpPr>
        <p:spPr>
          <a:xfrm>
            <a:off x="8686800" y="654840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5A47-6359-4622-AFCB-FE12F20EF6C8}" type="slidenum">
              <a:rPr b="0" lang="de-CH" sz="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(4) Relevant international transport conventions and International transport organisations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ea transport:</a:t>
            </a:r>
            <a:br>
              <a:rPr sz="10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55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gue rules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Convention for the unification of certain rul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556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w relating to bills of lading (Brussels, 19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55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by rules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tocol to amend the International Convention for th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fication of certain rules of law relating to bills of lading (Brussels, 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55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mburg rule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ed Nations Convention on the carriage of goods by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55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Hamburg, 19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55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tterdam rule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ed Nations Convention on contracts for the international carriage of goods wholly or partly by sea (Rotterdam, 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55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55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O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Maritime Organisation (Lond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55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I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Maritime Committee (Antwer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umsplatzhalter 1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A1DE-F84F-4714-89B4-A9B6DC98528B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liennummernplatzhalter 2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B62A-2478-44ED-A951-B866C823C1C6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1200" y="423720"/>
            <a:ext cx="844416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600" spc="-1" strike="noStrike">
                <a:solidFill>
                  <a:srgbClr val="032377"/>
                </a:solidFill>
                <a:latin typeface="Arial"/>
              </a:rPr>
              <a:t>CIT/OSJD Project: Legal </a:t>
            </a: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Interoperability CIM/SMGS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912680"/>
            <a:ext cx="8443800" cy="35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hase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on CIM/SMGS consignment 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hase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ised claims handling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hase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le Eurasian Rail Transport La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0:35:36Z</dcterms:created>
  <dc:creator>Dr. Erik Evtimov</dc:creator>
  <dc:description/>
  <dc:language>en-US</dc:language>
  <cp:lastModifiedBy>Marilley</cp:lastModifiedBy>
  <dcterms:modified xsi:type="dcterms:W3CDTF">2010-03-22T09:05:54Z</dcterms:modified>
  <cp:revision>180</cp:revision>
  <dc:subject/>
  <dc:title>UNECE Expert Group</dc:title>
</cp:coreProperties>
</file>