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CE7-EC60-4964-B707-2FEE2782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A2E-8992-4AED-A6D8-3C3D9C88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433-BA7A-43EB-BC28-FD439582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282-528A-4C03-A70C-35F0FE62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A37-12A8-4A68-B37A-AC722052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905-B0AE-4D33-A09B-6994F35E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8AB-68BE-4178-A298-B9B023FB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9C2-4A09-4EDE-B2D8-5906E06B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3E5-5872-49AB-A791-7C87233C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788-E9E7-426D-B174-20BCE6B2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A39-3C5A-48B2-A4C7-05EDDB5C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625-1EB0-4535-B0C8-67F7F9B4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A119-8ADB-4CC7-8104-D050200B2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884160"/>
          <a:ext cx="464328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84160"/>
                    <a:ext cx="46432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-15120" y="963720"/>
            <a:ext cx="45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MS UI Gothic"/>
              </a:rPr>
              <a:t>Rates of Pedestrian-Vehicle Accidents by Vehicle Ty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796000" y="1131840"/>
          <a:ext cx="2521080" cy="2368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1131840"/>
                    <a:ext cx="252108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4942800" y="892080"/>
            <a:ext cx="421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MS UI Gothic"/>
              </a:rPr>
              <a:t>Rates of injuries by accident (Micro minivans, etc.)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7000" y="620640"/>
            <a:ext cx="82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UI Gothic"/>
              </a:rPr>
              <a:t>Situations That Caused Accidents injuring Pedestrians, Vulnerable Road Us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0840" y="1409760"/>
            <a:ext cx="1739880" cy="1629720"/>
          </a:xfrm>
          <a:custGeom>
            <a:avLst/>
            <a:gdLst>
              <a:gd name="textAreaLeft" fmla="*/ 397080 w 1739880"/>
              <a:gd name="textAreaRight" fmla="*/ 1342800 w 1739880"/>
              <a:gd name="textAreaTop" fmla="*/ 371880 h 1629720"/>
              <a:gd name="textAreaBottom" fmla="*/ 1257840 h 162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UI Gothic"/>
              </a:rPr>
              <a:t>Number of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UI Gothic"/>
              </a:rPr>
              <a:t>Accidents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0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16640" y="1554120"/>
            <a:ext cx="1752840" cy="1629720"/>
          </a:xfrm>
          <a:custGeom>
            <a:avLst/>
            <a:gdLst>
              <a:gd name="textAreaLeft" fmla="*/ 399960 w 1752840"/>
              <a:gd name="textAreaRight" fmla="*/ 1352880 w 1752840"/>
              <a:gd name="textAreaTop" fmla="*/ 371880 h 1629720"/>
              <a:gd name="textAreaBottom" fmla="*/ 1257840 h 162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UI Gothic"/>
              </a:rPr>
              <a:t>Sev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UI Gothic"/>
              </a:rPr>
              <a:t>disabilities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UI Gothic"/>
              </a:rPr>
              <a:t>1,194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3680" y="2133720"/>
            <a:ext cx="1209600" cy="120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UI Gothic"/>
              </a:rPr>
              <a:t>Number of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UI Gothic"/>
              </a:rPr>
              <a:t>Accidents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UI Gothic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UI Gothic"/>
              </a:rPr>
              <a:t>58,7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280" y="2709720"/>
            <a:ext cx="2592000" cy="129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711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7118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2560" y="1848600"/>
            <a:ext cx="388944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0533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05334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00720" y="3933720"/>
            <a:ext cx="4187160" cy="2492280"/>
            <a:chOff x="4500720" y="3933720"/>
            <a:chExt cx="4187160" cy="2492280"/>
          </a:xfrm>
        </p:grpSpPr>
        <p:sp>
          <p:nvSpPr>
            <p:cNvPr id="54" name=""/>
            <p:cNvSpPr/>
            <p:nvPr/>
          </p:nvSpPr>
          <p:spPr>
            <a:xfrm>
              <a:off x="4564080" y="5889600"/>
              <a:ext cx="4123800" cy="534960"/>
            </a:xfrm>
            <a:custGeom>
              <a:avLst/>
              <a:gdLst/>
              <a:ahLst/>
              <a:rect l="l" t="t" r="r" b="b"/>
              <a:pathLst>
                <a:path w="2598" h="337">
                  <a:moveTo>
                    <a:pt x="0" y="337"/>
                  </a:moveTo>
                  <a:lnTo>
                    <a:pt x="380" y="0"/>
                  </a:lnTo>
                  <a:lnTo>
                    <a:pt x="2598" y="0"/>
                  </a:lnTo>
                  <a:lnTo>
                    <a:pt x="2217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67080" y="3933720"/>
              <a:ext cx="3520800" cy="195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564080" y="5889600"/>
              <a:ext cx="602640" cy="53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6327360" y="5889600"/>
              <a:ext cx="596520" cy="53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8083080" y="5889600"/>
              <a:ext cx="604440" cy="53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64080" y="5889600"/>
              <a:ext cx="4123800" cy="534960"/>
            </a:xfrm>
            <a:custGeom>
              <a:avLst/>
              <a:gdLst/>
              <a:ahLst/>
              <a:rect l="l" t="t" r="r" b="b"/>
              <a:pathLst>
                <a:path w="2598" h="337">
                  <a:moveTo>
                    <a:pt x="2598" y="0"/>
                  </a:moveTo>
                  <a:lnTo>
                    <a:pt x="2217" y="337"/>
                  </a:lnTo>
                  <a:lnTo>
                    <a:pt x="0" y="337"/>
                  </a:lnTo>
                  <a:lnTo>
                    <a:pt x="380" y="0"/>
                  </a:lnTo>
                  <a:lnTo>
                    <a:pt x="259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64080" y="3933720"/>
              <a:ext cx="602640" cy="2490840"/>
            </a:xfrm>
            <a:custGeom>
              <a:avLst/>
              <a:gdLst/>
              <a:ahLst/>
              <a:rect l="l" t="t" r="r" b="b"/>
              <a:pathLst>
                <a:path w="380" h="1569">
                  <a:moveTo>
                    <a:pt x="0" y="1569"/>
                  </a:moveTo>
                  <a:lnTo>
                    <a:pt x="0" y="332"/>
                  </a:lnTo>
                  <a:lnTo>
                    <a:pt x="380" y="0"/>
                  </a:lnTo>
                  <a:lnTo>
                    <a:pt x="380" y="1232"/>
                  </a:lnTo>
                  <a:lnTo>
                    <a:pt x="0" y="156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67080" y="3933720"/>
              <a:ext cx="3520800" cy="1955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73840" y="6049800"/>
              <a:ext cx="24552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0" y="135"/>
                  </a:moveTo>
                  <a:lnTo>
                    <a:pt x="0" y="135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75080" y="6264000"/>
              <a:ext cx="698400" cy="1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75080" y="6049800"/>
              <a:ext cx="239400" cy="21420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151" y="0"/>
                  </a:moveTo>
                  <a:lnTo>
                    <a:pt x="151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15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14840" y="6049800"/>
              <a:ext cx="704520" cy="1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73840" y="6049800"/>
              <a:ext cx="24552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0" y="135"/>
                  </a:moveTo>
                  <a:lnTo>
                    <a:pt x="0" y="135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75080" y="6264000"/>
              <a:ext cx="698400" cy="1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75080" y="6049800"/>
              <a:ext cx="239400" cy="21420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151" y="0"/>
                  </a:moveTo>
                  <a:lnTo>
                    <a:pt x="151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15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4840" y="6049800"/>
              <a:ext cx="704520" cy="1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73840" y="6029280"/>
              <a:ext cx="245520" cy="234720"/>
            </a:xfrm>
            <a:custGeom>
              <a:avLst/>
              <a:gdLst/>
              <a:ahLst/>
              <a:rect l="l" t="t" r="r" b="b"/>
              <a:pathLst>
                <a:path w="155" h="148">
                  <a:moveTo>
                    <a:pt x="0" y="148"/>
                  </a:moveTo>
                  <a:lnTo>
                    <a:pt x="0" y="135"/>
                  </a:lnTo>
                  <a:lnTo>
                    <a:pt x="155" y="0"/>
                  </a:lnTo>
                  <a:lnTo>
                    <a:pt x="155" y="13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75080" y="6243480"/>
              <a:ext cx="698400" cy="20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75080" y="6029280"/>
              <a:ext cx="944280" cy="214200"/>
            </a:xfrm>
            <a:custGeom>
              <a:avLst/>
              <a:gdLst/>
              <a:ahLst/>
              <a:rect l="l" t="t" r="r" b="b"/>
              <a:pathLst>
                <a:path w="595" h="135">
                  <a:moveTo>
                    <a:pt x="440" y="135"/>
                  </a:moveTo>
                  <a:lnTo>
                    <a:pt x="595" y="0"/>
                  </a:lnTo>
                  <a:lnTo>
                    <a:pt x="151" y="0"/>
                  </a:lnTo>
                  <a:lnTo>
                    <a:pt x="0" y="135"/>
                  </a:lnTo>
                  <a:lnTo>
                    <a:pt x="440" y="135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3840" y="5370480"/>
              <a:ext cx="245520" cy="873000"/>
            </a:xfrm>
            <a:custGeom>
              <a:avLst/>
              <a:gdLst/>
              <a:ahLst/>
              <a:rect l="l" t="t" r="r" b="b"/>
              <a:pathLst>
                <a:path w="155" h="550">
                  <a:moveTo>
                    <a:pt x="0" y="550"/>
                  </a:moveTo>
                  <a:lnTo>
                    <a:pt x="0" y="131"/>
                  </a:lnTo>
                  <a:lnTo>
                    <a:pt x="155" y="0"/>
                  </a:lnTo>
                  <a:lnTo>
                    <a:pt x="155" y="415"/>
                  </a:lnTo>
                  <a:lnTo>
                    <a:pt x="0" y="55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75080" y="5578200"/>
              <a:ext cx="698400" cy="665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75080" y="5370480"/>
              <a:ext cx="944280" cy="207720"/>
            </a:xfrm>
            <a:custGeom>
              <a:avLst/>
              <a:gdLst/>
              <a:ahLst/>
              <a:rect l="l" t="t" r="r" b="b"/>
              <a:pathLst>
                <a:path w="595" h="131">
                  <a:moveTo>
                    <a:pt x="440" y="131"/>
                  </a:moveTo>
                  <a:lnTo>
                    <a:pt x="595" y="0"/>
                  </a:lnTo>
                  <a:lnTo>
                    <a:pt x="151" y="0"/>
                  </a:lnTo>
                  <a:lnTo>
                    <a:pt x="0" y="131"/>
                  </a:lnTo>
                  <a:lnTo>
                    <a:pt x="440" y="131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73840" y="5189400"/>
              <a:ext cx="245520" cy="388800"/>
            </a:xfrm>
            <a:custGeom>
              <a:avLst/>
              <a:gdLst/>
              <a:ahLst/>
              <a:rect l="l" t="t" r="r" b="b"/>
              <a:pathLst>
                <a:path w="155" h="245">
                  <a:moveTo>
                    <a:pt x="0" y="245"/>
                  </a:moveTo>
                  <a:lnTo>
                    <a:pt x="0" y="131"/>
                  </a:lnTo>
                  <a:lnTo>
                    <a:pt x="155" y="0"/>
                  </a:lnTo>
                  <a:lnTo>
                    <a:pt x="155" y="114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75080" y="5397480"/>
              <a:ext cx="69840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5080" y="5189400"/>
              <a:ext cx="944280" cy="208080"/>
            </a:xfrm>
            <a:custGeom>
              <a:avLst/>
              <a:gdLst/>
              <a:ahLst/>
              <a:rect l="l" t="t" r="r" b="b"/>
              <a:pathLst>
                <a:path w="595" h="131">
                  <a:moveTo>
                    <a:pt x="440" y="131"/>
                  </a:moveTo>
                  <a:lnTo>
                    <a:pt x="595" y="0"/>
                  </a:lnTo>
                  <a:lnTo>
                    <a:pt x="151" y="0"/>
                  </a:lnTo>
                  <a:lnTo>
                    <a:pt x="0" y="131"/>
                  </a:lnTo>
                  <a:lnTo>
                    <a:pt x="440" y="131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73840" y="5140080"/>
              <a:ext cx="245520" cy="25740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0" y="136"/>
                  </a:lnTo>
                  <a:lnTo>
                    <a:pt x="155" y="0"/>
                  </a:lnTo>
                  <a:lnTo>
                    <a:pt x="155" y="31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75080" y="5356080"/>
              <a:ext cx="698400" cy="414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75080" y="5140080"/>
              <a:ext cx="944280" cy="216000"/>
            </a:xfrm>
            <a:custGeom>
              <a:avLst/>
              <a:gdLst/>
              <a:ahLst/>
              <a:rect l="l" t="t" r="r" b="b"/>
              <a:pathLst>
                <a:path w="595" h="136">
                  <a:moveTo>
                    <a:pt x="440" y="136"/>
                  </a:moveTo>
                  <a:lnTo>
                    <a:pt x="595" y="0"/>
                  </a:lnTo>
                  <a:lnTo>
                    <a:pt x="151" y="0"/>
                  </a:lnTo>
                  <a:lnTo>
                    <a:pt x="0" y="136"/>
                  </a:lnTo>
                  <a:lnTo>
                    <a:pt x="440" y="136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73840" y="5127480"/>
              <a:ext cx="245520" cy="228600"/>
            </a:xfrm>
            <a:custGeom>
              <a:avLst/>
              <a:gdLst/>
              <a:ahLst/>
              <a:rect l="l" t="t" r="r" b="b"/>
              <a:pathLst>
                <a:path w="155" h="144">
                  <a:moveTo>
                    <a:pt x="0" y="144"/>
                  </a:moveTo>
                  <a:lnTo>
                    <a:pt x="0" y="135"/>
                  </a:lnTo>
                  <a:lnTo>
                    <a:pt x="155" y="0"/>
                  </a:lnTo>
                  <a:lnTo>
                    <a:pt x="155" y="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75080" y="5341680"/>
              <a:ext cx="698400" cy="144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75080" y="5127480"/>
              <a:ext cx="944280" cy="214200"/>
            </a:xfrm>
            <a:custGeom>
              <a:avLst/>
              <a:gdLst/>
              <a:ahLst/>
              <a:rect l="l" t="t" r="r" b="b"/>
              <a:pathLst>
                <a:path w="595" h="135">
                  <a:moveTo>
                    <a:pt x="440" y="135"/>
                  </a:moveTo>
                  <a:lnTo>
                    <a:pt x="595" y="0"/>
                  </a:lnTo>
                  <a:lnTo>
                    <a:pt x="151" y="0"/>
                  </a:lnTo>
                  <a:lnTo>
                    <a:pt x="0" y="135"/>
                  </a:lnTo>
                  <a:lnTo>
                    <a:pt x="440" y="135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73840" y="4932360"/>
              <a:ext cx="245520" cy="409320"/>
            </a:xfrm>
            <a:custGeom>
              <a:avLst/>
              <a:gdLst/>
              <a:ahLst/>
              <a:rect l="l" t="t" r="r" b="b"/>
              <a:pathLst>
                <a:path w="155" h="258">
                  <a:moveTo>
                    <a:pt x="0" y="258"/>
                  </a:moveTo>
                  <a:lnTo>
                    <a:pt x="0" y="136"/>
                  </a:lnTo>
                  <a:lnTo>
                    <a:pt x="155" y="0"/>
                  </a:lnTo>
                  <a:lnTo>
                    <a:pt x="155" y="123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75080" y="5148000"/>
              <a:ext cx="698400" cy="193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75080" y="4932360"/>
              <a:ext cx="944280" cy="215640"/>
            </a:xfrm>
            <a:custGeom>
              <a:avLst/>
              <a:gdLst/>
              <a:ahLst/>
              <a:rect l="l" t="t" r="r" b="b"/>
              <a:pathLst>
                <a:path w="595" h="136">
                  <a:moveTo>
                    <a:pt x="440" y="136"/>
                  </a:moveTo>
                  <a:lnTo>
                    <a:pt x="595" y="0"/>
                  </a:lnTo>
                  <a:lnTo>
                    <a:pt x="151" y="0"/>
                  </a:lnTo>
                  <a:lnTo>
                    <a:pt x="0" y="136"/>
                  </a:lnTo>
                  <a:lnTo>
                    <a:pt x="440" y="136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73840" y="4744800"/>
              <a:ext cx="245520" cy="403200"/>
            </a:xfrm>
            <a:custGeom>
              <a:avLst/>
              <a:gdLst/>
              <a:ahLst/>
              <a:rect l="l" t="t" r="r" b="b"/>
              <a:pathLst>
                <a:path w="155" h="254">
                  <a:moveTo>
                    <a:pt x="0" y="254"/>
                  </a:moveTo>
                  <a:lnTo>
                    <a:pt x="0" y="131"/>
                  </a:lnTo>
                  <a:lnTo>
                    <a:pt x="155" y="0"/>
                  </a:lnTo>
                  <a:lnTo>
                    <a:pt x="155" y="118"/>
                  </a:lnTo>
                  <a:lnTo>
                    <a:pt x="0" y="254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75080" y="4952880"/>
              <a:ext cx="698400" cy="195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5080" y="4744800"/>
              <a:ext cx="944280" cy="208080"/>
            </a:xfrm>
            <a:custGeom>
              <a:avLst/>
              <a:gdLst/>
              <a:ahLst/>
              <a:rect l="l" t="t" r="r" b="b"/>
              <a:pathLst>
                <a:path w="595" h="131">
                  <a:moveTo>
                    <a:pt x="440" y="131"/>
                  </a:moveTo>
                  <a:lnTo>
                    <a:pt x="595" y="0"/>
                  </a:lnTo>
                  <a:lnTo>
                    <a:pt x="151" y="0"/>
                  </a:lnTo>
                  <a:lnTo>
                    <a:pt x="0" y="131"/>
                  </a:lnTo>
                  <a:lnTo>
                    <a:pt x="440" y="131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73840" y="4703760"/>
              <a:ext cx="245520" cy="249120"/>
            </a:xfrm>
            <a:custGeom>
              <a:avLst/>
              <a:gdLst/>
              <a:ahLst/>
              <a:rect l="l" t="t" r="r" b="b"/>
              <a:pathLst>
                <a:path w="155" h="157">
                  <a:moveTo>
                    <a:pt x="0" y="157"/>
                  </a:moveTo>
                  <a:lnTo>
                    <a:pt x="0" y="131"/>
                  </a:lnTo>
                  <a:lnTo>
                    <a:pt x="155" y="0"/>
                  </a:lnTo>
                  <a:lnTo>
                    <a:pt x="155" y="26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75080" y="4911480"/>
              <a:ext cx="698400" cy="414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75080" y="4703760"/>
              <a:ext cx="944280" cy="207720"/>
            </a:xfrm>
            <a:custGeom>
              <a:avLst/>
              <a:gdLst/>
              <a:ahLst/>
              <a:rect l="l" t="t" r="r" b="b"/>
              <a:pathLst>
                <a:path w="595" h="131">
                  <a:moveTo>
                    <a:pt x="440" y="131"/>
                  </a:moveTo>
                  <a:lnTo>
                    <a:pt x="595" y="0"/>
                  </a:lnTo>
                  <a:lnTo>
                    <a:pt x="151" y="0"/>
                  </a:lnTo>
                  <a:lnTo>
                    <a:pt x="0" y="131"/>
                  </a:lnTo>
                  <a:lnTo>
                    <a:pt x="440" y="131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73840" y="4633920"/>
              <a:ext cx="245520" cy="277560"/>
            </a:xfrm>
            <a:custGeom>
              <a:avLst/>
              <a:gdLst/>
              <a:ahLst/>
              <a:rect l="l" t="t" r="r" b="b"/>
              <a:pathLst>
                <a:path w="155" h="175">
                  <a:moveTo>
                    <a:pt x="0" y="175"/>
                  </a:moveTo>
                  <a:lnTo>
                    <a:pt x="0" y="136"/>
                  </a:lnTo>
                  <a:lnTo>
                    <a:pt x="155" y="0"/>
                  </a:lnTo>
                  <a:lnTo>
                    <a:pt x="155" y="44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75080" y="4849560"/>
              <a:ext cx="698400" cy="61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75080" y="4633920"/>
              <a:ext cx="944280" cy="215640"/>
            </a:xfrm>
            <a:custGeom>
              <a:avLst/>
              <a:gdLst/>
              <a:ahLst/>
              <a:rect l="l" t="t" r="r" b="b"/>
              <a:pathLst>
                <a:path w="595" h="136">
                  <a:moveTo>
                    <a:pt x="440" y="136"/>
                  </a:moveTo>
                  <a:lnTo>
                    <a:pt x="595" y="0"/>
                  </a:lnTo>
                  <a:lnTo>
                    <a:pt x="151" y="0"/>
                  </a:lnTo>
                  <a:lnTo>
                    <a:pt x="0" y="136"/>
                  </a:lnTo>
                  <a:lnTo>
                    <a:pt x="440" y="136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73840" y="4086000"/>
              <a:ext cx="245520" cy="763560"/>
            </a:xfrm>
            <a:custGeom>
              <a:avLst/>
              <a:gdLst/>
              <a:ahLst/>
              <a:rect l="l" t="t" r="r" b="b"/>
              <a:pathLst>
                <a:path w="155" h="481">
                  <a:moveTo>
                    <a:pt x="0" y="481"/>
                  </a:moveTo>
                  <a:lnTo>
                    <a:pt x="0" y="135"/>
                  </a:lnTo>
                  <a:lnTo>
                    <a:pt x="155" y="0"/>
                  </a:lnTo>
                  <a:lnTo>
                    <a:pt x="155" y="345"/>
                  </a:lnTo>
                  <a:lnTo>
                    <a:pt x="0" y="481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75080" y="4300560"/>
              <a:ext cx="698400" cy="549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bfbfb"/>
                </a:gs>
                <a:gs pos="100000">
                  <a:srgbClr val="b2b2b2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75080" y="4086000"/>
              <a:ext cx="944280" cy="214560"/>
            </a:xfrm>
            <a:custGeom>
              <a:avLst/>
              <a:gdLst/>
              <a:ahLst/>
              <a:rect l="l" t="t" r="r" b="b"/>
              <a:pathLst>
                <a:path w="595" h="135">
                  <a:moveTo>
                    <a:pt x="440" y="135"/>
                  </a:moveTo>
                  <a:lnTo>
                    <a:pt x="595" y="0"/>
                  </a:lnTo>
                  <a:lnTo>
                    <a:pt x="151" y="0"/>
                  </a:lnTo>
                  <a:lnTo>
                    <a:pt x="0" y="135"/>
                  </a:lnTo>
                  <a:lnTo>
                    <a:pt x="440" y="135"/>
                  </a:lnTo>
                  <a:close/>
                </a:path>
              </a:pathLst>
            </a:custGeom>
            <a:solidFill>
              <a:srgbClr val="b2b2b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32600" y="6049800"/>
              <a:ext cx="944280" cy="214200"/>
            </a:xfrm>
            <a:custGeom>
              <a:avLst/>
              <a:gdLst/>
              <a:ahLst/>
              <a:rect l="l" t="t" r="r" b="b"/>
              <a:pathLst>
                <a:path w="595" h="135">
                  <a:moveTo>
                    <a:pt x="444" y="135"/>
                  </a:moveTo>
                  <a:lnTo>
                    <a:pt x="595" y="0"/>
                  </a:lnTo>
                  <a:lnTo>
                    <a:pt x="154" y="0"/>
                  </a:lnTo>
                  <a:lnTo>
                    <a:pt x="0" y="135"/>
                  </a:lnTo>
                  <a:lnTo>
                    <a:pt x="444" y="135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37480" y="6049800"/>
              <a:ext cx="239400" cy="21420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0" y="135"/>
                  </a:moveTo>
                  <a:lnTo>
                    <a:pt x="0" y="135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32600" y="6264000"/>
              <a:ext cx="704520" cy="1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32600" y="6049800"/>
              <a:ext cx="244080" cy="214200"/>
            </a:xfrm>
            <a:custGeom>
              <a:avLst/>
              <a:gdLst/>
              <a:ahLst/>
              <a:rect l="l" t="t" r="r" b="b"/>
              <a:pathLst>
                <a:path w="154" h="135">
                  <a:moveTo>
                    <a:pt x="154" y="0"/>
                  </a:moveTo>
                  <a:lnTo>
                    <a:pt x="154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154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77040" y="6049800"/>
              <a:ext cx="699840" cy="1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37480" y="6049800"/>
              <a:ext cx="239400" cy="21420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0" y="135"/>
                  </a:moveTo>
                  <a:lnTo>
                    <a:pt x="0" y="135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32600" y="6264000"/>
              <a:ext cx="704520" cy="1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32600" y="6049800"/>
              <a:ext cx="244080" cy="214200"/>
            </a:xfrm>
            <a:custGeom>
              <a:avLst/>
              <a:gdLst/>
              <a:ahLst/>
              <a:rect l="l" t="t" r="r" b="b"/>
              <a:pathLst>
                <a:path w="154" h="135">
                  <a:moveTo>
                    <a:pt x="154" y="0"/>
                  </a:moveTo>
                  <a:lnTo>
                    <a:pt x="154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154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7040" y="6049800"/>
              <a:ext cx="699840" cy="18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37480" y="5397480"/>
              <a:ext cx="239400" cy="866520"/>
            </a:xfrm>
            <a:custGeom>
              <a:avLst/>
              <a:gdLst/>
              <a:ahLst/>
              <a:rect l="l" t="t" r="r" b="b"/>
              <a:pathLst>
                <a:path w="151" h="546">
                  <a:moveTo>
                    <a:pt x="0" y="546"/>
                  </a:moveTo>
                  <a:lnTo>
                    <a:pt x="0" y="136"/>
                  </a:lnTo>
                  <a:lnTo>
                    <a:pt x="151" y="0"/>
                  </a:lnTo>
                  <a:lnTo>
                    <a:pt x="151" y="411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32600" y="5613120"/>
              <a:ext cx="704520" cy="650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32600" y="5397480"/>
              <a:ext cx="944280" cy="215640"/>
            </a:xfrm>
            <a:custGeom>
              <a:avLst/>
              <a:gdLst/>
              <a:ahLst/>
              <a:rect l="l" t="t" r="r" b="b"/>
              <a:pathLst>
                <a:path w="595" h="136">
                  <a:moveTo>
                    <a:pt x="444" y="136"/>
                  </a:moveTo>
                  <a:lnTo>
                    <a:pt x="595" y="0"/>
                  </a:lnTo>
                  <a:lnTo>
                    <a:pt x="154" y="0"/>
                  </a:lnTo>
                  <a:lnTo>
                    <a:pt x="0" y="136"/>
                  </a:lnTo>
                  <a:lnTo>
                    <a:pt x="444" y="136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37480" y="5168880"/>
              <a:ext cx="239400" cy="444240"/>
            </a:xfrm>
            <a:custGeom>
              <a:avLst/>
              <a:gdLst/>
              <a:ahLst/>
              <a:rect l="l" t="t" r="r" b="b"/>
              <a:pathLst>
                <a:path w="151" h="280">
                  <a:moveTo>
                    <a:pt x="0" y="280"/>
                  </a:moveTo>
                  <a:lnTo>
                    <a:pt x="0" y="135"/>
                  </a:lnTo>
                  <a:lnTo>
                    <a:pt x="151" y="0"/>
                  </a:lnTo>
                  <a:lnTo>
                    <a:pt x="151" y="144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32600" y="5383080"/>
              <a:ext cx="704520" cy="230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32600" y="5168880"/>
              <a:ext cx="944280" cy="214200"/>
            </a:xfrm>
            <a:custGeom>
              <a:avLst/>
              <a:gdLst/>
              <a:ahLst/>
              <a:rect l="l" t="t" r="r" b="b"/>
              <a:pathLst>
                <a:path w="595" h="135">
                  <a:moveTo>
                    <a:pt x="444" y="135"/>
                  </a:moveTo>
                  <a:lnTo>
                    <a:pt x="595" y="0"/>
                  </a:lnTo>
                  <a:lnTo>
                    <a:pt x="154" y="0"/>
                  </a:lnTo>
                  <a:lnTo>
                    <a:pt x="0" y="135"/>
                  </a:lnTo>
                  <a:lnTo>
                    <a:pt x="444" y="135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37480" y="5154480"/>
              <a:ext cx="239400" cy="22860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0" y="144"/>
                  </a:moveTo>
                  <a:lnTo>
                    <a:pt x="0" y="136"/>
                  </a:lnTo>
                  <a:lnTo>
                    <a:pt x="151" y="0"/>
                  </a:lnTo>
                  <a:lnTo>
                    <a:pt x="151" y="9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32600" y="5370480"/>
              <a:ext cx="704520" cy="12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32600" y="5154480"/>
              <a:ext cx="944280" cy="216000"/>
            </a:xfrm>
            <a:custGeom>
              <a:avLst/>
              <a:gdLst/>
              <a:ahLst/>
              <a:rect l="l" t="t" r="r" b="b"/>
              <a:pathLst>
                <a:path w="595" h="136">
                  <a:moveTo>
                    <a:pt x="444" y="136"/>
                  </a:moveTo>
                  <a:lnTo>
                    <a:pt x="595" y="0"/>
                  </a:lnTo>
                  <a:lnTo>
                    <a:pt x="154" y="0"/>
                  </a:lnTo>
                  <a:lnTo>
                    <a:pt x="0" y="136"/>
                  </a:lnTo>
                  <a:lnTo>
                    <a:pt x="444" y="136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37480" y="5127480"/>
              <a:ext cx="239400" cy="243000"/>
            </a:xfrm>
            <a:custGeom>
              <a:avLst/>
              <a:gdLst/>
              <a:ahLst/>
              <a:rect l="l" t="t" r="r" b="b"/>
              <a:pathLst>
                <a:path w="151" h="153">
                  <a:moveTo>
                    <a:pt x="0" y="153"/>
                  </a:moveTo>
                  <a:lnTo>
                    <a:pt x="0" y="135"/>
                  </a:lnTo>
                  <a:lnTo>
                    <a:pt x="151" y="0"/>
                  </a:lnTo>
                  <a:lnTo>
                    <a:pt x="151" y="17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32600" y="5341680"/>
              <a:ext cx="704520" cy="28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32600" y="5127480"/>
              <a:ext cx="944280" cy="214200"/>
            </a:xfrm>
            <a:custGeom>
              <a:avLst/>
              <a:gdLst/>
              <a:ahLst/>
              <a:rect l="l" t="t" r="r" b="b"/>
              <a:pathLst>
                <a:path w="595" h="135">
                  <a:moveTo>
                    <a:pt x="444" y="135"/>
                  </a:moveTo>
                  <a:lnTo>
                    <a:pt x="595" y="0"/>
                  </a:lnTo>
                  <a:lnTo>
                    <a:pt x="154" y="0"/>
                  </a:lnTo>
                  <a:lnTo>
                    <a:pt x="0" y="135"/>
                  </a:lnTo>
                  <a:lnTo>
                    <a:pt x="444" y="135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7480" y="4730760"/>
              <a:ext cx="239400" cy="610920"/>
            </a:xfrm>
            <a:custGeom>
              <a:avLst/>
              <a:gdLst/>
              <a:ahLst/>
              <a:rect l="l" t="t" r="r" b="b"/>
              <a:pathLst>
                <a:path w="151" h="385">
                  <a:moveTo>
                    <a:pt x="0" y="385"/>
                  </a:moveTo>
                  <a:lnTo>
                    <a:pt x="0" y="132"/>
                  </a:lnTo>
                  <a:lnTo>
                    <a:pt x="151" y="0"/>
                  </a:lnTo>
                  <a:lnTo>
                    <a:pt x="151" y="250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32600" y="4940280"/>
              <a:ext cx="704520" cy="4014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32600" y="4730760"/>
              <a:ext cx="944280" cy="209520"/>
            </a:xfrm>
            <a:custGeom>
              <a:avLst/>
              <a:gdLst/>
              <a:ahLst/>
              <a:rect l="l" t="t" r="r" b="b"/>
              <a:pathLst>
                <a:path w="595" h="132">
                  <a:moveTo>
                    <a:pt x="444" y="132"/>
                  </a:moveTo>
                  <a:lnTo>
                    <a:pt x="595" y="0"/>
                  </a:lnTo>
                  <a:lnTo>
                    <a:pt x="154" y="0"/>
                  </a:lnTo>
                  <a:lnTo>
                    <a:pt x="0" y="132"/>
                  </a:lnTo>
                  <a:lnTo>
                    <a:pt x="444" y="132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37480" y="4654440"/>
              <a:ext cx="239400" cy="285840"/>
            </a:xfrm>
            <a:custGeom>
              <a:avLst/>
              <a:gdLst/>
              <a:ahLst/>
              <a:rect l="l" t="t" r="r" b="b"/>
              <a:pathLst>
                <a:path w="151" h="180">
                  <a:moveTo>
                    <a:pt x="0" y="180"/>
                  </a:moveTo>
                  <a:lnTo>
                    <a:pt x="0" y="131"/>
                  </a:lnTo>
                  <a:lnTo>
                    <a:pt x="151" y="0"/>
                  </a:lnTo>
                  <a:lnTo>
                    <a:pt x="151" y="48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32600" y="4862520"/>
              <a:ext cx="704520" cy="77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32600" y="4654440"/>
              <a:ext cx="944280" cy="208080"/>
            </a:xfrm>
            <a:custGeom>
              <a:avLst/>
              <a:gdLst/>
              <a:ahLst/>
              <a:rect l="l" t="t" r="r" b="b"/>
              <a:pathLst>
                <a:path w="595" h="131">
                  <a:moveTo>
                    <a:pt x="444" y="131"/>
                  </a:moveTo>
                  <a:lnTo>
                    <a:pt x="595" y="0"/>
                  </a:lnTo>
                  <a:lnTo>
                    <a:pt x="154" y="0"/>
                  </a:lnTo>
                  <a:lnTo>
                    <a:pt x="0" y="131"/>
                  </a:lnTo>
                  <a:lnTo>
                    <a:pt x="444" y="131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37480" y="4522680"/>
              <a:ext cx="239400" cy="339840"/>
            </a:xfrm>
            <a:custGeom>
              <a:avLst/>
              <a:gdLst/>
              <a:ahLst/>
              <a:rect l="l" t="t" r="r" b="b"/>
              <a:pathLst>
                <a:path w="151" h="214">
                  <a:moveTo>
                    <a:pt x="0" y="214"/>
                  </a:moveTo>
                  <a:lnTo>
                    <a:pt x="0" y="131"/>
                  </a:lnTo>
                  <a:lnTo>
                    <a:pt x="151" y="0"/>
                  </a:lnTo>
                  <a:lnTo>
                    <a:pt x="151" y="83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32600" y="4730760"/>
              <a:ext cx="704520" cy="131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32600" y="4522680"/>
              <a:ext cx="944280" cy="208080"/>
            </a:xfrm>
            <a:custGeom>
              <a:avLst/>
              <a:gdLst/>
              <a:ahLst/>
              <a:rect l="l" t="t" r="r" b="b"/>
              <a:pathLst>
                <a:path w="595" h="131">
                  <a:moveTo>
                    <a:pt x="444" y="131"/>
                  </a:moveTo>
                  <a:lnTo>
                    <a:pt x="595" y="0"/>
                  </a:lnTo>
                  <a:lnTo>
                    <a:pt x="154" y="0"/>
                  </a:lnTo>
                  <a:lnTo>
                    <a:pt x="0" y="131"/>
                  </a:lnTo>
                  <a:lnTo>
                    <a:pt x="444" y="131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37480" y="4405320"/>
              <a:ext cx="239400" cy="325440"/>
            </a:xfrm>
            <a:custGeom>
              <a:avLst/>
              <a:gdLst/>
              <a:ahLst/>
              <a:rect l="l" t="t" r="r" b="b"/>
              <a:pathLst>
                <a:path w="151" h="205">
                  <a:moveTo>
                    <a:pt x="0" y="205"/>
                  </a:moveTo>
                  <a:lnTo>
                    <a:pt x="0" y="131"/>
                  </a:lnTo>
                  <a:lnTo>
                    <a:pt x="151" y="0"/>
                  </a:lnTo>
                  <a:lnTo>
                    <a:pt x="151" y="74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32600" y="4613040"/>
              <a:ext cx="704520" cy="117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32600" y="4405320"/>
              <a:ext cx="944280" cy="207720"/>
            </a:xfrm>
            <a:custGeom>
              <a:avLst/>
              <a:gdLst/>
              <a:ahLst/>
              <a:rect l="l" t="t" r="r" b="b"/>
              <a:pathLst>
                <a:path w="595" h="131">
                  <a:moveTo>
                    <a:pt x="444" y="131"/>
                  </a:moveTo>
                  <a:lnTo>
                    <a:pt x="595" y="0"/>
                  </a:lnTo>
                  <a:lnTo>
                    <a:pt x="154" y="0"/>
                  </a:lnTo>
                  <a:lnTo>
                    <a:pt x="0" y="131"/>
                  </a:lnTo>
                  <a:lnTo>
                    <a:pt x="444" y="131"/>
                  </a:lnTo>
                  <a:close/>
                </a:path>
              </a:pathLst>
            </a:custGeom>
            <a:solidFill>
              <a:srgbClr val="bfbfb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37480" y="4086000"/>
              <a:ext cx="239400" cy="527040"/>
            </a:xfrm>
            <a:custGeom>
              <a:avLst/>
              <a:gdLst/>
              <a:ahLst/>
              <a:rect l="l" t="t" r="r" b="b"/>
              <a:pathLst>
                <a:path w="151" h="332">
                  <a:moveTo>
                    <a:pt x="0" y="332"/>
                  </a:moveTo>
                  <a:lnTo>
                    <a:pt x="0" y="135"/>
                  </a:lnTo>
                  <a:lnTo>
                    <a:pt x="151" y="0"/>
                  </a:lnTo>
                  <a:lnTo>
                    <a:pt x="151" y="201"/>
                  </a:lnTo>
                  <a:lnTo>
                    <a:pt x="0" y="332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32600" y="4300560"/>
              <a:ext cx="704520" cy="3124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bfbfb"/>
                </a:gs>
                <a:gs pos="100000">
                  <a:srgbClr val="b2b2b2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32600" y="4086000"/>
              <a:ext cx="944280" cy="214560"/>
            </a:xfrm>
            <a:custGeom>
              <a:avLst/>
              <a:gdLst/>
              <a:ahLst/>
              <a:rect l="l" t="t" r="r" b="b"/>
              <a:pathLst>
                <a:path w="595" h="135">
                  <a:moveTo>
                    <a:pt x="444" y="135"/>
                  </a:moveTo>
                  <a:lnTo>
                    <a:pt x="595" y="0"/>
                  </a:lnTo>
                  <a:lnTo>
                    <a:pt x="154" y="0"/>
                  </a:lnTo>
                  <a:lnTo>
                    <a:pt x="0" y="135"/>
                  </a:lnTo>
                  <a:lnTo>
                    <a:pt x="444" y="135"/>
                  </a:lnTo>
                  <a:close/>
                </a:path>
              </a:pathLst>
            </a:custGeom>
            <a:solidFill>
              <a:srgbClr val="b2b2b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565520" y="4460400"/>
              <a:ext cx="1440" cy="196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563720" y="642456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563720" y="622296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563720" y="60292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563720" y="58338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563720" y="56340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563720" y="5438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563720" y="5244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563720" y="504972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563720" y="4849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563720" y="465444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563720" y="446076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64080" y="6424560"/>
              <a:ext cx="351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00720" y="638964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27720" y="6389640"/>
              <a:ext cx="108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83440" y="638964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324480" y="5724360"/>
            <a:ext cx="695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phyxia or drown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 0.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32040" y="5883120"/>
            <a:ext cx="388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MS UI Gothic"/>
              </a:rPr>
              <a:t>Leg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 33.8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40320" y="5460840"/>
            <a:ext cx="54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ow back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 9.1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9520" y="5127480"/>
            <a:ext cx="544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bdomen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 2.3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5045040"/>
            <a:ext cx="38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MS UI Gothic"/>
              </a:rPr>
              <a:t>Back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 0.8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49320" y="5218200"/>
            <a:ext cx="357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MS UI Gothic"/>
              </a:rPr>
              <a:t>Arm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 9.9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8520" y="5022720"/>
            <a:ext cx="416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MS UI Gothic"/>
              </a:rPr>
              <a:t>Chest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 9.7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29160" y="4676760"/>
            <a:ext cx="390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MS UI Gothic"/>
              </a:rPr>
              <a:t>Neck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 2.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52200" y="484668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MS UI Gothic"/>
              </a:rPr>
              <a:t>Face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 3.4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77760" y="4551480"/>
            <a:ext cx="44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MS UI Gothic"/>
              </a:rPr>
              <a:t>Head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, 28.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97480" y="5918040"/>
            <a:ext cx="388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MS UI Gothic"/>
              </a:rPr>
              <a:t>Leg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 33.2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97840" y="5473800"/>
            <a:ext cx="58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ow back,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11.6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77320" y="5189400"/>
            <a:ext cx="544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bdomen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 0.8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76960" y="5057640"/>
            <a:ext cx="38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MS UI Gothic"/>
              </a:rPr>
              <a:t>Back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 1.3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97120" y="5113440"/>
            <a:ext cx="399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MS UI Gothic"/>
              </a:rPr>
              <a:t>Arm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 20.4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14760" y="4876920"/>
            <a:ext cx="416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MS UI Gothic"/>
              </a:rPr>
              <a:t>Chest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 3.9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15120" y="4773600"/>
            <a:ext cx="390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MS UI Gothic"/>
              </a:rPr>
              <a:t>Neck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 6.7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14400" y="464832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MS UI Gothic"/>
              </a:rPr>
              <a:t>Face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 6.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7400" y="4454640"/>
            <a:ext cx="44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MS UI Gothic"/>
              </a:rPr>
              <a:t>Head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, 16.1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46720" y="6404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2160" y="620244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12160" y="60087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2160" y="581508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2160" y="561348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2160" y="541800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2160" y="522432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12160" y="503064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12160" y="482904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12160" y="463392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75440" y="4440240"/>
            <a:ext cx="19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4160" y="6467400"/>
            <a:ext cx="85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MS UI Gothic"/>
              </a:rPr>
              <a:t>Severe disabiliti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03880" y="646740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MS UI Gothic"/>
              </a:rPr>
              <a:t>Ot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0600" y="6483240"/>
            <a:ext cx="24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1,19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31840" y="6486480"/>
            <a:ext cx="244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5,86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47840" y="3613320"/>
            <a:ext cx="51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MS UI Gothic"/>
              </a:rPr>
              <a:t>Rates of main sites of injury by disability (Micro minivans, etc.)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51760" y="5724360"/>
            <a:ext cx="743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phyxia or drown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, 0.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6308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 ITARDA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80000" y="44280"/>
            <a:ext cx="352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formal document N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GRSP-45-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45th GRSP, 25-29 May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genda item 4(b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3:56:07Z</dcterms:created>
  <dc:creator>行政情報システム室</dc:creator>
  <dc:description/>
  <dc:language>en-US</dc:language>
  <cp:lastModifiedBy>Gianotti</cp:lastModifiedBy>
  <dcterms:modified xsi:type="dcterms:W3CDTF">2009-05-29T11:57:52Z</dcterms:modified>
  <cp:revision>33</cp:revision>
  <dc:subject/>
  <dc:title>スライド 1</dc:title>
</cp:coreProperties>
</file>