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BAE-124E-4764-8C11-93719141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269-D140-4A41-8749-7A8338D7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85D-867F-4F63-A979-B6075BDC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BB4-09CF-41E4-A788-39C8AF85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A1B-EA6E-4017-9F6C-CE7D2466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D39-1A7C-47D2-B517-BFEE6779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651-AAD8-4CBB-98D7-857852E7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EE6-0DBD-4A27-BBE7-F7447755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457-A77A-4077-9D46-0151027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1CE-C77C-4BB6-BCF6-01E4B62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90B-AB0A-4556-ACD8-398BF11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1FB-52CB-49CE-B981-A3A03F3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035-D603-4739-B69E-11C613CB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th GRSP Ses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report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Group on C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CASTA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5000" y="380520"/>
            <a:ext cx="38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formal document 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SP-45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45th GRSP, 25-29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5(a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600200"/>
          <a:ext cx="9144000" cy="52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raft matrix of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46080"/>
          <a:ext cx="8351640" cy="4891320"/>
        </p:xfrm>
        <a:graphic>
          <a:graphicData uri="http://schemas.openxmlformats.org/drawingml/2006/table">
            <a:tbl>
              <a:tblPr/>
              <a:tblGrid>
                <a:gridCol w="1820880"/>
                <a:gridCol w="1519200"/>
                <a:gridCol w="1671480"/>
                <a:gridCol w="1670040"/>
                <a:gridCol w="16700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+ C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5c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95cf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-105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or 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+ 1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-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9280" y="32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964720" y="3284280"/>
            <a:ext cx="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ward Facing CRS with support leg to be included in “univers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standard interface between vehicle floor and support leg contac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ing vehicle floor &amp; support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O/TC22/SC12 works on this issue (proposal in Ju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um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series  not Qs for dynam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geometric dummies for siz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8800" y="2790720"/>
            <a:ext cx="40575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ynamic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nt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 we have to change the puls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nal decision to be done on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ter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ple approach in a first st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ision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eep as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ision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ront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o change the pul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34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ter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Group has review all existing methods to determine the one to be re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2492280"/>
            <a:ext cx="4355640" cy="3218040"/>
            <a:chOff x="0" y="2492280"/>
            <a:chExt cx="4355640" cy="3218040"/>
          </a:xfrm>
        </p:grpSpPr>
        <p:sp>
          <p:nvSpPr>
            <p:cNvPr id="81" name=""/>
            <p:cNvSpPr/>
            <p:nvPr/>
          </p:nvSpPr>
          <p:spPr>
            <a:xfrm>
              <a:off x="0" y="2492280"/>
              <a:ext cx="43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ustralian Standard AS/NZ 1754 &amp; 3629.1 - 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026000" y="3284280"/>
              <a:ext cx="202248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155920"/>
              <a:ext cx="435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Fixed Door; P3 Dum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32 km/h ; Pulse 14 – 20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59280" y="2492280"/>
            <a:ext cx="3743280" cy="3400560"/>
            <a:chOff x="4859280" y="2492280"/>
            <a:chExt cx="3743280" cy="3400560"/>
          </a:xfrm>
        </p:grpSpPr>
        <p:sp>
          <p:nvSpPr>
            <p:cNvPr id="85" name=""/>
            <p:cNvSpPr/>
            <p:nvPr/>
          </p:nvSpPr>
          <p:spPr>
            <a:xfrm>
              <a:off x="4859280" y="2492280"/>
              <a:ext cx="36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Arial"/>
                </a:rPr>
                <a:t>ISO  - 2008</a:t>
              </a:r>
              <a:r>
                <a:rPr b="1" lang="fr-FR" sz="1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219640" y="3284280"/>
              <a:ext cx="2952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30560" y="5155920"/>
              <a:ext cx="3672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Moving  Door; Q3 Dum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24-26 km/h ;  , Door angular velocity corridors for RF and FF sea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68360" y="701640"/>
            <a:ext cx="3816360" cy="2961360"/>
            <a:chOff x="468360" y="701640"/>
            <a:chExt cx="3816360" cy="2961360"/>
          </a:xfrm>
        </p:grpSpPr>
        <p:sp>
          <p:nvSpPr>
            <p:cNvPr id="89" name=""/>
            <p:cNvSpPr/>
            <p:nvPr/>
          </p:nvSpPr>
          <p:spPr>
            <a:xfrm>
              <a:off x="613080" y="701640"/>
              <a:ext cx="36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NHTSA Resear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akata linear side impact test 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360" y="3108600"/>
              <a:ext cx="3745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Moving sled into fixed impactor; Hybrid III 3y &amp; Qs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32 km/h ; Door Velocity 25 km/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260720" y="1278000"/>
              <a:ext cx="2171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859280" y="2065320"/>
            <a:ext cx="3816360" cy="3024360"/>
            <a:chOff x="4859280" y="2065320"/>
            <a:chExt cx="3816360" cy="3024360"/>
          </a:xfrm>
        </p:grpSpPr>
        <p:sp>
          <p:nvSpPr>
            <p:cNvPr id="93" name=""/>
            <p:cNvSpPr/>
            <p:nvPr/>
          </p:nvSpPr>
          <p:spPr>
            <a:xfrm>
              <a:off x="4859280" y="2065320"/>
              <a:ext cx="367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99"/>
                  </a:solidFill>
                  <a:latin typeface="Arial"/>
                </a:rPr>
                <a:t>BRITAX – ADA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5508720" y="2496960"/>
              <a:ext cx="201924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003640" y="4535280"/>
              <a:ext cx="3672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Fixed Door 80° ; Q3 Dumm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 29 km/h ; Pulse 15 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9640" y="3687840"/>
            <a:ext cx="3960360" cy="2994120"/>
            <a:chOff x="539640" y="3687840"/>
            <a:chExt cx="3960360" cy="2994120"/>
          </a:xfrm>
        </p:grpSpPr>
        <p:grpSp>
          <p:nvGrpSpPr>
            <p:cNvPr id="97" name=""/>
            <p:cNvGrpSpPr/>
            <p:nvPr/>
          </p:nvGrpSpPr>
          <p:grpSpPr>
            <a:xfrm>
              <a:off x="539640" y="3687840"/>
              <a:ext cx="3960360" cy="2994120"/>
              <a:chOff x="539640" y="3687840"/>
              <a:chExt cx="3960360" cy="2994120"/>
            </a:xfrm>
          </p:grpSpPr>
          <p:sp>
            <p:nvSpPr>
              <p:cNvPr id="98" name=""/>
              <p:cNvSpPr/>
              <p:nvPr/>
            </p:nvSpPr>
            <p:spPr>
              <a:xfrm>
                <a:off x="539640" y="3687840"/>
                <a:ext cx="396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ADAC Procedure within EU Consumer tes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9640" y="6127560"/>
                <a:ext cx="39603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0000"/>
                    </a:solidFill>
                    <a:latin typeface="Arial"/>
                  </a:rPr>
                  <a:t>Opel Astra Body 80°; Fixed Door; Q0 – Q6 and P10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1200" spc="-1" strike="noStrike">
                    <a:solidFill>
                      <a:srgbClr val="ff0000"/>
                    </a:solidFill>
                    <a:latin typeface="Arial"/>
                  </a:rPr>
                  <a:t>V 28 km/h ; Pulse 18 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239840" y="4171680"/>
              <a:ext cx="2644200" cy="168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ter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Group has consider first methods delivering required energy level 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oting energy absorption in the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luding measurable perform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by ISO/TC22/SC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ternativ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provide essential input parameters only of a CRS side impact t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Lateral impact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8839"/>
          <a:stretch/>
        </p:blipFill>
        <p:spPr>
          <a:xfrm>
            <a:off x="395280" y="1576440"/>
            <a:ext cx="82803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erms of Reference - Approved 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ormal group shall consider the development of a new regulation for “Restraining devices for child occupants of power-driven vehicles” for consideration by GR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s of the discussion will be informal documents No. GRSP-42-2 and GRSP-42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ep by step approach shall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1: Develop definitions, performance criteria and test methods for ISOFIX Integral “Universal” C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ts work, the informal group will take into consideration amongst others the technical expertise of EEVC WG18, EEVC WG12, ISO TC22/SC12, NPACS as well as the results of the discussions held in the informal group and at GR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the informal group shall develop complementary test methods and propose alternative judge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rget completion date for the informal group shall be the forty-sixth session of GRSP (December 2009) for this first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pu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° rotation of the test bench on ECE R44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door panel on the stopping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Isofix ancho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E R44 rear impact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intrusion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operability with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level in Isofix ancho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efinition of a maximum permissible load level on current ECE R14 Isofix anch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weight / 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 proposal to reach more flexibility in the application of ISOFIX child restraint could be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(Classification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A definition of a total weight for the couple [Child + CR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宋体"/>
              </a:rPr>
              <a:t>A permissible weight of the child is then depending on child restraint system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: Isofix “universal” integral C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based on standing height and maximum permissible weight (Child + C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 series dummies + special dummies for s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ACS test bench with common centr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front, side and rear impact test method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S with support leg qualified as “universal” if interface between floor and support leg defined by 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af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1 April 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RNING THE ADOPTION OF UNIFORM TECHNICAL PRESCRI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WHEELED VEHICLES, EQUIPMENT AND PARTS WHICH CAN BE 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BE USED ON WHEELED VEHICLES AND THE CONDITIONS FOR RECIPROCAL RECOGNITION OF APPROVALS GRANTED ON THE BASIS OF THESE PRESCRIPTIONS 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ulation No.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FORM PROVISIONS CONCERNING THE APPROVAL OF CHILD RESTRAINT SYSTEM USED ONBOARD OF MOTOR VEHIC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623200"/>
            <a:ext cx="8424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540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gulation applie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OFIX Universal Integ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restraint systems for child occupants of power driven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anuary 2008 – OIC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pril 2008 – CLEPA –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y 2008 – SMMT –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une 2008 – CCF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ptember 2008 – BMVIT –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2008 – ACEA –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vember – BN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January – BASt – K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rch 2009 – OICA –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pril 2009 – Test Achat – BRUX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 of issues &amp;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bench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R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ie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 / Misus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Productio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with vehicl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omfort and health harmlessnes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907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bench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R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mie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test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ling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 / Misus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Production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with vehicl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omfort and health harmlessness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or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esent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definitions, performance criteria and test methods for ISOFIX Integral “Universal” C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with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est be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est bench will be based on NPACS bench with Isofix and belt anchorages having same the centr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for a dash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 cushion technical characteristics to be defined based on NPACS 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bench ori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est bench – 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Restraint on the bench?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t defined up to now for 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 positions of adult seat belt anchorages versus Isofix  anchorages positions.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be validated in phase 2 for non integral ISOFIX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fix anchorages - location of 3rd alternative point?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t defined up to now for 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o solution short term (EEVC WG18 and Swedish research in progress) link with ECE R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stature and maximum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based on availability of dum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sofix Integral “Universal” CRS limited by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(Interoperability with vehicle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um dynamic load sustainable by vehicles anch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ximum space offered by Isofix f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18:53Z</dcterms:created>
  <dc:creator>castaing</dc:creator>
  <dc:description/>
  <dc:language>en-US</dc:language>
  <cp:lastModifiedBy>Gianotti</cp:lastModifiedBy>
  <dcterms:modified xsi:type="dcterms:W3CDTF">2009-05-28T17:20:00Z</dcterms:modified>
  <cp:revision>21</cp:revision>
  <dc:subject/>
  <dc:title>Establishing a  New European Regulation for Child Restraint Systems</dc:title>
</cp:coreProperties>
</file>