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7000-F27E-4349-9AA2-D36F205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610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6972-860A-448C-A29B-48847A6A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25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9BBF-2337-4D0A-AED3-A4F0DF1E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4124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108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4124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108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30B2-2E43-4D60-AE5C-878C627E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5367-69FE-4DEB-BB18-60B2E93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25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610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25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4124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1080" y="11426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4124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1080" y="3610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035B-B924-467D-9E40-E4C51D66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5630-63AE-4E1D-9C2C-0BFFCFB5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B1AE-2A88-447C-8C3C-4F3DB414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271B-C957-489E-84EB-97DC81D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58DE-060E-43EB-B160-E6A3041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2560" y="3610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0124-CEE9-478B-9EB8-237FCC82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2560" y="11426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610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B4CA-1CD5-4744-BC41-2CAA891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84320" indent="-2062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764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764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7640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 rot="16200000">
            <a:off x="57960" y="5479200"/>
            <a:ext cx="3952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9BEDB344-CDE2-4EB6-AD52-1CAE0534D0F3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 rot="16200000">
            <a:off x="-426960" y="357372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erte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 rot="16200000">
            <a:off x="-137880" y="4794120"/>
            <a:ext cx="787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7. May 20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6160" y="333360"/>
            <a:ext cx="849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E-R100 – electric 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6160" y="6308640"/>
            <a:ext cx="792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. GRSP – draft proposal by E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324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10704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620200" y="44280"/>
            <a:ext cx="1228680" cy="817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10704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0324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201600" algn="ctr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233640" algn="ctr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64960" algn="ctr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355680" algn="ctr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355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355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4520" y="1628640"/>
            <a:ext cx="9288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Proposal ECE-R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against electric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iko Merten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irman of GRSP inf. group on electric safety (EL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. document GRSP - 45 -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16840" y="333000"/>
            <a:ext cx="38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formal document 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SP-45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45th GRSP, 25-29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item 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ild 5" descr=""/>
          <p:cNvPicPr/>
          <p:nvPr/>
        </p:nvPicPr>
        <p:blipFill>
          <a:blip r:embed="rId1"/>
          <a:stretch/>
        </p:blipFill>
        <p:spPr>
          <a:xfrm>
            <a:off x="2576520" y="1844640"/>
            <a:ext cx="48736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32B4-ED6E-40CF-B210-826C5342EB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49720" y="2214720"/>
            <a:ext cx="4656240" cy="2844360"/>
          </a:xfrm>
          <a:prstGeom prst="ellipse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E-R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520" y="2203560"/>
            <a:ext cx="4786560" cy="284436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, IEC, SA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91600" y="1364760"/>
            <a:ext cx="941724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0" algn="ctr">
              <a:spcBef>
                <a:spcPts val="1500"/>
              </a:spcBef>
              <a:buNone/>
              <a:tabLst>
                <a:tab algn="l" pos="0"/>
                <a:tab algn="l" pos="80640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e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41520" y="3228840"/>
            <a:ext cx="1427040" cy="142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216480" y="3211560"/>
            <a:ext cx="222264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305240" y="2492280"/>
          <a:ext cx="1363680" cy="230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492280"/>
                    <a:ext cx="136368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5A13-AD9D-4AEF-8821-17A2D6AE42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 of ECE-R 100 into EU type approv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ical safety had become an issue in draft of general safety re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commission intend to decide up to October 2009 about inclusion of ECE-R 100 (workplan January 20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ECE-R 100 is only related to battery electric veh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43D0-FC53-4439-A3A3-01E97B2B94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44520" y="1341360"/>
            <a:ext cx="936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/2006: German proposal to GRPE, Japan presents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/2007: GRPE is not longer respo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3/2007: WP.29 agreed responsibility to GR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/2007: USA propose amendment (FMVSS 3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/2007: WP.29 agreed new inf. group ELSA for GTR HFC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s of Canada, CLEPA, China, EU-Commission, France, Germany, ISO, Japan, Korea, OICA , Techn. Service, 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984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meetings (01/2008 – 04/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B471-122A-429A-B9EF-DBC6975F5F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15440" y="1341360"/>
            <a:ext cx="9217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8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s of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559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E-R100 (German proposal), attachments 101, 110 and 111 (Japan), FMVSS 305 (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559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odu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559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“: normal operation (type approv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559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-crash“: after defined crash (self certific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559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fra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559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term: ECE-R 100 (“in-use“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5590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-term: GTR HFCV (“in-use“ and “post-crash“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F685-36B4-4007-8209-1226A6BEEE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294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prescriptions apply to safety requirements with respect to t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lectric power tr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road vehicles of categorie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 and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ith a maximum design speed exceeding 25 km/h, equipped with one or more traction motor(s)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rated by electric po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not permanently connected to the grid and the high voltag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onents and systems which are galvanically connected to the high voltage b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electric power tr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0DF9-0736-4D74-B3AF-878FBDD06E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tage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 circuit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≤ 30 V AC (alternating current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 requirement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≤ 60 V DC (direct curr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B circuits 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30 and ≤ 1000 V AC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60 and ≤ 1500 V 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9C78-E70C-4C5D-B715-538F5B6C25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on against direct contact (e.g. test wire in passengers compart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on against indirect contact (e.g. enclo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resistance (e.g. 1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Ω/V for DC buses, 500 Ω/V for AC bu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on of rechargeable energy storage system against excessive current (e.g. fu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afety (e.g. avoid vehicle movement during charg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FE99-54AB-425F-AFC2-C5708B3ECC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al mar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ning symbo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color of voltage class B wires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-1164" t="-1168" r="-1164" b="-1168"/>
          <a:stretch/>
        </p:blipFill>
        <p:spPr>
          <a:xfrm>
            <a:off x="4448160" y="2133720"/>
            <a:ext cx="92232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448160" y="3141720"/>
          <a:ext cx="93348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8160" y="3141720"/>
                    <a:ext cx="933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718A-CF16-4CF5-98CF-2BCAE8AD86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6160" y="134136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option of ECE-R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activities on “post-cras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ion “in-use“ and “post-crash“ into GTR HFC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520C-1B87-4221-B98A-8588D578844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341360"/>
            <a:ext cx="8727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prob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responsi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699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of ECE-R 100 into EU type approv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stenstel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EC6D-67F4-4C43-B653-86B9AEB7A1E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TT.MM.JJ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5:11:57Z</dcterms:created>
  <dc:creator>emerteh</dc:creator>
  <dc:description/>
  <dc:language>en-US</dc:language>
  <cp:lastModifiedBy>Gianotti</cp:lastModifiedBy>
  <cp:lastPrinted>2002-03-25T14:20:52Z</cp:lastPrinted>
  <dcterms:modified xsi:type="dcterms:W3CDTF">2009-05-27T16:50:37Z</dcterms:modified>
  <cp:revision>49</cp:revision>
  <dc:subject/>
  <dc:title>Eine einzeilige Überschrift Arial Fett 28 pt</dc:title>
</cp:coreProperties>
</file>