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2ED-6CA2-41A4-963A-4A2F3AE6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AB6-34AC-48D1-B569-3E205C3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3FA-0C91-4574-BFF8-D3551CB6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B1C-4A95-4EF4-AED9-AE28CA6B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9F8-7A65-439F-9342-2DBE77AA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BA8-EB32-4C3F-9B18-906A94F7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6AB-6D8E-4370-9EE6-3D3F04B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4E9-0D24-4ABA-A5A3-528C0FBB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13E-8BF2-443D-BFB6-B113147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A70-66DE-44F2-82DE-F03D751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8A9-1621-4201-B874-E46E165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10C-B2AE-484E-94AF-C6BC04C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145D-E1B5-4F87-B99B-7D3BC2C832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108000" y="0"/>
            <a:ext cx="5076720" cy="398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mary of Proposed Amendment to gtr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5587200" y="1052640"/>
            <a:ext cx="250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ted by the expert from Jap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6"/>
          <p:cNvSpPr/>
          <p:nvPr/>
        </p:nvSpPr>
        <p:spPr>
          <a:xfrm>
            <a:off x="179280" y="692280"/>
            <a:ext cx="28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8"/>
          <p:cNvSpPr/>
          <p:nvPr/>
        </p:nvSpPr>
        <p:spPr>
          <a:xfrm>
            <a:off x="4572000" y="4071960"/>
            <a:ext cx="3786120" cy="1159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ble of Contents amended: A new section on the method of introducing the FlexPLI (effective date, period for alternative usage of RIGID/TRL, end date of such period) is inserted as A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6"/>
          <p:cNvSpPr/>
          <p:nvPr/>
        </p:nvSpPr>
        <p:spPr>
          <a:xfrm>
            <a:off x="401040" y="404640"/>
            <a:ext cx="300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Explanation to Interested Par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108000" y="998640"/>
            <a:ext cx="4164120" cy="567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51640" y="115920"/>
            <a:ext cx="331308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SP-45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45th GRSP, 25-29 May 2009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da item 4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250920" y="115920"/>
            <a:ext cx="36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4357800" y="2784600"/>
            <a:ext cx="3786120" cy="7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ble of Contents amended: A new paragraph on the FlexPLI certification test is inserted as B8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6"/>
          <p:cNvSpPr/>
          <p:nvPr/>
        </p:nvSpPr>
        <p:spPr>
          <a:xfrm>
            <a:off x="214200" y="3573360"/>
            <a:ext cx="37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8"/>
          <p:cNvSpPr/>
          <p:nvPr/>
        </p:nvSpPr>
        <p:spPr>
          <a:xfrm>
            <a:off x="4429080" y="5500800"/>
            <a:ext cx="3786120" cy="1159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amble amended: The statement that this gtr also includes the FlexPLI requirements since the evaluation on FlexPLI was finalised by the majority of the TEG members in [2009] is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163440" y="457200"/>
            <a:ext cx="404820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0924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テキスト ボックス 6"/>
          <p:cNvSpPr/>
          <p:nvPr/>
        </p:nvSpPr>
        <p:spPr>
          <a:xfrm>
            <a:off x="214200" y="7128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6"/>
          <p:cNvSpPr/>
          <p:nvPr/>
        </p:nvSpPr>
        <p:spPr>
          <a:xfrm>
            <a:off x="214200" y="378612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8"/>
          <p:cNvSpPr/>
          <p:nvPr/>
        </p:nvSpPr>
        <p:spPr>
          <a:xfrm>
            <a:off x="4357800" y="2357280"/>
            <a:ext cx="3786120" cy="1159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amble amended: The statement that the same test procedures for high bumper vehicles (using the upper legform impactor as an alternative, etc.) can be applied to testing using the FlexPLI is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8"/>
          <p:cNvSpPr/>
          <p:nvPr/>
        </p:nvSpPr>
        <p:spPr>
          <a:xfrm>
            <a:off x="4357800" y="5500800"/>
            <a:ext cx="3786120" cy="1159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amble amended: The statement that this gtr also includes the FlexPLI requirements since the evaluation on FlexPLI was finalised by the majority of the TEG members in [2009] is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056120" cy="265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4024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テキスト ボックス 6"/>
          <p:cNvSpPr/>
          <p:nvPr/>
        </p:nvSpPr>
        <p:spPr>
          <a:xfrm>
            <a:off x="214200" y="71280"/>
            <a:ext cx="39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8"/>
          <p:cNvSpPr/>
          <p:nvPr/>
        </p:nvSpPr>
        <p:spPr>
          <a:xfrm>
            <a:off x="4786200" y="2619360"/>
            <a:ext cx="3786480" cy="520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amble amended: FlexPLI injury limits are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39760" y="493560"/>
            <a:ext cx="426096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テキスト ボックス 6"/>
          <p:cNvSpPr/>
          <p:nvPr/>
        </p:nvSpPr>
        <p:spPr>
          <a:xfrm>
            <a:off x="214200" y="7128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8"/>
          <p:cNvSpPr/>
          <p:nvPr/>
        </p:nvSpPr>
        <p:spPr>
          <a:xfrm>
            <a:off x="4500720" y="1571760"/>
            <a:ext cx="3786120" cy="7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amble amended: Descriptions on relaxations of the required FlexPLI injury limits are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6"/>
          <p:cNvSpPr/>
          <p:nvPr/>
        </p:nvSpPr>
        <p:spPr>
          <a:xfrm>
            <a:off x="179280" y="2492280"/>
            <a:ext cx="41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31-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8"/>
          <p:cNvSpPr/>
          <p:nvPr/>
        </p:nvSpPr>
        <p:spPr>
          <a:xfrm>
            <a:off x="4500720" y="3933720"/>
            <a:ext cx="3786120" cy="946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amble amended: Descriptions on the method of introducing the FlexPLI (effective date, period for alternative usage of RIGID/TRL, end date of such period) are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/>
          <a:stretch/>
        </p:blipFill>
        <p:spPr>
          <a:xfrm>
            <a:off x="282600" y="476280"/>
            <a:ext cx="4073400" cy="187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133344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3"/>
          <a:stretch/>
        </p:blipFill>
        <p:spPr>
          <a:xfrm>
            <a:off x="174600" y="3471840"/>
            <a:ext cx="4110120" cy="96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50920" y="4551480"/>
            <a:ext cx="396072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テキスト ボックス 6"/>
          <p:cNvSpPr/>
          <p:nvPr/>
        </p:nvSpPr>
        <p:spPr>
          <a:xfrm>
            <a:off x="214200" y="7128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8"/>
          <p:cNvSpPr/>
          <p:nvPr/>
        </p:nvSpPr>
        <p:spPr>
          <a:xfrm>
            <a:off x="4500720" y="2637000"/>
            <a:ext cx="3786120" cy="520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xt of the Regulation amended:  Descriptions on the required FlexPLI injury limits are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8"/>
          <p:cNvSpPr/>
          <p:nvPr/>
        </p:nvSpPr>
        <p:spPr>
          <a:xfrm>
            <a:off x="4500720" y="1214280"/>
            <a:ext cx="3786120" cy="946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xt of the Regulation amended: A description on the alternative usage of the current RIGID/TRL legform impactor and the FlexPLI is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152960" cy="3173760"/>
          </a:xfrm>
          <a:prstGeom prst="rect">
            <a:avLst/>
          </a:prstGeom>
          <a:ln w="0">
            <a:noFill/>
          </a:ln>
        </p:spPr>
      </p:pic>
      <p:sp>
        <p:nvSpPr>
          <p:cNvPr id="75" name="テキスト ボックス 6"/>
          <p:cNvSpPr/>
          <p:nvPr/>
        </p:nvSpPr>
        <p:spPr>
          <a:xfrm>
            <a:off x="179280" y="4145040"/>
            <a:ext cx="39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55-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8"/>
          <p:cNvSpPr/>
          <p:nvPr/>
        </p:nvSpPr>
        <p:spPr>
          <a:xfrm>
            <a:off x="4465800" y="5494320"/>
            <a:ext cx="3786120" cy="7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xt of the Regulation amended: Descriptions on the FlexPLI specifications and requirements are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2"/>
          <a:stretch/>
        </p:blipFill>
        <p:spPr>
          <a:xfrm>
            <a:off x="2592360" y="4502160"/>
            <a:ext cx="1116000" cy="36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3"/>
          <a:stretch/>
        </p:blipFill>
        <p:spPr>
          <a:xfrm>
            <a:off x="179280" y="5005440"/>
            <a:ext cx="40561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テキスト ボックス 6"/>
          <p:cNvSpPr/>
          <p:nvPr/>
        </p:nvSpPr>
        <p:spPr>
          <a:xfrm>
            <a:off x="214200" y="142920"/>
            <a:ext cx="39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71-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8"/>
          <p:cNvSpPr/>
          <p:nvPr/>
        </p:nvSpPr>
        <p:spPr>
          <a:xfrm>
            <a:off x="4457880" y="1682640"/>
            <a:ext cx="3786120" cy="1159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xt of the Regulation amended: Descriptions on the vehicle test procedures for FlexPLI (basically the same as those for RIGID/TRL, except that the impact height is changed) are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6"/>
          <p:cNvSpPr/>
          <p:nvPr/>
        </p:nvSpPr>
        <p:spPr>
          <a:xfrm>
            <a:off x="250920" y="314172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Brief descriptions of amendments, Page 79-82, 91-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8"/>
          <p:cNvSpPr/>
          <p:nvPr/>
        </p:nvSpPr>
        <p:spPr>
          <a:xfrm>
            <a:off x="4500720" y="5084640"/>
            <a:ext cx="3786120" cy="520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xt of the Regulation amended: Descriptions on the FlexPLI certification test are ad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4135320" cy="2208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108000" y="3789360"/>
            <a:ext cx="41958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1:21:17Z</dcterms:created>
  <dc:creator>JARI</dc:creator>
  <dc:description/>
  <dc:language>en-US</dc:language>
  <cp:lastModifiedBy>Gianotti</cp:lastModifiedBy>
  <dcterms:modified xsi:type="dcterms:W3CDTF">2009-05-20T09:57:20Z</dcterms:modified>
  <cp:revision>110</cp:revision>
  <dc:subject/>
  <dc:title>スライド 1</dc:title>
</cp:coreProperties>
</file>