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198-3566-4206-8408-B5053738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A23-4323-4618-BFDB-57ACA14F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EDE-7B1B-4813-B41B-0D284042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D29-D897-4554-A429-2F7FCD75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875-46C2-42E0-BAA2-22C667F3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763-D771-40E0-B6D9-011F99C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39B-9384-4724-AADA-72A55CFB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BC4-430A-41B9-B117-C571AD54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6C3-74F7-4DF4-B8B8-D3A3D35D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A22-F455-48D0-8D58-0D6F91DA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CF7-D9E4-41EB-BF79-A0E6E0DC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BC2-A908-4D19-809C-672C9B77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9280" y="62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131760" y="0"/>
              <a:ext cx="9012240" cy="546120"/>
              <a:chOff x="131760" y="0"/>
              <a:chExt cx="9012240" cy="546120"/>
            </a:xfrm>
          </p:grpSpPr>
          <p:sp>
            <p:nvSpPr>
              <p:cNvPr id="4" name=""/>
              <p:cNvSpPr/>
              <p:nvPr/>
            </p:nvSpPr>
            <p:spPr>
              <a:xfrm>
                <a:off x="412920" y="135000"/>
                <a:ext cx="8731080" cy="274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7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09680" y="135000"/>
                <a:ext cx="137880" cy="141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47560" y="0"/>
                <a:ext cx="13968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47560" y="135000"/>
                <a:ext cx="139680" cy="1411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74680" y="274680"/>
                <a:ext cx="13644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31760" y="136440"/>
                <a:ext cx="141120" cy="138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09680" y="271440"/>
                <a:ext cx="137880" cy="138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74680" y="409680"/>
                <a:ext cx="136440" cy="136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2050560" y="6453000"/>
            <a:ext cx="49690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33440" y="450720"/>
            <a:ext cx="1042920" cy="24156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394920" y="6453000"/>
            <a:ext cx="1368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7596000" y="6453000"/>
            <a:ext cx="1090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E479-6239-4F01-BD6B-63581153A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4"/>
          </p:nvPr>
        </p:nvSpPr>
        <p:spPr>
          <a:xfrm>
            <a:off x="826920" y="6381360"/>
            <a:ext cx="3384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87280" y="77760"/>
            <a:ext cx="3903840" cy="903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Q-Dummy Behaviours following used types of pul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formel Group on C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1/01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333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S-8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9520" y="2276640"/>
            <a:ext cx="76420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mentary tests to evolve all possible configura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FDB pulse (EuroNCAP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Full width pulse (USNCAP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tests (pulses) with CRS equipped with support leg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f possible, UTAC requests CRS from suppli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sts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765000"/>
            <a:ext cx="813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erformed 4 tests with two Q3 to test reproducibility and repeatability on dumm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tests are performed with standard ECE.R44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tests are performed with an average curve calculated from ECE.R94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3357720"/>
            <a:ext cx="344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Romer Duo Isofix,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tether, are used for 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S are tested two by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the reproduc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c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sts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317840" cy="287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00360" y="2852640"/>
            <a:ext cx="280836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2698920" cy="1798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19280" y="1989000"/>
            <a:ext cx="43164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2349360"/>
            <a:ext cx="1224000" cy="1440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10040" y="1268280"/>
            <a:ext cx="363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d specific sensor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forces on ISO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orages (3-axis sensor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880" y="488952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easured on Q-dumm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/Chest/Pelvis accel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er Neck/Lower Neck/Lumbar spine Forces and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dis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led Accel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8000" y="1703520"/>
            <a:ext cx="80978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ead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33760" y="3367080"/>
            <a:ext cx="5610240" cy="349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0920" y="765000"/>
            <a:ext cx="5545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0920" y="660240"/>
            <a:ext cx="561024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hest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33760" y="3367080"/>
            <a:ext cx="5610240" cy="3490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0920" y="765000"/>
            <a:ext cx="5545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85760" y="692280"/>
            <a:ext cx="56102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elvis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819440"/>
            <a:ext cx="80978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Upper Neck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4627440" cy="2879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16560" y="692280"/>
            <a:ext cx="4627440" cy="287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411280" y="3860640"/>
            <a:ext cx="4627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oads measured in RIGID Isofix Anchor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6234120" cy="320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4317840" cy="2878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21320" y="15192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L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080" y="141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S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3933720"/>
            <a:ext cx="50508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581360"/>
            <a:ext cx="50508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5229360"/>
            <a:ext cx="50508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5877000"/>
            <a:ext cx="50508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8840" y="1268280"/>
            <a:ext cx="38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f the four sensor g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nge value, regarding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result. Sensor is inves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SIXAXES (the suppl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227280" y="2637000"/>
            <a:ext cx="792360" cy="129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0:23:07Z</dcterms:created>
  <dc:creator>François MINNE</dc:creator>
  <dc:description/>
  <dc:language>en-US</dc:language>
  <cp:lastModifiedBy>Gianotti</cp:lastModifiedBy>
  <dcterms:modified xsi:type="dcterms:W3CDTF">2009-03-06T07:51:01Z</dcterms:modified>
  <cp:revision>14</cp:revision>
  <dc:subject/>
  <dc:title>Diapositive 1</dc:title>
</cp:coreProperties>
</file>