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A83A-F3A4-4DE7-9EFB-F10DAC7476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AFA-2C74-4E6E-A1AF-10768CC97E4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6E4D-9F9D-42D4-892E-A8DB6C26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920" y="405900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C039-E3E6-4A67-A65B-5D27C86E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928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6C93-2E9A-40F9-A96E-88B2228F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7304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480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092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7304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9480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0B6C-A9E6-455F-8BE2-E749CB7B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C991-9C4C-4893-B8DB-169B187F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B6C-993F-4715-9A28-FAC3CCE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D4D7-6766-40C3-8DC8-101D2DC7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7146-58A6-4156-AA8E-79396A9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AE65-72F1-4852-A482-BE936698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7705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F334-C084-4573-A7D7-A381D76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50E-0DC7-410F-9B6A-A2D61F4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248F2-D59C-45A3-87B2-F9FF315B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928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C3D-A561-48A8-9DE3-7B76297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D213-0198-41B5-8DE9-32FBA56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0920" y="405900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60B-9829-4134-ADFD-8BCF480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928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CC4-0B23-4A6A-A277-82EAC81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304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0" y="184464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5092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304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94800" y="4059000"/>
            <a:ext cx="27824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B4C8-AB35-49EF-A0C5-D53F896E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029D-DB4F-4631-997C-7412CF8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942C-10E3-47E4-B27F-5D80CF20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46F6-65E4-4F2A-A24E-5CFB3525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7705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6D11-3CDD-4CD7-86F0-A7AABEC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2AD6-33E9-4672-A75B-33D2739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9280" y="405900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459C-D9B7-4CC3-BAF4-EA1C5AC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9280" y="1844640"/>
            <a:ext cx="4217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4059000"/>
            <a:ext cx="86421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FFD5-6C15-44F0-B82A-BCA7FCB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70D-9A86-472A-AFDA-C4A77EF760A9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" name="Picture 16" descr="LogoStiwa"/>
          <p:cNvPicPr/>
          <p:nvPr/>
        </p:nvPicPr>
        <p:blipFill>
          <a:blip r:embed="rId2"/>
          <a:stretch/>
        </p:blipFill>
        <p:spPr>
          <a:xfrm>
            <a:off x="0" y="0"/>
            <a:ext cx="9144000" cy="826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LogoTest"/>
          <p:cNvPicPr/>
          <p:nvPr/>
        </p:nvPicPr>
        <p:blipFill>
          <a:blip r:embed="rId3"/>
          <a:stretch/>
        </p:blipFill>
        <p:spPr>
          <a:xfrm>
            <a:off x="8172360" y="907920"/>
            <a:ext cx="8128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61" name="Picture 16" descr="LogoStiwa"/>
          <p:cNvPicPr/>
          <p:nvPr/>
        </p:nvPicPr>
        <p:blipFill>
          <a:blip r:embed="rId2"/>
          <a:stretch/>
        </p:blipFill>
        <p:spPr>
          <a:xfrm>
            <a:off x="0" y="0"/>
            <a:ext cx="9144000" cy="82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LogoTest"/>
          <p:cNvPicPr/>
          <p:nvPr/>
        </p:nvPicPr>
        <p:blipFill>
          <a:blip r:embed="rId3"/>
          <a:stretch/>
        </p:blipFill>
        <p:spPr>
          <a:xfrm>
            <a:off x="8172360" y="907920"/>
            <a:ext cx="812880" cy="463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7C5A-5FBD-4B80-A0F4-B48C5AE2CCB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200" y="1844280"/>
            <a:ext cx="7634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Geometrical Dummies for Usability and Fitting Tes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29242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he Need for Standardised Dummies in the Child Restraint System Usability Tes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n behalf of ANEC, the consumer voice in standardis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LogoStiwa"/>
          <p:cNvPicPr/>
          <p:nvPr/>
        </p:nvPicPr>
        <p:blipFill>
          <a:blip r:embed="rId1"/>
          <a:stretch/>
        </p:blipFill>
        <p:spPr>
          <a:xfrm>
            <a:off x="0" y="0"/>
            <a:ext cx="9144000" cy="82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02800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981000"/>
            <a:ext cx="17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514"/>
                </a:solidFill>
                <a:latin typeface="Arial Unicode MS"/>
                <a:ea typeface="Arial Unicode MS"/>
              </a:rPr>
              <a:t>CRS-8-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11280" y="1484280"/>
          <a:ext cx="7297560" cy="5192640"/>
        </p:xfrm>
        <a:graphic>
          <a:graphicData uri="http://schemas.openxmlformats.org/drawingml/2006/table">
            <a:tbl>
              <a:tblPr/>
              <a:tblGrid>
                <a:gridCol w="807840"/>
                <a:gridCol w="2476440"/>
                <a:gridCol w="1003320"/>
                <a:gridCol w="1003320"/>
                <a:gridCol w="1003320"/>
                <a:gridCol w="1003320"/>
              </a:tblGrid>
              <a:tr h="244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y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 cm/12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mal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i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i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dd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[mm]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ner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ody heigh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8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tting heigh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ight [kg]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,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ea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ead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eck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un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stance horizontal shoulder joi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stance horizontal hip join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stance vertical shoulder joint hip join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adth shoulders bideltoid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adth ches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pth ches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aist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adth wais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ip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adth hi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25"/>
          <p:cNvSpPr/>
          <p:nvPr/>
        </p:nvSpPr>
        <p:spPr>
          <a:xfrm>
            <a:off x="684360" y="98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asurements and weights of the usability dummies (Kieler Kinder) 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Fußzeilenplatzhalter 126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7766280" cy="3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easurements and weights of the usability dummies (Kieler Kinder) II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5640" y="1341360"/>
          <a:ext cx="7251840" cy="5342040"/>
        </p:xfrm>
        <a:graphic>
          <a:graphicData uri="http://schemas.openxmlformats.org/drawingml/2006/table">
            <a:tbl>
              <a:tblPr/>
              <a:tblGrid>
                <a:gridCol w="762120"/>
                <a:gridCol w="2476440"/>
                <a:gridCol w="1003320"/>
                <a:gridCol w="1003320"/>
                <a:gridCol w="1003320"/>
                <a:gridCol w="1003320"/>
              </a:tblGrid>
              <a:tr h="395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y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g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 cm/12 yea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mal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i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i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ddl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514"/>
                      </a:solidFill>
                    </a:lnR>
                    <a:lnT w="5760">
                      <a:solidFill>
                        <a:srgbClr val="000514"/>
                      </a:solidFill>
                    </a:lnT>
                    <a:lnB w="5760">
                      <a:solidFill>
                        <a:srgbClr val="00051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[mm]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g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514"/>
                      </a:solidFill>
                    </a:lnR>
                    <a:lnT w="5760">
                      <a:solidFill>
                        <a:srgbClr val="00051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Upper leg 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wer leg 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igh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lf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wer leg circumference (min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r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Upper arm 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wer arm 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5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Upper arm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wer arm circumference (max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wer arm circumference (min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514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and circumfere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ttin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liteal heigh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uttock-popliteal-lengt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ip breadth sittin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8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Fußzeilenplatzhalter 128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umsplatzhalt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Fußzeilenplatzhalt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New Usability Dummies Dimens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133720"/>
          <a:ext cx="8026560" cy="3998880"/>
        </p:xfrm>
        <a:graphic>
          <a:graphicData uri="http://schemas.openxmlformats.org/drawingml/2006/table">
            <a:tbl>
              <a:tblPr/>
              <a:tblGrid>
                <a:gridCol w="3057840"/>
                <a:gridCol w="684000"/>
                <a:gridCol w="791280"/>
                <a:gridCol w="1134000"/>
                <a:gridCol w="735840"/>
                <a:gridCol w="718560"/>
                <a:gridCol w="690120"/>
                <a:gridCol w="216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PACS dummy 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hrildren real weight or siz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9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3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5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8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5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50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0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0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0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0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0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or ECE R44-04 weight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 low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0+ upp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I,III lower end,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0+ upp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, upp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I, upp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II, upper 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weight [kg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t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7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0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ating hei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5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7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63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ost of the geometrical dummies availab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tart of application in CRS testing to learn abou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In future influence on the rating but still tests with childre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Fußzeilenplatzhalter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ußzeilenplatzhalt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Grafik 3" descr="C6ZQ3014.JPG"/>
          <p:cNvPicPr/>
          <p:nvPr/>
        </p:nvPicPr>
        <p:blipFill>
          <a:blip r:embed="rId1"/>
          <a:stretch/>
        </p:blipFill>
        <p:spPr>
          <a:xfrm>
            <a:off x="2857680" y="142884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63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tiftung Warentest initiative in 2002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equest after presentation on a CRS test/ wrong belt cour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What is too far outsid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No suitable dummies availab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NO, TUV, Dekra specialised on dynamic test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radition of  consumer organisations to focus on ease of u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Fußzeilenplatzhalter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ußzeilenplatzhalt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ummies in use until recentl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ue to the lack of appropriate usability dummies, real children or crash test dummies have been us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hildren of different ages and sizes have been involved and annually recruited newl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Where necessary crash test dummies were add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he test set up with children demands for a problematic planning and  constitutes ethical problem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Until now mainly consumer groups and automobile associations have gained extensive experience in usability tests. ECE 44 performing labs usually lack such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63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Reasons for New Dummi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50% crash test dummies not sufficiently reflecting childre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bjectify ease of use test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Help for running continuous tests, comparable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omparison of existing d.ies revealed lack of suitable tool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Apparently new dummies needed not only for CRS tes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Fußzeilenplatzhalter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ußzeilenplatzhalt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Needed Dummy Siz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95% 13 kg (“12mo Baby dummy”, biofidelic in weigh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15/18 kg Toddler in 5 and 95 percentile, biofidelic also in weight, very important to assess group I (“3 years old”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95% child 25 kg, not biofidelic in weight, important intermediate for belt routing (“6 year old”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hild 150 cm („12 year old“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oloured indicators for correct / incorrect belt routing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63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Run of the Projec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ostly unusual work to develop tools for test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o-operation consumer groups and motoring clubs started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ETC European Test Consortium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Ease of use test with children giving new focu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Kiel University specialized on anthropometry, ergonomic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Commission and realization at Kiel University in 2003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evelopment and production of a prototype se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Later part of the NPACS work and EC funded project  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although not outlined in the beginn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Fußzeilenplatzhalter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63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From Prototype to Small Seri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864216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Kiel University not able to set up series produ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scussion with FTS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Alternatives in Europ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scussions with test partners, Consumer’s Union, US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NHTSA, University of Virginia, ISO wor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GESAC, USA, commissioned in 2005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Fußzeilenplatzhalter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ußzeilenplatzhalt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ummy Famil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Picture 4" descr="Kiel dummies"/>
          <p:cNvPicPr/>
          <p:nvPr/>
        </p:nvPicPr>
        <p:blipFill>
          <a:blip r:embed="rId1"/>
          <a:stretch/>
        </p:blipFill>
        <p:spPr>
          <a:xfrm>
            <a:off x="2700360" y="1916280"/>
            <a:ext cx="353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ußzeilenplatzhalt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al Group on CRS, BaSt, 21th January 2009, Henry Goerlitz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Child Size Comparis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15 kg   5%                                18 kg   95%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2" name="Picture 4" descr="collection_child2"/>
          <p:cNvPicPr/>
          <p:nvPr/>
        </p:nvPicPr>
        <p:blipFill>
          <a:blip r:embed="rId1"/>
          <a:srcRect l="17439" t="4371" r="43597" b="21839"/>
          <a:stretch/>
        </p:blipFill>
        <p:spPr>
          <a:xfrm>
            <a:off x="971640" y="2349360"/>
            <a:ext cx="2896920" cy="364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ollection_child2"/>
          <p:cNvPicPr/>
          <p:nvPr/>
        </p:nvPicPr>
        <p:blipFill>
          <a:blip r:embed="rId2"/>
          <a:srcRect l="17439" t="13105" r="43597" b="34948"/>
          <a:stretch/>
        </p:blipFill>
        <p:spPr>
          <a:xfrm>
            <a:off x="4356000" y="2349360"/>
            <a:ext cx="41022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3:07:17Z</dcterms:created>
  <dc:creator>Henry Görlitz</dc:creator>
  <dc:description/>
  <dc:language>en-US</dc:language>
  <cp:lastModifiedBy>Gianotti</cp:lastModifiedBy>
  <dcterms:modified xsi:type="dcterms:W3CDTF">2009-03-06T07:48:27Z</dcterms:modified>
  <cp:revision>135</cp:revision>
  <dc:subject/>
  <dc:title>Folie 1</dc:title>
</cp:coreProperties>
</file>