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73"/>
              </a:lnSpc>
              <a:spcAft>
                <a:spcPts val="964"/>
              </a:spcAft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73"/>
              </a:lnSpc>
              <a:spcAft>
                <a:spcPts val="964"/>
              </a:spcAft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304920" y="851040"/>
            <a:ext cx="852948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357120" y="6176880"/>
            <a:ext cx="36813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vener - Working Group Wi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R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461880" y="5610240"/>
            <a:ext cx="277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524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8172360" y="6194520"/>
            <a:ext cx="55080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Gerade Verbindung 20"/>
          <p:cNvSpPr/>
          <p:nvPr/>
        </p:nvSpPr>
        <p:spPr>
          <a:xfrm>
            <a:off x="309600" y="6095880"/>
            <a:ext cx="8529480" cy="0"/>
          </a:xfrm>
          <a:prstGeom prst="line">
            <a:avLst/>
          </a:prstGeom>
          <a:ln w="69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318960" y="6483240"/>
            <a:ext cx="3681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C6F10C8-4897-40DC-A4E3-BF2C07E1A4DA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/ S. Heine /  12.11.2009 /  WGWIN_Threshold_Winter_var2.pp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uppieren 13"/>
          <p:cNvGrpSpPr/>
          <p:nvPr/>
        </p:nvGrpSpPr>
        <p:grpSpPr>
          <a:xfrm>
            <a:off x="941400" y="1003320"/>
            <a:ext cx="6288120" cy="2627280"/>
            <a:chOff x="941400" y="1003320"/>
            <a:chExt cx="6288120" cy="2627280"/>
          </a:xfrm>
        </p:grpSpPr>
        <p:sp>
          <p:nvSpPr>
            <p:cNvPr id="43" name="Rechteck 10"/>
            <p:cNvSpPr/>
            <p:nvPr/>
          </p:nvSpPr>
          <p:spPr>
            <a:xfrm>
              <a:off x="941400" y="1003320"/>
              <a:ext cx="6288120" cy="1305000"/>
            </a:xfrm>
            <a:prstGeom prst="rect">
              <a:avLst/>
            </a:prstGeom>
            <a:solidFill>
              <a:srgbClr val="99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hteck 11"/>
            <p:cNvSpPr/>
            <p:nvPr/>
          </p:nvSpPr>
          <p:spPr>
            <a:xfrm>
              <a:off x="941400" y="2308320"/>
              <a:ext cx="6288120" cy="65556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hteck 12"/>
            <p:cNvSpPr/>
            <p:nvPr/>
          </p:nvSpPr>
          <p:spPr>
            <a:xfrm>
              <a:off x="941400" y="2963880"/>
              <a:ext cx="6288120" cy="66672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Diagramm 2" descr=""/>
          <p:cNvPicPr/>
          <p:nvPr/>
        </p:nvPicPr>
        <p:blipFill>
          <a:blip r:embed="rId1"/>
          <a:stretch/>
        </p:blipFill>
        <p:spPr>
          <a:xfrm>
            <a:off x="96840" y="835200"/>
            <a:ext cx="8566200" cy="5187600"/>
          </a:xfrm>
          <a:prstGeom prst="rect">
            <a:avLst/>
          </a:prstGeom>
          <a:ln w="0">
            <a:noFill/>
          </a:ln>
        </p:spPr>
      </p:pic>
      <p:sp>
        <p:nvSpPr>
          <p:cNvPr id="47" name="Textfeld 3"/>
          <p:cNvSpPr/>
          <p:nvPr/>
        </p:nvSpPr>
        <p:spPr>
          <a:xfrm>
            <a:off x="213840" y="54000"/>
            <a:ext cx="640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  ABS Braking on S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Results  - ADAC Winter Tire Test 2009 in 205/55 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Geschweifte Klammer rechts 4"/>
          <p:cNvSpPr/>
          <p:nvPr/>
        </p:nvSpPr>
        <p:spPr>
          <a:xfrm>
            <a:off x="8066160" y="1623960"/>
            <a:ext cx="276120" cy="1747800"/>
          </a:xfrm>
          <a:custGeom>
            <a:avLst/>
            <a:gdLst>
              <a:gd name="textAreaLeft" fmla="*/ 0 w 276120"/>
              <a:gd name="textAreaRight" fmla="*/ 99720 w 276120"/>
              <a:gd name="textAreaTop" fmla="*/ 7200 h 1747800"/>
              <a:gd name="textAreaBottom" fmla="*/ 174060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"/>
                  <a:pt x="10800" y="285"/>
                </a:cubicBezTo>
                <a:lnTo>
                  <a:pt x="10800" y="10515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3"/>
                  <a:pt x="10800" y="11085"/>
                </a:cubicBezTo>
                <a:lnTo>
                  <a:pt x="10800" y="21315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5"/>
          <p:cNvSpPr/>
          <p:nvPr/>
        </p:nvSpPr>
        <p:spPr>
          <a:xfrm>
            <a:off x="8337600" y="234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12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Geschweifte Klammer rechts 6"/>
          <p:cNvSpPr/>
          <p:nvPr/>
        </p:nvSpPr>
        <p:spPr>
          <a:xfrm>
            <a:off x="7209000" y="1641600"/>
            <a:ext cx="385560" cy="828720"/>
          </a:xfrm>
          <a:custGeom>
            <a:avLst/>
            <a:gdLst>
              <a:gd name="textAreaLeft" fmla="*/ 0 w 385560"/>
              <a:gd name="textAreaRight" fmla="*/ 139320 w 385560"/>
              <a:gd name="textAreaTop" fmla="*/ 10080 h 828720"/>
              <a:gd name="textAreaBottom" fmla="*/ 8186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1"/>
                  <a:pt x="10800" y="842"/>
                </a:cubicBezTo>
                <a:lnTo>
                  <a:pt x="10800" y="10267"/>
                </a:lnTo>
                <a:cubicBezTo>
                  <a:pt x="10800" y="10688"/>
                  <a:pt x="16200" y="11109"/>
                  <a:pt x="21600" y="11109"/>
                </a:cubicBezTo>
                <a:cubicBezTo>
                  <a:pt x="16200" y="11109"/>
                  <a:pt x="10800" y="11530"/>
                  <a:pt x="10800" y="11951"/>
                </a:cubicBezTo>
                <a:lnTo>
                  <a:pt x="10800" y="20758"/>
                </a:lnTo>
                <a:cubicBezTo>
                  <a:pt x="10800" y="21179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7"/>
          <p:cNvSpPr/>
          <p:nvPr/>
        </p:nvSpPr>
        <p:spPr>
          <a:xfrm>
            <a:off x="7569360" y="19098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6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9"/>
          <p:cNvSpPr/>
          <p:nvPr/>
        </p:nvSpPr>
        <p:spPr>
          <a:xfrm flipH="1" flipV="1">
            <a:off x="7029360" y="33717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10"/>
          <p:cNvSpPr/>
          <p:nvPr/>
        </p:nvSpPr>
        <p:spPr>
          <a:xfrm flipH="1" flipV="1">
            <a:off x="7132680" y="16282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1"/>
          <p:cNvSpPr/>
          <p:nvPr/>
        </p:nvSpPr>
        <p:spPr>
          <a:xfrm>
            <a:off x="7338240" y="5738760"/>
            <a:ext cx="146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= recalculate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14"/>
          <p:cNvSpPr/>
          <p:nvPr/>
        </p:nvSpPr>
        <p:spPr>
          <a:xfrm>
            <a:off x="946080" y="2367000"/>
            <a:ext cx="6280200" cy="142920"/>
          </a:xfrm>
          <a:prstGeom prst="rect">
            <a:avLst/>
          </a:prstGeom>
          <a:solidFill>
            <a:srgbClr val="bbe0e3">
              <a:alpha val="4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hreshold area for Snowflake (~ 107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5"/>
          <p:cNvSpPr/>
          <p:nvPr/>
        </p:nvSpPr>
        <p:spPr>
          <a:xfrm rot="16200000">
            <a:off x="-1045800" y="311004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ow braking ABS [ADAC grad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9440" y="228600"/>
            <a:ext cx="1785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STD-03-09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9:43:46Z</dcterms:created>
  <dc:creator>BOV Aktiengesellschaft</dc:creator>
  <dc:description/>
  <dc:language>en-US</dc:language>
  <cp:lastModifiedBy>Knowles</cp:lastModifiedBy>
  <dcterms:modified xsi:type="dcterms:W3CDTF">2009-12-01T16:36:49Z</dcterms:modified>
  <cp:revision>193</cp:revision>
  <dc:subject/>
  <dc:title>Continental PowerPoint Vorlage Far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6030243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Documents for GRB/GRRF tyre group.</vt:lpwstr>
  </property>
  <property fmtid="{D5CDD505-2E9C-101B-9397-08002B2CF9AE}" pid="6" name="_NewReviewCycle">
    <vt:lpwstr/>
  </property>
</Properties>
</file>