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508-65DB-42F0-B852-84FF2755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4372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D02-F706-4667-A465-EE3D664C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5DE-302B-4610-858A-2AE4DB79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392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3728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392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3728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F8E-FEE5-4B89-9295-38338EC0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EA3A-825B-4A93-9906-C177C828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EC5A-F9B5-4CD7-B482-6FAA7F00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ADB2-1895-4C17-B299-753BD1D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86F5-3E20-40C8-9412-6588EED6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47A9-B7C3-47E6-A181-EDF02832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50720" y="404640"/>
            <a:ext cx="77929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90DB-5EF0-4BBA-A412-2EFC9673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240E-CAA7-4C19-82DC-ED99208F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CCB-C30F-4F7B-9BA8-15D21940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9867-4066-49B3-8235-9719DF8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0E5A-B55E-4D12-9059-47C89F02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50920" y="384372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AA48-A8E5-4A1B-8207-353EBF8E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ABA-8BC1-4B50-AED1-84CB4E29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392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728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5092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392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728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7CC4-6712-4234-931F-13229FD2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FD0-D073-45E0-915D-E4A6F90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B0C-7EED-434C-841D-DF092C5A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2C2-A907-404B-A8C6-3883ED4B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50720" y="404640"/>
            <a:ext cx="77929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4C0-6933-4819-9171-EBD2040B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487-5F29-4A83-998F-B5994A9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D38-D62C-4B28-9D9E-275C9EEC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B9B-4A21-44B8-A546-5BB9EA5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404640"/>
            <a:ext cx="8542080" cy="1052280"/>
            <a:chOff x="179280" y="40464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469800" y="51264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2480" y="51264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3640" y="93492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63360" y="93492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79280" y="86184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4320" y="40464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95000" y="119520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68000" y="6251400"/>
            <a:ext cx="165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123640" y="6251400"/>
            <a:ext cx="525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451640" y="6243480"/>
            <a:ext cx="149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B436-B54C-44F0-8D5D-6690A2A4D06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250560" y="6222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2339640" y="6248520"/>
            <a:ext cx="504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5247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329E-92F6-426A-A408-55CC4ABA1B51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Informal Joint Working Group of GRB and GRRF – 16/17 Nov 2009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ments of ISO/TC31/WG6 on informal document GRB-50-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549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Tahoma"/>
              </a:rPr>
              <a:t>STD 03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135C-C527-4A11-973C-590656B3E36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Descrip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0444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lly, P and Q are computed from the following equation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is the inertia of rotating m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 is the radius of the rotating bo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number of revolutions at the end of recor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S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nd p are not defined; we assumed they st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 respectively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42920" y="2637000"/>
          <a:ext cx="35290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7000"/>
                    <a:ext cx="3529080" cy="104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435640" y="2637000"/>
          <a:ext cx="180036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637000"/>
                    <a:ext cx="1800360" cy="950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D81-6686-44BB-89AE-15D2DD3FDB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870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was evaluated through real measurements and tentative resolution of the implicit system of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measurement were made on 2 different machines (one designed for rolling resistance measurement and an other one) with the same physical tyre: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helin 195/65R15 Energy 3A 91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975-0978-4FCD-B35F-ECE7D2737A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eceleration obtained is shown below (tyre applied on the drum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asurement was done until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otal deceleration time, to check the result obta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400720" cy="297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A05-6F09-470A-81A4-357EDFC9BE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eleration was made from 84.3 km/h to zero speed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 interpretation was made between 80 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60 km/h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rimental value for t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as 377 s (from 80 km/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egments of record w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4797360"/>
            <a:ext cx="6480000" cy="131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F67-82DD-400A-814B-3B28CB1E47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nce no specification is given on the way to solve the implicit system of two equation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was assumed it has to be done numerically the commonly accessible tool Microsoft Excel solver wa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 cosine is a periodic functio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olutions exis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stance these 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for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d B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no indication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for the cho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050920" y="2276640"/>
          <a:ext cx="511344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76640"/>
                    <a:ext cx="5113440" cy="9968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148360" y="4581360"/>
            <a:ext cx="273672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607-0B1D-4475-BAEA-3C448251DC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 interpretation was continued to compute the resistance force (in N)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following values were obtained for the 3 preceding solutions to the system at 70 km/h (19.44 m/s) 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se values are very different and none of them has the correct order of magnitude (about 40 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4753080" cy="14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F00-5CA5-4CB6-839A-12E6801D60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second attempt was done, using the equations published in SAE report 2009-01-0072, for the same speed of 70 km/h (19.44 m/s) 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se values are not the same as the previous ones. They are still very different and none of them has the correct order of magnitude (about 40 N for F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5616720" cy="15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0CC-861E-4B12-84CC-214836AA8B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398240"/>
            <a:ext cx="8704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ttempt was carried out to determine tyre rolling resistance from the measured data through a classic numerical resolution method (second derivation of distance-time measurement results), adapted to the very low sampling rate used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hole deceleration curve was used to get the best possible accuracy and the rolling resistance coefficient was computed for a speed of 80 km/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A is the one specifically designed for rolling resistance measurement and B is the other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measurements were made, 4 on machine A et 6 on machine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2B6-FE6A-4C7E-8AE8-0BEE709678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results are as follows (forces expressed in 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06472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857-4BFF-4161-BC69-40C0A1ACCE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results were statistically analysed (in N/kN)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 a reference, the value measured on machine A with the usual deceleration method i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7.88 N/k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the average standard deviation i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0.05 N/k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417080" cy="30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210-144B-4805-A85A-A668892755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720" y="333360"/>
            <a:ext cx="779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99"/>
                </a:solidFill>
                <a:latin typeface="Tahoma"/>
              </a:rPr>
              <a:t>Scop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presentation deals with part D of informal document GRB-50-7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D is related to draft amendment to R117 Annex 6, test procedure for measuring rolling resistance. It proposes the addition of the following sentence to Paragraph 1, Note 2: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"The measurement of distance-time function and using in data processing second derivation of this function is preferable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justification is proposed with two main arguments, one on the existing measurement methods and one on the proposed new measurement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resentation proposes answers to both these argu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D2E-0190-41B5-88F2-3E3688225A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704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lusion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fter having tried to apply the proposed new method, the experts from ISO/TC31/WG6 on tyre rolling resistance measurement found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le and non realistic values for tyre rolling resistance were obtained with the proposed data interpretation process and commonly accessible resolution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use of the propo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y low sampling rate (1 time measurement per drum or tyre revolution) lead to an important decrease of measurement accuracy (between 2 and 8 tim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They recommend that the proposals made in Informal Document GRB-50-07 part D are not adopted in UN/ECE R11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F91-B6EA-4FEF-9915-69779C0CF9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 argume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"It is clear that the methods set in Regulation No.117 are not equivalent, so it is not indifferent, which method reference machine uses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 set in Regulation 117 was directly derived from the standard ISO 2858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im of this standard is to measure the force acting at the tyre/drum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this force cannot be measured directly, four measurement techniques are allowed to determine it in ISO 2858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 of the reaction force at the tyre spind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 of the torque input at the test dr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 of deceleration of the test drum and tyre assemb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 of the power input to the test dr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931-E63C-4CAC-994A-83D3490D67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3560" y="12938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628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9900"/>
                </a:solidFill>
                <a:uFillTx/>
                <a:latin typeface="Univers"/>
              </a:rPr>
              <a:t>The same phenomenon is measured, at different points of the testing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2840"/>
            <a:ext cx="7885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First argument - Rolling Resistance measurement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5632560"/>
            <a:ext cx="878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Univers"/>
              </a:rPr>
              <a:t>For each technique, the test results are converted to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Univers"/>
              </a:rPr>
              <a:t>the force acting at the tire/drum interface</a:t>
            </a:r>
            <a:r>
              <a:rPr b="1" lang="it-IT" sz="1800" spc="-1" strike="noStrike">
                <a:solidFill>
                  <a:srgbClr val="ff0000"/>
                </a:solidFill>
                <a:latin typeface="Univers"/>
              </a:rPr>
              <a:t>, which is the tyre rolling resistance.</a:t>
            </a:r>
            <a:r>
              <a:rPr b="0" lang="it-IT" sz="20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9960" y="2205000"/>
            <a:ext cx="8493120" cy="3180600"/>
            <a:chOff x="399960" y="2205000"/>
            <a:chExt cx="8493120" cy="3180600"/>
          </a:xfrm>
        </p:grpSpPr>
        <p:sp>
          <p:nvSpPr>
            <p:cNvPr id="112" name=""/>
            <p:cNvSpPr/>
            <p:nvPr/>
          </p:nvSpPr>
          <p:spPr>
            <a:xfrm>
              <a:off x="399960" y="4717080"/>
              <a:ext cx="307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Univers"/>
                </a:rPr>
                <a:t>Force technique: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Univers"/>
                </a:rPr>
                <a:t>the reaction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333399"/>
                  </a:solidFill>
                  <a:latin typeface="Univers"/>
                </a:rPr>
                <a:t>force measured at the tire spind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7040" y="2248200"/>
              <a:ext cx="298116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Univers"/>
                </a:rPr>
                <a:t>Torque technique: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Univers"/>
                </a:rPr>
                <a:t>the </a:t>
              </a:r>
              <a:r>
                <a:rPr b="1" lang="it-IT" sz="1400" spc="-1" strike="noStrike">
                  <a:solidFill>
                    <a:srgbClr val="333399"/>
                  </a:solidFill>
                  <a:latin typeface="Univers"/>
                </a:rPr>
                <a:t>torque input measured at the test dr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9960" y="2205000"/>
              <a:ext cx="354312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Univers"/>
                </a:rPr>
                <a:t>Power technique: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Univers"/>
                </a:rPr>
                <a:t>the </a:t>
              </a:r>
              <a:r>
                <a:rPr b="1" lang="it-IT" sz="1400" spc="-1" strike="noStrike">
                  <a:solidFill>
                    <a:srgbClr val="333399"/>
                  </a:solidFill>
                  <a:latin typeface="Univers"/>
                </a:rPr>
                <a:t>power input measurement to the test drum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56080" y="4798800"/>
              <a:ext cx="41846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Univers"/>
                </a:rPr>
                <a:t>Deceleration technique: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the measurement of</a:t>
              </a:r>
              <a:r>
                <a:rPr b="0" lang="it-IT" sz="1400" spc="-1" strike="noStrike">
                  <a:solidFill>
                    <a:srgbClr val="ff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333399"/>
                  </a:solidFill>
                  <a:latin typeface="Univers"/>
                </a:rPr>
                <a:t>deceleration of the test drum and tire assembly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33640" y="3506040"/>
              <a:ext cx="538200" cy="5655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16480" y="2897280"/>
              <a:ext cx="1657080" cy="1743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5760" y="3768120"/>
              <a:ext cx="166680" cy="957240"/>
            </a:xfrm>
            <a:prstGeom prst="downArrow">
              <a:avLst>
                <a:gd name="adj1" fmla="val 50000"/>
                <a:gd name="adj2" fmla="val 14357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05480" y="3943080"/>
              <a:ext cx="663480" cy="173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7920" y="3506040"/>
              <a:ext cx="496800" cy="52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53160" y="3679560"/>
              <a:ext cx="166680" cy="17496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79960" y="3594240"/>
              <a:ext cx="330120" cy="348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341960" y="3854160"/>
              <a:ext cx="149544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4341960" y="3594240"/>
              <a:ext cx="149544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1880" y="306396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Univers"/>
                </a:rPr>
                <a:t>Pow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46400" y="3799800"/>
              <a:ext cx="84240" cy="610560"/>
            </a:xfrm>
            <a:prstGeom prst="downArrow">
              <a:avLst>
                <a:gd name="adj1" fmla="val 50000"/>
                <a:gd name="adj2" fmla="val 18119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064760" y="3421080"/>
              <a:ext cx="497160" cy="522000"/>
            </a:xfrm>
            <a:custGeom>
              <a:avLst/>
              <a:gdLst>
                <a:gd name="textAreaLeft" fmla="*/ -360 w 497160"/>
                <a:gd name="textAreaRight" fmla="*/ 497160 w 4971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24" y="11198"/>
                  </a:moveTo>
                  <a:arcTo wR="-8585" hR="-8585" stAng="10640573" swAng="-10640573"/>
                  <a:lnTo>
                    <a:pt x="0" y="10800"/>
                  </a:lnTo>
                  <a:arcTo wR="10800" hR="10800" stAng="10800000" swAng="10640573"/>
                  <a:lnTo>
                    <a:pt x="24285" y="10174"/>
                  </a:lnTo>
                  <a:lnTo>
                    <a:pt x="20659" y="14154"/>
                  </a:lnTo>
                  <a:lnTo>
                    <a:pt x="16679" y="10527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84480" y="3480840"/>
              <a:ext cx="6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</a:t>
              </a:r>
              <a:r>
                <a:rPr b="1" lang="it-IT" sz="900" spc="-1" strike="noStrike">
                  <a:solidFill>
                    <a:srgbClr val="333399"/>
                  </a:solidFill>
                  <a:latin typeface="Univers"/>
                </a:rPr>
                <a:t>ti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99520" y="423504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</a:t>
              </a:r>
              <a:r>
                <a:rPr b="1" lang="it-IT" sz="900" spc="-1" strike="noStrike">
                  <a:solidFill>
                    <a:srgbClr val="333399"/>
                  </a:solidFill>
                  <a:latin typeface="Univers"/>
                </a:rPr>
                <a:t>dru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070000" y="4296960"/>
              <a:ext cx="939960" cy="46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86120" y="2787120"/>
              <a:ext cx="1177920" cy="69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13400" y="4573800"/>
              <a:ext cx="307800" cy="260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002280" y="2756520"/>
              <a:ext cx="446040" cy="35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564000" y="4869000"/>
            <a:ext cx="360360" cy="792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060640"/>
            <a:ext cx="871380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84F-EA16-4DA9-8D3A-E80009940B2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 argume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ults of these measurements are then interpreted to determine the force acting at the tyre/drum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surements and interpretations are all based on valid physical princi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SO/TC31/WG6 experts' experience and comparisons, these four ways of determining tyre rolling resistance are equally val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no public document known to the experts of ISO/TC31/WG6 demonstrates the contr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Conclusion: The experts of ISO/TC31/WG6 on tyre rolling resistance do not share the opinion  that the methods set in Regulation No.117 are not equival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C44-565A-44F8-839B-51F58C68E5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 argume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rk: From ISO/TC31/WG6 experts' experience and measurements, what is important to get a good measurement accuracy is not the choice of the measurement technique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machine monitoring and mainte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way of operating it and a good quality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lignment procedure between measurement machines if direct comparisons of absolute values are nee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00F-F9F2-4B73-ADA7-DA1FE208C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Second argument. Descrip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626840"/>
            <a:ext cx="8559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"This new metho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roposed in the document)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 may expand the ability to choose a standard effective method for tyre rolling resistance determination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thod, as described in ISO DIS 18164 Amdt 1 uses a deceleration measurement techniq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specificities lie 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ery low sampling rate (1 time measurement per drum or tyre revolution, versus several thousands in usual deceleration techniqu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y large evolution of speeds to compensate the low sampling rate and corresponding acquisition duration (90 to 70 km/h deceleration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pecific semi-analytic data interpretation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t it may be applied to tyre testing drum machines not specifically designed to measure rolling res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D56-E62C-44D1-979C-7943028BD6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Descrip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70408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pecific data interpretation method is not based on classic numerical second derivation of distance-time measurement results but on the assumption of a force-speed relation model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, Q are coeffici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  is the circumferential velocity of rotating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843280" y="4076640"/>
          <a:ext cx="280836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4076640"/>
                    <a:ext cx="2808360" cy="622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73080" y="227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024-BF0F-47FE-8A02-2AF4AD1A5E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Descrip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35216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bined with the application of the law of mechanics, this model leads to an implicit system of two equations to be solve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total deceleration time (the time from the beginning of first revolution to the zero speed)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 is the parameter determined by: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4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re time values corresponding to 4 segments of rec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227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79640" y="2708280"/>
          <a:ext cx="554364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5543640" cy="10508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300720" y="4869000"/>
          <a:ext cx="158436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1584360" cy="603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5DB-27AC-4D8F-9A8E-43801FE71A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8:57:23Z</dcterms:created>
  <dc:creator>F079484</dc:creator>
  <dc:description/>
  <dc:language>en-US</dc:language>
  <cp:lastModifiedBy>Knowles</cp:lastModifiedBy>
  <dcterms:modified xsi:type="dcterms:W3CDTF">2009-11-12T17:14:38Z</dcterms:modified>
  <cp:revision>27</cp:revision>
  <dc:subject/>
  <dc:title>Informal Joint Working Group of GRB and GRRF – 16/17 Nov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  <property fmtid="{D5CDD505-2E9C-101B-9397-08002B2CF9AE}" pid="3" name="_AdHocReviewCycleID">
    <vt:r8>187220545</vt:r8>
  </property>
  <property fmtid="{D5CDD505-2E9C-101B-9397-08002B2CF9AE}" pid="4" name="_AuthorEmail">
    <vt:lpwstr>Ian.KNOWLES@ec.europa.eu</vt:lpwstr>
  </property>
  <property fmtid="{D5CDD505-2E9C-101B-9397-08002B2CF9AE}" pid="5" name="_AuthorEmailDisplayName">
    <vt:lpwstr>KNOWLES Ian (ENTR)</vt:lpwstr>
  </property>
  <property fmtid="{D5CDD505-2E9C-101B-9397-08002B2CF9AE}" pid="6" name="_EmailSubject">
    <vt:lpwstr>Documents for GRB/GRRF tyre meeting </vt:lpwstr>
  </property>
  <property fmtid="{D5CDD505-2E9C-101B-9397-08002B2CF9AE}" pid="7" name="_NewReviewCycle">
    <vt:lpwstr/>
  </property>
</Properties>
</file>