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240-E9F2-4C20-A6A0-11A36EA6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84D-DEF1-4CE9-B1E8-AE61DB93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63E-A633-4246-9AFD-A0E41993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246-A6FA-429C-87B1-8AE6835A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A0D-8D40-4C8A-9479-26F9A817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F6F-4B8D-40E2-9A7E-CBC97D79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350-5017-4B13-B12B-E9447FEF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B503-5465-4CF8-A2CE-1E446DCD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1EF-6093-47D7-A94F-5F88BBD7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9AC-609A-4E84-8FCE-E58C30C6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6E75-7CF0-4D06-BDEA-66CACDAF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0C2-CA4B-495D-8380-9FB84C66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AFAE-C9F5-48B1-B6BE-0FD68AB1707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formal Joint Working Group of GRB and GR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va 16-17 Novemb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D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64000" y="54936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STD-03-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093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ignment Proces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56764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ep: Determination of the assigned val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chnical Service measures similar set of tyres covering the range of rolling resistance 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«general average » of rolling resistance of each tyre becomes the assigned value for this ty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step: Alignment (if needed) of each Technical Serv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near regression is performed from the measured values by the Technical Service versus the assigned values as follow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ignment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08240" y="551664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08240" y="1773360"/>
            <a:ext cx="0" cy="374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692360" y="2349360"/>
            <a:ext cx="4735440" cy="2951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341360"/>
            <a:ext cx="111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CR 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T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40720" y="5300640"/>
            <a:ext cx="102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0000"/>
                </a:solidFill>
                <a:latin typeface="Times New Roman"/>
              </a:rPr>
              <a:t>CRa </a:t>
            </a:r>
            <a:r>
              <a:rPr b="0" i="1" lang="fr-FR" sz="1800" spc="-1" strike="noStrike" baseline="-25000">
                <a:solidFill>
                  <a:srgbClr val="ff0000"/>
                </a:solidFill>
                <a:latin typeface="Times New Roman"/>
              </a:rPr>
              <a:t>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51040" y="4149720"/>
            <a:ext cx="0" cy="1368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616572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(y, x) = (RR( TSi, Tym), </a:t>
            </a:r>
            <a:r>
              <a:rPr b="0" i="1" lang="fr-FR" sz="2000" spc="-1" strike="noStrike">
                <a:solidFill>
                  <a:srgbClr val="ff0000"/>
                </a:solidFill>
                <a:latin typeface="Times New Roman"/>
              </a:rPr>
              <a:t>RR(TS, Tym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79760" y="3141720"/>
            <a:ext cx="0" cy="1368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5840" y="2565360"/>
            <a:ext cx="0" cy="1368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64440" y="1628640"/>
            <a:ext cx="0" cy="136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6920" y="558972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R1a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Times New Roman"/>
              </a:rPr>
              <a:t>T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4000" y="5877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ssigne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309560" y="3716280"/>
            <a:ext cx="128520" cy="142920"/>
            <a:chOff x="4309560" y="3716280"/>
            <a:chExt cx="128520" cy="142920"/>
          </a:xfrm>
        </p:grpSpPr>
        <p:sp>
          <p:nvSpPr>
            <p:cNvPr id="98" name=""/>
            <p:cNvSpPr/>
            <p:nvPr/>
          </p:nvSpPr>
          <p:spPr>
            <a:xfrm>
              <a:off x="4309920" y="3716280"/>
              <a:ext cx="12708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309560" y="3716280"/>
              <a:ext cx="1285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533560" y="3068640"/>
            <a:ext cx="128520" cy="142920"/>
            <a:chOff x="5533560" y="3068640"/>
            <a:chExt cx="128520" cy="142920"/>
          </a:xfrm>
        </p:grpSpPr>
        <p:sp>
          <p:nvSpPr>
            <p:cNvPr id="101" name=""/>
            <p:cNvSpPr/>
            <p:nvPr/>
          </p:nvSpPr>
          <p:spPr>
            <a:xfrm>
              <a:off x="5533920" y="3068640"/>
              <a:ext cx="12708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533560" y="3068640"/>
              <a:ext cx="1285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300360" y="2133720"/>
            <a:ext cx="128520" cy="142920"/>
            <a:chOff x="6300360" y="2133720"/>
            <a:chExt cx="128520" cy="142920"/>
          </a:xfrm>
        </p:grpSpPr>
        <p:sp>
          <p:nvSpPr>
            <p:cNvPr id="104" name=""/>
            <p:cNvSpPr/>
            <p:nvPr/>
          </p:nvSpPr>
          <p:spPr>
            <a:xfrm>
              <a:off x="6300720" y="2133720"/>
              <a:ext cx="12708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300360" y="2133720"/>
              <a:ext cx="1285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780000" y="558972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R2a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Times New Roman"/>
              </a:rPr>
              <a:t>T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558972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R3a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Times New Roman"/>
              </a:rPr>
              <a:t>Ty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0720" y="558972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R4a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Times New Roman"/>
              </a:rPr>
              <a:t>Ty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458136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3789360"/>
            <a:ext cx="316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3141720"/>
            <a:ext cx="424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2205000"/>
            <a:ext cx="504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98900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4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y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292428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3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y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364500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2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4508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1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981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asure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3520" y="83664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Service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626920" y="4508640"/>
            <a:ext cx="128520" cy="142560"/>
            <a:chOff x="2626920" y="4508640"/>
            <a:chExt cx="128520" cy="142560"/>
          </a:xfrm>
        </p:grpSpPr>
        <p:sp>
          <p:nvSpPr>
            <p:cNvPr id="120" name=""/>
            <p:cNvSpPr/>
            <p:nvPr/>
          </p:nvSpPr>
          <p:spPr>
            <a:xfrm>
              <a:off x="2627280" y="4508640"/>
              <a:ext cx="127080" cy="14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626920" y="4508640"/>
              <a:ext cx="128520" cy="14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156360" y="3933720"/>
            <a:ext cx="25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CR 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TSi =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CRa 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238760" y="2152800"/>
            <a:ext cx="621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MS4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77120" y="2952720"/>
            <a:ext cx="944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932920" y="2975040"/>
            <a:ext cx="944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763160" y="2975040"/>
            <a:ext cx="944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349320" y="2946240"/>
            <a:ext cx="944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154764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341964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524988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6834240" y="24638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1475640" y="250812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2643120" y="4437000"/>
            <a:ext cx="3187440" cy="3682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ssigned (reference)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900000" y="5157720"/>
            <a:ext cx="7239600" cy="561960"/>
            <a:chOff x="900000" y="5157720"/>
            <a:chExt cx="7239600" cy="561960"/>
          </a:xfrm>
        </p:grpSpPr>
        <p:sp>
          <p:nvSpPr>
            <p:cNvPr id="137" name="Text Box 17"/>
            <p:cNvSpPr/>
            <p:nvPr/>
          </p:nvSpPr>
          <p:spPr>
            <a:xfrm>
              <a:off x="972720" y="5229360"/>
              <a:ext cx="71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Machine A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Machine B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Machine C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Machine D 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8"/>
            <p:cNvSpPr/>
            <p:nvPr/>
          </p:nvSpPr>
          <p:spPr>
            <a:xfrm>
              <a:off x="900000" y="5214960"/>
              <a:ext cx="1368360" cy="5047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9"/>
            <p:cNvSpPr/>
            <p:nvPr/>
          </p:nvSpPr>
          <p:spPr>
            <a:xfrm>
              <a:off x="2700360" y="5186520"/>
              <a:ext cx="1368360" cy="5047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0"/>
            <p:cNvSpPr/>
            <p:nvPr/>
          </p:nvSpPr>
          <p:spPr>
            <a:xfrm>
              <a:off x="4572000" y="5157720"/>
              <a:ext cx="1368360" cy="50508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1"/>
            <p:cNvSpPr/>
            <p:nvPr/>
          </p:nvSpPr>
          <p:spPr>
            <a:xfrm>
              <a:off x="6372360" y="5186520"/>
              <a:ext cx="1368360" cy="5047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AutoShape 27"/>
          <p:cNvSpPr/>
          <p:nvPr/>
        </p:nvSpPr>
        <p:spPr>
          <a:xfrm>
            <a:off x="4140360" y="3500280"/>
            <a:ext cx="360360" cy="865440"/>
          </a:xfrm>
          <a:prstGeom prst="downArrow">
            <a:avLst>
              <a:gd name="adj1" fmla="val 50000"/>
              <a:gd name="adj2" fmla="val 6004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 flipH="1">
            <a:off x="1692360" y="4797360"/>
            <a:ext cx="1008000" cy="36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0"/>
          <p:cNvSpPr/>
          <p:nvPr/>
        </p:nvSpPr>
        <p:spPr>
          <a:xfrm>
            <a:off x="4930920" y="4869000"/>
            <a:ext cx="361800" cy="288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1"/>
          <p:cNvSpPr/>
          <p:nvPr/>
        </p:nvSpPr>
        <p:spPr>
          <a:xfrm flipH="1">
            <a:off x="3419280" y="4869000"/>
            <a:ext cx="360360" cy="288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2"/>
          <p:cNvSpPr/>
          <p:nvPr/>
        </p:nvSpPr>
        <p:spPr>
          <a:xfrm>
            <a:off x="5219640" y="4797360"/>
            <a:ext cx="1800360" cy="36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2396520" y="482616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l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1547280" y="3644640"/>
            <a:ext cx="1800" cy="143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27672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076720" y="3644640"/>
            <a:ext cx="0" cy="71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6948000" y="3573360"/>
            <a:ext cx="7164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6300360" y="422100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al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692360" y="3644640"/>
            <a:ext cx="1150920" cy="1368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00720" y="3716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ignement Process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tep: Determination of the linear regression  between a candidate laboratory and a Technical Serv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he candidate laboratory and the Technical Service measure a set of tyres and a linear regression is performed from the measured values.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ignement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08240" y="551664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308240" y="1773360"/>
            <a:ext cx="0" cy="374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692360" y="2349360"/>
            <a:ext cx="4735440" cy="2951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134136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40720" y="5300640"/>
            <a:ext cx="102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0000"/>
                </a:solidFill>
                <a:latin typeface="Times New Roman"/>
              </a:rPr>
              <a:t>CR </a:t>
            </a:r>
            <a:r>
              <a:rPr b="0" i="1" lang="fr-FR" sz="1800" spc="-1" strike="noStrike" baseline="-25000">
                <a:solidFill>
                  <a:srgbClr val="ff0000"/>
                </a:solidFill>
                <a:latin typeface="Times New Roman"/>
              </a:rPr>
              <a:t>T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51040" y="4149720"/>
            <a:ext cx="0" cy="1368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08000" y="616572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(y, x) = (RR( CDT, Tyn), </a:t>
            </a:r>
            <a:r>
              <a:rPr b="0" i="1" lang="fr-FR" sz="2000" spc="-1" strike="noStrike">
                <a:solidFill>
                  <a:srgbClr val="ff0000"/>
                </a:solidFill>
                <a:latin typeface="Times New Roman"/>
              </a:rPr>
              <a:t>RR(TSi, Tyn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79760" y="3141720"/>
            <a:ext cx="0" cy="1368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95840" y="2565360"/>
            <a:ext cx="0" cy="1368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64440" y="1628640"/>
            <a:ext cx="0" cy="136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66920" y="558972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R1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Times New Roman"/>
              </a:rPr>
              <a:t>T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04000" y="5877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Measure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309560" y="3716280"/>
            <a:ext cx="128520" cy="142920"/>
            <a:chOff x="4309560" y="3716280"/>
            <a:chExt cx="128520" cy="142920"/>
          </a:xfrm>
        </p:grpSpPr>
        <p:sp>
          <p:nvSpPr>
            <p:cNvPr id="171" name=""/>
            <p:cNvSpPr/>
            <p:nvPr/>
          </p:nvSpPr>
          <p:spPr>
            <a:xfrm>
              <a:off x="4309920" y="3716280"/>
              <a:ext cx="12708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309560" y="3716280"/>
              <a:ext cx="1285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533560" y="3068640"/>
            <a:ext cx="128520" cy="142920"/>
            <a:chOff x="5533560" y="3068640"/>
            <a:chExt cx="128520" cy="142920"/>
          </a:xfrm>
        </p:grpSpPr>
        <p:sp>
          <p:nvSpPr>
            <p:cNvPr id="174" name=""/>
            <p:cNvSpPr/>
            <p:nvPr/>
          </p:nvSpPr>
          <p:spPr>
            <a:xfrm>
              <a:off x="5533920" y="3068640"/>
              <a:ext cx="12708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5533560" y="3068640"/>
              <a:ext cx="1285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300360" y="2133720"/>
            <a:ext cx="128520" cy="142920"/>
            <a:chOff x="6300360" y="2133720"/>
            <a:chExt cx="128520" cy="142920"/>
          </a:xfrm>
        </p:grpSpPr>
        <p:sp>
          <p:nvSpPr>
            <p:cNvPr id="177" name=""/>
            <p:cNvSpPr/>
            <p:nvPr/>
          </p:nvSpPr>
          <p:spPr>
            <a:xfrm>
              <a:off x="6300720" y="2133720"/>
              <a:ext cx="12708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300360" y="2133720"/>
              <a:ext cx="1285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780000" y="558972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R2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Times New Roman"/>
              </a:rPr>
              <a:t>T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19640" y="558972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R3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Times New Roman"/>
              </a:rPr>
              <a:t>Ty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00720" y="558972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Ra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Times New Roman"/>
              </a:rPr>
              <a:t>Ty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4508640"/>
            <a:ext cx="1368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3789360"/>
            <a:ext cx="309708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3141720"/>
            <a:ext cx="4248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2205000"/>
            <a:ext cx="5040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98900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4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’y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8000" y="292428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3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’y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8000" y="364500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’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4508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1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’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981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asured val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98100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 laboratory measurements versus Technical Service measu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555640" y="4437000"/>
            <a:ext cx="128520" cy="142920"/>
            <a:chOff x="2555640" y="4437000"/>
            <a:chExt cx="128520" cy="142920"/>
          </a:xfrm>
        </p:grpSpPr>
        <p:sp>
          <p:nvSpPr>
            <p:cNvPr id="193" name=""/>
            <p:cNvSpPr/>
            <p:nvPr/>
          </p:nvSpPr>
          <p:spPr>
            <a:xfrm>
              <a:off x="2556000" y="4437000"/>
              <a:ext cx="12708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2555640" y="4437000"/>
              <a:ext cx="1285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300720" y="3933720"/>
            <a:ext cx="25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CR 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CDT =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CR 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TSi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748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ignment Proce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ep: Alignment of the candidate laborat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2d Step, the relationship between one Technical Service and the reference assigned consensus values agreed by the Technical Services through an interlaboratory comparison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 TSi = A1 CRa TS + B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3rd Step, the relationship between one Technical Service and the a candidate laboratory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 CDT = A2 CR TSi+ 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 final relationship between the candidate laboratory and the reference assigned consensus value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 CDT= A2 (A1 CRa TS + B1) + B2 = A CRa TS +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RR coefficient 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 on CO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692/2008 (Euro 5 &amp; Euro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nex I appendix 3 § 6.6.1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(Ref. to ISO 285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nex III § 3.5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(Ref. to ISO 285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nex XVIII § 6.6.1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(Ref. to ISO 28580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nex XIX § 6.6.1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(Ref. to ISO 285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101 draft amendment ECE/TRANS/WP.29/2009/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nex 6 § 1.3.5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(Ref. to ISO 285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 Labelling of Ty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14024/09 - 2009/10/02&amp;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nex I Parts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(Ref. to R1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661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nex II Parts B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(Ref. to ISO 285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5075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only reference to R117 and not 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itolog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mendment of R117-Rev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est methodology in the main text of R117 as in other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ex 8 on Interlaboratory comparison procedure (inform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ex 9 on alignment procedure (inform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ustification docu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FF sub-group : TSG (Technical Services 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 ISO / FRENCH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1267920"/>
            <a:ext cx="856764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O requests a reference labora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posal: The 1958 agreements recognizes the Technical Services as equivalents, then no leadership can ex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is reason we suggest  to refer (if needed) to assigned consensus values agreed by the Technical Services through an interlaboratory compari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O defines four methods for measuring the rolling resis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posal: No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O defines the characteristics of the machin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posal: No change, nevertheless the load values for measuring the parasitic losses have to be confi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O defines the test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posal: 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ISO/FRENCH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6000" y="1268280"/>
            <a:ext cx="8567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 has a requirement on the « reproducibility » for the reference laboratory and another for the candidate laborato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oposal: Only one value is kept σm = 0.075 for passenger car and 0.06 for larger trucks and buses ty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 requests a number of measurements more than 1 if the reproducibility value is not fulfilled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oposal: No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 defines a method of alignment between the reference laboratory and a candidate laborato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oposal: No technical changes excep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nterlaboratory comparison and alignment procedure in informative annexes of R1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The reference laboratory is replaced by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reference to assigned consensus values agreed by the Technical Services through an interlaboratory comparis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The number of tyres could be higher [at least 2] in order to cover a large range of rolling resistance coefficients including some « steady » tyres used for monitoring the drift of the mach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This alignment method can also be used to align a candidate laboratory to any Technical Serv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nnex 8 (informative) Interlaboratories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238760" y="2152800"/>
            <a:ext cx="621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MS4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077120" y="2952720"/>
            <a:ext cx="944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932920" y="2975040"/>
            <a:ext cx="944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763160" y="2975040"/>
            <a:ext cx="944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349320" y="2946240"/>
            <a:ext cx="944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154764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341964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524988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6834240" y="24638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475640" y="250812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677960" y="3789360"/>
            <a:ext cx="5702400" cy="3070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Inter-laboratory comparison (TS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2643120" y="4437000"/>
            <a:ext cx="3187440" cy="3682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assigned (reference)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2"/>
          <p:cNvSpPr/>
          <p:nvPr/>
        </p:nvSpPr>
        <p:spPr>
          <a:xfrm flipH="1">
            <a:off x="6084720" y="3500280"/>
            <a:ext cx="719280" cy="28908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3"/>
          <p:cNvSpPr/>
          <p:nvPr/>
        </p:nvSpPr>
        <p:spPr>
          <a:xfrm>
            <a:off x="1547640" y="3514680"/>
            <a:ext cx="648000" cy="21600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3419640" y="3500280"/>
            <a:ext cx="0" cy="28908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5"/>
          <p:cNvSpPr/>
          <p:nvPr/>
        </p:nvSpPr>
        <p:spPr>
          <a:xfrm>
            <a:off x="5219640" y="3500280"/>
            <a:ext cx="0" cy="28908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7"/>
          <p:cNvSpPr/>
          <p:nvPr/>
        </p:nvSpPr>
        <p:spPr>
          <a:xfrm>
            <a:off x="4140360" y="4149720"/>
            <a:ext cx="36036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816840" y="5734080"/>
            <a:ext cx="7148520" cy="520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Open Questions : Criteria and procedures for assigned reference value defini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organization and funding, new entrants: =&gt;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SG organisation by 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618920" y="3645000"/>
            <a:ext cx="86508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27672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076720" y="3644640"/>
            <a:ext cx="0" cy="71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940360" y="3573000"/>
            <a:ext cx="100800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6297480" y="422100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Alignment if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7640" y="407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put from interlaboratory compari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ISO 57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nes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i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needed for application of annex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ed (reference) values for each reference tyre based on general average of Technical Service results for this reference ty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Arial"/>
              </a:rPr>
              <a:t>Annex 9 (informative)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lignment procedure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3:20:39Z</dcterms:created>
  <dc:creator/>
  <dc:description/>
  <dc:language>en-US</dc:language>
  <cp:lastModifiedBy>Knowles</cp:lastModifiedBy>
  <dcterms:modified xsi:type="dcterms:W3CDTF">2009-11-09T10:03:40Z</dcterms:modified>
  <cp:revision>67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92427851</vt:r8>
  </property>
  <property fmtid="{D5CDD505-2E9C-101B-9397-08002B2CF9AE}" pid="3" name="_AuthorEmail">
    <vt:lpwstr>Ian.KNOWLES@ec.europa.eu</vt:lpwstr>
  </property>
  <property fmtid="{D5CDD505-2E9C-101B-9397-08002B2CF9AE}" pid="4" name="_AuthorEmailDisplayName">
    <vt:lpwstr>KNOWLES Ian (ENTR)</vt:lpwstr>
  </property>
  <property fmtid="{D5CDD505-2E9C-101B-9397-08002B2CF9AE}" pid="5" name="_EmailSubject">
    <vt:lpwstr>Word/ppt documents for tyre meeting</vt:lpwstr>
  </property>
  <property fmtid="{D5CDD505-2E9C-101B-9397-08002B2CF9AE}" pid="6" name="_NewReviewCycle">
    <vt:lpwstr/>
  </property>
</Properties>
</file>