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749-F1D8-4B79-A4D1-96471109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E69-5C5D-4BDF-9DF6-F0C69232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2CC-C454-4164-B5CF-25DC9AB3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816-A20D-4AEB-9448-2C4079D8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7E8-D45E-41F8-839E-E9666395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05B-654D-4429-9D0E-88C7D1C2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85F-499C-4E8F-B981-0C9776D6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E74-6FA5-4A03-9A7A-15BA1A95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92000" y="0"/>
            <a:ext cx="74516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CDC-E25E-4C62-8B8F-2CF0489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82C-96A3-4160-A4A8-40EB1DD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C2C-26DD-4B58-BD5F-F770243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92000" y="-15840"/>
            <a:ext cx="7451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E4D-39AA-4A23-A298-F4426BE1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9280" y="62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31760" y="0"/>
              <a:ext cx="9012240" cy="546120"/>
              <a:chOff x="131760" y="0"/>
              <a:chExt cx="9012240" cy="546120"/>
            </a:xfrm>
          </p:grpSpPr>
          <p:sp>
            <p:nvSpPr>
              <p:cNvPr id="4" name=""/>
              <p:cNvSpPr/>
              <p:nvPr/>
            </p:nvSpPr>
            <p:spPr>
              <a:xfrm>
                <a:off x="412920" y="135000"/>
                <a:ext cx="8731080" cy="27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7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09680" y="135000"/>
                <a:ext cx="137880" cy="1411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47560" y="0"/>
                <a:ext cx="13968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47560" y="135000"/>
                <a:ext cx="139680" cy="1411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74680" y="274680"/>
                <a:ext cx="136440" cy="138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31760" y="136440"/>
                <a:ext cx="141120" cy="138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09680" y="271440"/>
                <a:ext cx="137880" cy="138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74680" y="409680"/>
                <a:ext cx="136440" cy="136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2050560" y="6453000"/>
            <a:ext cx="4969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433440" y="450720"/>
            <a:ext cx="1042920" cy="24156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394920" y="6453000"/>
            <a:ext cx="13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7596000" y="6453000"/>
            <a:ext cx="1090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D48-8306-4EEE-896B-10A47E73D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4"/>
          </p:nvPr>
        </p:nvSpPr>
        <p:spPr>
          <a:xfrm>
            <a:off x="826920" y="6381360"/>
            <a:ext cx="33847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7280" y="77760"/>
            <a:ext cx="3903840" cy="903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87280" y="1844280"/>
            <a:ext cx="59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nex 6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st procedure for measuring rolling resist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227640" y="260280"/>
            <a:ext cx="25923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2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d STD meeting, 31 August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3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ically, 4 measurement variants can  be consider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cel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istorical measurements needed by manufacturers to keep a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eoritically, technically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BB2-750E-46E8-BCC8-8442ACFE7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CE Regulation process:  Use of Techn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echnical service shall comply with ISO/IEC 17025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IEC 17025 standard requ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9 Assuring the quality of test and calibr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participation in interlaboratory comparison or proficiency-testing programm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finition of a virtual reference as a result of a combination of different sources instead of one unique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3F3-9F7E-477F-B621-EEBC128E7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ed for homogene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&gt; need to control the dispersion in each laboratory (intra lab requ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eed to control the dispersion between the different laboratories (inter lab requ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ol : Proficiency testing schemes (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erence : ISO/DIS 17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DIS publication expected by end of 20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48A-369A-4E20-BA80-7D2D8DAD3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ciency Testing Schemes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TS benefi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inuous improvement of labs performanc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uction of within labs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duction of inter labs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finition of assigned (reference)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rrection when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440-1951-4C86-AF1E-E5953C3AD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sche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e PTS per year (or every two years) with participation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chnic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ther participants (tyre manufacturers,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ablishement of the assigned values from the results of the technic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alculation of a correction factor for every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CED-D8CE-4596-B954-2267130707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tests wha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9440" y="5661000"/>
            <a:ext cx="73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S :Technical Service     M : Manufacturer  X: « tyre number and typ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6480" y="1554120"/>
          <a:ext cx="460044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1554120"/>
                    <a:ext cx="46004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724360" y="2349360"/>
            <a:ext cx="648000" cy="360360"/>
          </a:xfrm>
          <a:prstGeom prst="rightArrow">
            <a:avLst>
              <a:gd name="adj1" fmla="val 50000"/>
              <a:gd name="adj2" fmla="val 449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860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90360" y="220500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fi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igne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2440" y="371628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ignmen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BB7-D17D-42E1-A445-CB193EAD0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53:27Z</dcterms:created>
  <dc:creator>perruchet</dc:creator>
  <dc:description/>
  <dc:language>en-US</dc:language>
  <cp:lastModifiedBy>Supplement 1 to original version</cp:lastModifiedBy>
  <dcterms:modified xsi:type="dcterms:W3CDTF">2009-09-03T09:57:26Z</dcterms:modified>
  <cp:revision>30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1EA42B2174C58C4EA7E92FCD3F6D26B20700C516E6BA8CD7124A9072EF20A261C0FD000000070AB80000C516E6BA8CD7124A9072EF20A261C0FD0000054187B30000</vt:lpwstr>
  </property>
  <property fmtid="{D5CDD505-2E9C-101B-9397-08002B2CF9AE}" pid="3" name="_NewReviewCycle">
    <vt:lpwstr/>
  </property>
  <property fmtid="{D5CDD505-2E9C-101B-9397-08002B2CF9AE}" pid="4" name="_ReviewCycleID">
    <vt:r8>-2117855068</vt:r8>
  </property>
  <property fmtid="{D5CDD505-2E9C-101B-9397-08002B2CF9AE}" pid="5" name="_ReviewingToolsShownOnce">
    <vt:lpwstr/>
  </property>
  <property fmtid="{D5CDD505-2E9C-101B-9397-08002B2CF9AE}" pid="6" name="_TentativeReviewCycleID">
    <vt:r8>-2117855068</vt:r8>
  </property>
</Properties>
</file>