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C22E-AEA0-4FAE-A3B5-3A303F63A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FBE2-C2E5-46B2-A310-97EF81F4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9F2B-6E1A-4006-B185-7487C77AE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9CEA-2F9A-44CB-8DBD-1D13637DB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692000" y="0"/>
            <a:ext cx="74516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98D2-E9D5-4D1E-A736-055DE32B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BD5E-CF8F-4EC3-B05F-09DD24A8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5BB5-59AD-44C5-9190-E659FCBA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B765-C061-47C0-B1BD-8902CE98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692000" y="0"/>
            <a:ext cx="74516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3B3D-F59B-4CF2-8060-6067645F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9DB7-3393-44E0-9455-97FA5AF7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39ED-4E64-41B8-84BB-BDF29172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7612-65DA-47DA-9A7D-A5E8E77E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19280" y="62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2858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131760" y="0"/>
              <a:ext cx="9012240" cy="546120"/>
              <a:chOff x="131760" y="0"/>
              <a:chExt cx="9012240" cy="546120"/>
            </a:xfrm>
          </p:grpSpPr>
          <p:sp>
            <p:nvSpPr>
              <p:cNvPr id="4" name=""/>
              <p:cNvSpPr/>
              <p:nvPr/>
            </p:nvSpPr>
            <p:spPr>
              <a:xfrm>
                <a:off x="412920" y="135000"/>
                <a:ext cx="8731080" cy="2746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7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09680" y="135000"/>
                <a:ext cx="137880" cy="1411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47560" y="0"/>
                <a:ext cx="139680" cy="138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47560" y="135000"/>
                <a:ext cx="139680" cy="1411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274680" y="274680"/>
                <a:ext cx="136440" cy="138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31760" y="136440"/>
                <a:ext cx="141120" cy="138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09680" y="271440"/>
                <a:ext cx="137880" cy="138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74680" y="409680"/>
                <a:ext cx="136440" cy="1364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ftr" idx="1"/>
          </p:nvPr>
        </p:nvSpPr>
        <p:spPr>
          <a:xfrm>
            <a:off x="2050560" y="6453000"/>
            <a:ext cx="49690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433440" y="450720"/>
            <a:ext cx="1042920" cy="241560"/>
          </a:xfrm>
          <a:prstGeom prst="rect">
            <a:avLst/>
          </a:prstGeom>
          <a:ln w="0">
            <a:noFill/>
          </a:ln>
        </p:spPr>
      </p:pic>
      <p:sp>
        <p:nvSpPr>
          <p:cNvPr id="16" name="PlaceHolder 4"/>
          <p:cNvSpPr>
            <a:spLocks noGrp="1"/>
          </p:cNvSpPr>
          <p:nvPr>
            <p:ph type="dt" idx="2"/>
          </p:nvPr>
        </p:nvSpPr>
        <p:spPr>
          <a:xfrm>
            <a:off x="394920" y="6453000"/>
            <a:ext cx="1368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7596000" y="6453000"/>
            <a:ext cx="10904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6043-2DA4-425B-BAAE-BCA56858E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6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9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ftr" idx="4"/>
          </p:nvPr>
        </p:nvSpPr>
        <p:spPr>
          <a:xfrm>
            <a:off x="826920" y="6381360"/>
            <a:ext cx="338472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87280" y="77760"/>
            <a:ext cx="3903840" cy="9032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nex 6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est procedure for measuring rolling resista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6227640" y="260280"/>
            <a:ext cx="259236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orking Paper No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D-02-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nd STD meeting, 31 August 2009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 item 3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asically, 4 measurement variants can  be considere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o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r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cele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istorical measurements needed by manufacturers to keep a refer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oritically, technically equiva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FB2C-40BE-44B9-A5C2-C91176BB00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lign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CE Regulation process:  Use of Technical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echnical service shall comply with ISO/IEC 17025 stand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/IEC 17025 standard reques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9 Assuring the quality of test and calibration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participation in interlaboratory comparison or proficiency-testing programm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finition of a virtual reference as a result of a combination of different sources instead of one unique re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5D4F-BC63-4DBD-B5AB-9260185429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cer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eed for homogeneous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=&gt; need to control the dispersion in each laboratory (intra lab requir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eed to control the dispersion between the different laboratories (inter lab requir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ool : Proficiency testing schemes (P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ference : ISO/DIS 170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DIS publication expected by end of 200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E846-27E5-46AD-97B3-A1D695588F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ficiency Testing Schemes benef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TS benefit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tinuous improvement of labs performanc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duction of within labs disp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duction of inter labs disp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finition of assigned (reference)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rrection when necess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1098-145E-48EB-BE94-A6A8B246FF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 sche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ne PTS per year (or every two years) with participation of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chnica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ther participants (tyre manufacturers,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stablishement of the assigned values from the results of the technical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alculation of a correction factor for every particip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1506-AE68-4EC1-B995-9C419E9B15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xampl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o tests what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89440" y="5661000"/>
            <a:ext cx="73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S :Technical Service     M : Manufacturer  X: « tyre number and type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06480" y="1554120"/>
          <a:ext cx="4600440" cy="351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6480" y="1554120"/>
                    <a:ext cx="4600440" cy="35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5724360" y="2349360"/>
            <a:ext cx="648000" cy="360360"/>
          </a:xfrm>
          <a:prstGeom prst="rightArrow">
            <a:avLst>
              <a:gd name="adj1" fmla="val 50000"/>
              <a:gd name="adj2" fmla="val 4495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6000" y="386064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90360" y="2205000"/>
            <a:ext cx="18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fintio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ssigned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2440" y="371628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lignment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ach manufact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5642-3E4D-40A4-B608-F391D9A450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09:53:27Z</dcterms:created>
  <dc:creator>perruchet</dc:creator>
  <dc:description/>
  <dc:language>en-US</dc:language>
  <cp:lastModifiedBy>Supplement 1 to original version</cp:lastModifiedBy>
  <dcterms:modified xsi:type="dcterms:W3CDTF">2009-09-03T09:57:26Z</dcterms:modified>
  <cp:revision>30</cp:revision>
  <dc:subject/>
  <dc:title>Diapositiv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EmailEntryID">
    <vt:lpwstr>000000001EA42B2174C58C4EA7E92FCD3F6D26B20700C516E6BA8CD7124A9072EF20A261C0FD000000070AB80000C516E6BA8CD7124A9072EF20A261C0FD0000054187B30000</vt:lpwstr>
  </property>
  <property fmtid="{D5CDD505-2E9C-101B-9397-08002B2CF9AE}" pid="3" name="_NewReviewCycle">
    <vt:lpwstr/>
  </property>
  <property fmtid="{D5CDD505-2E9C-101B-9397-08002B2CF9AE}" pid="4" name="_ReviewCycleID">
    <vt:r8>-2117855068</vt:r8>
  </property>
  <property fmtid="{D5CDD505-2E9C-101B-9397-08002B2CF9AE}" pid="5" name="_ReviewingToolsShownOnce">
    <vt:lpwstr/>
  </property>
  <property fmtid="{D5CDD505-2E9C-101B-9397-08002B2CF9AE}" pid="6" name="_TentativeReviewCycleID">
    <vt:r8>-2117855068</vt:r8>
  </property>
</Properties>
</file>