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76040"/>
            <a:ext cx="746928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207680"/>
            <a:ext cx="746928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7604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37000" y="197604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20768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37000" y="420768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76040"/>
            <a:ext cx="24048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4880" y="1976040"/>
            <a:ext cx="24048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60280" y="1976040"/>
            <a:ext cx="24048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207680"/>
            <a:ext cx="24048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4880" y="4207680"/>
            <a:ext cx="24048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60280" y="4207680"/>
            <a:ext cx="24048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76040"/>
            <a:ext cx="74692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76040"/>
            <a:ext cx="746928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76040"/>
            <a:ext cx="36450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37000" y="1976040"/>
            <a:ext cx="36450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96560" y="68076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7604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37000" y="1976040"/>
            <a:ext cx="36450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20768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76040"/>
            <a:ext cx="36450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37000" y="197604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37000" y="420768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7604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37000" y="197604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207680"/>
            <a:ext cx="746928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"/>
          <p:cNvSpPr/>
          <p:nvPr/>
        </p:nvSpPr>
        <p:spPr>
          <a:xfrm>
            <a:off x="304920" y="609480"/>
            <a:ext cx="8308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33360" y="6319800"/>
            <a:ext cx="7666200" cy="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976040"/>
            <a:ext cx="746928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8534520" y="647712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362D-61AD-4A24-B97C-4181F34B60AE}" type="slidenum">
              <a:rPr b="0" lang="en-US" sz="9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4"/>
          <p:cNvSpPr/>
          <p:nvPr/>
        </p:nvSpPr>
        <p:spPr>
          <a:xfrm>
            <a:off x="303480" y="2286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UPDATE  ISO 285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5"/>
          <p:cNvSpPr/>
          <p:nvPr/>
        </p:nvSpPr>
        <p:spPr>
          <a:xfrm>
            <a:off x="299520" y="6400800"/>
            <a:ext cx="185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Köppen, July 23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7"/>
          <p:cNvSpPr/>
          <p:nvPr/>
        </p:nvSpPr>
        <p:spPr>
          <a:xfrm>
            <a:off x="678240" y="946080"/>
            <a:ext cx="7008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O 2858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senger car, truck and bus tyres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s of measuring rolling resistance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point test and correlation of measuremen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9"/>
          <p:cNvSpPr/>
          <p:nvPr/>
        </p:nvSpPr>
        <p:spPr>
          <a:xfrm>
            <a:off x="1526400" y="3124080"/>
            <a:ext cx="569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on Rolling Resistance (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as a new Standard needed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new in ISO 28580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ill be the impact on RR result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28580 Reference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ISO 285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86400" y="0"/>
            <a:ext cx="23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orking Paper No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D-01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t STD meeting, 23 July 2009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item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052360" y="609480"/>
            <a:ext cx="4618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 28580 test conditions are 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ose of the current ISO 1816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52280" y="4343400"/>
            <a:ext cx="4726080" cy="169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2982960" y="1568520"/>
            <a:ext cx="5322960" cy="224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3"/>
          <a:stretch/>
        </p:blipFill>
        <p:spPr>
          <a:xfrm>
            <a:off x="4876920" y="4267080"/>
            <a:ext cx="4209840" cy="1629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9"/>
          <p:cNvSpPr/>
          <p:nvPr/>
        </p:nvSpPr>
        <p:spPr>
          <a:xfrm>
            <a:off x="303120" y="1752480"/>
            <a:ext cx="24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lation Pres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95560" y="3886200"/>
            <a:ext cx="71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:                                                      Warm-Up Du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058760" y="914400"/>
            <a:ext cx="654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hat will be the impact of ISO 28580 on RR result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12840" y="1555920"/>
            <a:ext cx="794340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thermal conditioning and the integrated tyre break-in will have on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minor impact on RR results. Detailed definition of test parameters will hel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educing the result dispersio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ignment process vs. a Reference Laboratory may shift data of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ndividual Candidate Labs up or down. This shift depends on the absolu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R level as measured in the Reference Laborator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hoice of the Reference Laboratory is very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7"/>
          <p:cNvSpPr/>
          <p:nvPr/>
        </p:nvSpPr>
        <p:spPr>
          <a:xfrm>
            <a:off x="2586600" y="685800"/>
            <a:ext cx="41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O 28580 Reference Labora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04920" y="1371600"/>
            <a:ext cx="861048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28580 will be the reference RR test method in UNECE R117 (also 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ther European regulations like R692_2008, motor vehicle emissions Euro5/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28580 will probably be used on a global basis (EU, JP, US) and may sup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ifferent regulatory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ference Laboratory could be every organization operating a Roll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esistance Test Mach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ppropriate Reference Laboratory needs to be 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b alignment method of ISO 28580 was designed in a way that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workload can be handled by one single global Reference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ference Laboratory question is under discussion in the ISO TC31 WG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mandatory that the Reference Laboratory complies with all requir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f 28580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205360" y="838080"/>
            <a:ext cx="41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O 28580 Reference Labora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33520" y="1295280"/>
            <a:ext cx="8305560" cy="45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s to be considered when choosing a Reference Laborat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 compliance of the Reference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ity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ency of data (one, multiple Laborato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ssues / break-down of a Reference Laboratory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and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-around-time, Candidate Laboratories should not wait too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Laboratory machine should represent technical state-of-the-a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should not significantly deviate from other RR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35080" y="685800"/>
            <a:ext cx="637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O 28580 Reference Laboratory technical asp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6320" y="1212840"/>
            <a:ext cx="883908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st time to measure a passenger tyre according to ISO 28580 is 30 minutes warm-up + measurement phase + mounting/dismounting of the tyre/rim assemb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otal, this represents roughly 45 minutes. The corresponding duration for truck tyres is 200 min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Inter-laboratory alignment, the alignment tyres need to be measured 3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the repeatabilit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For the Reference Laboratory, the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≤ 0.05 N/k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 Candidate Laboratory does not meet the σ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ment of 0.075 for passenger and 0.060 for truck tyres, ISO 28580 defines a process it has to follow to be conform with the standard (more measurements will be required for every ty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rrelation to the Reference Laboratory needs to be refreshed every second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e-determined ISO 28580 alignment tyres cover a defined range of RRC and RR force, their load index covers a representative range and their dimensions are chosen that they fit on most test mach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22440" y="68580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formation on Tyre Rollin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81080" y="1235160"/>
            <a:ext cx="4314600" cy="34891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6"/>
          <p:cNvGrpSpPr/>
          <p:nvPr/>
        </p:nvGrpSpPr>
        <p:grpSpPr>
          <a:xfrm>
            <a:off x="5257800" y="2286000"/>
            <a:ext cx="3446640" cy="2284560"/>
            <a:chOff x="5257800" y="2286000"/>
            <a:chExt cx="3446640" cy="2284560"/>
          </a:xfrm>
        </p:grpSpPr>
        <p:sp>
          <p:nvSpPr>
            <p:cNvPr id="50" name="Rectangle 7"/>
            <p:cNvSpPr/>
            <p:nvPr/>
          </p:nvSpPr>
          <p:spPr>
            <a:xfrm>
              <a:off x="5257800" y="2286000"/>
              <a:ext cx="3446640" cy="228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5486400" y="3327480"/>
              <a:ext cx="2995920" cy="950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9"/>
            <p:cNvSpPr/>
            <p:nvPr/>
          </p:nvSpPr>
          <p:spPr>
            <a:xfrm>
              <a:off x="5599440" y="2518200"/>
              <a:ext cx="169200" cy="142560"/>
            </a:xfrm>
            <a:prstGeom prst="flowChartConnector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10"/>
            <p:cNvSpPr/>
            <p:nvPr/>
          </p:nvSpPr>
          <p:spPr>
            <a:xfrm>
              <a:off x="5882040" y="3184560"/>
              <a:ext cx="169200" cy="142560"/>
            </a:xfrm>
            <a:prstGeom prst="flowChartConnector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1"/>
            <p:cNvSpPr/>
            <p:nvPr/>
          </p:nvSpPr>
          <p:spPr>
            <a:xfrm>
              <a:off x="6165000" y="2518200"/>
              <a:ext cx="168840" cy="142560"/>
            </a:xfrm>
            <a:prstGeom prst="flowChartConnector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2"/>
            <p:cNvSpPr/>
            <p:nvPr/>
          </p:nvSpPr>
          <p:spPr>
            <a:xfrm>
              <a:off x="6616440" y="2518200"/>
              <a:ext cx="170640" cy="142560"/>
            </a:xfrm>
            <a:prstGeom prst="flowChartConnector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3"/>
            <p:cNvSpPr/>
            <p:nvPr/>
          </p:nvSpPr>
          <p:spPr>
            <a:xfrm>
              <a:off x="6899400" y="3184560"/>
              <a:ext cx="170280" cy="142560"/>
            </a:xfrm>
            <a:prstGeom prst="flowChartConnector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4"/>
            <p:cNvSpPr/>
            <p:nvPr/>
          </p:nvSpPr>
          <p:spPr>
            <a:xfrm>
              <a:off x="7238880" y="2756520"/>
              <a:ext cx="169200" cy="142560"/>
            </a:xfrm>
            <a:prstGeom prst="flowChartConnector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5"/>
            <p:cNvSpPr/>
            <p:nvPr/>
          </p:nvSpPr>
          <p:spPr>
            <a:xfrm>
              <a:off x="7746840" y="2518200"/>
              <a:ext cx="170280" cy="142560"/>
            </a:xfrm>
            <a:prstGeom prst="flowChartConnector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6"/>
            <p:cNvSpPr/>
            <p:nvPr/>
          </p:nvSpPr>
          <p:spPr>
            <a:xfrm>
              <a:off x="8142840" y="3184560"/>
              <a:ext cx="169200" cy="142560"/>
            </a:xfrm>
            <a:prstGeom prst="flowChartConnector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7"/>
            <p:cNvSpPr/>
            <p:nvPr/>
          </p:nvSpPr>
          <p:spPr>
            <a:xfrm>
              <a:off x="5430240" y="3471120"/>
              <a:ext cx="8474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240" bIns="4824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astic 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8"/>
            <p:cNvSpPr/>
            <p:nvPr/>
          </p:nvSpPr>
          <p:spPr>
            <a:xfrm>
              <a:off x="6391440" y="3471120"/>
              <a:ext cx="12146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240" bIns="4824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scoelastic 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9"/>
            <p:cNvSpPr/>
            <p:nvPr/>
          </p:nvSpPr>
          <p:spPr>
            <a:xfrm>
              <a:off x="7634880" y="3471120"/>
              <a:ext cx="8478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240" bIns="4824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scous 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0"/>
            <p:cNvSpPr/>
            <p:nvPr/>
          </p:nvSpPr>
          <p:spPr>
            <a:xfrm>
              <a:off x="5279040" y="4032360"/>
              <a:ext cx="1131480" cy="401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240" bIns="4824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DISSIP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1"/>
            <p:cNvSpPr/>
            <p:nvPr/>
          </p:nvSpPr>
          <p:spPr>
            <a:xfrm>
              <a:off x="7616520" y="4032360"/>
              <a:ext cx="1073880" cy="401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240" bIns="4824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LL DISSIP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2"/>
            <p:cNvSpPr/>
            <p:nvPr/>
          </p:nvSpPr>
          <p:spPr>
            <a:xfrm>
              <a:off x="5712840" y="2661120"/>
              <a:ext cx="22644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3"/>
            <p:cNvSpPr/>
            <p:nvPr/>
          </p:nvSpPr>
          <p:spPr>
            <a:xfrm flipV="1">
              <a:off x="5995440" y="2661120"/>
              <a:ext cx="22644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4"/>
            <p:cNvSpPr/>
            <p:nvPr/>
          </p:nvSpPr>
          <p:spPr>
            <a:xfrm>
              <a:off x="6729840" y="2661120"/>
              <a:ext cx="22644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5"/>
            <p:cNvSpPr/>
            <p:nvPr/>
          </p:nvSpPr>
          <p:spPr>
            <a:xfrm flipV="1">
              <a:off x="7069680" y="2898720"/>
              <a:ext cx="22500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6"/>
            <p:cNvSpPr/>
            <p:nvPr/>
          </p:nvSpPr>
          <p:spPr>
            <a:xfrm>
              <a:off x="7860240" y="2661120"/>
              <a:ext cx="33984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27"/>
          <p:cNvSpPr/>
          <p:nvPr/>
        </p:nvSpPr>
        <p:spPr>
          <a:xfrm>
            <a:off x="5181480" y="1371600"/>
            <a:ext cx="381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bber compounds are visco-elastic materials. Each time they are deformed they dissipate energ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345960" y="4726800"/>
            <a:ext cx="878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R is a force acting opposite to the travel direction if a tyre is rolling. Due to the vehicle loa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yre is deformed in the contact area with the road su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neumatic tyres as we know them today need the rubber materials and deformation to gen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required grip between vehicle and road surface, to give vehicle comfort and generate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lling noi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763560" y="121932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219680" y="914400"/>
            <a:ext cx="61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 to measure Tyre Rolling Resist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04920" y="1828800"/>
            <a:ext cx="868680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w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asurements are don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with tyre running under test loa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2: Measurement with tyre running at very low load (skimload) 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deceleration metho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This second measurement is done to measure parasitic los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like bearing friction or aerodynamic losses that are included 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the first measur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measurement # 1 and # 2 give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of a ty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234360" y="1447920"/>
            <a:ext cx="84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tudy done in 2005 by the ETRTO RR workgroup indicated that RR results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y up to 20% when measuring the identical tire on different machines fo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SO 18164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904400" y="76212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y was a new Standard neede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04920" y="2438280"/>
            <a:ext cx="8610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veral parameters are not defined in detail in the current ISO 1816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ment method: Including or not certain machine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um surface : Smooth or text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or multiple speed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kim load level not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56480" y="4724280"/>
            <a:ext cx="805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there is no method to align RR results generated on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however essential to compare individual data vs. absolut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R limits, grading systems.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304920" y="1371600"/>
            <a:ext cx="861048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ISO 28580, several sources of variation are eliminated and parameters are defined more detail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precise definition of “new” ty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um diameter at least 1.7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sitic losses include aerodynamic and friction losses of the drum 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tyre/rim/hub assembly. Results will include pure tyre R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est at 80 km/h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60 km/h for CV tires with SS J or low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mal conditioning of tyres prior the test is 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bined Break-in and Warm-up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ame physical tyre property will be measured in the sam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rmodynamic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435760" y="68580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is new in ISO 28580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76320" y="1219320"/>
            <a:ext cx="8762760" cy="41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lling Resistan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ults are expressed as rolling resistance coeffici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RC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needed, the RRC is corrected to a reference ambient temperature of 25°C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and a reference drum diameter of 2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kimload level is defined: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recommended 100N, not exceeding 200 N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V with LI  ≤ 121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recommended 150 N, not exceeding 200 N or 500 N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(depends if machine was designed for passenger or for truck tyres)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V with LI &gt;121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recommended 400 N, not exceeding 500 N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 inter-laboratory alignment procedure is introduced to allow 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ison by use of a correlation equation vs. a Reference Mach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applicable, ISO 28580 requires the definition of Referenc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 for PC tyres and 1 for TB tyres) within the implementing measures of the concerned regulation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209680" y="762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is new in ISO 28580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87640" y="5586480"/>
            <a:ext cx="7124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RR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Rolling Resistance Coefficient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RC is equal to the RR force (Newton) divided by the load the tyre has to car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RC is a dimensionless parameter that is well suited to compare tyres of different size, load index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2209680" y="762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is new in ISO 28580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87720" y="1600200"/>
            <a:ext cx="826344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aboratory Alignment Meth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ignment will be done between a “Reference Laboratory” and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“Candidate Laboratory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use of pre-determined alignment tyres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2 tyres for Passenger/Light Truck and 2 tyres for Tr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lobal (NA, Asia &amp; Europe) study including various Passenger and Truck R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machines was done to validate the concept and proposed alignment tyr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Laboratories will purchase alignment tyres. The RRC of those tyr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will be measured both by themselves and on the Reference Machin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machine alignment with the Reference Machine will be done using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linear regres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e next pag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80880" y="1371600"/>
            <a:ext cx="763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295280" y="6858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nciple of the Lab Alignment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11400" y="5060880"/>
            <a:ext cx="8375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example, Lab A would need to transform its measured RRC as follows in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ed ISO 28580 RR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 A (ISO 28580) = 1.096 x Lab A – 0.5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51816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80880" y="1371600"/>
            <a:ext cx="763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295280" y="6858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nciple of the Lab Alignment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64400" y="5257800"/>
            <a:ext cx="7611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fferent Candidate Laboratories, different correlation equations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Laboratory will ex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518160" cy="400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CN</dc:creator>
  <dc:description/>
  <dc:language>en-US</dc:language>
  <cp:lastModifiedBy>Jean-Claude Noirhomme</cp:lastModifiedBy>
  <dcterms:modified xsi:type="dcterms:W3CDTF">2009-07-28T07:39:03Z</dcterms:modified>
  <cp:revision>2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