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746928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207680"/>
            <a:ext cx="746928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20768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7000" y="420768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4880" y="197604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60280" y="197604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20768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4880" y="420768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60280" y="4207680"/>
            <a:ext cx="24048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76040"/>
            <a:ext cx="74692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746928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96560" y="68076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20768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7000" y="420768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7000" y="1976040"/>
            <a:ext cx="364500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207680"/>
            <a:ext cx="7469280" cy="20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6560" y="680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"/>
          <p:cNvSpPr/>
          <p:nvPr/>
        </p:nvSpPr>
        <p:spPr>
          <a:xfrm>
            <a:off x="304920" y="609480"/>
            <a:ext cx="8308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33360" y="6319800"/>
            <a:ext cx="7666200" cy="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976040"/>
            <a:ext cx="746928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8534520" y="64771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E67A-1EAA-41DA-8B98-EF28F3B1646B}" type="slidenum">
              <a:rPr b="0" lang="en-US" sz="9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303480" y="2286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PDATE  ISO 285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5"/>
          <p:cNvSpPr/>
          <p:nvPr/>
        </p:nvSpPr>
        <p:spPr>
          <a:xfrm>
            <a:off x="299520" y="640080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Köppen, July 23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"/>
          <p:cNvPicPr/>
          <p:nvPr/>
        </p:nvPicPr>
        <p:blipFill>
          <a:blip r:embed="rId2"/>
          <a:stretch/>
        </p:blipFill>
        <p:spPr>
          <a:xfrm>
            <a:off x="7924680" y="260280"/>
            <a:ext cx="1179720" cy="108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7"/>
          <p:cNvSpPr/>
          <p:nvPr/>
        </p:nvSpPr>
        <p:spPr>
          <a:xfrm>
            <a:off x="678240" y="946080"/>
            <a:ext cx="7008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O 2858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enger car, truck and bus tyre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s of measuring rolling resistance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point test and correlation of measurem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1526400" y="3124080"/>
            <a:ext cx="569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Rolling Resistance (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as a new Standard needed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new in ISO 2858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be the impact on RR resul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28580 Reference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ISO 28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86400" y="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orking Paper No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D-01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STD meeting, 23 July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item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052360" y="609480"/>
            <a:ext cx="461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28580 test conditions are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ose of the current ISO 1816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4726080" cy="16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982960" y="1568520"/>
            <a:ext cx="5322960" cy="22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4209840" cy="1629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303120" y="1752480"/>
            <a:ext cx="24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lation Pres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95560" y="3886200"/>
            <a:ext cx="71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:                                                      Warm-Up Du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58760" y="914400"/>
            <a:ext cx="654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 will be the impact of ISO 28580 on RR resul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2840" y="1555920"/>
            <a:ext cx="79434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hermal conditioning and the integrated tyre break-in will have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inor impact on RR results. Detailed definition of test parameters will hel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ducing the result dispers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ignment process vs. a Reference Laboratory may shift data of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ndividual Candidate Labs up or down. This shift depends on the absolu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R level as measured in the Reference Laborator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oice of the Reference Laboratory is very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2586600" y="685800"/>
            <a:ext cx="41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O 28580 Reference Labora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04920" y="1371600"/>
            <a:ext cx="861048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28580 will be the reference RR test method in UNECE R117 (also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ther European regulations like R692_2008, motor vehicle emissions Euro5/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28580 will probably be used on a global basis (EU, JP, US) and may su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fferent regulatory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erence Laboratory could be every organization operating a Rol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sistance Test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ropriate Reference Laboratory needs to be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b alignment method of ISO 28580 was designed in a way that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orkload can be handled by one single global Reference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erence Laboratory question is under discussion in the ISO TC31 WG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mandatory that the Reference Laboratory complies with all requir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f 28580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05360" y="838080"/>
            <a:ext cx="41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O 28580 Reference Labora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33520" y="1295280"/>
            <a:ext cx="830556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to be considered when choosing a Reference Labora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compliance of the Reference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of data (one, multiple Laborato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ssues / break-down of a Reference Laborator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and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-around-time, Candidate Laboratories should not wait too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Laboratory machine should represent technical state-of-the-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should not significantly deviate from other RR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35080" y="685800"/>
            <a:ext cx="637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O 28580 Reference Laboratory technical asp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320" y="1212840"/>
            <a:ext cx="883908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st time to measure a passenger tyre according to ISO 28580 is 30 minutes warm-up + measurement phase + mounting/dismounting of the tyre/rim assem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otal, this represents roughly 45 minutes. The corresponding duration for truck tyres is 20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nter-laboratory alignment, the alignment tyres need to be measured 3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the repeatabilit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For the Reference Laboratory, the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≤ 0.05 N/k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Candidate Laboratory does not meet the σ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ment of 0.075 for passenger and 0.060 for truck tyres, ISO 28580 defines a process it has to follow to be conform with the standard (more measurements will be required for every ty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lation to the Reference Laboratory needs to be refreshed every second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e-determined ISO 28580 alignment tyres cover a defined range of RRC and RR force, their load index covers a representative range and their dimensions are chosen that they fit on most test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440" y="68580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ormation on Tyre Rollin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81080" y="1235160"/>
            <a:ext cx="4314600" cy="34891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5257800" y="2286000"/>
            <a:ext cx="3446640" cy="2284560"/>
            <a:chOff x="5257800" y="2286000"/>
            <a:chExt cx="3446640" cy="2284560"/>
          </a:xfrm>
        </p:grpSpPr>
        <p:sp>
          <p:nvSpPr>
            <p:cNvPr id="50" name="Rectangle 7"/>
            <p:cNvSpPr/>
            <p:nvPr/>
          </p:nvSpPr>
          <p:spPr>
            <a:xfrm>
              <a:off x="5257800" y="2286000"/>
              <a:ext cx="3446640" cy="228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86400" y="3327480"/>
              <a:ext cx="2995920" cy="950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9"/>
            <p:cNvSpPr/>
            <p:nvPr/>
          </p:nvSpPr>
          <p:spPr>
            <a:xfrm>
              <a:off x="5599440" y="2518200"/>
              <a:ext cx="16920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5882040" y="3184560"/>
              <a:ext cx="16920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1"/>
            <p:cNvSpPr/>
            <p:nvPr/>
          </p:nvSpPr>
          <p:spPr>
            <a:xfrm>
              <a:off x="6165000" y="2518200"/>
              <a:ext cx="16884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2"/>
            <p:cNvSpPr/>
            <p:nvPr/>
          </p:nvSpPr>
          <p:spPr>
            <a:xfrm>
              <a:off x="6616440" y="2518200"/>
              <a:ext cx="17064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3"/>
            <p:cNvSpPr/>
            <p:nvPr/>
          </p:nvSpPr>
          <p:spPr>
            <a:xfrm>
              <a:off x="6899400" y="3184560"/>
              <a:ext cx="17028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4"/>
            <p:cNvSpPr/>
            <p:nvPr/>
          </p:nvSpPr>
          <p:spPr>
            <a:xfrm>
              <a:off x="7238880" y="2756520"/>
              <a:ext cx="169200" cy="142560"/>
            </a:xfrm>
            <a:prstGeom prst="flowChartConnector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5"/>
            <p:cNvSpPr/>
            <p:nvPr/>
          </p:nvSpPr>
          <p:spPr>
            <a:xfrm>
              <a:off x="7746840" y="2518200"/>
              <a:ext cx="170280" cy="142560"/>
            </a:xfrm>
            <a:prstGeom prst="flowChartConnector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6"/>
            <p:cNvSpPr/>
            <p:nvPr/>
          </p:nvSpPr>
          <p:spPr>
            <a:xfrm>
              <a:off x="8142840" y="3184560"/>
              <a:ext cx="169200" cy="142560"/>
            </a:xfrm>
            <a:prstGeom prst="flowChartConnector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7"/>
            <p:cNvSpPr/>
            <p:nvPr/>
          </p:nvSpPr>
          <p:spPr>
            <a:xfrm>
              <a:off x="5430240" y="3471120"/>
              <a:ext cx="8474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astic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6391440" y="3471120"/>
              <a:ext cx="1214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coelastic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7634880" y="3471120"/>
              <a:ext cx="8478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cous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0"/>
            <p:cNvSpPr/>
            <p:nvPr/>
          </p:nvSpPr>
          <p:spPr>
            <a:xfrm>
              <a:off x="5279040" y="4032360"/>
              <a:ext cx="1131480" cy="401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DISSIP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1"/>
            <p:cNvSpPr/>
            <p:nvPr/>
          </p:nvSpPr>
          <p:spPr>
            <a:xfrm>
              <a:off x="7616520" y="4032360"/>
              <a:ext cx="1073880" cy="40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240" bIns="4824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 DISSIP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5712840" y="2661120"/>
              <a:ext cx="22644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 flipV="1">
              <a:off x="5995440" y="2661120"/>
              <a:ext cx="22644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4"/>
            <p:cNvSpPr/>
            <p:nvPr/>
          </p:nvSpPr>
          <p:spPr>
            <a:xfrm>
              <a:off x="6729840" y="2661120"/>
              <a:ext cx="22644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 flipV="1">
              <a:off x="7069680" y="2898720"/>
              <a:ext cx="22500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>
              <a:off x="7860240" y="2661120"/>
              <a:ext cx="33984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27"/>
          <p:cNvSpPr/>
          <p:nvPr/>
        </p:nvSpPr>
        <p:spPr>
          <a:xfrm>
            <a:off x="5181480" y="1371600"/>
            <a:ext cx="381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bber compounds are visco-elastic materials. Each time they are deformed they dissipate energ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345960" y="4726800"/>
            <a:ext cx="878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R is a force acting opposite to the travel direction if a tyre is rolling. Due to the vehicle lo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yre is deformed in the contact area with the road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neumatic tyres as we know them today need the rubber materials and deformation to gen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required grip between vehicle and road surface, to give vehicle comfort and generate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lling no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63560" y="12193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219680" y="914400"/>
            <a:ext cx="61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to measure Tyre Rolling Resist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04920" y="1828800"/>
            <a:ext cx="86868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surements are don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with tyre running under test loa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2: Measurement with tyre running at very low load (skimload)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deceleration metho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This second measurement is done to measure parasitic lo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like bearing friction or aerodynamic losses that are included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the first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measurement # 1 and # 2 giv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of a ty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34360" y="1447920"/>
            <a:ext cx="84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tudy done in 2005 by the ETRTO RR workgroup indicated that RR result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y up to 20% when measuring the identical tire on different machines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SO 18164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904400" y="76212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y was a new Standard neede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04920" y="2438280"/>
            <a:ext cx="8610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parameters are not defined in detail in the current ISO 1816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ment method: Including or not certain machine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um surface : Smooth or tex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or multiple spe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m load level not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56480" y="4724280"/>
            <a:ext cx="805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there is no method to align RR results generated on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however essential to compare individual data vs. absol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R limits, grading systems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04920" y="1371600"/>
            <a:ext cx="86104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ISO 28580, several sources of variation are eliminated and parameters are defined more detai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precise definition of “new” ty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um diameter at least 1.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sitic losses include aerodynamic and friction losses of the drum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tyre/rim/hub assembly. Results will include pure tyre R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est at 80 km/h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60 km/h for CV tires with SS J or lo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mal conditioning of tyres prior the test is 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d Break-in and Warm-up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physical tyre property will be measured in the sam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rmodynamic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35760" y="6858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is new in ISO 2858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6320" y="1219320"/>
            <a:ext cx="876276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ling Resistan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s are expressed as rolling resistance coeffici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RC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needed, the RRC is corrected to a reference ambient temperature of 25°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nd a reference drum diameter of 2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kimload level is defined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commended 100N, not exceeding 200 N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V with LI  ≤ 121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commended 150 N, not exceeding 200 N or 500 N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depends if machine was designed for passenger or for truck tyres)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V with LI &gt;121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ecommended 400 N, not exceeding 500 N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inter-laboratory alignment procedure is introduced to allow 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 by use of a correlation equation vs. a Reference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pplicable, ISO 28580 requires the definition of Referenc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for PC tyres and 1 for TB tyres) within the implementing measures of the concerned regulation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0968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is new in ISO 2858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87640" y="5586480"/>
            <a:ext cx="712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Rolling Resistance Coefficient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RC is equal to the RR force (Newton) divided by the load the tyre has to car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RC is a dimensionless parameter that is well suited to compare tyres of different size, load index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209680" y="762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is new in ISO 2858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87720" y="1600200"/>
            <a:ext cx="826344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aboratory Alignment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ignment will be done between a “Reference Laboratory” and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Candidate Laboratory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use of pre-determined alignment tyres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2 tyres for Passenger/Light Truck and 2 tyres for Tr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(NA, Asia &amp; Europe) study including various Passenger and Truck R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achines was done to validate the concept and proposed alignment tyr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Laboratories will purchase alignment tyres. The RRC of those ty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ill be measured both by themselves and on the Reference Machin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chine alignment with the Reference Machine will be done 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inear regres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pag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80880" y="1371600"/>
            <a:ext cx="76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295280" y="685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ciple of the Lab Alignment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11400" y="5060880"/>
            <a:ext cx="8375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example, Lab A would need to transform its measured RRC as follows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ed ISO 28580 RR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 A (ISO 28580) = 1.096 x Lab A – 0.5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51816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80880" y="1371600"/>
            <a:ext cx="76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295280" y="685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ciple of the Lab Alignment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64400" y="5257800"/>
            <a:ext cx="7611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fferent Candidate Laboratories, different correlation equations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Laboratory will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518160" cy="40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CN</dc:creator>
  <dc:description/>
  <dc:language>en-US</dc:language>
  <cp:lastModifiedBy>Jean-Claude Noirhomme</cp:lastModifiedBy>
  <dcterms:modified xsi:type="dcterms:W3CDTF">2009-07-28T07:39:03Z</dcterms:modified>
  <cp:revision>2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